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jpeg" ContentType="image/jpeg"/>
  <Override PartName="/ppt/media/image23.wmf" ContentType="image/x-wmf"/>
  <Override PartName="/ppt/media/image8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3.jpeg" ContentType="image/jpeg"/>
  <Override PartName="/ppt/media/image10.wmf" ContentType="image/x-wmf"/>
  <Override PartName="/ppt/media/image7.jpeg" ContentType="image/jpeg"/>
  <Override PartName="/ppt/media/image15.gif" ContentType="image/gif"/>
  <Override PartName="/ppt/media/image5.wmf" ContentType="image/x-wmf"/>
  <Override PartName="/ppt/media/image27.jpeg" ContentType="image/jpeg"/>
  <Override PartName="/ppt/media/camera.wav" ContentType="audio/x-wav"/>
  <Override PartName="/ppt/media/image21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19.gif" ContentType="image/gif"/>
  <Override PartName="/ppt/media/image1.jpeg" ContentType="image/jpeg"/>
  <Override PartName="/ppt/media/image4.wmf" ContentType="image/x-wmf"/>
  <Override PartName="/ppt/media/image26.jpeg" ContentType="image/jpeg"/>
  <Override PartName="/ppt/media/image18.wmf" ContentType="image/x-wmf"/>
  <Override PartName="/ppt/media/image16.wmf" ContentType="image/x-wmf"/>
  <Override PartName="/ppt/media/image14.wmf" ContentType="image/x-wmf"/>
  <Override PartName="/ppt/media/image13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E7C8-A927-40E6-9DAC-2EC8B549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002-9144-49F8-BEF7-EFF1FBEE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ADD-8A08-4336-8259-8349FF4D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1FB-78F3-4E9D-9A81-8E0A718A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4BF-3E75-4DB6-99E8-029C80FF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72B5-730C-4D00-B509-79FDE767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979-4A02-427B-ACF4-8A8D3837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0BC-A6C7-44FE-8046-77461B52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8C3-6804-4A10-880D-3D301CF9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AD5-CC68-4107-AC0A-21FF0AC4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5279-7948-4B2E-8899-144198F7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142-DE01-459A-A6C9-27C4E94B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DD7A-DD48-41C2-BF9D-D201FBFD930D}" type="slidenum">
              <a:rPr b="0" lang="ru-RU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Творческий  отчет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205000"/>
            <a:ext cx="6400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Здоровый образ жизни как условие полноценного развития подростка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                          </a:t>
            </a: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Автор: Королева Нина Викторовна, </a:t>
            </a:r>
            <a:endParaRPr b="0" lang="en-US" sz="1800" spc="-1" strike="noStrike">
              <a:solidFill>
                <a:srgbClr val="660033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                          </a:t>
            </a: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учитель ОБЖ МОУ «СОШ №6»</a:t>
            </a:r>
            <a:endParaRPr b="0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43" name="Picture 4" descr="д"/>
          <p:cNvPicPr/>
          <p:nvPr/>
        </p:nvPicPr>
        <p:blipFill>
          <a:blip r:embed="rId1"/>
          <a:stretch/>
        </p:blipFill>
        <p:spPr>
          <a:xfrm>
            <a:off x="6948360" y="765000"/>
            <a:ext cx="151308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Новизна исследования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азработаны методические рекомендации по реализации здорового образа жизни при взаимодействии семьи и школы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71" name="Picture 5" descr="5"/>
          <p:cNvPicPr/>
          <p:nvPr/>
        </p:nvPicPr>
        <p:blipFill>
          <a:blip r:embed="rId1"/>
          <a:stretch/>
        </p:blipFill>
        <p:spPr>
          <a:xfrm>
            <a:off x="5796000" y="393372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Практическая значимость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езультаты и материалы исследования могут быть использованы педагогами, классными руководителями и родителями.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В приложениях даны разработки уроков и внеклассных мероприятий: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Что влияет на здоровье человека. 4 класс</a:t>
            </a: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Безопасное питание. Интегрированный урок (технология, ОБЖ) в 6 классе</a:t>
            </a: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Школьные учебники против курения. </a:t>
            </a: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Внеклассное мероприятие в 8-9 классах</a:t>
            </a: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Курить – здоровью вредить. 6 класс</a:t>
            </a: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74" name="Picture 4" descr="j0287005"/>
          <p:cNvPicPr/>
          <p:nvPr/>
        </p:nvPicPr>
        <p:blipFill>
          <a:blip r:embed="rId1"/>
          <a:stretch/>
        </p:blipFill>
        <p:spPr>
          <a:xfrm>
            <a:off x="7308720" y="4221000"/>
            <a:ext cx="1357560" cy="233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AG00169_"/>
          <p:cNvPicPr/>
          <p:nvPr/>
        </p:nvPicPr>
        <p:blipFill>
          <a:blip r:embed="rId2"/>
          <a:stretch/>
        </p:blipFill>
        <p:spPr>
          <a:xfrm>
            <a:off x="7885080" y="907920"/>
            <a:ext cx="905040" cy="48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Задачи исследования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Исходя из цели, объекта и предмета исследования, можно определить задачи исследования: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аскрыть понятие «Здоровый образ жизни»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ассмотреть состояние здоровья современного подростка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выявить пути приобщения подростка к здоровому образу жизни.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78" name="Picture 7" descr="an00790_"/>
          <p:cNvPicPr/>
          <p:nvPr/>
        </p:nvPicPr>
        <p:blipFill>
          <a:blip r:embed="rId1"/>
          <a:stretch/>
        </p:blipFill>
        <p:spPr>
          <a:xfrm>
            <a:off x="7093080" y="0"/>
            <a:ext cx="1758960" cy="1835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ВОЗ отмечает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662200"/>
            <a:ext cx="8218440" cy="32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Здоровье населения зависит 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т ряда факторов: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т образа жизни — 50%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т генетических факторов — 20%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т работы органов здравоохранения — 10%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т состояния окружающей среды — 20%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81" name="Picture 4" descr="шар2"/>
          <p:cNvPicPr/>
          <p:nvPr/>
        </p:nvPicPr>
        <p:blipFill>
          <a:blip r:embed="rId1"/>
          <a:stretch/>
        </p:blipFill>
        <p:spPr>
          <a:xfrm>
            <a:off x="6084720" y="1557360"/>
            <a:ext cx="2614680" cy="187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7c80"/>
              </a:solidFill>
              <a:latin typeface="Tahoma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838080" y="2143080"/>
          <a:ext cx="7467840" cy="379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43080"/>
                    <a:ext cx="7467840" cy="37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Здоровый образ жизни не занимает пока первое место в иерархии потребностей и ценностей человека в нашем обществе. Но если мы будем личным примером демонстрировать здоровый образ жизни, то только в этом случае можно надеяться, что будущие поколения будут более здоровы и развиты не только личностно, интеллектуально, духовно, но и физически. 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87" name="Picture 4" descr="AG00037_"/>
          <p:cNvPicPr/>
          <p:nvPr/>
        </p:nvPicPr>
        <p:blipFill>
          <a:blip r:embed="rId1"/>
          <a:stretch/>
        </p:blipFill>
        <p:spPr>
          <a:xfrm>
            <a:off x="7667640" y="404640"/>
            <a:ext cx="108576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Мы видим, что здоровье зависит от нас самих. Здоровье держится на трех «китах»: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ациональном питании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физической активности;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психическом комфорте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89" name="Picture 4" descr="11"/>
          <p:cNvPicPr/>
          <p:nvPr/>
        </p:nvPicPr>
        <p:blipFill>
          <a:blip r:embed="rId1"/>
          <a:stretch/>
        </p:blipFill>
        <p:spPr>
          <a:xfrm>
            <a:off x="6516720" y="333360"/>
            <a:ext cx="180180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7" descr="http://im6-tub.yandex.net/i?id=67949964-04"/>
          <p:cNvPicPr/>
          <p:nvPr/>
        </p:nvPicPr>
        <p:blipFill>
          <a:blip r:embed="rId2"/>
          <a:stretch/>
        </p:blipFill>
        <p:spPr>
          <a:xfrm>
            <a:off x="1547640" y="530064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j0149481"/>
          <p:cNvPicPr/>
          <p:nvPr/>
        </p:nvPicPr>
        <p:blipFill>
          <a:blip r:embed="rId3"/>
          <a:stretch/>
        </p:blipFill>
        <p:spPr>
          <a:xfrm>
            <a:off x="6300720" y="37162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4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Учитель – дети – родители 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Преподаватели нашей школы работают над проблемой формирования здорового образа жизни, сохранения и укрепления здоровья учащихся, просвещением 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одителей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94" name="Picture 4" descr="j0301252"/>
          <p:cNvPicPr/>
          <p:nvPr/>
        </p:nvPicPr>
        <p:blipFill>
          <a:blip r:embed="rId1"/>
          <a:stretch/>
        </p:blipFill>
        <p:spPr>
          <a:xfrm>
            <a:off x="6227640" y="407664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Заключение 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4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В выполненном творческом отчете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аскрыто понятие «Здоровый образ жизни»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ассмотрено состояние здоровья современного подростка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предложены пути приобщения подростка к здоровому образу жизни.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4500720" y="270828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70828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  <p:sndAc>
      <p:stSnd>
        <p:snd r:embed="rId3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Tahoma"/>
              </a:rPr>
              <a:t>Список использованной литературы</a:t>
            </a:r>
            <a:endParaRPr b="0" lang="en-US" sz="20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Амосов Н.М., «Раздумья о здоровье». – М., 1987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Антропова М.В. Режим дня, работоспособность и состояние здоровья школьников. – М.,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1974. 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Байер К., Шейнберг Л. Здоровый образ жизни. – М., 1997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Бальсевич В.К., Запорожанов В.А. Физическая активность человека. – Киев: Здоровье,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Вайнбаум Я.С. Гигиена физического воспитания. – М., Просвещение, 1986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Винокурова Н. Ф., Трушин В. В., Глобальная экология. – М., Просвещение, 1990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Гигиена детей и подростков./Под ред. Г.И. Сердюковской и А.Г. Сухарева. - М., Медицина, 1986.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Государственный образовательный стандарт «Безопасность жизнедеятельности» высшего педагогического образования (ГОС ВПО). - М., 2000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Дразунов Т.В. Проблема конфликта в подростковом возрасте//Вопросы   психологии. 1972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Здоровый образ жизни – залог здоровья./Сост. Профессор Ф.Г. Мурзакаев. Уфа: Башк. кн. изд-во, 1987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Ильющенков В.В., Берсенева Т.А. Здоровье и образование. – СПЕ., 1993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Казин Э.М., Блинова Н.Г., Литвинова Н.А. Основы индивидуального здоровья: Введение в общую и прикладную валеологию. – М., 2000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Калинова Г.С., Мячкова А.Н. Учебная нагрузка и здоровье школьников//Человек. Культура. Здоровье, - М.:Ковалев А.Г. Психология личности. – М.. 1970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Коваленко В.И. Здоровьесберегающие технологии в начальной школе. –  М.: «ВАКО», 2004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Коростелев Н.Б. Воспитание здорового школьника. – М., 1986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Кучма В.Р. Теория и практика гигиены детей и подростков на рубеже тысячелетии. – М.. 2001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Лаптев А.П. Береги здоровье смолоду – .М., Медицина, 1988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Марков В.В. Основы здорового образа жизни и профилактика болезней: Учеб. пособие для студ. высш. пед. учеб. заведении. – М.: Изд. центр «Академия», 2001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Методические рекомендации: Здоровьесберегающие технологии в общеобразовательной школе: методология анализа, формы, методы, опыт применения/Под ред. М.М. Безруких, В.Д. Сонькина. – М., 2002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Популярная медицинская энциклопедия (гл. ред. В.И. Покровский) . – М., 1997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Рояк А.А. Психологический конфликт и особенности индивидуального развития личности ребенка. –  М.,1988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Семейное воспитание. Краткий словарь/Сост. Н.В. Гребенщиков, Л.В. Ковинько. – М., 1990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Смирнов Н.К. Здоровьесберегающие образовательные технологии в работе учителя и школы. – М.: АРКТИ, 2003.. 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Советский энциклопедический словарь. – М., 1980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Формирование здорового образа жизни российских подростков. – М., 2002.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  <a:p>
            <a:pPr marL="536040" indent="-53604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Шаповаленко М.А., Возрастная психология. М.; 2003</a:t>
            </a:r>
            <a:endParaRPr b="0" lang="en-US" sz="1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101" name="Picture 4" descr="BS00554_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461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Здоровье населения  – высшая национальная ценность, и возрождение наций должно начаться именно со здоровья, в первую очередь, детей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45" name="Рисунок 19" descr="http://im0-tub.yandex.net/i?id=61082776-15"/>
          <p:cNvPicPr/>
          <p:nvPr/>
        </p:nvPicPr>
        <p:blipFill>
          <a:blip r:embed="rId1"/>
          <a:stretch/>
        </p:blipFill>
        <p:spPr>
          <a:xfrm>
            <a:off x="5508720" y="4797360"/>
            <a:ext cx="1434960" cy="1003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Актуальность 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pic>
        <p:nvPicPr>
          <p:cNvPr id="47" name="Picture 7" descr="hh00546_"/>
          <p:cNvPicPr/>
          <p:nvPr/>
        </p:nvPicPr>
        <p:blipFill>
          <a:blip r:embed="rId2"/>
          <a:stretch/>
        </p:blipFill>
        <p:spPr>
          <a:xfrm>
            <a:off x="7596360" y="333360"/>
            <a:ext cx="914400" cy="2022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3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759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2195640" y="321300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6" name="WordArt 6"/>
          <p:cNvSpPr txBox="1"/>
          <p:nvPr/>
        </p:nvSpPr>
        <p:spPr>
          <a:xfrm>
            <a:off x="900000" y="333360"/>
            <a:ext cx="69138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здоров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403280" y="407664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1116000" y="5084640"/>
            <a:ext cx="734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cover dir="r"/>
    <p:sndAc>
      <p:stSnd>
        <p:snd r:embed="rId4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По современным представлениям в понятие здорового образа жизни входят следующие составляющие: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тказ от вредных пристрастий (курение, употребление алкогольных напитков и наркотических веществ)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птимальный двигательный режим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ациональное питание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закаливание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личная гигиена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положительные эмоции.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0" name="Picture 4" descr="J0233050"/>
          <p:cNvPicPr/>
          <p:nvPr/>
        </p:nvPicPr>
        <p:blipFill>
          <a:blip r:embed="rId1"/>
          <a:stretch/>
        </p:blipFill>
        <p:spPr>
          <a:xfrm>
            <a:off x="6443640" y="3860640"/>
            <a:ext cx="2460600" cy="1776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J0233047"/>
          <p:cNvPicPr/>
          <p:nvPr/>
        </p:nvPicPr>
        <p:blipFill>
          <a:blip r:embed="rId2"/>
          <a:stretch/>
        </p:blipFill>
        <p:spPr>
          <a:xfrm>
            <a:off x="4643280" y="4653000"/>
            <a:ext cx="2343240" cy="2030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3628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Школа  сегодня должна и может стать важнейшим звеном социализации подрастающего поколения. Через школу проходит все население, и на данном этапе социализации личности формируется как индивидуальное здоровье, так и здоровье всего общества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4" name="Рисунок 3" descr="http://im7-tub.yandex.net/i?id=183351624-02"/>
          <p:cNvPicPr/>
          <p:nvPr/>
        </p:nvPicPr>
        <p:blipFill>
          <a:blip r:embed="rId1"/>
          <a:stretch/>
        </p:blipFill>
        <p:spPr>
          <a:xfrm>
            <a:off x="5940360" y="4581360"/>
            <a:ext cx="259236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Цель исследования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ассмотреть теоретические вопросы влияния здорового образа жизни на развитие подростка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7" name="Picture 4" descr="j0299125"/>
          <p:cNvPicPr/>
          <p:nvPr/>
        </p:nvPicPr>
        <p:blipFill>
          <a:blip r:embed="rId1"/>
          <a:stretch/>
        </p:blipFill>
        <p:spPr>
          <a:xfrm>
            <a:off x="6156360" y="4221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В настоящее время возникло особое направление в педагогике: «педагогика оздоровления». В основе оздоровления лежат представления о здоровом ребенке, который является практически достижимой нормой детского развития и рассматривается в качестве целостного телесно-духовного организма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59" name="Picture 3" descr="6"/>
          <p:cNvPicPr/>
          <p:nvPr/>
        </p:nvPicPr>
        <p:blipFill>
          <a:blip r:embed="rId1"/>
          <a:stretch/>
        </p:blipFill>
        <p:spPr>
          <a:xfrm>
            <a:off x="7524720" y="4653000"/>
            <a:ext cx="93816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Процесс полноценного развития подростка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Объект исследования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pic>
        <p:nvPicPr>
          <p:cNvPr id="62" name="Picture 6" descr="j0297551"/>
          <p:cNvPicPr/>
          <p:nvPr/>
        </p:nvPicPr>
        <p:blipFill>
          <a:blip r:embed="rId1"/>
          <a:stretch/>
        </p:blipFill>
        <p:spPr>
          <a:xfrm>
            <a:off x="6588000" y="3645000"/>
            <a:ext cx="1195560" cy="1823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аскрыть понятие «Здоровый образ жизни»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ассмотреть состояние здоровья современного подростка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Выявить пути приобщения подростка к здоровому образу жизни.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Задачи исследования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pic>
        <p:nvPicPr>
          <p:cNvPr id="65" name="Picture 6" descr="j0217698"/>
          <p:cNvPicPr/>
          <p:nvPr/>
        </p:nvPicPr>
        <p:blipFill>
          <a:blip r:embed="rId1"/>
          <a:stretch/>
        </p:blipFill>
        <p:spPr>
          <a:xfrm>
            <a:off x="6227640" y="44370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Tahoma"/>
              </a:rPr>
              <a:t>Гипотеза исследования</a:t>
            </a:r>
            <a:endParaRPr b="0" lang="en-US" sz="4400" spc="-1" strike="noStrike">
              <a:solidFill>
                <a:srgbClr val="ff7c8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Процесс формирования здорового образа жизни среди детей будет эффективным при условии, если: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учитывать возрастные особенности детей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создать условия для формирования здорового образа жизни;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совершенствовать формы работы 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по формированию здорового 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образа жизни..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pic>
        <p:nvPicPr>
          <p:cNvPr id="68" name="Picture 4" descr="j0292020"/>
          <p:cNvPicPr/>
          <p:nvPr/>
        </p:nvPicPr>
        <p:blipFill>
          <a:blip r:embed="rId1"/>
          <a:stretch/>
        </p:blipFill>
        <p:spPr>
          <a:xfrm>
            <a:off x="6516720" y="479736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11:54:00Z</dcterms:created>
  <dc:creator>диана</dc:creator>
  <dc:description/>
  <dc:language>en-US</dc:language>
  <cp:lastModifiedBy>ZooM</cp:lastModifiedBy>
  <dcterms:modified xsi:type="dcterms:W3CDTF">2013-12-03T20:25:55Z</dcterms:modified>
  <cp:revision>14</cp:revision>
  <dc:subject/>
  <dc:title>   Творческий  проект</dc:title>
</cp:coreProperties>
</file>