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.jpeg" ContentType="image/jpeg"/>
  <Override PartName="/ppt/media/image10.wmf" ContentType="image/x-wmf"/>
  <Override PartName="/ppt/media/image7.jpeg" ContentType="image/jpeg"/>
  <Override PartName="/ppt/media/image15.gif" ContentType="image/gif"/>
  <Override PartName="/ppt/media/image5.wmf" ContentType="image/x-wmf"/>
  <Override PartName="/ppt/media/image27.jpeg" ContentType="image/jpeg"/>
  <Override PartName="/ppt/media/camera.wav" ContentType="audio/x-wav"/>
  <Override PartName="/ppt/media/image21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19.gif" ContentType="image/gif"/>
  <Override PartName="/ppt/media/image1.jpeg" ContentType="image/jpeg"/>
  <Override PartName="/ppt/media/image4.wmf" ContentType="image/x-wmf"/>
  <Override PartName="/ppt/media/image26.jpeg" ContentType="image/jpeg"/>
  <Override PartName="/ppt/media/image18.wmf" ContentType="image/x-wmf"/>
  <Override PartName="/ppt/media/image16.wmf" ContentType="image/x-wmf"/>
  <Override PartName="/ppt/media/image14.wmf" ContentType="image/x-wmf"/>
  <Override PartName="/ppt/media/image1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941-F697-496A-8891-3DDE9E67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9F3-029F-4F78-A582-BA747BD2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D40-6E51-4607-878A-4BF51662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7FA-477F-46AF-B6D7-561598F7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133-7791-417C-9C9A-A4C1C5A4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CC1-9A6E-4965-A835-B7E2A651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A4F-A98D-43C9-B5D2-6B25A48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87A-F02A-48D9-BF7C-E92C36CF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B47-9D01-4E5F-A42C-5E8FB60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DB8-49BB-4F33-BA0F-64DDC0F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2D8-EF7B-494C-B9D3-CE64A56A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72E-B77D-409D-A9AA-67CB87E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549E-B4AD-4412-8C30-C26D26586361}" type="slidenum">
              <a:rPr b="0" lang="ru-RU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Творческий  отчет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05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Здоровый образ жизни как условие полноценного развития подростка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                          </a:t>
            </a: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Автор: Королева Нина Викторовна, </a:t>
            </a: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                          </a:t>
            </a: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учитель ОБЖ МОУ «СОШ №6»</a:t>
            </a: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3" name="Picture 4" descr="д"/>
          <p:cNvPicPr/>
          <p:nvPr/>
        </p:nvPicPr>
        <p:blipFill>
          <a:blip r:embed="rId1"/>
          <a:stretch/>
        </p:blipFill>
        <p:spPr>
          <a:xfrm>
            <a:off x="6948360" y="765000"/>
            <a:ext cx="15130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Новизна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зработаны методические рекомендации по реализации здорового образа жизни при взаимодействии семьи и школы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1" name="Picture 5" descr="5"/>
          <p:cNvPicPr/>
          <p:nvPr/>
        </p:nvPicPr>
        <p:blipFill>
          <a:blip r:embed="rId1"/>
          <a:stretch/>
        </p:blipFill>
        <p:spPr>
          <a:xfrm>
            <a:off x="5796000" y="393372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Практическая значимость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зультаты и материалы исследования могут быть использованы педагогами, классными руководителями и родителям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 приложениях даны разработки уроков и внеклассных мероприятий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Что влияет на здоровье человека. 4 класс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Безопасное питание. Интегрированный урок (технология, ОБЖ) в 6 классе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Школьные учебники против курения. 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Внеклассное мероприятие в 8-9 классах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Курить – здоровью вредить. 6 класс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4" name="Picture 4" descr="j0287005"/>
          <p:cNvPicPr/>
          <p:nvPr/>
        </p:nvPicPr>
        <p:blipFill>
          <a:blip r:embed="rId1"/>
          <a:stretch/>
        </p:blipFill>
        <p:spPr>
          <a:xfrm>
            <a:off x="7308720" y="4221000"/>
            <a:ext cx="1357560" cy="233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G00169_"/>
          <p:cNvPicPr/>
          <p:nvPr/>
        </p:nvPicPr>
        <p:blipFill>
          <a:blip r:embed="rId2"/>
          <a:stretch/>
        </p:blipFill>
        <p:spPr>
          <a:xfrm>
            <a:off x="7885080" y="907920"/>
            <a:ext cx="9050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Исходя из цели, объекта и предмета исследования, можно определить задачи исследования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крыть понятие «Здоровый образ жизни»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смотреть состояние здоровья современного подростк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ыявить пути приобщения подростка к здоровому образу жизн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8" name="Picture 7" descr="an00790_"/>
          <p:cNvPicPr/>
          <p:nvPr/>
        </p:nvPicPr>
        <p:blipFill>
          <a:blip r:embed="rId1"/>
          <a:stretch/>
        </p:blipFill>
        <p:spPr>
          <a:xfrm>
            <a:off x="7093080" y="0"/>
            <a:ext cx="1758960" cy="183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ВОЗ отмечает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662200"/>
            <a:ext cx="821844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доровье населения зависит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ряда факторов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образа жизни — 5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генетических факторов — 2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работы органов здравоохранения — 1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состояния окружающей среды — 2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1" name="Picture 4" descr="шар2"/>
          <p:cNvPicPr/>
          <p:nvPr/>
        </p:nvPicPr>
        <p:blipFill>
          <a:blip r:embed="rId1"/>
          <a:stretch/>
        </p:blipFill>
        <p:spPr>
          <a:xfrm>
            <a:off x="6084720" y="1557360"/>
            <a:ext cx="261468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838080" y="2143080"/>
          <a:ext cx="7467840" cy="379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43080"/>
                    <a:ext cx="746784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доровый образ жизни не занимает пока первое место в иерархии потребностей и ценностей человека в нашем обществе. Но если мы будем личным примером демонстрировать здоровый образ жизни, то только в этом случае можно надеяться, что будущие поколения будут более здоровы и развиты не только личностно, интеллектуально, духовно, но и физически.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7" name="Picture 4" descr="AG00037_"/>
          <p:cNvPicPr/>
          <p:nvPr/>
        </p:nvPicPr>
        <p:blipFill>
          <a:blip r:embed="rId1"/>
          <a:stretch/>
        </p:blipFill>
        <p:spPr>
          <a:xfrm>
            <a:off x="7667640" y="404640"/>
            <a:ext cx="10857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Мы видим, что здоровье зависит от нас самих. Здоровье держится на трех «китах»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циональном питании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физической активности;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сихическом комфорте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9" name="Picture 4" descr="11"/>
          <p:cNvPicPr/>
          <p:nvPr/>
        </p:nvPicPr>
        <p:blipFill>
          <a:blip r:embed="rId1"/>
          <a:stretch/>
        </p:blipFill>
        <p:spPr>
          <a:xfrm>
            <a:off x="6516720" y="333360"/>
            <a:ext cx="18018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7" descr="http://im6-tub.yandex.net/i?id=67949964-04"/>
          <p:cNvPicPr/>
          <p:nvPr/>
        </p:nvPicPr>
        <p:blipFill>
          <a:blip r:embed="rId2"/>
          <a:stretch/>
        </p:blipFill>
        <p:spPr>
          <a:xfrm>
            <a:off x="1547640" y="530064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j0149481"/>
          <p:cNvPicPr/>
          <p:nvPr/>
        </p:nvPicPr>
        <p:blipFill>
          <a:blip r:embed="rId3"/>
          <a:stretch/>
        </p:blipFill>
        <p:spPr>
          <a:xfrm>
            <a:off x="6300720" y="3716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4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Учитель – дети – родители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реподаватели нашей школы работают над проблемой формирования здорового образа жизни, сохранения и укрепления здоровья учащихся, просвещением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одителей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94" name="Picture 4" descr="j0301252"/>
          <p:cNvPicPr/>
          <p:nvPr/>
        </p:nvPicPr>
        <p:blipFill>
          <a:blip r:embed="rId1"/>
          <a:stretch/>
        </p:blipFill>
        <p:spPr>
          <a:xfrm>
            <a:off x="6227640" y="407664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ключение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 выполненном творческом отчете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крыто понятие «Здоровый образ жизни»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смотрено состояние здоровья современного подростк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редложены пути приобщения подростка к здоровому образу жизн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00720" y="270828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70828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  <p:sndAc>
      <p:stSnd>
        <p:snd r:embed="rId3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Tahoma"/>
              </a:rPr>
              <a:t>Список использованной литературы</a:t>
            </a:r>
            <a:endParaRPr b="0" lang="en-US" sz="20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Амосов Н.М., «Раздумья о здоровье». – М., 1987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Антропова М.В. Режим дня, работоспособность и состояние здоровья школьников. – М.,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1974. 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Байер К., Шейнберг Л. Здоровый образ жизни. – М., 1997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Бальсевич В.К., Запорожанов В.А. Физическая активность человека. – Киев: Здоровье,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Вайнбаум Я.С. Гигиена физического воспитания. – М., Просвещение, 1986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Винокурова Н. Ф., Трушин В. В., Глобальная экология. – М., Просвещение, 199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Гигиена детей и подростков./Под ред. Г.И. Сердюковской и А.Г. Сухарева. - М., Медицина, 1986.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Государственный образовательный стандарт «Безопасность жизнедеятельности» высшего педагогического образования (ГОС ВПО). - М., 200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Дразунов Т.В. Проблема конфликта в подростковом возрасте//Вопросы   психологии. 1972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Здоровый образ жизни – залог здоровья./Сост. Профессор Ф.Г. Мурзакаев. Уфа: Башк. кн. изд-во, 1987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Ильющенков В.В., Берсенева Т.А. Здоровье и образование. – СПЕ., 1993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азин Э.М., Блинова Н.Г., Литвинова Н.А. Основы индивидуального здоровья: Введение в общую и прикладную валеологию. – М., 200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алинова Г.С., Мячкова А.Н. Учебная нагрузка и здоровье школьников//Человек. Культура. Здоровье, - М.:Ковалев А.Г. Психология личности. – М.. 1970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оваленко В.И. Здоровьесберегающие технологии в начальной школе. –  М.: «ВАКО», 2004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оростелев Н.Б. Воспитание здорового школьника. – М., 1986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учма В.Р. Теория и практика гигиены детей и подростков на рубеже тысячелетии. – М.. 2001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Лаптев А.П. Береги здоровье смолоду – .М., Медицина, 1988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Марков В.В. Основы здорового образа жизни и профилактика болезней: Учеб. пособие для студ. высш. пед. учеб. заведении. – М.: Изд. центр «Академия», 2001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Методические рекомендации: Здоровьесберегающие технологии в общеобразовательной школе: методология анализа, формы, методы, опыт применения/Под ред. М.М. Безруких, В.Д. Сонькина. – М., 2002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Популярная медицинская энциклопедия (гл. ред. В.И. Покровский) . – М., 1997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Рояк А.А. Психологический конфликт и особенности индивидуального развития личности ребенка. –  М.,1988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емейное воспитание. Краткий словарь/Сост. Н.В. Гребенщиков, Л.В. Ковинько. – М., 1990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мирнов Н.К. Здоровьесберегающие образовательные технологии в работе учителя и школы. – М.: АРКТИ, 2003..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оветский энциклопедический словарь. – М., 198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Формирование здорового образа жизни российских подростков. – М., 2002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Шаповаленко М.А., Возрастная психология. М.; 2003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1" name="Picture 4" descr="BS00554_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Здоровье населения  – высшая национальная ценность, и возрождение наций должно начаться именно со здоровья, в первую очередь, детей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5" name="Рисунок 19" descr="http://im0-tub.yandex.net/i?id=61082776-15"/>
          <p:cNvPicPr/>
          <p:nvPr/>
        </p:nvPicPr>
        <p:blipFill>
          <a:blip r:embed="rId1"/>
          <a:stretch/>
        </p:blipFill>
        <p:spPr>
          <a:xfrm>
            <a:off x="5508720" y="4797360"/>
            <a:ext cx="1434960" cy="1003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Актуальность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47" name="Picture 7" descr="hh00546_"/>
          <p:cNvPicPr/>
          <p:nvPr/>
        </p:nvPicPr>
        <p:blipFill>
          <a:blip r:embed="rId2"/>
          <a:stretch/>
        </p:blipFill>
        <p:spPr>
          <a:xfrm>
            <a:off x="7596360" y="333360"/>
            <a:ext cx="914400" cy="202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95640" y="321300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900000" y="333360"/>
            <a:ext cx="69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03280" y="4076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116000" y="508464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cover dir="r"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 современным представлениям в понятие здорового образа жизни входят следующие составляющие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каз от вредных пристрастий (курение, употребление алкогольных напитков и наркотических веществ)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птимальный двигательный режим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циональное питание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акаливание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личная гигиен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ложительные эмоци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0" name="Picture 4" descr="J0233050"/>
          <p:cNvPicPr/>
          <p:nvPr/>
        </p:nvPicPr>
        <p:blipFill>
          <a:blip r:embed="rId1"/>
          <a:stretch/>
        </p:blipFill>
        <p:spPr>
          <a:xfrm>
            <a:off x="6443640" y="3860640"/>
            <a:ext cx="2460600" cy="177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J0233047"/>
          <p:cNvPicPr/>
          <p:nvPr/>
        </p:nvPicPr>
        <p:blipFill>
          <a:blip r:embed="rId2"/>
          <a:stretch/>
        </p:blipFill>
        <p:spPr>
          <a:xfrm>
            <a:off x="4643280" y="4653000"/>
            <a:ext cx="23432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628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Школа  сегодня должна и может стать важнейшим звеном социализации подрастающего поколения. Через школу проходит все население, и на данном этапе социализации личности формируется как индивидуальное здоровье, так и здоровье всего обществ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4" name="Рисунок 3" descr="http://im7-tub.yandex.net/i?id=183351624-02"/>
          <p:cNvPicPr/>
          <p:nvPr/>
        </p:nvPicPr>
        <p:blipFill>
          <a:blip r:embed="rId1"/>
          <a:stretch/>
        </p:blipFill>
        <p:spPr>
          <a:xfrm>
            <a:off x="5940360" y="458136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смотреть теоретические вопросы влияния здорового образа жизни на развитие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" name="Picture 4" descr="j0299125"/>
          <p:cNvPicPr/>
          <p:nvPr/>
        </p:nvPicPr>
        <p:blipFill>
          <a:blip r:embed="rId1"/>
          <a:stretch/>
        </p:blipFill>
        <p:spPr>
          <a:xfrm>
            <a:off x="6156360" y="4221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В настоящее время возникло особое направление в педагогике: «педагогика оздоровления». В основе оздоровления лежат представления о здоровом ребенке, который является практически достижимой нормой детского развития и рассматривается в качестве целостного телесно-духовного организм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9" name="Picture 3" descr="6"/>
          <p:cNvPicPr/>
          <p:nvPr/>
        </p:nvPicPr>
        <p:blipFill>
          <a:blip r:embed="rId1"/>
          <a:stretch/>
        </p:blipFill>
        <p:spPr>
          <a:xfrm>
            <a:off x="7524720" y="4653000"/>
            <a:ext cx="9381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роцесс полноценного развития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Объект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62" name="Picture 6" descr="j0297551"/>
          <p:cNvPicPr/>
          <p:nvPr/>
        </p:nvPicPr>
        <p:blipFill>
          <a:blip r:embed="rId1"/>
          <a:stretch/>
        </p:blipFill>
        <p:spPr>
          <a:xfrm>
            <a:off x="6588000" y="3645000"/>
            <a:ext cx="1195560" cy="1823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крыть понятие «Здоровый образ жизни»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смотреть состояние здоровья современного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Выявить пути приобщения подростка к здоровому образу жизни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65" name="Picture 6" descr="j0217698"/>
          <p:cNvPicPr/>
          <p:nvPr/>
        </p:nvPicPr>
        <p:blipFill>
          <a:blip r:embed="rId1"/>
          <a:stretch/>
        </p:blipFill>
        <p:spPr>
          <a:xfrm>
            <a:off x="6227640" y="44370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Гипотеза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роцесс формирования здорового образа жизни среди детей будет эффективным при условии, если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учитывать возрастные особенности детей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оздать условия для формирования здорового образа жизни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овершенствовать формы работы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 формированию здорового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браза жизни.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68" name="Picture 4" descr="j0292020"/>
          <p:cNvPicPr/>
          <p:nvPr/>
        </p:nvPicPr>
        <p:blipFill>
          <a:blip r:embed="rId1"/>
          <a:stretch/>
        </p:blipFill>
        <p:spPr>
          <a:xfrm>
            <a:off x="6516720" y="479736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1:54:00Z</dcterms:created>
  <dc:creator>диана</dc:creator>
  <dc:description/>
  <dc:language>en-US</dc:language>
  <cp:lastModifiedBy>ZooM</cp:lastModifiedBy>
  <dcterms:modified xsi:type="dcterms:W3CDTF">2013-12-03T20:25:55Z</dcterms:modified>
  <cp:revision>14</cp:revision>
  <dc:subject/>
  <dc:title>   Творческий  проект</dc:title>
</cp:coreProperties>
</file>