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6.jpeg" ContentType="image/jpeg"/>
  <Override PartName="/ppt/media/image13.png" ContentType="image/png"/>
  <Override PartName="/ppt/media/image19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8.gif" ContentType="image/gif"/>
  <Override PartName="/ppt/media/image15.png" ContentType="image/png"/>
  <Override PartName="/ppt/media/image18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15CA-0B91-4CB4-AE6C-594B425E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EBC-9F5D-41BB-9916-2C64209B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118-0451-42AB-B1AC-7FF888D2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F75-045C-4DDA-9586-15D005E4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2D28-7F66-4ED6-8A31-0AC3EDB1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0F7E-B54F-42D7-AE55-296413B9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34BA-62AE-4879-8032-A7C21F16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43DB-955E-4B3C-AC6E-C5F6767F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85CF-C909-4C2F-B385-37A4061C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433C-EA83-4C30-80AE-33B4BCB9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4910-E647-43D2-B958-C9651123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355-2FC8-4B19-B956-61D0CAE2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09AB-065D-4054-86D5-0648C664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5885-5E96-45F3-93F0-5A97CF34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3EFE-C5E5-4DB8-B8F7-D533A3E4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0D00-E8E4-404C-ACF7-C2CDDFD0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2ADF-8780-428B-A2F4-96909625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802-C5F1-4CCB-8C9D-D74A0504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2E01-3920-4616-B17E-B116BB60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4DD-D9E5-4BB6-93C6-DB7F3793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335-2A7C-4633-AA4D-5937E3B6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B3B-6603-4CC2-A980-70A8A696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84D-5AC4-4A2A-AD29-3A7493AB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7BD-8C4A-4B9F-AD6F-2B9AC918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0C8D-DD48-42D0-A9C8-BA29036167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7034-61D0-4AF9-949F-29D299DA9EE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8.jpeg"/><Relationship Id="rId4" Type="http://schemas.openxmlformats.org/officeDocument/2006/relationships/image" Target="../media/image10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92360" y="2060640"/>
            <a:ext cx="7451640" cy="2736720"/>
          </a:xfrm>
          <a:custGeom>
            <a:avLst/>
            <a:gdLst>
              <a:gd name="textAreaLeft" fmla="*/ 947520 w 7451640"/>
              <a:gd name="textAreaRight" fmla="*/ 6504120 w 7451640"/>
              <a:gd name="textAreaTop" fmla="*/ 183960 h 2736720"/>
              <a:gd name="textAreaBottom" fmla="*/ 159660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9000"/>
                </a:moveTo>
                <a:arcTo wR="21600" hR="20153" stAng="-7304956" swAng="507040"/>
                <a:lnTo>
                  <a:pt x="2747" y="1453"/>
                </a:lnTo>
                <a:arcTo wR="21600" hR="20153" stAng="-6797917" swAng="2795834"/>
                <a:lnTo>
                  <a:pt x="18853" y="7753"/>
                </a:lnTo>
                <a:arcTo wR="21600" hR="20153" stAng="-4002083" swAng="507040"/>
                <a:lnTo>
                  <a:pt x="18900" y="140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85037"/>
                <a:lnTo>
                  <a:pt x="16153" y="13229"/>
                </a:lnTo>
                <a:arcTo wR="21600" hR="20153" stAng="-4480080" swAng="-1839840"/>
                <a:lnTo>
                  <a:pt x="5447" y="19529"/>
                </a:lnTo>
                <a:arcTo wR="21600" hR="20153" stAng="-6319920" swAng="-985037"/>
                <a:lnTo>
                  <a:pt x="2700" y="14071"/>
                </a:lnTo>
                <a:close/>
              </a:path>
              <a:path fill="none" w="21600" h="21600">
                <a:moveTo>
                  <a:pt x="5447" y="13229"/>
                </a:moveTo>
                <a:arcTo wR="21600" hR="20153" stAng="-6319920" swAng="-477997"/>
                <a:lnTo>
                  <a:pt x="5447" y="19529"/>
                </a:lnTo>
              </a:path>
              <a:path fill="none" w="21600" h="21600">
                <a:moveTo>
                  <a:pt x="16153" y="13229"/>
                </a:moveTo>
                <a:arcTo wR="21600" hR="20153" stAng="-4480080" swAng="477997"/>
                <a:lnTo>
                  <a:pt x="16153" y="19529"/>
                </a:lnTo>
              </a:path>
              <a:path fill="none" w="21600" h="21600">
                <a:moveTo>
                  <a:pt x="2747" y="7753"/>
                </a:moveTo>
                <a:lnTo>
                  <a:pt x="2747" y="14053"/>
                </a:lnTo>
              </a:path>
              <a:path fill="none" w="21600" h="21600">
                <a:moveTo>
                  <a:pt x="18853" y="7753"/>
                </a:moveTo>
                <a:lnTo>
                  <a:pt x="18853" y="14053"/>
                </a:lnTo>
              </a:path>
            </a:pathLst>
          </a:custGeom>
          <a:solidFill>
            <a:srgbClr val="993366"/>
          </a:solidFill>
          <a:ln cap="sq"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771640" y="2276640"/>
            <a:ext cx="5688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Великобритания  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в XIX веке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067280" y="333360"/>
            <a:ext cx="2952720" cy="147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427640" y="3789360"/>
            <a:ext cx="2049480" cy="280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56000" y="189000"/>
            <a:ext cx="6588000" cy="2879640"/>
          </a:xfrm>
          <a:custGeom>
            <a:avLst/>
            <a:gdLst>
              <a:gd name="textAreaLeft" fmla="*/ 837720 w 6588000"/>
              <a:gd name="textAreaRight" fmla="*/ 5750280 w 6588000"/>
              <a:gd name="textAreaTop" fmla="*/ 193680 h 2879640"/>
              <a:gd name="textAreaBottom" fmla="*/ 167976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9000"/>
                </a:moveTo>
                <a:arcTo wR="21600" hR="20153" stAng="-7304956" swAng="507040"/>
                <a:lnTo>
                  <a:pt x="2747" y="1453"/>
                </a:lnTo>
                <a:arcTo wR="21600" hR="20153" stAng="-6797917" swAng="2795834"/>
                <a:lnTo>
                  <a:pt x="18853" y="7753"/>
                </a:lnTo>
                <a:arcTo wR="21600" hR="20153" stAng="-4002083" swAng="507040"/>
                <a:lnTo>
                  <a:pt x="18900" y="140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85037"/>
                <a:lnTo>
                  <a:pt x="16153" y="13229"/>
                </a:lnTo>
                <a:arcTo wR="21600" hR="20153" stAng="-4480080" swAng="-1839840"/>
                <a:lnTo>
                  <a:pt x="5447" y="19529"/>
                </a:lnTo>
                <a:arcTo wR="21600" hR="20153" stAng="-6319920" swAng="-985037"/>
                <a:lnTo>
                  <a:pt x="2700" y="14071"/>
                </a:lnTo>
                <a:close/>
              </a:path>
              <a:path fill="none" w="21600" h="21600">
                <a:moveTo>
                  <a:pt x="5447" y="13229"/>
                </a:moveTo>
                <a:arcTo wR="21600" hR="20153" stAng="-6319920" swAng="-477997"/>
                <a:lnTo>
                  <a:pt x="5447" y="19529"/>
                </a:lnTo>
              </a:path>
              <a:path fill="none" w="21600" h="21600">
                <a:moveTo>
                  <a:pt x="16153" y="13229"/>
                </a:moveTo>
                <a:arcTo wR="21600" hR="20153" stAng="-4480080" swAng="477997"/>
                <a:lnTo>
                  <a:pt x="16153" y="19529"/>
                </a:lnTo>
              </a:path>
              <a:path fill="none" w="21600" h="21600">
                <a:moveTo>
                  <a:pt x="2747" y="7753"/>
                </a:moveTo>
                <a:lnTo>
                  <a:pt x="2747" y="14053"/>
                </a:lnTo>
              </a:path>
              <a:path fill="none" w="21600" h="21600">
                <a:moveTo>
                  <a:pt x="18853" y="7753"/>
                </a:moveTo>
                <a:lnTo>
                  <a:pt x="18853" y="14053"/>
                </a:lnTo>
              </a:path>
            </a:pathLst>
          </a:custGeom>
          <a:solidFill>
            <a:srgbClr val="ffcc00"/>
          </a:solidFill>
          <a:ln cap="sq" w="540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92360" y="404640"/>
            <a:ext cx="48960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Великобритания </a:t>
            </a:r>
            <a:endParaRPr b="1" lang="en-US" sz="32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в XIX веке</a:t>
            </a:r>
            <a:endParaRPr b="1" lang="en-US" sz="32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076720" y="4365720"/>
            <a:ext cx="1675080" cy="2303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708360" y="2852640"/>
            <a:ext cx="543564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1.«Особый путь» развития Англ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2. Промышленный перевор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3. Политические реформы и чарт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4. Внешняя поли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27640" y="2205000"/>
            <a:ext cx="273528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cc99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План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716360" y="980640"/>
            <a:ext cx="4275360" cy="5800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о  1870 г. темпы развития промышленности, несмотря на постоянные экономические кризисы, были стабильно высоки. За 40 лет выплавка стали увеличилась в 4 раза, добыча угля в 3,5 раз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Англии были придуманы новые методы выплавки стали, появились холодильные установки и другие новш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Англия ст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«мастерской мир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1240" y="188640"/>
            <a:ext cx="7543800" cy="649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Англия-«мастерская мир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476360" y="1052640"/>
            <a:ext cx="3024360" cy="4681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1438560" y="5877000"/>
            <a:ext cx="3088440" cy="7038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лелитейный зав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анчест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7632720" cy="865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1851 г. на Всемирной промышленной выставке техническое превосходство Англии было подавляющ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632720" cy="431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Англия- «мастерская мир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32000" y="6021360"/>
            <a:ext cx="3527280" cy="7038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мирная выстав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ндон 185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1403280" y="1773360"/>
            <a:ext cx="3425760" cy="4032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5003640" y="4797360"/>
            <a:ext cx="3961080" cy="1828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Главная цель выставки – показ достижений промышленности европейских наций. В ней приняли участие 6,5 тыс. представителей стран Евро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5003640" y="1989000"/>
            <a:ext cx="3954600" cy="23925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484360" y="2492280"/>
            <a:ext cx="5688000" cy="3754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32000" y="907920"/>
            <a:ext cx="7632720" cy="1441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течение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в. Англия была ареной столкновений пролетариата и буржуазии.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редприниматели, стремясь увеличить прибыли, пытались увеличить рабочий день и уменьшить зарплату.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Численность рабочих быстро росла. Назревал острый конфли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331640" y="189000"/>
            <a:ext cx="7592760" cy="57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уржуазия и пролетари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6384960"/>
            <a:ext cx="5977080" cy="3988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Доре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ндонска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щета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вю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7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rcRect l="1476" t="3549" r="6865" b="5944"/>
          <a:stretch/>
        </p:blipFill>
        <p:spPr>
          <a:xfrm>
            <a:off x="4284720" y="1612800"/>
            <a:ext cx="4678200" cy="3510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31640" y="5516280"/>
            <a:ext cx="7489800" cy="86364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ям-рабочим в Англии платили редко и помалу,          а наказывали часто и помног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>
            <a:lum contrast="18000"/>
          </a:blip>
          <a:srcRect l="23062" t="2571" r="5125" b="4885"/>
          <a:stretch/>
        </p:blipFill>
        <p:spPr>
          <a:xfrm>
            <a:off x="1330200" y="1628640"/>
            <a:ext cx="2746440" cy="3529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447920" y="333360"/>
            <a:ext cx="7372080" cy="822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Широко использовался дешевый труд детей и женщ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58560" y="907920"/>
            <a:ext cx="7705800" cy="1657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результате длительной борьбы стороны постепенно пришли к компромиссу. В 1830 г. был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запрещен ночной труд подростков, сокращен рабочий день для детей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. С 1824 г. в стране стали действовать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ред-юнионы.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Рабочий класс стал активным участником чартистского движения,отстаивая свои политические прав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632720" cy="57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уржуазия и пролетари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6080040"/>
            <a:ext cx="7489800" cy="7038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Герои Манчесте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азгон рабочей демонстрации) в 1819 г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рика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050920" y="2708280"/>
            <a:ext cx="6048360" cy="32004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58920" y="692280"/>
            <a:ext cx="7696080" cy="720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се эти меры снизили социальную напряженность,        но уровень жизни рабочих оставался низк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58560" y="-360"/>
            <a:ext cx="7705800" cy="576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уржуазия и пролетари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979640" y="3195720"/>
            <a:ext cx="6121440" cy="35701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1258920" y="1557360"/>
            <a:ext cx="7634160" cy="151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того чтобы избежать выступлений революционного характера,предприниматели нашли хитрый ход: они разобщили единство рядов рабочих тем, что стали платить квалифицированным работникам относительно высокие зарплаты. Появилась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рабочая аристократ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00640"/>
            <a:ext cx="1763640" cy="5806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истокра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32000" y="260280"/>
            <a:ext cx="7592760" cy="936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Итоги  и значение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чартистск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9640" y="1341360"/>
            <a:ext cx="3673440" cy="518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а первая рабочая пар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 детский тр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ён минимум заработной пл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кращён рабочий день до 10 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ят закон о тайном голосо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ено избирательное право (отменён имущественный ценз для депутатов Парламента, право голоса дано  любому мужчине – главе семь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>
            <a:lum contrast="12000"/>
          </a:blip>
          <a:srcRect l="0" t="1653" r="0" b="0"/>
          <a:stretch/>
        </p:blipFill>
        <p:spPr>
          <a:xfrm>
            <a:off x="1403280" y="1413000"/>
            <a:ext cx="3641760" cy="4249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4">
            <a:lum contrast="12000"/>
          </a:blip>
          <a:srcRect l="0" t="82178" r="0" b="3696"/>
          <a:stretch/>
        </p:blipFill>
        <p:spPr>
          <a:xfrm>
            <a:off x="1332000" y="5877000"/>
            <a:ext cx="3744720" cy="7491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258560" y="836640"/>
            <a:ext cx="7705800" cy="2000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сле 1870 г. высокие темпы развития страны замедлились. Это объяснялось нежеланием англичан использовать новые виды энергии - электричество и жидкое топливо. В торговле немцы более точно учитывали потребности рынка. Это привело к тому, что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 к.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века, Англия уступила первенство США и Германии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58920" y="189000"/>
            <a:ext cx="7656480" cy="503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Экономические трудности конца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865840"/>
            <a:ext cx="1763640" cy="91692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ийский 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ц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908000" y="2967120"/>
            <a:ext cx="6409080" cy="3798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543800" cy="503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нутрення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3068640"/>
            <a:ext cx="5113080" cy="345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сле спада чартистского движения борьба за всеобщее избирательное право не прекрат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уржуазия по-прежнему была очень слабо представлена в парламенте. Вопрос приобрел особую остроту в середине 1860-х г.г. лидер либералов Уильям Гладстон внес проект избирательной реформы. Но его не поддержали и партия расколо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03280" y="836640"/>
          <a:ext cx="7561080" cy="2041560"/>
        </p:xfrm>
        <a:graphic>
          <a:graphicData uri="http://schemas.openxmlformats.org/drawingml/2006/table">
            <a:tbl>
              <a:tblPr/>
              <a:tblGrid>
                <a:gridCol w="3745440"/>
                <a:gridCol w="3815640"/>
              </a:tblGrid>
              <a:tr h="90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сновные политические парт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сле реформы 1832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Тори (консерватор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Виги (либерал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джамин Дизраэ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ильям Гладст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476360" y="2997360"/>
            <a:ext cx="2065320" cy="3240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403280" y="6415200"/>
            <a:ext cx="2160720" cy="3682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. Гладс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332000" y="6093000"/>
            <a:ext cx="3384360" cy="3988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нджамин Дизраэ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720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нутрення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58920" y="1268280"/>
            <a:ext cx="4033800" cy="4392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К власти пришли консерваторы во главе с Дизраэли. Он неожиданно поддержал своего против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Реформа 1867 г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. окончательно уничтожила 46 «гнилых» местечка, снизила имущественный цен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1885 г. У. Гладстон провел третью реформу, окончательно уничтожив «местечки». Число избирателей возросло до    13 % насе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332000" y="1341360"/>
            <a:ext cx="3330360" cy="4319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343640" cy="1008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cc99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Задание на ур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844280"/>
            <a:ext cx="7331400" cy="374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Что позволило Англии обогнать по уровню развития другие государства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476360" y="3141720"/>
            <a:ext cx="1682640" cy="216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258560" y="907920"/>
            <a:ext cx="7705800" cy="43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 fontScale="61000"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906 г. - образование Лейбористской (рабочей) парт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632720" cy="57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нутрення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5950080"/>
            <a:ext cx="2089080" cy="6426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эвид Ллойд Джор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1484280"/>
            <a:ext cx="7705800" cy="108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диционным политическим партиям, чтобы перехватить инициативу у лейбористов, нужно было выступить в  с программой широких реф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08360" y="2708280"/>
            <a:ext cx="5221440" cy="414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 1906 – 1916 г.г. у власти были виги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Дэвиде Ллойд Джордже          были приняты зак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 свободе стач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 введении 8 час. рабочего д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б установлении пенсий для лиц, достигших 70 л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 страховании по болезни и инвалид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б ограничении полномочий Палаты лордов (право лишь на двухразовое отлагательное вет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1476360" y="2708280"/>
            <a:ext cx="1986120" cy="30258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32000" y="189000"/>
            <a:ext cx="7632720" cy="503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нешня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836640"/>
            <a:ext cx="7561080" cy="165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о второй половине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в. Англия устанавл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 над значительной частью Африки, Бирм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одит в 1882 г. режим протектората над Егип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76 г. королева Виктория  провозглашается императрицей Инди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>
            <a:lum contrast="6000"/>
          </a:blip>
          <a:srcRect l="0" t="0" r="0" b="22076"/>
          <a:stretch/>
        </p:blipFill>
        <p:spPr>
          <a:xfrm>
            <a:off x="1403280" y="2674800"/>
            <a:ext cx="7489800" cy="3970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6877080" y="2637000"/>
            <a:ext cx="2016000" cy="10674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Великобритан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и её коло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к 187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к 19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rcRect l="8911" t="91942" r="87337" b="5329"/>
          <a:stretch/>
        </p:blipFill>
        <p:spPr>
          <a:xfrm>
            <a:off x="6948360" y="3500280"/>
            <a:ext cx="649440" cy="2178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5"/>
          <a:srcRect l="8055" t="88312" r="87422" b="9662"/>
          <a:stretch/>
        </p:blipFill>
        <p:spPr>
          <a:xfrm>
            <a:off x="6948360" y="3213000"/>
            <a:ext cx="648000" cy="1983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403280" y="1268280"/>
            <a:ext cx="3408480" cy="4753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1332000" y="333360"/>
            <a:ext cx="7632720" cy="57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Ирландский гомр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03640" y="1197000"/>
            <a:ext cx="3961080" cy="482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рландия была окончательно завоёвана О.Кромвелем. Но страна вела беспощадную войну за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аво самоуправления – гомру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914 г. – закон об ирландском гомруле принят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был год начала  Первой мировой войны. Англия хотела участвовать в н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учи уверенной во внутренней стаби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332000" y="1197000"/>
            <a:ext cx="7632720" cy="518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чему в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XIX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в. главным требованием в английском обществе стало требование парламентской реформ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зовите основные события чартистского движения. Каковы его ито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сскажите о «золотом веке» развития индустриальной Англии. Почему её называли «мастерской мира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зовите основные принципы внешней политики Англ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огласны ли вы с тем, что в середин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XIX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в. в Англии оформился законченный парламентский режим? Своё мнение аргументируй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561080" cy="7189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опросы и задания для самоконтр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«Особый путь» развития Англ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08000" y="955800"/>
            <a:ext cx="6409080" cy="79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Исторический процесс</a:t>
            </a:r>
            <a:endParaRPr b="1" lang="en-US" sz="2400" spc="1" strike="noStrike">
              <a:ln cap="sq"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47920" y="1676520"/>
            <a:ext cx="3733200" cy="1904040"/>
            <a:chOff x="1447920" y="1676520"/>
            <a:chExt cx="3733200" cy="1904040"/>
          </a:xfrm>
        </p:grpSpPr>
        <p:sp>
          <p:nvSpPr>
            <p:cNvPr id="99" name=""/>
            <p:cNvSpPr txBox="1"/>
            <p:nvPr/>
          </p:nvSpPr>
          <p:spPr>
            <a:xfrm>
              <a:off x="1447920" y="2840040"/>
              <a:ext cx="3017160" cy="74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latin typeface="Arial"/>
                </a:rPr>
                <a:t>Революция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Arial"/>
                <a:ea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139280" y="1676520"/>
              <a:ext cx="1041840" cy="1163520"/>
            </a:xfrm>
            <a:prstGeom prst="line">
              <a:avLst/>
            </a:prstGeom>
            <a:ln cap="sq" w="76320">
              <a:solidFill>
                <a:srgbClr val="ff505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52920" y="1676520"/>
            <a:ext cx="3385800" cy="1904040"/>
            <a:chOff x="5452920" y="1676520"/>
            <a:chExt cx="3385800" cy="1904040"/>
          </a:xfrm>
        </p:grpSpPr>
        <p:sp>
          <p:nvSpPr>
            <p:cNvPr id="102" name=""/>
            <p:cNvSpPr txBox="1"/>
            <p:nvPr/>
          </p:nvSpPr>
          <p:spPr>
            <a:xfrm>
              <a:off x="6093000" y="2840040"/>
              <a:ext cx="2745720" cy="74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Эволюция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52920" y="1676520"/>
              <a:ext cx="1041840" cy="1163520"/>
            </a:xfrm>
            <a:prstGeom prst="line">
              <a:avLst/>
            </a:prstGeom>
            <a:ln cap="sq" w="76320">
              <a:solidFill>
                <a:srgbClr val="33cc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332000" y="3581280"/>
            <a:ext cx="3527280" cy="137376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5 револю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0000" y="3581280"/>
            <a:ext cx="3564000" cy="137376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г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Ре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5410080"/>
            <a:ext cx="760104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Где и почему был достигнут наибольший эффек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240" y="980640"/>
            <a:ext cx="7521480" cy="2303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Эволюционный характер развития Англии во многом объяснялся наличием в стране давней (с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XIII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в.) парламентской традиции.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ольшие полномочия парламента позволяли решать возникающие конфликты мирным пут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бщество интересовали не революционные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как в Европе), а экономические теории,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редлагавшие реальную выгод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71240" y="188640"/>
            <a:ext cx="7543800" cy="649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«Особый путь» развития Анг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6415200"/>
            <a:ext cx="5904000" cy="3682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ан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ийског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ла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981000"/>
            <a:ext cx="7593120" cy="230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А.Смит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выступал за полную свободу предпринимательства. По его мнению государство должно защищать интересы своих производителей разумной таможенной и налоговой политико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авид Рикардо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считал, что предприниматель имеет право на неограниченную прибыль, но она не должна ущемлять интересы рабоч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340000" y="3429000"/>
            <a:ext cx="5761080" cy="2808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71240" y="836640"/>
            <a:ext cx="7521480" cy="194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XVII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в. в экономике страны начинается использование маши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спомните, к каким это привело последствия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Англии быстрыми темпами развивалась промышленность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за 100 лет в различных отраслях темпы роста производства составили от 300 до 2000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89000"/>
            <a:ext cx="7543800" cy="503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омышленный перевор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979640" y="2924280"/>
            <a:ext cx="6407280" cy="37656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7451640" y="6138720"/>
            <a:ext cx="1513080" cy="6426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лав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32000" y="6080040"/>
            <a:ext cx="3527280" cy="100872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ламный плакат                                                          нача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003640" y="1052640"/>
            <a:ext cx="3889440" cy="4897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рименение машин привело к окончательному обезземеливанию крестьян, и разорению ремеслен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 результате проявилас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торая сторона промышленного переворот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уржуазия и пролетариат стали основными классами английского общ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371240" y="188640"/>
            <a:ext cx="7543800" cy="649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омышленный перевор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32000" y="1125360"/>
            <a:ext cx="3503520" cy="4751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189000"/>
            <a:ext cx="7543800" cy="57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омышленный перевор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6415200"/>
            <a:ext cx="5472000" cy="3682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льная шахта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2920" y="907920"/>
            <a:ext cx="7489800" cy="172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есмотря на активное участие в антинаполеоновских коалициях,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замедление темпов развития экономики не произошло.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К 1840 г. Англия производила 45% мировой промышленной продук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о с конца 20-х г.г.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в. в стране начинают происходить регулярные экономические кризис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411280" y="2781360"/>
            <a:ext cx="5400720" cy="3457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40000" y="2637000"/>
            <a:ext cx="5184720" cy="3589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705800" cy="431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Политические реформы и чарт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6415200"/>
            <a:ext cx="5293080" cy="3682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квидация «гнилых» месте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8920" y="765000"/>
            <a:ext cx="7696080" cy="1727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оль парламента в жизни страны была велика.  Но из-за большого количества </a:t>
            </a: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«гнилых местечек»,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многие районы не имели в нем представите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832 г. в стране произошла парламентская реформа,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уничтожившая «гнилые местечки». Но избирать могли только 12% взрослого населения стра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836640"/>
            <a:ext cx="7593120" cy="201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1838 г. Уильям Ловетт составил Хартию (программу борьбы за всеобщее избирательное право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ыбирают мужчины с 21 год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тмена имущественного ценз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1839 г. чартисты собрали 1,3 млн. подписей и передали Хартию в парламент, но он отклонил её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593120" cy="503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олитические реформы и чарт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6384960"/>
            <a:ext cx="6624360" cy="3988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ртисты везут Хартию в пар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836640"/>
            <a:ext cx="7593120" cy="20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сколовшись на стороннико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моральной»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физической»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силы, чартисты продолжили борь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1842 г. было собрано 3,3 млн. подписей, а в 1848 г. –       5 млн., но оба раза парламент вновь отказался даже рассматривать народные требования. Вскоре чартистское движение уга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908000" y="2997360"/>
            <a:ext cx="6551640" cy="3240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17:59:17Z</dcterms:created>
  <dc:creator>Чернов Алксей</dc:creator>
  <dc:description/>
  <dc:language>en-US</dc:language>
  <cp:lastModifiedBy>Customer</cp:lastModifiedBy>
  <dcterms:modified xsi:type="dcterms:W3CDTF">2009-12-13T14:58:55Z</dcterms:modified>
  <cp:revision>30</cp:revision>
  <dc:subject/>
  <dc:title>Презентация PowerPoint</dc:title>
</cp:coreProperties>
</file>