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ADD6-F670-4A4A-AD6C-29F7515F3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624E-8CA6-41BC-97F6-F0AAC2175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E3DB-DD84-42EE-B310-88C74AF03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F026-0D3F-4904-ACD3-EAFE5373A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648B-3667-4CC8-B55A-DAD54FD3BC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F805-5EEE-43FA-B037-01350E7662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6810-6915-4A5D-A619-002BE8785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B05A4-1D1D-4475-BC6C-DC40A2F1E4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F3C4-EE8C-41C9-A8B1-3ECC3E40D2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7926-1931-4055-8A4C-D3FA438769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A598-E005-4DF0-BD91-F99494C7C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EC03-189B-49CB-8753-9C6FAEA95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F8F6-8248-4FAD-AD46-E43DCC5F28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779A-4474-4DC8-8749-6D2CA62AD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E06B-1FA8-4C2E-838B-583A11B916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E6FB-15C8-4140-8C1C-B14C71B70C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37B0-C9A5-40B9-9C1B-6B06C5C49B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AD8-6E78-48E2-A754-C51E1F7D31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2B6-2534-4C75-BE2E-2B4C66AA35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F81-E01E-4780-B101-111996DE28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E1E-8FBB-4763-B141-78459017C4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C76-D84A-46BF-9B03-28F800F89C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FC00-4268-464A-83E1-CF46A84423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E25-EB86-4229-BA0F-72B94D0283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ECD-92B0-423C-9C8E-A838823322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E29-889F-43FE-A569-EE4FA03221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E97-A4E5-405D-8E92-BA124ACEF4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CA9-085B-4EA7-9A02-5968F14A63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B03-B61D-4018-B9D5-C672354A30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575-6029-45F7-BED7-0B650F896F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2E4E6-4058-49A9-833C-600DB34C88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7D391-1F68-4633-86DF-F2A68288A7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3101A-3D9B-4B00-9A94-822FD3A5D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057F-E6FF-4E83-B122-4795D6707A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F8AB8-E71E-453A-964F-7821218148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4453E-E523-49BE-80E2-AAA9345F89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2EAF8-5921-45B4-9F0F-1914172202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AC4CA-E59D-4CEA-A0BF-3545232B47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A1F06-FB87-4A01-80FF-18B60BDEB0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05FD7-2B4F-4A46-9A77-0DF50A1078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989AA-69BA-4CB0-91D3-6042B2D656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A76EB-A467-4D17-8CC0-95E0EDE793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EE1E8-A072-4A86-90CE-358F5D1E17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CEC3C-53A3-4CB7-87C5-8D322FAF1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A5C5-1637-4676-A06A-528389E9B1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79FCB-5AD9-4537-A8A3-A7E7CD11E0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DE202-3DD0-44EA-B95D-E48373ED20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F4E38-3327-48CC-A911-A8FA9320F4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81587-36D3-40D3-B221-F01CD2E6F5D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BDCC0-BDAB-4F1B-9132-F9C4D2B9EB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976F3-7E15-46E0-8F85-4049C276CA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D7B12-9FEF-496A-939E-A12337C360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47576-44AB-4DD9-B5F2-6184E4B1C2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64E63-644C-43F7-9F37-178A470E74B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C090C-8EEC-41B8-BA75-4C924C35D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1FB9-9730-4ADE-B629-866CA877E0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CAC59-2099-481C-A547-FEA3732A87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C2B2-3B22-48BA-B4BA-883CEA542D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D103-D7F0-406F-B123-414528BD43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EB10-7268-4FF5-9129-62FC32D801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042D-103D-4F1B-9704-4FB36C01A21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7644-5DB6-4C56-BBA1-D7C5774C86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8CC-8F68-4BED-B653-844F5690A8C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693B-F8F4-4CE3-954A-C0659AC7BB2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1584-4DF2-4669-889C-1FE65B1A56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2E86-DDE5-4E73-B432-B9AE8ACE2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EB9A-4DD3-4F59-AF87-0D6366870BE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7CE9-5ABE-4352-AE57-446EAB053C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FD64-273E-41CE-8256-61330F39227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D873-C4A0-436E-8F43-6FAF7EC13E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DEE68-E4DC-4EDF-970D-DC15CB4D86F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41A55-5843-4441-A195-CDE608AD0A8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FFAC9-385F-4E7F-A4A1-E81B904981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01D8E5-4670-4C7F-9746-096B9AA848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A50D8-CBA3-4BC0-A613-B53D234086F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FB44A-6E71-4FA1-AF04-DFF6550B59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AE456-1ED9-462C-9B3B-C2683D91F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9A75-9148-40A5-89A1-0D51909F63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F5A6A-3A40-4572-84FE-780ADA1458B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CCC4E-2A33-4B6D-8F58-810BA395CB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6993A-3976-4526-BFED-1C83D5B2A3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E5BAD-2CFD-431D-82C6-7DB8B41589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9213E-69D8-4B59-B1C3-317B182922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659AF-4DEF-4A74-ADE8-04E76DFBC3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6DD4E-9432-4A8F-AD82-42FC7DD7C5A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1DEA7-9486-4333-999F-020F40AF29C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9A573-462C-4974-B7E0-76BE0BE92B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0AFE1-EE85-4B7A-8387-94CBB3289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0AD1-1D5F-48B7-AF4E-A2B7ED96E04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36B46-A37C-4E9D-AA11-0242F4566E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4E634-6692-4166-9BB5-8A0F46BF59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22A2E-1681-4AAB-87A4-96CDED5FF7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EA91D-CB7D-4B27-9DAD-52339D790B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D1B16-85D9-4D71-B8E9-BBF48D3ADEC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6007F-0A93-4D99-9D1F-B9FE5640DF0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9026B-C80E-4E30-807F-20861A4C0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9B9C49-9493-4162-BEEC-F7457000C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9FCBD0-57DB-4EC5-94AE-ED518735818B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D50426-CBC3-408C-BBF0-2CB277973C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55E7FB-845B-49E7-A3BA-E09FD5DE70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29BC92-8E0A-44ED-9824-5A069A3C7C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7688B1-F140-45FA-A599-1ACAF5A24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5C1859-6124-429E-83A8-8A153298E579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03D540-EE76-4584-9CB5-D35174EA710E}" type="slidenum">
              <a:rPr b="0" lang="en-US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339640" y="2205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:Коровина Анастасия Валерьевна Ученица 5 Г класс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50920" y="260280"/>
            <a:ext cx="3744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орд самого сильного смерча по скорости ветра, занесенный в Книгу рекордов Гиннеса был зафиксирован в США в городке Вичита фоллс (Wichita Falls) штата Техас 2 апреля 1958г. Максимальная скорость ветра составила 450км/ч. Такой смерч относят к категории разрушительных, т.е. он «частично или полностью разрушает прочные дома, легкие дома поднимает в воздух и переносит на некоторое расстояние, создает и всасывает в себя большое количество мусора и обломков, вырванные деревья переносит на некоторое расстояние, сдувает верхний слой почвы, поднимает в воздух и переносит на значительное расстояние автомобили и тяжелые предметы» (Шкала категорий торнадо Фуджиты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26028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1890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 (Haboob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, от арабского– </a:t>
            </a:r>
            <a:r>
              <a:rPr b="0" i="1" lang="ru-RU" sz="1800" spc="-1" strike="noStrike">
                <a:solidFill>
                  <a:srgbClr val="ccccff"/>
                </a:solidFill>
                <a:latin typeface="Arial"/>
              </a:rPr>
              <a:t>сильный ветер с песком и пылью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 - вид песчаной бури, которая создает высокую стену из пыли и песка. Такая буря достигает больших скоростей (30-100 км/ч) и способна погубить все живое на своем пути. Ежегодно песчаная буря 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озникает в самых засушливых регионах планеты таких как: Сахара, Кувейт, Ирак, США и доставляет немало неприятностей жителям этих регионов. В продолжение не большая подборка  фотографий с изображениями самой опасной бури 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Хабуб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32000" y="2643120"/>
            <a:ext cx="6624720" cy="381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0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6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6 Какие бывают бури (окраска частиц ) ?</a:t>
            </a:r>
            <a:endParaRPr b="0" lang="en-US" sz="2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1484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Жёлто-кр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1773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1844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Б)Чёр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8360" y="2205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 ) Крас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2565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 )Си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29242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Д)Б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6181920" cy="462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7 Какие бывают смерчи ?</a:t>
            </a:r>
            <a:endParaRPr b="0" lang="en-US" sz="2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413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Гря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177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Б)Невидим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5280" y="21337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)Огн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5280" y="2492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)Водя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8 Какие были  самых большие ураганы в мире  ?</a:t>
            </a:r>
            <a:endParaRPr b="0" lang="en-US" sz="24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7" name=""/>
          <p:cNvSpPr/>
          <p:nvPr/>
        </p:nvSpPr>
        <p:spPr>
          <a:xfrm>
            <a:off x="468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А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Тайфун 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8360" y="1773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Циклон Бх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8360" y="2205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В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Ураган Кенна</a:t>
            </a: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8360" y="2565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Г) </a:t>
            </a:r>
            <a:r>
              <a:rPr b="1" lang="ru-RU" sz="1800" spc="-1" strike="noStrike">
                <a:solidFill>
                  <a:srgbClr val="ccccff"/>
                </a:solidFill>
                <a:latin typeface="Arial"/>
              </a:rPr>
              <a:t>Ураган Пол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276720" y="2457360"/>
            <a:ext cx="5256000" cy="394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000" spc="-1" strike="noStrike">
                <a:solidFill>
                  <a:srgbClr val="17bbfd"/>
                </a:solidFill>
                <a:latin typeface="Century Gothic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000" spc="-1" strike="noStrike">
                <a:solidFill>
                  <a:srgbClr val="17bbfd"/>
                </a:solidFill>
                <a:latin typeface="Century Gothic"/>
              </a:rPr>
              <a:t> Существует недолго, перемещаясь вместе с облаком. </a:t>
            </a:r>
            <a:br>
              <a:rPr sz="2000"/>
            </a:br>
            <a:endParaRPr b="0" lang="en-US" sz="20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265800" cy="437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9)Расскажи  если бы начался ураган(смерчь </a:t>
            </a:r>
            <a:r>
              <a:rPr b="0" lang="en-US" sz="3800" spc="-1" strike="noStrike">
                <a:solidFill>
                  <a:srgbClr val="ffffff"/>
                </a:solidFill>
                <a:latin typeface="Century Gothic"/>
              </a:rPr>
              <a:t>,</a:t>
            </a: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буря)чтобы ты зделал ?</a:t>
            </a:r>
            <a:endParaRPr b="0" lang="en-US" sz="38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5545440" cy="4941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05800" cy="421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129800" cy="41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7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7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      </a:t>
            </a:r>
            <a:r>
              <a:rPr b="0" lang="ru-RU" sz="4200" spc="-1" strike="noStrike">
                <a:solidFill>
                  <a:srgbClr val="ff5c9c"/>
                </a:solidFill>
                <a:latin typeface="Arial"/>
              </a:rPr>
              <a:t>Правила безопасности  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268280"/>
            <a:ext cx="78483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Если ураган (буря, смерч) застал Вас в здании, 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Погасите огонь в печах, отключите электроэнергию, закройте краны на газовых сет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В темное время суток используйте фонари, лампы, свечи; включите радиоприемник для получения информации управления ГО и ЧС и комиссии по чрезвычайным ситуациям; по возможности, находитесь в заглубленном укрытии, в убежищах, погребах и т.п. Если ураган, буря или смерч застали Вас на улицах населенного пункта, держитесь как можно дальше от легких построек, зданий, мостов, эстакад, линий электропередачи, мачт, деревьев, рек, озер и промышленных объектов. Для защиты от летящих обломков и осколков стекла используйте листы фанеры, картонные и пластмассовые ящики, доски и другие подручные средства. Старайтесь быстрее укрыться в подвалах, погребах и противорадиационных укрытиях, имеющихся в населенных пунктах. Не заходите в поврежденные здания, так как они могут обрушиться при новых порывах вет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ccff"/>
                </a:solidFill>
                <a:latin typeface="Arial"/>
              </a:rPr>
              <a:t>При пыльной буре закройте лицо марлевой повязкой, платком, куском ткани, а глаза очками. 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79280" y="314280"/>
            <a:ext cx="8785440" cy="6229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4360" y="765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832200"/>
            <a:ext cx="644364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70 циклон Bhola обрушился на Восточный Пакистан  (сегодня Бангладеш) и на Западную Бенгалию Индии. Пик действия циклона пришелся на 12 ноября 1970 года. Хотя точное число погибших неизвестно, по оценкам, 300 000 - 500 000 человек погибли в период воздействия циклона, что делает его одним из самых страшных стихийных бедствий недавней истории. Этот циклон по силе и скорости ветра был относительно невелик, ему присвоена 3 категория урагана. Убойная сила этого шторма объясняется огромным количеством осадков, что вызвало затопление большей части островов в дельте реки Ганг, буквально смывая деревни и посевы с лица зем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372360" y="4221000"/>
            <a:ext cx="2619360" cy="226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84360" y="476280"/>
            <a:ext cx="518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8000" y="98100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территории Китая, тайфуны не редкость, но супер тайфун Нина обладал колоссальной разрушительной силой, была прорвана плотина Банкиао. Крушение плотины привело к большому наводнению, это вызвало серию обруш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3716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клон Бхола (Bhola) 1970 го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4000" y="476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 Тайфун Нина 197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619360" cy="279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валере</cp:lastModifiedBy>
  <dcterms:modified xsi:type="dcterms:W3CDTF">2013-12-19T12:14:16Z</dcterms:modified>
  <cp:revision>19</cp:revision>
  <dc:subject/>
  <dc:title>Ураганы, бури, смерчи!!!</dc:title>
</cp:coreProperties>
</file>