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A705-DC51-478E-8349-4FCC840CC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B112-DE6E-48BD-9879-E7747E2E0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68C2-A5F7-4FE9-95FA-49C672C3E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B034-8A61-48ED-92F5-2E969032C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C1EB-D5F8-46B9-9F44-694118675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6352-7E43-41CA-A721-F6B051BBCC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C3B6-7D6F-4B40-A4BB-F8CE44A89C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3406-05BF-4528-89C8-49D74F1D8C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9363-75F5-47F1-B5CB-9D1891E004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BF2B-AF6F-4D33-BFD0-7E2F41A36A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F178-AABE-4A5A-9548-10D86205F3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75D7-1395-4155-9007-BA4D60EAA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436A-94D6-4514-AD60-F27CE4E807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8A35-4E67-423A-9DDE-D1360E0A1B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7070-2815-4891-8194-9B09CCF7F3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EE79-1F55-46B8-ADFE-59C5F26CEF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09F6-CFFB-43EF-9347-8494C62808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CB9-46B9-402E-BB4F-761C2C662D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733-1ED2-4766-B30E-3087CF5E52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3B2-CE82-4484-8378-450421D5A6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71C-5E90-4E1D-B4B1-3B1ED5DE94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685-6866-4BA5-8564-F4E620513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7D47-E882-46FF-B224-A3FC113D5D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564-3CA0-49C7-819E-09DC5026EA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D4E-EB6E-408D-ABB8-67AECAA6E5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735-D3BB-4B2E-A38C-BE3AEDCEC5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A59-6465-4398-970E-959CE67C5F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7E7-10DC-4293-BA80-2102CBDEA5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C45-60BC-42C5-A98F-61134B4399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CDD-787C-4461-85BD-C1F3AD28F9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D0357-846C-402B-8289-4110AFBE55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40167-83DB-4D25-A306-A80C4FF5F1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C118D-0D73-469C-A1DA-04A50F61B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4436-39B0-4DAD-92F9-6279157127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7CDAA-BC0F-4BF4-82B7-F3A469EE3A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D8679-AA87-415D-A8F8-7A38A5809C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B744A-5D52-4588-8D3D-42193F362A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5500E-3522-4B82-810E-847A48BF6A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D99C9-2659-4F8A-85EC-3683C5BABE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18029-F4E6-4CBD-A9EC-D501EB9455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C961A-FAA5-43C2-86B3-6ABA7D53F0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1D839-2A9E-47DE-9413-24C1D188BF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B13D7-02E5-4ABA-96BC-99A17F854A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DDE1B-57EF-4098-973A-1AE2631C8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5905-678A-462C-A485-874AA6E6544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79E5E-7DBC-4A32-89CC-97E75CA2C8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C6E53-6D02-40B8-A615-5D311D2D6E2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0D487-08D6-4F5E-9B11-329E53D96F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BB044-976E-4F23-9D36-B1D4953875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44B8A-E566-420C-AB22-B8BDACBC40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3FCA8-5907-4F58-9D1A-69A3A1AD89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9A9D3-C7B4-4E00-B445-2557E83679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19D77-460A-40F0-B25C-330DE493C0D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E5BD1-E2F1-4040-A185-0D33696E38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5686F-E16C-4C98-BC03-DD462EEDE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1883-0A9D-4EB7-A477-5725573487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13E8D-2F0F-4050-92D1-67E75F4E3A9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E795-9BE9-45BD-99C1-74D76A11B14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607A-CF08-4FC4-B30F-7D8CECD38A7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4021-9E68-4AD4-8121-EEC8FE4E94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191B-4E58-466E-95E5-3B5485B33C4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EAB3-FF1E-465F-88F1-BA43889ED9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3434-4791-4146-91D0-7CB66501AA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CAE4-4E14-4058-A0C8-1B381DFACF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1EDE-BBAF-40B0-8552-539D21DCBE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7D4D-E4F9-47D6-B23E-DE9015283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0B5D-10E3-4571-BA18-1EC2A1CA002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1B5E-42DD-4FE7-9C99-2D95C3940D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62CF-63BD-490B-8719-BDE4E0FE2C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312-174B-4FBA-B0E6-03113B9AEEB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C2B05-4738-48C7-B4D2-50E0D60D3A8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7F7DD-E9AD-41ED-9037-F1406167767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58B88-8068-4901-8031-BEA6058094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2C9EE-F363-4191-ABF9-9B33D2DA64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A01F2-11E2-4455-8A75-3747C1299D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CE18C-10A4-42D5-9060-828C8A5DBE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5E8DF-C41E-4321-9432-1CABCB5E6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53A1-6BFA-47FB-9ECD-A50F2AC54A5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7C4838-A198-43D8-9443-7991E31703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2A176-5416-40EB-93F8-FA16550DCA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122084-9086-4375-9ADA-2859AE5D3F1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29BEF-F252-470A-813B-F40889C22A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5A40E3-2CDA-4351-B8AC-53A8B815C60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69663-3F75-4D13-A1AE-4294F9E45A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4EB4E-0F82-4777-98DB-8C929F8AF9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3E9FB-8A38-410E-8874-996771F853F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EEAA6-6EEF-4F54-B108-8E279E6DA00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923B1-AC54-4027-A8F6-E3E0B8442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FD26-0DD8-4257-B913-948950613B8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78D83-14C2-44B8-8464-E7F213B3D9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F5238-09C0-45B5-B4ED-EDACFE172D9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608C9-8030-46BD-82CE-B5E1882EB9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B5B4A-BF59-4304-A616-3F9D1E45C3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F1B9A-E2CC-4935-A679-427B77DCE05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F96CF-6433-4837-B1BF-C04BA25FCB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46FD3-F501-4C53-AA93-DC2D1B8BE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727EEA-95B3-47B7-9C8D-B253773298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71600" y="60120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E4F145-9E00-4211-AA9F-F1FDCBE0C1CC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91240" y="632160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1DBD2F-E9CD-4ED2-B5C0-65FA0CBE3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56280" y="6321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89D923-60A8-41D8-BB46-0A86262551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96459B-609A-4872-B86C-0CCA50C8B2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91240" y="6323040"/>
            <a:ext cx="213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6ED32C-1678-4968-B5B8-C086ABB5B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278400" y="639756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8D9E25-41DC-456C-80B3-AB4ECC0AEDF1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108840" y="6397560"/>
            <a:ext cx="210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8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D30BF5-9800-48DE-AE32-19A9CBDC89B4}" type="slidenum">
              <a:rPr b="0" lang="en-US" sz="9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339640" y="22050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 :Коровина Анастасия Валерьевна Ученица 5 Г класс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-285840" y="2714760"/>
            <a:ext cx="7000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"/>
          <p:cNvGrpSpPr/>
          <p:nvPr/>
        </p:nvGrpSpPr>
        <p:grpSpPr>
          <a:xfrm>
            <a:off x="500040" y="285840"/>
            <a:ext cx="8143920" cy="1642680"/>
            <a:chOff x="500040" y="285840"/>
            <a:chExt cx="8143920" cy="1642680"/>
          </a:xfrm>
        </p:grpSpPr>
        <p:pic>
          <p:nvPicPr>
            <p:cNvPr id="348" name="Picture 3" descr=""/>
            <p:cNvPicPr/>
            <p:nvPr/>
          </p:nvPicPr>
          <p:blipFill>
            <a:blip r:embed="rId2"/>
            <a:stretch/>
          </p:blipFill>
          <p:spPr>
            <a:xfrm>
              <a:off x="500040" y="285840"/>
              <a:ext cx="814392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"/>
            <p:cNvSpPr/>
            <p:nvPr/>
          </p:nvSpPr>
          <p:spPr>
            <a:xfrm>
              <a:off x="500040" y="285840"/>
              <a:ext cx="814392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50920" y="260280"/>
            <a:ext cx="3744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орд самого сильного смерча по скорости ветра, занесенный в Книгу рекордов Гиннеса был зафиксирован в США в городке Вичита фоллс (Wichita Falls) штата Техас 2 апреля 1958г. Максимальная скорость ветра составила 450км/ч. Такой смерч относят к категории разрушительных, т.е. он «частично или полностью разрушает прочные дома, легкие дома поднимает в воздух и переносит на некоторое расстояние, создает и всасывает в себя большое количество мусора и обломков, вырванные деревья переносит на некоторое расстояние, сдувает верхний слой почвы, поднимает в воздух и переносит на значительное расстояние автомобили и тяжелые предметы» (Шкала категорий торнадо Фуджиты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26028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189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Хабуб (Haboob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, от арабского– </a:t>
            </a:r>
            <a:r>
              <a:rPr b="0" i="1" lang="ru-RU" sz="1800" spc="-1" strike="noStrike">
                <a:solidFill>
                  <a:srgbClr val="ccccff"/>
                </a:solidFill>
                <a:latin typeface="Arial"/>
              </a:rPr>
              <a:t>сильный ветер с песком и пылью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 - вид песчаной бури, которая создает высокую стену из пыли и песка. Такая буря достигает больших скоростей (30-100 км/ч) и способна погубить все живое на своем пути. Ежегодно песчаная буря 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Хабуб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озникает в самых засушливых регионах планеты таких как: Сахара, Кувейт, Ирак, США и доставляет немало неприятностей жителям этих регионов. В продолжение не большая подборка  фотографий с изображениями самой опасной бури 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Хабуб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32000" y="2643120"/>
            <a:ext cx="6624720" cy="3811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1"/>
          <p:cNvGrpSpPr/>
          <p:nvPr/>
        </p:nvGrpSpPr>
        <p:grpSpPr>
          <a:xfrm>
            <a:off x="1143000" y="357120"/>
            <a:ext cx="6500880" cy="857160"/>
            <a:chOff x="1143000" y="357120"/>
            <a:chExt cx="6500880" cy="857160"/>
          </a:xfrm>
        </p:grpSpPr>
        <p:pic>
          <p:nvPicPr>
            <p:cNvPr id="400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357120"/>
              <a:ext cx="6500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3"/>
            <p:cNvSpPr/>
            <p:nvPr/>
          </p:nvSpPr>
          <p:spPr>
            <a:xfrm>
              <a:off x="1143000" y="357120"/>
              <a:ext cx="6500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Text Box 4"/>
          <p:cNvSpPr/>
          <p:nvPr/>
        </p:nvSpPr>
        <p:spPr>
          <a:xfrm>
            <a:off x="500040" y="1143000"/>
            <a:ext cx="81867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 какой скоростью движется ураг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10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10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20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2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2786040" y="2308320"/>
            <a:ext cx="5786640" cy="390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корость песчаной бури составля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олее 2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3643200" y="2286000"/>
            <a:ext cx="5246640" cy="4173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324000" y="692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зовите правильное действие, которое нужно выполнить во время урагана, бури или смер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Спуститься в укр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ыйти на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варить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Молиться б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305160" y="2714760"/>
            <a:ext cx="5195880" cy="3719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68360" y="620640"/>
            <a:ext cx="82296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кажите правильное утвер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нежной бури лучше укр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 зд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 сугро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крыв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 я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57560" cy="4062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68360" y="549360"/>
            <a:ext cx="82296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С чем перемещается облак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месте с до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месте с об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Вместе с дож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месте с мус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3357720" y="257184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6 Какие бывают бури (окраска частиц ) ?</a:t>
            </a:r>
            <a:endParaRPr b="0" lang="en-US" sz="2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1484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А)Жёлто-кра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1773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184464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Б)Чёр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2205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 ) Крас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2565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Г )Си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2924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Д)Б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6181920" cy="462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7 Какие бывают смерчи ?</a:t>
            </a:r>
            <a:endParaRPr b="0" lang="en-US" sz="2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41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А)Гря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177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Б)Невидим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5280" y="2133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)Огн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249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Г)Водя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8 Какие были  самых большие ураганы в мире  ?</a:t>
            </a:r>
            <a:endParaRPr b="0" lang="en-US" sz="2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"/>
          <p:cNvSpPr/>
          <p:nvPr/>
        </p:nvSpPr>
        <p:spPr>
          <a:xfrm>
            <a:off x="468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А)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Тайфун 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360" y="1773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Циклон Бх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8360" y="220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)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Ураган Кенна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8360" y="2565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Г)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Ураган Пол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276720" y="2457360"/>
            <a:ext cx="5256000" cy="394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17bbfd"/>
                </a:solidFill>
                <a:latin typeface="Century Gothic"/>
              </a:rPr>
              <a:t>СМЕРЧ – атмосферный вихрь, возникающий в грозовом облаке и распространяющийся вниз, часто до самой поверхности Земли в виде темного облачного рукава или хобота диаметром в десятки и сотни метров.</a:t>
            </a:r>
            <a:r>
              <a:rPr b="1" i="1" lang="en-GB" sz="2000" spc="-1" strike="noStrike">
                <a:solidFill>
                  <a:srgbClr val="17bbfd"/>
                </a:solidFill>
                <a:latin typeface="Century Gothic"/>
              </a:rPr>
              <a:t> Существует недолго, перемещаясь вместе с облаком. </a:t>
            </a:r>
            <a:br>
              <a:rPr sz="2000"/>
            </a:br>
            <a:endParaRPr b="0" lang="en-US" sz="20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265800" cy="437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9)Расскажи  если бы начался ураган(смерчь </a:t>
            </a: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,</a:t>
            </a: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буря)чтобы ты зделал ?</a:t>
            </a: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5545440" cy="4941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457200" y="692280"/>
            <a:ext cx="8229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УРАГАН – это атмосферный вихрь больших размеров со скоростью ветра до 120 км/ч, а в приземном слое – до 200 км/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05800" cy="421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468360" y="47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УРЯ – длительный, очень сильный ветер со скоростью более 20 м/с, наблюдается обычно при прохождении циклона и сопровождается сильным волнением на море и разрушениями на су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129800" cy="41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бури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468360" y="1341360"/>
            <a:ext cx="25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61128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о сост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154764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3203640" y="1341360"/>
            <a:ext cx="2376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3205080" y="143676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По скорос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вет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3564000" y="386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2843280" y="3500280"/>
            <a:ext cx="2952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Бури (20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ильные бури (28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Жестокие бури (30,5м/с и боле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5867280" y="1341360"/>
            <a:ext cx="2376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013800" y="1554120"/>
            <a:ext cx="213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По окрас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част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>
            <a:off x="7020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6227640" y="3500280"/>
            <a:ext cx="23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Ч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Желто-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Бе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95280" y="3500280"/>
            <a:ext cx="201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ы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Times New Roman"/>
              </a:rPr>
              <a:t>Виды смерчей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50920" y="1268280"/>
            <a:ext cx="2736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348000" y="1268280"/>
            <a:ext cx="244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6156360" y="1268280"/>
            <a:ext cx="259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50920" y="1484280"/>
            <a:ext cx="29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300" spc="-1" strike="noStrike">
                <a:solidFill>
                  <a:srgbClr val="00cc99"/>
                </a:solidFill>
                <a:latin typeface="Times New Roman"/>
              </a:rPr>
              <a:t>По происхождени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565800" y="14842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6227640" y="1341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154764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7308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396360" y="3141720"/>
            <a:ext cx="25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Невид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Вод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Огн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3132000" y="3068640"/>
            <a:ext cx="32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л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Расплывчат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6443640" y="3068640"/>
            <a:ext cx="2700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Кротк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Длинн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Ураганные вих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7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      </a:t>
            </a: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Правила безопасности 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268280"/>
            <a:ext cx="7848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Если ураган (буря, смерч) застал Вас в здании, отойдите от окон и займите безопасное место у стен внутренних помещений, в коридоре, у встроенных шкафов, в ванных комнатах, туалете, кладовых, в прочных шкафах, под столами. Погасите огонь в печах, отключите электроэнергию, закройте краны на газовых сет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В темное время суток используйте фонари, лампы, свечи; включите радиоприемник для получения информации управления ГО и ЧС и комиссии по чрезвычайным ситуациям; по возможности, находитесь в заглубленном укрытии, в убежищах, погребах и т.п. Если ураган, буря или смерч застали Вас на улицах населенного пункта, держитесь как можно дальше от легких построек, зданий, мостов, эстакад, линий электропередачи, мачт, деревьев, рек, озер и промышленных объектов. Для защиты от летящих обломков и осколков стекла используйте листы фанеры, картонные и пластмассовые ящики, доски и другие подручные средства. Старайтесь быстрее укрыться в подвалах, погребах и противорадиационных укрытиях, имеющихся в населенных пунктах. Не заходите в поврежденные здания, так как они могут обрушиться при новых порывах ве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При снежной буре укрывайтесь в зданиях. Если Вы оказались в поле или на проселочной дороге, выходите на магистральные дороги, которые периодически расчищаются и где большая вероятность оказания Вам помощ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При пыльной буре закройте лицо марлевой повязкой, платком, куском ткани, а глаза очками. При поступлении сигнала о приближении смерча необходимо немедленно спуститься в укрытие, подвал дома или погреб, либо укрыться под кроватью и другой прочной мебелью. Если смерч застает Вас на открытой местности, укрывайтесь на дне дорожного кювета, в ямах, рвах, узких оврагах, плотно прижимаясь к земле, закрыв голову одеждой или ветками деревьев. Не оставайтесь в автомобиле, выходите из него и укрывайтесь, как указано выш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79280" y="314280"/>
            <a:ext cx="8785440" cy="622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4360" y="765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832200"/>
            <a:ext cx="644364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70 циклон Bhola обрушился на Восточный Пакистан  (сегодня Бангладеш) и на Западную Бенгалию Индии. Пик действия циклона пришелся на 12 ноября 1970 года. Хотя точное число погибших неизвестно, по оценкам, 300 000 - 500 000 человек погибли в период воздействия циклона, что делает его одним из самых страшных стихийных бедствий недавней истории. Этот циклон по силе и скорости ветра был относительно невелик, ему присвоена 3 категория урагана. Убойная сила этого шторма объясняется огромным количеством осадков, что вызвало затопление большей части островов в дельте реки Ганг, буквально смывая деревни и посевы с лица зем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2619360" cy="226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4360" y="476280"/>
            <a:ext cx="518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8000" y="98100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территории Китая, тайфуны не редкость, но супер тайфун Нина обладал колоссальной разрушительной силой, была прорвана плотина Банкиао. Крушение плотины привело к большому наводнению, это вызвало серию обруш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3716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клон Бхола (Bhola) 1970 г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4000" y="476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 Тайфун Нина 197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2619360" cy="279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валере</cp:lastModifiedBy>
  <dcterms:modified xsi:type="dcterms:W3CDTF">2013-12-19T12:14:16Z</dcterms:modified>
  <cp:revision>19</cp:revision>
  <dc:subject/>
  <dc:title>Ураганы, бури, смерчи!!!</dc:title>
</cp:coreProperties>
</file>