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C8EF-B022-407E-ADA2-3ECCEE1A3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7DA9-4864-474E-8963-143D19264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1D6E-ED2A-4C0C-9702-B071D3E4B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F021-9AE2-4761-BBF4-0EA6DC0CE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A42E-BE66-473C-865E-BA14A1CD91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4E74-8703-47F6-A72A-56707036F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4882-490D-4D13-A24F-1CB35CC99B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41B1-802E-450D-8AAD-3C1B6AC26A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9061-E0E7-448C-8295-69ADE29D5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AD03-87C8-4F46-AD75-9C0F815A46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5A1F-3C7C-429D-9648-6CEA6E2D9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C69E-AC14-4B57-AB3D-43DF6D5D3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E906-7FD7-485B-B502-73F02984F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6C45-4DA0-4BE5-8278-829A1B90F0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6170-DC8E-4E66-92E1-277F0691BC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581D-FAC7-474B-AF83-538A13359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90DF-8BA9-4CCD-844E-B6CD2AE1F8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8B8-20FE-4E77-8044-141030DCBF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B37-E99F-44D0-BDDD-7E8F1F0030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DC5-91AD-423C-B372-D595C87BD6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4BB-1536-41F5-8157-6DED93E7C0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6AB-5F20-4572-A274-B07510CCD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E556-F8DE-42ED-B352-BFA5592528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D11-DFC0-453B-BDBE-E2AC4BA475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703-D986-47FF-852E-E18D405646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897-7F74-4452-B758-B395FB1286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44F-BF74-418C-931F-75F55E68EB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913-DA12-4F3A-810F-CFBB15F784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A81-EC8D-4AE2-9EC2-DDACA92FDF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B70-42A8-40CA-996B-2371A43988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1BE7B-B036-4EFC-BB7B-B463CDB829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1BF5B-9ACC-46FF-A026-A2B98C4995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FA98-D4DC-400C-B609-BC0A76075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D069-2FBB-4FCE-AEF8-152D2CBB48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2CE3A-DF70-44D4-91AB-BD8015A5EB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9F7F6-0F03-4DD2-8FA7-66498BB490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B2B0D-5355-4C4F-B05A-6B7B2AC93E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CDB8F-5A2C-404D-9630-3CE6C3B505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DDF39-D74E-4E68-8CFD-32E9C246CE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D32F7-7E09-4E31-B458-9DD2CBFE4F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3ACDE-B9EA-4D5F-8F49-1340DD0CAD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2EF7A-E175-443D-8117-077D47154E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ADD06-4320-45C8-98C2-39A4B77E78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9136D-6BE2-4ABA-B319-F12F1767D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9545-D766-40A3-AEC6-0A6045FA68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55B79-5D83-40BD-987C-FBF268630B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31DC-C4E7-47C3-81B3-8908FA6853E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34583-65DC-4A6E-8D8D-D6C3D89795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D2B7C-615C-48C2-AC36-7562DB699A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E0ED3-83F8-4B73-A7D7-92C21EE4227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8D1C7-3AF9-4B6E-9126-18A6107B6D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E4E86-B46C-4350-8B0C-54843719559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6CEA-E5A5-4868-BCE7-5779CA4B45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0B2F9-CA1B-411C-8200-6785A984E1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A1CE3-9C6F-43BC-BB4C-D5C5111F0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8428-AB7F-4EF5-9084-611C34BAE3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54A4B-AB13-47CE-B5F7-F511722963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DB10-B6D3-4EB8-963A-EFF10C1FD9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5DBE-A485-43D6-A733-9BDC946BB2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D424-3A95-43F4-9543-FCB57E7335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C2B9-EB4A-439B-9FD5-B4EC8985AC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A71B-ECC1-4F26-AC80-028C807F11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DB15-67C9-426A-9CEC-B3E2A14D62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6791-877A-44E9-ADEE-AE9A60C0CD0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2BCD-4B9E-4AC7-8538-547487221C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DF8E-70E6-4828-9CA9-2BE04D7AF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AE4B-6988-4275-9138-EEAF930F80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00C2-D04D-4876-8E38-3454E73530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019D-AF08-4717-A9E0-9D08D5E46D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0AAD-7A1A-411F-A3CE-6808C9CC15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A876D-18BA-473F-AEA7-B20DC0850F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2FE879-67AB-4ADB-94A9-C55D20A2F58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484AE-E61F-4731-9AD8-D98CF30D48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AAD7A-9056-44C8-ADFD-AB67059696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894C0-8A21-42D1-92EC-A7AC20FC6C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FA24A-4834-449F-B158-4FED166E7A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3CA2F-8169-4E18-9F37-ADD118390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42B7-6B20-462E-8CC3-8D9F7423CAE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A5238-1D38-4217-9BBA-163D39AE66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74749-96D4-49D1-98EF-99583A4E97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21259-1BA9-4F46-B0C2-1FA63F18A6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26CF12-E4DD-4FD4-9865-C7B19C30E9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F8912-12B6-4867-9DB5-EF09E42280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026DC-8046-4670-98D3-1B826A30C69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68A5E-7041-4B6F-8B53-5ECE45D21E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97597-816F-4063-8BEA-3435D1D7F23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33749-DA54-43DF-83D5-07F33BF423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39F13-C579-4BFC-B09D-B6F57BBA8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5E22-7357-4FF4-AE3A-F4967349B71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A6FA5-F8B1-4745-B90D-75DFAEFC65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AB856-296E-43F4-B2C5-6819978AF1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4A118-4D9E-4913-9084-60F1A75E72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E0CB2-2662-4CED-8480-BD46020331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42F33-313C-4255-B79B-55ADB7EFFE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E4F81-647D-4CEF-BED9-F8AFD8EC5B7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F9F72-319A-4128-8CB5-F6734F74B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AD048E-B5FB-42A9-857D-A0C0BD0E5D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D0A9FC-CBE4-437F-B860-4B2AE0E28313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6F4EF5-D932-4368-AB3F-2A1B1E30E7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71BF2A-90AB-43E5-A7BA-399EB7126A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239426-F8F4-4A3B-A608-83E698DB34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CC33EE-FB65-433C-830E-717136B77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05E8C5-4B6C-4E6D-BA3B-BC545F355A65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67F35B-16C5-46A9-A89B-30BA641D6D9E}" type="slidenum">
              <a:rPr b="0" lang="en-US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339640" y="2205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:Коровина Анастасия Валерьевна Ученица 5 Г класс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0920" y="260280"/>
            <a:ext cx="3744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орд самого сильного смерча по скорости ветра, занесенный в Книгу рекордов Гиннеса был зафиксирован в США в городке Вичита фоллс (Wichita Falls) штата Техас 2 апреля 1958г. Максимальная скорость ветра составила 450км/ч. Такой смерч относят к категории разрушительных, т.е. он «частично или полностью разрушает прочные дома, легкие дома поднимает в воздух и переносит на некоторое расстояние, создает и всасывает в себя большое количество мусора и обломков, вырванные деревья переносит на некоторое расстояние, сдувает верхний слой почвы, поднимает в воздух и переносит на значительное расстояние автомобили и тяжелые предметы» (Шкала категорий торнадо Фуджиты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26028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189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 (Haboob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, от арабского– </a:t>
            </a:r>
            <a:r>
              <a:rPr b="0" i="1" lang="ru-RU" sz="1800" spc="-1" strike="noStrike">
                <a:solidFill>
                  <a:srgbClr val="ccccff"/>
                </a:solidFill>
                <a:latin typeface="Arial"/>
              </a:rPr>
              <a:t>сильный ветер с песком и пылью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 - вид песчаной бури, которая создает высокую стену из пыли и песка. Такая буря достигает больших скоростей (30-100 км/ч) и способна погубить все живое на своем пути. Ежегодно песчаная буря 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озникает в самых засушливых регионах планеты таких как: Сахара, Кувейт, Ирак, США и доставляет немало неприятностей жителям этих регионов. В продолжение не большая подборка  фотографий с изображениями самой опасной бури 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32000" y="2643120"/>
            <a:ext cx="6624720" cy="381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0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6 Какие бывают бури (окраска частиц ) ?</a:t>
            </a:r>
            <a:endParaRPr b="0" lang="en-US" sz="2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484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Жёлто-кр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1773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1844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Б)Чёр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2205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 ) Крас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2565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 )Си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2924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Д)Б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6181920" cy="462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7 Какие бывают смерчи ?</a:t>
            </a:r>
            <a:endParaRPr b="0" lang="en-US" sz="2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41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Гря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177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Б)Невидим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2133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)Огн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249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)Водя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8 Какие были  самых большие ураганы в мире  ?</a:t>
            </a:r>
            <a:endParaRPr b="0" lang="en-US" sz="2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Тайфун 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1773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Циклон Бх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8360" y="220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раган Кенна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8360" y="2565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раган Пол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276720" y="2457360"/>
            <a:ext cx="5256000" cy="394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17bbfd"/>
                </a:solidFill>
                <a:latin typeface="Century Gothic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000" spc="-1" strike="noStrike">
                <a:solidFill>
                  <a:srgbClr val="17bbfd"/>
                </a:solidFill>
                <a:latin typeface="Century Gothic"/>
              </a:rPr>
              <a:t> Существует недолго, перемещаясь вместе с облаком. </a:t>
            </a:r>
            <a:br>
              <a:rPr sz="2000"/>
            </a:br>
            <a:endParaRPr b="0" lang="en-US" sz="20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265800" cy="437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9)Расскажи  если бы начался ураган(смерчь </a:t>
            </a: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буря)чтобы ты зделал ?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5545440" cy="4941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05800" cy="421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129800" cy="41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      </a:t>
            </a: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Правила безопасности 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268280"/>
            <a:ext cx="7848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Если ураган (буря, смерч) застал Вас в здании, 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Погасите огонь в печах, отключите электроэнергию, закройте краны на газовых сет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В темное время суток используйте фонари, лампы, свечи; включите радиоприемник для получения информации управления ГО и ЧС и комиссии по чрезвычайным ситуациям; по возможности, находитесь в заглубленном укрытии, в убежищах, погребах и т.п. Если ураган, буря или смерч застали Вас на улицах населенного пункта, держитесь как можно дальше от легких построек, зданий, мостов, эстакад, линий электропередачи, мачт, деревьев, рек, озер и промышленных объектов. Для защиты от летящих обломков и осколков стекла используйте листы фанеры, картонные и пластмассовые ящики, доски и другие подручные средства. Старайтесь быстрее укрыться в подвалах, погребах и противорадиационных укрытиях, имеющихся в населенных пунктах. Не заходите в поврежденные здания, так как они могут обрушиться при новых порывах ве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При пыльной буре закройте лицо марлевой повязкой, платком, куском ткани, а глаза очками. 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9280" y="314280"/>
            <a:ext cx="8785440" cy="622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4360" y="765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32200"/>
            <a:ext cx="644364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70 циклон Bhola обрушился на Восточный Пакистан  (сегодня Бангладеш) и на Западную Бенгалию Индии. Пик действия циклона пришелся на 12 ноября 1970 года. Хотя точное число погибших неизвестно, по оценкам, 300 000 - 500 000 человек погибли в период воздействия циклона, что делает его одним из самых страшных стихийных бедствий недавней истории. Этот циклон по силе и скорости ветра был относительно невелик, ему присвоена 3 категория урагана. Убойная сила этого шторма объясняется огромным количеством осадков, что вызвало затопление большей части островов в дельте реки Ганг, буквально смывая деревни и посевы с лица зем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2619360" cy="226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4360" y="476280"/>
            <a:ext cx="518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8000" y="98100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территории Китая, тайфуны не редкость, но супер тайфун Нина обладал колоссальной разрушительной силой, была прорвана плотина Банкиао. Крушение плотины привело к большому наводнению, это вызвало серию обруш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3716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клон Бхола (Bhola) 1970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4000" y="476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 Тайфун Нина 197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619360" cy="279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валере</cp:lastModifiedBy>
  <dcterms:modified xsi:type="dcterms:W3CDTF">2013-12-19T12:14:16Z</dcterms:modified>
  <cp:revision>19</cp:revision>
  <dc:subject/>
  <dc:title>Ураганы, бури, смерчи!!!</dc:title>
</cp:coreProperties>
</file>