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749-422F-4473-87A5-FFA26BFE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241-BF86-4642-8F63-CA69EC9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361-4D28-4ED6-BEC0-8C6892C4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B40-1B41-4E72-B1CB-EE7FF7CF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1F3-B053-4880-85CE-686CFA3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D78-7D62-4BAD-9666-7CFC608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4A8-C5B3-42EB-8680-7290A2F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DD6-7DFC-4B33-8669-FC9C126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3D6-6938-4F36-9336-0079E9A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ECC-8105-42A1-9D77-BDF23337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18D-1FE5-47EA-A40A-10E91B4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91B-044D-4E3A-94CA-E6B828F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DC6-15F0-4375-8A13-6598A3C15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oyota 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удико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артыненко 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ыл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начала 90-х годов, когда в России появились первые официальные дилеры компании, начинается история активного продвижения бренда Toyota на российском рынк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1998 году компания открыла Московское представительство Toyota Motor Corporation, которое было создано, чтобы оценивать рыночную ситуацию и способствовать увеличению продаж через торговые компании и сеть дилеров в основных регионах России. В связи с динамичным развитием автомобильного рынка, было принято решение о создании национальной компании по маркетингу и продажам ООО "Тойота Мотор". Объявление об этом прозвучало в 2001 году в рамках московского Автосалон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Киичиро Тойода стал "отцом" компании, но история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oyota также неразрывно связана и с отцом самого Киичиро,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с Сакичи Тойодой.                     Сакичи считается одним из самых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знаменитых японских изобретателей. Он вла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фабрикой по производству ткацкого оборудования, которое он сам изобретал и проектировал. Так что Toyota была изначально построена на базе компании, являвшейся мировым лидером, правда, всего лишь в производстве ткацкого оборудования, но ведь это уже детали.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Главным было то, что Тойодой-старшим был разработан особый принцип действия ткацкого станка, который и снискал продукции компании такую популярность: как только рвалась нить, станок автоматически прекращал свою работу для того, чтобы не портить ткань. Этот принцип, как утверждают представители компании, стал залогом успеха и автомобилей Toyota. Известно, что на заводах компании существует правило: как только хоть у одного из рабочих на конвейере возникнет проблема, он должен остановить всю линию, чтобы не допустить бра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ist2"/>
          <p:cNvPicPr/>
          <p:nvPr/>
        </p:nvPicPr>
        <p:blipFill>
          <a:blip r:embed="rId1"/>
          <a:stretch/>
        </p:blipFill>
        <p:spPr>
          <a:xfrm>
            <a:off x="395280" y="476280"/>
            <a:ext cx="125748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ist3"/>
          <p:cNvPicPr/>
          <p:nvPr/>
        </p:nvPicPr>
        <p:blipFill>
          <a:blip r:embed="rId2"/>
          <a:stretch/>
        </p:blipFill>
        <p:spPr>
          <a:xfrm>
            <a:off x="2916360" y="1557360"/>
            <a:ext cx="1257120" cy="895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1 апреля 2002 года ООО "Тойота Мотор" начало свое функционирование на территории России. Эта компания является стратегической базой компании Toyota, которая играет ключевую роль в развитии бизнеса по продаже автомобилей и запасных частей Toyota и Lexus в Росс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настоящий момент в России продажами автомобилей Toyota занимаются 29 официальных дилеров компании: 7 из них находятся в Москве, 5 в Санкт-Петербурге, 3 в Екатеринбурге, 1 в Уфе, 1 в Челябинске, 1 в Самаре, 1 в Казани, 1 в Ростове-на-Дону, 1 в Перми, 1 в Нижнем Новгороде, 1 в Тольятти, 1 в Краснодаре, 1 в Красноярске, 1 в Тюмени, 1 в Сургуте, 1 в Новокузнецке и 1 в Воронеже. Также продажами автомобилей марки Toyota занимаются 2 официальных дилера Toyota в Казахстане и 1 в Беларуси. Все они не только продают автомобили и запасные части Toyota, но и обеспечивают сервисное обслуживание в полном соответствии с высокими стандартами качества Toy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автомобильный рынок абсолютно уникален. Он очень динамично развивается, обладает огромным потенциалом. Для России в компании Toyota была разработана собственная маркетинговая стратегия, основанная на глубоком изучении всех особенностей рынк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на российском рынке компания Toyota следует стратегии продвижения 9 основных моделей: пяти легковых автомобилей - Camry, Avensis, Corolla, Corolla Verso и Yaris, трех внедорожников - Land Cruiser 100, Land Cruiser Prado и RAV4, а также Hiace, представленного в классе коммерческих автомобилей.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50824_195226"/>
          <p:cNvPicPr/>
          <p:nvPr/>
        </p:nvPicPr>
        <p:blipFill>
          <a:blip r:embed="rId1"/>
          <a:stretch/>
        </p:blipFill>
        <p:spPr>
          <a:xfrm>
            <a:off x="5148360" y="407664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Филиалы компаний Тойота 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йота Центр Приморски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– первый дилерский центр, в котором реализована новая  концепция оформления шоу-рум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в основе которой лежит принцип "Клиент – на первом месте". Основная задача: не только представить весь модельный ряд автомобиле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продаваемый в России, но и обеспечить каждому гостю максимальный комфорт и удобство, чтобы каждое посещение салона приносило удовольствие. Характерными чертами новой концепции являются гостеприимство, открытость, готовность консультантов предоставить полную информацию по любому интересующему вопросу и помочь в выборе модели, а также оказать весь спектр услуг по обслуживанию и ремонту автомобилей. Корпоративными Клиентами Тойота Центр Приморский уже стали такие компании, как "Балтфорвард", Банк "Возрождение", Корпорация "Возрождение", "ЛенГазСпецСтрой", "Sumitomo Corporation", "Павловский Зав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йота Центр Измайлово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 момента организации является официальным дилером японского автомобильного концерна 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атой начала работы салона можно считать 15 апреля 2005 года (в этот день был продан первый автомобиль)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Являясь официальным дилер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оставляет весь спектр услуг по продаже, обслуживанию и ремонту автомобилей мар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Тойота в зарубеж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59 начинается производство автомоби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Бразилии. В Австралии основана компания Toyota Motor Sales Australia Co., Ltd. В 1961 году впервые увидел свет небольшой экономичный автомобиль Toyota Publica. В 1962 на заводах в Японии выпущен миллионный за свою историю автомобиль Toyota. Активно развивается сеть дилеров Toyota: начинается производство автомобилей Toyota в Южной Африке на Toyota South Africa Motors (Pty.), Ltd. В Таиланде основана компания Toyota Motor Thailand Co., Ltd. (TMT). В 1966 году Toyota выпускает модель Corolla, производство которой с успехом продолжается и настоящее время, а также заключает деловое соглашение с компанией Hino – еще одним японским автопроизводителем. В 1967 к «Тойота Мотор» присоединяется «Дайхацу Мотор» (Daihatsu Motor Compan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4:28:57Z</dcterms:created>
  <dc:creator>Настя</dc:creator>
  <dc:description/>
  <dc:language>en-US</dc:language>
  <cp:lastModifiedBy>ZooM</cp:lastModifiedBy>
  <dcterms:modified xsi:type="dcterms:W3CDTF">2013-12-15T00:19:08Z</dcterms:modified>
  <cp:revision>6</cp:revision>
  <dc:subject/>
  <dc:title>Слайд 1</dc:title>
</cp:coreProperties>
</file>