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78B-A802-4137-AD14-9B81F7458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C2E7-3F05-4DE4-A7FA-675AF0F70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851D-D7F2-4EAF-9839-4CC75CE5E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43B-8004-4DC3-ABB8-AE053946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7A1-F669-49BC-B059-743A8C4B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DCA-A2B5-462E-A065-D326763C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1B3-FCD3-43F6-B479-99BDC456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180-6D8A-4218-B37D-11D10F3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7EE-575E-47DE-B0D1-F97153BC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46A-E301-4098-A056-D447374C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BDD-DDD4-43C2-94FC-F1775A30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B0F-215D-4DF3-BE2F-E7477F2C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B4D-EA3D-4BFF-91CF-75EF63A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685-DE01-4B51-88D9-B67A12A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400-BEC3-4152-9CB8-187CB8E6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32B8-1AF4-4A73-99AA-91A0AB4FA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Рисунок2"/>
          <p:cNvPicPr/>
          <p:nvPr/>
        </p:nvPicPr>
        <p:blipFill>
          <a:blip r:embed="rId1"/>
          <a:stretch/>
        </p:blipFill>
        <p:spPr>
          <a:xfrm>
            <a:off x="0" y="4221000"/>
            <a:ext cx="2065320" cy="263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2" descr="gerbt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655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Прямоугольник 6" descr=""/>
          <p:cNvPicPr/>
          <p:nvPr/>
        </p:nvPicPr>
        <p:blipFill>
          <a:blip r:embed="rId3"/>
          <a:stretch/>
        </p:blipFill>
        <p:spPr>
          <a:xfrm>
            <a:off x="231840" y="1378080"/>
            <a:ext cx="9399600" cy="294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000680" y="62118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Белянчева Ольга Виктор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МОУ "СОШ им. Е.Р.Дашковой г. Кремёнк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чреждение Государственной Думы" и "Положение о выборах. от 6 августа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2000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179280" y="549360"/>
            <a:ext cx="867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й закон не устанавливал ни всеобщего избирательного права, ни прямого голосования, хотя по сравнению с предшествующим периодом полити-ческие права населения были рас-ширены, наметилась тенденция демокра-тизации избир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седание первой Государственной Ду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693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выборах в Учредительное собр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381024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50920" y="4046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амый  низший в мире возрастной ценз - 20 л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Права  предоставлялись российским гражданам без различия пол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Избирательными  правами наделялись военнослужа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Отменялись  цензы оседлости и грамот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Отмена ограничения по национальности и вероисповедан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ллетень               Именное большевиков        удостов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284720" cy="518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81636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1374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Comic Sans MS"/>
              </a:rPr>
              <a:t>ПРАВО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– это условия для учебы, работы, жизни, которые государство дает человеку.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765000"/>
            <a:ext cx="878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ГРАЖДАНИН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 –лицо,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делён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ое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правами иобязанностя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Рисунок2"/>
          <p:cNvPicPr/>
          <p:nvPr/>
        </p:nvPicPr>
        <p:blipFill>
          <a:blip r:embed="rId1"/>
          <a:stretch/>
        </p:blipFill>
        <p:spPr>
          <a:xfrm>
            <a:off x="0" y="620640"/>
            <a:ext cx="3887640" cy="5545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884480" y="620280"/>
            <a:ext cx="42591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Конституция РФ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е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рава и обязанности человека и гражд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Раздел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 глава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7"/>
          <p:cNvGraphicFramePr/>
          <p:nvPr/>
        </p:nvGraphicFramePr>
        <p:xfrm>
          <a:off x="3203640" y="333360"/>
          <a:ext cx="2592360" cy="18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33360"/>
                    <a:ext cx="2592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11"/>
          <p:cNvSpPr/>
          <p:nvPr/>
        </p:nvSpPr>
        <p:spPr>
          <a:xfrm flipH="1">
            <a:off x="1763280" y="1989000"/>
            <a:ext cx="151308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5940360" y="5300640"/>
            <a:ext cx="25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аво на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ередвижение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3132000" y="292428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аво  на учёбу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4500720" y="2205000"/>
            <a:ext cx="1440" cy="71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372360" y="227664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аво на свобод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619280" y="465300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Право на 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ультурными достиж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96000" y="1916280"/>
            <a:ext cx="57636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2410920" y="2060640"/>
            <a:ext cx="1008360" cy="23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50920" y="299736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5148360" y="2133720"/>
            <a:ext cx="1511280" cy="2950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18900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В ТЕЧЕНИЕ ВС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7"/>
          <p:cNvGraphicFramePr/>
          <p:nvPr/>
        </p:nvGraphicFramePr>
        <p:xfrm>
          <a:off x="755640" y="333360"/>
          <a:ext cx="2592360" cy="18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33360"/>
                    <a:ext cx="2592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"/>
          <p:cNvSpPr/>
          <p:nvPr/>
        </p:nvSpPr>
        <p:spPr>
          <a:xfrm>
            <a:off x="250920" y="2997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раво избирать и быть избра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mg10"/>
          <p:cNvPicPr/>
          <p:nvPr/>
        </p:nvPicPr>
        <p:blipFill>
          <a:blip r:embed="rId3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3419640" y="54936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omic Sans MS"/>
              </a:rPr>
              <a:t>С 18 ЛЕТ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651640" y="3947040"/>
            <a:ext cx="302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Свободное волеизъявление граждан на выб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Цель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накомство  с историей выборов,разви-тием избирательной системы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накомство учащихся с основными по-нятиями: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ГРАЖДАНИН, ПРА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ИЗБИРАТЕЛЬ, ПРАВА ИЗБИРАТЕЛЯ, РЕФЕРЕН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3.  Дать учащимся первичное представле -ние о необходимости участия в поли-тической жизн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Воспитание активной гражданской пози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Пропаганда избирательного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33300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ВЫБОРЫ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— демократическая процедура, с помощью которой определяются исполнители на некоторые ключевые позиции в различных общественных структу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ИЗБИРАТЕЛЬ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– тот, кто   участвует в выборах или имеет на это пра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ПРАВА ИЗБИРАТЕЛЯ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- свободное волеизъявление граждан на выб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Источники избирательного права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Конституция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Конституции республик в составе Российской Федер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Федеральный закон от 19 сентября 1997 г. «Об основных гарантиях избирательных прав и права на участие в референдуме граждан Российской Федераци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Законы субъектов Российской Федерации, регламентирующие организацию и порядок выборов в различные органы государственной власти и органы местного самоупра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Указы и распоряжения Президента Российской Федерации, акты глав администраций и других руководителей исполнительных органов субъектов Российской Федерации по вопросам организации и проведения вы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Постановления Государственной Думы и Центральной избирательной коми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dec98"/>
                </a:solidFill>
                <a:latin typeface="Book Antiqua"/>
              </a:rPr>
              <a:t>Принципы избирательного пр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7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всеобщее, равное прямое избирательное  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сность, открыт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вольность реализации избирательного права на основе личного и тайного голос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764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ществует м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КОГДА ТЫ НЕ ГОЛОСУЕШЬ, НА САМОМ ДЕЛЕ ТЫ ВСЁ-ТАКИ ГОЛОСУ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гласны ли вы с этим мнением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Calibri"/>
              </a:rPr>
              <a:t>Итоги тестирования «Я – избирате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3703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95280" y="5373720"/>
            <a:ext cx="136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203"/>
                </a:solidFill>
                <a:latin typeface="Arial"/>
              </a:rPr>
              <a:t>Всё в порядке: страна будет мощной держав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203"/>
                </a:solidFill>
                <a:latin typeface="Arial"/>
              </a:rPr>
              <a:t>а вместе с ней будете благоденствовать и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ОЛОСОВАТЬ необходимо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так как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1. Важнейшее право и обязанность человека в демократическом общ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2. Возможность формировать государственную полит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3. Возможность избежать неблагоприятных последствий для государства в це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0" descr=""/>
          <p:cNvPicPr/>
          <p:nvPr/>
        </p:nvPicPr>
        <p:blipFill>
          <a:blip r:embed="rId1"/>
          <a:srcRect l="3224" t="1220" r="5147" b="16695"/>
          <a:stretch/>
        </p:blipFill>
        <p:spPr>
          <a:xfrm>
            <a:off x="179280" y="549360"/>
            <a:ext cx="3708360" cy="52578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rcRect l="25417" t="10514" r="22504" b="0"/>
          <a:stretch/>
        </p:blipFill>
        <p:spPr>
          <a:xfrm>
            <a:off x="6732720" y="4581360"/>
            <a:ext cx="2160360" cy="20574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26" name="WordArt 10"/>
          <p:cNvSpPr txBox="1"/>
          <p:nvPr/>
        </p:nvSpPr>
        <p:spPr>
          <a:xfrm rot="820800">
            <a:off x="3609720" y="-442800"/>
            <a:ext cx="5351400" cy="62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граждан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осование -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возможнос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уществи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ё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ституционное 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ьные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ы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сти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8680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ТАМ, ГДЕ ЗАКАНЧИВАЮТСЯ ЕЖЕГОДНЫЕ ВЫБОРЫ, НАЧИНАЕТСЯ РАБСТВО.</a:t>
            </a:r>
            <a:r>
              <a:rPr b="0" i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                                                  </a:t>
            </a:r>
            <a:r>
              <a:rPr b="0" i="1" lang="ru-RU" sz="4000" spc="-1" strike="noStrike">
                <a:solidFill>
                  <a:srgbClr val="cc3300"/>
                </a:solidFill>
                <a:latin typeface="Comic Sans MS"/>
              </a:rPr>
              <a:t>ДЖОН АДА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3520" y="45720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1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дя на выборы, ум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дум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2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Будьте неподкупны! Помните! Бесплатный сыр бывает только в мышелов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3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щите достойных: подумайте, что реально может сделать этот человек для вас лично и для други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4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мейте своё мнение, а значит свой выб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5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Живите своим ум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496crty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9432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762120" y="228600"/>
            <a:ext cx="6705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амятка избирателя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4"/>
          <p:cNvPicPr/>
          <p:nvPr/>
        </p:nvPicPr>
        <p:blipFill>
          <a:blip r:embed="rId1"/>
          <a:stretch/>
        </p:blipFill>
        <p:spPr>
          <a:xfrm>
            <a:off x="4643280" y="333360"/>
            <a:ext cx="4104000" cy="62024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468360" y="47628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ТЫ С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539640" y="1628640"/>
            <a:ext cx="288144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здаеш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о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удьб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symbols_flag"/>
          <p:cNvPicPr/>
          <p:nvPr/>
        </p:nvPicPr>
        <p:blipFill>
          <a:blip r:embed="rId2"/>
          <a:stretch/>
        </p:blipFill>
        <p:spPr>
          <a:xfrm>
            <a:off x="826920" y="4508640"/>
            <a:ext cx="259272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ОСНОВНЫЕ ПОНЯ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02920" y="1483920"/>
            <a:ext cx="6986520" cy="453564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ГРАЖДА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ИЗБИР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ПРАВА ИЗБИР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6"/>
          <p:cNvSpPr txBox="1"/>
          <p:nvPr/>
        </p:nvSpPr>
        <p:spPr>
          <a:xfrm>
            <a:off x="468360" y="2637000"/>
            <a:ext cx="6551640" cy="403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работу!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rcRect l="0" t="0" r="0" b="14294"/>
          <a:stretch/>
        </p:blipFill>
        <p:spPr>
          <a:xfrm>
            <a:off x="250920" y="333360"/>
            <a:ext cx="5184720" cy="2222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012000" y="260280"/>
            <a:ext cx="29876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право 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право бы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жизнь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За себя мы все в отве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Голос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Не комплекс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47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ТАМ, ГДЕ ЗАКАНЧИВАЮТСЯ ЕЖЕГОДНЫЕ ВЫБОРЫ, НАЧИНАЕТСЯ РАБСТВО.</a:t>
            </a:r>
            <a:r>
              <a:rPr b="0" i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                                                  </a:t>
            </a:r>
            <a:r>
              <a:rPr b="0" i="1" lang="ru-RU" sz="4000" spc="-1" strike="noStrike">
                <a:solidFill>
                  <a:srgbClr val="cc3300"/>
                </a:solidFill>
                <a:latin typeface="Comic Sans MS"/>
              </a:rPr>
              <a:t>ДЖОН АДА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НЕМНОГО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1331640" y="1052640"/>
            <a:ext cx="1585800" cy="50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2410920" y="981000"/>
            <a:ext cx="1225800" cy="28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5867280" y="981000"/>
            <a:ext cx="1441440" cy="79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716360" y="981000"/>
            <a:ext cx="1295640" cy="28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258920" y="3858480"/>
            <a:ext cx="230508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орянские собр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1 апреля 1785 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250920" y="1450440"/>
            <a:ext cx="245736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ч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в Новгород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113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4859280" y="3870720"/>
            <a:ext cx="2305080" cy="214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ение о выборах в Государственную Ду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 августа 1905 г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6300720" y="1848960"/>
            <a:ext cx="2556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редительное собр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91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5800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ЕЧЕ – НАРОДНОЕ СОБРАНИ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ирательные права были предоставлены не только знати, но и простому на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537336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"Жалованная грамота дворянству", подписанная Екатериной II в 1785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960800" y="26028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600720" cy="477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0"/>
          <p:cNvSpPr/>
          <p:nvPr/>
        </p:nvSpPr>
        <p:spPr>
          <a:xfrm>
            <a:off x="250920" y="5300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итульный лист жалованной грамоты Екатерины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осование в Дворянском собрании времен Екатерины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539640" y="620640"/>
            <a:ext cx="792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збирательное право у мещан (горожан) мужского пола. Лишались избирательных прав граждане, осужденные судом или имеющие «явный пор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7:27:57Z</dcterms:created>
  <dc:creator>Оля</dc:creator>
  <dc:description/>
  <dc:language>en-US</dc:language>
  <cp:lastModifiedBy>Олег</cp:lastModifiedBy>
  <dcterms:modified xsi:type="dcterms:W3CDTF">2011-03-19T19:18:47Z</dcterms:modified>
  <cp:revision>62</cp:revision>
  <dc:subject/>
  <dc:title>ПРАВО ВЫБОРА</dc:title>
</cp:coreProperties>
</file>