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F72-83BD-4D23-A8BB-08EBD99E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814-AEFC-4830-944C-BC2D9858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460-57EB-4F9F-A89B-D1A91E7C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5F6-8C53-4A47-A801-9489C7ED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2BD-C896-4B7D-B174-01BCDC9F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84F5-885C-4D28-8E38-A5F0454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79B3-454A-46C1-A7D5-E90A255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F29C-4679-4B7F-AAB0-29E0DC0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4F6-9123-4D79-A5E3-10A1BDD5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E17C-0DEC-4C0B-9544-2298F07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56F-B3F8-4BA2-982C-5C99AD1D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EB4-088B-40E8-A6C5-CC96D80D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5E2-D0C6-4614-93AD-7067417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68FE-4008-4CA4-9EC6-5E0C20C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0F7-C3B7-434E-931F-095E113A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A5C4-FF87-4107-8673-BC5D751C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E872-1549-4FCC-A570-1D6A9AD7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715-AE7D-49C7-A941-24129FF6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B74-82C6-4FBA-A139-4DA6A7F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C9B-7DB7-4692-9670-3F1420B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F70-123E-4E23-B034-515F5376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5BE-4116-42D3-94C3-D500D1F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526-B389-4C8A-961A-1DB8FC2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058-CD64-4C3B-98B4-C2EBC2D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2AE4-E8E3-4C9D-AEEF-03A6083A8F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F33-5963-4406-A627-748B7D1F30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Теорема Пифагора</a:t>
            </a:r>
            <a:br>
              <a:rPr sz="60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7" descr="MPj04394810000[1]"/>
          <p:cNvPicPr/>
          <p:nvPr/>
        </p:nvPicPr>
        <p:blipFill>
          <a:blip r:embed="rId1"/>
          <a:stretch/>
        </p:blipFill>
        <p:spPr>
          <a:xfrm>
            <a:off x="3203640" y="2892600"/>
            <a:ext cx="5940360" cy="39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361960"/>
            <a:ext cx="1590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99840" y="2361960"/>
            <a:ext cx="6031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й трапеции большая боковая сторона и меньшая диагональ равны по 13 см, а меньшее основание 12 см. Вычислите: а) высоту трапеции; б) большую диагонал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9320" y="3143160"/>
            <a:ext cx="1698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0280" y="2361960"/>
            <a:ext cx="5429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орона равностороннего треугольника равна 10 см. Найдите: а) высоту треугольника; б) как изменится площадь этого треугольника, если его высоту увеличить в 2 раз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Равнобедренный треугольник 4"/>
          <p:cNvSpPr/>
          <p:nvPr/>
        </p:nvSpPr>
        <p:spPr>
          <a:xfrm>
            <a:off x="857160" y="3214800"/>
            <a:ext cx="2643120" cy="2143080"/>
          </a:xfrm>
          <a:prstGeom prst="triangle">
            <a:avLst>
              <a:gd name="adj" fmla="val 46597"/>
            </a:avLst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Содержимое 5"/>
              <p:cNvSpPr txBox="1"/>
              <p:nvPr/>
            </p:nvSpPr>
            <p:spPr>
              <a:xfrm>
                <a:off x="857160" y="3714840"/>
                <a:ext cx="49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857680" y="371484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1928880" y="550080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ировки и форму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и запишите с помощью букв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му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теорему, обратную теореме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 решении каких задач применяются эти теорем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7680" y="2362320"/>
            <a:ext cx="6000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меняется при нахождении неизвестной стороны прямоугольного треугольника по двум известны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Прямоугольный треугольник 10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642960" y="4071960"/>
                <a:ext cx="571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Содержимое 11"/>
              <p:cNvSpPr txBox="1"/>
              <p:nvPr/>
            </p:nvSpPr>
            <p:spPr>
              <a:xfrm>
                <a:off x="4214880" y="4071960"/>
                <a:ext cx="3786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, обратная теореме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7720" y="2428920"/>
            <a:ext cx="5357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сли в треугольнике квадрат одной стороны равен сумме квадратов двух других сторон, то такой треугольник является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орема помогает определить является ли данный треугольник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Содержимое 4"/>
          <p:cNvSpPr/>
          <p:nvPr/>
        </p:nvSpPr>
        <p:spPr>
          <a:xfrm>
            <a:off x="2857680" y="2357280"/>
            <a:ext cx="60004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Прямоугольный треугольник 5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Содержимое 11"/>
              <p:cNvSpPr txBox="1"/>
              <p:nvPr/>
            </p:nvSpPr>
            <p:spPr>
              <a:xfrm>
                <a:off x="4214880" y="4286160"/>
                <a:ext cx="3214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Содержимое 9"/>
              <p:cNvSpPr txBox="1"/>
              <p:nvPr/>
            </p:nvSpPr>
            <p:spPr>
              <a:xfrm>
                <a:off x="714240" y="4000680"/>
                <a:ext cx="571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Содержимое 4"/>
          <p:cNvSpPr/>
          <p:nvPr/>
        </p:nvSpPr>
        <p:spPr>
          <a:xfrm>
            <a:off x="3000240" y="2428920"/>
            <a:ext cx="60008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2362320"/>
            <a:ext cx="48229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атеты равны 6 см и 8 см. Чему равна гипотенуз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8" descr="j0299125"/>
          <p:cNvPicPr/>
          <p:nvPr/>
        </p:nvPicPr>
        <p:blipFill>
          <a:blip r:embed="rId1"/>
          <a:stretch/>
        </p:blipFill>
        <p:spPr>
          <a:xfrm>
            <a:off x="1428840" y="2843280"/>
            <a:ext cx="18572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71600" y="2361960"/>
            <a:ext cx="44593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прямоугольном треугольнике  гипотенуза равна 13 см, а один из катетов – 12 см. Найдите второй кат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ый треугольник 4"/>
          <p:cNvSpPr/>
          <p:nvPr/>
        </p:nvSpPr>
        <p:spPr>
          <a:xfrm>
            <a:off x="1428840" y="2571840"/>
            <a:ext cx="2071440" cy="3786120"/>
          </a:xfrm>
          <a:prstGeom prst="rtTriangle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Содержимое 5"/>
              <p:cNvSpPr txBox="1"/>
              <p:nvPr/>
            </p:nvSpPr>
            <p:spPr>
              <a:xfrm>
                <a:off x="2786040" y="4286160"/>
                <a:ext cx="642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857160" y="4286160"/>
                <a:ext cx="46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56800" y="2362320"/>
            <a:ext cx="507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ределите, является ли прямоугольным треугольник со сторонами  8 м, 5 м и 9 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72120" y="2362320"/>
            <a:ext cx="518472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15080" y="2828880"/>
            <a:ext cx="2000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201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7680" y="2361960"/>
            <a:ext cx="567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треугольнике две стороны равны соответственно 20 см и 15 см. Какой должна быть большая сторона, чтобы треугольник был прямоугольным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785880" y="2714760"/>
            <a:ext cx="2000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643320" y="24285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42800" y="2361960"/>
            <a:ext cx="5388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иагонали ромба равны 16 см и 12 см. Вычислите: а) сторону ромба; б) расстояние от точки пересечения диагоналей до стороны ромб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Ромб 4"/>
          <p:cNvSpPr/>
          <p:nvPr/>
        </p:nvSpPr>
        <p:spPr>
          <a:xfrm>
            <a:off x="1428840" y="2857680"/>
            <a:ext cx="1357200" cy="3286080"/>
          </a:xfrm>
          <a:prstGeom prst="diamond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39:51Z</dcterms:created>
  <dc:creator>Наташа</dc:creator>
  <dc:description/>
  <dc:language>en-US</dc:language>
  <cp:lastModifiedBy>Коршакова Татьяна Михайловна</cp:lastModifiedBy>
  <dcterms:modified xsi:type="dcterms:W3CDTF">2011-06-14T09:46:35Z</dcterms:modified>
  <cp:revision>42</cp:revision>
  <dc:subject/>
  <dc:title>Теорема Пифагора</dc:title>
</cp:coreProperties>
</file>