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D997-5512-4BFF-8549-A5766FB0A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7D34-1F38-4C3A-8FB4-B5570D780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FE82-6F07-4256-A407-580C873E0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2992-D1C1-4CDC-B880-9F08E364A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BC0BA-44B7-4D8E-A74E-11A1AAF7C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21704-B238-4FA7-AC80-3DC2DEF77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ED212-3ADB-498C-B9C1-B28E48C8F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EA861-70B7-4775-B8AB-25FD4F041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E6F85-FC85-43F1-BAE8-502809265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E7E9C-1636-4C95-87D7-1D1431290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DB86A-6493-4294-A9FB-1FD30C89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BC70-466A-40F7-8F12-52EB8BF42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12C59-F126-4847-96DE-467CFA7B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CDE6F-699C-4E56-911D-D9101C67D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B4E90-32C6-4A3E-ABB5-FE0D2FA37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2C081-23B9-4AB2-906B-2E85FD272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B6AC1-EB83-42F3-B545-1A90C2F0A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E3A0-3666-42A1-98E6-44523AD43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3486-F081-4E7A-96D6-B929EA94C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D03E-E1A0-4618-B3D0-D5F064B14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7998-1F08-4D42-8867-D921E666E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5B3F-F22D-48E4-8C44-D74407821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D4BD-4B02-44C7-A6ED-2E19A6FB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242D-D6F5-42C7-8344-8C64C12A4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E1AE2-FC09-4CB9-AD9A-FCC8EC6C32FD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CF0D6-9AA5-43E0-B67C-081212733003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Arial"/>
              </a:rPr>
              <a:t>Теорема Пифагора</a:t>
            </a:r>
            <a:br>
              <a:rPr sz="6000"/>
            </a:b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задач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задач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7" name="Picture 7" descr="MPj04394810000[1]"/>
          <p:cNvPicPr/>
          <p:nvPr/>
        </p:nvPicPr>
        <p:blipFill>
          <a:blip r:embed="rId1"/>
          <a:stretch/>
        </p:blipFill>
        <p:spPr>
          <a:xfrm>
            <a:off x="3203640" y="2892600"/>
            <a:ext cx="5940360" cy="396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адача №6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7720" y="2361960"/>
            <a:ext cx="1590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499840" y="2361960"/>
            <a:ext cx="60310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В прямоугольной трапеции большая боковая сторона и меньшая диагональ равны по 13 см, а меньшее основание 12 см. Вычислите: а) высоту трапеции; б) большую диагональ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9" name="Picture 2" descr="C:\Program Files\Microsoft Office\MEDIA\CAGCAT10\j0299125.wmf"/>
          <p:cNvPicPr/>
          <p:nvPr/>
        </p:nvPicPr>
        <p:blipFill>
          <a:blip r:embed="rId1"/>
          <a:stretch/>
        </p:blipFill>
        <p:spPr>
          <a:xfrm>
            <a:off x="679320" y="3143160"/>
            <a:ext cx="16988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адача №7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500280" y="2361960"/>
            <a:ext cx="54295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Сторона равностороннего треугольника равна 10 см. Найдите: а) высоту треугольника; б) как изменится площадь этого треугольника, если его высоту увеличить в 2 раза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Равнобедренный треугольник 4"/>
          <p:cNvSpPr/>
          <p:nvPr/>
        </p:nvSpPr>
        <p:spPr>
          <a:xfrm>
            <a:off x="857160" y="3214800"/>
            <a:ext cx="2643120" cy="2143080"/>
          </a:xfrm>
          <a:prstGeom prst="triangle">
            <a:avLst>
              <a:gd name="adj" fmla="val 46597"/>
            </a:avLst>
          </a:prstGeom>
          <a:solidFill>
            <a:srgbClr val="99cc99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Содержимое 5"/>
              <p:cNvSpPr txBox="1"/>
              <p:nvPr/>
            </p:nvSpPr>
            <p:spPr>
              <a:xfrm>
                <a:off x="857160" y="3714840"/>
                <a:ext cx="49212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7"/>
              <p:cNvSpPr txBox="1"/>
              <p:nvPr/>
            </p:nvSpPr>
            <p:spPr>
              <a:xfrm>
                <a:off x="2857680" y="3714840"/>
                <a:ext cx="5000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8"/>
              <p:cNvSpPr txBox="1"/>
              <p:nvPr/>
            </p:nvSpPr>
            <p:spPr>
              <a:xfrm>
                <a:off x="1928880" y="5500800"/>
                <a:ext cx="5000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Формулировки и формул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Сформулируйте и запишите с помощью букв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a, b 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c 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теорему Пифагор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Сформулируйте теорему, обратную теореме Пифагор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При решении каких задач применяются эти теоремы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Теорема Пифагор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857680" y="2362320"/>
            <a:ext cx="600048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В прямоугольном треугольнике квадрат гипотенузы равен сумме квадратов катето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Применяется при нахождении неизвестной стороны прямоугольного треугольника по двум известным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Прямоугольный треугольник 10"/>
          <p:cNvSpPr/>
          <p:nvPr/>
        </p:nvSpPr>
        <p:spPr>
          <a:xfrm>
            <a:off x="1214280" y="2643120"/>
            <a:ext cx="1643400" cy="3071880"/>
          </a:xfrm>
          <a:prstGeom prst="rtTriangle">
            <a:avLst/>
          </a:prstGeom>
          <a:solidFill>
            <a:srgbClr val="c2e0c2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6"/>
              <p:cNvSpPr txBox="1"/>
              <p:nvPr/>
            </p:nvSpPr>
            <p:spPr>
              <a:xfrm>
                <a:off x="1643040" y="5857920"/>
                <a:ext cx="5716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Object 7"/>
              <p:cNvSpPr txBox="1"/>
              <p:nvPr/>
            </p:nvSpPr>
            <p:spPr>
              <a:xfrm>
                <a:off x="642960" y="4071960"/>
                <a:ext cx="57132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8"/>
              <p:cNvSpPr txBox="1"/>
              <p:nvPr/>
            </p:nvSpPr>
            <p:spPr>
              <a:xfrm>
                <a:off x="2214720" y="3786120"/>
                <a:ext cx="50004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Содержимое 11"/>
              <p:cNvSpPr txBox="1"/>
              <p:nvPr/>
            </p:nvSpPr>
            <p:spPr>
              <a:xfrm>
                <a:off x="4214880" y="4071960"/>
                <a:ext cx="378612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Теорема, обратная теореме Пифагор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357720" y="2428920"/>
            <a:ext cx="535752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Если в треугольнике квадрат одной стороны равен сумме квадратов двух других сторон, то такой треугольник является прямоугольным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Теорема помогает определить является ли данный треугольник прямоугольным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Содержимое 4"/>
          <p:cNvSpPr/>
          <p:nvPr/>
        </p:nvSpPr>
        <p:spPr>
          <a:xfrm>
            <a:off x="2857680" y="2357280"/>
            <a:ext cx="600048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Прямоугольный треугольник 5"/>
          <p:cNvSpPr/>
          <p:nvPr/>
        </p:nvSpPr>
        <p:spPr>
          <a:xfrm>
            <a:off x="1214280" y="2643120"/>
            <a:ext cx="1643400" cy="3071880"/>
          </a:xfrm>
          <a:prstGeom prst="rtTriangle">
            <a:avLst/>
          </a:prstGeom>
          <a:solidFill>
            <a:srgbClr val="c2e0c2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Содержимое 11"/>
              <p:cNvSpPr txBox="1"/>
              <p:nvPr/>
            </p:nvSpPr>
            <p:spPr>
              <a:xfrm>
                <a:off x="4214880" y="4286160"/>
                <a:ext cx="321480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3"/>
              <p:cNvSpPr txBox="1"/>
              <p:nvPr/>
            </p:nvSpPr>
            <p:spPr>
              <a:xfrm>
                <a:off x="1643040" y="5857920"/>
                <a:ext cx="5716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4"/>
              <p:cNvSpPr txBox="1"/>
              <p:nvPr/>
            </p:nvSpPr>
            <p:spPr>
              <a:xfrm>
                <a:off x="2214720" y="3786120"/>
                <a:ext cx="50004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Содержимое 9"/>
              <p:cNvSpPr txBox="1"/>
              <p:nvPr/>
            </p:nvSpPr>
            <p:spPr>
              <a:xfrm>
                <a:off x="714240" y="4000680"/>
                <a:ext cx="57168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" name="Содержимое 4"/>
          <p:cNvSpPr/>
          <p:nvPr/>
        </p:nvSpPr>
        <p:spPr>
          <a:xfrm>
            <a:off x="3000240" y="2428920"/>
            <a:ext cx="600084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адача №1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708000" y="2362320"/>
            <a:ext cx="4822920" cy="38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В прямоугольном треугольнике катеты равны 6 см и 8 см. Чему равна гипотенуза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8" name="Picture 8" descr="j0299125"/>
          <p:cNvPicPr/>
          <p:nvPr/>
        </p:nvPicPr>
        <p:blipFill>
          <a:blip r:embed="rId1"/>
          <a:stretch/>
        </p:blipFill>
        <p:spPr>
          <a:xfrm>
            <a:off x="1428840" y="2843280"/>
            <a:ext cx="1857240" cy="30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адача №2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071600" y="2361960"/>
            <a:ext cx="445932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В прямоугольном треугольнике  гипотенуза равна 13 см, а один из катетов – 12 см. Найдите второй катет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Прямоугольный треугольник 4"/>
          <p:cNvSpPr/>
          <p:nvPr/>
        </p:nvSpPr>
        <p:spPr>
          <a:xfrm>
            <a:off x="1428840" y="2571840"/>
            <a:ext cx="2071440" cy="3786120"/>
          </a:xfrm>
          <a:prstGeom prst="rtTriangle">
            <a:avLst/>
          </a:prstGeom>
          <a:solidFill>
            <a:srgbClr val="99cc99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Содержимое 5"/>
              <p:cNvSpPr txBox="1"/>
              <p:nvPr/>
            </p:nvSpPr>
            <p:spPr>
              <a:xfrm>
                <a:off x="2786040" y="4286160"/>
                <a:ext cx="6429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7"/>
              <p:cNvSpPr txBox="1"/>
              <p:nvPr/>
            </p:nvSpPr>
            <p:spPr>
              <a:xfrm>
                <a:off x="857160" y="4286160"/>
                <a:ext cx="4618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адача №3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56800" y="2362320"/>
            <a:ext cx="5072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Определите, является ли прямоугольным треугольник со сторонами  8 м, 5 м и 9 м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072120" y="2362320"/>
            <a:ext cx="5184720" cy="50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7" name="Picture 2" descr="C:\Program Files\Microsoft Office\MEDIA\CAGCAT10\j0299125.wmf"/>
          <p:cNvPicPr/>
          <p:nvPr/>
        </p:nvPicPr>
        <p:blipFill>
          <a:blip r:embed="rId1"/>
          <a:stretch/>
        </p:blipFill>
        <p:spPr>
          <a:xfrm>
            <a:off x="6715080" y="2828880"/>
            <a:ext cx="2000160" cy="32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адача №4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20196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857680" y="2361960"/>
            <a:ext cx="56736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В треугольнике две стороны равны соответственно 20 см и 15 см. Какой должна быть большая сторона, чтобы треугольник был прямоугольным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1" name="Picture 2" descr="C:\Program Files\Microsoft Office\MEDIA\CAGCAT10\j0299125.wmf"/>
          <p:cNvPicPr/>
          <p:nvPr/>
        </p:nvPicPr>
        <p:blipFill>
          <a:blip r:embed="rId1"/>
          <a:stretch/>
        </p:blipFill>
        <p:spPr>
          <a:xfrm>
            <a:off x="785880" y="2714760"/>
            <a:ext cx="2000160" cy="32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адача №5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-643320" y="24285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142800" y="2361960"/>
            <a:ext cx="53881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Диагонали ромба равны 16 см и 12 см. Вычислите: а) сторону ромба; б) расстояние от точки пересечения диагоналей до стороны ромб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Ромб 4"/>
          <p:cNvSpPr/>
          <p:nvPr/>
        </p:nvSpPr>
        <p:spPr>
          <a:xfrm>
            <a:off x="1428840" y="2857680"/>
            <a:ext cx="1357200" cy="3286080"/>
          </a:xfrm>
          <a:prstGeom prst="diamond">
            <a:avLst/>
          </a:prstGeom>
          <a:solidFill>
            <a:srgbClr val="99cc99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7:39:51Z</dcterms:created>
  <dc:creator>Наташа</dc:creator>
  <dc:description/>
  <dc:language>en-US</dc:language>
  <cp:lastModifiedBy>Коршакова Татьяна Михайловна</cp:lastModifiedBy>
  <dcterms:modified xsi:type="dcterms:W3CDTF">2011-06-14T09:46:35Z</dcterms:modified>
  <cp:revision>42</cp:revision>
  <dc:subject/>
  <dc:title>Теорема Пифагора</dc:title>
</cp:coreProperties>
</file>