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29D-3F1A-4263-8299-94C9E5EF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5E5-DDE8-4C64-87A7-AAB146D8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3A2-3AF4-4302-A763-ECA42CCA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E2E-2D1F-45FD-92D1-8E8D85EA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71E0-80CA-48E6-AAE9-585EF014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778F-6D4E-46D2-825C-A954B08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4958-EA73-4507-9195-81B1BEE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40A-CA96-476E-8BE9-404E1660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8584-9AB3-4092-9E62-167C61C0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987-F073-4D4B-BCE0-33DF414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EFD8-B979-497B-86A7-62249CE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AB5-3573-4E26-A7D5-A5B3523C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542A-0AE6-4569-A09E-A468BB9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62A3-CDD6-4E74-8718-128FEB84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AD49-D531-4F26-897A-285A71DD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EF58-754B-4694-9669-63C0A9A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6974-B894-4A98-9535-16445CDC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487-0E5A-4812-B5E9-4D82DA33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428-8B49-4F67-A556-2E30D2A8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634-880B-4B28-A694-AF28C6A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EF1-619A-4ABB-9C78-EFD79CDD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D68-9B89-4FC9-ABE8-297D5F4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B63-0505-4DB4-8FE4-D81C898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AD2-F4EA-4768-A9DF-4255A44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A10-7CDB-4036-8092-BF72AF87973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DE4E-CCBB-4766-87E9-4D41FF01C6D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Теорема Пифагора</a:t>
            </a:r>
            <a:br>
              <a:rPr sz="60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7" descr="MPj04394810000[1]"/>
          <p:cNvPicPr/>
          <p:nvPr/>
        </p:nvPicPr>
        <p:blipFill>
          <a:blip r:embed="rId1"/>
          <a:stretch/>
        </p:blipFill>
        <p:spPr>
          <a:xfrm>
            <a:off x="3203640" y="2892600"/>
            <a:ext cx="5940360" cy="39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2361960"/>
            <a:ext cx="1590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99840" y="2361960"/>
            <a:ext cx="6031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прямоугольной трапеции большая боковая сторона и меньшая диагональ равны по 13 см, а меньшее основание 12 см. Вычислите: а) высоту трапеции; б) большую диагонал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679320" y="3143160"/>
            <a:ext cx="1698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0280" y="2361960"/>
            <a:ext cx="5429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орона равностороннего треугольника равна 10 см. Найдите: а) высоту треугольника; б) как изменится площадь этого треугольника, если его высоту увеличить в 2 раз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Равнобедренный треугольник 4"/>
          <p:cNvSpPr/>
          <p:nvPr/>
        </p:nvSpPr>
        <p:spPr>
          <a:xfrm>
            <a:off x="857160" y="3214800"/>
            <a:ext cx="2643120" cy="2143080"/>
          </a:xfrm>
          <a:prstGeom prst="triangle">
            <a:avLst>
              <a:gd name="adj" fmla="val 46597"/>
            </a:avLst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Содержимое 5"/>
              <p:cNvSpPr txBox="1"/>
              <p:nvPr/>
            </p:nvSpPr>
            <p:spPr>
              <a:xfrm>
                <a:off x="857160" y="3714840"/>
                <a:ext cx="49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2857680" y="371484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1928880" y="550080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ировки и форму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формулируйте и запишите с помощью букв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му Пифаго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формулируйте теорему, обратную теореме Пифаго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 решении каких задач применяются эти теорем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ма Пифаг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7680" y="2362320"/>
            <a:ext cx="6000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меняется при нахождении неизвестной стороны прямоугольного треугольника по двум известны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Прямоугольный треугольник 10"/>
          <p:cNvSpPr/>
          <p:nvPr/>
        </p:nvSpPr>
        <p:spPr>
          <a:xfrm>
            <a:off x="1214280" y="2643120"/>
            <a:ext cx="1643400" cy="3071880"/>
          </a:xfrm>
          <a:prstGeom prst="rtTriangle">
            <a:avLst/>
          </a:prstGeom>
          <a:solidFill>
            <a:srgbClr val="c2e0c2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643040" y="5857920"/>
                <a:ext cx="571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642960" y="4071960"/>
                <a:ext cx="571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2214720" y="3786120"/>
                <a:ext cx="500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Содержимое 11"/>
              <p:cNvSpPr txBox="1"/>
              <p:nvPr/>
            </p:nvSpPr>
            <p:spPr>
              <a:xfrm>
                <a:off x="4214880" y="4071960"/>
                <a:ext cx="3786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ма, обратная теореме Пифаг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357720" y="2428920"/>
            <a:ext cx="5357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сли в треугольнике квадрат одной стороны равен сумме квадратов двух других сторон, то такой треугольник является прямоуго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орема помогает определить является ли данный треугольник прямоуго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Содержимое 4"/>
          <p:cNvSpPr/>
          <p:nvPr/>
        </p:nvSpPr>
        <p:spPr>
          <a:xfrm>
            <a:off x="2857680" y="2357280"/>
            <a:ext cx="60004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Прямоугольный треугольник 5"/>
          <p:cNvSpPr/>
          <p:nvPr/>
        </p:nvSpPr>
        <p:spPr>
          <a:xfrm>
            <a:off x="1214280" y="2643120"/>
            <a:ext cx="1643400" cy="3071880"/>
          </a:xfrm>
          <a:prstGeom prst="rtTriangle">
            <a:avLst/>
          </a:prstGeom>
          <a:solidFill>
            <a:srgbClr val="c2e0c2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Содержимое 11"/>
              <p:cNvSpPr txBox="1"/>
              <p:nvPr/>
            </p:nvSpPr>
            <p:spPr>
              <a:xfrm>
                <a:off x="4214880" y="4286160"/>
                <a:ext cx="3214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1643040" y="5857920"/>
                <a:ext cx="571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214720" y="3786120"/>
                <a:ext cx="500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Содержимое 9"/>
              <p:cNvSpPr txBox="1"/>
              <p:nvPr/>
            </p:nvSpPr>
            <p:spPr>
              <a:xfrm>
                <a:off x="714240" y="4000680"/>
                <a:ext cx="5716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Содержимое 4"/>
          <p:cNvSpPr/>
          <p:nvPr/>
        </p:nvSpPr>
        <p:spPr>
          <a:xfrm>
            <a:off x="3000240" y="2428920"/>
            <a:ext cx="60008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2362320"/>
            <a:ext cx="48229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 прямоугольном треугольнике катеты равны 6 см и 8 см. Чему равна гипотенуз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8" descr="j0299125"/>
          <p:cNvPicPr/>
          <p:nvPr/>
        </p:nvPicPr>
        <p:blipFill>
          <a:blip r:embed="rId1"/>
          <a:stretch/>
        </p:blipFill>
        <p:spPr>
          <a:xfrm>
            <a:off x="1428840" y="2843280"/>
            <a:ext cx="18572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71600" y="2361960"/>
            <a:ext cx="44593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прямоугольном треугольнике  гипотенуза равна 13 см, а один из катетов – 12 см. Найдите второй кат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Прямоугольный треугольник 4"/>
          <p:cNvSpPr/>
          <p:nvPr/>
        </p:nvSpPr>
        <p:spPr>
          <a:xfrm>
            <a:off x="1428840" y="2571840"/>
            <a:ext cx="2071440" cy="3786120"/>
          </a:xfrm>
          <a:prstGeom prst="rtTriangle">
            <a:avLst/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Содержимое 5"/>
              <p:cNvSpPr txBox="1"/>
              <p:nvPr/>
            </p:nvSpPr>
            <p:spPr>
              <a:xfrm>
                <a:off x="2786040" y="4286160"/>
                <a:ext cx="642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857160" y="4286160"/>
                <a:ext cx="46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56800" y="2362320"/>
            <a:ext cx="507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пределите, является ли прямоугольным треугольник со сторонами  8 м, 5 м и 9 м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72120" y="2362320"/>
            <a:ext cx="518472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6715080" y="2828880"/>
            <a:ext cx="20001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201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57680" y="2361960"/>
            <a:ext cx="567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треугольнике две стороны равны соответственно 20 см и 15 см. Какой должна быть большая сторона, чтобы треугольник был прямоугольным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785880" y="2714760"/>
            <a:ext cx="2000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643320" y="24285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42800" y="2361960"/>
            <a:ext cx="5388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иагонали ромба равны 16 см и 12 см. Вычислите: а) сторону ромба; б) расстояние от точки пересечения диагоналей до стороны ромб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Ромб 4"/>
          <p:cNvSpPr/>
          <p:nvPr/>
        </p:nvSpPr>
        <p:spPr>
          <a:xfrm>
            <a:off x="1428840" y="2857680"/>
            <a:ext cx="1357200" cy="3286080"/>
          </a:xfrm>
          <a:prstGeom prst="diamond">
            <a:avLst/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39:51Z</dcterms:created>
  <dc:creator>Наташа</dc:creator>
  <dc:description/>
  <dc:language>en-US</dc:language>
  <cp:lastModifiedBy>Коршакова Татьяна Михайловна</cp:lastModifiedBy>
  <dcterms:modified xsi:type="dcterms:W3CDTF">2011-06-14T09:46:35Z</dcterms:modified>
  <cp:revision>42</cp:revision>
  <dc:subject/>
  <dc:title>Теорема Пифагора</dc:title>
</cp:coreProperties>
</file>