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E9FE-DDFD-42AE-BF5F-39DBF79D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0E1-B65C-4756-83CA-F6D69F51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40D-5C56-4EFD-BDB1-8CC89D9C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B509-10D8-4F83-85E6-6BA40D79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92E8-5163-4960-8974-F9C76361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EFD4-409C-4F31-91F8-7B14570C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BAF-E565-423F-A98B-D9AB892C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F71-E43F-4F5E-BE72-B73A09A1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FF04-D254-4826-91C5-DA8C92A2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5AB1-3F5E-4B44-8630-8D430FAF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A53F-F8BF-4005-8148-7D5E83AA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407-7650-41C5-8650-F66EEECA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2763-C156-4C97-B2FE-0CE15DBBA4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jpg&amp;p=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Тема: «Оказание первой медицинской помощи при несчастных случаях»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81360"/>
            <a:ext cx="6400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Calibri"/>
              </a:rPr>
              <a:t>учитель начальных классов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Calibri"/>
              </a:rPr>
              <a:t>ГОУ СОШ №341 г.Моск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Calibri"/>
              </a:rPr>
              <a:t>Трубицина Анна Владимиро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506520" y="260280"/>
            <a:ext cx="80978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2340000" y="549360"/>
            <a:ext cx="4319640" cy="38098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5" descr=""/>
          <p:cNvPicPr/>
          <p:nvPr/>
        </p:nvPicPr>
        <p:blipFill>
          <a:blip r:embed="rId3"/>
          <a:stretch/>
        </p:blipFill>
        <p:spPr>
          <a:xfrm>
            <a:off x="2548080" y="4443480"/>
            <a:ext cx="36147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чни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nl=1&amp;ed=1&amp;rpt=simage&amp;text=%D1%80%D0%B8%D1%81%D1%83%D0%BD%D0%BE%D0%BA%20%D0%BA%D1%80%D0%B0%D1%81%D0%BD%D0%BE%D0%B9%20%D1%88%D0%B0%D0%BF%D0%BE%D1%87%D0%BA%D0%B8&amp;img_url=kinderlibrary.files.wordpress.com%2F2010%2F01%2Fd0bad180d0b0d181d0bdd0b0d18f-d188d0b0d0bfd0bed187d0bad0b0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.jpg&amp;p=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nl=1&amp;ed=1&amp;rpt=simage&amp;text=%D1%80%D0%B8%D1%81%D1%83%D0%BD%D0%BE%D0%BA%20%D1%81%D0%BA%D0%BE%D1%80%D0%B0%D1%8F%20%D0%BF%D0%BE%D0%BC%D0%BE%D1%89%D1%8C&amp;img_url=www.artsides.ru%2Fbig%2Fitem_5733.jpg&amp;p=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nl=1&amp;ed=1&amp;rpt=simage&amp;text=%D0%B4%D0%BE%D0%BC%D0%B8%D0%BA%20%D0%B1%D0%B0%D0%B1%D1%83%D1%88%D0%BA%D0%B8%20%D0%BA%D1%80%D0%B0%D1%81%D0%BD%D0%BE%D0%B9%20%D1%88%D0%B0%D0%BF%D0%BE%D1%87%D0%BA%D0%B8&amp;img_url=www.cgtalk.ru%2Fgallery%2Fnewfiles%2F1%2F8%2F1%2F5%2F3%2Fdomik.jpg&amp;p=1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ed=1&amp;rpt=simage&amp;text=%D0%BB%D0%B5%D1%82%D0%BE%20&amp;img_url=sy.ucoz.ru%2F_nw%2F0%2F48243.jpg&amp;p=1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ed=1&amp;rpt=simage&amp;text=%D0%BA%D1%80%D0%B0%D1%81%D0%BD%D0%B0%D1%8F%20%D1%88%D0%B0%D0%BF%D0%BE%D1%87%D0%BA%D0%B0%20%D0%B2%20%D0%BB%D0%B5%D1%81%D1%83&amp;img_url=www.fb2book.com%2Fbooks%2F20000%2F20000%2F19600%2F19580%2F19573%2Fsite%2Fimages%2Fi_005.jpg&amp;p=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nl=1&amp;ed=1&amp;rpt=simage&amp;text=%D0%BA%D1%80%D0%B0%D1%81%D0%BD%D0%B0%D1%8F%20%D1%88%D0%B0%D0%BF%D0%BE%D1%87%D0%BA%D0%B0%20%D0%B8%20%D1%81%D0%B5%D1%80%D1%8B%D0%B9%20%D0%B2%D0%BE%D0%BB%D0%BA&amp;img_url=www.games-mm.ru%2Fuserfiles%2FImage%2Fgood%2Fphoto_123.jpg&amp;p=1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nl=1&amp;ed=1&amp;rpt=simage&amp;text=%D0%BA%D1%80%D0%B0%D1%81%D0%BD%D0%B0%D1%8F%20%D1%88%D0%B0%D0%BF%D0%BE%D1%87%D0%BA%D0%B0%20%D1%81%D0%BA%D0%B0%D0%B7%D0%BA%D0%B0&amp;img_url=nevsedoma.com.ua%2Fimages%2F2009%2F190%2F3%2F34000000.jpg&amp;p=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ages.yandex.ru/yandsearch?ed=1&amp;rpt=simage&amp;text=%D0%BA%D1%80%D0%B0%D1%81%D0%BD%D0%B0%D1%8F%20%D1%88%D0%B0%D0%BF%D0%BE%D1%87%D0%BA%D0%B0&amp;img_url=forum.materinstvo.ru%2Fuploads%2F1212067687%2Fpost-30080-1212161862.png&amp;p=4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Урок-сказ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439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ереломом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ывается нарушение целости кости в результате удара, падения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ломы бывают открытые и закрыт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знаки перелома: сильная боль, припухл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395280" y="184320"/>
            <a:ext cx="8280360" cy="64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293760" y="260280"/>
            <a:ext cx="85262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64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424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24000" y="100080"/>
            <a:ext cx="849600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20:21:01Z</dcterms:created>
  <dc:creator>Анна</dc:creator>
  <dc:description/>
  <dc:language>en-US</dc:language>
  <cp:lastModifiedBy>Анна</cp:lastModifiedBy>
  <dcterms:modified xsi:type="dcterms:W3CDTF">2010-12-09T21:30:40Z</dcterms:modified>
  <cp:revision>6</cp:revision>
  <dc:subject/>
  <dc:title>Тема: «Оказание первой медицинской помощи».</dc:title>
</cp:coreProperties>
</file>