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9B4-4327-4F6B-8107-F5CF718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1FF-D02F-4F09-A26E-02D1221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8EC-21D5-4613-BF36-7E65460D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7BD-A893-40C1-BF9B-EB43547A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C41-282A-45D8-9CBB-245CDCB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21A6-EAFC-4BD7-9E28-4C0185AC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0A9-A689-4446-A54A-3B97565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52C-AC04-4063-99FB-D76312D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713-59BC-429E-A822-EC927AE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5D8-E1C7-4960-BA3A-0C33969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14A-85D7-414C-9D83-4D09B00B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150-0AD9-4DF4-A084-FA0D231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E55-F693-4BF6-ABF9-CACF4F698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jpg&amp;p=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: «Оказание первой медицинской помощи при несчастных случаях»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ГОУ СОШ №341 г.Моск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Трубицина Анна Владими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06520" y="260280"/>
            <a:ext cx="8097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431964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3"/>
          <a:stretch/>
        </p:blipFill>
        <p:spPr>
          <a:xfrm>
            <a:off x="2548080" y="4443480"/>
            <a:ext cx="36147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0%BA%D1%80%D0%B0%D1%81%D0%BD%D0%BE%D0%B9%20%D1%88%D0%B0%D0%BF%D0%BE%D1%87%D0%BA%D0%B8&amp;img_url=kinderlibrary.files.wordpress.com%2F2010%2F01%2Fd0bad180d0b0d181d0bdd0b0d18f-d188d0b0d0bfd0bed187d0bad0b0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jpg&amp;p=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1%81%D0%BA%D0%BE%D1%80%D0%B0%D1%8F%20%D0%BF%D0%BE%D0%BC%D0%BE%D1%89%D1%8C&amp;img_url=www.artsides.ru%2Fbig%2Fitem_5733.jpg&amp;p=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4%D0%BE%D0%BC%D0%B8%D0%BA%20%D0%B1%D0%B0%D0%B1%D1%83%D1%88%D0%BA%D0%B8%20%D0%BA%D1%80%D0%B0%D1%81%D0%BD%D0%BE%D0%B9%20%D1%88%D0%B0%D0%BF%D0%BE%D1%87%D0%BA%D0%B8&amp;img_url=www.cgtalk.ru%2Fgallery%2Fnewfiles%2F1%2F8%2F1%2F5%2F3%2Fdomik.jpg&amp;p=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B%D0%B5%D1%82%D0%BE%20&amp;img_url=sy.ucoz.ru%2F_nw%2F0%2F4824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%20%D0%B2%20%D0%BB%D0%B5%D1%81%D1%83&amp;img_url=www.fb2book.com%2Fbooks%2F20000%2F20000%2F19600%2F19580%2F19573%2Fsite%2Fimages%2Fi_005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0%B8%20%D1%81%D0%B5%D1%80%D1%8B%D0%B9%20%D0%B2%D0%BE%D0%BB%D0%BA&amp;img_url=www.games-mm.ru%2Fuserfiles%2FImage%2Fgood%2Fphoto_12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1%81%D0%BA%D0%B0%D0%B7%D0%BA%D0%B0&amp;img_url=nevsedoma.com.ua%2Fimages%2F2009%2F190%2F3%2F34000000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&amp;img_url=forum.materinstvo.ru%2Fuploads%2F1212067687%2Fpost-30080-1212161862.png&amp;p=4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Урок-сказ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3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ереломо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 нарушение целости кости в результате удара, пад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ломы бывают открытые и закрыт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и перелома: сильная боль, припух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95280" y="184320"/>
            <a:ext cx="8280360" cy="64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93760" y="260280"/>
            <a:ext cx="8526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100080"/>
            <a:ext cx="84960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21:01Z</dcterms:created>
  <dc:creator>Анна</dc:creator>
  <dc:description/>
  <dc:language>en-US</dc:language>
  <cp:lastModifiedBy>Анна</cp:lastModifiedBy>
  <dcterms:modified xsi:type="dcterms:W3CDTF">2010-12-09T21:30:40Z</dcterms:modified>
  <cp:revision>6</cp:revision>
  <dc:subject/>
  <dc:title>Тема: «Оказание первой медицинской помощи».</dc:title>
</cp:coreProperties>
</file>