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70A-2609-4E19-A8C4-4F28FCD8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D44-FE4C-4A46-B3B2-4D25041B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D68-130B-4144-99E3-B7A7D6EA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9D5-518C-4C29-8DA8-1FC87E5B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6EA-E5A6-4B92-9EC4-63521A9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CD9-C063-4AC1-BD91-9898C870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B06-25B3-47D0-BEF0-B93718FC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083-47D0-4C14-89CD-C3DFE61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393-66F7-4A75-A4EC-9ED95AC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782-5373-44A9-B7B5-889C597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938-B6A0-4FE1-BCFF-A7BD5F9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9D3-5CFA-47FE-9E2F-E45C35AB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4D5-5E4B-4203-B455-B72D4D2AA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jpg&amp;p=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: «Оказание первой медицинской помощи при несчастных случаях»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ГОУ СОШ №341 г.Моск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Трубицина Анна Владими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06520" y="260280"/>
            <a:ext cx="8097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431964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3"/>
          <a:stretch/>
        </p:blipFill>
        <p:spPr>
          <a:xfrm>
            <a:off x="2548080" y="4443480"/>
            <a:ext cx="36147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0%BA%D1%80%D0%B0%D1%81%D0%BD%D0%BE%D0%B9%20%D1%88%D0%B0%D0%BF%D0%BE%D1%87%D0%BA%D0%B8&amp;img_url=kinderlibrary.files.wordpress.com%2F2010%2F01%2Fd0bad180d0b0d181d0bdd0b0d18f-d188d0b0d0bfd0bed187d0bad0b0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jpg&amp;p=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1%81%D0%BA%D0%BE%D1%80%D0%B0%D1%8F%20%D0%BF%D0%BE%D0%BC%D0%BE%D1%89%D1%8C&amp;img_url=www.artsides.ru%2Fbig%2Fitem_5733.jpg&amp;p=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4%D0%BE%D0%BC%D0%B8%D0%BA%20%D0%B1%D0%B0%D0%B1%D1%83%D1%88%D0%BA%D0%B8%20%D0%BA%D1%80%D0%B0%D1%81%D0%BD%D0%BE%D0%B9%20%D1%88%D0%B0%D0%BF%D0%BE%D1%87%D0%BA%D0%B8&amp;img_url=www.cgtalk.ru%2Fgallery%2Fnewfiles%2F1%2F8%2F1%2F5%2F3%2Fdomik.jpg&amp;p=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B%D0%B5%D1%82%D0%BE%20&amp;img_url=sy.ucoz.ru%2F_nw%2F0%2F4824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%20%D0%B2%20%D0%BB%D0%B5%D1%81%D1%83&amp;img_url=www.fb2book.com%2Fbooks%2F20000%2F20000%2F19600%2F19580%2F19573%2Fsite%2Fimages%2Fi_005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0%B8%20%D1%81%D0%B5%D1%80%D1%8B%D0%B9%20%D0%B2%D0%BE%D0%BB%D0%BA&amp;img_url=www.games-mm.ru%2Fuserfiles%2FImage%2Fgood%2Fphoto_12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1%81%D0%BA%D0%B0%D0%B7%D0%BA%D0%B0&amp;img_url=nevsedoma.com.ua%2Fimages%2F2009%2F190%2F3%2F34000000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&amp;img_url=forum.materinstvo.ru%2Fuploads%2F1212067687%2Fpost-30080-1212161862.png&amp;p=4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Урок-сказ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3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ереломо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 нарушение целости кости в результате удара, пад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ломы бывают открытые и закрыт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и перелома: сильная боль, припух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95280" y="184320"/>
            <a:ext cx="8280360" cy="64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93760" y="260280"/>
            <a:ext cx="8526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100080"/>
            <a:ext cx="84960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21:01Z</dcterms:created>
  <dc:creator>Анна</dc:creator>
  <dc:description/>
  <dc:language>en-US</dc:language>
  <cp:lastModifiedBy>Анна</cp:lastModifiedBy>
  <dcterms:modified xsi:type="dcterms:W3CDTF">2010-12-09T21:30:40Z</dcterms:modified>
  <cp:revision>6</cp:revision>
  <dc:subject/>
  <dc:title>Тема: «Оказание первой медицинской помощи».</dc:title>
</cp:coreProperties>
</file>