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BED-84C1-40BC-B0CB-43D28F5A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A717-615A-400D-9AE7-2C914D36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4F37-715D-48F7-B80A-A46812F6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1E05-1F25-465D-90B8-22BA51D9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AD40-4AF1-425A-9523-13281F3D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DD36-4D83-49DC-AD65-64BDC00E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969B-2A5F-4A9A-848A-8286B665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3AA2-BA50-45CF-92F9-B6AC2E28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052C-9EEF-49DF-B0C5-52CFFD9B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D4B7-BB66-4A2D-80F8-75DB5269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87DE-2CA0-4C20-BB82-B5B539CB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9D8-6BB3-4FFB-B794-DE0CE361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0CD4-E434-4D0D-B635-714128FC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BF74-F5ED-4ACF-9F75-25AFA153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D214-356C-4D83-BBB4-5D6CF77E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9606-5518-4830-B4D0-D83A5943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A847-6EE2-4D18-8886-3B2F622B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1A0A-9DFD-4FA7-B4CE-BE84812F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3F6-6ED4-4CA5-9FE8-3E496784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00D-EC44-41C8-AA1D-6A2F812F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5D6F-DFB0-49A5-988A-B412240C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9990-E05A-431E-9B9D-8F2C98B6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201-A728-41F2-A617-F3511C2F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BDF-311E-4D36-BC15-A38B0AFD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EF10-0344-4FFA-90F4-6BDD92789C4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22D0-5274-47FD-8473-59CA602A3DB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054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Стили воспитания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284640"/>
            <a:ext cx="6032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редоставление информации о стилях воспитания в соответствии с основными положениями книги Берна «Люди, которые играют в игры и игры, в которые играют люди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заимодействие с ребенком складывается на основе стиля воспитания, которого придерживаются родите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636640"/>
            <a:ext cx="76960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спомните проблемы, которые у вас возникали  во взаимоотношениях с детьми и свяжите их одной из фраз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«Ваш ребенок становится хуже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«Вы оказались плохим родителем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«Ребенок не любит Вас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Позиция «дитя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ходясь в этой позиции человек чаще просит, обижается, боится. Его жесты умоляющие, интонации- игривые или заискивающие. Поведение спонтанно, импульсивно, он может как подчиняться, так и бунтовать, если потребности его не удовлетворяются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ая направляющая его поведени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Я хочу»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зиция «родитель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этой позиции человек проявляет опеку, заботу, контроль -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заботливый родител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ли ругает, наказывает, выговаривает -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винский родител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принятый в психологии термин по К. Стейнеру). Это фиксированное эго-состояние, не чувствительное к изменение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го взгляды надменны, снисходительны, жесты указующие или угрожающие. Он может игнорировать или быть навязчивым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ая направляющая поведе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Я должен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зиция «взрослого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этой позиции человек стремится разобраться в ситуации. Он отвечает на вопросы: зачем?, что происходит? Каковы перспективы? Какие точки зрения еще есть?. Он берет на себя ответственность за происходящее на себя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ая направляющая поведе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Надо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бывание родителя в эго-состоянии «взрослый» дает возможность ребенку почувствовать психологическое равенство с матерью или отцом, способствует развитию логики 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зависимости от того, с какой позиции родители общаются со своим ребенком, и складываются их взаимоотношения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нято  делить все виды отношений на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сотрудничество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идеальный вариант взаимоотношений, основанный на взаимопонимании и взаимоподдержк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паритет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– ровное отношение, основанное на взаимной выгод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соревновани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желание добиться большего и лучшего в соперничеств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конкуренци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стремление главенствовать над другим, подавлять его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антагонизм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– резкие противореч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Эмансипация может быт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эмоциональная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когда связи с родителями разрываются или вытесняются связями с другими (дружба, любовь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оведенческа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когда родители оказываются в не состоянии регулировать поведение ребен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нормативная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когда нормы и ценности, на которые ориентируются родители, становятся чуждыми для их детей и вырастает стена непоним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ри этом позиции родителей сводятся к следующему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Убеждают себя, что власть над детьми дана им от Бога, и продолжают деспотически навязывать свои мнения, суждения и оценк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начинают побаиваться своих детей, отступают перед ними, боясь получить упр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.е. переходят на авторитарный или попустительский стиль общ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-44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мягчит или устранить проявление эмансипации можно только путем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демократического общения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тогда, когда родитель помогает ребенку научится быть ответственным за свои поступки и свою жизн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 равноправным взаимоотношениям можно прийти только шаг за шагом, сначала отдавая права ребенку, а только потом отстаивая уже имеющиеся сво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десь родителям необходимо поверить в свои силы, прежде чем воздействовать на ребен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1:23:03Z</dcterms:created>
  <dc:creator>Светлана</dc:creator>
  <dc:description/>
  <dc:language>en-US</dc:language>
  <cp:lastModifiedBy>Светлана</cp:lastModifiedBy>
  <dcterms:modified xsi:type="dcterms:W3CDTF">2009-02-08T02:02:55Z</dcterms:modified>
  <cp:revision>3</cp:revision>
  <dc:subject/>
  <dc:title>Стили воспитания</dc:title>
</cp:coreProperties>
</file>