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061C-F5F1-4AB8-9C37-AAF5494A8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A762-AC3E-460D-8B41-2C1C926A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05F6-939F-4218-AFA5-7115C77E7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3CA6-1180-44F8-82DE-E4CE10DAE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D4FD-BDA0-462D-825F-E7C052358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E051-E237-4467-8AC4-D1959266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32A0-66E8-4D0C-BEB2-2CCCF138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FAB7-39F8-44FF-AA3E-D9C55A07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DCEF-4C68-4AD7-81E0-6ED6D2A8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1AFE-1CB4-4A32-99C5-F808F5A0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953C-1292-4A64-8312-6C0D621C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54F7-2BFE-48D5-967E-05A3D385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E9FC-6923-49F5-BC95-EC35F3CD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A88E-CDC1-4A3D-801C-89CC768A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57BE-ACD1-40DA-A26A-56CDF19D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337A-6521-454A-AF0B-658BFD177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A1B8-79C4-490A-8658-B33E1F82D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6B2E-6968-4D2C-BDFB-B91F223B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ED70-DCD2-4F82-A1EF-D6ED91CB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16E9-A92E-4287-87DC-BC62A74F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8073-F5C0-4F0A-8F2E-52B223F4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C479-6899-480B-BD00-0F872B45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E7E8-8460-49BB-B06B-59A189C9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114A-0AFF-411A-9278-0EEF1192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9C60-1B1E-4F11-91B1-1FF92AE0842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2EA1-2D02-48B8-AB6C-21335C9A85E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054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Стили воспитания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284640"/>
            <a:ext cx="60325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предоставление информации о стилях воспитания в соответствии с основными положениями книги Берна «Люди, которые играют в игры и игры, в которые играют люди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заимодействие с ребенком складывается на основе стиля воспитания, которого придерживаются родител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636640"/>
            <a:ext cx="769608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спомните проблемы, которые у вас возникали  во взаимоотношениях с детьми и свяжите их одной из фраз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«Ваш ребенок становится хуже»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«Вы оказались плохим родителем»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«Ребенок не любит Вас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Позиция «дитя»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ходясь в этой позиции человек чаще просит, обижается, боится. Его жесты умоляющие, интонации- игривые или заискивающие. Поведение спонтанно, импульсивно, он может как подчиняться, так и бунтовать, если потребности его не удовлетворяются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Основная направляющая его поведения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«Я хочу»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озиция «родитель»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этой позиции человек проявляет опеку, заботу, контроль -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заботливый родител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ли ругает, наказывает, выговаривает -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свинский родител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(принятый в психологии термин по К. Стейнеру). Это фиксированное эго-состояние, не чувствительное к изменение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го взгляды надменны, снисходительны, жесты указующие или угрожающие. Он может игнорировать или быть навязчивым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Основная направляющая поведени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Я должен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озиция «взрослого»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этой позиции человек стремится разобраться в ситуации. Он отвечает на вопросы: зачем?, что происходит? Каковы перспективы? Какие точки зрения еще есть?. Он берет на себя ответственность за происходящее на себя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Основная направляющая поведения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Надо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ебывание родителя в эго-состоянии «взрослый» дает возможность ребенку почувствовать психологическое равенство с матерью или отцом, способствует развитию логики 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 зависимости от того, с какой позиции родители общаются со своим ребенком, и складываются их взаимоотношения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Принято  делить все виды отношений на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сотрудничество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идеальный вариант взаимоотношений, основанный на взаимопонимании и взаимоподдержк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паритет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– ровное отношение, основанное на взаимной выгоде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соревновани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желание добиться большего и лучшего в соперничестве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конкуренцию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стремление главенствовать над другим, подавлять его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антагонизм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– резкие противоречи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Эмансипация может быть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эмоциональная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когда связи с родителями разрываются или вытесняются связями с другими (дружба, любовь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поведенческая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когда родители оказываются в не состоянии регулировать поведение ребенк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нормативная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когда нормы и ценности, на которые ориентируются родители, становятся чуждыми для их детей и вырастает стена непонима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При этом позиции родителей сводятся к следующему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Убеждают себя, что власть над детьми дана им от Бога, и продолжают деспотически навязывать свои мнения, суждения и оценк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начинают побаиваться своих детей, отступают перед ними, боясь получить упре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.е. переходят на авторитарный или попустительский стиль общ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-443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549360"/>
            <a:ext cx="769608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мягчит или устранить проявление эмансипации можно только путем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демократического общения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тогда, когда родитель помогает ребенку научится быть ответственным за свои поступки и свою жизн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 равноправным взаимоотношениям можно прийти только шаг за шагом, сначала отдавая права ребенку, а только потом отстаивая уже имеющиеся сво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десь родителям необходимо поверить в свои силы, прежде чем воздействовать на ребен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1:23:03Z</dcterms:created>
  <dc:creator>Светлана</dc:creator>
  <dc:description/>
  <dc:language>en-US</dc:language>
  <cp:lastModifiedBy>Светлана</cp:lastModifiedBy>
  <dcterms:modified xsi:type="dcterms:W3CDTF">2009-02-08T02:02:55Z</dcterms:modified>
  <cp:revision>3</cp:revision>
  <dc:subject/>
  <dc:title>Стили воспитания</dc:title>
</cp:coreProperties>
</file>