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B11-7EA4-4257-9A24-BD5A1FD5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BFF-F808-4462-9179-5189DFF0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886-644A-44A2-85F6-AFDD7675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99D-42EB-478E-AA9E-E05474D6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6F77-ED55-4DBC-85F3-63E6FD36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676E-58A7-4115-BFDA-9157D40A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F06F-0601-400B-A304-9400193A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C899-F5C5-454B-BECB-9E21F2B7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18ED-5A00-4770-80F5-17E50962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5F75-CFE8-43D8-8936-718CFB9B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D18D-AA56-45D8-9FCA-403CFBBB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9EB-ADDB-48D7-AD54-2FD4311A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A266-DCC3-4A3B-A3F5-CDE05F55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5272-D679-4516-8777-47467BB8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F998-928E-4152-AE81-B889F690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FBF0-427A-4416-AEDC-B5FDF241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03EF-B9A6-44FD-A879-9CC0109B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672-48EC-41F1-BEEA-4D104BF0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3AF-2CBD-4619-A01E-9214BFCC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809-E924-49B1-84E4-56D33771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F28-49DA-433F-8A6B-4990878F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F90-9BC2-409F-837B-D0AA80B5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09E-A927-4215-B0FF-7B6AC088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18B-CE76-4923-AA82-704DF57F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75ED-EC2F-412B-9908-DD2C5749F56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89BE-FAD0-4C0E-A3DE-C9F6696CDD1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054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Стили воспитания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284640"/>
            <a:ext cx="6032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редоставление информации о стилях воспитания в соответствии с основными положениями книги Берна «Люди, которые играют в игры и игры, в которые играют люди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заимодействие с ребенком складывается на основе стиля воспитания, которого придерживаются родите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636640"/>
            <a:ext cx="76960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спомните проблемы, которые у вас возникали  во взаимоотношениях с детьми и свяжите их одной из фраз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«Ваш ребенок становится хуже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«Вы оказались плохим родителем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«Ребенок не любит Вас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Позиция «дитя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ходясь в этой позиции человек чаще просит, обижается, боится. Его жесты умоляющие, интонации- игривые или заискивающие. Поведение спонтанно, импульсивно, он может как подчиняться, так и бунтовать, если потребности его не удовлетворяются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ая направляющая его поведени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Я хочу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зиция «родитель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этой позиции человек проявляет опеку, заботу, контроль 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заботливый родител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ругает, наказывает, выговаривает 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винский родител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принятый в психологии термин по К. Стейнеру). Это фиксированное эго-состояние, не чувствительное к изменение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го взгляды надменны, снисходительны, жесты указующие или угрожающие. Он может игнорировать или быть навязчивым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ая направляющая повед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Я должен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зиция «взрослого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этой позиции человек стремится разобраться в ситуации. Он отвечает на вопросы: зачем?, что происходит? Каковы перспективы? Какие точки зрения еще есть?. Он берет на себя ответственность за происходящее на себя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ая направляющая поведе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Надо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бывание родителя в эго-состоянии «взрослый» дает возможность ребенку почувствовать психологическое равенство с матерью или отцом, способствует развитию логики 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зависимости от того, с какой позиции родители общаются со своим ребенком, и складываются их взаимоотношения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нято  делить все виды отношений н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сотрудничеств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идеальный вариант взаимоотношений, основанный на взаимопонимании и взаимоподдержк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аритет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 ровное отношение, основанное на взаимной выгод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соревнова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желание добиться большего и лучшего в соперничеств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конкуренци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стремление главенствовать над другим, подавлять его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антагонизм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 резкие противореч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Эмансипация может быт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эмоциональная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когда связи с родителями разрываются или вытесняются связями с другими (дружба, любовь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оведенческа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когда родители оказываются в не состоянии регулировать поведение ребен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нормативная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когда нормы и ценности, на которые ориентируются родители, становятся чуждыми для их детей и вырастает стена непоним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ри этом позиции родителей сводятся к следующему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Убеждают себя, что власть над детьми дана им от Бога, и продолжают деспотически навязывать свои мнения, суждения и оценк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начинают побаиваться своих детей, отступают перед ними, боясь получить упр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.е. переходят на авторитарный или попустительский стиль общ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мягчит или устранить проявление эмансипации можно только путем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демократического общения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тогда, когда родитель помогает ребенку научится быть ответственным за свои поступки и свою жизн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 равноправным взаимоотношениям можно прийти только шаг за шагом, сначала отдавая права ребенку, а только потом отстаивая уже имеющиеся сво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десь родителям необходимо поверить в свои силы, прежде чем воздействовать на ребен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1:23:03Z</dcterms:created>
  <dc:creator>Светлана</dc:creator>
  <dc:description/>
  <dc:language>en-US</dc:language>
  <cp:lastModifiedBy>Светлана</cp:lastModifiedBy>
  <dcterms:modified xsi:type="dcterms:W3CDTF">2009-02-08T02:02:55Z</dcterms:modified>
  <cp:revision>3</cp:revision>
  <dc:subject/>
  <dc:title>Стили воспитания</dc:title>
</cp:coreProperties>
</file>