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C40-5F45-4F5C-9F60-2F51D408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402-1AB0-45FC-B262-8277B7D5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AEE-3AE3-44FA-8344-FC1764DC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34E-37CF-430B-8E2E-C3A51A90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20A-45EB-495F-B12E-20B21AB8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139-353B-418D-8C0D-9E9D0203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BEF-0743-4949-B448-2A99B817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D6F-8ACC-4827-B3E5-B39A2665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411-4B67-42B6-8618-AE8AE194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708-2E75-4F28-BB94-F8D6E4DF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6CB-D294-4C1D-88FD-50B2D6E9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F70-DA4F-49DE-9164-6C23883E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4ABA-C458-4F99-9F12-973F001C2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ениц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Г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У СОШ № 619 Степанова Светл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50920" y="1197000"/>
            <a:ext cx="8713800" cy="25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слушивающе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стройство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хема работы прослушивающего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186920" y="162864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рослушивающее   устро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2698920" y="2627280"/>
            <a:ext cx="218880" cy="43200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H="1" flipV="1">
            <a:off x="6299280" y="2627280"/>
            <a:ext cx="218880" cy="43488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20720" y="309708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902200" y="3060720"/>
            <a:ext cx="1657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зву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2230200" y="3780000"/>
            <a:ext cx="290520" cy="53964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6877080" y="3715920"/>
            <a:ext cx="218880" cy="507960"/>
          </a:xfrm>
          <a:prstGeom prst="line">
            <a:avLst/>
          </a:prstGeom>
          <a:ln w="572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84360" y="4292640"/>
            <a:ext cx="2592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148360" y="443700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злоумышлен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сследование дальности действия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chool"/>
          <p:cNvPicPr/>
          <p:nvPr/>
        </p:nvPicPr>
        <p:blipFill>
          <a:blip r:embed="rId2"/>
          <a:stretch/>
        </p:blipFill>
        <p:spPr>
          <a:xfrm>
            <a:off x="285840" y="1571760"/>
            <a:ext cx="8642160" cy="50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4" name="Text Box 6"/>
          <p:cNvSpPr/>
          <p:nvPr/>
        </p:nvSpPr>
        <p:spPr>
          <a:xfrm>
            <a:off x="4717080" y="1822320"/>
            <a:ext cx="35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школе: 44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2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5720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сследование дальности действия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DSCN5257"/>
          <p:cNvPicPr/>
          <p:nvPr/>
        </p:nvPicPr>
        <p:blipFill>
          <a:blip r:embed="rId2"/>
          <a:stretch/>
        </p:blipFill>
        <p:spPr>
          <a:xfrm>
            <a:off x="324000" y="1844640"/>
            <a:ext cx="8604000" cy="4853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Text Box 7"/>
          <p:cNvSpPr/>
          <p:nvPr/>
        </p:nvSpPr>
        <p:spPr>
          <a:xfrm>
            <a:off x="2771640" y="1893960"/>
            <a:ext cx="36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 улице:75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артинка 87 из 84000"/>
          <p:cNvPicPr/>
          <p:nvPr/>
        </p:nvPicPr>
        <p:blipFill>
          <a:blip r:embed="rId2"/>
          <a:stretch/>
        </p:blipFill>
        <p:spPr>
          <a:xfrm>
            <a:off x="179280" y="0"/>
            <a:ext cx="3289320" cy="39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Picture 5" descr="Картинка 13 из 83000"/>
          <p:cNvPicPr/>
          <p:nvPr/>
        </p:nvPicPr>
        <p:blipFill>
          <a:blip r:embed="rId3"/>
          <a:stretch/>
        </p:blipFill>
        <p:spPr>
          <a:xfrm>
            <a:off x="5003640" y="0"/>
            <a:ext cx="3889440" cy="364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4176720" cy="308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Picture 7" descr="Картинка 1 из 84000"/>
          <p:cNvPicPr/>
          <p:nvPr/>
        </p:nvPicPr>
        <p:blipFill>
          <a:blip r:embed="rId5"/>
          <a:stretch/>
        </p:blipFill>
        <p:spPr>
          <a:xfrm>
            <a:off x="4572000" y="3645000"/>
            <a:ext cx="4321080" cy="3036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Picture 8" descr=""/>
          <p:cNvPicPr/>
          <p:nvPr/>
        </p:nvPicPr>
        <p:blipFill>
          <a:blip r:embed="rId6"/>
          <a:stretch/>
        </p:blipFill>
        <p:spPr>
          <a:xfrm>
            <a:off x="1042920" y="189000"/>
            <a:ext cx="6696000" cy="637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Изучить устройство и принцип действия прослушивающего устр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обрать прослушивающее устройство и проверить его раб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оздатель первого   прослушивающе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771640" y="1413000"/>
            <a:ext cx="3022560" cy="4032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971640" y="542592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Термен Лев Серге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896-199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Герб с прослушивающим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стройст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0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8569080" cy="328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имеры прослушивающих устрой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672000" cy="358128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5364000" y="2565360"/>
            <a:ext cx="3600720" cy="357516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2627280" y="2637000"/>
            <a:ext cx="3600360" cy="352728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хема прослушивающего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684360" y="1638360"/>
            <a:ext cx="7559640" cy="521964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  <p:sp>
        <p:nvSpPr>
          <p:cNvPr id="61" name="Line 5"/>
          <p:cNvSpPr/>
          <p:nvPr/>
        </p:nvSpPr>
        <p:spPr>
          <a:xfrm>
            <a:off x="4859280" y="2708280"/>
            <a:ext cx="541440" cy="458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924360" y="227664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кат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H="1" flipV="1">
            <a:off x="5651640" y="4437000"/>
            <a:ext cx="652320" cy="425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156360" y="4869000"/>
            <a:ext cx="230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конденс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6226200" y="2060640"/>
            <a:ext cx="218880" cy="431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419880" y="1619280"/>
            <a:ext cx="1536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анте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H="1">
            <a:off x="1257120" y="2700360"/>
            <a:ext cx="185400" cy="539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826920" y="2205000"/>
            <a:ext cx="2230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сопроти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 flipV="1">
            <a:off x="1255320" y="4524480"/>
            <a:ext cx="366840" cy="5191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187280" y="5040360"/>
            <a:ext cx="1513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микрофон</a:t>
            </a:r>
            <a:r>
              <a:rPr b="0" lang="en-US" sz="1800" spc="-1" strike="noStrike">
                <a:solidFill>
                  <a:srgbClr val="0047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H="1" flipV="1">
            <a:off x="2876040" y="4568400"/>
            <a:ext cx="366840" cy="474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879640" y="5040360"/>
            <a:ext cx="1820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u="sng">
                <a:solidFill>
                  <a:srgbClr val="0047ff"/>
                </a:solidFill>
                <a:uFillTx/>
                <a:latin typeface="Arial"/>
              </a:rPr>
              <a:t>транзис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Инструменты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атериалы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ет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паяльник 001"/>
          <p:cNvPicPr/>
          <p:nvPr/>
        </p:nvPicPr>
        <p:blipFill>
          <a:blip r:embed="rId2"/>
          <a:stretch/>
        </p:blipFill>
        <p:spPr>
          <a:xfrm>
            <a:off x="179280" y="1844640"/>
            <a:ext cx="3059280" cy="229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Picture 5" descr="снежинка 008"/>
          <p:cNvPicPr/>
          <p:nvPr/>
        </p:nvPicPr>
        <p:blipFill>
          <a:blip r:embed="rId3"/>
          <a:stretch/>
        </p:blipFill>
        <p:spPr>
          <a:xfrm>
            <a:off x="5580000" y="1844640"/>
            <a:ext cx="2952720" cy="224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6" name="Picture 6" descr="снежинка 004"/>
          <p:cNvPicPr/>
          <p:nvPr/>
        </p:nvPicPr>
        <p:blipFill>
          <a:blip r:embed="rId4"/>
          <a:stretch/>
        </p:blipFill>
        <p:spPr>
          <a:xfrm>
            <a:off x="2916360" y="4292640"/>
            <a:ext cx="3095640" cy="237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7" name="Text Box 7"/>
          <p:cNvSpPr/>
          <p:nvPr/>
        </p:nvSpPr>
        <p:spPr>
          <a:xfrm>
            <a:off x="971640" y="141300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я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97080" y="383544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724360" y="1413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иф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ослушивающее устрой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DSCN5202"/>
          <p:cNvPicPr/>
          <p:nvPr/>
        </p:nvPicPr>
        <p:blipFill>
          <a:blip r:embed="rId2"/>
          <a:stretch/>
        </p:blipFill>
        <p:spPr>
          <a:xfrm>
            <a:off x="1476360" y="1268280"/>
            <a:ext cx="5834160" cy="516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9:42:48Z</dcterms:created>
  <dc:creator>Учитель</dc:creator>
  <dc:description/>
  <dc:language>en-US</dc:language>
  <cp:lastModifiedBy>Учитель</cp:lastModifiedBy>
  <dcterms:modified xsi:type="dcterms:W3CDTF">2011-04-12T11:09:34Z</dcterms:modified>
  <cp:revision>10</cp:revision>
  <dc:subject/>
  <dc:title>Слайд 1</dc:title>
</cp:coreProperties>
</file>