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162-25F2-4C05-92DE-1DADA087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AB8-537C-4039-8904-32BF105E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5B7-4E21-4453-B3A8-A7074A79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1B5-7172-4D97-A137-01B2D1A1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0BAC-DC9C-43D5-AE62-CABD6889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948-871A-44AE-9DBB-051E74AF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B340-8D2A-431E-B4CB-9C4B7288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2C7-FDCD-4241-8793-27F42425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310-5B00-41E8-B4AD-2B625429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3A8-F7C2-44FC-A0CB-93960075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844-45C6-49AB-BD16-EC6F5863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6E2-E6D8-426A-8025-054C5CF3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5F63-8EB7-4479-9CF2-5DC3ED46E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чениц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Г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ОУ СОШ № 619 Степанова Светл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50920" y="1197000"/>
            <a:ext cx="8713800" cy="25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ослушивающее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стройство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хема работы прослушивающего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устрой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186920" y="1628640"/>
            <a:ext cx="71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рослушивающее   устрой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2698920" y="2627280"/>
            <a:ext cx="218880" cy="432000"/>
          </a:xfrm>
          <a:prstGeom prst="line">
            <a:avLst/>
          </a:prstGeom>
          <a:ln w="572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H="1" flipV="1">
            <a:off x="6299280" y="2627280"/>
            <a:ext cx="218880" cy="434880"/>
          </a:xfrm>
          <a:prstGeom prst="line">
            <a:avLst/>
          </a:prstGeom>
          <a:ln w="572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20720" y="309708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902200" y="3060720"/>
            <a:ext cx="1657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зву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2230200" y="3780000"/>
            <a:ext cx="290520" cy="539640"/>
          </a:xfrm>
          <a:prstGeom prst="line">
            <a:avLst/>
          </a:prstGeom>
          <a:ln w="572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6877080" y="3715920"/>
            <a:ext cx="218880" cy="507960"/>
          </a:xfrm>
          <a:prstGeom prst="line">
            <a:avLst/>
          </a:prstGeom>
          <a:ln w="572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84360" y="4292640"/>
            <a:ext cx="2592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148360" y="4437000"/>
            <a:ext cx="37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злоумышленн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Исследование дальности действия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school"/>
          <p:cNvPicPr/>
          <p:nvPr/>
        </p:nvPicPr>
        <p:blipFill>
          <a:blip r:embed="rId2"/>
          <a:stretch/>
        </p:blipFill>
        <p:spPr>
          <a:xfrm>
            <a:off x="285840" y="1571760"/>
            <a:ext cx="8642160" cy="507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4" name="Text Box 6"/>
          <p:cNvSpPr/>
          <p:nvPr/>
        </p:nvSpPr>
        <p:spPr>
          <a:xfrm>
            <a:off x="4717080" y="1822320"/>
            <a:ext cx="35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 школе: 44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2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5720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Исследование дальности действия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DSCN5257"/>
          <p:cNvPicPr/>
          <p:nvPr/>
        </p:nvPicPr>
        <p:blipFill>
          <a:blip r:embed="rId2"/>
          <a:stretch/>
        </p:blipFill>
        <p:spPr>
          <a:xfrm>
            <a:off x="324000" y="1844640"/>
            <a:ext cx="8604000" cy="4853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7" name="Text Box 7"/>
          <p:cNvSpPr/>
          <p:nvPr/>
        </p:nvSpPr>
        <p:spPr>
          <a:xfrm>
            <a:off x="2771640" y="1893960"/>
            <a:ext cx="360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а улице:75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,5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Картинка 87 из 84000"/>
          <p:cNvPicPr/>
          <p:nvPr/>
        </p:nvPicPr>
        <p:blipFill>
          <a:blip r:embed="rId2"/>
          <a:stretch/>
        </p:blipFill>
        <p:spPr>
          <a:xfrm>
            <a:off x="179280" y="0"/>
            <a:ext cx="3289320" cy="393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" name="Picture 5" descr="Картинка 13 из 83000"/>
          <p:cNvPicPr/>
          <p:nvPr/>
        </p:nvPicPr>
        <p:blipFill>
          <a:blip r:embed="rId3"/>
          <a:stretch/>
        </p:blipFill>
        <p:spPr>
          <a:xfrm>
            <a:off x="5003640" y="0"/>
            <a:ext cx="3889440" cy="364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179280" y="3645000"/>
            <a:ext cx="4176720" cy="3081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Picture 7" descr="Картинка 1 из 84000"/>
          <p:cNvPicPr/>
          <p:nvPr/>
        </p:nvPicPr>
        <p:blipFill>
          <a:blip r:embed="rId5"/>
          <a:stretch/>
        </p:blipFill>
        <p:spPr>
          <a:xfrm>
            <a:off x="4572000" y="3645000"/>
            <a:ext cx="4321080" cy="3036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" name="Picture 8" descr=""/>
          <p:cNvPicPr/>
          <p:nvPr/>
        </p:nvPicPr>
        <p:blipFill>
          <a:blip r:embed="rId6"/>
          <a:stretch/>
        </p:blipFill>
        <p:spPr>
          <a:xfrm>
            <a:off x="1042920" y="189000"/>
            <a:ext cx="6696000" cy="6377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Изучить устройство и принцип действия прослушивающего устр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Собрать прослушивающее устройство и проверить его рабо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оздатель первого   прослушивающего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771640" y="1413000"/>
            <a:ext cx="3022560" cy="4032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971640" y="542592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Термен Лев Серге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896-199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Герб с прослушивающим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устройст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0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8569080" cy="3281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римеры прослушивающих устрой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3672000" cy="3581280"/>
          </a:xfrm>
          <a:prstGeom prst="rect">
            <a:avLst/>
          </a:prstGeom>
          <a:ln w="19080">
            <a:solidFill>
              <a:srgbClr val="000000"/>
            </a:solidFill>
            <a:round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5364000" y="2565360"/>
            <a:ext cx="3600720" cy="3575160"/>
          </a:xfrm>
          <a:prstGeom prst="rect">
            <a:avLst/>
          </a:prstGeom>
          <a:ln w="19080">
            <a:solidFill>
              <a:srgbClr val="000000"/>
            </a:solidFill>
            <a:round/>
          </a:ln>
        </p:spPr>
      </p:pic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2627280" y="2637000"/>
            <a:ext cx="3600360" cy="3527280"/>
          </a:xfrm>
          <a:prstGeom prst="rect">
            <a:avLst/>
          </a:prstGeom>
          <a:ln w="1908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хема прослушивающего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684360" y="1638360"/>
            <a:ext cx="7559640" cy="5219640"/>
          </a:xfrm>
          <a:prstGeom prst="rect">
            <a:avLst/>
          </a:prstGeom>
          <a:ln w="19080">
            <a:solidFill>
              <a:srgbClr val="000000"/>
            </a:solidFill>
            <a:round/>
          </a:ln>
        </p:spPr>
      </p:pic>
      <p:sp>
        <p:nvSpPr>
          <p:cNvPr id="61" name="Line 5"/>
          <p:cNvSpPr/>
          <p:nvPr/>
        </p:nvSpPr>
        <p:spPr>
          <a:xfrm>
            <a:off x="4859280" y="2708280"/>
            <a:ext cx="541440" cy="458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924360" y="227664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кат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 flipH="1" flipV="1">
            <a:off x="5651640" y="4437000"/>
            <a:ext cx="652320" cy="425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156360" y="4869000"/>
            <a:ext cx="23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конденс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6226200" y="2060640"/>
            <a:ext cx="218880" cy="431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419880" y="1619280"/>
            <a:ext cx="1536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антен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H="1">
            <a:off x="1257120" y="2700360"/>
            <a:ext cx="185400" cy="539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826920" y="2205000"/>
            <a:ext cx="2230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сопроти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H="1" flipV="1">
            <a:off x="1255320" y="4524480"/>
            <a:ext cx="366840" cy="5191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187280" y="5040360"/>
            <a:ext cx="1513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микрофон</a:t>
            </a:r>
            <a:r>
              <a:rPr b="0" lang="en-US" sz="1800" spc="-1" strike="noStrike">
                <a:solidFill>
                  <a:srgbClr val="0047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H="1" flipV="1">
            <a:off x="2876040" y="4568400"/>
            <a:ext cx="366840" cy="4748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2879640" y="5040360"/>
            <a:ext cx="1820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транзис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Инструменты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материалы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дет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паяльник 001"/>
          <p:cNvPicPr/>
          <p:nvPr/>
        </p:nvPicPr>
        <p:blipFill>
          <a:blip r:embed="rId2"/>
          <a:stretch/>
        </p:blipFill>
        <p:spPr>
          <a:xfrm>
            <a:off x="179280" y="1844640"/>
            <a:ext cx="3059280" cy="229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Picture 5" descr="снежинка 008"/>
          <p:cNvPicPr/>
          <p:nvPr/>
        </p:nvPicPr>
        <p:blipFill>
          <a:blip r:embed="rId3"/>
          <a:stretch/>
        </p:blipFill>
        <p:spPr>
          <a:xfrm>
            <a:off x="5580000" y="1844640"/>
            <a:ext cx="2952720" cy="224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6" name="Picture 6" descr="снежинка 004"/>
          <p:cNvPicPr/>
          <p:nvPr/>
        </p:nvPicPr>
        <p:blipFill>
          <a:blip r:embed="rId4"/>
          <a:stretch/>
        </p:blipFill>
        <p:spPr>
          <a:xfrm>
            <a:off x="2916360" y="4292640"/>
            <a:ext cx="3095640" cy="237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7" name="Text Box 7"/>
          <p:cNvSpPr/>
          <p:nvPr/>
        </p:nvSpPr>
        <p:spPr>
          <a:xfrm>
            <a:off x="971640" y="141300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я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97080" y="383544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5724360" y="1413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иф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рослушивающее устрой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DSCN5202"/>
          <p:cNvPicPr/>
          <p:nvPr/>
        </p:nvPicPr>
        <p:blipFill>
          <a:blip r:embed="rId2"/>
          <a:stretch/>
        </p:blipFill>
        <p:spPr>
          <a:xfrm>
            <a:off x="1476360" y="1268280"/>
            <a:ext cx="5834160" cy="5162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9:42:48Z</dcterms:created>
  <dc:creator>Учитель</dc:creator>
  <dc:description/>
  <dc:language>en-US</dc:language>
  <cp:lastModifiedBy>Учитель</cp:lastModifiedBy>
  <dcterms:modified xsi:type="dcterms:W3CDTF">2011-04-12T11:09:34Z</dcterms:modified>
  <cp:revision>10</cp:revision>
  <dc:subject/>
  <dc:title>Слайд 1</dc:title>
</cp:coreProperties>
</file>