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19A-2112-4748-AF90-6849DE14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F96-3476-4EB7-9D74-E1FE59D8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D4A-5972-43A6-AF56-4995F53D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DDD-45E5-4AA8-A8DA-22CB8DD4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3E0-0B07-465D-A5A1-DE5FAA69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F1C-8C4D-4E60-95C5-94B55A3A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948-E352-4C01-82CA-DEEC6FF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A70-7357-4735-B03F-C1105499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888-A015-4514-9961-4126CF80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AEB-371F-4ACF-9D36-DA89D463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338-65D0-4315-918B-97C4495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7C6-1E52-4027-A2C6-8101DF3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063-0EE3-4D57-A59F-AE0AD47908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едневековые кни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5717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етение книгопечат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002527"/>
          <p:cNvPicPr/>
          <p:nvPr/>
        </p:nvPicPr>
        <p:blipFill>
          <a:blip r:embed="rId1"/>
          <a:stretch/>
        </p:blipFill>
        <p:spPr>
          <a:xfrm>
            <a:off x="2340000" y="1413000"/>
            <a:ext cx="4467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чатная мастерская      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едневековая график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1036" t="1490" r="1058" b="1714"/>
          <a:stretch/>
        </p:blipFill>
        <p:spPr>
          <a:xfrm>
            <a:off x="900000" y="1413000"/>
            <a:ext cx="741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аница печатной Библ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оследствия изобретения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книгопечат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овое тиражирование книг, которые стали более дешевыми и доступны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остранению грамотности не только среди духовенства и высших сословий, но и среди простого нар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я, накопленные людьми, стали теперь сохраняться точнее и распространяться быстрее; доступ к ним получило гораздо большее число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ное развитие науки, образования и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3280" y="1483920"/>
            <a:ext cx="40435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больших монастырях были созданы мастерские, в которых монахи переписывали кни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писка книг, особенно религиозных считалась Богоугодн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004683"/>
          <p:cNvPicPr/>
          <p:nvPr/>
        </p:nvPicPr>
        <p:blipFill>
          <a:blip r:embed="rId1"/>
          <a:stretch/>
        </p:blipFill>
        <p:spPr>
          <a:xfrm>
            <a:off x="611280" y="1125360"/>
            <a:ext cx="37036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85840" y="549000"/>
            <a:ext cx="3900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 было очень мало и стоили они дор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ь самые богатые люди могли их приобре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ли и знатные люди дарили их друг другу в самых торжественных случа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WordArt 14"/>
          <p:cNvSpPr txBox="1"/>
          <p:nvPr/>
        </p:nvSpPr>
        <p:spPr>
          <a:xfrm>
            <a:off x="928800" y="1214280"/>
            <a:ext cx="2714400" cy="44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ериал для пись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18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ahoma"/>
              </a:rPr>
              <a:t>Пергамент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- телячья или баранья кожа, выделанная особым образом и применявшаяся для письм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зван по древнему городу Пергам в Малой Азии, где впервые начал изготовляться во II в. до н.э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Стихарь минейный"/>
          <p:cNvPicPr/>
          <p:nvPr/>
        </p:nvPicPr>
        <p:blipFill>
          <a:blip r:embed="rId1"/>
          <a:stretch/>
        </p:blipFill>
        <p:spPr>
          <a:xfrm>
            <a:off x="4643280" y="1125360"/>
            <a:ext cx="4146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ых книг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31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одной рукописной книгой трудилось много люд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и писали текст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аллиграфическим подчер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гие затейливо украшали заглавные буквы в начале строки –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нициал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ьи дел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заставк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орнамен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вертые рисов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миниатю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002164"/>
          <p:cNvPicPr/>
          <p:nvPr/>
        </p:nvPicPr>
        <p:blipFill>
          <a:blip r:embed="rId1"/>
          <a:stretch/>
        </p:blipFill>
        <p:spPr>
          <a:xfrm>
            <a:off x="2556000" y="1125360"/>
            <a:ext cx="37368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 flipH="1">
            <a:off x="5292720" y="4797360"/>
            <a:ext cx="2160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093080" y="5013360"/>
            <a:ext cx="1438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б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6012000" y="2205000"/>
            <a:ext cx="1728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020000" y="2349360"/>
            <a:ext cx="1871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ставка и орна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4724280"/>
            <a:ext cx="1655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ици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32000" y="450864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547640" y="234936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24000" y="2492280"/>
            <a:ext cx="1800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атю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95640" y="765000"/>
            <a:ext cx="489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ициал (буквица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крашенная заглавная (начальная) буква какого-либо раздела в тексте рукописи или печатной кни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4149720"/>
            <a:ext cx="40384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иниатю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оизведение изобразительного искусства, отличающееся небольшими размерами и особой тонкостью художественных прие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ин 2"/>
          <p:cNvPicPr/>
          <p:nvPr/>
        </p:nvPicPr>
        <p:blipFill>
          <a:blip r:embed="rId1"/>
          <a:srcRect l="0" t="0" r="0" b="8989"/>
          <a:stretch/>
        </p:blipFill>
        <p:spPr>
          <a:xfrm>
            <a:off x="468360" y="333360"/>
            <a:ext cx="2763720" cy="338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001764"/>
          <p:cNvPicPr/>
          <p:nvPr/>
        </p:nvPicPr>
        <p:blipFill>
          <a:blip r:embed="rId2"/>
          <a:stretch/>
        </p:blipFill>
        <p:spPr>
          <a:xfrm>
            <a:off x="4500720" y="3429000"/>
            <a:ext cx="4392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оганн Гутенберг. </a:t>
            </a:r>
            <a:br>
              <a:rPr sz="4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бота неизвестного художника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XVI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в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402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Гутенберг изобрел книгопечатание. Из металла он отливал отдельные литеры (буквы), из которых затем составлял строки и страницы набора и делал оттиск на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1450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вая печатная кни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2189" t="1740" r="2776" b="2008"/>
          <a:stretch/>
        </p:blipFill>
        <p:spPr>
          <a:xfrm>
            <a:off x="468360" y="1484280"/>
            <a:ext cx="381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ттенберг догадался распилить доску на маленькие кусочки, на каждом из которых помещалась одна буква – ли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можно было не вырезать каждую новую страницу целиком, а составлять разные страницы из одних и тех же лите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90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20Z</dcterms:created>
  <dc:creator>2</dc:creator>
  <dc:description/>
  <dc:language>en-US</dc:language>
  <cp:lastModifiedBy>Нинель</cp:lastModifiedBy>
  <dcterms:modified xsi:type="dcterms:W3CDTF">2013-11-16T12:28:18Z</dcterms:modified>
  <cp:revision>17</cp:revision>
  <dc:subject/>
  <dc:title>Слайд 1</dc:title>
</cp:coreProperties>
</file>