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05C0-0445-4598-AC6B-192361A2D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AB40-DC0E-412C-824E-E76C6E007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6337-71BF-45FE-B17C-2932D501B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DBC3-E759-4E27-B240-D093A75F2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7334-C6AB-4CB7-A12A-0CB1FEC7B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8DF6-C840-427C-8828-A20582DC3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0A97-44BB-4027-96B4-C9735D953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170C-F610-49E7-8CD6-5BBC7EBD9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998B-3109-4891-A8F7-8D790E70E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883A-AE85-4CB3-A4B4-0E76DE68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48A1-B413-434B-B8D6-0477B74D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B244-654F-44BF-BAC3-03227F24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DA9FD-474E-4889-B45E-4F5B8E5ADCB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редневековые книг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28840" y="5571720"/>
            <a:ext cx="64008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обретение книгопечат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" name="Picture 4" descr="002527"/>
          <p:cNvPicPr/>
          <p:nvPr/>
        </p:nvPicPr>
        <p:blipFill>
          <a:blip r:embed="rId1"/>
          <a:stretch/>
        </p:blipFill>
        <p:spPr>
          <a:xfrm>
            <a:off x="2340000" y="1413000"/>
            <a:ext cx="44672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Печатная мастерская          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средневековая графика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rcRect l="1036" t="1490" r="1058" b="1714"/>
          <a:stretch/>
        </p:blipFill>
        <p:spPr>
          <a:xfrm>
            <a:off x="900000" y="1413000"/>
            <a:ext cx="7417080" cy="52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Страница печатной Библи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353440" cy="52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Последствия изобретения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 книгопечатания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ассовое тиражирование книг, которые стали более дешевыми и доступным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спространению грамотности не только среди духовенства и высших сословий, но и среди простого народ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нания, накопленные людьми, стали теперь сохраняться точнее и распространяться быстрее; доступ к ним получило гораздо большее число люде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урное развитие науки, образования и литератур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Искусство рукописной книг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3280" y="1483920"/>
            <a:ext cx="404352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больших монастырях были созданы мастерские, в которых монахи переписывали книг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реписка книг, особенно религиозных считалась Богоугодным дело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" name="Picture 4" descr="004683"/>
          <p:cNvPicPr/>
          <p:nvPr/>
        </p:nvPicPr>
        <p:blipFill>
          <a:blip r:embed="rId1"/>
          <a:stretch/>
        </p:blipFill>
        <p:spPr>
          <a:xfrm>
            <a:off x="611280" y="1125360"/>
            <a:ext cx="370368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85840" y="549000"/>
            <a:ext cx="39006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ниг было очень мало и стоили они дорог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шь самые богатые люди могли их приобрета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роли и знатные люди дарили их друг другу в самых торжественных случая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WordArt 14"/>
          <p:cNvSpPr txBox="1"/>
          <p:nvPr/>
        </p:nvSpPr>
        <p:spPr>
          <a:xfrm>
            <a:off x="928800" y="1214280"/>
            <a:ext cx="2714400" cy="442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Материал для письм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186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3300"/>
                </a:solidFill>
                <a:latin typeface="Tahoma"/>
              </a:rPr>
              <a:t>Пергамент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- телячья или баранья кожа, выделанная особым образом и применявшаяся для письма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Назван по древнему городу Пергам в Малой Азии, где впервые начал изготовляться во II в. до н.э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" name="Picture 11" descr="Стихарь минейный"/>
          <p:cNvPicPr/>
          <p:nvPr/>
        </p:nvPicPr>
        <p:blipFill>
          <a:blip r:embed="rId1"/>
          <a:stretch/>
        </p:blipFill>
        <p:spPr>
          <a:xfrm>
            <a:off x="4643280" y="1125360"/>
            <a:ext cx="414684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Украшение рукописных книг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793116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д одной рукописной книгой трудилось много людей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120" indent="212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дни писали текст </a:t>
            </a: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каллиграфическим подчерком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120" indent="212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ругие затейливо украшали заглавные буквы в начале строки – </a:t>
            </a: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инициал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120" indent="212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етьи делали</a:t>
            </a: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 заставки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 орнамент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120" indent="212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етвертые рисовали</a:t>
            </a: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 миниатюр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Украшение рукописной книг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5" name="Picture 4" descr="002164"/>
          <p:cNvPicPr/>
          <p:nvPr/>
        </p:nvPicPr>
        <p:blipFill>
          <a:blip r:embed="rId1"/>
          <a:stretch/>
        </p:blipFill>
        <p:spPr>
          <a:xfrm>
            <a:off x="2556000" y="1125360"/>
            <a:ext cx="3736800" cy="5732640"/>
          </a:xfrm>
          <a:prstGeom prst="rect">
            <a:avLst/>
          </a:prstGeom>
          <a:ln w="0">
            <a:noFill/>
          </a:ln>
        </p:spPr>
      </p:pic>
      <p:sp>
        <p:nvSpPr>
          <p:cNvPr id="56" name="Line 7"/>
          <p:cNvSpPr/>
          <p:nvPr/>
        </p:nvSpPr>
        <p:spPr>
          <a:xfrm flipH="1">
            <a:off x="5292720" y="4797360"/>
            <a:ext cx="2160720" cy="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093080" y="5013360"/>
            <a:ext cx="143820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олбц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Line 10"/>
          <p:cNvSpPr/>
          <p:nvPr/>
        </p:nvSpPr>
        <p:spPr>
          <a:xfrm flipH="1">
            <a:off x="6012000" y="2205000"/>
            <a:ext cx="1728720" cy="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7020000" y="2349360"/>
            <a:ext cx="187164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ставка и орнамен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250920" y="4724280"/>
            <a:ext cx="165564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ициа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Line 13"/>
          <p:cNvSpPr/>
          <p:nvPr/>
        </p:nvSpPr>
        <p:spPr>
          <a:xfrm>
            <a:off x="1332000" y="4508640"/>
            <a:ext cx="2014560" cy="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Line 15"/>
          <p:cNvSpPr/>
          <p:nvPr/>
        </p:nvSpPr>
        <p:spPr>
          <a:xfrm>
            <a:off x="1547640" y="2349360"/>
            <a:ext cx="2014560" cy="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324000" y="2492280"/>
            <a:ext cx="180000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иниатю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995640" y="765000"/>
            <a:ext cx="48960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Инициал (буквица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украшенная заглавная (начальная) буква какого-либо раздела в тексте рукописи или печатной книг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4149720"/>
            <a:ext cx="403848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84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Миниатюр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произведение изобразительного искусства, отличающееся небольшими размерами и особой тонкостью художественных прием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" name="Picture 4" descr="ин 2"/>
          <p:cNvPicPr/>
          <p:nvPr/>
        </p:nvPicPr>
        <p:blipFill>
          <a:blip r:embed="rId1"/>
          <a:srcRect l="0" t="0" r="0" b="8989"/>
          <a:stretch/>
        </p:blipFill>
        <p:spPr>
          <a:xfrm>
            <a:off x="468360" y="333360"/>
            <a:ext cx="2763720" cy="3382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001764"/>
          <p:cNvPicPr/>
          <p:nvPr/>
        </p:nvPicPr>
        <p:blipFill>
          <a:blip r:embed="rId2"/>
          <a:stretch/>
        </p:blipFill>
        <p:spPr>
          <a:xfrm>
            <a:off x="4500720" y="3429000"/>
            <a:ext cx="439236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103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Иоганн Гутенберг. </a:t>
            </a:r>
            <a:br>
              <a:rPr sz="4000"/>
            </a:b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Работа неизвестного художника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XVI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 в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00720" y="1557360"/>
            <a:ext cx="4402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сер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V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. Гутенберг изобрел книгопечатание. Из металла он отливал отдельные литеры (буквы), из которых затем составлял строки и страницы набора и делал оттиск на бумаг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1450 г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первая печатная книг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rcRect l="2189" t="1740" r="2776" b="2008"/>
          <a:stretch/>
        </p:blipFill>
        <p:spPr>
          <a:xfrm>
            <a:off x="468360" y="1484280"/>
            <a:ext cx="38196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Литер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483920"/>
            <a:ext cx="4038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уттенберг догадался распилить доску на маленькие кусочки, на каждом из которых помещалась одна буква – литер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перь можно было не вырезать каждую новую страницу целиком, а составлять разные страницы из одних и тех же литер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439092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0T07:24:20Z</dcterms:created>
  <dc:creator>2</dc:creator>
  <dc:description/>
  <dc:language>en-US</dc:language>
  <cp:lastModifiedBy>Нинель</cp:lastModifiedBy>
  <dcterms:modified xsi:type="dcterms:W3CDTF">2013-11-16T12:28:18Z</dcterms:modified>
  <cp:revision>17</cp:revision>
  <dc:subject/>
  <dc:title>Слайд 1</dc:title>
</cp:coreProperties>
</file>