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20A9-CD73-4B67-8B90-90E1C4B2E1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8832-28A8-4BA2-A559-41992DF9E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0E6-8D6B-46F4-9982-635A934B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A71-2C54-415E-AFC2-1BA25949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95A-74DA-470A-B991-804AC81F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835-63E6-41D3-9580-254E87A8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E3AB-251C-4F1C-BC36-10295715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7257-432A-4ABC-8D74-F0694999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1DD4-F59D-4AB6-B72D-395CA8EB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F921-C365-4ECD-907B-460F00FD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7A11-E8B6-4DC0-858B-5E9DFA89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BFEC-49C0-455F-90DE-99D8CB23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FC9D-57C4-467E-897D-1149A083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47A-DFB9-43A3-B9BE-AD19765E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DEBB-327D-4CF6-9D71-D4FC6CDE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E8BD-1E1A-4AFB-8E90-7901DB6D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6906-8411-42A1-8492-EDE7C23C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B730-91B6-4531-8467-03E9FA50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F62E-D662-454E-A070-DEAAAD6F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B70BA-C6D8-490D-9FF0-5B35A7F7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2D4D8-3B4D-4C02-B389-EF12C1DB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A6EB8-EBB5-4F97-82B8-B9858621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48DAF-4F36-4855-9E66-6C5C2944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A354F-44DB-4934-A8B9-FCBCF821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7CC-F0A9-4979-9232-6F5A634D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36E0F7-1A14-49B9-9E89-22B94CF5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2B21F-6A9F-4942-9236-3B48373A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B1529-FB8A-4BEE-A5E3-AD12115B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20CE3-7D35-4462-AE8E-F279E8ED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DDCD7-96C8-4DAB-BCB6-BD9EBB8C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47906-3B28-45E8-A129-50383BCA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63C6D-78EB-4B7B-81EC-821610FA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1CC44-51D8-4E5E-B19C-093191AD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F1E53-261D-4727-947B-1E5A2277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BF171-25D4-4111-9797-7D6C4D83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F98-A94A-4B39-A82E-F36C1830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B3D46-E686-4748-B515-E4048EFF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6D10B-2C15-4BCA-A104-1E8C50C1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7BD19-F93A-479B-BBCD-BE6B1170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C81FC-5116-4183-8E5F-BCAF30C2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0D853-547B-4256-98CD-8D5A4919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1DDD0-66C2-4C1D-B56F-1AB8B1A7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84E6C-039A-4186-89DF-0B90461C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75DA3-3B6D-46BE-AAB7-098C99D4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75D6F-BB0F-4AF5-BE6A-FB345DC9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AC1-2436-4A24-ABE8-70AED2C5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954-9AAA-4C13-BAF3-E27F08EB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35F-F5CB-4F06-B3F7-76B17FCB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B46-D1EA-4C92-A6E4-F2BDFDBA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AB9-2D5A-4CDA-BD8C-9B3D38AC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DBB3-F923-4588-A207-172639D5F42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C82C-99C9-4237-9D3F-D5110FE9C2C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DD08-1856-4E7F-ADBC-155DD3470EB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6863-A5D8-4C07-8BF9-D8CBC132098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6985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ru-RU" sz="6600" spc="-1" strike="noStrike">
                <a:solidFill>
                  <a:srgbClr val="21222b"/>
                </a:solidFill>
                <a:latin typeface="Tahoma"/>
                <a:ea typeface="Microsoft Himalaya"/>
              </a:rPr>
              <a:t>Симметрия в животном мире</a:t>
            </a:r>
            <a:endParaRPr b="0" lang="en-US" sz="6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Georgia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6525000" y="55897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«зоолог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kotenok%2B[1]"/>
          <p:cNvPicPr/>
          <p:nvPr/>
        </p:nvPicPr>
        <p:blipFill>
          <a:blip r:embed="rId2"/>
          <a:stretch/>
        </p:blipFill>
        <p:spPr>
          <a:xfrm>
            <a:off x="5508720" y="2421000"/>
            <a:ext cx="358452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img14"/>
          <p:cNvPicPr/>
          <p:nvPr/>
        </p:nvPicPr>
        <p:blipFill>
          <a:blip r:embed="rId1"/>
          <a:stretch/>
        </p:blipFill>
        <p:spPr>
          <a:xfrm>
            <a:off x="5105520" y="2637000"/>
            <a:ext cx="3504960" cy="32302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4a5e"/>
                </a:solidFill>
                <a:latin typeface="Trebuchet MS"/>
              </a:rPr>
              <a:t>Симметрия в животном мир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Picture 5" descr="img2"/>
          <p:cNvPicPr/>
          <p:nvPr/>
        </p:nvPicPr>
        <p:blipFill>
          <a:blip r:embed="rId2"/>
          <a:stretch/>
        </p:blipFill>
        <p:spPr>
          <a:xfrm>
            <a:off x="1116000" y="2765520"/>
            <a:ext cx="3527280" cy="28400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/>
          <p:cNvSpPr/>
          <p:nvPr/>
        </p:nvSpPr>
        <p:spPr>
          <a:xfrm>
            <a:off x="1188360" y="5805360"/>
            <a:ext cx="43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Segoe Script"/>
              </a:rPr>
              <a:t>осевая сим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2"/>
          <p:cNvSpPr/>
          <p:nvPr/>
        </p:nvSpPr>
        <p:spPr>
          <a:xfrm>
            <a:off x="324000" y="404640"/>
            <a:ext cx="804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сказать, что каждое животное, насекомое, рыба, птица состоит из правой и левой половин . Симметричность формы необходима рыбе, чтобы плыть, птице, чтобы летать, животному, чтобы бежать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risunok1"/>
          <p:cNvPicPr/>
          <p:nvPr/>
        </p:nvPicPr>
        <p:blipFill>
          <a:blip r:embed="rId1"/>
          <a:stretch/>
        </p:blipFill>
        <p:spPr>
          <a:xfrm>
            <a:off x="2340000" y="2556000"/>
            <a:ext cx="611964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"/>
          <p:cNvSpPr/>
          <p:nvPr/>
        </p:nvSpPr>
        <p:spPr>
          <a:xfrm>
            <a:off x="324000" y="836640"/>
            <a:ext cx="446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ическая симметрия имеет место у радиолярий и солнечников, тела которых сферической формы, а части распределены вокруг центра сферы и отходят от неё. У таких организмов нет ни передней, ни задней, ни боковых частей тела, любая плоскость, проведённая через центр, делит животное на одинаковые полов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Ромашка\Desktop\рр.jpg"/>
          <p:cNvPicPr/>
          <p:nvPr/>
        </p:nvPicPr>
        <p:blipFill>
          <a:blip r:embed="rId1"/>
          <a:stretch/>
        </p:blipFill>
        <p:spPr>
          <a:xfrm>
            <a:off x="5076720" y="836640"/>
            <a:ext cx="3382920" cy="2179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C:\Users\Ромашка\Desktop\i (1).jpg"/>
          <p:cNvPicPr/>
          <p:nvPr/>
        </p:nvPicPr>
        <p:blipFill>
          <a:blip r:embed="rId2"/>
          <a:stretch/>
        </p:blipFill>
        <p:spPr>
          <a:xfrm>
            <a:off x="4859280" y="3429000"/>
            <a:ext cx="2881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2"/>
          <p:cNvSpPr/>
          <p:nvPr/>
        </p:nvSpPr>
        <p:spPr>
          <a:xfrm>
            <a:off x="3041640" y="476280"/>
            <a:ext cx="610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диальной или лучистой симметрии тело имеет форму короткого или длинного цилиндра либо сосуда с центральной осью, от которого отходят в радиальном порядке части тела. Это кишечнополостные, иглокожие, морские звёз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Users\Ромашка\Desktop\i (2).jpg"/>
          <p:cNvPicPr/>
          <p:nvPr/>
        </p:nvPicPr>
        <p:blipFill>
          <a:blip r:embed="rId1"/>
          <a:stretch/>
        </p:blipFill>
        <p:spPr>
          <a:xfrm>
            <a:off x="5076720" y="4653000"/>
            <a:ext cx="2741760" cy="1828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Users\Ромашка\Desktop\i (3).jpg"/>
          <p:cNvPicPr/>
          <p:nvPr/>
        </p:nvPicPr>
        <p:blipFill>
          <a:blip r:embed="rId2"/>
          <a:stretch/>
        </p:blipFill>
        <p:spPr>
          <a:xfrm>
            <a:off x="324000" y="836640"/>
            <a:ext cx="2565360" cy="1924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Users\Ромашка\Desktop\i (4).jpg"/>
          <p:cNvPicPr/>
          <p:nvPr/>
        </p:nvPicPr>
        <p:blipFill>
          <a:blip r:embed="rId3"/>
          <a:stretch/>
        </p:blipFill>
        <p:spPr>
          <a:xfrm>
            <a:off x="468360" y="4221000"/>
            <a:ext cx="39369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2"/>
          <p:cNvSpPr/>
          <p:nvPr/>
        </p:nvSpPr>
        <p:spPr>
          <a:xfrm>
            <a:off x="0" y="234936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еркальной симметрии осей симметрии три, но симметричных сторон только одна пара. Потому что две другие стороны - брюшная и спинная - друг на друга не похожи. Этот вид симметрии характерен для большинства животных, в том числе насекомых, рыб, земноводных, рептилий, птиц, млекопит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4716360" y="620640"/>
            <a:ext cx="4067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асекомых, рыб, птиц, животных характерно несовместимое с поворотной симметрией различие между направлениями «вперед» и «назад». Придуманный в известной сказке о докторе Айболите фантастический Тянитолкай представляется совершенно невероятным существом, поскольку у него симметричны передняя и задняя половины. Направление движения является принципиально выделенным направлением, относительно которого нет симметрии у любого насекомого, любой рыбы или птицы, любого животного. В этом направлении животное устремляется за пищей, в этом же направлении оно спасается от преследов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метрия у человека</a:t>
            </a:r>
            <a:endParaRPr b="0" lang="en-US" sz="6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324000" y="184464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ое тело обладает билатеральной симметрией (внешний облик и строение скелета). Эта симметрия всегда являлась и является основным источником нашего эстетического восхищения хорошо сложенным человеческим телом. Тело человека построено по принципу двусторонней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3"/>
          <p:cNvSpPr/>
          <p:nvPr/>
        </p:nvSpPr>
        <p:spPr>
          <a:xfrm>
            <a:off x="4572000" y="39337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из нас рассматривает мозг как единую структуру, в действительности он разделён на две половины. Эти две части - два полушария - плотно прилегают друг к другу. В полном соответствии с общей симметрией тела человека каждое полушарие представляет собой почти точное зеркальное отображение друг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Users\Ромашка\Desktop\i (5).jpg"/>
          <p:cNvPicPr/>
          <p:nvPr/>
        </p:nvPicPr>
        <p:blipFill>
          <a:blip r:embed="rId1"/>
          <a:stretch/>
        </p:blipFill>
        <p:spPr>
          <a:xfrm>
            <a:off x="5083200" y="1289160"/>
            <a:ext cx="3594240" cy="2427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Users\Ромашка\Desktop\i (6).jpg"/>
          <p:cNvPicPr/>
          <p:nvPr/>
        </p:nvPicPr>
        <p:blipFill>
          <a:blip r:embed="rId2"/>
          <a:stretch/>
        </p:blipFill>
        <p:spPr>
          <a:xfrm>
            <a:off x="611280" y="4772160"/>
            <a:ext cx="2927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288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24456"/>
                </a:solidFill>
                <a:latin typeface="Segoe Print"/>
              </a:rPr>
              <a:t>Вывод: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324000" y="141300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ироде проявление симметрии многообразно.Птицы и животные и люди обладают симметрией; симметричность форм, окраски насекомых, птиц придает им  крас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имметрия - это не только красота. Симметричность формы необходима рыбе, чтобы плыть, птице, чтобы летать. Так что симметрия в природе существует неспроста: она еще и полезна, или, иначе целесообразна. В природе красивое всегда целесообразно, а целесообразное – всегда красиво. Симметрия это – красота и гармония; равновесие и устойчив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0:41:39Z</dcterms:created>
  <dc:creator>Жанна</dc:creator>
  <dc:description/>
  <dc:language>en-US</dc:language>
  <cp:lastModifiedBy>Ромашка</cp:lastModifiedBy>
  <dcterms:modified xsi:type="dcterms:W3CDTF">2013-01-09T11:54:39Z</dcterms:modified>
  <cp:revision>18</cp:revision>
  <dc:subject/>
  <dc:title>Слайд 1</dc:title>
</cp:coreProperties>
</file>