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B8DA-CF5A-4726-8A32-9631A5C032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813C-A5DA-417E-AE75-C95F1BB4E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B54-23F4-4DE5-8AE1-7EF4BF1D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114-2297-4590-BB55-5D6A9F3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FA6-7FD1-4C5B-8BC5-5A0A69BB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C0C-CA48-4705-A69F-1373106D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07D1-4932-4999-96B6-A777EAD1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3605-B400-426A-ABD6-B1DA8F86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BFCC-769B-4848-9F02-98E62AA9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B1A-BAAD-417A-9D8A-8406E10F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B2D7-7D18-4509-BA98-F6FCAA99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EC15-2E74-4EE6-A404-CB19C93A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D745-7D4F-41D2-BEF2-931F2BA0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42D-3D88-4920-8236-5A33A765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2BFF-AAA2-4E1A-8FD8-2DC54E6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4094-8BB5-4588-BE82-909C5A97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2A5-C7F5-4EF3-846D-B8F930A5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B2DA-0DE8-4382-95DF-47B44392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078B-F87F-4E80-A970-0A521B45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477D7-9E9E-4EB6-8617-280D6B52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CCEC4-12A8-48E9-A15E-47525671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98025-A1C2-4F49-B936-1FF924FD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2F606-9238-407F-9DE6-958F7222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74CC5-011E-4ED7-A778-8C8B02CB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BCA-CE3D-46F4-A77C-F2FEE49E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36004-76C9-4D9A-93FE-D7BBE554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828B1-6136-4A95-A736-02B02B2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0D526-CAF9-4ED0-A88F-6E76FBCF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BF76D-D1BC-43CC-8129-DC831BA2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9B1B3-4B40-4435-8478-856F0F2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5BE14-ED69-49D4-80AD-C62381D9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4D901-C7C2-42EE-92FD-B8FF489F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481EF-23D8-4F4B-888D-18DA8968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F75B-4151-4A78-BD30-D5DA3938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3C83-A5ED-4602-A7E8-1877E690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B9B-4F89-413C-8810-B914AA4F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127B-0FB4-489C-A36A-8015E5F3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531EA-F3C9-4541-B979-373B3B27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F3D6-02E6-47AC-912B-BC9DF05F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802D-4BCC-4840-904B-3ECA2835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5CE44-8C1F-4DDF-9F8F-7EBB841E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1C209-85ED-4880-8A83-92C0BD9A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5104B-250C-4F75-AF7A-4B938C75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4B21-0CBA-4C8C-A30F-B6484EB7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30A8-B787-407D-A7B9-EB3E1F30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B8B-9892-41E3-9068-C2808EF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286-AB83-4FC1-A06A-0A5496EA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902-D568-48A6-955E-5C9E408C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C94-D1DF-492E-B953-DF1903A7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970-90D7-4BAB-B4DE-7AEE49F1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E48E-D49C-4A58-9E92-6ED4DA1DA7E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FF2E-002D-4424-8998-1778C4E5982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FAEE-00C6-4DA1-AA93-067DA729BE2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7B44-93D1-4AFA-B97C-47257A24F66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6985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ru-RU" sz="6600" spc="-1" strike="noStrike">
                <a:solidFill>
                  <a:srgbClr val="21222b"/>
                </a:solidFill>
                <a:latin typeface="Tahoma"/>
                <a:ea typeface="Microsoft Himalaya"/>
              </a:rPr>
              <a:t>Симметрия в животном мире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Georgia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6525000" y="55897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«зоолог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kotenok%2B[1]"/>
          <p:cNvPicPr/>
          <p:nvPr/>
        </p:nvPicPr>
        <p:blipFill>
          <a:blip r:embed="rId2"/>
          <a:stretch/>
        </p:blipFill>
        <p:spPr>
          <a:xfrm>
            <a:off x="5508720" y="2421000"/>
            <a:ext cx="35845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img14"/>
          <p:cNvPicPr/>
          <p:nvPr/>
        </p:nvPicPr>
        <p:blipFill>
          <a:blip r:embed="rId1"/>
          <a:stretch/>
        </p:blipFill>
        <p:spPr>
          <a:xfrm>
            <a:off x="5105520" y="2637000"/>
            <a:ext cx="3504960" cy="32302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4a5e"/>
                </a:solidFill>
                <a:latin typeface="Trebuchet MS"/>
              </a:rPr>
              <a:t>Симметрия в животном мир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5" descr="img2"/>
          <p:cNvPicPr/>
          <p:nvPr/>
        </p:nvPicPr>
        <p:blipFill>
          <a:blip r:embed="rId2"/>
          <a:stretch/>
        </p:blipFill>
        <p:spPr>
          <a:xfrm>
            <a:off x="1116000" y="2765520"/>
            <a:ext cx="3527280" cy="28400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1188360" y="5805360"/>
            <a:ext cx="43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Segoe Script"/>
              </a:rPr>
              <a:t>осевая сим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324000" y="404640"/>
            <a:ext cx="804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казать, что каждое животное, насекомое, рыба, птица состоит из правой и левой половин . Симметричность формы необходима рыбе, чтобы плыть, птице, чтобы летать, животному, чтобы бежать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risunok1"/>
          <p:cNvPicPr/>
          <p:nvPr/>
        </p:nvPicPr>
        <p:blipFill>
          <a:blip r:embed="rId1"/>
          <a:stretch/>
        </p:blipFill>
        <p:spPr>
          <a:xfrm>
            <a:off x="2340000" y="2556000"/>
            <a:ext cx="61196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324000" y="836640"/>
            <a:ext cx="446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ческая симметрия имеет место у радиолярий и солнечников, тела которых сферической формы, а части распределены вокруг центра сферы и отходят от неё. У таких организмов нет ни передней, ни задней, ни боковых частей тела, любая плоскость, проведённая через центр, делит животное на одинаковые полов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Ромашка\Desktop\рр.jpg"/>
          <p:cNvPicPr/>
          <p:nvPr/>
        </p:nvPicPr>
        <p:blipFill>
          <a:blip r:embed="rId1"/>
          <a:stretch/>
        </p:blipFill>
        <p:spPr>
          <a:xfrm>
            <a:off x="5076720" y="836640"/>
            <a:ext cx="3382920" cy="2179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Ромашка\Desktop\i (1).jpg"/>
          <p:cNvPicPr/>
          <p:nvPr/>
        </p:nvPicPr>
        <p:blipFill>
          <a:blip r:embed="rId2"/>
          <a:stretch/>
        </p:blipFill>
        <p:spPr>
          <a:xfrm>
            <a:off x="4859280" y="3429000"/>
            <a:ext cx="2881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2"/>
          <p:cNvSpPr/>
          <p:nvPr/>
        </p:nvSpPr>
        <p:spPr>
          <a:xfrm>
            <a:off x="3041640" y="476280"/>
            <a:ext cx="610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диальной или лучистой симметрии тело имеет форму короткого или длинного цилиндра либо сосуда с центральной осью, от которого отходят в радиальном порядке части тела. Это кишечнополостные, иглокожие, морские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Ромашка\Desktop\i (2).jpg"/>
          <p:cNvPicPr/>
          <p:nvPr/>
        </p:nvPicPr>
        <p:blipFill>
          <a:blip r:embed="rId1"/>
          <a:stretch/>
        </p:blipFill>
        <p:spPr>
          <a:xfrm>
            <a:off x="5076720" y="4653000"/>
            <a:ext cx="2741760" cy="182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Ромашка\Desktop\i (3).jpg"/>
          <p:cNvPicPr/>
          <p:nvPr/>
        </p:nvPicPr>
        <p:blipFill>
          <a:blip r:embed="rId2"/>
          <a:stretch/>
        </p:blipFill>
        <p:spPr>
          <a:xfrm>
            <a:off x="324000" y="83664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Ромашка\Desktop\i (4).jpg"/>
          <p:cNvPicPr/>
          <p:nvPr/>
        </p:nvPicPr>
        <p:blipFill>
          <a:blip r:embed="rId3"/>
          <a:stretch/>
        </p:blipFill>
        <p:spPr>
          <a:xfrm>
            <a:off x="468360" y="4221000"/>
            <a:ext cx="3936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2"/>
          <p:cNvSpPr/>
          <p:nvPr/>
        </p:nvSpPr>
        <p:spPr>
          <a:xfrm>
            <a:off x="0" y="234936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еркальной симметрии осей симметрии три, но симметричных сторон только одна пара. Потому что две другие стороны - брюшная и спинная - друг на друга не похожи. Этот вид симметрии характерен для большинства животных, в том числе насекомых, рыб, земноводных, рептилий, птиц, млекопит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4716360" y="620640"/>
            <a:ext cx="4067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асекомых, рыб, птиц, животных характерно несовместимое с поворотной симметрией различие между направлениями «вперед» и «назад». Придуманный в известной сказке о докторе Айболите фантастический Тянитолкай представляется совершенно невероятным существом, поскольку у него симметричны передняя и задняя половины. Направление движения является принципиально выделенным направлением, относительно которого нет симметрии у любого насекомого, любой рыбы или птицы, любого животного. В этом направлении животное устремляется за пищей, в этом же направлении оно спасается от преследов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метрия у человека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324000" y="18446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ое тело обладает билатеральной симметрией (внешний облик и строение скелета). Эта симметрия всегда являлась и является основным источником нашего эстетического восхищения хорошо сложенным человеческим телом. Тело человека построено по принципу двусторонней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4572000" y="3933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из нас рассматривает мозг как единую структуру, в действительности он разделён на две половины. Эти две части - два полушария - плотно прилегают друг к другу. В полном соответствии с общей симметрией тела человека каждое полушарие представляет собой почти точное зеркальное отображение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Users\Ромашка\Desktop\i (5).jpg"/>
          <p:cNvPicPr/>
          <p:nvPr/>
        </p:nvPicPr>
        <p:blipFill>
          <a:blip r:embed="rId1"/>
          <a:stretch/>
        </p:blipFill>
        <p:spPr>
          <a:xfrm>
            <a:off x="5083200" y="1289160"/>
            <a:ext cx="3594240" cy="2427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Ромашка\Desktop\i (6).jpg"/>
          <p:cNvPicPr/>
          <p:nvPr/>
        </p:nvPicPr>
        <p:blipFill>
          <a:blip r:embed="rId2"/>
          <a:stretch/>
        </p:blipFill>
        <p:spPr>
          <a:xfrm>
            <a:off x="611280" y="4772160"/>
            <a:ext cx="2927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288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24456"/>
                </a:solidFill>
                <a:latin typeface="Segoe Print"/>
              </a:rPr>
              <a:t>Вывод: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324000" y="1413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проявление симметрии многообразно.Птицы и животные и люди обладают симметрией; симметричность форм, окраски насекомых, птиц придает им  кра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имметрия - это не только красота. Симметричность формы необходима рыбе, чтобы плыть, птице, чтобы летать. Так что симметрия в природе существует неспроста: она еще и полезна, или, иначе целесообразна. В природе красивое всегда целесообразно, а целесообразное – всегда красиво. Симметрия это – красота и гармония; равновесие и устойчив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0:41:39Z</dcterms:created>
  <dc:creator>Жанна</dc:creator>
  <dc:description/>
  <dc:language>en-US</dc:language>
  <cp:lastModifiedBy>Ромашка</cp:lastModifiedBy>
  <dcterms:modified xsi:type="dcterms:W3CDTF">2013-01-09T11:54:39Z</dcterms:modified>
  <cp:revision>18</cp:revision>
  <dc:subject/>
  <dc:title>Слайд 1</dc:title>
</cp:coreProperties>
</file>