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48DF-D205-4528-9989-827921F701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4DD4-D22A-419B-A57C-28691BD42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482-E1D7-4B12-9499-61567D6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FB5-AAB8-48C2-96A5-EBD391E2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FB4-53C4-449D-A38B-A514FAEE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599-B887-41FA-95FC-D6F9CA53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F4F6-3CFA-45A8-8E59-DC135975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E476-4D54-4C07-85C3-460A181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7784-4B39-4770-BFCA-FF74D3B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4407-EA4E-4CF3-AAE6-F8039D0D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5E3-F1CB-4E87-89EB-9A78FDFF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6B4-5950-4E86-90D3-E54D25D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140-E880-4B3E-B585-FFE892E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BA5-1F97-4149-9991-E0E7F150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5BD8-CA87-4D71-8CA6-3569B8C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5225-388F-4459-863E-9434F3A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535D-24E7-4C10-A7A0-C380EEA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7A23-52EA-4103-AA10-B64092E6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663-A410-4562-8A68-1FE59B4A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E5E81-DFBD-45F0-BCBA-C1A17342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24649-CD3B-4C43-8773-3A617F8D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6B073-4517-4DBF-BC65-2597BB8D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BDC68-DC97-4BB1-9C00-78167E9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94C16-1509-459A-9A65-3FBC655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D3F-5726-4A96-9837-123A704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E52F3-7D6D-415E-B203-4022793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A452D-853F-43D2-B61A-6F14DB7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FE359-3818-4017-B4D7-F8B2FA0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40D2F-942D-4FAC-B869-C634404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93BAC-F31B-414B-B333-BF49EF35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3C7AB-173D-40FD-B37A-4FC88396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3E7C7-2D49-4DAF-8C1E-9C0A9701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AF69-FA12-44A4-A5E7-E9544BB4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8AFB-93C6-4BA2-8CB6-C2DBD85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162F-86B7-4F3A-8401-F2F0493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E22-02F2-4442-8E7A-5377AEF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6229-FE3F-4E6E-9A31-D639A61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EAA3-3FF0-47B5-AF3D-1F846D51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EDA4-AFD8-4402-A5AC-4B5BAF72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EA157-E320-442E-8BCA-2743E66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9EAF-93ED-4157-B935-07D92C7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B2F3-898F-4431-A063-807B554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0035-C8B7-4321-8277-7A2EBE3E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16D2-2DD2-4ECC-AD68-76B13208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6C1F-2B1A-4253-A0ED-BF4B6836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12E-BE83-4688-A370-936F75D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5A9-96B0-47AB-BEBD-F0E264DF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23E-11BD-42BA-BA55-5C7D845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3F7-5A73-4DE0-938A-6908569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03D-4934-41D5-A62D-17899459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A85E-E526-488F-8743-D10409C6F39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6E8-A80D-43EC-A14E-97CD94CC29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34A8-ECCD-454C-A511-7FB60702CE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7C1-9BF8-4FCB-90A1-EB5A77FF02B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985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21222b"/>
                </a:solidFill>
                <a:latin typeface="Tahoma"/>
                <a:ea typeface="Microsoft Himalaya"/>
              </a:rPr>
              <a:t>Симметрия в животном мире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525000" y="55897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«зоолог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kotenok%2B[1]"/>
          <p:cNvPicPr/>
          <p:nvPr/>
        </p:nvPicPr>
        <p:blipFill>
          <a:blip r:embed="rId2"/>
          <a:stretch/>
        </p:blipFill>
        <p:spPr>
          <a:xfrm>
            <a:off x="5508720" y="2421000"/>
            <a:ext cx="35845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img14"/>
          <p:cNvPicPr/>
          <p:nvPr/>
        </p:nvPicPr>
        <p:blipFill>
          <a:blip r:embed="rId1"/>
          <a:stretch/>
        </p:blipFill>
        <p:spPr>
          <a:xfrm>
            <a:off x="5105520" y="2637000"/>
            <a:ext cx="3504960" cy="3230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Симметрия в животном мир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5" descr="img2"/>
          <p:cNvPicPr/>
          <p:nvPr/>
        </p:nvPicPr>
        <p:blipFill>
          <a:blip r:embed="rId2"/>
          <a:stretch/>
        </p:blipFill>
        <p:spPr>
          <a:xfrm>
            <a:off x="1116000" y="2765520"/>
            <a:ext cx="3527280" cy="28400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188360" y="580536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Segoe Script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324000" y="404640"/>
            <a:ext cx="804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каждое животное, насекомое, рыба, птица состоит из правой и левой половин . Симметричность формы необходима рыбе, чтобы плыть, птице, чтобы летать, животному, чтобы бежат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risunok1"/>
          <p:cNvPicPr/>
          <p:nvPr/>
        </p:nvPicPr>
        <p:blipFill>
          <a:blip r:embed="rId1"/>
          <a:stretch/>
        </p:blipFill>
        <p:spPr>
          <a:xfrm>
            <a:off x="2340000" y="2556000"/>
            <a:ext cx="6119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324000" y="836640"/>
            <a:ext cx="44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еская симметрия имеет место у радиолярий и солнечников, тела которых сферической формы, а части распределены вокруг центра сферы и отходят от неё. У таких организмов нет ни передней, ни задней, ни боковых частей тела, любая плоскость, проведённая через центр, делит животное на одинаковые полов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Ромашка\Desktop\рр.jpg"/>
          <p:cNvPicPr/>
          <p:nvPr/>
        </p:nvPicPr>
        <p:blipFill>
          <a:blip r:embed="rId1"/>
          <a:stretch/>
        </p:blipFill>
        <p:spPr>
          <a:xfrm>
            <a:off x="5076720" y="836640"/>
            <a:ext cx="3382920" cy="217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Ромашка\Desktop\i (1).jpg"/>
          <p:cNvPicPr/>
          <p:nvPr/>
        </p:nvPicPr>
        <p:blipFill>
          <a:blip r:embed="rId2"/>
          <a:stretch/>
        </p:blipFill>
        <p:spPr>
          <a:xfrm>
            <a:off x="4859280" y="3429000"/>
            <a:ext cx="2881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3041640" y="476280"/>
            <a:ext cx="610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диальной или лучистой симметрии тело имеет форму короткого или длинного цилиндра либо сосуда с центральной осью, от которого отходят в радиальном порядке части тела. Это кишечнополостные, иглокожие, морские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Ромашка\Desktop\i (2).jpg"/>
          <p:cNvPicPr/>
          <p:nvPr/>
        </p:nvPicPr>
        <p:blipFill>
          <a:blip r:embed="rId1"/>
          <a:stretch/>
        </p:blipFill>
        <p:spPr>
          <a:xfrm>
            <a:off x="5076720" y="4653000"/>
            <a:ext cx="274176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Ромашка\Desktop\i (3).jpg"/>
          <p:cNvPicPr/>
          <p:nvPr/>
        </p:nvPicPr>
        <p:blipFill>
          <a:blip r:embed="rId2"/>
          <a:stretch/>
        </p:blipFill>
        <p:spPr>
          <a:xfrm>
            <a:off x="324000" y="83664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Ромашка\Desktop\i (4).jpg"/>
          <p:cNvPicPr/>
          <p:nvPr/>
        </p:nvPicPr>
        <p:blipFill>
          <a:blip r:embed="rId3"/>
          <a:stretch/>
        </p:blipFill>
        <p:spPr>
          <a:xfrm>
            <a:off x="468360" y="4221000"/>
            <a:ext cx="3936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0" y="23493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еркальной симметрии осей симметрии три, но симметричных сторон только одна пара. Потому что две другие стороны - брюшная и спинная - друг на друга не похожи. Этот вид симметрии характерен для большинства животных, в том числе насекомых, рыб, земноводных, рептилий, птиц, млекопит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4716360" y="620640"/>
            <a:ext cx="406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секомых, рыб, птиц, животных характерно несовместимое с поворотной симметрией различие между направлениями «вперед» и «назад». Придуманный в известной сказке о докторе Айболите фантастический Тянитолкай представляется совершенно невероятным существом, поскольку у него симметричны передняя и задняя половины. Направление движения является принципиально выделенным направлением, относительно которого нет симметрии у любого насекомого, любой рыбы или птицы, любого животного. В этом направлении животное устремляется за пищей, в этом же направлении оно спасается от преследов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метрия у человека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324000" y="1844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тело обладает билатеральной симметрией (внешний облик и строение скелета). Эта симметрия всегда являлась и является основным источником нашего эстетического восхищения хорошо сложенным человеческим телом. Тело человека построено по принципу двусторонн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572000" y="3933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из нас рассматривает мозг как единую структуру, в действительности он разделён на две половины. Эти две части - два полушария - плотно прилегают друг к другу. В полном соответствии с общей симметрией тела человека каждое полушарие представляет собой почти точное зеркальное отображение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Ромашка\Desktop\i (5).jpg"/>
          <p:cNvPicPr/>
          <p:nvPr/>
        </p:nvPicPr>
        <p:blipFill>
          <a:blip r:embed="rId1"/>
          <a:stretch/>
        </p:blipFill>
        <p:spPr>
          <a:xfrm>
            <a:off x="5083200" y="1289160"/>
            <a:ext cx="3594240" cy="242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Ромашка\Desktop\i (6).jpg"/>
          <p:cNvPicPr/>
          <p:nvPr/>
        </p:nvPicPr>
        <p:blipFill>
          <a:blip r:embed="rId2"/>
          <a:stretch/>
        </p:blipFill>
        <p:spPr>
          <a:xfrm>
            <a:off x="611280" y="4772160"/>
            <a:ext cx="2927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288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24456"/>
                </a:solidFill>
                <a:latin typeface="Segoe Print"/>
              </a:rPr>
              <a:t>Вывод: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324000" y="1413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проявление симметрии многообразно.Птицы и животные и люди обладают симметрией; симметричность форм, окраски насекомых, птиц придает им 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имметрия - это не только красота. Симметричность формы необходима рыбе, чтобы плыть, птице, чтобы летать. Так что симметрия в природе существует неспроста: она еще и полезна, или, иначе целесообразна. В природе красивое всегда целесообразно, а целесообразное – всегда красиво. Симметрия это – красота и гармония; равновесие и устойчив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0:41:39Z</dcterms:created>
  <dc:creator>Жанна</dc:creator>
  <dc:description/>
  <dc:language>en-US</dc:language>
  <cp:lastModifiedBy>Ромашка</cp:lastModifiedBy>
  <dcterms:modified xsi:type="dcterms:W3CDTF">2013-01-09T11:54:39Z</dcterms:modified>
  <cp:revision>18</cp:revision>
  <dc:subject/>
  <dc:title>Слайд 1</dc:title>
</cp:coreProperties>
</file>