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7CB-C489-4C5B-ABFF-9B5ED44E6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Этимолог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"орхестра"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озникло в Греции задолго до нашей эры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"Орхестрой" называлась площадка перед сценой в древне-греческом театре, где размещался хор - непременный участник любой трагедии или комедии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"орхестра" пережило античную цивилизацию: спустя десятки лет после её гибели так стали называть помещение в театре, где располагались музыканты, а позже - и сам ансамбль исполнител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История симфонического оркестр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исходе средневековья в Италии сделали попытку возродить античную драму. Это положило начало совершенно иному типу музыкально-театрального искусства -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пере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Хор здесь, правда, не играл такой выдающейся роли, как в древнегреческой трагедии: главное значение в ранней европейской опере приобрели певцы-солисты с группой инструменталистов, которые аккомпанировали пению. Однако они не были единственными участниками представления, поэтому, чтобы не мешать зрителям видеть артистов на подмостках, располагались в специальном углублении между партером и сценой. Вначале "оркестром" стали называть именно это место, а затем уже - и самих исполнителей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цертный симфонический оркестр, в отличие от оперного, располагается прямо на сцене и постоянно находится в поле зрения слушателей. В силу исторических традиций концертный и оперный симфонические оркестры долгое время отличались своим составом, но в наши дни это различие почти стерлось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щее число музыкантов симфонического оркестра не постоянно: оно может колебаться в пределах 60-120 (и даже больше) человек. Такому большому составу участников для согласованной игры необходимо умелое руководство. Эта роль принадлежит дирижеру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о начала XIX века дирижер во время исполнения сам играл на каком-нибудь инструменте - например, на скрипке. Однако со временем содержание симфонической музыки усложнилось, и этот факт мало-помалу вынудил дирижеров отказаться от подобного совмещ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9B1F-83A3-41A6-A989-46E85D0FB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693-F1A8-4E9C-A034-747454DA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A15-81D5-4CA4-AC18-664B769F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3C8-CADE-4E33-9BE7-660CD71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3EA-6C08-47A7-9022-6F4CAF2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B3B-FBDD-451F-A089-E7ECFAAF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2A7-7195-4383-B66B-887316B5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DB1-FDDC-49CC-BD96-52266374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D07-FCF8-41A3-9341-F3AA141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1F-9258-45C9-9B78-F567AD1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4A9-A848-485A-BA9C-997F912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DD6-E17B-4807-A38A-CC7F8F89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2E8-D836-4F9E-8D6E-8D089F9C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8E4F-2DE4-49E3-94FF-CAD433DB0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60;&#1072;&#1081;&#1083;:&#1052;&#1086;&#1085;&#1085;&#1072;_&#1051;&#1080;&#1079;&#1072;_&#1044;&#1078;&#1086;&#1082;&#1086;&#1085;&#1076;&#1072;.jp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Симфоническая</a:t>
            </a:r>
            <a:r>
              <a:rPr b="1" lang="en-US" sz="10600" spc="-1" strike="noStrike">
                <a:solidFill>
                  <a:srgbClr val="f745c8"/>
                </a:solidFill>
                <a:latin typeface="Monotype Corsiva"/>
              </a:rPr>
              <a:t> </a:t>
            </a: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музыка.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5300640"/>
            <a:ext cx="70675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Symphonia -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озвуч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69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Симфония имеет строение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1 ч.– сонатная форма -аллегр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2 ч.– медленная, задумчи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3 ч.– игра, веселье (менуэ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4 ч.– быстрый финал (песенно-танцевальны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Воплощает в себе разные стороны жизн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32968"/>
                </a:solidFill>
                <a:latin typeface="Monotype Corsiva"/>
              </a:rPr>
              <a:t>Симфония №40 В.-А. Моцар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19280" y="1170000"/>
            <a:ext cx="57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ранная, непонятн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трагивает самые глубокие человеческие чувств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передила своё врем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 и в «Джоконде»… загадка мира и внутренней жизни, неизмеримое богатство человеческой душ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Леонардо да Винчи.Монна Лиза (Джоконда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309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Четыре части симфонии</a:t>
            </a:r>
            <a:br>
              <a:rPr sz="66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 –трепетная, нежная, беспокойная…</a:t>
            </a:r>
            <a:br>
              <a:rPr sz="66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дставьте себя дирижёром симфонического оркестра и, слушая , дирижируйте этой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727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2 – контрастирует с 1-й – её образный строй - светлая, ясная, спокойная лири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35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-108000" y="3500280"/>
            <a:ext cx="547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5227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– менуэт. Строгая, энергичная, целеустремлённая тема подчёркивает твёрдую решимость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3184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– сближается с первой. По характеру образов между ними словно перекидывается ар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3272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50920" y="5805360"/>
            <a:ext cx="79930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410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Попробуйте ответить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Есть ли в симфониях наз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лушали ли вы симфон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де можно услышать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то исполняет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32968"/>
                </a:solidFill>
                <a:latin typeface="Monotype Corsiva"/>
              </a:rPr>
              <a:t>Симфон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едущий жан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оркестровой музыки, сложное многочастное произве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музыке занимает такое же место, как роман или драма в литерату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имфония достигла совершенства в 18 ве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32968"/>
                </a:solidFill>
                <a:latin typeface="Monotype Corsiva"/>
              </a:rPr>
              <a:t>Симфония – это?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01600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Это крупный музыкальный жанр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сновное действующее лицо и исполнитель в ней –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симфонический оркест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ремя звучания – от 30 минут до ча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Симфонический оркест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БСО2.jpg"/>
          <p:cNvPicPr/>
          <p:nvPr/>
        </p:nvPicPr>
        <p:blipFill>
          <a:blip r:embed="rId1"/>
          <a:stretch/>
        </p:blipFill>
        <p:spPr>
          <a:xfrm>
            <a:off x="324000" y="907920"/>
            <a:ext cx="8497800" cy="5815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6" descr="Очень БСО.jpg"/>
          <p:cNvPicPr/>
          <p:nvPr/>
        </p:nvPicPr>
        <p:blipFill>
          <a:blip r:embed="rId2"/>
          <a:stretch/>
        </p:blipFill>
        <p:spPr>
          <a:xfrm>
            <a:off x="324000" y="835200"/>
            <a:ext cx="8569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Камерный оркест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844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ркестр с малым количеством музыка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личается от большого оркестра составом музыкальных инстр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большом оркестр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10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камерном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5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Камерный оркестр.jpg"/>
          <p:cNvPicPr/>
          <p:nvPr/>
        </p:nvPicPr>
        <p:blipFill>
          <a:blip r:embed="rId2"/>
          <a:stretch/>
        </p:blipFill>
        <p:spPr>
          <a:xfrm>
            <a:off x="250920" y="1052640"/>
            <a:ext cx="8748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Кто главный в оркестре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989000"/>
            <a:ext cx="8964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оркестре главный – дириж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н управляет и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ет характер всему музыкальному произведен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нтерпретирует музыку авто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водит репети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ает указания оркестрант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ыбирает программу для испол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119664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Работа дириже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Диреж 2.jpg"/>
          <p:cNvPicPr/>
          <p:nvPr/>
        </p:nvPicPr>
        <p:blipFill>
          <a:blip r:embed="rId2"/>
          <a:stretch/>
        </p:blipFill>
        <p:spPr>
          <a:xfrm>
            <a:off x="179280" y="134136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Дирижер оркестра.jpg"/>
          <p:cNvPicPr/>
          <p:nvPr/>
        </p:nvPicPr>
        <p:blipFill>
          <a:blip r:embed="rId3"/>
          <a:stretch/>
        </p:blipFill>
        <p:spPr>
          <a:xfrm>
            <a:off x="3492360" y="2565360"/>
            <a:ext cx="5400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еликие симфонисты того времен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67120" y="1989000"/>
            <a:ext cx="3044880" cy="387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60919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Йозеф ГАЙД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>
            <a:lum contrast="18000"/>
          </a:blip>
          <a:srcRect l="7842" t="0" r="7559" b="0"/>
          <a:stretch/>
        </p:blipFill>
        <p:spPr>
          <a:xfrm>
            <a:off x="6300720" y="1197000"/>
            <a:ext cx="280836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3320" y="1197000"/>
            <a:ext cx="2597040" cy="337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69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Л. Бетхов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724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В.А.Моц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Самые известные симфони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1773360"/>
            <a:ext cx="8281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Юпитер» Моца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Прощальная» Гайд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Героическая» Бетхов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Зимние грезы», «Патетическая» Чай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Неоконченная» Шубе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Ленинградская» Шостак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Детская» Прокофь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17:08Z</dcterms:created>
  <dc:creator>Никушина Мария</dc:creator>
  <dc:description/>
  <dc:language>en-US</dc:language>
  <cp:lastModifiedBy>Admin</cp:lastModifiedBy>
  <dcterms:modified xsi:type="dcterms:W3CDTF">2011-03-30T16:29:22Z</dcterms:modified>
  <cp:revision>27</cp:revision>
  <dc:subject/>
  <dc:title>Симфоническое творчество Чайковского</dc:title>
</cp:coreProperties>
</file>