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26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7.wmf" ContentType="image/x-wmf"/>
  <Override PartName="/ppt/media/image3.jpeg" ContentType="image/jpeg"/>
  <Override PartName="/ppt/media/image2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A2D-6F61-4A89-8E30-369BEE1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CAA-DB74-41B2-91E1-9E6ACC2D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D70-4607-40F6-B8ED-CC0540AE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606-9792-47E7-835E-CFF3CB86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ABC6-AC16-4942-A846-F758B92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25CB-0FDC-4A4F-A4DA-787A2E3F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17F-C66A-4C80-AD0B-FD87825C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6C7-AAF6-471C-94BC-31EC4738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8434-CE6E-432F-9930-3250976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765-5B2C-475B-8061-BD822473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0D32-0F6F-4F32-94D3-B44DBEBF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358-DB12-4924-9704-067CDF10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A795-4D99-4D7F-9EFC-9492FE7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EABA-B2C4-4185-9591-BDF2760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E87-5FEA-4928-A8F2-1C0D1F06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FEE-9BE8-4A54-86E1-19AF97D2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B510-E9B0-49F6-AB52-3B2E2B30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A8E-3E7B-4854-B590-E28142F6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36E-2CD5-429C-B975-C72E020E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078-5811-48F7-81DB-929DCDD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3B4-DB71-4910-B508-1A1714B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B62-E98A-4A93-AAB8-ABBC346E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F77-39AB-40F9-9D07-C752792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0E9-BFA4-4CEA-8E76-3535F1F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ADBD-BF44-4B4F-82B9-C0B5A459E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065-7023-4314-BA3D-107ADA55F5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1;&#1080;&#1094;&#1072;%20&#1056;&#1086;&#1089;&#1089;&#1080;&#1080;_%20&#1069;&#1090;&#1085;&#1086;&#1075;&#1088;&#1072;&#1092;&#1080;&#1095;&#1077;&#1089;&#1082;&#1080;&#1081;%20&#1087;&#1088;&#1086;&#1077;&#1082;&#1090;%20&#1048;&#1040;%20&#1056;&#1086;&#1089;&#1073;&#1072;&#1083;&#1090;_%202006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/&#1042;&#1085;&#1077;&#1082;&#1083;&#1072;&#1089;&#1089;&#1085;&#1072;&#1103;" TargetMode="External"/><Relationship Id="rId2" Type="http://schemas.openxmlformats.org/officeDocument/2006/relationships/hyperlink" Target="http://chtotakoe.info/articles/fashizm_390.html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lazunov.ru/RU/index.html" TargetMode="External"/><Relationship Id="rId2" Type="http://schemas.openxmlformats.org/officeDocument/2006/relationships/hyperlink" Target="http://www.vasilev.info/" TargetMode="External"/><Relationship Id="rId3" Type="http://schemas.openxmlformats.org/officeDocument/2006/relationships/hyperlink" Target="http://www.vasnecov.ru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rusnations.ru/" TargetMode="External"/><Relationship Id="rId2" Type="http://schemas.openxmlformats.org/officeDocument/2006/relationships/image" Target="../media/image31.png"/><Relationship Id="rId3" Type="http://schemas.openxmlformats.org/officeDocument/2006/relationships/hyperlink" Target="http://www.rusnations.ru/etnos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1_1280"/>
          <p:cNvPicPr/>
          <p:nvPr/>
        </p:nvPicPr>
        <p:blipFill>
          <a:blip r:embed="rId1"/>
          <a:stretch/>
        </p:blipFill>
        <p:spPr>
          <a:xfrm rot="982800">
            <a:off x="4723920" y="456840"/>
            <a:ext cx="4149720" cy="31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img_4470_01"/>
          <p:cNvPicPr/>
          <p:nvPr/>
        </p:nvPicPr>
        <p:blipFill>
          <a:blip r:embed="rId2"/>
          <a:stretch/>
        </p:blipFill>
        <p:spPr>
          <a:xfrm rot="20742000">
            <a:off x="304920" y="456840"/>
            <a:ext cx="3894120" cy="2897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772"/>
                </a:solidFill>
                <a:latin typeface="Times New Roman"/>
              </a:rPr>
              <a:t>Сила России – в единстве народов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2_400"/>
          <p:cNvPicPr/>
          <p:nvPr/>
        </p:nvPicPr>
        <p:blipFill>
          <a:blip r:embed="rId3"/>
          <a:stretch/>
        </p:blipFill>
        <p:spPr>
          <a:xfrm rot="20899800">
            <a:off x="4723920" y="3657240"/>
            <a:ext cx="411336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2_02"/>
          <p:cNvPicPr/>
          <p:nvPr/>
        </p:nvPicPr>
        <p:blipFill>
          <a:blip r:embed="rId4"/>
          <a:stretch/>
        </p:blipFill>
        <p:spPr>
          <a:xfrm rot="835200">
            <a:off x="304920" y="3580920"/>
            <a:ext cx="4286160" cy="2846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819520" y="4415400"/>
            <a:ext cx="3809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Подготовила   Л.А. Опольская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учитель МОУ СОШ №5 </a:t>
            </a:r>
            <a:r>
              <a:rPr b="1" lang="ru-RU" sz="2000" spc="-1" strike="noStrike">
                <a:solidFill>
                  <a:srgbClr val="fee772"/>
                </a:solidFill>
                <a:latin typeface="Trebuchet MS"/>
              </a:rPr>
              <a:t>города-курорта</a:t>
            </a:r>
            <a:r>
              <a:rPr b="1" lang="ru-RU" sz="2000" spc="-1" strike="noStrike">
                <a:solidFill>
                  <a:srgbClr val="fee772"/>
                </a:solidFill>
                <a:latin typeface="Times New Roman"/>
              </a:rPr>
              <a:t> Анап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280"/>
                            </p:stCondLst>
                            <p:childTnLst>
                              <p:par>
                                <p:cTn id="1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28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28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4343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так, рано возникшая и гораздо более долго, по сравнению с Западом, существовавшая у славян территориальная община, определила восприимчивость славянских народов к внешнему влиянию: представители иных племен, "чужаки", могли спокойно селиться в славянских общинах. В то же время славяне, чисто внешне принимая "чужие" обычаи и порядки, внутренне сохраняли своеобразие и со временем перерабатывали все чужеземное на свой лад, делая все это славянски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В"/>
          <p:cNvPicPr/>
          <p:nvPr/>
        </p:nvPicPr>
        <p:blipFill>
          <a:blip r:embed="rId1"/>
          <a:stretch/>
        </p:blipFill>
        <p:spPr>
          <a:xfrm>
            <a:off x="1752480" y="0"/>
            <a:ext cx="5919840" cy="41832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Глазунов4"/>
          <p:cNvPicPr/>
          <p:nvPr/>
        </p:nvPicPr>
        <p:blipFill>
          <a:blip r:embed="rId1"/>
          <a:stretch/>
        </p:blipFill>
        <p:spPr>
          <a:xfrm>
            <a:off x="4876920" y="4114800"/>
            <a:ext cx="2044440" cy="2560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untitled2_704"/>
          <p:cNvPicPr/>
          <p:nvPr/>
        </p:nvPicPr>
        <p:blipFill>
          <a:blip r:embed="rId2"/>
          <a:stretch/>
        </p:blipFill>
        <p:spPr>
          <a:xfrm>
            <a:off x="3276720" y="0"/>
            <a:ext cx="259056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Глазунов3"/>
          <p:cNvPicPr/>
          <p:nvPr/>
        </p:nvPicPr>
        <p:blipFill>
          <a:blip r:embed="rId3"/>
          <a:stretch/>
        </p:blipFill>
        <p:spPr>
          <a:xfrm>
            <a:off x="1600200" y="4114800"/>
            <a:ext cx="3110040" cy="252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_960"/>
          <p:cNvPicPr/>
          <p:nvPr/>
        </p:nvPicPr>
        <p:blipFill>
          <a:blip r:embed="rId4"/>
          <a:stretch/>
        </p:blipFill>
        <p:spPr>
          <a:xfrm rot="1011600">
            <a:off x="5943240" y="45720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1"/>
          <p:cNvPicPr/>
          <p:nvPr/>
        </p:nvPicPr>
        <p:blipFill>
          <a:blip r:embed="rId5"/>
          <a:stretch/>
        </p:blipFill>
        <p:spPr>
          <a:xfrm rot="20531400">
            <a:off x="533520" y="38088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772"/>
                </a:solidFill>
                <a:latin typeface="Times New Roman"/>
              </a:rPr>
              <a:t>В формировании русского народа приняло участие большое количество различных и неславянских народов. Все это свидетельствует о поражающей жизнеспособности славянских народов, которая и определила своеобразие славянского мировоззрения,  гораздо более оптимистического, чем на Западе и на Востоке, гораздо более восприимчивого к влияниям и в то же время способного переосмыслить и своеобразно усвоить любое из н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Этнос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7200" y="21337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772"/>
                </a:solidFill>
                <a:latin typeface="Times New Roman"/>
              </a:rPr>
              <a:t>Население России согласно переписи населения 2002 года составляет 145,166,731 человек. В таблице приведены численности этносов (в тыс. чел.) и процентное отношение этносов к общей численности населения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0948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8ce36"/>
                </a:solidFill>
                <a:latin typeface="Times New Roman"/>
              </a:rPr>
              <a:t>Почему люди разных национальностей часто испытывают взаимную неприязнь друг к другу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346536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" y="220968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этническая община оригинальна, имеет особенности, отличающие её от другой. Именно это отличие и вызывает чаще всего у других людей неприязнь, создает четкое, порой очень твердо зафиксированное мышление: “Они не такие как мы. Значит, они живут неправильно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3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3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6" dur="123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7" dur="123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9" dur="123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апряженность межнациональных отношений  чревата тяжелыми последствиями: всякого рода конфликтами, стычками, войнами и т.д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В"/>
          <p:cNvPicPr/>
          <p:nvPr/>
        </p:nvPicPr>
        <p:blipFill>
          <a:blip r:embed="rId1"/>
          <a:stretch/>
        </p:blipFill>
        <p:spPr>
          <a:xfrm>
            <a:off x="304920" y="1981080"/>
            <a:ext cx="8535960" cy="453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Глазунов1"/>
          <p:cNvPicPr/>
          <p:nvPr/>
        </p:nvPicPr>
        <p:blipFill>
          <a:blip r:embed="rId2"/>
          <a:stretch/>
        </p:blipFill>
        <p:spPr>
          <a:xfrm>
            <a:off x="304920" y="1828800"/>
            <a:ext cx="8594640" cy="467532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ация, национальность, национализм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2057040"/>
            <a:ext cx="5943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ция есть сообщество людей, которых объединяют иллюзии об общих предках и общая ненависть к соседям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ильям Индж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Я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от лат. natio — племя, народ)</a:t>
            </a: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―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историческая общность людей, складывающаяся в процессе формирования общности их территории, экономических связей, литературного языка, этнических особенностей культуры и характера. Складывается из различных племен и народносте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440"/>
                            </p:stCondLst>
                            <p:childTnLst>
                              <p:par>
                                <p:cTn id="269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44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Что такое национальность и как ее определить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ЦИОНАЛЬНОСТЬ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принадлежность к той или иной нации – не определяется местом рождения. Если место рождения человека по каким-то обстоятельствам пришлось за границами его страны, это не означает, что он принимает национальность той страны, в которой родил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37339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Человек принадлежит к той национальности, к которой принадлежат его родители. Можно перенять другую религию, поменять веру, но национальность – раз и навсегда. Причем лозунгом всего мира на протяжении многих лет является утверждение, что своей национальности </a:t>
            </a:r>
            <a:r>
              <a:rPr b="1" lang="ru-RU" sz="2400" spc="-1" strike="noStrike">
                <a:solidFill>
                  <a:srgbClr val="ff7028"/>
                </a:solidFill>
                <a:latin typeface="Times New Roman"/>
              </a:rPr>
              <a:t>НЕЛЬЗЯ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тесняться и считать её недостатком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Picture 5" descr="untitled1_1024_02"/>
          <p:cNvPicPr/>
          <p:nvPr/>
        </p:nvPicPr>
        <p:blipFill>
          <a:blip r:embed="rId1"/>
          <a:stretch/>
        </p:blipFill>
        <p:spPr>
          <a:xfrm>
            <a:off x="6261120" y="1066680"/>
            <a:ext cx="2882880" cy="4187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4_400"/>
          <p:cNvPicPr/>
          <p:nvPr/>
        </p:nvPicPr>
        <p:blipFill>
          <a:blip r:embed="rId2"/>
          <a:stretch/>
        </p:blipFill>
        <p:spPr>
          <a:xfrm>
            <a:off x="0" y="114300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ОНАЛ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еология и политика, исходящая из идей национального превосходства и противопоставления своей нации друг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685440"/>
            <a:ext cx="4800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ционализм может быть огромным. Но великим – никогда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-1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нислав Ежи Ле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классного часа использован материал сайтов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festival.1september.ru//Внеклассна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бота/М.С.Панкратова. Классный час на тему: "Сила России – в единстве народов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kremlin.ru/articles/memorials01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chtotakoe.info/articles/fashizm_390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calend.ru/holidays/11-4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ционализм проявляется в двух видах:  бытовой и международный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3059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товой национализм — это его более легкая, но немаловажная форма, когда межнациональные конфликты не переходят в войны. Это в основном, события, основанные на ущемлении национального достоинства в повседневно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941280"/>
            <a:ext cx="8305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юда можно отнести факты, нигде не зафиксированные официально: конфликты между небольшими группами людей, употребление резких “ярлыков”, затрагивающих национальные чувства, проявление неприязни в общении, частные столкновени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Большую проблему представляет собой международный национализм – войны и другие конфликты, имеющие государственное или мировое значение. Это проявление национализма оказывает влияние на жизнь не только народов, но и отдельных стран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9" descr="В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13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Глазунов2"/>
          <p:cNvPicPr/>
          <p:nvPr/>
        </p:nvPicPr>
        <p:blipFill>
          <a:blip r:embed="rId2"/>
          <a:stretch/>
        </p:blipFill>
        <p:spPr>
          <a:xfrm>
            <a:off x="685800" y="1752480"/>
            <a:ext cx="7772400" cy="423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К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К"/>
          <p:cNvPicPr/>
          <p:nvPr/>
        </p:nvPicPr>
        <p:blipFill>
          <a:blip r:embed="rId4"/>
          <a:stretch/>
        </p:blipFill>
        <p:spPr>
          <a:xfrm>
            <a:off x="609480" y="1752480"/>
            <a:ext cx="8115480" cy="45342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4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9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4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9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и таком раскладе “кавказская война” может обернуться войной не только и не столько против “общего врага” в лице “Российской империи”, сколько войной всех против всех. Как показали осетино-ингушский конфликт и в еще большей степени абхазо-грузинская война, в создавшихся условиях попытки решения проблем вооруженным путем не только обречены на неудачу, но и порождают множество еще более сложных узлов неразрешимых проблем и чреваты тяжелейшими последствиями для всех конфликтующих сторон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8" descr="В"/>
          <p:cNvPicPr/>
          <p:nvPr/>
        </p:nvPicPr>
        <p:blipFill>
          <a:blip r:embed="rId1"/>
          <a:stretch/>
        </p:blipFill>
        <p:spPr>
          <a:xfrm>
            <a:off x="304920" y="762120"/>
            <a:ext cx="8637480" cy="538632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3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триотизм и национализм. Как различить?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 такое патриотизм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анность и любовь своему отечеству, своему народ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ТРИОТИЗМ (от греч. patriotes — соотечественник, patris — родина) – любовь к Родине; привязанность к месту своего рождения, месту житель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ОВИНИЗМ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йний национализм, проповедующий национальную и расовую исключительность и разжигающий национальную вражду и ненависть. Чаще всего это проявляется не в отношениях между суверенными государствами, а в  ущемлении прав и достоинств нации, проживающей рядом, в одной стра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шизм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годн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АШИЗМ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зывают любое политическое или общественное движение, которое основано на идеях расизма и шовинизма. Фашизм строится на том, что государственное начало преобладает над личным. Во главе всего – расовый признак. Как следствие – нетерпимость ко всем «несоответствующим». Как правило, во главе фашизма стоит один лидер, практически полубо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шизм появился в Италии. Это было политическое движение, которое возглавлял Бенито Муссолини. Позже фашистами стало принято называть немецких национал-социалистов, лидер которых, Адольф Гитлер, пришел к власти в Германии в тридцатых годах и развязал вторую мировую войн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К"/>
          <p:cNvPicPr/>
          <p:nvPr/>
        </p:nvPicPr>
        <p:blipFill>
          <a:blip r:embed="rId1"/>
          <a:stretch/>
        </p:blipFill>
        <p:spPr>
          <a:xfrm>
            <a:off x="457200" y="1447920"/>
            <a:ext cx="8285040" cy="488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eec94"/>
                </a:solidFill>
                <a:latin typeface="Times New Roman"/>
              </a:rPr>
              <a:t>Перевод слова “толерантность” с разных языков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762120"/>
          <a:ext cx="8610480" cy="5715000"/>
        </p:xfrm>
        <a:graphic>
          <a:graphicData uri="http://schemas.openxmlformats.org/drawingml/2006/table">
            <a:tbl>
              <a:tblPr/>
              <a:tblGrid>
                <a:gridCol w="2073240"/>
                <a:gridCol w="65372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язы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cc99"/>
                          </a:solidFill>
                          <a:uFillTx/>
                          <a:latin typeface="Times New Roman"/>
                        </a:rPr>
                        <a:t>Перевод на русский язык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нгли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ность и способность без протеста воспринимать личность или вещ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француз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ажение свободы другого, его образа мысли, поведения, политических и религиозных взгляд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китай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явление великодушия в отношении други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араб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щение, снисхождение, мягкость, сострадание, благосклонность, терпение, расположенность к други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персид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рпение, терпимость, выносливость, готовность к примирени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153280" cy="28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толерантность? Давайте же теперь попытаемся сами дать определение этому понятию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335232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just">
              <a:spcBef>
                <a:spcPts val="799"/>
              </a:spcBef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 – способность к признанию или практическое признание и уважение убеждений и действий других лю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219320" y="3808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028"/>
                </a:solidFill>
                <a:latin typeface="Arial"/>
              </a:rPr>
              <a:t>Блок-схема “толерантност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img1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ормы проявления нетерпимости разнообразны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рблен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норир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вернение религиозных или культурных символ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роз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уги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следова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враг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риминац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пользованы иллюстрации, помещённые на сайтах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1"/>
              </a:rPr>
              <a:t>http://www.glazunov.ru/RU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tretyakovgallery.ru/russian/viewlarge.php?itemsid=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2"/>
              </a:rPr>
              <a:t>http://www.vasilev.inf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vasnecov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http://www.rusnations.ru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ейчас мы узнаем именно ваш уровень интолерантности. Для этого вы заполняли  специальные анкеты. Итоги этого анкетирования вы увидите на диаграмм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5" name="Object 34"/>
          <p:cNvGraphicFramePr/>
          <p:nvPr/>
        </p:nvGraphicFramePr>
        <p:xfrm>
          <a:off x="858960" y="228600"/>
          <a:ext cx="719604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228600"/>
                    <a:ext cx="7196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5"/>
          <p:cNvGraphicFramePr/>
          <p:nvPr/>
        </p:nvGraphicFramePr>
        <p:xfrm>
          <a:off x="0" y="1012680"/>
          <a:ext cx="9144000" cy="4983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12680"/>
                    <a:ext cx="9144000" cy="49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8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85800" y="3733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 – 4 балла Высокий уровень толерантности. Характеризуется   признанием, принятием и пониманием иных культурных груп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228600" y="3886200"/>
            <a:ext cx="22860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85800" y="472428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 – 10 баллов Невысокий уровень толерантности. Определяется признанием и принятием различия между людьми, уважением к самым разнообразным группам, но при этом склонностью человека разделять некоторые культурные предрассудки. Это объясняет непонимание другого, неумение увидеть его изнутри, взглянуть на мир с его точки зр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228600" y="4800600"/>
            <a:ext cx="228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762120" y="3352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1 – 16 баллов Невысокий уровень интолерантности. Характеризуется тем, что человек на словах признает права других на культурные отличия, но при этом испытывает личное неприятие отдельных социокультурных групп (в данном случае - национальных). К сожалению, часто эти проявления нетолерантного отношения к людям в школе не замеча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28600" y="4038480"/>
            <a:ext cx="304920" cy="304920"/>
          </a:xfrm>
          <a:prstGeom prst="rect">
            <a:avLst/>
          </a:prstGeom>
          <a:solidFill>
            <a:srgbClr val="ff70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304920" y="5638680"/>
            <a:ext cx="30456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838080" y="50292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7 – 22 балла Высокий уровень интолерантности. Выражается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нательном отказе признавать, принимать и понимать представите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ой нации, проявляется в склонности человека характеризовать друг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льтуры как отклонение от нормы. Проявляется в ярко выраженно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рицательном отношении к таким отличиям, демонстратив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раждебности и презрении к таким люд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560" y="45720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ояснительной записке к проекту закона отмечалось: "4 ноября 1612 г. вой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лоченности всего народа вне зависимости от происхождения, вероисповедания и положения в обществе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38862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ноября – день Казанской иконы Божьей Матери – с 2005 года отмечается как «День народного единства». Именно этот день в 1612 году стал решающим в освобождении Москвы от польско-литовских интерв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едущую роль в Нижегородском ополчении, которое освободило Москву, играли Кузьма Минин и князь Дмитрий Михайлович Пожарский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3" name="Picture 4" descr="Худ"/>
          <p:cNvPicPr/>
          <p:nvPr/>
        </p:nvPicPr>
        <p:blipFill>
          <a:blip r:embed="rId1"/>
          <a:stretch/>
        </p:blipFill>
        <p:spPr>
          <a:xfrm>
            <a:off x="990720" y="2286000"/>
            <a:ext cx="6859440" cy="42879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63320" y="1676520"/>
            <a:ext cx="79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н и Пожарский. Художник М.И.Скотти. 1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950"/>
                            </p:stCondLst>
                            <p:childTnLst>
                              <p:par>
                                <p:cTn id="68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5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562360" y="380880"/>
            <a:ext cx="3276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ировалось установить в 1812 году памятник, к 200-летию героических событий, однако этому помешало новое нашествие, на этот раз армии Наполеона. Наконец, в 1818 году на деньги, собранные по народной подписке, перед главным входом в верхние торговые ряды был установлен памятник работы скульптора И.Мартос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Минин и Пожарский 2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5181480" y="228600"/>
            <a:ext cx="39625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Открытие памятника сопровождалось парадом гвардии и ликованием тысяч людей, собравшихся на Красной площади. В 1930 году памятник перенесли к собору Василия Блаженног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ость определяется не местом рождения, а национальностью родите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нация уникальна в своем роде и имеет право на самоопредел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ей национальной принадлежностью нужно гордить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циональные вопросы должны решаться законным путем с помощью перегово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овинизм и фашизм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ормы национализм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―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и разу не привели к улучшению жизни граждан, а почти всегда приводили к конфликта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ромисс – самый эффективный способ решения национальных пробл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dd3d"/>
                </a:solidFill>
                <a:latin typeface="Times New Roman"/>
              </a:rPr>
              <a:t>Каждый человек в отдельности, который является националистом, несет ответственность за разгоревшуюся враж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жел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мы попытались разобраться в очень сложной и серьезной проблеме, весьма актуальной в нашей стране, проблеме межнациональных отношений. Она касается всех вместе и каждого в отдельности. Мы имеем разные национальности и исповедуем разную религию, но при всем этом живем в одном многонациональном государстве, и отношения между его жителями зависят от каждого из на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ть вместе, оставаясь разными..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7" name="Picture 1510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6284880" cy="3773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1454040" y="175248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7028"/>
                </a:solidFill>
                <a:uFillTx/>
                <a:latin typeface="Times New Roman"/>
                <a:hlinkClick r:id="rId3"/>
              </a:rPr>
              <a:t>http://www.rusnations.ru/etnos/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Цел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ить формирование и развитие чувства патриотиз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сновать необходимость мирного сосуществования людей различных национальностей и религиозных конфесс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ить психологический климат в классе с многонациональным соста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знакомить учеников с историей формирования национального состава населения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формировать у учеников нравственное представление о толерантности, интолерантности, патриотиз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ровести анкетирование детей для определения уровня толерантности каждого ребенка и обсудить полученные результ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лан классного ча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торические аспекты формирования населения Ро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ция, национальность, национализ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риотизм и национализм: как их различи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ерантность, диагностика ее уровня у школьник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ени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70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560" y="457200"/>
            <a:ext cx="6095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многонациональных и двунациональных странах существует сложная проблема межнациональных отношени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.П. Максаковск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3124080"/>
            <a:ext cx="40384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ловек, ненавидящий другой народ, не любит и свой собственный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.А. Добролюб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AG00317_"/>
          <p:cNvPicPr/>
          <p:nvPr/>
        </p:nvPicPr>
        <p:blipFill>
          <a:blip r:embed="rId1"/>
          <a:stretch/>
        </p:blipFill>
        <p:spPr>
          <a:xfrm>
            <a:off x="7467480" y="609480"/>
            <a:ext cx="1038240" cy="13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G00315_"/>
          <p:cNvPicPr/>
          <p:nvPr/>
        </p:nvPicPr>
        <p:blipFill>
          <a:blip r:embed="rId2"/>
          <a:stretch/>
        </p:blipFill>
        <p:spPr>
          <a:xfrm>
            <a:off x="457200" y="297180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AG00316_"/>
          <p:cNvPicPr/>
          <p:nvPr/>
        </p:nvPicPr>
        <p:blipFill>
          <a:blip r:embed="rId3"/>
          <a:stretch/>
        </p:blipFill>
        <p:spPr>
          <a:xfrm>
            <a:off x="4114800" y="4800600"/>
            <a:ext cx="1038240" cy="166680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оссия – многонациональное государство. Оно включает в себя более 100 различных народов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Глазунов"/>
          <p:cNvPicPr/>
          <p:nvPr/>
        </p:nvPicPr>
        <p:blipFill>
          <a:blip r:embed="rId1"/>
          <a:stretch/>
        </p:blipFill>
        <p:spPr>
          <a:xfrm>
            <a:off x="380880" y="1523880"/>
            <a:ext cx="8535960" cy="4380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5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5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981080"/>
            <a:ext cx="82296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 находилась и находится до сих пор на стыке двух великих цивилизаций, называемых Востоком и Западом. На протяжении своей многовековой истории  Россия служила одним из важнейших мостов между западной и восточной цивилизациями. Русский народ в современном своем виде формировался на протяжении нескольких столетий на базе славянских племен, занимавших в древности огромную территорию Восточной Европ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215480" cy="1428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.А.Ополь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A</cp:lastModifiedBy>
  <dcterms:modified xsi:type="dcterms:W3CDTF">2010-08-22T08:22:4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