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5.jpeg" ContentType="image/jpeg"/>
  <Override PartName="/ppt/media/image4.jpeg" ContentType="image/jpeg"/>
  <Override PartName="/ppt/media/image5.gif" ContentType="image/gif"/>
  <Override PartName="/ppt/media/image14.jpeg" ContentType="image/jpeg"/>
  <Override PartName="/ppt/media/image26.jpeg" ContentType="image/jpeg"/>
  <Override PartName="/ppt/media/image7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12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png" ContentType="image/png"/>
  <Override PartName="/ppt/media/image27.wmf" ContentType="image/x-wmf"/>
  <Override PartName="/ppt/media/image3.jpeg" ContentType="image/jpeg"/>
  <Override PartName="/ppt/media/image28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C925-AFCF-424A-BE25-66CFB9E3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B14D-F55D-43D7-8F73-31C60EE1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3834-252F-4820-9597-5B9F9BDC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D139-A5D0-4C8C-B320-EC32D7A6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95AE-F239-4216-8091-8D6A60AA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6F29-D9B8-4F28-9EF0-22717382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BF59-9C8E-4AA1-B50F-ADF59AAD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8C28-8E7D-4309-A6BB-D4322B1D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CD75-64A3-414F-AA0F-C24B47CA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F027-0003-4C50-BBE9-649947C4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2964-03C1-42C4-850E-86B70615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376F-EB37-4FF5-87FB-A9BE5685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6969-2B3A-4820-8744-DAC9BDEB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8571-D29B-4C28-AAF1-9DED601A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BEC9-F6E0-4280-9EC9-FEB2A393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CD57-FB1B-4575-A6AE-7C196F7C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2460-89B1-41A8-BBC1-9C24260B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9F98-F91A-4E61-BB0A-C872976F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C165-B72C-4682-A542-61941F45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E590-BB29-464C-AC0C-8202B47C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F86D-552C-49A6-9622-69C55865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47A6-A015-459F-B70B-B2D743E3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C5AD-4CA4-45B5-8C4C-CA75CD52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A86C-DFA8-4962-A27B-D8D4B06C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ABB0-9B94-4D42-A429-C908FEE059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C7A0-EB00-412F-857B-6883DBA46F1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51;&#1080;&#1094;&#1072;%20&#1056;&#1086;&#1089;&#1089;&#1080;&#1080;_%20&#1069;&#1090;&#1085;&#1086;&#1075;&#1088;&#1072;&#1092;&#1080;&#1095;&#1077;&#1089;&#1082;&#1080;&#1081;%20&#1087;&#1088;&#1086;&#1077;&#1082;&#1090;%20&#1048;&#1040;%20&#1056;&#1086;&#1089;&#1073;&#1072;&#1083;&#1090;_%202006.ht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/&#1042;&#1085;&#1077;&#1082;&#1083;&#1072;&#1089;&#1089;&#1085;&#1072;&#1103;" TargetMode="External"/><Relationship Id="rId2" Type="http://schemas.openxmlformats.org/officeDocument/2006/relationships/hyperlink" Target="http://chtotakoe.info/articles/fashizm_390.html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lazunov.ru/RU/index.html" TargetMode="External"/><Relationship Id="rId2" Type="http://schemas.openxmlformats.org/officeDocument/2006/relationships/hyperlink" Target="http://www.vasilev.info/" TargetMode="External"/><Relationship Id="rId3" Type="http://schemas.openxmlformats.org/officeDocument/2006/relationships/hyperlink" Target="http://www.vasnecov.ru/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rusnations.ru/" TargetMode="External"/><Relationship Id="rId2" Type="http://schemas.openxmlformats.org/officeDocument/2006/relationships/image" Target="../media/image31.png"/><Relationship Id="rId3" Type="http://schemas.openxmlformats.org/officeDocument/2006/relationships/hyperlink" Target="http://www.rusnations.ru/etnos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11_1280"/>
          <p:cNvPicPr/>
          <p:nvPr/>
        </p:nvPicPr>
        <p:blipFill>
          <a:blip r:embed="rId1"/>
          <a:stretch/>
        </p:blipFill>
        <p:spPr>
          <a:xfrm rot="982800">
            <a:off x="4723920" y="456840"/>
            <a:ext cx="4149720" cy="3112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img_4470_01"/>
          <p:cNvPicPr/>
          <p:nvPr/>
        </p:nvPicPr>
        <p:blipFill>
          <a:blip r:embed="rId2"/>
          <a:stretch/>
        </p:blipFill>
        <p:spPr>
          <a:xfrm rot="20742000">
            <a:off x="304920" y="456840"/>
            <a:ext cx="3894120" cy="28972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1676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772"/>
                </a:solidFill>
                <a:latin typeface="Times New Roman"/>
              </a:rPr>
              <a:t>Сила России – в единстве народов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772"/>
                </a:solidFill>
                <a:latin typeface="Times New Roman"/>
              </a:rPr>
              <a:t>Классный ча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5" descr="2_400"/>
          <p:cNvPicPr/>
          <p:nvPr/>
        </p:nvPicPr>
        <p:blipFill>
          <a:blip r:embed="rId3"/>
          <a:stretch/>
        </p:blipFill>
        <p:spPr>
          <a:xfrm rot="20899800">
            <a:off x="4723920" y="3657240"/>
            <a:ext cx="4113360" cy="2744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12_02"/>
          <p:cNvPicPr/>
          <p:nvPr/>
        </p:nvPicPr>
        <p:blipFill>
          <a:blip r:embed="rId4"/>
          <a:stretch/>
        </p:blipFill>
        <p:spPr>
          <a:xfrm rot="835200">
            <a:off x="304920" y="3580920"/>
            <a:ext cx="4286160" cy="28465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2819520" y="4415400"/>
            <a:ext cx="3809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772"/>
                </a:solidFill>
                <a:latin typeface="Times New Roman"/>
              </a:rPr>
              <a:t>Подготовила   Л.А. Опольская,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772"/>
                </a:solidFill>
                <a:latin typeface="Times New Roman"/>
              </a:rPr>
              <a:t>учитель МОУ СОШ №5 </a:t>
            </a:r>
            <a:r>
              <a:rPr b="1" lang="ru-RU" sz="2000" spc="-1" strike="noStrike">
                <a:solidFill>
                  <a:srgbClr val="fee772"/>
                </a:solidFill>
                <a:latin typeface="Trebuchet MS"/>
              </a:rPr>
              <a:t>города-курорта</a:t>
            </a:r>
            <a:r>
              <a:rPr b="1" lang="ru-RU" sz="2000" spc="-1" strike="noStrike">
                <a:solidFill>
                  <a:srgbClr val="fee772"/>
                </a:solidFill>
                <a:latin typeface="Times New Roman"/>
              </a:rPr>
              <a:t> Анап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8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280"/>
                            </p:stCondLst>
                            <p:childTnLst>
                              <p:par>
                                <p:cTn id="1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280"/>
                            </p:stCondLst>
                            <p:childTnLst>
                              <p:par>
                                <p:cTn id="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128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3520" y="43434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Итак, рано возникшая и гораздо более долго, по сравнению с Западом, существовавшая у славян территориальная община, определила восприимчивость славянских народов к внешнему влиянию: представители иных племен, "чужаки", могли спокойно селиться в славянских общинах. В то же время славяне, чисто внешне принимая "чужие" обычаи и порядки, внутренне сохраняли своеобразие и со временем перерабатывали все чужеземное на свой лад, делая все это славянским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8" descr="В"/>
          <p:cNvPicPr/>
          <p:nvPr/>
        </p:nvPicPr>
        <p:blipFill>
          <a:blip r:embed="rId1"/>
          <a:stretch/>
        </p:blipFill>
        <p:spPr>
          <a:xfrm>
            <a:off x="1752480" y="0"/>
            <a:ext cx="5919840" cy="4183200"/>
          </a:xfrm>
          <a:prstGeom prst="rect">
            <a:avLst/>
          </a:prstGeom>
          <a:ln w="0">
            <a:noFill/>
          </a:ln>
        </p:spPr>
      </p:pic>
      <p:sp>
        <p:nvSpPr>
          <p:cNvPr id="15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8" descr="Глазунов4"/>
          <p:cNvPicPr/>
          <p:nvPr/>
        </p:nvPicPr>
        <p:blipFill>
          <a:blip r:embed="rId1"/>
          <a:stretch/>
        </p:blipFill>
        <p:spPr>
          <a:xfrm>
            <a:off x="4876920" y="4114800"/>
            <a:ext cx="2044440" cy="2560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untitled2_704"/>
          <p:cNvPicPr/>
          <p:nvPr/>
        </p:nvPicPr>
        <p:blipFill>
          <a:blip r:embed="rId2"/>
          <a:stretch/>
        </p:blipFill>
        <p:spPr>
          <a:xfrm>
            <a:off x="3276720" y="0"/>
            <a:ext cx="2590560" cy="3962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Глазунов3"/>
          <p:cNvPicPr/>
          <p:nvPr/>
        </p:nvPicPr>
        <p:blipFill>
          <a:blip r:embed="rId3"/>
          <a:stretch/>
        </p:blipFill>
        <p:spPr>
          <a:xfrm>
            <a:off x="1600200" y="4114800"/>
            <a:ext cx="3110040" cy="2522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2_960"/>
          <p:cNvPicPr/>
          <p:nvPr/>
        </p:nvPicPr>
        <p:blipFill>
          <a:blip r:embed="rId4"/>
          <a:stretch/>
        </p:blipFill>
        <p:spPr>
          <a:xfrm rot="1011600">
            <a:off x="5943240" y="457200"/>
            <a:ext cx="2741760" cy="3656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1"/>
          <p:cNvPicPr/>
          <p:nvPr/>
        </p:nvPicPr>
        <p:blipFill>
          <a:blip r:embed="rId5"/>
          <a:stretch/>
        </p:blipFill>
        <p:spPr>
          <a:xfrm rot="20531400">
            <a:off x="533520" y="380880"/>
            <a:ext cx="2543040" cy="38102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772"/>
                </a:solidFill>
                <a:latin typeface="Times New Roman"/>
              </a:rPr>
              <a:t>В формировании русского народа приняло участие большое количество различных и неславянских народов. Все это свидетельствует о поражающей жизнеспособности славянских народов, которая и определила своеобразие славянского мировоззрения,  гораздо более оптимистического, чем на Западе и на Востоке, гораздо более восприимчивого к влияниям и в то же время способного переосмыслить и своеобразно усвоить любое из ни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2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7028"/>
                </a:solidFill>
                <a:uFillTx/>
                <a:latin typeface="Times New Roman"/>
                <a:hlinkClick r:id="rId1"/>
              </a:rPr>
              <a:t>Этносы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457200" y="2133720"/>
            <a:ext cx="822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772"/>
                </a:solidFill>
                <a:latin typeface="Times New Roman"/>
              </a:rPr>
              <a:t>Население России согласно переписи населения 2002 года составляет 145,166,731 человек. В таблице приведены численности этносов (в тыс. чел.) и процентное отношение этносов к общей численности населения Росс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09480" y="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8ce36"/>
                </a:solidFill>
                <a:latin typeface="Times New Roman"/>
              </a:rPr>
              <a:t>Почему люди разных национальностей часто испытывают взаимную неприязнь друг к другу?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33520" y="346536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457200" y="220968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ждая этническая община оригинальна, имеет особенности, отличающие её от другой. Именно это отличие и вызывает чаще всего у других людей неприязнь, создает четкое, порой очень твердо зафиксированное мышление: “Они не такие как мы. Значит, они живут неправильно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300"/>
                            </p:stCondLst>
                            <p:childTnLst>
                              <p:par>
                                <p:cTn id="221" nodeType="after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300"/>
                            </p:stCondLst>
                            <p:childTnLst>
                              <p:par>
                                <p:cTn id="2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2900"/>
                            </p:stCondLst>
                            <p:childTnLst>
                              <p:par>
                                <p:cTn id="2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20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Напряженность межнациональных отношений  чревата тяжелыми последствиями: всякого рода конфликтами, стычками, войнами и т.д.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2" name="Picture 4" descr="В"/>
          <p:cNvPicPr/>
          <p:nvPr/>
        </p:nvPicPr>
        <p:blipFill>
          <a:blip r:embed="rId1"/>
          <a:stretch/>
        </p:blipFill>
        <p:spPr>
          <a:xfrm>
            <a:off x="304920" y="1981080"/>
            <a:ext cx="8535960" cy="4535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Глазунов1"/>
          <p:cNvPicPr/>
          <p:nvPr/>
        </p:nvPicPr>
        <p:blipFill>
          <a:blip r:embed="rId2"/>
          <a:stretch/>
        </p:blipFill>
        <p:spPr>
          <a:xfrm>
            <a:off x="304920" y="1828800"/>
            <a:ext cx="8594640" cy="4675320"/>
          </a:xfrm>
          <a:prstGeom prst="rect">
            <a:avLst/>
          </a:prstGeom>
          <a:ln w="0">
            <a:noFill/>
          </a:ln>
        </p:spPr>
      </p:pic>
      <p:sp>
        <p:nvSpPr>
          <p:cNvPr id="17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47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0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1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Нация, национальность, национализм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895480" y="2057040"/>
            <a:ext cx="5943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ация есть сообщество людей, которых объединяют иллюзии об общих предках и общая ненависть к соседям”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ильям Индж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НАЦИЯ</a:t>
            </a: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(от лат. natio — племя, народ)</a:t>
            </a:r>
            <a:r>
              <a:rPr b="1" lang="ru-RU" sz="3200" spc="-1" strike="noStrike">
                <a:solidFill>
                  <a:srgbClr val="feec94"/>
                </a:solidFill>
                <a:latin typeface="Monotype Corsiva"/>
              </a:rPr>
              <a:t>―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историческая общность людей, складывающаяся в процессе формирования общности их территории, экономических связей, литературного языка, этнических особенностей культуры и характера. Складывается из различных племен и народностей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9440"/>
                            </p:stCondLst>
                            <p:childTnLst>
                              <p:par>
                                <p:cTn id="263" nodeType="after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4" dur="3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5" dur="3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6" dur="3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244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9" dur="5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Что такое национальность и как ее определить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ЦИОНАЛЬНОСТЬ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– принадлежность к той или иной нации – не определяется местом рождения. Если место рождения человека по каким-то обстоятельствам пришлось за границами его страны, это не означает, что он принимает национальность той страны, в которой родилс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3733920" cy="619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Человек принадлежит к той национальности, к которой принадлежат его родители. Можно перенять другую религию, поменять веру, но национальность – раз и навсегда. Причем лозунгом всего мира на протяжении многих лет является утверждение, что своей национальности </a:t>
            </a:r>
            <a:r>
              <a:rPr b="1" lang="ru-RU" sz="2400" spc="-1" strike="noStrike">
                <a:solidFill>
                  <a:srgbClr val="ff7028"/>
                </a:solidFill>
                <a:latin typeface="Times New Roman"/>
              </a:rPr>
              <a:t>НЕЛЬЗЯ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стесняться и считать её недостатком.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4" name="Picture 5" descr="untitled1_1024_02"/>
          <p:cNvPicPr/>
          <p:nvPr/>
        </p:nvPicPr>
        <p:blipFill>
          <a:blip r:embed="rId1"/>
          <a:stretch/>
        </p:blipFill>
        <p:spPr>
          <a:xfrm>
            <a:off x="6261120" y="1066680"/>
            <a:ext cx="2882880" cy="4187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4_400"/>
          <p:cNvPicPr/>
          <p:nvPr/>
        </p:nvPicPr>
        <p:blipFill>
          <a:blip r:embed="rId2"/>
          <a:stretch/>
        </p:blipFill>
        <p:spPr>
          <a:xfrm>
            <a:off x="0" y="1143000"/>
            <a:ext cx="2543040" cy="3809880"/>
          </a:xfrm>
          <a:prstGeom prst="rect">
            <a:avLst/>
          </a:prstGeom>
          <a:ln w="0">
            <a:noFill/>
          </a:ln>
        </p:spPr>
      </p:pic>
      <p:sp>
        <p:nvSpPr>
          <p:cNvPr id="18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09120" y="3123720"/>
            <a:ext cx="81536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ЦИОНАЛИЗМ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деология и политика, исходящая из идей национального превосходства и противопоставления своей нации други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62160" y="685440"/>
            <a:ext cx="4800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ционализм может быть огромным. Но великим – никогда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40" indent="-14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танислав Ежи Ле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3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Для классного часа использован материал сайтов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7028"/>
                </a:solidFill>
                <a:uFillTx/>
                <a:latin typeface="Times New Roman"/>
                <a:hlinkClick r:id="rId1"/>
              </a:rPr>
              <a:t>http://festival.1september.ru//Внеклассна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работа/М.С.Панкратова. Классный час на тему: "Сила России – в единстве народов"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http://www.kremlin.ru/articles/memorials01.s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7028"/>
                </a:solidFill>
                <a:uFillTx/>
                <a:latin typeface="Times New Roman"/>
                <a:hlinkClick r:id="rId2"/>
              </a:rPr>
              <a:t>http://chtotakoe.info/articles/fashizm_390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http://www.calend.ru/holidays/11-4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Национализм проявляется в двух видах:  бытовой и международный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30592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ытовой национализм — это его более легкая, но немаловажная форма, когда межнациональные конфликты не переходят в войны. Это в основном, события, основанные на ущемлении национального достоинства в повседневной жизн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3941280"/>
            <a:ext cx="830592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юда можно отнести факты, нигде не зафиксированные официально: конфликты между небольшими группами людей, употребление резких “ярлыков”, затрагивающих национальные чувства, проявление неприязни в общении, частные столкновения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Большую проблему представляет собой международный национализм – войны и другие конфликты, имеющие государственное или мировое значение. Это проявление национализма оказывает влияние на жизнь не только народов, но и отдельных стран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5" name="Picture 9" descr="В"/>
          <p:cNvPicPr/>
          <p:nvPr/>
        </p:nvPicPr>
        <p:blipFill>
          <a:blip r:embed="rId1"/>
          <a:stretch/>
        </p:blipFill>
        <p:spPr>
          <a:xfrm>
            <a:off x="762120" y="1752480"/>
            <a:ext cx="7696080" cy="4138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Глазунов2"/>
          <p:cNvPicPr/>
          <p:nvPr/>
        </p:nvPicPr>
        <p:blipFill>
          <a:blip r:embed="rId2"/>
          <a:stretch/>
        </p:blipFill>
        <p:spPr>
          <a:xfrm>
            <a:off x="685800" y="1752480"/>
            <a:ext cx="7772400" cy="4232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К"/>
          <p:cNvPicPr/>
          <p:nvPr/>
        </p:nvPicPr>
        <p:blipFill>
          <a:blip r:embed="rId3"/>
          <a:stretch/>
        </p:blipFill>
        <p:spPr>
          <a:xfrm>
            <a:off x="685800" y="1752480"/>
            <a:ext cx="7772400" cy="4419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К"/>
          <p:cNvPicPr/>
          <p:nvPr/>
        </p:nvPicPr>
        <p:blipFill>
          <a:blip r:embed="rId4"/>
          <a:stretch/>
        </p:blipFill>
        <p:spPr>
          <a:xfrm>
            <a:off x="609480" y="1752480"/>
            <a:ext cx="8115480" cy="453420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38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43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8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353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При таком раскладе “кавказская война” может обернуться войной не только и не столько против “общего врага” в лице “Российской империи”, сколько войной всех против всех. Как показали осетино-ингушский конфликт и в еще большей степени абхазо-грузинская война, в создавшихся условиях попытки решения проблем вооруженным путем не только обречены на неудачу, но и порождают множество еще более сложных узлов неразрешимых проблем и чреваты тяжелейшими последствиями для всех конфликтующих сторон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1" name="Picture 8" descr="В"/>
          <p:cNvPicPr/>
          <p:nvPr/>
        </p:nvPicPr>
        <p:blipFill>
          <a:blip r:embed="rId1"/>
          <a:stretch/>
        </p:blipFill>
        <p:spPr>
          <a:xfrm>
            <a:off x="304920" y="762120"/>
            <a:ext cx="8637480" cy="5386320"/>
          </a:xfrm>
          <a:prstGeom prst="rect">
            <a:avLst/>
          </a:prstGeom>
          <a:ln w="0">
            <a:noFill/>
          </a:ln>
        </p:spPr>
      </p:pic>
      <p:sp>
        <p:nvSpPr>
          <p:cNvPr id="20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37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37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7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атриотизм и национализм. Как различить?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Что такое патриотизм?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6002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9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АТРИОТИЗМ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еданность и любовь своему отечеству, своему народу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АТРИОТИЗМ (от греч. patriotes — соотечественник, patris — родина) – любовь к Родине; привязанность к месту своего рождения, месту жительств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088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ШОВИНИЗМ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айний национализм, проповедующий национальную и расовую исключительность и разжигающий национальную вражду и ненависть. Чаще всего это проявляется не в отношениях между суверенными государствами, а в  ущемлении прав и достоинств нации, проживающей рядом, в одной стран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Фашизм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егодня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ФАШИЗМОМ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называют любое политическое или общественное движение, которое основано на идеях расизма и шовинизма. Фашизм строится на том, что государственное начало преобладает над личным. Во главе всего – расовый признак. Как следствие – нетерпимость ко всем «несоответствующим». Как правило, во главе фашизма стоит один лидер, практически полубог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ашизм появился в Италии. Это было политическое движение, которое возглавлял Бенито Муссолини. Позже фашистами стало принято называть немецких национал-социалистов, лидер которых, Адольф Гитлер, пришел к власти в Германии в тридцатых годах и развязал вторую мировую войн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4" descr="К"/>
          <p:cNvPicPr/>
          <p:nvPr/>
        </p:nvPicPr>
        <p:blipFill>
          <a:blip r:embed="rId1"/>
          <a:stretch/>
        </p:blipFill>
        <p:spPr>
          <a:xfrm>
            <a:off x="457200" y="1447920"/>
            <a:ext cx="8285040" cy="4889520"/>
          </a:xfrm>
          <a:prstGeom prst="rect">
            <a:avLst/>
          </a:prstGeom>
          <a:ln w="0">
            <a:noFill/>
          </a:ln>
        </p:spPr>
      </p:pic>
      <p:sp>
        <p:nvSpPr>
          <p:cNvPr id="21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27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0" dur="2000" fill="hold"/>
                                        <p:tgtEl>
                                          <p:spTgt spid="2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3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eec94"/>
                </a:solidFill>
                <a:latin typeface="Times New Roman"/>
              </a:rPr>
              <a:t>Перевод слова “толерантность” с разных языков</a:t>
            </a:r>
            <a:br>
              <a:rPr sz="3000"/>
            </a:br>
            <a:endParaRPr b="1" lang="en-US" sz="3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28600" y="762120"/>
          <a:ext cx="8610480" cy="5715000"/>
        </p:xfrm>
        <a:graphic>
          <a:graphicData uri="http://schemas.openxmlformats.org/drawingml/2006/table">
            <a:tbl>
              <a:tblPr/>
              <a:tblGrid>
                <a:gridCol w="2073240"/>
                <a:gridCol w="6537240"/>
              </a:tblGrid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cc99"/>
                          </a:solidFill>
                          <a:uFillTx/>
                          <a:latin typeface="Times New Roman"/>
                        </a:rPr>
                        <a:t>язык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cc99"/>
                          </a:solidFill>
                          <a:uFillTx/>
                          <a:latin typeface="Times New Roman"/>
                        </a:rPr>
                        <a:t>Перевод на русский язык</a:t>
                      </a:r>
                      <a:r>
                        <a:rPr b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английск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товность и способность без протеста воспринимать личность или вещ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французск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важение свободы другого, его образа мысли, поведения, политических и религиозных взглядо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китайск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явление великодушия в отношении других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арабск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щение, снисхождение, мягкость, сострадание, благосклонность, терпение, расположенность к другим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персидск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рпение, терпимость, выносливость, готовность к примирению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77920"/>
            <a:ext cx="8153280" cy="28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 такое толерантность? Давайте же теперь попытаемся сами дать определение этому понятию.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3352320"/>
            <a:ext cx="822960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 algn="just">
              <a:spcBef>
                <a:spcPts val="799"/>
              </a:spcBef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ОЛЕРАНТНОСТЬ – способность к признанию или практическое признание и уважение убеждений и действий других люд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5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1219320" y="38088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028"/>
                </a:solidFill>
                <a:latin typeface="Arial"/>
              </a:rPr>
              <a:t>Блок-схема “толерантность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5" descr="img1"/>
          <p:cNvPicPr/>
          <p:nvPr/>
        </p:nvPicPr>
        <p:blipFill>
          <a:blip r:embed="rId1"/>
          <a:stretch/>
        </p:blipFill>
        <p:spPr>
          <a:xfrm>
            <a:off x="380880" y="914400"/>
            <a:ext cx="8382240" cy="5562720"/>
          </a:xfrm>
          <a:prstGeom prst="rect">
            <a:avLst/>
          </a:prstGeom>
          <a:ln w="0">
            <a:noFill/>
          </a:ln>
        </p:spPr>
      </p:pic>
      <p:sp>
        <p:nvSpPr>
          <p:cNvPr id="22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Формы проявления нетерпимости разнообразны: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корбления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гнорирование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квернение религиозных или культурных символов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грозы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угивание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следование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иск враг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скриминация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из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спользованы иллюстрации, помещённые на сайтах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7028"/>
                </a:solidFill>
                <a:uFillTx/>
                <a:latin typeface="Times New Roman"/>
                <a:hlinkClick r:id="rId1"/>
              </a:rPr>
              <a:t>http://www.glazunov.ru/RU/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http://www.tretyakovgallery.ru/russian/viewlarge.php?itemsid=1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7028"/>
                </a:solidFill>
                <a:uFillTx/>
                <a:latin typeface="Times New Roman"/>
                <a:hlinkClick r:id="rId2"/>
              </a:rPr>
              <a:t>http://www.vasilev.inf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7028"/>
                </a:solidFill>
                <a:uFillTx/>
                <a:latin typeface="Times New Roman"/>
                <a:hlinkClick r:id="rId3"/>
              </a:rPr>
              <a:t>http://www.vasnecov.ru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http://www.rusnations.ru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Сейчас мы узнаем именно ваш уровень интолерантности. Для этого вы заполняли  специальные анкеты. Итоги этого анкетирования вы увидите на диаграмме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25" name="Object 34"/>
          <p:cNvGraphicFramePr/>
          <p:nvPr/>
        </p:nvGraphicFramePr>
        <p:xfrm>
          <a:off x="858960" y="228600"/>
          <a:ext cx="7196040" cy="312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8960" y="228600"/>
                    <a:ext cx="71960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35"/>
          <p:cNvGraphicFramePr/>
          <p:nvPr/>
        </p:nvGraphicFramePr>
        <p:xfrm>
          <a:off x="0" y="1012680"/>
          <a:ext cx="9144000" cy="4983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8" name="Object 3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012680"/>
                    <a:ext cx="9144000" cy="49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Rectangle 18"/>
          <p:cNvSpPr/>
          <p:nvPr/>
        </p:nvSpPr>
        <p:spPr>
          <a:xfrm>
            <a:off x="60948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685800" y="373392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0 – 4 балла Высокий уровень толерантности. Характеризуется   признанием, принятием и пониманием иных культурных групп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24"/>
          <p:cNvSpPr/>
          <p:nvPr/>
        </p:nvSpPr>
        <p:spPr>
          <a:xfrm>
            <a:off x="228600" y="3886200"/>
            <a:ext cx="228600" cy="22860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685800" y="4724280"/>
            <a:ext cx="7924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5 – 10 баллов Невысокий уровень толерантности. Определяется признанием и принятием различия между людьми, уважением к самым разнообразным группам, но при этом склонностью человека разделять некоторые культурные предрассудки. Это объясняет непонимание другого, неумение увидеть его изнутри, взглянуть на мир с его точки зрен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26"/>
          <p:cNvSpPr/>
          <p:nvPr/>
        </p:nvSpPr>
        <p:spPr>
          <a:xfrm>
            <a:off x="228600" y="4800600"/>
            <a:ext cx="22860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762120" y="33526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1 – 16 баллов Невысокий уровень интолерантности. Характеризуется тем, что человек на словах признает права других на культурные отличия, но при этом испытывает личное неприятие отдельных социокультурных групп (в данном случае - национальных). К сожалению, часто эти проявления нетолерантного отношения к людям в школе не замечаю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228600" y="4038480"/>
            <a:ext cx="304920" cy="304920"/>
          </a:xfrm>
          <a:prstGeom prst="rect">
            <a:avLst/>
          </a:prstGeom>
          <a:solidFill>
            <a:srgbClr val="ff70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304920" y="5638680"/>
            <a:ext cx="30456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838080" y="5029200"/>
            <a:ext cx="8001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7 – 22 балла Высокий уровень интолерантности. Выражается 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знательном отказе признавать, принимать и понимать представител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ной нации, проявляется в склонности человека характеризовать друг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ультуры как отклонение от нормы. Проявляется в ярко выраженном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рицательном отношении к таким отличиям, демонстративн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раждебности и презрении к таким людя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1" dur="2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2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5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9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3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4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04560" y="457200"/>
            <a:ext cx="83055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пояснительной записке к проекту закона отмечалось: "4 ноября 1612 г. войны народного ополчения под предводительством Кузьмы Минина и Дмитрия Пожарского штурмом взяли Китай-город, освободив Москву от польских интервентов и продемонстрировав образец героизма и 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плоченности всего народа вне зависимости от происхождения, вероисповедания и положения в обществе.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533520" y="388620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 ноября – день Казанской иконы Божьей Матери – с 2005 года отмечается как «День народного единства». Именно этот день в 1612 году стал решающим в освобождении Москвы от польско-литовских интервент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5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Ведущую роль в Нижегородском ополчении, которое освободило Москву, играли Кузьма Минин и князь Дмитрий Михайлович Пожарский.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43" name="Picture 4" descr="Худ"/>
          <p:cNvPicPr/>
          <p:nvPr/>
        </p:nvPicPr>
        <p:blipFill>
          <a:blip r:embed="rId1"/>
          <a:stretch/>
        </p:blipFill>
        <p:spPr>
          <a:xfrm>
            <a:off x="990720" y="2286000"/>
            <a:ext cx="6859440" cy="42879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463320" y="1676520"/>
            <a:ext cx="793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нин и Пожарский. Художник М.И.Скотти. 1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950"/>
                            </p:stCondLst>
                            <p:childTnLst>
                              <p:par>
                                <p:cTn id="678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79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5562360" y="380880"/>
            <a:ext cx="32763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ланировалось установить в 1812 году памятник, к 200-летию героических событий, однако этому помешало новое нашествие, на этот раз армии Наполеона. Наконец, в 1818 году на деньги, собранные по народной подписке, перед главным входом в верхние торговые ряды был установлен памятник работы скульптора И.Мартос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4" descr="Минин и Пожарский 2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5"/>
          <p:cNvSpPr/>
          <p:nvPr/>
        </p:nvSpPr>
        <p:spPr>
          <a:xfrm>
            <a:off x="5181480" y="228600"/>
            <a:ext cx="396252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кульптор изобразил момент, когда Кузьма Минин, указывая рукой на Москву, вручает князю Пожарскому старинный меч и призывает его встать во главе русского войска. Опираясь на щит, раненый воевода приподнимается со своего ложа, что символизирует пробуждение народного самосознания в трудный для Отечества час. Открытие памятника сопровождалось парадом гвардии и ликованием тысяч людей, собравшихся на Красной площади. В 1930 году памятник перенесли к собору Василия Блаженного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77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3" dur="770" fill="hold"/>
                                        <p:tgtEl>
                                          <p:spTgt spid="2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5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7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вод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циональность определяется не местом рождения, а национальностью родителе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ждая нация уникальна в своем роде и имеет право на самоопределени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оей национальной принадлежностью нужно гордитьс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циональные вопросы должны решаться законным путем с помощью переговор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Шовинизм и фашизм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―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формы национализма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―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ни разу не привели к улучшению жизни граждан, а почти всегда приводили к конфликтам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мпромисс – самый эффективный способ решения национальных пробле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dd3d"/>
                </a:solidFill>
                <a:latin typeface="Times New Roman"/>
              </a:rPr>
              <a:t>Каждый человек в отдельности, который является националистом, несет ответственность за разгоревшуюся вражд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жела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годня мы попытались разобраться в очень сложной и серьезной проблеме, весьма актуальной в нашей стране, проблеме межнациональных отношений. Она касается всех вместе и каждого в отдельности. Мы имеем разные национальности и исповедуем разную религию, но при всем этом живем в одном многонациональном государстве, и отношения между его жителями зависят от каждого из нас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Жить вместе, оставаясь разными...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7" name="Picture 1510" descr="Рисунок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676520"/>
            <a:ext cx="6284880" cy="377352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5"/>
          <p:cNvSpPr/>
          <p:nvPr/>
        </p:nvSpPr>
        <p:spPr>
          <a:xfrm>
            <a:off x="1454040" y="175248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7028"/>
                </a:solidFill>
                <a:uFillTx/>
                <a:latin typeface="Times New Roman"/>
                <a:hlinkClick r:id="rId3"/>
              </a:rPr>
              <a:t>http://www.rusnations.ru/etnos/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Цели: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должить формирование и развитие чувства патриотизм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основать необходимость мирного сосуществования людей различных национальностей и религиозных конфесси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лучшить психологический климат в классе с многонациональным состав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Задачи: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ознакомить учеников с историей формирования национального состава населения Росс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Сформировать у учеников нравственное представление о толерантности, интолерантности, патриотизм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Провести анкетирование детей для определения уровня толерантности каждого ребенка и обсудить полученные результа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План классного час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торические аспекты формирования населения Росси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ция, национальность, национализ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триотизм и национализм: как их различить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олерантность, диагностика ее уровня у школьников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ключени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560" y="457200"/>
            <a:ext cx="6095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“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 многонациональных и двунациональных странах существует сложная проблема межнациональных отношений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.П. Максаковск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48320" y="3124080"/>
            <a:ext cx="403848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“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Человек, ненавидящий другой народ, не любит и свой собственный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.А. Добролюб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6" descr="AG00317_"/>
          <p:cNvPicPr/>
          <p:nvPr/>
        </p:nvPicPr>
        <p:blipFill>
          <a:blip r:embed="rId1"/>
          <a:stretch/>
        </p:blipFill>
        <p:spPr>
          <a:xfrm>
            <a:off x="7467480" y="609480"/>
            <a:ext cx="1038240" cy="1333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AG00315_"/>
          <p:cNvPicPr/>
          <p:nvPr/>
        </p:nvPicPr>
        <p:blipFill>
          <a:blip r:embed="rId2"/>
          <a:stretch/>
        </p:blipFill>
        <p:spPr>
          <a:xfrm>
            <a:off x="457200" y="2971800"/>
            <a:ext cx="1038240" cy="1171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AG00316_"/>
          <p:cNvPicPr/>
          <p:nvPr/>
        </p:nvPicPr>
        <p:blipFill>
          <a:blip r:embed="rId3"/>
          <a:stretch/>
        </p:blipFill>
        <p:spPr>
          <a:xfrm>
            <a:off x="4114800" y="4800600"/>
            <a:ext cx="1038240" cy="1666800"/>
          </a:xfrm>
          <a:prstGeom prst="rect">
            <a:avLst/>
          </a:prstGeom>
          <a:ln w="0">
            <a:noFill/>
          </a:ln>
        </p:spPr>
      </p:pic>
      <p:sp>
        <p:nvSpPr>
          <p:cNvPr id="14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Россия – многонациональное государство. Оно включает в себя более 100 различных народов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Picture 4" descr="Глазунов"/>
          <p:cNvPicPr/>
          <p:nvPr/>
        </p:nvPicPr>
        <p:blipFill>
          <a:blip r:embed="rId1"/>
          <a:stretch/>
        </p:blipFill>
        <p:spPr>
          <a:xfrm>
            <a:off x="380880" y="1523880"/>
            <a:ext cx="8535960" cy="438012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3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3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3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6550"/>
                            </p:stCondLst>
                            <p:childTnLst>
                              <p:par>
                                <p:cTn id="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5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1981080"/>
            <a:ext cx="8229600" cy="44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ссия находилась и находится до сих пор на стыке двух великих цивилизаций, называемых Востоком и Западом. На протяжении своей многовековой истории  Россия служила одним из важнейших мостов между западной и восточной цивилизациями. Русский народ в современном своем виде формировался на протяжении нескольких столетий на базе славянских племен, занимавших в древности огромную территорию Восточной Европ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215480" cy="142884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DA</cp:lastModifiedBy>
  <dcterms:modified xsi:type="dcterms:W3CDTF">2010-08-22T08:22:4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