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643-C1E6-430B-96CC-51456774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BE8-F9C5-4895-B2E3-12B708AB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081-69E5-4F72-9767-6C2C79E7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64A-03DC-40F0-BF85-D974EC6E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520-C442-43C1-B8AF-8835FA75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0F6-2CFF-4916-96FA-CFF15FEF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030-FF20-4D4A-BE62-3334C1BA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360-C5BA-46BA-A284-D89D948B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648-0F3D-45A3-9E2B-55A24227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05D-318A-4721-877B-D3DA5919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246-4FB3-4BDA-BC5E-B43D51D9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751-0DF0-4F7A-B8CB-8C1CB8E1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5FCB-6448-4B63-B0B1-6010ABEA0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404640"/>
            <a:ext cx="6400800" cy="1570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 мире «Сказок» Салтыкова - Щед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11"/>
          <p:cNvPicPr/>
          <p:nvPr/>
        </p:nvPicPr>
        <p:blipFill>
          <a:blip r:embed="rId2"/>
          <a:stretch/>
        </p:blipFill>
        <p:spPr>
          <a:xfrm>
            <a:off x="468360" y="2421000"/>
            <a:ext cx="2333520" cy="286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32000" y="2852280"/>
            <a:ext cx="5616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икто не карал наших общественных пороков словом более горьким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Салтыков – Щед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гадай - 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 начал ля-ля на ля-ля разводить, как бы ему своих ля-ля порадовать за т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то они его, ля-ля, жаловали и мужицким его ля-ля не гнушалис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 выстроил он ля-ля – не ля-ля, а такую ля-ля, чтоб можно было ля-ля переплыть вплоть до самой ля-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3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идит ля-ля, что ля-ля с каждым ля-ля не убывает, а всё прибывает, - видит и опасается: «А ну, как он у меня всё ля-ля приест?» Заглянет ля-ля в ля-ля ля-ля, как в сём ля-ля поступать должно, и прочитает: «Старайся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3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 у молодого ля-ля ля-ля была. Начал он этим ля-ля раскидывать и видит: куда ни обернётся – везде ему ля-ля.Кругом, в ля-ля, всё большие ля-ля плавают,- а он всех меньше; всякая ля-ля его заглотать может, а он никого заглотать не мож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знала лесная ля-ля, что ля-ля к ним в ля-ля едет, и задумалась. Такая в ту пору ля-ля между лесными ля-ля шло, что всякий по-своему норовил. Ля-ля рыскали, ля-ля летали, ля-ля ползали, а в ля-ля никто маршировать не хот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днажды ля-ля перед ля-ля провинился. Бежал он, видите ли, неподалёку от волчьего ля-ля, а ля-ля – увидел его и кричит: «Ля-ля! Остановись, миленький!» А ля-ля не только остановился, а ещё пуще ля-ля прибав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9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0"/>
          <p:cNvSpPr/>
          <p:nvPr/>
        </p:nvSpPr>
        <p:spPr>
          <a:xfrm>
            <a:off x="395280" y="1628640"/>
            <a:ext cx="3456000" cy="223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бщить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луч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предыду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ро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1"/>
          <p:cNvSpPr/>
          <p:nvPr/>
        </p:nvSpPr>
        <p:spPr>
          <a:xfrm>
            <a:off x="2700360" y="3860640"/>
            <a:ext cx="3889440" cy="237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сближает ска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алтыкова – Щедрина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родными сказк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чем их отли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2"/>
          <p:cNvSpPr/>
          <p:nvPr/>
        </p:nvSpPr>
        <p:spPr>
          <a:xfrm>
            <a:off x="4788000" y="1413000"/>
            <a:ext cx="4103640" cy="2349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снить, ка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змо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крывал пер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алтыковым – Щедри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анр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9"/>
          <p:cNvGrpSpPr/>
          <p:nvPr/>
        </p:nvGrpSpPr>
        <p:grpSpPr>
          <a:xfrm>
            <a:off x="1332000" y="404640"/>
            <a:ext cx="6048360" cy="5832720"/>
            <a:chOff x="1332000" y="404640"/>
            <a:chExt cx="6048360" cy="5832720"/>
          </a:xfrm>
        </p:grpSpPr>
        <p:sp>
          <p:nvSpPr>
            <p:cNvPr id="49" name="Rectangle 20"/>
            <p:cNvSpPr/>
            <p:nvPr/>
          </p:nvSpPr>
          <p:spPr>
            <a:xfrm>
              <a:off x="1764000" y="404640"/>
              <a:ext cx="180000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869 – 1886 г.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21"/>
            <p:cNvSpPr/>
            <p:nvPr/>
          </p:nvSpPr>
          <p:spPr>
            <a:xfrm>
              <a:off x="3564000" y="62064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2"/>
            <p:cNvSpPr/>
            <p:nvPr/>
          </p:nvSpPr>
          <p:spPr>
            <a:xfrm>
              <a:off x="4212000" y="404640"/>
              <a:ext cx="295272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Для детей изрядного возраст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3"/>
            <p:cNvSpPr/>
            <p:nvPr/>
          </p:nvSpPr>
          <p:spPr>
            <a:xfrm>
              <a:off x="2629080" y="765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4"/>
            <p:cNvSpPr/>
            <p:nvPr/>
          </p:nvSpPr>
          <p:spPr>
            <a:xfrm>
              <a:off x="1764000" y="907920"/>
              <a:ext cx="2232000" cy="1152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собенности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антастика, реаль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мическое+трагическо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ротеск, гипербол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зопов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>
              <a:off x="5364360" y="765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6"/>
            <p:cNvSpPr/>
            <p:nvPr/>
          </p:nvSpPr>
          <p:spPr>
            <a:xfrm>
              <a:off x="4212000" y="907920"/>
              <a:ext cx="3168360" cy="1152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дача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личение пороков, освещ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лободневных вопросов русск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йствительности, выраж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ных идеалов, передовых ид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"/>
            <p:cNvSpPr/>
            <p:nvPr/>
          </p:nvSpPr>
          <p:spPr>
            <a:xfrm>
              <a:off x="2700360" y="2060640"/>
              <a:ext cx="1224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8"/>
            <p:cNvSpPr/>
            <p:nvPr/>
          </p:nvSpPr>
          <p:spPr>
            <a:xfrm flipH="1">
              <a:off x="4644720" y="2060640"/>
              <a:ext cx="1366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9"/>
            <p:cNvSpPr/>
            <p:nvPr/>
          </p:nvSpPr>
          <p:spPr>
            <a:xfrm>
              <a:off x="3421080" y="2349360"/>
              <a:ext cx="1584360" cy="28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каз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0"/>
            <p:cNvSpPr/>
            <p:nvPr/>
          </p:nvSpPr>
          <p:spPr>
            <a:xfrm flipH="1">
              <a:off x="2916000" y="2637000"/>
              <a:ext cx="863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1"/>
            <p:cNvSpPr/>
            <p:nvPr/>
          </p:nvSpPr>
          <p:spPr>
            <a:xfrm>
              <a:off x="4500720" y="2637000"/>
              <a:ext cx="9367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1403640" y="2708280"/>
              <a:ext cx="2087640" cy="720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Повесть о том, ка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дин мужик дву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енералов прокормил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572360" y="2708280"/>
              <a:ext cx="1871640" cy="720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Дикий помещик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4"/>
            <p:cNvSpPr/>
            <p:nvPr/>
          </p:nvSpPr>
          <p:spPr>
            <a:xfrm>
              <a:off x="2340000" y="342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5"/>
            <p:cNvSpPr/>
            <p:nvPr/>
          </p:nvSpPr>
          <p:spPr>
            <a:xfrm>
              <a:off x="5508720" y="342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1332000" y="3573360"/>
              <a:ext cx="2376720" cy="64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будить самосозна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казать отношения между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4284720" y="3573360"/>
              <a:ext cx="2376720" cy="64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будить самосозна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казать отношения между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8"/>
            <p:cNvSpPr/>
            <p:nvPr/>
          </p:nvSpPr>
          <p:spPr>
            <a:xfrm flipH="1">
              <a:off x="1763640" y="4221000"/>
              <a:ext cx="360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9"/>
            <p:cNvSpPr/>
            <p:nvPr/>
          </p:nvSpPr>
          <p:spPr>
            <a:xfrm>
              <a:off x="2988000" y="4221000"/>
              <a:ext cx="433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0"/>
            <p:cNvSpPr/>
            <p:nvPr/>
          </p:nvSpPr>
          <p:spPr>
            <a:xfrm flipH="1">
              <a:off x="4500360" y="4221000"/>
              <a:ext cx="360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41"/>
            <p:cNvSpPr/>
            <p:nvPr/>
          </p:nvSpPr>
          <p:spPr>
            <a:xfrm>
              <a:off x="5940720" y="4221000"/>
              <a:ext cx="288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403640" y="4365720"/>
              <a:ext cx="115236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енерал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2629080" y="4365720"/>
              <a:ext cx="115092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4283280" y="4365720"/>
              <a:ext cx="115236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мещ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45"/>
            <p:cNvSpPr/>
            <p:nvPr/>
          </p:nvSpPr>
          <p:spPr>
            <a:xfrm>
              <a:off x="5508720" y="4365720"/>
              <a:ext cx="115092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46"/>
            <p:cNvSpPr/>
            <p:nvPr/>
          </p:nvSpPr>
          <p:spPr>
            <a:xfrm>
              <a:off x="1837080" y="479736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 flipH="1">
              <a:off x="2700360" y="4797360"/>
              <a:ext cx="43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8"/>
            <p:cNvSpPr/>
            <p:nvPr/>
          </p:nvSpPr>
          <p:spPr>
            <a:xfrm>
              <a:off x="4788000" y="4797360"/>
              <a:ext cx="576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9"/>
            <p:cNvSpPr/>
            <p:nvPr/>
          </p:nvSpPr>
          <p:spPr>
            <a:xfrm flipH="1">
              <a:off x="5653080" y="479736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50"/>
            <p:cNvSpPr/>
            <p:nvPr/>
          </p:nvSpPr>
          <p:spPr>
            <a:xfrm>
              <a:off x="1837080" y="5013360"/>
              <a:ext cx="129528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ер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51"/>
            <p:cNvSpPr/>
            <p:nvPr/>
          </p:nvSpPr>
          <p:spPr>
            <a:xfrm>
              <a:off x="4788000" y="5013360"/>
              <a:ext cx="129564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ер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52"/>
            <p:cNvSpPr/>
            <p:nvPr/>
          </p:nvSpPr>
          <p:spPr>
            <a:xfrm flipH="1">
              <a:off x="1836720" y="537372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3"/>
            <p:cNvSpPr/>
            <p:nvPr/>
          </p:nvSpPr>
          <p:spPr>
            <a:xfrm>
              <a:off x="2700360" y="537372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54"/>
            <p:cNvSpPr/>
            <p:nvPr/>
          </p:nvSpPr>
          <p:spPr>
            <a:xfrm>
              <a:off x="1403640" y="5589720"/>
              <a:ext cx="100800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уп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аразити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5"/>
            <p:cNvSpPr/>
            <p:nvPr/>
          </p:nvSpPr>
          <p:spPr>
            <a:xfrm>
              <a:off x="2556000" y="5589720"/>
              <a:ext cx="129708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зропот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ерпе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рудолюб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6"/>
            <p:cNvSpPr/>
            <p:nvPr/>
          </p:nvSpPr>
          <p:spPr>
            <a:xfrm flipH="1">
              <a:off x="4789440" y="537372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57"/>
            <p:cNvSpPr/>
            <p:nvPr/>
          </p:nvSpPr>
          <p:spPr>
            <a:xfrm>
              <a:off x="5653440" y="537372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8"/>
            <p:cNvSpPr/>
            <p:nvPr/>
          </p:nvSpPr>
          <p:spPr>
            <a:xfrm>
              <a:off x="4356360" y="5589720"/>
              <a:ext cx="100800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уп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аразити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9"/>
            <p:cNvSpPr/>
            <p:nvPr/>
          </p:nvSpPr>
          <p:spPr>
            <a:xfrm>
              <a:off x="5508720" y="5589720"/>
              <a:ext cx="129708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зропот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ерпе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рудолюб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rassvet"/>
          <p:cNvPicPr/>
          <p:nvPr/>
        </p:nvPicPr>
        <p:blipFill>
          <a:blip r:embed="rId1"/>
          <a:stretch/>
        </p:blipFill>
        <p:spPr>
          <a:xfrm>
            <a:off x="0" y="-90360"/>
            <a:ext cx="9468000" cy="695484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0"/>
          <p:cNvGrpSpPr/>
          <p:nvPr/>
        </p:nvGrpSpPr>
        <p:grpSpPr>
          <a:xfrm>
            <a:off x="1476360" y="404640"/>
            <a:ext cx="6552720" cy="5977080"/>
            <a:chOff x="1476360" y="404640"/>
            <a:chExt cx="6552720" cy="5977080"/>
          </a:xfrm>
        </p:grpSpPr>
        <p:sp>
          <p:nvSpPr>
            <p:cNvPr id="91" name="Rectangle 11"/>
            <p:cNvSpPr/>
            <p:nvPr/>
          </p:nvSpPr>
          <p:spPr>
            <a:xfrm>
              <a:off x="2412720" y="404640"/>
              <a:ext cx="180000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869 – 1886 г.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4213080" y="62064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4860720" y="404640"/>
              <a:ext cx="295236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Для детей изрядного возраст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3278160" y="765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2412720" y="907920"/>
              <a:ext cx="2231640" cy="1152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собенности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антастика, реаль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мическое+трагическо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ротеск, гипербол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зопов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6"/>
            <p:cNvSpPr/>
            <p:nvPr/>
          </p:nvSpPr>
          <p:spPr>
            <a:xfrm>
              <a:off x="6013080" y="765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4860720" y="907920"/>
              <a:ext cx="3168360" cy="1152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дача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личение пороков, освещ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лободневных вопросов русск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йствительности, выраж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ных идеалов, передовых ид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>
              <a:off x="3349440" y="2060640"/>
              <a:ext cx="1223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 flipH="1">
              <a:off x="5294160" y="2060640"/>
              <a:ext cx="1366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4070160" y="2349360"/>
              <a:ext cx="1584000" cy="28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каз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 flipH="1">
              <a:off x="3565440" y="2637000"/>
              <a:ext cx="86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>
              <a:off x="5149800" y="2637000"/>
              <a:ext cx="93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>
              <a:off x="2052360" y="2708280"/>
              <a:ext cx="2087280" cy="504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Премудрый пескарь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5221080" y="2708280"/>
              <a:ext cx="1871280" cy="504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Дикий помещик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2989080" y="3213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6157800" y="3213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1836360" y="3429000"/>
              <a:ext cx="252072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казать, в чем смысл жизн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 назначение челове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4933800" y="3429000"/>
              <a:ext cx="2376000" cy="64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будить самосозна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казать отношения между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9"/>
            <p:cNvSpPr/>
            <p:nvPr/>
          </p:nvSpPr>
          <p:spPr>
            <a:xfrm>
              <a:off x="2989080" y="4076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0"/>
            <p:cNvSpPr/>
            <p:nvPr/>
          </p:nvSpPr>
          <p:spPr>
            <a:xfrm flipH="1">
              <a:off x="5365440" y="4076640"/>
              <a:ext cx="360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1"/>
            <p:cNvSpPr/>
            <p:nvPr/>
          </p:nvSpPr>
          <p:spPr>
            <a:xfrm>
              <a:off x="6516360" y="4076640"/>
              <a:ext cx="288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2125440" y="4221000"/>
              <a:ext cx="1871280" cy="43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удьба песк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4789440" y="4221000"/>
              <a:ext cx="1152000" cy="43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мещ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6157800" y="4221000"/>
              <a:ext cx="1150560" cy="43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5"/>
            <p:cNvSpPr/>
            <p:nvPr/>
          </p:nvSpPr>
          <p:spPr>
            <a:xfrm flipH="1">
              <a:off x="2341080" y="4653000"/>
              <a:ext cx="57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6"/>
            <p:cNvSpPr/>
            <p:nvPr/>
          </p:nvSpPr>
          <p:spPr>
            <a:xfrm>
              <a:off x="3276360" y="4653000"/>
              <a:ext cx="57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7"/>
            <p:cNvSpPr/>
            <p:nvPr/>
          </p:nvSpPr>
          <p:spPr>
            <a:xfrm>
              <a:off x="5365440" y="4653000"/>
              <a:ext cx="57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8"/>
            <p:cNvSpPr/>
            <p:nvPr/>
          </p:nvSpPr>
          <p:spPr>
            <a:xfrm flipH="1">
              <a:off x="6300720" y="4653000"/>
              <a:ext cx="431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9"/>
            <p:cNvSpPr/>
            <p:nvPr/>
          </p:nvSpPr>
          <p:spPr>
            <a:xfrm>
              <a:off x="1476360" y="5950080"/>
              <a:ext cx="295272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тог жизни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Жил дрожал, и умирал - дрожал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0"/>
            <p:cNvSpPr/>
            <p:nvPr/>
          </p:nvSpPr>
          <p:spPr>
            <a:xfrm>
              <a:off x="5437080" y="4869000"/>
              <a:ext cx="129492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ер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1"/>
            <p:cNvSpPr/>
            <p:nvPr/>
          </p:nvSpPr>
          <p:spPr>
            <a:xfrm flipH="1">
              <a:off x="3492360" y="5734080"/>
              <a:ext cx="431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2"/>
            <p:cNvSpPr/>
            <p:nvPr/>
          </p:nvSpPr>
          <p:spPr>
            <a:xfrm>
              <a:off x="1981080" y="5734080"/>
              <a:ext cx="360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3"/>
            <p:cNvSpPr/>
            <p:nvPr/>
          </p:nvSpPr>
          <p:spPr>
            <a:xfrm>
              <a:off x="1476360" y="4797360"/>
              <a:ext cx="1152360" cy="93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 жизни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речь сво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спостылу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жизн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4"/>
            <p:cNvSpPr/>
            <p:nvPr/>
          </p:nvSpPr>
          <p:spPr>
            <a:xfrm>
              <a:off x="3060360" y="4797360"/>
              <a:ext cx="1439640" cy="93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ерты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уп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рус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спомощ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5"/>
            <p:cNvSpPr/>
            <p:nvPr/>
          </p:nvSpPr>
          <p:spPr>
            <a:xfrm flipH="1">
              <a:off x="5508000" y="5229360"/>
              <a:ext cx="43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6"/>
            <p:cNvSpPr/>
            <p:nvPr/>
          </p:nvSpPr>
          <p:spPr>
            <a:xfrm>
              <a:off x="6229080" y="5229360"/>
              <a:ext cx="360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7"/>
            <p:cNvSpPr/>
            <p:nvPr/>
          </p:nvSpPr>
          <p:spPr>
            <a:xfrm>
              <a:off x="5005080" y="5445000"/>
              <a:ext cx="1007640" cy="648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уп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аразити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8"/>
            <p:cNvSpPr/>
            <p:nvPr/>
          </p:nvSpPr>
          <p:spPr>
            <a:xfrm>
              <a:off x="6084720" y="5445000"/>
              <a:ext cx="1296720" cy="648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зропот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ерпе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рудолюб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сновными темами сказок явл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личение самодержавия («Медведь на воеводстве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личение господствующего класса («Дикий помещик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личение либерализма («Премудрый пескарь», «Карась - идеалист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блема народа («Повесть о том, как мужик двух генералов прокормил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16"/>
          <p:cNvPicPr/>
          <p:nvPr/>
        </p:nvPicPr>
        <p:blipFill>
          <a:blip r:embed="rId2"/>
          <a:stretch/>
        </p:blipFill>
        <p:spPr>
          <a:xfrm>
            <a:off x="7524720" y="4724280"/>
            <a:ext cx="12207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3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черты сказ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льклорные тради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сенная тради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ение русской сатирической литературной тради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ение планов реального и фантастиче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ская иро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фористичность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5" descr="14"/>
          <p:cNvPicPr/>
          <p:nvPr/>
        </p:nvPicPr>
        <p:blipFill>
          <a:blip r:embed="rId2"/>
          <a:stretch/>
        </p:blipFill>
        <p:spPr>
          <a:xfrm>
            <a:off x="7308720" y="4005360"/>
            <a:ext cx="1459080" cy="22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60"/>
          <p:cNvGrpSpPr/>
          <p:nvPr/>
        </p:nvGrpSpPr>
        <p:grpSpPr>
          <a:xfrm>
            <a:off x="179280" y="620640"/>
            <a:ext cx="9217080" cy="5602320"/>
            <a:chOff x="179280" y="620640"/>
            <a:chExt cx="9217080" cy="5602320"/>
          </a:xfrm>
        </p:grpSpPr>
        <p:sp>
          <p:nvSpPr>
            <p:cNvPr id="136" name="AutoShape 161"/>
            <p:cNvSpPr/>
            <p:nvPr/>
          </p:nvSpPr>
          <p:spPr>
            <a:xfrm>
              <a:off x="179280" y="620640"/>
              <a:ext cx="9217080" cy="56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62"/>
            <p:cNvSpPr/>
            <p:nvPr/>
          </p:nvSpPr>
          <p:spPr>
            <a:xfrm>
              <a:off x="2890440" y="800280"/>
              <a:ext cx="3613680" cy="54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Сатирические прие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63"/>
            <p:cNvSpPr/>
            <p:nvPr/>
          </p:nvSpPr>
          <p:spPr>
            <a:xfrm>
              <a:off x="540000" y="1704600"/>
              <a:ext cx="144648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Сарка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64"/>
            <p:cNvSpPr/>
            <p:nvPr/>
          </p:nvSpPr>
          <p:spPr>
            <a:xfrm>
              <a:off x="3974760" y="1704600"/>
              <a:ext cx="144396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Гротес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5"/>
            <p:cNvSpPr/>
            <p:nvPr/>
          </p:nvSpPr>
          <p:spPr>
            <a:xfrm>
              <a:off x="6866640" y="1704600"/>
              <a:ext cx="162432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Гипербо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6"/>
            <p:cNvSpPr/>
            <p:nvPr/>
          </p:nvSpPr>
          <p:spPr>
            <a:xfrm>
              <a:off x="1624320" y="2608560"/>
              <a:ext cx="1806120" cy="5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Фанта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7"/>
            <p:cNvSpPr/>
            <p:nvPr/>
          </p:nvSpPr>
          <p:spPr>
            <a:xfrm>
              <a:off x="5781240" y="2608560"/>
              <a:ext cx="216972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Эзопов язы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68"/>
            <p:cNvSpPr/>
            <p:nvPr/>
          </p:nvSpPr>
          <p:spPr>
            <a:xfrm>
              <a:off x="721800" y="4596480"/>
              <a:ext cx="162576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Метафо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69"/>
            <p:cNvSpPr/>
            <p:nvPr/>
          </p:nvSpPr>
          <p:spPr>
            <a:xfrm>
              <a:off x="2708640" y="4596480"/>
              <a:ext cx="162684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Аллегор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70"/>
            <p:cNvSpPr/>
            <p:nvPr/>
          </p:nvSpPr>
          <p:spPr>
            <a:xfrm>
              <a:off x="4696920" y="4596480"/>
              <a:ext cx="162684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Перифра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71"/>
            <p:cNvSpPr/>
            <p:nvPr/>
          </p:nvSpPr>
          <p:spPr>
            <a:xfrm>
              <a:off x="6684840" y="4596480"/>
              <a:ext cx="144540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Иро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72"/>
            <p:cNvSpPr/>
            <p:nvPr/>
          </p:nvSpPr>
          <p:spPr>
            <a:xfrm flipH="1">
              <a:off x="1986120" y="1342800"/>
              <a:ext cx="90396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73"/>
            <p:cNvSpPr/>
            <p:nvPr/>
          </p:nvSpPr>
          <p:spPr>
            <a:xfrm>
              <a:off x="4696920" y="1342800"/>
              <a:ext cx="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74"/>
            <p:cNvSpPr/>
            <p:nvPr/>
          </p:nvSpPr>
          <p:spPr>
            <a:xfrm>
              <a:off x="6504120" y="1342800"/>
              <a:ext cx="36216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75"/>
            <p:cNvSpPr/>
            <p:nvPr/>
          </p:nvSpPr>
          <p:spPr>
            <a:xfrm flipH="1">
              <a:off x="2708280" y="1342800"/>
              <a:ext cx="723240" cy="12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76"/>
            <p:cNvSpPr/>
            <p:nvPr/>
          </p:nvSpPr>
          <p:spPr>
            <a:xfrm>
              <a:off x="5962680" y="1342800"/>
              <a:ext cx="360720" cy="12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77"/>
            <p:cNvSpPr/>
            <p:nvPr/>
          </p:nvSpPr>
          <p:spPr>
            <a:xfrm flipH="1">
              <a:off x="1806120" y="3150360"/>
              <a:ext cx="451728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78"/>
            <p:cNvSpPr/>
            <p:nvPr/>
          </p:nvSpPr>
          <p:spPr>
            <a:xfrm flipH="1">
              <a:off x="3974760" y="3150360"/>
              <a:ext cx="234864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79"/>
            <p:cNvSpPr/>
            <p:nvPr/>
          </p:nvSpPr>
          <p:spPr>
            <a:xfrm flipH="1">
              <a:off x="5780880" y="3150360"/>
              <a:ext cx="54252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80"/>
            <p:cNvSpPr/>
            <p:nvPr/>
          </p:nvSpPr>
          <p:spPr>
            <a:xfrm>
              <a:off x="6323760" y="3150360"/>
              <a:ext cx="108396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естите виды смеха по степени усиления отриц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те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т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6624720" cy="495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rassvet"/>
          <p:cNvPicPr/>
          <p:nvPr/>
        </p:nvPicPr>
        <p:blipFill>
          <a:blip r:embed="rId1"/>
          <a:stretch/>
        </p:blipFill>
        <p:spPr>
          <a:xfrm>
            <a:off x="0" y="-90360"/>
            <a:ext cx="9468000" cy="69548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2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оте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06:10:40Z</dcterms:created>
  <dc:creator>Юрий</dc:creator>
  <dc:description/>
  <dc:language>en-US</dc:language>
  <cp:lastModifiedBy>Коля</cp:lastModifiedBy>
  <dcterms:modified xsi:type="dcterms:W3CDTF">2013-05-04T07:28:26Z</dcterms:modified>
  <cp:revision>29</cp:revision>
  <dc:subject/>
  <dc:title>Десять обезьянок</dc:title>
</cp:coreProperties>
</file>