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1AE-805F-4B55-AC81-A4590CDF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B0A-F166-4103-B1CE-7458590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AF5-7695-44FC-AFC4-E75C5919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78B-71E0-4CF3-95E8-01667C67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534D-79A4-407A-A741-20767DE4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8928-E294-4F39-84AE-A739FE0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240-198B-4048-BB04-FAC2AD7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9C1C-1211-4CEB-B25F-8F935D0C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798C-5E07-4E82-9364-8F47878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ADEE-5A3E-45CA-87D6-1D9BC2A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5673-7F68-4E10-8657-05E5FA0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96E-F1D2-4728-8181-1CF3FAE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77E2-C3D0-4438-B324-BF30FA1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1CE-0130-4962-BDD0-9B5CF17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BF2-61E5-466B-88F5-01FCC3B2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D00C-5E71-4671-A70B-897244E6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173-1350-4E01-97D3-4FD188DC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0BA-4631-4651-B1FA-B2B91BD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D24-A82E-40CC-B6BF-3B204CB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654-D532-4D11-BC1E-427DAFF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4BF-05C7-453D-8DA7-2581BE4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0FF-6DA8-4930-BBE5-C88D564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594-C3F6-455C-AD33-3E5D08E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E1D-C9E5-4FAA-908E-D969881E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5A2-8297-4D14-9A5B-4EA6D5926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E54D-C2CD-44E3-8C84-863D7121E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Мир русской песн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Урок музыки № 10 </a:t>
            </a: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в 5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Есть ли общее в песнях «Ах ты, степь широкая…» и «Вечерний звон»? </a:t>
            </a:r>
            <a:br>
              <a:rPr sz="4400"/>
            </a:b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В чем оно проявляетс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л"/>
          <p:cNvPicPr/>
          <p:nvPr/>
        </p:nvPicPr>
        <p:blipFill>
          <a:blip r:embed="rId1"/>
          <a:stretch/>
        </p:blipFill>
        <p:spPr>
          <a:xfrm>
            <a:off x="4724280" y="34686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Перед жатвой (1989)"/>
          <p:cNvPicPr/>
          <p:nvPr/>
        </p:nvPicPr>
        <p:blipFill>
          <a:blip r:embed="rId2"/>
          <a:stretch/>
        </p:blipFill>
        <p:spPr>
          <a:xfrm>
            <a:off x="0" y="3475080"/>
            <a:ext cx="457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Основными признаками русской народной песенности являю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480" y="2320560"/>
            <a:ext cx="73404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Мелодич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Инструментальность звуч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Подголосочность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акие музыкальные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инструменты входят в состав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усского народного оркестр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00600" y="2437920"/>
            <a:ext cx="40384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крип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вире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Дом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ларн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Балалай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астаньеты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но"/>
          <p:cNvPicPr/>
          <p:nvPr/>
        </p:nvPicPr>
        <p:blipFill>
          <a:blip r:embed="rId1"/>
          <a:stretch/>
        </p:blipFill>
        <p:spPr>
          <a:xfrm>
            <a:off x="152280" y="2362320"/>
            <a:ext cx="4496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Хороводная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Хороводна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9c00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ие народные песни ты зна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Ах ты, степь широкая…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черний зв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снян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Украин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Пастуш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мерт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Норвеж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дэ Русель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одержание русских народных песе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Природа Росси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Быт русских люд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Чувства, пережи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Рассказы о праздниках и будн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«Уж ты зимушка зима». </a:t>
            </a:r>
            <a:br>
              <a:rPr sz="4000"/>
            </a:b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Музыка А. Александрова, </a:t>
            </a:r>
            <a:br>
              <a:rPr sz="4000"/>
            </a:b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стихи неизвестного авто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кича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omic Sans MS"/>
              </a:rPr>
              <a:t>Какие стороны жизни отражала русская народная песня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Жанры русских народных песен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Колыб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Тру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олдат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есни-пл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бря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вадеб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 какому жанру русской народной песни относится звучащий фрагмент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5480" y="2442960"/>
            <a:ext cx="37764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рудов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лдатск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сторичес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Лирическая</a:t>
            </a: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Перед жатвой (1989)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288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. Борисов. Высохший руч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211280" y="6172200"/>
            <a:ext cx="42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b800"/>
                </a:solidFill>
                <a:latin typeface="Comic Sans MS"/>
              </a:rPr>
              <a:t>Ах ты, степь широк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есенность русской поэз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ий пейз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оэз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76520" y="59436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62520" y="5105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И. Шишкин. Среди долины ровны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580760" y="624852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Не одна во поле дороженьк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8320" y="5867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Среди долины ровны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ш"/>
          <p:cNvPicPr/>
          <p:nvPr/>
        </p:nvPicPr>
        <p:blipFill>
          <a:blip r:embed="rId1"/>
          <a:stretch/>
        </p:blipFill>
        <p:spPr>
          <a:xfrm>
            <a:off x="3886200" y="191772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ак в музыке передается содержание поэз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2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Вечерний звон». Стихи И. Козлова, обработ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. Иван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9c00"/>
                </a:solidFill>
                <a:latin typeface="Comic Sans MS"/>
              </a:rPr>
              <a:t>А. Алябьев. Вечерний звон – близок романс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00600" y="57150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И. Левитан. Вечерний зво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л"/>
          <p:cNvPicPr/>
          <p:nvPr/>
        </p:nvPicPr>
        <p:blipFill>
          <a:blip r:embed="rId1"/>
          <a:stretch/>
        </p:blipFill>
        <p:spPr>
          <a:xfrm>
            <a:off x="4648320" y="2514600"/>
            <a:ext cx="3887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Какие колокольные звоны ты услышал в песне «Вечерний звон»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00600" y="3276720"/>
            <a:ext cx="3772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Наба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Перезво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Трезвон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л"/>
          <p:cNvPicPr/>
          <p:nvPr/>
        </p:nvPicPr>
        <p:blipFill>
          <a:blip r:embed="rId1"/>
          <a:stretch/>
        </p:blipFill>
        <p:spPr>
          <a:xfrm>
            <a:off x="0" y="2995560"/>
            <a:ext cx="48006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36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