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FC8-0F7F-4AF3-BDCF-3CA87024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EC0-59A9-4E34-9AC4-C15E89A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7DF-EBAB-4D55-B30D-252E07F2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84B-5BA4-408D-892F-50760D17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70CD-6530-458E-BA21-7103FE03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2F3F-8227-47CA-B1D8-D95048B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82B8-D28F-4EFC-8688-92A8879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38C-CA81-4D9D-B7FB-4E28A98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3296-8532-488F-BC49-F8A74DBA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5F10-57AA-43F9-B6B2-623E9D8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DDA-E5B3-44F1-ACE3-3B2A27A8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240-7373-403F-B3A2-6C2C652F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1F4D-42BA-4483-B6A2-97A9A80E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830F-1EF9-4DF1-8FDE-5602FE9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06F-2270-42B1-AB8C-3F6BF77B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0ED-78F8-4056-B00B-634B3A65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8D5-1B65-429B-9821-8FD3F339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C71-4ECA-461D-838C-FAC16A21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13E-07DC-4D6F-AEAD-03BD095C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F03-6087-478C-8FB1-D6645235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E34-0803-4F37-ADDA-BE78CB7C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8E7-7687-42A2-9AA4-8988727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636-29AE-43B8-8E5D-98441C8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985-16E2-40A7-9542-5732789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59AF-CFC9-42A8-AC1E-A785B2CB8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2E68-E327-4D4C-98A4-24CD5F9278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Мир русской песн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Урок музыки № 10 </a:t>
            </a: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в 5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Есть ли общее в песнях «Ах ты, степь широкая…» и «Вечерний звон»? </a:t>
            </a:r>
            <a:br>
              <a:rPr sz="4400"/>
            </a:b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В чем оно проявляетс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л"/>
          <p:cNvPicPr/>
          <p:nvPr/>
        </p:nvPicPr>
        <p:blipFill>
          <a:blip r:embed="rId1"/>
          <a:stretch/>
        </p:blipFill>
        <p:spPr>
          <a:xfrm>
            <a:off x="4724280" y="34686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Перед жатвой (1989)"/>
          <p:cNvPicPr/>
          <p:nvPr/>
        </p:nvPicPr>
        <p:blipFill>
          <a:blip r:embed="rId2"/>
          <a:stretch/>
        </p:blipFill>
        <p:spPr>
          <a:xfrm>
            <a:off x="0" y="3475080"/>
            <a:ext cx="457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Основными признаками русской народной песенности являю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480" y="2320560"/>
            <a:ext cx="73404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Мелодич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Инструментальность звуч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Подголосочность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акие музыкальные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инструменты входят в состав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усского народного оркестр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00600" y="2437920"/>
            <a:ext cx="40384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крип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вире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Дом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ларн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Балалай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астаньеты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но"/>
          <p:cNvPicPr/>
          <p:nvPr/>
        </p:nvPicPr>
        <p:blipFill>
          <a:blip r:embed="rId1"/>
          <a:stretch/>
        </p:blipFill>
        <p:spPr>
          <a:xfrm>
            <a:off x="152280" y="2362320"/>
            <a:ext cx="4496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Хороводная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Хороводна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9c00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ие народные песни ты зна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Ах ты, степь широкая…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черний зв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снян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Украин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Пастуш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мерт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Норвеж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дэ Русель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одержание русских народных песе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Природа Росси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Быт русских люд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Чувства, пережи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Рассказы о праздниках и будн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«Уж ты зимушка зима». </a:t>
            </a:r>
            <a:br>
              <a:rPr sz="4000"/>
            </a:b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Музыка А. Александрова, </a:t>
            </a:r>
            <a:br>
              <a:rPr sz="4000"/>
            </a:b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стихи неизвестного авто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кича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omic Sans MS"/>
              </a:rPr>
              <a:t>Какие стороны жизни отражала русская народная песня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Жанры русских народных песен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Колыб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Тру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олдат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есни-пл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бря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вадеб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 какому жанру русской народной песни относится звучащий фрагмент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5480" y="2442960"/>
            <a:ext cx="37764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рудов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лдатск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сторичес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Лирическая</a:t>
            </a: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Перед жатвой (1989)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288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. Борисов. Высохший руч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211280" y="6172200"/>
            <a:ext cx="42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b800"/>
                </a:solidFill>
                <a:latin typeface="Comic Sans MS"/>
              </a:rPr>
              <a:t>Ах ты, степь широк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есенность русской поэз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ий пейз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оэз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76520" y="59436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62520" y="5105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И. Шишкин. Среди долины ровны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580760" y="624852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Не одна во поле дороженьк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8320" y="5867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Среди долины ровны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ш"/>
          <p:cNvPicPr/>
          <p:nvPr/>
        </p:nvPicPr>
        <p:blipFill>
          <a:blip r:embed="rId1"/>
          <a:stretch/>
        </p:blipFill>
        <p:spPr>
          <a:xfrm>
            <a:off x="3886200" y="191772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ак в музыке передается содержание поэз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2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Вечерний звон». Стихи И. Козлова, обработ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. Иван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9c00"/>
                </a:solidFill>
                <a:latin typeface="Comic Sans MS"/>
              </a:rPr>
              <a:t>А. Алябьев. Вечерний звон – близок романс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00600" y="57150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И. Левитан. Вечерний зво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л"/>
          <p:cNvPicPr/>
          <p:nvPr/>
        </p:nvPicPr>
        <p:blipFill>
          <a:blip r:embed="rId1"/>
          <a:stretch/>
        </p:blipFill>
        <p:spPr>
          <a:xfrm>
            <a:off x="4648320" y="2514600"/>
            <a:ext cx="3887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Какие колокольные звоны ты услышал в песне «Вечерний звон»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00600" y="3276720"/>
            <a:ext cx="3772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Наба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Перезво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Трезвон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л"/>
          <p:cNvPicPr/>
          <p:nvPr/>
        </p:nvPicPr>
        <p:blipFill>
          <a:blip r:embed="rId1"/>
          <a:stretch/>
        </p:blipFill>
        <p:spPr>
          <a:xfrm>
            <a:off x="0" y="2995560"/>
            <a:ext cx="48006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36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