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7B78-355D-46CE-B553-F751CB1F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80E-D25F-45AD-A838-F18EDF92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5B9B-C7D4-4D40-858B-9888A64D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977-B45E-4AE3-B571-96C971A2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425E-D1E0-469A-92B3-848FFC1C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091A-05FC-4E49-8920-7F6438F2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4F14-8F71-449A-B620-118A398F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015C-07D7-45F8-AD97-D65433B2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0935-E0D9-46D5-B8D2-B93310A2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7DA1-DC7E-4E66-A0BC-DB57D33F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BE3D-752F-49C4-8468-9097624C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FBE-0951-42A4-BC88-7309B9E0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C116-D186-42C1-B793-E00B6F1D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FE08-8380-49DE-A384-84DD7755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738C-0A88-4CFB-A770-423861A4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48CC-597D-4482-93FA-96B315CE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73D4-8175-431F-8CD2-1DE66514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453-1C5B-45FC-9FE2-8B519B3E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57E-613E-494F-9C7F-460D67A2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71F-9347-4029-9A09-783F7762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05C-AFA9-47C1-84B2-F7133D2C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897-9E8E-493E-9CE6-1F9CE373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3FE-49DA-4780-9C6B-569FFF16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499-ACA1-478C-9D75-C2B1E7A3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996B-D17A-471F-9057-E676305CDA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0EA0-6C9A-4973-ACDD-AFABF70F6A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917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Мир русской песни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99840" y="37335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Урок музыки № 10 </a:t>
            </a:r>
            <a:br>
              <a:rPr sz="2800"/>
            </a:b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в 5 клас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Comic Sans MS"/>
              </a:rPr>
              <a:t>Есть ли общее в песнях «Ах ты, степь широкая…» и «Вечерний звон»? </a:t>
            </a:r>
            <a:br>
              <a:rPr sz="4400"/>
            </a:br>
            <a:r>
              <a:rPr b="1" lang="ru-RU" sz="4400" spc="-1" strike="noStrike">
                <a:solidFill>
                  <a:srgbClr val="cc6600"/>
                </a:solidFill>
                <a:latin typeface="Comic Sans MS"/>
              </a:rPr>
              <a:t>В чем оно проявляетс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7" descr="л"/>
          <p:cNvPicPr/>
          <p:nvPr/>
        </p:nvPicPr>
        <p:blipFill>
          <a:blip r:embed="rId1"/>
          <a:stretch/>
        </p:blipFill>
        <p:spPr>
          <a:xfrm>
            <a:off x="4724280" y="3468600"/>
            <a:ext cx="4419720" cy="3389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Перед жатвой (1989)"/>
          <p:cNvPicPr/>
          <p:nvPr/>
        </p:nvPicPr>
        <p:blipFill>
          <a:blip r:embed="rId2"/>
          <a:stretch/>
        </p:blipFill>
        <p:spPr>
          <a:xfrm>
            <a:off x="0" y="3475080"/>
            <a:ext cx="4572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17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200"/>
                </a:solidFill>
                <a:latin typeface="Comic Sans MS"/>
              </a:rPr>
              <a:t>Основными признаками русской народной песенности являютс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1480" y="2320560"/>
            <a:ext cx="73404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Мелодичност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11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Инструментальность звучан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Comic Sans MS"/>
              </a:rPr>
              <a:t>Подголосочность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Какие музыкальные </a:t>
            </a:r>
            <a:br>
              <a:rPr sz="3600"/>
            </a:b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инструменты входят в состав </a:t>
            </a:r>
            <a:br>
              <a:rPr sz="3600"/>
            </a:b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русского народного оркестра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800600" y="2437920"/>
            <a:ext cx="403848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Скрип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Свирел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Домр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Кларне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Балалай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1001"/>
              </a:spcBef>
              <a:buClr>
                <a:srgbClr val="ffb8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Кастаньеты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но"/>
          <p:cNvPicPr/>
          <p:nvPr/>
        </p:nvPicPr>
        <p:blipFill>
          <a:blip r:embed="rId1"/>
          <a:stretch/>
        </p:blipFill>
        <p:spPr>
          <a:xfrm>
            <a:off x="152280" y="2362320"/>
            <a:ext cx="4496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Найди соответств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776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Лирическая протяжн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Солдатск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Трудов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Плясов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Хороводная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Эх, ухнем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Ах ты, степь широкая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Солдатушки, бравы ребятуш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Во поле береза стоял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Светит месяц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Найди соответств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776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1001"/>
              </a:spcBef>
              <a:buClr>
                <a:srgbClr val="da9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a9c00"/>
                </a:solidFill>
                <a:latin typeface="Comic Sans MS"/>
              </a:rPr>
              <a:t>Лирическая протяжн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олдатск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Трудов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лясов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spcBef>
                <a:spcPts val="1001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200"/>
                </a:solidFill>
                <a:latin typeface="Comic Sans MS"/>
              </a:rPr>
              <a:t>Хороводная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«Эх, ухнем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da9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9c00"/>
                </a:solidFill>
                <a:latin typeface="Comic Sans MS"/>
              </a:rPr>
              <a:t>«Ах ты, степь широкая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Солдатушки, бравы ребятуш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00b2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«Во поле береза стоял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«Светит месяц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Какие народные песни ты знаеш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Ах ты, степь широкая…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Рус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Вечерний звон.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Рус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Веснянка.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Украин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Пастушка.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Француз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Камертон.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Норвеж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Comic Sans MS"/>
              </a:rPr>
              <a:t>Кадэ Русель. 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Comic Sans MS"/>
              </a:rPr>
              <a:t>Французская народн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одержание русских народных песен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200"/>
                </a:solidFill>
                <a:latin typeface="Comic Sans MS"/>
              </a:rPr>
              <a:t>Природа России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da9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a9c00"/>
                </a:solidFill>
                <a:latin typeface="Comic Sans MS"/>
              </a:rPr>
              <a:t>Быт русских люд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Чувства, пережива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Рассказы о праздниках и будня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«Уж ты зимушка зима». </a:t>
            </a:r>
            <a:br>
              <a:rPr sz="4000"/>
            </a:b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Музыка А. Александрова, </a:t>
            </a:r>
            <a:br>
              <a:rPr sz="4000"/>
            </a:br>
            <a:r>
              <a:rPr b="1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стихи неизвестного автор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5" descr="кича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Comic Sans MS"/>
              </a:rPr>
              <a:t>Какие стороны жизни отражала русская народная песня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Жанры русских народных песен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95480" y="228564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Колыбельн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Трудов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Солдатск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Песни-плач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Обрядовы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Свадебн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К какому жанру русской народной песни относится звучащий фрагмент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05480" y="2442960"/>
            <a:ext cx="377640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Трудова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олдатска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сторическа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Лирическая</a:t>
            </a:r>
            <a:r>
              <a:rPr b="1" lang="ru-RU" sz="4000" spc="-1" strike="noStrike">
                <a:solidFill>
                  <a:srgbClr val="ffb8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Перед жатвой (1989)"/>
          <p:cNvPicPr/>
          <p:nvPr/>
        </p:nvPicPr>
        <p:blipFill>
          <a:blip r:embed="rId1"/>
          <a:stretch/>
        </p:blipFill>
        <p:spPr>
          <a:xfrm>
            <a:off x="304920" y="2209680"/>
            <a:ext cx="4114800" cy="28958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1828800" y="5334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А. Борисов. Высохший руч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211280" y="6172200"/>
            <a:ext cx="423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b800"/>
                </a:solidFill>
                <a:latin typeface="Comic Sans MS"/>
              </a:rPr>
              <a:t>Ах ты, степь широк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есенность русской поэз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Лирическая песн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Лирический пейза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Лирическая поэз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676520" y="5943600"/>
            <a:ext cx="281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962520" y="51055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И. Шишкин. Среди долины ровны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580760" y="624852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9c00"/>
                </a:solidFill>
                <a:latin typeface="Comic Sans MS"/>
              </a:rPr>
              <a:t>Не одна во поле дороженька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678320" y="5867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9c00"/>
                </a:solidFill>
                <a:latin typeface="Comic Sans MS"/>
              </a:rPr>
              <a:t>Среди долины ровны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9" descr="ш"/>
          <p:cNvPicPr/>
          <p:nvPr/>
        </p:nvPicPr>
        <p:blipFill>
          <a:blip r:embed="rId1"/>
          <a:stretch/>
        </p:blipFill>
        <p:spPr>
          <a:xfrm>
            <a:off x="3886200" y="1917720"/>
            <a:ext cx="4495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Как в музыке передается содержание поэзи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24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Вечерний звон». Стихи И. Козлова, обработк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Н. Ивано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a9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9c00"/>
                </a:solidFill>
                <a:latin typeface="Comic Sans MS"/>
              </a:rPr>
              <a:t>А. Алябьев. Вечерний звон – близок романс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800600" y="5715000"/>
            <a:ext cx="3886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И. Левитан. Вечерний зво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л"/>
          <p:cNvPicPr/>
          <p:nvPr/>
        </p:nvPicPr>
        <p:blipFill>
          <a:blip r:embed="rId1"/>
          <a:stretch/>
        </p:blipFill>
        <p:spPr>
          <a:xfrm>
            <a:off x="4648320" y="2514600"/>
            <a:ext cx="38876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200"/>
                </a:solidFill>
                <a:latin typeface="Comic Sans MS"/>
              </a:rPr>
              <a:t>Какие колокольные звоны ты услышал в песне «Вечерний звон»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800600" y="3276720"/>
            <a:ext cx="3772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da9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9c00"/>
                </a:solidFill>
                <a:latin typeface="Comic Sans MS"/>
              </a:rPr>
              <a:t>Наба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1349"/>
              </a:spcBef>
              <a:buClr>
                <a:srgbClr val="da9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9c00"/>
                </a:solidFill>
                <a:latin typeface="Comic Sans MS"/>
              </a:rPr>
              <a:t>Перезвон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1349"/>
              </a:spcBef>
              <a:buClr>
                <a:srgbClr val="da9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9c00"/>
                </a:solidFill>
                <a:latin typeface="Comic Sans MS"/>
              </a:rPr>
              <a:t>Трезвон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л"/>
          <p:cNvPicPr/>
          <p:nvPr/>
        </p:nvPicPr>
        <p:blipFill>
          <a:blip r:embed="rId1"/>
          <a:stretch/>
        </p:blipFill>
        <p:spPr>
          <a:xfrm>
            <a:off x="0" y="2995560"/>
            <a:ext cx="48006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0T19:36:4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