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0" y="0"/>
            <a:ext cx="6883200" cy="100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dt" idx="37"/>
          </p:nvPr>
        </p:nvSpPr>
        <p:spPr>
          <a:xfrm>
            <a:off x="389736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sldImg"/>
          </p:nvPr>
        </p:nvSpPr>
        <p:spPr>
          <a:xfrm>
            <a:off x="942840" y="750960"/>
            <a:ext cx="4997520" cy="374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ftr" idx="38"/>
          </p:nvPr>
        </p:nvSpPr>
        <p:spPr>
          <a:xfrm>
            <a:off x="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 type="sldNum" idx="39"/>
          </p:nvPr>
        </p:nvSpPr>
        <p:spPr>
          <a:xfrm>
            <a:off x="389736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DCF8-8B01-4A46-BF98-208837F87B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0A2A-C405-4C17-B059-F8DC404D98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942840" y="750960"/>
            <a:ext cx="4997520" cy="374976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3264-03D6-4354-BC71-F8293041EA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42840" y="750960"/>
            <a:ext cx="4997520" cy="374976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 телевизором-сиднем не сид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если у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ьм больно интерес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о мультики, так и это время можно для гимнастики использова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ты сутулишься, возьми за спину палку, положи её на сгибы локтей и смотри себе мультики. Станешь стройным, как Алёша Попович. Если у тебя плоскостопие, катай ту же палку ногами. Если хочешь сильные руки иметь- возьми резиновое кольцо либо мячик и сжимай, пока не устанешь, то одной, то другой ру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7051-43E7-40A9-B743-A33B1C729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B50C-3728-4533-B013-D9DC5571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407115-0A62-4478-980A-E4B35C21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E4FE0-EFF7-4B98-97DB-E33FA32C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76464-9E17-4B9F-BA60-01832F31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8822E-2C96-4F88-BD90-5373A73F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CFF7D-3E7F-4F1B-A681-683B6E70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533CB-8BAE-4381-ABAB-44036673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18F1D-61E6-44CF-862C-BCF56F5B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2FD26-EB20-43C5-B796-334844E5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BBC6B-C57B-4FD3-ACB4-17A0567F3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B9DBC-3D3F-403A-9B70-B3EF0621C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0097-3883-4F15-8A21-AF44C4FD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BEA51-0C2B-4EAB-A96D-FE51B81E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9F618-EB73-469A-B992-5A28E3C0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8035E-779A-4386-ACB4-D7D1F6AD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10C2D-128C-4CF6-8649-A2206880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68677-7755-4EA6-B3C7-BD1196AA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127E8-A30C-416D-9569-CA220AAF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6267F6-6931-4014-ADF0-501BC0D5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0352C-E58E-4CAB-AADF-F8BAA63C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B0027-DB42-471A-9E33-792077F4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1511E-5B69-4E33-AEC9-E04AE3C85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A982-9440-4E87-B7DE-F56FEFCEB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BDB51-CF69-4DCD-BF19-1129F05C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1B07E-36D9-40DD-9C10-7C3FE647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81E71-90A1-45CB-AA4A-8CFA43DC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63549-A69B-408C-A452-AEE94275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21CB6-43D9-46EC-878C-F925840D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F8733-6646-4EA8-9238-96D8E5F5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33B89-13D6-4E13-A6C6-13DF1EAC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1F38F-D559-44EF-962F-E7C8CF59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A00FA-37D7-42AE-AE9E-2D734F21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4338D-7209-4C83-9C78-6D723550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D714-064E-4273-9082-BC90FE57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C70A7-795C-4071-8331-F64AB044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6C43B-08DE-47AA-9F75-204E621CE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DE33D-6F0C-469C-A09D-956E93D82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E67168-F709-44A3-97AE-520B832DA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8B8CEB-C8AE-41DF-A40D-DD3937FF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D7152C-67DE-422A-99FF-299CEC95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7F0795-54B2-437D-85EB-F189C91D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9D18AA-F08D-45BE-B125-C644EC50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03206-9661-4F78-BF9D-0424E278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29842-A8A8-442B-A909-0B9157BC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E6D6-04AD-4D74-83EC-E48334EB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13CC6-5AA9-4AA7-A5F5-007E8E5E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D30EB-2BDD-410B-B781-004C6944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C59037-BD1B-41A1-8947-9DC21A6C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5D8F9-8680-4E5F-9AFE-84AA807C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19C36-B349-4A1A-B4E5-69C469238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4E90-9A79-40E5-A3D9-CC1C9834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7A80-AF9C-47C0-B962-3BF3D60E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187F-D087-42A2-AAAC-5EE91BE2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D7E6-0784-4A93-ACBE-5D73160D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68EF-0251-4741-B418-5C3E1F53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0CF8-73E7-4BB8-BE70-2FC05BD8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C2DD-CB48-4C10-9A97-63B37972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A126-0A0D-4A2D-86C2-CC8BAA31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3416-14D9-4562-8047-83958B60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78B6-D99E-4592-B678-05BA5A24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AC78-B699-423E-B29C-5D07F848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9EB45-DF82-423E-830C-BFA05F545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C058A-C5EA-4C35-8C54-65DDF16B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D9A84-D530-4940-BAD9-CF22B251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B2A7B-73E1-471E-BE7F-C3D952B8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E21C0-AE16-4115-B73A-734FF6A8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708B-421D-4A30-9891-26B7B60D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B1F65-989A-4580-B19B-2AF5A5DC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800FB-DD93-4F35-8ED6-F39CFC5E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01721-AA1F-47F3-8C52-43B0B6D6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CBB2C-7361-4D46-A47F-A30B0D8B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AB933-9741-458B-A9B2-E76E6771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39130-F99B-454E-A6FF-A6E2C1B5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2C5AB-0D48-4D11-B840-F56052B7E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8C7EC-461F-4AA0-A2B2-614DF4C2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A91D6-3A30-47B4-85C6-EFE606AF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44CFE-D8B0-4219-BDB4-C6440337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E59D-2371-49DB-96A1-D647DA48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32DE3-FFF9-4F41-BE93-A8763CCE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2578B-5C7F-4361-8508-D3A3DB2D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92381-D7BA-47C2-A378-FAF1D286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47C53-C69B-428A-B75A-0B592805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F0B5D-ABAD-4C4E-B1F2-09826D0C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F1FAE-95DD-4259-B405-9A37EEE5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11182-2262-4001-AA9A-3B6A8129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4218E-04C3-4057-875E-6C4AD33D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1E9AC-C818-4113-89C2-0D420E47C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D9119-0EFF-4FCF-BBC7-3AE1FC37C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1FF4-21E4-4D07-9C39-B848758A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ED46A-F208-46DB-A2BD-9F430F42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A2C11-9A5F-4EB3-BC67-3DB23C9E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09200-DFA6-4784-8B25-A8D31E22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E3601-63F1-4BA3-9794-11F1016D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F4E3B-EB8E-4E8D-9EAF-95D82E89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CB10A-9353-4A85-8FF7-297DE022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9743A-4005-4992-8AFC-4FD00B40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93757-970A-467E-A5C4-2757C8B0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C5CFC-4E9B-4EC6-8750-EDE7FC2E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3BF41-E71D-412F-8C3D-1F7366E09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CAA2-4055-4797-8DAA-EA857E24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EC50D-9E41-4899-A073-33D5782F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9E73BC-72A5-4466-B5E5-3F11B9C8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4E6F82-93E4-48E4-9078-2C826FA1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D4B5D8-33B2-4F60-BB24-801C3848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C749A6-2ADA-4307-9CDE-63EB4D9E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1FDC7D-0204-4E8D-80DE-2D9C7781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C649A7-A33A-4E8B-B342-93A69378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EAE731-C4D4-496F-904E-CA78A09E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BFE0CA-EC09-44D6-9DC3-C2DB12C8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F31ADA-DAF6-4FEE-B714-A3217B4F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866C-EFF5-4168-B35C-0A294432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3BDEA9-B599-4405-8E0B-60B8B8AE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FC488B-998E-4D52-9E10-9811ECEB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FB68E6-B8C1-498D-A441-2E251136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2286A-0F31-42B8-AE23-386DC5D1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61F75-BA3E-4E16-93E8-A97E2E78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881BB-A38B-4186-8DBC-02A69EB6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06511-8C23-4EBB-9798-20ACBDBE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C7951-589B-4DD4-A791-B1624A85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16E38-E7EF-4B41-B4A7-58771A30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1978B-3462-4598-9A70-A89AF227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CEE2-6EA9-4270-900A-C90D4010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D206E-4383-412D-86A0-9A1CAF0A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1AAFC-BD51-4B7A-BBEB-45DD64B5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C4600-32F1-4254-9F94-9F4AE545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743C9-689A-4A74-AD52-457511EE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9E95E-2B05-41D6-99E0-03AEC9EFB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560F2-394F-4F1B-A607-015CE0E6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B7A7A-4143-4EF0-9925-A50F3A01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A0C76-7797-4F2F-BC09-18CE286A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8AFC0-6BF2-4E7C-A874-10BCB716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FCD9D-36CC-4E80-9D89-C7EEA0FC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17B8-7E69-4C64-A221-7B1BB6FC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A3453-D52C-4027-824A-55B7E981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B3777-C9FA-477D-8ADD-00764BB7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8EADB-A1CF-4105-9760-2255BBB4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A0C50-6FAC-4849-A260-CF0BEFBA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A3B69-4792-4557-AC97-54C9A063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DB977-FD8B-4D19-BF61-0C0A0139D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185B3-EAE8-40A1-9C40-85AFFCE7D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B01FD-6C49-4E6A-8D00-0AD52256D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88114-3189-4BD3-A6FF-8B09FB9E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0E5C1-0FE1-4BB4-9405-B769A4FE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BB61-5962-4470-99AC-C2633B8AADB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62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2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62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2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62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28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ftr" idx="29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FC34-CC48-46B0-B567-11C785C8D87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C008-EBF7-41BF-9809-6B20ECB195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1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F126-BDE8-46FB-8460-8E5AD2D946A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1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3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4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F648-FFE9-4567-99C6-43E6055613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87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6BA9-1392-4133-A938-5FFE0336F6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3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3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3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356D-E18C-4129-B0F0-FF15F2CA482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B655-33FB-45C5-8353-88E6844D23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2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B87B-6AEB-4BED-8834-DA1394A34BA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88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9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0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2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5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7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9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00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01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1507-98B9-434E-9A8A-814515949E9D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68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6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7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8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8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0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0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1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1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2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2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BB26-BB93-416A-ABC3-CE6C041527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73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4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5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6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7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8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B590-E76A-4224-B5F4-B4AC214C72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image" Target="../media/image14.jpe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Растем здоровым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особах укрепления здоровь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офилактике простудных заболеван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редных привычк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урить или не курить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Picture 4" descr="Изображение 003"/>
          <p:cNvPicPr/>
          <p:nvPr/>
        </p:nvPicPr>
        <p:blipFill>
          <a:blip r:embed="rId1"/>
          <a:stretch/>
        </p:blipFill>
        <p:spPr>
          <a:xfrm>
            <a:off x="914400" y="1752480"/>
            <a:ext cx="7315200" cy="457200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5" descr="Изображение 004"/>
          <p:cNvPicPr/>
          <p:nvPr/>
        </p:nvPicPr>
        <p:blipFill>
          <a:blip r:embed="rId2"/>
          <a:stretch/>
        </p:blipFill>
        <p:spPr>
          <a:xfrm>
            <a:off x="5791320" y="358128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Изображение 004"/>
          <p:cNvPicPr/>
          <p:nvPr/>
        </p:nvPicPr>
        <p:blipFill>
          <a:blip r:embed="rId3"/>
          <a:stretch/>
        </p:blipFill>
        <p:spPr>
          <a:xfrm>
            <a:off x="6553080" y="3124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7" descr="Изображение 004"/>
          <p:cNvPicPr/>
          <p:nvPr/>
        </p:nvPicPr>
        <p:blipFill>
          <a:blip r:embed="rId4"/>
          <a:stretch/>
        </p:blipFill>
        <p:spPr>
          <a:xfrm>
            <a:off x="5867280" y="44197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9" descr="Изображение 004"/>
          <p:cNvPicPr/>
          <p:nvPr/>
        </p:nvPicPr>
        <p:blipFill>
          <a:blip r:embed="rId5"/>
          <a:stretch/>
        </p:blipFill>
        <p:spPr>
          <a:xfrm>
            <a:off x="6553080" y="4267080"/>
            <a:ext cx="533520" cy="47952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10" descr="Изображение 004"/>
          <p:cNvPicPr/>
          <p:nvPr/>
        </p:nvPicPr>
        <p:blipFill>
          <a:blip r:embed="rId6"/>
          <a:stretch/>
        </p:blipFill>
        <p:spPr>
          <a:xfrm>
            <a:off x="7010280" y="3733920"/>
            <a:ext cx="609840" cy="45720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11" descr="Изображение 006"/>
          <p:cNvPicPr/>
          <p:nvPr/>
        </p:nvPicPr>
        <p:blipFill>
          <a:blip r:embed="rId7"/>
          <a:stretch/>
        </p:blipFill>
        <p:spPr>
          <a:xfrm>
            <a:off x="1371600" y="320040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12" descr="Изображение 006"/>
          <p:cNvPicPr/>
          <p:nvPr/>
        </p:nvPicPr>
        <p:blipFill>
          <a:blip r:embed="rId8"/>
          <a:stretch/>
        </p:blipFill>
        <p:spPr>
          <a:xfrm>
            <a:off x="1981080" y="3809880"/>
            <a:ext cx="533520" cy="381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3" descr="Изображение 006"/>
          <p:cNvPicPr/>
          <p:nvPr/>
        </p:nvPicPr>
        <p:blipFill>
          <a:blip r:embed="rId9"/>
          <a:stretch/>
        </p:blipFill>
        <p:spPr>
          <a:xfrm>
            <a:off x="2971800" y="3809880"/>
            <a:ext cx="533520" cy="38124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4" descr="Изображение 006"/>
          <p:cNvPicPr/>
          <p:nvPr/>
        </p:nvPicPr>
        <p:blipFill>
          <a:blip r:embed="rId10"/>
          <a:stretch/>
        </p:blipFill>
        <p:spPr>
          <a:xfrm>
            <a:off x="3657600" y="396252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5" descr="Изображение 006"/>
          <p:cNvPicPr/>
          <p:nvPr/>
        </p:nvPicPr>
        <p:blipFill>
          <a:blip r:embed="rId11"/>
          <a:stretch/>
        </p:blipFill>
        <p:spPr>
          <a:xfrm>
            <a:off x="2438280" y="3200400"/>
            <a:ext cx="533520" cy="380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Я говорю «НЕТ!» курению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13" name="Picture 6" descr="Изображение 007"/>
          <p:cNvPicPr/>
          <p:nvPr/>
        </p:nvPicPr>
        <p:blipFill>
          <a:blip r:embed="rId1"/>
          <a:stretch/>
        </p:blipFill>
        <p:spPr>
          <a:xfrm>
            <a:off x="457200" y="2133720"/>
            <a:ext cx="8153280" cy="3886200"/>
          </a:xfrm>
          <a:prstGeom prst="rect">
            <a:avLst/>
          </a:prstGeom>
          <a:ln w="0">
            <a:noFill/>
          </a:ln>
        </p:spPr>
      </p:pic>
      <p:sp>
        <p:nvSpPr>
          <p:cNvPr id="814" name="Line 7"/>
          <p:cNvSpPr/>
          <p:nvPr/>
        </p:nvSpPr>
        <p:spPr>
          <a:xfrm>
            <a:off x="685800" y="2209680"/>
            <a:ext cx="7696080" cy="36576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Line 8"/>
          <p:cNvSpPr/>
          <p:nvPr/>
        </p:nvSpPr>
        <p:spPr>
          <a:xfrm flipH="1">
            <a:off x="685800" y="2286000"/>
            <a:ext cx="7696080" cy="35812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Расти здоровыми - вести здоровый образ жизни.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облюдать чистоту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авильно питатьс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очетать труд и отдых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ного двигатьс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е иметь вредных привычек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WordArt 7"/>
          <p:cNvSpPr txBox="1"/>
          <p:nvPr/>
        </p:nvSpPr>
        <p:spPr>
          <a:xfrm>
            <a:off x="609480" y="685800"/>
            <a:ext cx="7696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Будьте здоровы !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словиц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доров будешь – все добуде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епок телом – богат и дел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доровье дороже богат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68000" y="279360"/>
            <a:ext cx="8218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ой обед можно назвать здоровым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86" name="Picture 8" descr="фрукты"/>
          <p:cNvPicPr/>
          <p:nvPr/>
        </p:nvPicPr>
        <p:blipFill>
          <a:blip r:embed="rId1"/>
          <a:stretch/>
        </p:blipFill>
        <p:spPr>
          <a:xfrm>
            <a:off x="152280" y="1905120"/>
            <a:ext cx="868680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Какое питание нужно считать здоровым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05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нообразн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гатое овощами и фрукт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гулярн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з спеш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59120" y="1599840"/>
            <a:ext cx="402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нообразн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гатое сладостя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 случая к случа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торопя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ыбери себе завтра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91" name="Picture 4" descr="шоколад"/>
          <p:cNvPicPr/>
          <p:nvPr/>
        </p:nvPicPr>
        <p:blipFill>
          <a:blip r:embed="rId1"/>
          <a:stretch/>
        </p:blipFill>
        <p:spPr>
          <a:xfrm>
            <a:off x="380880" y="1828800"/>
            <a:ext cx="853452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ать не меньше 10 ча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езный сон с 21 часа до 7 часов ут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жин за 1,5 – 2 часа до с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играть в шумные иг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смотреть телевиз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мнату перед сном проветри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e5ffff"/>
                </a:solidFill>
                <a:latin typeface="Tahoma"/>
              </a:rPr>
              <a:t>Сладкий сон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Чистота – залог здоровь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увь, платье и жилище быть должны как можно чищ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нас в школе есть закон – вход неряхам запреще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оветы Ильи Муромц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797" name="Picture 13" descr="Изображение"/>
          <p:cNvPicPr/>
          <p:nvPr/>
        </p:nvPicPr>
        <p:blipFill>
          <a:blip r:embed="rId1"/>
          <a:stretch/>
        </p:blipFill>
        <p:spPr>
          <a:xfrm>
            <a:off x="1752480" y="1752480"/>
            <a:ext cx="571680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4"/>
          <p:cNvSpPr/>
          <p:nvPr/>
        </p:nvSpPr>
        <p:spPr>
          <a:xfrm>
            <a:off x="914400" y="380880"/>
            <a:ext cx="8229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ед телевизором-сиднем не сид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если уж фильм больно интересный  либо мультики, так и это время можно для гимнастики использов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ты сутулишься, возьми за спину палку, положи её на сгибы локтей и смотри себе мультики. Станешь стройным, как Алёша Попович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у тебя плоскостопие, катай ту же палку ногам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хочешь сильные руки иметь- возьми резиновое кольцо либо мячик и сжимай, пока не устанешь, то одной, то другой рук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2-03T20:45:49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