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7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ftr" idx="38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 type="sldNum" idx="39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1A57-6DE5-4D8A-8A34-B365C1CDA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03E1-D8B6-479F-B395-54B37EF21C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D3C9-4441-4F57-9CB4-BA403E7CF3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телевизором-сиднем не си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если у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ьм больно интерес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мультики, так и это время можно для гимнастики использов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ы сутулишься, возьми за спину палку, положи её на сгибы локтей и смотри себе мультики. Станешь стройным, как Алёша Попович. Если у тебя плоскостопие, катай ту же палку ногами. Если хочешь сильные руки иметь- возьми резиновое кольцо либо мячик и сжимай, пока не устанешь, то одной, то другой ру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CB2-D549-4E42-B27F-3FDDF3CC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168-20BF-44DE-BB9D-6CD606B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B2AB9-A57C-4589-B25F-D5FBEE5E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420F9-6819-4B8A-B8BB-F17E4D7D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C3FF0-C813-4844-8920-23A49507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A70B7-C025-4725-B2B5-B8CB636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33D42-6A0E-4993-BDAB-0809B803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67B8C-0E82-4E85-A85F-C3B82C0B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BCA28-C3D8-469B-843C-460FFAB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8198C-E14C-47C9-B295-8E1BA3CB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9C88E-807C-48FA-AFD5-F7E493FE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26AAA-C7B6-40EA-A57B-062393C2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49A-5ED8-401D-A373-5A7780B5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E2D57-BD31-4E3E-A893-72D687ED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43FBD-EB73-4DDF-8E14-14EDB51D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0FCAC-FC4C-4FD6-97E0-275A1DA6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E7DE3-EBD8-4714-9387-56DE614E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31C44-81E2-4CAF-82B0-FD61ADC8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4E2B9-DCF3-491D-912C-30EF1CB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F527B-E3BF-492E-9FA9-18656E5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1669E-76AB-46E5-8225-6C6DA77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7CA2E-72BC-4F58-A784-2B60446F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907AF-3D29-451D-A989-18008AF2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0B1-49AA-4386-96EF-D03ECE2C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81495-DF47-4184-B1D7-1E7926BF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11884-26CE-4033-9CBC-3663B437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CA20D-42F4-4730-B6E9-2E262560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1EDE8-36EB-4807-9709-AE209B19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39EEA-408F-4CCC-B533-6C804332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74CF8-30D7-4E93-B7C3-494508A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B2B9C-8AAA-4FC4-B860-4A9E0B5F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75E60-BFFB-4613-9BCC-0334B2D5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6F929-E000-46D8-B7CE-0E7B1256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FE931-DA76-43ED-957B-5D94D7CC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0CEE-6700-4673-8370-877BF9B0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B363-8594-4019-B6ED-93DBDA07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66E40-012A-4F87-8342-5B657075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E397B-7280-4810-8E8A-97B42248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6F119-C4FC-44B7-AA33-DCADF2B7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B441D-2F26-4E12-BE06-D30EA929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0A85F-3AF6-4D43-89A4-132E8452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E2A88-CCA2-4EDB-81BA-7EBEEDD6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AF03D-4171-4DF7-B9D3-C014E60B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447E6-1C2F-4BE5-9CEE-AB1DF2B0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21405-D541-4C1A-A187-05007CF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D49B-8C3A-4AAC-8670-D4ACD518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535A4-1B50-4ACE-985E-41133F7E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2E40A-5DF0-46F5-AE9D-6A1E9224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F1555-0D4C-46D8-BDD4-093EA4A1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1EB0B-BAF3-482E-BD70-377CB2CD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EF2C9-C3B0-42A1-8E2A-7B33D9DD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3D69-423C-4875-824F-BD63133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8A97-7B9A-44E1-ABDC-F8808B8B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BA8E-4D47-4249-A2AF-FE56DE51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80DD-1297-4F78-BDC3-B5F18F9B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BFD8-F139-41F7-9AB8-31DE2505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3B0-4209-4716-B6B6-A620E29B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695D-3C4E-4A22-ACDF-BB66F14E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24AF-959C-45A1-B4A9-8F68FA0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29AD-FC5A-43E6-B469-1BC018A8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6312-2BE2-4409-9FD8-76351F04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6075-7ED7-4C6C-9EA0-E2C62580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09D9-5189-4426-99D9-5EB97B75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40EF-301E-473A-A615-B7ED737B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E4C9-B6BC-474A-9784-CBB4B006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2AB5-3853-4584-B2F8-092DE708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8D5E-5F6A-488D-8917-528C9996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51D-6A0A-45EB-98F8-2A92C78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95C6-7FAE-46B4-B5FF-DB67A534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1991-F49D-4C5C-8EC4-42A49B2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8D47-45AE-437E-B77C-B447306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98FF-C3A4-487B-89D3-C774419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8ABA-5CF3-49F8-A4CB-FD71FFC9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C3AA-A754-41D1-B931-60B80E9E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CAD3-390D-448E-BD82-AE14B6E7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C716-412E-4B25-847D-2E9A897C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9400A-E8BA-4854-9262-3863D465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7331-C820-4470-A07B-C417A6D4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173-8BEB-44D1-8C15-CCCA2215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8B13-AEB1-45FA-AC53-51C0D7B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C28F-404A-4AC6-8068-C943C11B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0151-741B-45E8-B680-2C1D61C0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ABC0-CB65-40E1-8942-7967375A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A525-BFE2-4EB3-9A60-5A25DB2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8681-D0D3-4A07-9C95-B6BC626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E8F52-3BB2-4C38-BCE1-44447FA8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74FC6-31B7-4AC5-8786-99FCA17C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70E2-5E64-422C-991F-D2AFC0F2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A16E-BCAD-4F6F-B403-F00BD304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918-7C95-44DA-BF5C-3CD04F92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001DD-CC42-4961-A545-B86A7B29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27992-51B1-46ED-95EE-BB1A5F09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F7167-3B8D-406A-A2F9-E642A5F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998D-0E4E-4973-AB6A-00A9CEE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5B04-9B3C-4924-A731-27477755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6B0E-E5B8-4828-B6D5-F1F558C2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9F77-D3FC-4820-9F77-951CDD91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5E7E2-3E54-453F-A42F-640B790E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10060-2B84-4327-B0FE-3CECA910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2B79-0B34-4FC8-A4BC-4F574BB4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DD8-137D-4A50-BEF9-D14A03D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5D542-3079-4F56-AF7B-C6C04AF1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D8AE2-7C83-43DF-ACB1-72BF4610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D5478-1ACC-411A-B765-BB055FA4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45469-C469-409A-90C1-18A1D3E4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08B22-8005-42F1-9105-93FEF8A9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47538-74A9-47E7-9343-ADC32823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F84A5-CE24-443E-B53E-59D34F79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1C645-896A-4959-8699-355315E8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2C329-4A0F-4307-B7E1-98AEEEB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3CB1B-E729-4B44-A20E-E99A7AD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65B-41E9-45F4-B876-E472FF5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802B6-27A7-4FBD-9F20-4ABB0F3B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6EB0D-2025-420C-915B-DA71E2D1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FF365-334B-4886-A136-40471F49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D8BDD-DCA0-4861-9383-11DFFD90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63ED3-6F42-474F-B019-62C18C4D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6F076-2B7A-4209-8103-6A929BD8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A1D94-54B2-4D9D-8DEB-D50CF48C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02AFB-291A-487C-9A83-5E3AD5BD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3C7E6-8894-4D26-AE60-BC5AD713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4D87-8900-4E79-BC1B-01FC4E26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6C2-0D8A-4322-B5B8-7485652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DA16-149E-43EE-85F2-3EAD46F9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8E9D8-A338-4F39-A297-F4B10B3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465CD-1B73-40B7-B092-00C16623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8F05D-5B7A-4581-A664-3B3ECCC2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36587-9F5F-402E-977D-41DEB35B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861BD-3A88-4FBF-BC0D-B696ABE0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1744-AD1E-4994-BF37-AE4AD2AF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8DBB4-3D18-41AF-A5B7-716A4594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540C-19DC-4350-91B4-72B99BDB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3F47A-05D5-4CE1-919C-88BA8F49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536-6A47-4312-BA13-F9C3DDDD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969A2-5C52-4FE4-9695-F8030044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A34FD-F48B-4397-9AFF-81765F2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6F716-F1E2-4C92-9D75-B15BD994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BAF80-17D8-45CA-93F0-EE76CCC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7C7C-8168-4CC7-A413-66D5D00B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3C66B-6053-4639-A91B-77CEDD67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E67FC-40AF-48C9-999C-784B7B78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101BB-B075-4D50-80C5-29758D46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779B5-900B-40B4-A69F-9EE2F33A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A0FDD-FACA-409B-8BB7-BB9846B6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9957-F0D3-4F65-BF25-741C485B711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2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2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2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CDD4-DD8E-4B24-B469-812906B29E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F676-02C2-4F17-A728-28DDBEC12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1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F14B-3A7D-4873-B35A-A3B57CCE203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542F-0024-4AB5-A0EB-2BC05527C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4505-500E-4804-8DDF-A6AAB2B30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3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CB0D-A640-43B8-9A2F-E1D480D9F5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B241-E2AB-41E2-977E-AB535B25A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4F9B-5E89-45DC-8035-BDDB693438D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44A9-816B-4DFB-8086-A29DCD9274B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7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8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0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2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2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0EE2-DC4F-40B7-992F-E42079FBA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7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0ED1-A3D8-40D0-A95C-0C026FC54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астем здоровым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особах укрепления здоровь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филактике простудных заболева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редных привычк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урить или не курить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5720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Изображение 004"/>
          <p:cNvPicPr/>
          <p:nvPr/>
        </p:nvPicPr>
        <p:blipFill>
          <a:blip r:embed="rId2"/>
          <a:stretch/>
        </p:blipFill>
        <p:spPr>
          <a:xfrm>
            <a:off x="5791320" y="3581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655308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7" descr="Изображение 004"/>
          <p:cNvPicPr/>
          <p:nvPr/>
        </p:nvPicPr>
        <p:blipFill>
          <a:blip r:embed="rId4"/>
          <a:stretch/>
        </p:blipFill>
        <p:spPr>
          <a:xfrm>
            <a:off x="5867280" y="4419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9" descr="Изображение 004"/>
          <p:cNvPicPr/>
          <p:nvPr/>
        </p:nvPicPr>
        <p:blipFill>
          <a:blip r:embed="rId5"/>
          <a:stretch/>
        </p:blipFill>
        <p:spPr>
          <a:xfrm>
            <a:off x="6553080" y="4267080"/>
            <a:ext cx="533520" cy="4795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0" descr="Изображение 004"/>
          <p:cNvPicPr/>
          <p:nvPr/>
        </p:nvPicPr>
        <p:blipFill>
          <a:blip r:embed="rId6"/>
          <a:stretch/>
        </p:blipFill>
        <p:spPr>
          <a:xfrm>
            <a:off x="7010280" y="373392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1" descr="Изображение 006"/>
          <p:cNvPicPr/>
          <p:nvPr/>
        </p:nvPicPr>
        <p:blipFill>
          <a:blip r:embed="rId7"/>
          <a:stretch/>
        </p:blipFill>
        <p:spPr>
          <a:xfrm>
            <a:off x="1371600" y="32004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2" descr="Изображение 006"/>
          <p:cNvPicPr/>
          <p:nvPr/>
        </p:nvPicPr>
        <p:blipFill>
          <a:blip r:embed="rId8"/>
          <a:stretch/>
        </p:blipFill>
        <p:spPr>
          <a:xfrm>
            <a:off x="1981080" y="38098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3" descr="Изображение 006"/>
          <p:cNvPicPr/>
          <p:nvPr/>
        </p:nvPicPr>
        <p:blipFill>
          <a:blip r:embed="rId9"/>
          <a:stretch/>
        </p:blipFill>
        <p:spPr>
          <a:xfrm>
            <a:off x="2971800" y="38098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4" descr="Изображение 006"/>
          <p:cNvPicPr/>
          <p:nvPr/>
        </p:nvPicPr>
        <p:blipFill>
          <a:blip r:embed="rId10"/>
          <a:stretch/>
        </p:blipFill>
        <p:spPr>
          <a:xfrm>
            <a:off x="3657600" y="39625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5" descr="Изображение 006"/>
          <p:cNvPicPr/>
          <p:nvPr/>
        </p:nvPicPr>
        <p:blipFill>
          <a:blip r:embed="rId11"/>
          <a:stretch/>
        </p:blipFill>
        <p:spPr>
          <a:xfrm>
            <a:off x="2438280" y="3200400"/>
            <a:ext cx="533520" cy="38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Я говорю «НЕТ!» курению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13" name="Picture 6" descr="Изображение 007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3886200"/>
          </a:xfrm>
          <a:prstGeom prst="rect">
            <a:avLst/>
          </a:prstGeom>
          <a:ln w="0">
            <a:noFill/>
          </a:ln>
        </p:spPr>
      </p:pic>
      <p:sp>
        <p:nvSpPr>
          <p:cNvPr id="814" name="Line 7"/>
          <p:cNvSpPr/>
          <p:nvPr/>
        </p:nvSpPr>
        <p:spPr>
          <a:xfrm>
            <a:off x="685800" y="2209680"/>
            <a:ext cx="7696080" cy="36576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Line 8"/>
          <p:cNvSpPr/>
          <p:nvPr/>
        </p:nvSpPr>
        <p:spPr>
          <a:xfrm flipH="1">
            <a:off x="685800" y="2286000"/>
            <a:ext cx="7696080" cy="35812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асти здоровыми - вести здоровый образ жизни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блюдать чисто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ильно питать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четать труд и отды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ного двигать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 иметь вредных привычек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7"/>
          <p:cNvSpPr txBox="1"/>
          <p:nvPr/>
        </p:nvSpPr>
        <p:spPr>
          <a:xfrm>
            <a:off x="609480" y="685800"/>
            <a:ext cx="7696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удьте здоровы 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словиц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 будешь – все добуд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епок телом – богат и де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ье дороже богат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68000" y="27936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й обед можно назвать здоровы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86" name="Picture 8" descr="фрукты"/>
          <p:cNvPicPr/>
          <p:nvPr/>
        </p:nvPicPr>
        <p:blipFill>
          <a:blip r:embed="rId1"/>
          <a:stretch/>
        </p:blipFill>
        <p:spPr>
          <a:xfrm>
            <a:off x="152280" y="190512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питание нужно считать здоровы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ообраз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гатое овощами и фрук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уляр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 сп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59120" y="1599840"/>
            <a:ext cx="402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образ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гатое сладост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случая к случа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п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бери себе завтра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1" name="Picture 4" descr="шоколад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ть не меньше 10 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ый сон с 21 часа до 7 часов у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жин за 1,5 – 2 часа до с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грать в шумные иг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мотреть телевиз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нату перед сном проветр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5ffff"/>
                </a:solidFill>
                <a:latin typeface="Tahoma"/>
              </a:rPr>
              <a:t>Сладкий сон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тота – залог здоровь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вь, платье и жилище быть должны как можно чищ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нас в школе есть закон – вход неряхам запрещ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веты Ильи Муром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97" name="Picture 13" descr="Изображение"/>
          <p:cNvPicPr/>
          <p:nvPr/>
        </p:nvPicPr>
        <p:blipFill>
          <a:blip r:embed="rId1"/>
          <a:stretch/>
        </p:blipFill>
        <p:spPr>
          <a:xfrm>
            <a:off x="1752480" y="1752480"/>
            <a:ext cx="5716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4"/>
          <p:cNvSpPr/>
          <p:nvPr/>
        </p:nvSpPr>
        <p:spPr>
          <a:xfrm>
            <a:off x="914400" y="38088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д телевизором-сиднем не си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если уж фильм больно интересный  либо мультики, так и это время можно для гимнастики использо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ты сутулишься, возьми за спину палку, положи её на сгибы локтей и смотри себе мультики. Станешь стройным, как Алёша Попович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у тебя плоскостопие, катай ту же палку ног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хочешь сильные руки иметь- возьми резиновое кольцо либо мячик и сжимай, пока не устанешь, то одной, то другой ру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45:4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