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0" y="0"/>
            <a:ext cx="6883200" cy="100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dt" idx="37"/>
          </p:nvPr>
        </p:nvSpPr>
        <p:spPr>
          <a:xfrm>
            <a:off x="389736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sldImg"/>
          </p:nvPr>
        </p:nvSpPr>
        <p:spPr>
          <a:xfrm>
            <a:off x="942840" y="750960"/>
            <a:ext cx="4997520" cy="374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ftr" idx="38"/>
          </p:nvPr>
        </p:nvSpPr>
        <p:spPr>
          <a:xfrm>
            <a:off x="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 type="sldNum" idx="39"/>
          </p:nvPr>
        </p:nvSpPr>
        <p:spPr>
          <a:xfrm>
            <a:off x="389736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276F-D4F8-4F4D-9684-132D3B4BA0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1EA6-6F55-441C-BD13-3BC04480FE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942840" y="750960"/>
            <a:ext cx="4997520" cy="374976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D71E-585A-4C08-BF4F-189A6C3C3F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42840" y="750960"/>
            <a:ext cx="4997520" cy="374976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 телевизором-сиднем не сид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если у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ьм больно интерес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о мультики, так и это время можно для гимнастики использова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ты сутулишься, возьми за спину палку, положи её на сгибы локтей и смотри себе мультики. Станешь стройным, как Алёша Попович. Если у тебя плоскостопие, катай ту же палку ногами. Если хочешь сильные руки иметь- возьми резиновое кольцо либо мячик и сжимай, пока не устанешь, то одной, то другой ру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6B58-F667-400B-B87A-F2BCAE23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14E1-3B4B-4D41-970A-7671CA64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276A0-F340-49F2-9D02-DF62C703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1CD63-D0E6-4A08-81F1-F92AD981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EAB69-8496-40E6-9F1D-3EE7AC1D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6F59F-FE5E-4737-8CD7-F7CC3183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3BBE6-396E-4500-B22B-84BA506B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AF702-EE65-41EB-AB11-5637C225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88BF0-F3D1-48F8-A967-44B48213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0853B-2B4E-483D-9335-7544C8A0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A61B1-1433-408C-B401-6EE5B9FB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F826A3-BF2A-4CB3-9643-253D458E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58FC-B2F6-45DF-ACAA-B283717C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2B5B2-9C90-4766-8355-46C194F5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F356E-E810-410D-8D00-366F700B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0247B-9429-4A62-9E7F-271373D0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02B70-8410-4136-AA29-FF92279A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CC8C4-9BB7-4EC4-9EF4-59962D1B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63664-C116-400F-9050-082F42CE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DE97F-156D-4F51-BC00-71767B95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B2B32-50C0-465C-B7D7-175045F0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E0116-72FD-4C6A-9D9B-F43C19A2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1D031-0F18-4F7E-8BB7-EEE2BE1D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024C-C8DC-428E-96D9-8507100E9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CE122-1F97-41E4-B9E9-EAD2AE4D1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701E9-948A-4BD5-8579-C1A990A1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6B0F7-0BE7-4E25-B650-906CDB99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C55ED-FD59-441D-B375-BE5975E8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513CE-5B5A-40A1-AC65-56E9C100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0C1BD-9813-42B0-B502-E51005A7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7C8A1-3203-4C7C-88AC-7B3CFF83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07E4E-ABE4-4950-A2D3-86DECFB6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6C613-19CA-468B-8E65-229C1FBF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ECC6E-8741-43B1-95FB-3BC59348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E214-5B47-4421-8FB2-3854530A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571F9-235A-4FB8-B520-1A1DF7A8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039FE-2E97-45C3-A24F-96DD823A9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92721-8007-47A1-82D9-E1D0ED5CF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B1BBF-35FE-4D85-B069-17AFFA65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C346B-CB38-4268-9FC6-9A02070E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783C2-18AE-4240-92E6-63B0FAF3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9A021-2DD7-431D-AC67-22305E47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6AB74-7932-42E8-8AB9-B252336E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C4F3FD-EC0B-44BC-8146-6B6C04A9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E057DB-8E01-47F3-992E-43324C71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90DC-41D2-4104-9479-A54486CD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67668E-A26F-4F53-939C-48BEBFA6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B8E5AB-FE63-402D-BFD5-E65C2A58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0DBA76-299E-4DAD-9AAD-477DC02C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1C8ED7-9A98-4F5A-8200-A1E16453C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FA9240-DBEB-4FF8-B7AD-062520E20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7705-F5AC-4334-85BB-431A4FA1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3D1A-7F98-4D5F-8FDE-7FC24A42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9264-8C90-4E58-A89C-536F55E8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DB46-C054-4BF4-82F9-453CEDEA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35DF-6FCB-4278-B082-5F07DBB2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ACCE-50C2-43FE-B99F-139C3B18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6402-8982-4A22-864A-339A91E5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2EA6-0A9F-486A-80D6-AF51FBB0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1AEB-77FB-44E4-957F-7EA7DFC4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F43F-A2B0-44DE-8862-DCE7BDB4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D5F8-84C0-4AEB-AA2D-09477455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0A215-71EF-4473-9D36-903D4908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41DA3-8300-4BB3-A653-658639EE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70A68-E410-4B77-8E42-EA3CF0B1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3F782-CED3-4155-A00D-951FFF3A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413E6-F6D7-46F6-B689-C27B96E4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CC68-677D-47BC-AACE-97D53CBC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5A84C-BB22-4BA5-BA0B-4D56F113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E1E7D-436E-41B0-80FA-A8586B9B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915F9-9EC2-4CFB-B23C-C8C8CA6E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F7F9D-B3CF-4284-BE4E-06A9C989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BFF68-00F4-4D22-8303-DB8654C2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735B1-6598-4BAC-BD6E-903BBAB4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63856-ABE6-46DF-B1BC-9BFBEFCDB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45BB7-584F-4187-A0B8-F694B042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39384-3338-4278-8EC8-EA347E01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7BEC7-D32E-4A86-BE75-5E41E31C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153E-B320-4D14-B0E6-57A5432E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BFD4A-BD70-4C34-B6BD-C1827545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898DA-8CFF-49B8-911F-2BD60FEC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582BD-21F6-472A-9067-9B6EE408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158DB-4021-42C5-ACE8-29AE2171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3F94E-8F8F-43BD-B366-5F242B8B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2CF98-6690-4032-BA2E-595A00D4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B2DED-C1DC-44F6-B324-A09D963F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695D7-6DF5-4555-A4F1-60804FF2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91A46-3ED3-484E-8C50-AED2C6E31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CD83D-BD89-4F7E-AF43-69DEDD40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EE0C-7370-4063-B04D-E1173828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61BA2-BCBC-41E1-A30B-90592703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C23C1-9B5E-4FF5-A030-255BAEFD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AC58F-15F5-46C1-884F-B934A416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F03CE-D6F7-47BA-A21F-BD015F6F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21105-6D69-4131-9EF4-7FDA099F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72A55-9F3E-4C37-9529-DDEED90B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F7F8B-9F13-493B-9B31-97AF25FA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59762-59AC-4295-B6FE-4DAA96CF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EC52F-AA3A-4B19-AC64-D285E464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93022-B339-4EAE-A509-6C8C7E3E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9CF2-58E0-4455-BE72-27E58C1E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1F23D-E944-4B95-B36B-E9326B23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48214B-BEB7-4DBA-ACBE-9A46200CA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704DCF-D84F-4520-B525-263FD1C6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776A62-0CE2-459B-BC24-57A4E9A0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BC9171-E6F0-41BD-8F68-000B18D6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AA2FBC-17D3-4B8E-8FDC-8E8A5322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E63756-C8DE-49CE-AF9A-7992D6DD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E810AA-8593-4FB0-8C22-EB5D9A93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F94860-2C11-4E00-834B-939B3762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1D69A6-AB42-4581-AE34-5DBD8654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EA34-0C26-4764-BBE9-E3A8206B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88B912-04AB-4FAB-BA45-62EDCD67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0B1AEA-B6FB-493A-A643-2DF5AD8C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EE5584-E619-4C28-94A9-390F170F9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682D1-2CC1-4930-8040-B0E70057A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0686F-C281-4BDF-9697-5657705C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05AEF-B076-442E-B7FE-54190A30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0285C-8B4F-42A4-858B-332F1313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A776B-1908-4C0A-A80F-444B61F6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0D0F7-AD4C-4C4F-BA9D-821CF985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A7F09-92B3-4EC5-8FF2-10D880DE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631B-B92C-4F97-9637-A06A0FEE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70FAE-F739-4886-8D24-988E3D6F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3038D-BCA9-4A06-9C48-5271E4FC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85676-FC36-4EA5-8791-0A2A743A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CB937-618F-402E-851F-0B7E261A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0CC2E-F775-4B01-91DA-4FBE9AD26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5680F-440A-4776-9B9F-B67ED0DB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F41D7-0149-4BF7-917B-73AB4D8F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F6126-219B-4A14-A57D-08A4DC0C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C0E46-AA2C-4EE9-ABF7-6DF094CD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FB2AB-33D9-454C-B7E2-921269F3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F383-B126-4B24-B5AB-17F3EFE2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E91DC-2D04-4248-AF38-EDC9DE24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271CA-8A0F-4397-87F7-A406AA5D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09A85-F417-4C79-A1D2-5C8C34F7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8FC67-CF1A-4298-9C8C-EDBF66D5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554BB-CE3A-4EED-9818-03ED443D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D81C0-99CD-490B-B7A1-73215FF7E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09602-6552-4212-A43A-93B5F70AE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834A1-745B-40A7-88C1-AFA0E586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5256D-9942-464A-A54B-D527A727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7C03F-E31C-4D86-AA1E-87B98D55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D7E6-3805-42BA-A3F9-AB37CDF68C4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62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2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62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2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62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8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28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ftr" idx="29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C86E-C481-4D2B-981D-CC39A55D1B5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7CA9-AD5E-45EB-ADAF-28C0704FDB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1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5776-3737-4BA9-B83D-ADDBE7824D2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1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3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4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C869-7641-4533-B56F-7F473B83CC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87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15C7-2956-4A96-852D-CED0FDEB3E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3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3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3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1C70-B075-4BE9-A20C-51BF0CB6573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E921-AEC0-4900-AF1A-1D848F8337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2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C786-E3B0-4CA4-B7C8-A5E7894AC762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88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9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0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2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4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5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7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9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00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01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ACDC-F3FC-45F0-B162-94F5878312D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68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69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70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1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2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3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4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5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6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7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8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9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0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81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82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3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4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5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6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7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8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9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0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1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2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3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4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5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6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7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00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01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2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3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4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5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6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7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8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9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0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1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2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3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4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5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6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7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18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19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0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1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2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3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4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5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26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27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8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9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0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D522-B5C1-4BCB-9308-9F87B30261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73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4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5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6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7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8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8462-1034-4FC1-9400-4A616CFCB9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image" Target="../media/image14.jpeg"/><Relationship Id="rId10" Type="http://schemas.openxmlformats.org/officeDocument/2006/relationships/image" Target="../media/image14.jpe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Растем здоровым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особах укрепления здоровь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офилактике простудных заболеван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редных привычк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урить или не курить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Picture 4" descr="Изображение 003"/>
          <p:cNvPicPr/>
          <p:nvPr/>
        </p:nvPicPr>
        <p:blipFill>
          <a:blip r:embed="rId1"/>
          <a:stretch/>
        </p:blipFill>
        <p:spPr>
          <a:xfrm>
            <a:off x="914400" y="1752480"/>
            <a:ext cx="7315200" cy="457200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5" descr="Изображение 004"/>
          <p:cNvPicPr/>
          <p:nvPr/>
        </p:nvPicPr>
        <p:blipFill>
          <a:blip r:embed="rId2"/>
          <a:stretch/>
        </p:blipFill>
        <p:spPr>
          <a:xfrm>
            <a:off x="5791320" y="358128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Изображение 004"/>
          <p:cNvPicPr/>
          <p:nvPr/>
        </p:nvPicPr>
        <p:blipFill>
          <a:blip r:embed="rId3"/>
          <a:stretch/>
        </p:blipFill>
        <p:spPr>
          <a:xfrm>
            <a:off x="6553080" y="3124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7" descr="Изображение 004"/>
          <p:cNvPicPr/>
          <p:nvPr/>
        </p:nvPicPr>
        <p:blipFill>
          <a:blip r:embed="rId4"/>
          <a:stretch/>
        </p:blipFill>
        <p:spPr>
          <a:xfrm>
            <a:off x="5867280" y="44197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9" descr="Изображение 004"/>
          <p:cNvPicPr/>
          <p:nvPr/>
        </p:nvPicPr>
        <p:blipFill>
          <a:blip r:embed="rId5"/>
          <a:stretch/>
        </p:blipFill>
        <p:spPr>
          <a:xfrm>
            <a:off x="6553080" y="4267080"/>
            <a:ext cx="533520" cy="47952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10" descr="Изображение 004"/>
          <p:cNvPicPr/>
          <p:nvPr/>
        </p:nvPicPr>
        <p:blipFill>
          <a:blip r:embed="rId6"/>
          <a:stretch/>
        </p:blipFill>
        <p:spPr>
          <a:xfrm>
            <a:off x="7010280" y="3733920"/>
            <a:ext cx="609840" cy="45720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11" descr="Изображение 006"/>
          <p:cNvPicPr/>
          <p:nvPr/>
        </p:nvPicPr>
        <p:blipFill>
          <a:blip r:embed="rId7"/>
          <a:stretch/>
        </p:blipFill>
        <p:spPr>
          <a:xfrm>
            <a:off x="1371600" y="320040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12" descr="Изображение 006"/>
          <p:cNvPicPr/>
          <p:nvPr/>
        </p:nvPicPr>
        <p:blipFill>
          <a:blip r:embed="rId8"/>
          <a:stretch/>
        </p:blipFill>
        <p:spPr>
          <a:xfrm>
            <a:off x="1981080" y="3809880"/>
            <a:ext cx="533520" cy="381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3" descr="Изображение 006"/>
          <p:cNvPicPr/>
          <p:nvPr/>
        </p:nvPicPr>
        <p:blipFill>
          <a:blip r:embed="rId9"/>
          <a:stretch/>
        </p:blipFill>
        <p:spPr>
          <a:xfrm>
            <a:off x="2971800" y="3809880"/>
            <a:ext cx="533520" cy="38124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4" descr="Изображение 006"/>
          <p:cNvPicPr/>
          <p:nvPr/>
        </p:nvPicPr>
        <p:blipFill>
          <a:blip r:embed="rId10"/>
          <a:stretch/>
        </p:blipFill>
        <p:spPr>
          <a:xfrm>
            <a:off x="3657600" y="396252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5" descr="Изображение 006"/>
          <p:cNvPicPr/>
          <p:nvPr/>
        </p:nvPicPr>
        <p:blipFill>
          <a:blip r:embed="rId11"/>
          <a:stretch/>
        </p:blipFill>
        <p:spPr>
          <a:xfrm>
            <a:off x="2438280" y="3200400"/>
            <a:ext cx="533520" cy="380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Я говорю «НЕТ!» курению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13" name="Picture 6" descr="Изображение 007"/>
          <p:cNvPicPr/>
          <p:nvPr/>
        </p:nvPicPr>
        <p:blipFill>
          <a:blip r:embed="rId1"/>
          <a:stretch/>
        </p:blipFill>
        <p:spPr>
          <a:xfrm>
            <a:off x="457200" y="2133720"/>
            <a:ext cx="8153280" cy="3886200"/>
          </a:xfrm>
          <a:prstGeom prst="rect">
            <a:avLst/>
          </a:prstGeom>
          <a:ln w="0">
            <a:noFill/>
          </a:ln>
        </p:spPr>
      </p:pic>
      <p:sp>
        <p:nvSpPr>
          <p:cNvPr id="814" name="Line 7"/>
          <p:cNvSpPr/>
          <p:nvPr/>
        </p:nvSpPr>
        <p:spPr>
          <a:xfrm>
            <a:off x="685800" y="2209680"/>
            <a:ext cx="7696080" cy="36576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Line 8"/>
          <p:cNvSpPr/>
          <p:nvPr/>
        </p:nvSpPr>
        <p:spPr>
          <a:xfrm flipH="1">
            <a:off x="685800" y="2286000"/>
            <a:ext cx="7696080" cy="35812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Расти здоровыми - вести здоровый образ жизни.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облюдать чистоту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авильно питатьс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очетать труд и отдых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ного двигатьс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е иметь вредных привычек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WordArt 7"/>
          <p:cNvSpPr txBox="1"/>
          <p:nvPr/>
        </p:nvSpPr>
        <p:spPr>
          <a:xfrm>
            <a:off x="609480" y="685800"/>
            <a:ext cx="7696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Будьте здоровы !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словиц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доров будешь – все добуде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епок телом – богат и дел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доровье дороже богат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68000" y="279360"/>
            <a:ext cx="8218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ой обед можно назвать здоровым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86" name="Picture 8" descr="фрукты"/>
          <p:cNvPicPr/>
          <p:nvPr/>
        </p:nvPicPr>
        <p:blipFill>
          <a:blip r:embed="rId1"/>
          <a:stretch/>
        </p:blipFill>
        <p:spPr>
          <a:xfrm>
            <a:off x="152280" y="1905120"/>
            <a:ext cx="868680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Какое питание нужно считать здоровым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05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нообразн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гатое овощами и фрукт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гулярн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з спеш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59120" y="1599840"/>
            <a:ext cx="402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нообразн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гатое сладостя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 случая к случа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торопя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ыбери себе завтра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91" name="Picture 4" descr="шоколад"/>
          <p:cNvPicPr/>
          <p:nvPr/>
        </p:nvPicPr>
        <p:blipFill>
          <a:blip r:embed="rId1"/>
          <a:stretch/>
        </p:blipFill>
        <p:spPr>
          <a:xfrm>
            <a:off x="380880" y="1828800"/>
            <a:ext cx="853452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ать не меньше 10 ча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езный сон с 21 часа до 7 часов ут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жин за 1,5 – 2 часа до с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играть в шумные иг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смотреть телевизо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мнату перед сном проветри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e5ffff"/>
                </a:solidFill>
                <a:latin typeface="Tahoma"/>
              </a:rPr>
              <a:t>Сладкий сон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Чистота – залог здоровь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увь, платье и жилище быть должны как можно чищ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нас в школе есть закон – вход неряхам запреще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оветы Ильи Муромц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797" name="Picture 13" descr="Изображение"/>
          <p:cNvPicPr/>
          <p:nvPr/>
        </p:nvPicPr>
        <p:blipFill>
          <a:blip r:embed="rId1"/>
          <a:stretch/>
        </p:blipFill>
        <p:spPr>
          <a:xfrm>
            <a:off x="1752480" y="1752480"/>
            <a:ext cx="571680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4"/>
          <p:cNvSpPr/>
          <p:nvPr/>
        </p:nvSpPr>
        <p:spPr>
          <a:xfrm>
            <a:off x="914400" y="380880"/>
            <a:ext cx="8229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ед телевизором-сиднем не сид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если уж фильм больно интересный  либо мультики, так и это время можно для гимнастики использов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ты сутулишься, возьми за спину палку, положи её на сгибы локтей и смотри себе мультики. Станешь стройным, как Алёша Попович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у тебя плоскостопие, катай ту же палку ногам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хочешь сильные руки иметь- возьми резиновое кольцо либо мячик и сжимай, пока не устанешь, то одной, то другой рук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2-03T20:45:49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