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34240" cy="9979200"/>
          </a:xfrm>
          <a:custGeom>
            <a:avLst/>
            <a:gdLst>
              <a:gd name="textAreaLeft" fmla="*/ 360 w 6834240"/>
              <a:gd name="textAreaRight" fmla="*/ 6833880 w 6834240"/>
              <a:gd name="textAreaTop" fmla="*/ 360 h 9979200"/>
              <a:gd name="textAreaBottom" fmla="*/ 9978840 h 9979200"/>
            </a:gdLst>
            <a:ahLst/>
            <a:rect l="textAreaLeft" t="textAreaTop" r="textAreaRight" b="textAreaBottom"/>
            <a:pathLst>
              <a:path w="21600" h="31539">
                <a:moveTo>
                  <a:pt x="5" y="0"/>
                </a:moveTo>
                <a:arcTo wR="5" hR="5" stAng="16200000" swAng="-5400000"/>
                <a:lnTo>
                  <a:pt x="0" y="31534"/>
                </a:lnTo>
                <a:arcTo wR="5" hR="5" stAng="10800000" swAng="-5400000"/>
                <a:lnTo>
                  <a:pt x="21595" y="315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34240" cy="9979200"/>
          </a:xfrm>
          <a:custGeom>
            <a:avLst/>
            <a:gdLst>
              <a:gd name="textAreaLeft" fmla="*/ 360 w 6834240"/>
              <a:gd name="textAreaRight" fmla="*/ 6833880 w 6834240"/>
              <a:gd name="textAreaTop" fmla="*/ 360 h 9979200"/>
              <a:gd name="textAreaBottom" fmla="*/ 9978840 h 9979200"/>
            </a:gdLst>
            <a:ahLst/>
            <a:rect l="textAreaLeft" t="textAreaTop" r="textAreaRight" b="textAreaBottom"/>
            <a:pathLst>
              <a:path w="21600" h="31539">
                <a:moveTo>
                  <a:pt x="5" y="0"/>
                </a:moveTo>
                <a:arcTo wR="5" hR="5" stAng="16200000" swAng="-5400000"/>
                <a:lnTo>
                  <a:pt x="0" y="31534"/>
                </a:lnTo>
                <a:arcTo wR="5" hR="5" stAng="10800000" swAng="-5400000"/>
                <a:lnTo>
                  <a:pt x="21595" y="315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876240" y="1019160"/>
            <a:ext cx="488952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28880" y="5046840"/>
            <a:ext cx="45907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54160" y="1019160"/>
            <a:ext cx="4338720" cy="367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1028520" y="5046840"/>
            <a:ext cx="4592520" cy="40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54160" y="1019160"/>
            <a:ext cx="4338720" cy="367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1028520" y="5046840"/>
            <a:ext cx="4592520" cy="40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54160" y="1019160"/>
            <a:ext cx="4338720" cy="367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1028520" y="5046840"/>
            <a:ext cx="4592520" cy="40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447560"/>
            <a:ext cx="7804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040" y="3867120"/>
            <a:ext cx="7804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040" y="1447560"/>
            <a:ext cx="3808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08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040" y="3867120"/>
            <a:ext cx="3808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867120"/>
            <a:ext cx="3808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1040" y="1447560"/>
            <a:ext cx="251280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9840" y="1447560"/>
            <a:ext cx="251280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640" y="1447560"/>
            <a:ext cx="251280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71040" y="3867120"/>
            <a:ext cx="251280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9840" y="3867120"/>
            <a:ext cx="251280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640" y="3867120"/>
            <a:ext cx="251280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71040" y="1447560"/>
            <a:ext cx="7804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447560"/>
            <a:ext cx="7804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040" y="1447560"/>
            <a:ext cx="3808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08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77760"/>
            <a:ext cx="7804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447560"/>
            <a:ext cx="3808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08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1040" y="3867120"/>
            <a:ext cx="3808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447560"/>
            <a:ext cx="3808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08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867120"/>
            <a:ext cx="3808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447560"/>
            <a:ext cx="3808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447560"/>
            <a:ext cx="3808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040" y="3867120"/>
            <a:ext cx="7804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68560"/>
            <a:ext cx="9144000" cy="1046160"/>
          </a:xfrm>
          <a:prstGeom prst="roundRect">
            <a:avLst>
              <a:gd name="adj" fmla="val 148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0" y="8640"/>
            <a:ext cx="9144000" cy="1189080"/>
          </a:xfrm>
          <a:prstGeom prst="roundRect">
            <a:avLst>
              <a:gd name="adj" fmla="val 13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27840"/>
            <a:ext cx="9144000" cy="830160"/>
          </a:xfrm>
          <a:prstGeom prst="roundRect">
            <a:avLst>
              <a:gd name="adj" fmla="val 190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65400" y="6126120"/>
            <a:ext cx="5177160" cy="480960"/>
          </a:xfrm>
          <a:custGeom>
            <a:avLst/>
            <a:gdLst/>
            <a:ahLst/>
            <a:rect l="l" t="t" r="r" b="b"/>
            <a:pathLst>
              <a:path w="14382" h="1334">
                <a:moveTo>
                  <a:pt x="1223" y="712"/>
                </a:moveTo>
                <a:cubicBezTo>
                  <a:pt x="0" y="647"/>
                  <a:pt x="2612" y="672"/>
                  <a:pt x="2025" y="534"/>
                </a:cubicBezTo>
                <a:cubicBezTo>
                  <a:pt x="1438" y="396"/>
                  <a:pt x="3677" y="430"/>
                  <a:pt x="3947" y="341"/>
                </a:cubicBezTo>
                <a:cubicBezTo>
                  <a:pt x="4066" y="301"/>
                  <a:pt x="3997" y="212"/>
                  <a:pt x="3839" y="173"/>
                </a:cubicBezTo>
                <a:cubicBezTo>
                  <a:pt x="3830" y="171"/>
                  <a:pt x="2498" y="97"/>
                  <a:pt x="2759" y="48"/>
                </a:cubicBezTo>
                <a:cubicBezTo>
                  <a:pt x="3020" y="0"/>
                  <a:pt x="6565" y="366"/>
                  <a:pt x="6554" y="433"/>
                </a:cubicBezTo>
                <a:cubicBezTo>
                  <a:pt x="6543" y="500"/>
                  <a:pt x="4796" y="572"/>
                  <a:pt x="4796" y="572"/>
                </a:cubicBezTo>
                <a:lnTo>
                  <a:pt x="5655" y="662"/>
                </a:lnTo>
                <a:lnTo>
                  <a:pt x="7026" y="679"/>
                </a:lnTo>
                <a:lnTo>
                  <a:pt x="9264" y="791"/>
                </a:lnTo>
                <a:cubicBezTo>
                  <a:pt x="9264" y="791"/>
                  <a:pt x="10256" y="625"/>
                  <a:pt x="10044" y="647"/>
                </a:cubicBezTo>
                <a:cubicBezTo>
                  <a:pt x="9833" y="669"/>
                  <a:pt x="11017" y="658"/>
                  <a:pt x="11119" y="626"/>
                </a:cubicBezTo>
                <a:cubicBezTo>
                  <a:pt x="11222" y="595"/>
                  <a:pt x="11424" y="636"/>
                  <a:pt x="11434" y="637"/>
                </a:cubicBezTo>
                <a:cubicBezTo>
                  <a:pt x="11806" y="669"/>
                  <a:pt x="12046" y="704"/>
                  <a:pt x="12314" y="714"/>
                </a:cubicBezTo>
                <a:cubicBezTo>
                  <a:pt x="12583" y="724"/>
                  <a:pt x="13177" y="679"/>
                  <a:pt x="13520" y="697"/>
                </a:cubicBezTo>
                <a:cubicBezTo>
                  <a:pt x="13863" y="715"/>
                  <a:pt x="14381" y="637"/>
                  <a:pt x="14381" y="637"/>
                </a:cubicBezTo>
                <a:lnTo>
                  <a:pt x="14381" y="764"/>
                </a:lnTo>
                <a:cubicBezTo>
                  <a:pt x="14381" y="764"/>
                  <a:pt x="11207" y="963"/>
                  <a:pt x="11221" y="963"/>
                </a:cubicBezTo>
                <a:cubicBezTo>
                  <a:pt x="11235" y="963"/>
                  <a:pt x="7758" y="968"/>
                  <a:pt x="7770" y="968"/>
                </a:cubicBezTo>
                <a:cubicBezTo>
                  <a:pt x="7783" y="968"/>
                  <a:pt x="5431" y="909"/>
                  <a:pt x="5431" y="909"/>
                </a:cubicBezTo>
                <a:cubicBezTo>
                  <a:pt x="5431" y="909"/>
                  <a:pt x="4149" y="882"/>
                  <a:pt x="4228" y="872"/>
                </a:cubicBezTo>
                <a:cubicBezTo>
                  <a:pt x="4307" y="862"/>
                  <a:pt x="2989" y="1333"/>
                  <a:pt x="2810" y="1300"/>
                </a:cubicBezTo>
                <a:cubicBezTo>
                  <a:pt x="2631" y="1268"/>
                  <a:pt x="1893" y="1075"/>
                  <a:pt x="1867" y="1086"/>
                </a:cubicBezTo>
                <a:cubicBezTo>
                  <a:pt x="1840" y="1097"/>
                  <a:pt x="3058" y="809"/>
                  <a:pt x="2629" y="786"/>
                </a:cubicBezTo>
                <a:lnTo>
                  <a:pt x="1223" y="71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0600" y="6016680"/>
            <a:ext cx="5227560" cy="345960"/>
          </a:xfrm>
          <a:custGeom>
            <a:avLst/>
            <a:gdLst/>
            <a:ahLst/>
            <a:rect l="l" t="t" r="r" b="b"/>
            <a:pathLst>
              <a:path w="14520" h="962">
                <a:moveTo>
                  <a:pt x="0" y="961"/>
                </a:moveTo>
                <a:lnTo>
                  <a:pt x="5341" y="762"/>
                </a:lnTo>
                <a:lnTo>
                  <a:pt x="11582" y="650"/>
                </a:lnTo>
                <a:lnTo>
                  <a:pt x="14519" y="480"/>
                </a:lnTo>
                <a:lnTo>
                  <a:pt x="13192" y="282"/>
                </a:lnTo>
                <a:lnTo>
                  <a:pt x="9662" y="338"/>
                </a:lnTo>
                <a:lnTo>
                  <a:pt x="7742" y="0"/>
                </a:lnTo>
                <a:lnTo>
                  <a:pt x="5483" y="282"/>
                </a:lnTo>
                <a:lnTo>
                  <a:pt x="3224" y="395"/>
                </a:lnTo>
                <a:lnTo>
                  <a:pt x="1680" y="15"/>
                </a:lnTo>
                <a:lnTo>
                  <a:pt x="878" y="582"/>
                </a:lnTo>
                <a:lnTo>
                  <a:pt x="0" y="96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11240" y="6157800"/>
            <a:ext cx="2051280" cy="212760"/>
          </a:xfrm>
          <a:custGeom>
            <a:avLst/>
            <a:gdLst/>
            <a:ahLst/>
            <a:rect l="l" t="t" r="r" b="b"/>
            <a:pathLst>
              <a:path w="5696" h="589">
                <a:moveTo>
                  <a:pt x="0" y="588"/>
                </a:moveTo>
                <a:lnTo>
                  <a:pt x="982" y="552"/>
                </a:lnTo>
                <a:lnTo>
                  <a:pt x="4186" y="494"/>
                </a:lnTo>
                <a:lnTo>
                  <a:pt x="5695" y="407"/>
                </a:lnTo>
                <a:lnTo>
                  <a:pt x="5014" y="320"/>
                </a:lnTo>
                <a:lnTo>
                  <a:pt x="3147" y="39"/>
                </a:lnTo>
                <a:lnTo>
                  <a:pt x="2298" y="516"/>
                </a:lnTo>
                <a:lnTo>
                  <a:pt x="1143" y="0"/>
                </a:lnTo>
                <a:lnTo>
                  <a:pt x="210" y="308"/>
                </a:lnTo>
                <a:lnTo>
                  <a:pt x="0" y="58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59520"/>
            <a:ext cx="5346720" cy="650880"/>
          </a:xfrm>
          <a:custGeom>
            <a:avLst/>
            <a:gdLst/>
            <a:ahLst/>
            <a:rect l="l" t="t" r="r" b="b"/>
            <a:pathLst>
              <a:path w="14854" h="1806">
                <a:moveTo>
                  <a:pt x="0" y="1313"/>
                </a:moveTo>
                <a:lnTo>
                  <a:pt x="9742" y="1438"/>
                </a:lnTo>
                <a:lnTo>
                  <a:pt x="13412" y="1664"/>
                </a:lnTo>
                <a:lnTo>
                  <a:pt x="14853" y="1805"/>
                </a:lnTo>
                <a:lnTo>
                  <a:pt x="13695" y="1382"/>
                </a:lnTo>
                <a:lnTo>
                  <a:pt x="11210" y="902"/>
                </a:lnTo>
                <a:lnTo>
                  <a:pt x="6692" y="676"/>
                </a:lnTo>
                <a:lnTo>
                  <a:pt x="4320" y="0"/>
                </a:lnTo>
                <a:lnTo>
                  <a:pt x="2259" y="704"/>
                </a:lnTo>
                <a:lnTo>
                  <a:pt x="0" y="1178"/>
                </a:lnTo>
                <a:lnTo>
                  <a:pt x="0" y="13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71040" y="1447560"/>
            <a:ext cx="78044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322200"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7320" indent="-285840">
              <a:spcAft>
                <a:spcPts val="1426"/>
              </a:spcAft>
              <a:buSzPct val="15209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aleks-umniki.narod.ru/images/school0301.png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leks-umniki.narod.ru/images/school0301.pn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а 236 из 84000"/>
          <p:cNvPicPr/>
          <p:nvPr/>
        </p:nvPicPr>
        <p:blipFill>
          <a:blip r:embed="rId1"/>
          <a:stretch/>
        </p:blipFill>
        <p:spPr>
          <a:xfrm>
            <a:off x="0" y="260280"/>
            <a:ext cx="8988480" cy="5700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067280" y="4292640"/>
            <a:ext cx="100800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2809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ко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1280" y="549360"/>
            <a:ext cx="1770840" cy="714240"/>
            <a:chOff x="611280" y="549360"/>
            <a:chExt cx="1770840" cy="714240"/>
          </a:xfrm>
        </p:grpSpPr>
        <p:sp>
          <p:nvSpPr>
            <p:cNvPr id="53" name=""/>
            <p:cNvSpPr/>
            <p:nvPr/>
          </p:nvSpPr>
          <p:spPr>
            <a:xfrm>
              <a:off x="1244160" y="63468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611280" y="549360"/>
              <a:ext cx="57168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020000" y="189000"/>
            <a:ext cx="19429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Каждой команде предлагается по очереди ответить на вопрос (решить задачу). Будьте внимательными, так как вопросы адресованы всему классу. Если команда дает верный ответ, то это значит, что она забила гол в ворота сопер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Если команда не может ответить на вопрос или дает неверный ответ, то право ответа переходит к команде сопер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32000" y="476280"/>
            <a:ext cx="62960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ометрический футбол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Фотографии  Ворота футбольные, сетки спортивные, заградительные, заморозка спортивная"/>
          <p:cNvPicPr/>
          <p:nvPr/>
        </p:nvPicPr>
        <p:blipFill>
          <a:blip r:embed="rId1"/>
          <a:stretch/>
        </p:blipFill>
        <p:spPr>
          <a:xfrm>
            <a:off x="0" y="0"/>
            <a:ext cx="9144000" cy="638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2411280" y="1628640"/>
            <a:ext cx="3816360" cy="2087640"/>
          </a:xfrm>
          <a:prstGeom prst="rtTriangle">
            <a:avLst/>
          </a:prstGeom>
          <a:gradFill rotWithShape="0">
            <a:gsLst>
              <a:gs pos="0">
                <a:srgbClr val="ff9999"/>
              </a:gs>
              <a:gs pos="50000">
                <a:srgbClr val="fedbdb"/>
              </a:gs>
              <a:gs pos="100000">
                <a:srgbClr val="ff9999"/>
              </a:gs>
            </a:gsLst>
            <a:lin ang="135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Анимированные и статичные футбольные аватары"/>
          <p:cNvPicPr/>
          <p:nvPr/>
        </p:nvPicPr>
        <p:blipFill>
          <a:blip r:embed="rId2"/>
          <a:stretch/>
        </p:blipFill>
        <p:spPr>
          <a:xfrm>
            <a:off x="6443640" y="4076640"/>
            <a:ext cx="1368360" cy="1084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11280" y="3500280"/>
            <a:ext cx="216000" cy="21600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357720"/>
            <a:ext cx="72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38</a:t>
            </a:r>
            <a:r>
              <a:rPr b="1" lang="ru-RU" sz="2000" spc="-1" strike="noStrike" baseline="30000">
                <a:solidFill>
                  <a:srgbClr val="66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3" descr="an1_zajkapljas.gif"/>
          <p:cNvPicPr/>
          <p:nvPr/>
        </p:nvPicPr>
        <p:blipFill>
          <a:blip r:embed="rId3"/>
          <a:stretch/>
        </p:blipFill>
        <p:spPr>
          <a:xfrm>
            <a:off x="324000" y="3284640"/>
            <a:ext cx="1500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Фотографии  Ворота футбольные, сетки спортивные, заградительные, заморозка спортивная"/>
          <p:cNvPicPr/>
          <p:nvPr/>
        </p:nvPicPr>
        <p:blipFill>
          <a:blip r:embed="rId1"/>
          <a:stretch/>
        </p:blipFill>
        <p:spPr>
          <a:xfrm>
            <a:off x="0" y="0"/>
            <a:ext cx="9144000" cy="6388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5" name="" descr="Анимированные и статичные футбольные аватары"/>
          <p:cNvPicPr/>
          <p:nvPr/>
        </p:nvPicPr>
        <p:blipFill>
          <a:blip r:embed="rId2"/>
          <a:stretch/>
        </p:blipFill>
        <p:spPr>
          <a:xfrm>
            <a:off x="6443640" y="4076640"/>
            <a:ext cx="1368360" cy="1084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03640" y="1844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407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14320" y="2264400"/>
            <a:ext cx="3410280" cy="3410280"/>
            <a:chOff x="1714320" y="2264400"/>
            <a:chExt cx="3410280" cy="3410280"/>
          </a:xfrm>
        </p:grpSpPr>
        <p:sp>
          <p:nvSpPr>
            <p:cNvPr id="180" name=""/>
            <p:cNvSpPr/>
            <p:nvPr/>
          </p:nvSpPr>
          <p:spPr>
            <a:xfrm rot="8135400">
              <a:off x="2195640" y="2782800"/>
              <a:ext cx="2447640" cy="2374560"/>
            </a:xfrm>
            <a:prstGeom prst="rtTriangl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ee7d1"/>
                </a:gs>
                <a:gs pos="100000">
                  <a:srgbClr val="ffcc99"/>
                </a:gs>
              </a:gsLst>
              <a:lin ang="8100000"/>
            </a:gradFill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8135400">
              <a:off x="3352320" y="2309040"/>
              <a:ext cx="215640" cy="215640"/>
            </a:xfrm>
            <a:prstGeom prst="rect">
              <a:avLst/>
            </a:prstGeom>
            <a:noFill/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12400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2764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2924280"/>
            <a:ext cx="144360" cy="14436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140360" y="2997000"/>
            <a:ext cx="144360" cy="14436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3" descr="an1_zajkapljas.gif"/>
          <p:cNvPicPr/>
          <p:nvPr/>
        </p:nvPicPr>
        <p:blipFill>
          <a:blip r:embed="rId3"/>
          <a:stretch/>
        </p:blipFill>
        <p:spPr>
          <a:xfrm>
            <a:off x="250920" y="3429000"/>
            <a:ext cx="1500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Фотографии  Ворота футбольные, сетки спортивные, заградительные, заморозка спортивная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6387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 rot="16200000">
            <a:off x="1763640" y="1196640"/>
            <a:ext cx="3024360" cy="1871640"/>
          </a:xfrm>
          <a:prstGeom prst="rtTriangle">
            <a:avLst/>
          </a:prstGeom>
          <a:gradFill rotWithShape="0">
            <a:gsLst>
              <a:gs pos="0">
                <a:srgbClr val="ff9999"/>
              </a:gs>
              <a:gs pos="50000">
                <a:srgbClr val="fedbdb"/>
              </a:gs>
              <a:gs pos="100000">
                <a:srgbClr val="ff9999"/>
              </a:gs>
            </a:gsLst>
            <a:lin ang="189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Анимированные и статичные футбольные аватары"/>
          <p:cNvPicPr/>
          <p:nvPr/>
        </p:nvPicPr>
        <p:blipFill>
          <a:blip r:embed="rId2"/>
          <a:stretch/>
        </p:blipFill>
        <p:spPr>
          <a:xfrm>
            <a:off x="6516720" y="3573360"/>
            <a:ext cx="1368360" cy="1084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995640" y="3429000"/>
            <a:ext cx="216000" cy="21600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7932200">
            <a:off x="2418120" y="197064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08360" y="1268280"/>
            <a:ext cx="7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66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7964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33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472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13" descr="an1_zajkapljas.gif"/>
          <p:cNvPicPr/>
          <p:nvPr/>
        </p:nvPicPr>
        <p:blipFill>
          <a:blip r:embed="rId3"/>
          <a:stretch/>
        </p:blipFill>
        <p:spPr>
          <a:xfrm>
            <a:off x="4788000" y="3213000"/>
            <a:ext cx="1500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Фотографии  Ворота футбольные, сетки спортивные, заградительные, заморозка спортивная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38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 rot="16200000">
            <a:off x="1692360" y="1628640"/>
            <a:ext cx="3024000" cy="1872000"/>
          </a:xfrm>
          <a:prstGeom prst="rtTriangle">
            <a:avLst/>
          </a:prstGeom>
          <a:gradFill rotWithShape="0">
            <a:gsLst>
              <a:gs pos="0">
                <a:srgbClr val="669900"/>
              </a:gs>
              <a:gs pos="50000">
                <a:srgbClr val="d9e5c1"/>
              </a:gs>
              <a:gs pos="100000">
                <a:srgbClr val="669900"/>
              </a:gs>
            </a:gsLst>
            <a:lin ang="18900000"/>
          </a:gra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Анимированные и статичные футбольные аватары"/>
          <p:cNvPicPr/>
          <p:nvPr/>
        </p:nvPicPr>
        <p:blipFill>
          <a:blip r:embed="rId2"/>
          <a:stretch/>
        </p:blipFill>
        <p:spPr>
          <a:xfrm>
            <a:off x="4788000" y="4005360"/>
            <a:ext cx="1368360" cy="1084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924360" y="3860640"/>
            <a:ext cx="216000" cy="21600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407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7164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1628640"/>
            <a:ext cx="7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66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62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164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3" descr="an1_zajkapljas.gif"/>
          <p:cNvPicPr/>
          <p:nvPr/>
        </p:nvPicPr>
        <p:blipFill>
          <a:blip r:embed="rId3"/>
          <a:stretch/>
        </p:blipFill>
        <p:spPr>
          <a:xfrm>
            <a:off x="324000" y="3284640"/>
            <a:ext cx="1500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Фотографии  Ворота футбольные, сетки спортивные, заградительные, заморозка спортивная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388200"/>
          </a:xfrm>
          <a:prstGeom prst="rect">
            <a:avLst/>
          </a:prstGeom>
          <a:ln w="19080">
            <a:solidFill>
              <a:srgbClr val="669900"/>
            </a:solidFill>
            <a:miter/>
          </a:ln>
        </p:spPr>
      </p:pic>
      <p:pic>
        <p:nvPicPr>
          <p:cNvPr id="210" name="" descr="Анимированные и статичные футбольные аватары"/>
          <p:cNvPicPr/>
          <p:nvPr/>
        </p:nvPicPr>
        <p:blipFill>
          <a:blip r:embed="rId2"/>
          <a:stretch/>
        </p:blipFill>
        <p:spPr>
          <a:xfrm>
            <a:off x="4788000" y="4005360"/>
            <a:ext cx="1368360" cy="1084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87640" y="342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8,4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3429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268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80000" y="3357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220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4,2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379520" y="1696680"/>
            <a:ext cx="4153680" cy="3394080"/>
            <a:chOff x="1379520" y="1696680"/>
            <a:chExt cx="4153680" cy="3394080"/>
          </a:xfrm>
        </p:grpSpPr>
        <p:sp>
          <p:nvSpPr>
            <p:cNvPr id="217" name=""/>
            <p:cNvSpPr/>
            <p:nvPr/>
          </p:nvSpPr>
          <p:spPr>
            <a:xfrm rot="9187800">
              <a:off x="1619640" y="2424240"/>
              <a:ext cx="3673080" cy="1941120"/>
            </a:xfrm>
            <a:prstGeom prst="rtTriangl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d9e5c1"/>
                </a:gs>
                <a:gs pos="100000">
                  <a:srgbClr val="669900"/>
                </a:gs>
              </a:gsLst>
              <a:lin ang="18900000"/>
            </a:gradFill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4587800">
              <a:off x="4493880" y="1735920"/>
              <a:ext cx="223560" cy="220320"/>
            </a:xfrm>
            <a:prstGeom prst="rect">
              <a:avLst/>
            </a:prstGeom>
            <a:noFill/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12400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6720" y="29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13" descr="an1_zajkapljas.gif"/>
          <p:cNvPicPr/>
          <p:nvPr/>
        </p:nvPicPr>
        <p:blipFill>
          <a:blip r:embed="rId3"/>
          <a:stretch/>
        </p:blipFill>
        <p:spPr>
          <a:xfrm>
            <a:off x="7020000" y="2997360"/>
            <a:ext cx="150012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4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Фотографии  Ворота футбольные, сетки спортивные, заградительные, заморозка спортивная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3878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223" name=""/>
          <p:cNvSpPr/>
          <p:nvPr/>
        </p:nvSpPr>
        <p:spPr>
          <a:xfrm rot="16200000">
            <a:off x="1799280" y="800640"/>
            <a:ext cx="3024360" cy="2663640"/>
          </a:xfrm>
          <a:prstGeom prst="rtTriangle">
            <a:avLst/>
          </a:prstGeom>
          <a:gradFill rotWithShape="0">
            <a:gsLst>
              <a:gs pos="0">
                <a:srgbClr val="ffcc99"/>
              </a:gs>
              <a:gs pos="100000">
                <a:srgbClr val="fee7d1"/>
              </a:gs>
            </a:gsLst>
            <a:lin ang="13500000"/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Анимированные и статичные футбольные аватары"/>
          <p:cNvPicPr/>
          <p:nvPr/>
        </p:nvPicPr>
        <p:blipFill>
          <a:blip r:embed="rId2"/>
          <a:stretch/>
        </p:blipFill>
        <p:spPr>
          <a:xfrm>
            <a:off x="6516720" y="3573360"/>
            <a:ext cx="1368360" cy="1084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27640" y="3429000"/>
            <a:ext cx="215640" cy="21600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328464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0</a:t>
            </a:r>
            <a:r>
              <a:rPr b="1" lang="ru-RU" sz="1800" spc="-1" strike="noStrike" baseline="30000">
                <a:solidFill>
                  <a:srgbClr val="66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84720" y="33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92360" y="620640"/>
            <a:ext cx="1152720" cy="302436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3357720"/>
            <a:ext cx="4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716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00720" y="1052640"/>
            <a:ext cx="14256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907920"/>
            <a:ext cx="144720" cy="1447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3" descr="an1_zajkapljas.gif"/>
          <p:cNvPicPr/>
          <p:nvPr/>
        </p:nvPicPr>
        <p:blipFill>
          <a:blip r:embed="rId3"/>
          <a:stretch/>
        </p:blipFill>
        <p:spPr>
          <a:xfrm>
            <a:off x="324000" y="3284640"/>
            <a:ext cx="1500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71040" y="333360"/>
            <a:ext cx="780444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цени степень сложности уро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ыло ли на урок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             обычно          труд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цени степень своего усвоения материал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воил полностью, могу примени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воил полностью, но затрудняюсь в примен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воил частич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усвои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ю работу на уроке оцениваю 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484280"/>
            <a:ext cx="792000" cy="649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1484280"/>
            <a:ext cx="720720" cy="649440"/>
          </a:xfrm>
          <a:prstGeom prst="ellipse">
            <a:avLst/>
          </a:prstGeom>
          <a:solidFill>
            <a:srgbClr val="ec14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1484280"/>
            <a:ext cx="720720" cy="649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3860640"/>
            <a:ext cx="720720" cy="649440"/>
          </a:xfrm>
          <a:prstGeom prst="ellipse">
            <a:avLst/>
          </a:prstGeom>
          <a:solidFill>
            <a:srgbClr val="ec14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24720" y="2708280"/>
            <a:ext cx="720720" cy="6494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4941720"/>
            <a:ext cx="720720" cy="649440"/>
          </a:xfrm>
          <a:prstGeom prst="ellipse">
            <a:avLst/>
          </a:prstGeom>
          <a:solidFill>
            <a:srgbClr val="e0f7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92720" y="4365720"/>
            <a:ext cx="720720" cy="64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4360" y="5229360"/>
            <a:ext cx="1224000" cy="1081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484280"/>
            <a:ext cx="5904000" cy="4464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43280" y="476280"/>
            <a:ext cx="2952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гадка</a:t>
            </a:r>
            <a:endParaRPr b="1" i="1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299736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276640"/>
            <a:ext cx="511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Три вершины тут вид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Три угла, три стороны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у, пожалуй, и доволь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Что мы вид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716200">
            <a:off x="6768000" y="1880640"/>
            <a:ext cx="2089080" cy="216036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а 201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4365720"/>
            <a:ext cx="1871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360" y="620640"/>
            <a:ext cx="8064360" cy="432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ямоугольный треугольни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его свойст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840360" y="4399920"/>
            <a:ext cx="2158920" cy="1511280"/>
          </a:xfrm>
          <a:prstGeom prst="rtTriangl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198144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Виктори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35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1628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180</a:t>
            </a:r>
            <a:r>
              <a:rPr b="1" lang="ru-RU" sz="32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32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равносторо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557360"/>
            <a:ext cx="55436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умма углов треугольника       ра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реугольник, в котором три стороны ра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Каждый угол равностороннего треугольника рав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472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ru-RU" sz="32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Виктори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35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3284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гипотену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0720" y="486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341360"/>
            <a:ext cx="554364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Если в треугольнике два угла равны, то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торона прямоугольного   треугольника, лежащая против прямого уг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торона прямоугольного треугольника, прилежащая к прямому уг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86560" y="1773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равнобедр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8040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Свойство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8020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умма двух острых углов  прямоугольного треугольника равна 90</a:t>
            </a:r>
            <a:r>
              <a:rPr b="1" lang="ru-RU" sz="3200" spc="-1" strike="noStrike" baseline="30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2637000"/>
            <a:ext cx="2376360" cy="288108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300640"/>
            <a:ext cx="21600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0828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ru-RU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56360" y="2708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2708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90</a:t>
            </a:r>
            <a:r>
              <a:rPr b="1" lang="ru-RU" sz="36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Картинка 20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4005360"/>
            <a:ext cx="16560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77400"/>
            <a:ext cx="78044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Свойство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16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Катет прямоугольного треугольника, лежащий против угла в 30</a:t>
            </a:r>
            <a:r>
              <a:rPr b="1" lang="ru-RU" sz="2800" spc="-1" strike="noStrike" baseline="30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, равен половине гипотенуз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76720" y="2997360"/>
                <a:ext cx="1440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979640" y="2637000"/>
            <a:ext cx="1584360" cy="287964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5300640"/>
            <a:ext cx="21600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4560" y="2637000"/>
            <a:ext cx="1584360" cy="288108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2276640"/>
            <a:ext cx="215640" cy="1443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0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2565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06864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30</a:t>
            </a:r>
            <a:r>
              <a:rPr b="1" lang="ru-RU" sz="1600" spc="-1" strike="noStrike" baseline="30000">
                <a:solidFill>
                  <a:srgbClr val="990033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5445000"/>
            <a:ext cx="0" cy="144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5445000"/>
            <a:ext cx="0" cy="144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203640" y="5229360"/>
            <a:ext cx="43128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5300640"/>
            <a:ext cx="2851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835640" y="2850480"/>
            <a:ext cx="28800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30</a:t>
            </a:r>
            <a:r>
              <a:rPr b="1" lang="ru-RU" sz="1600" spc="-1" strike="noStrike" baseline="30000">
                <a:solidFill>
                  <a:srgbClr val="990033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835280" y="2850480"/>
            <a:ext cx="28800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300640"/>
            <a:ext cx="14256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229360"/>
            <a:ext cx="2887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5084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60</a:t>
            </a:r>
            <a:r>
              <a:rPr b="1" lang="ru-RU" sz="1600" spc="-1" strike="noStrike" baseline="30000">
                <a:solidFill>
                  <a:srgbClr val="990033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3716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4365720"/>
            <a:ext cx="215640" cy="1443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149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465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 =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72000" y="5084640"/>
                <a:ext cx="1625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659640" y="5445000"/>
                <a:ext cx="16034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77400"/>
            <a:ext cx="78044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Свойство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1" lang="ru-RU" sz="2800" spc="-1" strike="noStrike" baseline="30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236000" y="2421000"/>
                <a:ext cx="1439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979640" y="2637000"/>
            <a:ext cx="1584360" cy="287964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5300640"/>
            <a:ext cx="216000" cy="2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94560" y="2637000"/>
            <a:ext cx="1584360" cy="288108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19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84720" y="2205000"/>
            <a:ext cx="216000" cy="1443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198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256536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1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5445000"/>
            <a:ext cx="0" cy="144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5445000"/>
            <a:ext cx="0" cy="144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03640" y="5229360"/>
            <a:ext cx="43128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720" y="5300640"/>
            <a:ext cx="2851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835640" y="2850480"/>
            <a:ext cx="28800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835280" y="2850480"/>
            <a:ext cx="28800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5300640"/>
            <a:ext cx="14256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229360"/>
            <a:ext cx="2887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3645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4360" y="4941720"/>
            <a:ext cx="216000" cy="14472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47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сторо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5229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96000" y="4149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 =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924360" y="4005360"/>
                <a:ext cx="2448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091920" y="31417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626920" y="3933720"/>
            <a:ext cx="144360" cy="716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700000" y="4005360"/>
            <a:ext cx="144360" cy="712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3933720"/>
            <a:ext cx="144720" cy="1429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005360"/>
            <a:ext cx="142920" cy="144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4720" y="522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= 2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9560" y="573408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040" y="77760"/>
            <a:ext cx="78044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войства прямоугольного тре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00748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Сумма двух острых углов  прямоугольного треугольника равна 90</a:t>
            </a:r>
            <a:r>
              <a:rPr b="1" lang="ru-RU" sz="2800" spc="-1" strike="noStrike" baseline="30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637000"/>
            <a:ext cx="82216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Катет прямоугольного треугольника, лежащий против угла в 30</a:t>
            </a:r>
            <a:r>
              <a:rPr b="1" lang="ru-RU" sz="2800" spc="-1" strike="noStrike" baseline="30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, равен половине гипотену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933720"/>
            <a:ext cx="864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1" lang="ru-RU" sz="2800" spc="-1" strike="noStrike" baseline="30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236000" y="4724280"/>
            <a:ext cx="1582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1</cp:lastModifiedBy>
  <dcterms:modified xsi:type="dcterms:W3CDTF">2011-03-07T20:59:44Z</dcterms:modified>
  <cp:revision>41</cp:revision>
  <dc:subject/>
  <dc:title>Слайд 1</dc:title>
</cp:coreProperties>
</file>