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7C5-8F47-41D9-97D3-0EE57241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793-E253-4CF8-8E1F-545B39C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5CB-55DF-4FD5-BC98-8E91977E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489-A05E-4665-9E58-0481AEF7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EAF-E4A2-41C9-9F89-8EA4841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767-1244-465F-BBAA-A90A005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35E0-78B2-4E8F-8B11-33149A0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8F1-077D-4F6D-8642-D0665CF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AED-8336-419E-9BC5-A86E65D7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33DE-9D50-478A-873B-5A8306E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53D-2351-418E-ADC0-75BB59C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169-1FD4-4AED-8F77-2365D64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AB4-F152-4306-8205-7A4F28D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4064-9851-43D9-ACF6-78FD06E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285B-1042-43EB-BFDC-E437285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EC3-ECB2-48CD-9380-E90CB9AD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091-4C03-4C43-9953-F1174EB7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39-94F3-473C-BF85-C01627CA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AA4-27AF-45FA-A613-96133EF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82B-62A2-4AFA-AB69-9245984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634-2A0A-4E8B-90D0-CCA410E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637-0ECB-41AA-8662-961EDFB2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E92-F0B1-48AC-A72E-97A0199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77A-6868-4DDF-A43F-EB3AB22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0D2-501E-4F42-864B-4B42A4BC51D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E5CA-49C1-4AC0-8F8A-8B046BCFF7D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Тема выступления:</a:t>
            </a:r>
            <a:br>
              <a:rPr sz="2800"/>
            </a:b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роектная деятельность на уроке музык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Учитель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Е.Н. Бужа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Роль учител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 выполнении проектов изменяется в зависимости от этапов работы над проектом. Однако на всех этапах педагог выступает как фасилитатор, то есть помощник. Педагог не передает знания, а обеспечивает деятельность школьника, то есть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консульт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Учитель провоцирует вопросы, размышления, самостоятельную оценку деятельности, моделируя различные    ситуации,    трансформируя    образовательную    среду и т. п. При реализации проектов учитель – это консультант, который должен удержаться от подсказок даже в том случае, когда видит, что учащиеся «делают что-то не то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мотив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Высокий уровень мотивации в деятельности залог успешной работы над проектом. Во время работы учитель должен придерживаться принципов, раскрывающих перед учащимися ситуацию проектной деятельности как ситуацию выбора и свободы самоопределени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провоциру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Помощь учащимся при работе над проектом выражается не в передаче знаний и умений, которые могут быть практически реализованы в проектной деятельности, минимальный их набор учащийся должен был усвоить на уроках, предшествующих работе  над проектом; другие  необходимые сведения получит, работая над сбором информации на различных этапах проекта. Учитель также не указывает в оценочной форме на недостатки или ошибки в действиях учащегося, несостоятельность промежуточных результатов. Он провоцирует вопросы,  размышления,  самостоятельную оценку деятельности, моделируя различные ситуа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наблюда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Наблюдение, которое проводит руководитель проекта, нацелено на получение им информации, которая позволит учителю  продуктивно  работать  во   время   консультации, с одной стороны, и ляжет в основу его действий по оценке уровня компетентностей учащихся, с друг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По характеру конечного продукта проектной деятельности, можно выделить следующие виды проектов в области изучения предмета «Музыка»: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Ролевые проекты, например, инсценировка детских песен, разыгрывание фрагментов биографии композиторов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 Информативно-исследовательские проекты, например, «Изучение биографии композитора», «Как создавалась опера», «Путешествие в мир музыкальных  инструментов» можно включить в практику, начиная с 3 класс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.Сценарные проекты  - сценарий внеклассного музыкального мероприятия для школы или отдельного класс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. Творческие проекты – музыкальные спектакли, театрализованные концерты, фестивали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5. Информационные проекты – музыкальные стенгазеты, материалы для стендов, публичное выступление с сообщением по какой-либо теме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6. Практико-ориентированные проекты, например, дидактический материал по какой-либо теме, создание музыкальной игры и её описание и 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В своей практике я планирую  мини-проекты, рассчитанные на один урок или его ча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 мини-исследовательские проекты (например, «Рейтинг любимых песен», «Рейтинг любимых музыкальных клипов» и т.д.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С удовольствием ребята начальных классов выполняют и такие ролевые проекты - как инсценирование детских песен. Ролевая игра имеет большое значение для развития личности школьника: принимая на себя различные роли, он сопереживает, начинает ориентироваться в отношениях между людьми, проявляет заложенные в нем творческие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Также пользуются успехом у детей такие проекты: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Музыкальные инструменты» - школьники рисуют музыкальные инструменты, отгадывают загадки, составляют кроссворды, сами изготавливают простейшие шумовые инструменты, исполняют песни под их аккомпанемен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Новогодний проект»- участники начальной школы ищут информацию об авторах популярных новогодних песен. Инсценируют эти песн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032360" y="1676520"/>
            <a:ext cx="3617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овогодний проек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Содержимое 3" descr="C:\Documents and Settings\Школа 4\Рабочий стол\фото -начальная  школа\PICT2152.JPG"/>
          <p:cNvPicPr/>
          <p:nvPr/>
        </p:nvPicPr>
        <p:blipFill>
          <a:blip r:embed="rId1"/>
          <a:stretch/>
        </p:blipFill>
        <p:spPr>
          <a:xfrm>
            <a:off x="227016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циальный проект благоустройства территории сквера у Дома культуры д. Сергеих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3520" y="1905120"/>
            <a:ext cx="3616200" cy="3298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32360" y="1905120"/>
            <a:ext cx="3617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554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63520" y="2133720"/>
            <a:ext cx="3616200" cy="3070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32360" y="2133720"/>
            <a:ext cx="36176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60948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 настоящее время от специалиста требуется готовность профессионально действовать в новых условиях, быть ответственным, мобильным, инициативным, социально и творчески активным, прогностически - мыслящим. Наиболее эффективно зарекомендовал себя метод проектов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Метод проектов - система организации воспитательно-образовательного процесса, где способ достижения дидактической цели производится через детальную разработку проблемы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Задачи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Сегодня метод проектов вновь используется, но уже в обновленном виде. Основная задача учителей состоит в том, чтобы помочь проектам занять надлежащее место в школьной практике преподавания музыки. Именно осмысление и применение этого метода в новой социально-культурной ситуации в свете требований к образованию на современной ступени общественного развития позволяет говорить о школьном проекте как о новой педагогической технологии, которая позволяет эффективно решать задачи личностно-ориентированного подхода в обучении подрастающего покол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Главные цели введения метода проект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рактику преподавания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казать умения отдельного ученика или группы учеников использовать приобретенный в школе исследовательский опыт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реализовать свой интерес к предмету исследования, приумножить знания о не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родемонстрировать уровень обученности и знаний в области музы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дняться на более высокую ступень, образованности, развития, социальной зрел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Этапы работы над проектом: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дпроектный этап (подготовительный). Предложение темы исследования. Выбор проблемы проек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Этап реализации проекта. Организация работы. Формирование групп. Составление подробного плана работы над проект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межуточный этап. Рекомендации по полученным результатам. Предзащи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зентация (завершающий этап, этап практического использования проект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ефлексия (обсуждение презентации и полученных результатов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Проект осуществляется по определенной схеме: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1. Подготовка к проект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иступая к созданию учебного проекта,  следует соблюдать ряд услови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предварительно изучить индивидуальные способности, интересы, жизненный опыт каждого ученик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выбрать тему проекта, сформулировать проблему, предложить обучающимся идею, обсудить ее с ученикам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2. Организация участников проект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Сначала формируются рабочие группы обучающихся, где перед каждым стоит своя задача. Распределяя обязанности, учитываются склонности учеников к логичным рассуждениям, к формированию выводов, к оформлению проектной работы. При формировании группы в их состав включаются школьники разного пола, разной успеваемости, различных социальных груп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3. Выполнение проекта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Этот шаг связан с поиском новой, дополнительной информации, обсуждением собранной информации,  и ее документированием, выбором способов реализации проекта (это могут быть рисунки, музыкальные спектакли, газеты, посвященные музыкантам и др.). Одни проекты оформляются дома самостоятельно, другие, требующие помощи со стороны учителя, создаются в классе. Главное – не подавлять инициативу ребят, с уважением относится к любой идее, создавать ситуацию «успеха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 Подведение итогов проектной работ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Количество шагов – этапов от принятия идеи проекта до его презентации зависит от его слож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4T12:02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