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E602-7D50-4059-9695-AD757775E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4F08-7C6D-4AE1-8C73-CC6129FFD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DEB6-B6D9-4F2B-88A3-C6F1FFCB4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B9B3-F270-4B72-91B6-F4D0195F1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BF780-4275-4272-B21A-A14CE1055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F0DA0-48AF-4934-9589-F23E59829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96ACB-5AD7-4170-AB58-FDB219199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A77DC-6CBC-4B65-AC2B-90C64B66F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ADB45-94AD-458E-A8B3-67467CF7C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756ED-25FE-461A-AD11-457CDD4B9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9E257-2183-4087-BC36-D63DBE12E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6221-E85E-4ACC-87B2-8936AAE31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C85D2-1243-4CA5-B2ED-9758C5B2C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485AE-8E5A-49EF-BF52-0D1629E7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58069-080E-4EA0-A6FA-4476D00F0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14163-902B-48B2-9C81-AD6A1E35D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8C705-86BA-4F1F-9B7F-9D74DD6B3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5935-B22E-45CD-BA36-DDC78D192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BE6B-CADF-4DF5-BBB9-B28ACFADE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461C-DA74-4B70-A7C3-56E442C8B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819F-939C-4308-A586-813AB3E75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210D-9E78-4A08-95D4-213F6A3B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8A8F-48C0-4129-9BC3-6F8CD61C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1F69-9894-43AE-B1E7-C7DC37B19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6F948-EF99-42A5-9CD6-AA8A09053B62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46B36-29B6-4419-9C4E-A70C9A711DC3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7391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7d47d"/>
                </a:solidFill>
                <a:latin typeface="Arial"/>
              </a:rPr>
              <a:t>Тема выступления:</a:t>
            </a:r>
            <a:br>
              <a:rPr sz="2800"/>
            </a:br>
            <a:r>
              <a:rPr b="1" i="1" lang="en-US" sz="2800" spc="-1" strike="noStrike">
                <a:solidFill>
                  <a:srgbClr val="f7d47d"/>
                </a:solidFill>
                <a:latin typeface="Arial"/>
              </a:rPr>
              <a:t>Проектная деятельность на уроке музыки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f1311"/>
                </a:solidFill>
                <a:latin typeface="Arial"/>
              </a:rPr>
              <a:t>Учитель музыки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f1311"/>
                </a:solidFill>
                <a:latin typeface="Arial"/>
              </a:rPr>
              <a:t>Е.Н. Бужан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       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Роль учителя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371240"/>
            <a:ext cx="7386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f1311"/>
                </a:solidFill>
                <a:latin typeface="Arial"/>
              </a:rPr>
              <a:t>Роль учителя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при выполнении проектов изменяется в зависимости от этапов работы над проектом. Однако на всех этапах педагог выступает как фасилитатор, то есть помощник. Педагог не передает знания, а обеспечивает деятельность школьника, то есть: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f1311"/>
                </a:solidFill>
                <a:latin typeface="Arial"/>
              </a:rPr>
              <a:t>консультирует.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Учитель провоцирует вопросы, размышления, самостоятельную оценку деятельности, моделируя различные    ситуации,    трансформируя    образовательную    среду и т. п. При реализации проектов учитель – это консультант, который должен удержаться от подсказок даже в том случае, когда видит, что учащиеся «делают что-то не то»;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f1311"/>
                </a:solidFill>
                <a:latin typeface="Arial"/>
              </a:rPr>
              <a:t>мотивирует.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Высокий уровень мотивации в деятельности залог успешной работы над проектом. Во время работы учитель должен придерживаться принципов, раскрывающих перед учащимися ситуацию проектной деятельности как ситуацию выбора и свободы самоопределения;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    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Роль учителя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f1311"/>
                </a:solidFill>
                <a:latin typeface="Arial"/>
              </a:rPr>
              <a:t>провоцирует.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Помощь учащимся при работе над проектом выражается не в передаче знаний и умений, которые могут быть практически реализованы в проектной деятельности, минимальный их набор учащийся должен был усвоить на уроках, предшествующих работе  над проектом; другие  необходимые сведения получит, работая над сбором информации на различных этапах проекта. Учитель также не указывает в оценочной форме на недостатки или ошибки в действиях учащегося, несостоятельность промежуточных результатов. Он провоцирует вопросы,  размышления,  самостоятельную оценку деятельности, моделируя различные ситуации;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f1311"/>
                </a:solidFill>
                <a:latin typeface="Arial"/>
              </a:rPr>
              <a:t>наблюдает.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Наблюдение, которое проводит руководитель проекта, нацелено на получение им информации, которая позволит учителю  продуктивно  работать  во   время   консультации, с одной стороны, и ляжет в основу его действий по оценке уровня компетентностей учащихся, с другой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d47d"/>
                </a:solidFill>
                <a:latin typeface="Arial"/>
              </a:rPr>
              <a:t>По характеру конечного продукта проектной деятельности, можно выделить следующие виды проектов в области изучения предмета «Музыка»:</a:t>
            </a:r>
            <a:br>
              <a:rPr sz="2000"/>
            </a:b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1. Ролевые проекты, например, инсценировка детских песен, разыгрывание фрагментов биографии композиторов и.т.д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2. Информативно-исследовательские проекты, например, «Изучение биографии композитора», «Как создавалась опера», «Путешествие в мир музыкальных  инструментов» можно включить в практику, начиная с 3 класс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3.Сценарные проекты  - сценарий внеклассного музыкального мероприятия для школы или отдельного класса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4. Творческие проекты – музыкальные спектакли, театрализованные концерты, фестивали и.т.д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5. Информационные проекты – музыкальные стенгазеты, материалы для стендов, публичное выступление с сообщением по какой-либо теме и.т.д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6. Практико-ориентированные проекты, например, дидактический материал по какой-либо теме, создание музыкальной игры и её описание и т.д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   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Мини проект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f1311"/>
                </a:solidFill>
                <a:latin typeface="Arial"/>
              </a:rPr>
              <a:t>В своей практике я планирую  мини-проекты, рассчитанные на один урок или его часть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f1311"/>
                </a:solidFill>
                <a:latin typeface="Arial"/>
              </a:rPr>
              <a:t>·      мини-исследовательские проекты (например, «Рейтинг любимых песен», «Рейтинг любимых музыкальных клипов» и т.д.)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f1311"/>
                </a:solidFill>
                <a:latin typeface="Arial"/>
              </a:rPr>
              <a:t>·     С удовольствием ребята начальных классов выполняют и такие ролевые проекты - как инсценирование детских песен. Ролевая игра имеет большое значение для развития личности школьника: принимая на себя различные роли, он сопереживает, начинает ориентироваться в отношениях между людьми, проявляет заложенные в нем творческие возможности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       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Мини проект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SzPct val="23510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2f1311"/>
                </a:solidFill>
                <a:latin typeface="Arial"/>
              </a:rPr>
              <a:t>Также пользуются успехом у детей такие проекты: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2f1311"/>
                </a:solidFill>
                <a:latin typeface="Arial"/>
              </a:rPr>
              <a:t>«Музыкальные инструменты» - школьники рисуют музыкальные инструменты, отгадывают загадки, составляют кроссворды, сами изготавливают простейшие шумовые инструменты, исполняют песни под их аккомпанемент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2f1311"/>
                </a:solidFill>
                <a:latin typeface="Arial"/>
              </a:rPr>
              <a:t>«Новогодний проект»- участники начальной школы ищут информацию об авторах популярных новогодних песен. Инсценируют эти песни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4032360" y="1676520"/>
            <a:ext cx="36176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    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Новогодний проект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2" name="Содержимое 3" descr="C:\Documents and Settings\Школа 4\Рабочий стол\фото -начальная  школа\PICT2152.JPG"/>
          <p:cNvPicPr/>
          <p:nvPr/>
        </p:nvPicPr>
        <p:blipFill>
          <a:blip r:embed="rId1"/>
          <a:stretch/>
        </p:blipFill>
        <p:spPr>
          <a:xfrm>
            <a:off x="2270160" y="1598760"/>
            <a:ext cx="337356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7d47d"/>
                </a:solidFill>
                <a:latin typeface="Arial"/>
              </a:rPr>
              <a:t>Социальный проект благоустройства территории сквера у Дома культуры д. Сергеиха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63520" y="1905120"/>
            <a:ext cx="3616200" cy="32986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4032360" y="1905120"/>
            <a:ext cx="3617640" cy="32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-55440"/>
            <a:ext cx="7010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263520" y="2133720"/>
            <a:ext cx="3616200" cy="307008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4032360" y="2133720"/>
            <a:ext cx="3617640" cy="30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990720" y="609480"/>
            <a:ext cx="5867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2f1311"/>
                </a:solidFill>
                <a:latin typeface="Arial"/>
              </a:rPr>
              <a:t>Спасибо </a:t>
            </a: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2f1311"/>
                </a:solidFill>
                <a:latin typeface="Arial"/>
              </a:rPr>
              <a:t>за </a:t>
            </a: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2f1311"/>
                </a:solidFill>
                <a:latin typeface="Arial"/>
              </a:rPr>
              <a:t>внимание!</a:t>
            </a: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7d47d"/>
                </a:solidFill>
                <a:latin typeface="Arial"/>
              </a:rPr>
              <a:t>Актуальность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f1311"/>
                </a:solidFill>
                <a:latin typeface="Arial"/>
              </a:rPr>
              <a:t>В настоящее время от специалиста требуется готовность профессионально действовать в новых условиях, быть ответственным, мобильным, инициативным, социально и творчески активным, прогностически - мыслящим. Наиболее эффективно зарекомендовал себя метод проектов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f1311"/>
                </a:solidFill>
                <a:latin typeface="Arial"/>
              </a:rPr>
              <a:t>Метод проектов - система организации воспитательно-образовательного процесса, где способ достижения дидактической цели производится через детальную разработку проблемы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7d47d"/>
                </a:solidFill>
                <a:latin typeface="Arial"/>
              </a:rPr>
              <a:t>Задачи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f1311"/>
                </a:solidFill>
                <a:latin typeface="Arial"/>
              </a:rPr>
              <a:t>Сегодня метод проектов вновь используется, но уже в обновленном виде. Основная задача учителей состоит в том, чтобы помочь проектам занять надлежащее место в школьной практике преподавания музыки. Именно осмысление и применение этого метода в новой социально-культурной ситуации в свете требований к образованию на современной ступени общественного развития позволяет говорить о школьном проекте как о новой педагогической технологии, которая позволяет эффективно решать задачи личностно-ориентированного подхода в обучении подрастающего поколения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                    </a:t>
            </a:r>
            <a:r>
              <a:rPr b="0" i="1" lang="en-US" sz="4000" spc="-1" strike="noStrike">
                <a:solidFill>
                  <a:srgbClr val="f7d47d"/>
                </a:solidFill>
                <a:latin typeface="Arial"/>
              </a:rPr>
              <a:t>Цел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Главные цели введения метода проектов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в практику преподавания музыки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·     показать умения отдельного ученика или группы учеников использовать приобретенный в школе исследовательский опыт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·     реализовать свой интерес к предмету исследования, приумножить знания о нем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·     продемонстрировать уровень обученности и знаний в области музыки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·     подняться на более высокую ступень, образованности, развития, социальной зрелост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Этапы работы над проектом: 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Предпроектный этап (подготовительный). Предложение темы исследования. Выбор проблемы проект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Этап реализации проекта. Организация работы. Формирование групп. Составление подробного плана работы над проектом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Промежуточный этап. Рекомендации по полученным результатам. Предзащит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Презентация (завершающий этап, этап практического использования проекта)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Рефлексия (обсуждение презентации и полученных результатов)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23880" y="914400"/>
            <a:ext cx="4724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Проект осуществляется по определенной схеме:</a:t>
            </a:r>
            <a:br>
              <a:rPr sz="2800"/>
            </a:b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1. Подготовка к проекту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.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Приступая к созданию учебного проекта,  следует соблюдать ряд условий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- предварительно изучить индивидуальные способности, интересы, жизненный опыт каждого ученика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- выбрать тему проекта, сформулировать проблему, предложить обучающимся идею, обсудить ее с учениками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2. Организация участников проекта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f1311"/>
                </a:solidFill>
                <a:latin typeface="Arial"/>
              </a:rPr>
              <a:t>Сначала формируются рабочие группы обучающихся, где перед каждым стоит своя задача. Распределяя обязанности, учитываются склонности учеников к логичным рассуждениям, к формированию выводов, к оформлению проектной работы. При формировании группы в их состав включаются школьники разного пола, разной успеваемости, различных социальных групп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3. Выполнение проекта.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f1311"/>
                </a:solidFill>
                <a:latin typeface="Arial"/>
              </a:rPr>
              <a:t>Этот шаг связан с поиском новой, дополнительной информации, обсуждением собранной информации,  и ее документированием, выбором способов реализации проекта (это могут быть рисунки, музыкальные спектакли, газеты, посвященные музыкантам и др.). Одни проекты оформляются дома самостоятельно, другие, требующие помощи со стороны учителя, создаются в классе. Главное – не подавлять инициативу ребят, с уважением относится к любой идее, создавать ситуацию «успеха»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. Подведение итогов проектной работы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Количество шагов – этапов от принятия идеи проекта до его презентации зависит от его сложност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2-04T12:02:2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