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EC4-5EC9-4041-99AE-B255BD5E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191-CE30-41F5-AF3B-FF68A7D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5B8-78F0-41B4-8071-CA51480C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6FD-1303-4BBA-A740-4E05087E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355F-1CE4-41A5-AE30-81552E2C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C5C4-1185-4878-9563-CC212DF7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0BCA-4624-4844-AD3F-18BFB75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AB17-5105-4896-9496-7D6CA9CC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87FE-BC39-4CC9-9CBF-BAA75999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B7FD-8908-4EF0-A22D-31E42EA9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9895-9E7C-48AF-B982-8873986C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952-7238-4EA0-8F6C-F2459B21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4A4F-7528-48E0-B194-D13E47C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6DA7-7A9D-416F-8325-E7D47B26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5701-67E8-48EE-BD06-2E573A5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6A6E-0032-4937-A912-C128E5E5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A674-8154-4356-B6BE-BFDB8161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17F-2AAE-4D71-B0C5-08569A0E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697-8FFA-45EE-89DD-189747A8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977-10AE-4685-8A27-7744DC96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BEA-4489-4FDC-83C4-A0F66A9C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BDF3-D453-4B3A-87F5-81A1DD1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87E-417E-498A-89DA-C6BD186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BFE-A5D7-4EF3-8E30-FE5EB04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09B5-BD5C-4C0E-9C65-D3162C864A2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DAD-8CC6-4C64-8F83-9644C382205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391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Тема выступления:</a:t>
            </a:r>
            <a:br>
              <a:rPr sz="2800"/>
            </a:b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Проектная деятельность на уроке музыки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Учитель музы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Е.Н. Бужа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371240"/>
            <a:ext cx="7386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Роль учителя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при выполнении проектов изменяется в зависимости от этапов работы над проектом. Однако на всех этапах педагог выступает как фасилитатор, то есть помощник. Педагог не передает знания, а обеспечивает деятельность школьника, то есть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консультирует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Учитель провоцирует вопросы, размышления, самостоятельную оценку деятельности, моделируя различные    ситуации,    трансформируя    образовательную    среду и т. п. При реализации проектов учитель – это консультант, который должен удержаться от подсказок даже в том случае, когда видит, что учащиеся «делают что-то не то»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f1311"/>
                </a:solidFill>
                <a:latin typeface="Arial"/>
              </a:rPr>
              <a:t>мотивирует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Высокий уровень мотивации в деятельности залог успешной работы над проектом. Во время работы учитель должен придерживаться принципов, раскрывающих перед учащимися ситуацию проектной деятельности как ситуацию выбора и свободы самоопределения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ль учител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провоцирует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Помощь учащимся при работе над проектом выражается не в передаче знаний и умений, которые могут быть практически реализованы в проектной деятельности, минимальный их набор учащийся должен был усвоить на уроках, предшествующих работе  над проектом; другие  необходимые сведения получит, работая над сбором информации на различных этапах проекта. Учитель также не указывает в оценочной форме на недостатки или ошибки в действиях учащегося, несостоятельность промежуточных результатов. Он провоцирует вопросы,  размышления,  самостоятельную оценку деятельности, моделируя различные ситуаци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наблюдает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Наблюдение, которое проводит руководитель проекта, нацелено на получение им информации, которая позволит учителю  продуктивно  работать  во   время   консультации, с одной стороны, и ляжет в основу его действий по оценке уровня компетентностей учащихся, с друго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47d"/>
                </a:solidFill>
                <a:latin typeface="Arial"/>
              </a:rPr>
              <a:t>По характеру конечного продукта проектной деятельности, можно выделить следующие виды проектов в области изучения предмета «Музыка»: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. Ролевые проекты, например, инсценировка детских песен, разыгрывание фрагментов биографии композиторов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2. Информативно-исследовательские проекты, например, «Изучение биографии композитора», «Как создавалась опера», «Путешествие в мир музыкальных  инструментов» можно включить в практику, начиная с 3 класс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3.Сценарные проекты  - сценарий внеклассного музыкального мероприятия для школы или отдельного класс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. Творческие проекты – музыкальные спектакли, театрализованные концерты, фестивали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5. Информационные проекты – музыкальные стенгазеты, материалы для стендов, публичное выступление с сообщением по какой-либо теме и.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6. Практико-ориентированные проекты, например, дидактический материал по какой-либо теме, создание музыкальной игры и её описание и т.д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ини прое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В своей практике я планирую  мини-проекты, рассчитанные на один урок или его ча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·      мини-исследовательские проекты (например, «Рейтинг любимых песен», «Рейтинг любимых музыкальных клипов» и т.д.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·     С удовольствием ребята начальных классов выполняют и такие ролевые проекты - как инсценирование детских песен. Ролевая игра имеет большое значение для развития личности школьника: принимая на себя различные роли, он сопереживает, начинает ориентироваться в отношениях между людьми, проявляет заложенные в нем творческие возмож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ини прое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Также пользуются успехом у детей такие проекты: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«Музыкальные инструменты» - школьники рисуют музыкальные инструменты, отгадывают загадки, составляют кроссворды, сами изготавливают простейшие шумовые инструменты, исполняют песни под их аккомпанемен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2f1311"/>
                </a:solidFill>
                <a:latin typeface="Arial"/>
              </a:rPr>
              <a:t>«Новогодний проект»- участники начальной школы ищут информацию об авторах популярных новогодних песен. Инсценируют эти песн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032360" y="1676520"/>
            <a:ext cx="3617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овогодний проек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Содержимое 3" descr="C:\Documents and Settings\Школа 4\Рабочий стол\фото -начальная  школа\PICT2152.JPG"/>
          <p:cNvPicPr/>
          <p:nvPr/>
        </p:nvPicPr>
        <p:blipFill>
          <a:blip r:embed="rId1"/>
          <a:stretch/>
        </p:blipFill>
        <p:spPr>
          <a:xfrm>
            <a:off x="2270160" y="1598760"/>
            <a:ext cx="33735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Социальный проект благоустройства территории сквера у Дома культуры д. Сергеиха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3520" y="1905120"/>
            <a:ext cx="3616200" cy="3298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032360" y="1905120"/>
            <a:ext cx="36176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-554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63520" y="2133720"/>
            <a:ext cx="3616200" cy="3070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032360" y="2133720"/>
            <a:ext cx="361764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609480"/>
            <a:ext cx="586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за 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f13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47d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В настоящее время от специалиста требуется готовность профессионально действовать в новых условиях, быть ответственным, мобильным, инициативным, социально и творчески активным, прогностически - мыслящим. Наиболее эффективно зарекомендовал себя метод проектов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Метод проектов - система организации воспитательно-образовательного процесса, где способ достижения дидактической цели производится через детальную разработку проблемы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d47d"/>
                </a:solidFill>
                <a:latin typeface="Arial"/>
              </a:rPr>
              <a:t>Задачи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Сегодня метод проектов вновь используется, но уже в обновленном виде. Основная задача учителей состоит в том, чтобы помочь проектам занять надлежащее место в школьной практике преподавания музыки. Именно осмысление и применение этого метода в новой социально-культурной ситуации в свете требований к образованию на современной ступени общественного развития позволяет говорить о школьном проекте как о новой педагогической технологии, которая позволяет эффективно решать задачи личностно-ориентированного подхода в обучении подрастающего покол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      </a:t>
            </a: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Главные цели введения метода проекто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рактику преподавания музык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оказать умения отдельного ученика или группы учеников использовать приобретенный в школе исследовательский опыт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реализовать свой интерес к предмету исследования, приумножить знания о нем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родемонстрировать уровень обученности и знаний в области музыки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·     подняться на более высокую ступень, образованности, развития, социальной зрел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Этапы работы над проектом: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едпроектный этап (подготовительный). Предложение темы исследования. Выбор проблемы проек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Этап реализации проекта. Организация работы. Формирование групп. Составление подробного плана работы над проекто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межуточный этап. Рекомендации по полученным результатам. Предзащи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езентация (завершающий этап, этап практического использования проект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ефлексия (обсуждение презентации и полученных результатов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4724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Проект осуществляется по определенной схеме:</a:t>
            </a:r>
            <a:br>
              <a:rPr sz="2800"/>
            </a:b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1. Подготовка к проект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иступая к созданию учебного проекта,  следует соблюдать ряд услови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- предварительно изучить индивидуальные способности, интересы, жизненный опыт каждого ученика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- выбрать тему проекта, сформулировать проблему, предложить обучающимся идею, обсудить ее с учениками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2. Организация участников проект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Сначала формируются рабочие группы обучающихся, где перед каждым стоит своя задача. Распределяя обязанности, учитываются склонности учеников к логичным рассуждениям, к формированию выводов, к оформлению проектной работы. При формировании группы в их состав включаются школьники разного пола, разной успеваемости, различных социальных групп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3. Выполнение проекта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Arial"/>
              </a:rPr>
              <a:t>Этот шаг связан с поиском новой, дополнительной информации, обсуждением собранной информации,  и ее документированием, выбором способов реализации проекта (это могут быть рисунки, музыкальные спектакли, газеты, посвященные музыкантам и др.). Одни проекты оформляются дома самостоятельно, другие, требующие помощи со стороны учителя, создаются в классе. Главное – не подавлять инициативу ребят, с уважением относится к любой идее, создавать ситуацию «успеха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 Подведение итогов проектной работы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Количество шагов – этапов от принятия идеи проекта до его презентации зависит от его сложнос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04T12:02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