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927-3383-4FD5-9D08-C4EAA7C4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CC0-8D90-4BD5-B537-0BA5C4A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99B-8AF7-417D-9039-2664A14C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9C2-E5C7-4CF5-A227-7709CB20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656-A191-40EB-98D4-DBBFE6E9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5D8-0228-43A2-97B8-46E499D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38D-D7A6-4D35-9B28-C5901626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7D9-BA1B-45E0-8EBE-E05BA697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0DF-F082-4278-B032-12E247B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CD0-CF0C-4CC5-876F-429ED28B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DFB-D6FD-40EB-9A9D-DCE1709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F1B-5CD5-4D49-A36D-9CB516D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7315-2463-405F-BE6B-BA0C5EA2C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Вместе против корруп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зя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Растр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Мошенниче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ымогатель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лоупотребление должностными полномоч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ссмотреть ситуации и указать, в которых из них представлены случаи коррупции,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а в которых нет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 благодарность за то, что врач вылечил её тяжело больного ребёнка, Галина подарила врачу букет из цветов   свое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Бухгалтер Иванова С.  использовала поддельные счета, которые содержат невер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Кандидат в депутаты договорился  фирмой о  финансировании её выборов в органы государственной власти, взамен обещал   помогать этой фирме получать хорошие зак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Государственное должностное лицо пользуется служебным автомобилем и топливом в личных ц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5. Иван вынужден был отблагодарить чиновника, сознательно тянувшего  время для решения его вопро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6. Должностное лицо правительства поздно приходит на работу, рано возвращается с работы и в рабочее время занимается личными 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 чем гласит народная мудрос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Calibri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Не подмажешь, не поедешь» – вымогательство, взятнич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Рука руку моет» – групповая запланированная деятельность в подкуп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Загребать жар чужими руками» – несознательное соучастие в мошенничестве и афер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Видит око, да зуб не мед» – безрезультативность действий борьбы с коррупци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Основные признаки коррупционного 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оюдное согласие участников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Наличие взаимных обязатель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олучение  определенных выгод и преимуществ обеими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ринимаемое решение нарушает закон или противоречит  моральным норм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Сознательное подчинение общих интересов личной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е стороны стремятся скрыть свои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img7"/>
          <p:cNvPicPr/>
          <p:nvPr/>
        </p:nvPicPr>
        <p:blipFill>
          <a:blip r:embed="rId1"/>
          <a:stretch/>
        </p:blipFill>
        <p:spPr>
          <a:xfrm>
            <a:off x="1928880" y="2858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 нарушении правил дорожного движения в нетрезвом виде, водитель заплатил сотруднику ГИБДД,  который  вместо того, чтобы заполнить протокол, взял деньги и отпустил правонарушите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Государственный служащий, отвечающий за распределение бесплатно предоставляемых медикаментов пациентам, часть медикаментов  отправлял в частные аптеки для их дальнейшей реализации по высоким цен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3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Родственникам  больного гражданина Н. главврач недвусмысленно говорит, что ему требуется экстренная  операция, но в общей очереди операцию придется «ждать очень долго»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кажем коррупции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оррупция «есть корень, из кото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ытекает во все времена и при вся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блазнах презрение ко всем законам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мас Гобб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ногие сравнивают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коррупцию с болячкой.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 каждой болячки есть свои причины, которые нужно лечить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аковы же причины корруп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чины корруп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Низкая заработная плата государственных служащ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знание зак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Желание легкой наж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Частая сменяемость лиц на различных должност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стабильность в стра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Коррупция как привыч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изкий уровень жизни насе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Слабая развитость государственных институ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Безработ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развитость институтов граждан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В зависимости от сферы деятельности коррупция проявляется в следующих форм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в сфере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арламентск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ел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на пред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Быт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жШан,  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тиякраБю,   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 команд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вотельгамоВы,      кетР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1 команда -  тажШан,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Шантаж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Коррупция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2 команда – ротиякраБю,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Бюрократия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зятка –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лата или подарок должностному лицу за незаконные действия в пользу даю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Calibri"/>
              </a:rPr>
              <a:t>3 команда – ствотельгамоВы, кетР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ымогательство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Рэкет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учитель</cp:lastModifiedBy>
  <dcterms:modified xsi:type="dcterms:W3CDTF">2012-03-19T11:16:45Z</dcterms:modified>
  <cp:revision>28</cp:revision>
  <dc:subject/>
  <dc:title>Вместе против коррупции</dc:title>
</cp:coreProperties>
</file>