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684-AACC-456D-81F1-EF20E408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D49-8BE9-4BB0-8CCD-408A9329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E4B-436A-4C70-AA2E-807EA2A3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659-D68D-4642-B532-242ACDD3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96CC-C4B6-4A4E-A9E0-AF301ED6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49EF-1419-4880-AAD5-CE6BBDC9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0CE6-EBAF-40D4-8CAC-27700404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B82E-76E7-4A43-82C8-59329ABE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8139-63A7-4271-B297-9EF39B61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4C1F-60B3-426F-A9B1-46C3111F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2C54-DDC8-4660-877C-0974256C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0BD5-25E7-4E9D-96AE-2C0D62A7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0D74-B75D-48F7-8358-60EF8EA3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8766-8B9F-4BEC-869C-F5766BE2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9C98-12CE-45E4-AEDC-41493FDC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9800-B4A0-4EAA-ACE3-AA64A97D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5734-095F-4E31-B2F0-D001AE33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FD99F-8851-4F0B-9C53-30A2DFD9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9154F-8338-466B-B892-E56BDF68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57A0E-2899-445F-944E-ECB12E53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07EEB8-B926-407A-8B70-FDF3942F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A643B-45E1-4C54-9167-C93C01E7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62F-8977-4259-B932-89FF1687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B77C7-5EF0-4DD3-94C7-9CAB4D80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B0516-7474-4070-A887-4A3C4522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747683-75B2-4DC1-9003-8DE678A3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1059B-F472-45C6-A178-AC9E1E2B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A4402-BA69-4038-8FD2-1A6DEA56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455B4-1970-4FBE-AE66-E825C364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433C6-13B7-4E5C-B38B-DA64E013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3A6CC-A868-460A-80F3-70C79320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78692-FBB2-40B8-BE88-02CA31BB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3A7EF-5A23-40D6-9906-B8450FD3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A49-6345-4AD6-972A-0BEACFF8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4E4DA-71DB-4ABF-B328-4D7F8A87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6241A-7108-4ADB-9012-89A4E0F1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F3EDE-0102-4088-A77B-B34E6A58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8C4E4-D64E-497C-ADE3-E36E336F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06AC2-C650-477B-95EE-56417419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6B760-CE30-4D03-B4BE-42A2437D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6EA34-385B-48AA-8CD7-105135D8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8986F-B636-435D-ADFE-5F0F5BA8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5B3DD-194D-4BA6-9FE2-2B008EDB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114535-4B05-4907-A53E-7FE17AF9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F65-53BE-4907-B1F7-DF56B906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37D37B-E6EB-4054-98E6-54FCBCB2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78E12D-B122-4CD5-9D0C-9628A47C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7BB5C-9623-4203-AC67-970BB0DC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CC9D92-B6AA-4807-8952-CB00CBA9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CBF406-0952-42B7-8678-B426592F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16CB12-53B8-4366-8260-B3A55AF4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FED909-A30D-4F31-9435-E2624E6A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82BF6-59D8-4965-8A53-BDB2B37A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7AE4F2-D98F-4DE4-BD78-1A9E7429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BF5497-F096-4D28-836C-B86C292A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94B-1ECB-4E45-9E18-67A3886A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F804FC-9139-4076-957C-8F9F6D74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064F9-3114-490D-B5A7-CEC16700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AF7348-01A4-4A8A-8DE3-91B46343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29C988-D6BA-4DE0-BC5C-92838A93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438C0D-616C-47D4-B51D-042A2AFE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E45159-7F7E-4089-9E4F-F7F00584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CBAE43-9EB0-493C-9688-6A57F0C0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234558-A91D-490E-9854-FE085752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1D7946-7299-4B40-A353-90EBB323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1088C6-7EAE-4229-8615-97893862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982-E954-4803-A812-D46587DA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1F9CDF-0124-437D-9535-1F7BEAA6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AC3287-5F80-4E15-8840-ECAA0294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660408-4165-4B12-9C5D-DFD1946B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C74D6D-BAC9-40BA-829E-7785CA92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962BDE-A221-4ABD-BE2B-81BAB377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F068D3-2057-4AC2-9C77-025A9368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FB48E3-508A-4C7E-8E92-EFE428B3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66CC69-48AC-404E-8700-5F18EDB7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DC031E-8BD1-4CCB-B3B7-7ED75938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C2CFE1-7367-420A-A0D0-311987E2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0036-E14A-49DC-8E1C-3CA515F4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C5B91D-7682-44BF-885E-C3A6E8CA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BB54AF-42DA-4722-94BE-0C377AC2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F97016-ACF2-4F6D-A505-1356412C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5D48CD-3A25-4857-9D5C-86212E6A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7DA9B1-DD17-417D-8363-1B3B25A2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6FDA-5855-4582-9945-3EE6061B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F5DF-9999-4EB2-84C0-65429EF00A7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9269-7AB6-4274-92F9-AE2DDB21BB3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98DF-6B07-4BFE-ADB6-0660929AF9B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0FEB-0520-43FC-946B-DFC643FD601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6957-96D9-4436-918C-C4B01712B7D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E046-8405-4131-B004-96E93B13BF8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5BC5-3D02-484A-B5ED-5AFB368B2FC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74920" y="464760"/>
            <a:ext cx="76723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Прямоугольник 5" descr=""/>
          <p:cNvPicPr/>
          <p:nvPr/>
        </p:nvPicPr>
        <p:blipFill>
          <a:blip r:embed="rId1"/>
          <a:stretch/>
        </p:blipFill>
        <p:spPr>
          <a:xfrm>
            <a:off x="1504800" y="804960"/>
            <a:ext cx="67611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МУЗЕЙ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"УСАДЬБА НАРОДНОГО ХУДОЖНИКА СССР А.А. ПЛАСТОВА"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2286000" y="26082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355" name="TextBox 5"/>
          <p:cNvSpPr/>
          <p:nvPr/>
        </p:nvSpPr>
        <p:spPr>
          <a:xfrm>
            <a:off x="1341000" y="6000840"/>
            <a:ext cx="65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льяновская область, Карсунский район, с. Прислоних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928440" y="142920"/>
            <a:ext cx="7715160" cy="63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1988 году в селе Прислониха Карсунского района был открыт мемориально-документальный музей А.А. Пластова. Этому предшествовали долгие годы изысканий, научных исследований, размышлений, каким должен быть музей, и перспективы развития музея, усадьбы природоохранных зон архитектурно-ландшафтного заповедник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285840" y="3000240"/>
            <a:ext cx="3765600" cy="2571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2"/>
          <a:stretch/>
        </p:blipFill>
        <p:spPr>
          <a:xfrm>
            <a:off x="5000760" y="2357280"/>
            <a:ext cx="31953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71400" y="356760"/>
            <a:ext cx="5429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            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ОПИСАНИЕ  МУЗЕ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71720" y="1071720"/>
            <a:ext cx="68529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Экспозиция музея А.А. Пластова размещается в здании Правления бывшего колхоза им. М.И. Калинина, где Аркадий Александрович работал ряд лет в качестве писаря сельского Совета и секретаря Комбеда. Неизгладимое впечатление оставляют фризом венчающие экспозицию крупноформатные художественные фотографии односельчан, самого Аркадия Александровича, его друзей, выполненные сыном Николаем Аркадьевичем Пластовым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Прямоугольник 5"/>
          <p:cNvSpPr/>
          <p:nvPr/>
        </p:nvSpPr>
        <p:spPr>
          <a:xfrm>
            <a:off x="3929040" y="3000240"/>
            <a:ext cx="4572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В витринах размещены подлинные вещи из мастерской Аркадия Александровича: его палитра, тюбики с красками, лаки, корневая скульптура, различные предметы художественного творчества и "волшебные" кисти мастера. Рядом - этюдник - друг прогулок по лесам и полям окрестных сёл; складной походный стульчик и большой полотняный зонт, который укрывал его от жаркого солнца или летнего дождя во время работы на пленэре. В экспозиции также можно познакомиться с рабочими альбомами А.А. Пластова, заполненными его рисунками, набросками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1"/>
          <a:stretch/>
        </p:blipFill>
        <p:spPr>
          <a:xfrm>
            <a:off x="357120" y="3000240"/>
            <a:ext cx="339084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85920" y="428400"/>
            <a:ext cx="4572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ОСНОВНЫЕ ЭКСКУРСИИ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56760" y="928440"/>
            <a:ext cx="75675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В художественном музее вниманию посетителей предлагаются </a:t>
            </a: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обзорные э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кскурсии по постоянной экспозиции, по залу временных выставок, а также </a:t>
            </a: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тематические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экскурсии по следующим разделам: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Западноевропейское искусство 16-19 веков (Италия, Испания, Германия. Франция, Голландия, Фландрия)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Декоративно-прикладное искусство (западноевропейский и русский фарфор, стекло, художественная бронза, мебель)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Древнерусское искусство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Русское искусство 18 века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Русское искусство первой половины 19 века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Русское искусство второй половины 19 век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500040" y="378612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2"/>
          <a:stretch/>
        </p:blipFill>
        <p:spPr>
          <a:xfrm>
            <a:off x="4500720" y="2857680"/>
            <a:ext cx="37861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Прямоугольник 3" descr=""/>
          <p:cNvPicPr/>
          <p:nvPr/>
        </p:nvPicPr>
        <p:blipFill>
          <a:blip r:embed="rId1"/>
          <a:stretch/>
        </p:blipFill>
        <p:spPr>
          <a:xfrm>
            <a:off x="244440" y="731880"/>
            <a:ext cx="8886960" cy="115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1143000" y="2352600"/>
            <a:ext cx="5572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8:03:59Z</dcterms:created>
  <dc:creator>BEST</dc:creator>
  <dc:description/>
  <dc:language>en-US</dc:language>
  <cp:lastModifiedBy>Ветер 2</cp:lastModifiedBy>
  <dcterms:modified xsi:type="dcterms:W3CDTF">2012-01-27T15:07:58Z</dcterms:modified>
  <cp:revision>7</cp:revision>
  <dc:subject/>
  <dc:title> </dc:title>
</cp:coreProperties>
</file>