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26F6-AD41-4C4A-9BAB-4F6A3C374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A5A4-8DD3-47F9-803A-3B261136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765E-CE56-4876-A471-B77A970DC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E292-89E0-4357-B977-4FB595EF6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16DA-7F22-4270-A604-451629FF1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17FE-BDD2-4843-8384-1478FCD9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ED3D-7DAF-435C-BD8F-A8982F85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0C43B-5E9E-428F-86E8-CF706D42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CD0A-7F58-465C-855B-5F3742BF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4A2F7-68FD-4E6A-A3DC-3FA68410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93D7-8AF3-419D-AE62-18E0654E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CA5D-E970-4B0D-952A-9FEAA48A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BDEF-68CB-41D9-B4ED-1C08BE52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4527-2DE9-4A81-ABDC-969C9D28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5E8E-819A-4C90-8BD4-A6D7C567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63F12-A0CF-4A41-9FCA-77BC8CC08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6229-7DFB-42AA-96D3-0B7BEF456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B703CA-7C32-4EBF-B62C-8575B58A3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674D9B-4A24-4160-9966-D4823E4C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56DA4D-3AF7-4869-B034-C0889F8C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214D86-4A96-44F3-9791-E1DF29B8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88F70D-085C-40BA-90EF-21E6B787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A759-66A2-467B-AE34-E6DB550C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C877FF-650D-44D4-BC5A-8AF31110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C3F7DE-336C-42EA-8294-92EE7AC5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F61FED-F957-4427-A66B-1C305B6E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4FFD86-DB2C-43C9-BB1B-4FB973BD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810F8B-B4C9-441E-B29A-9D36AF97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A35965-AB5A-4EC5-9136-C03AA849F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2B1B5C-DD90-4CF1-9074-FD293255C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30C68-E6A9-4BF7-AA6A-CED859710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F4A0D-7671-4464-B906-5566BA0E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08C6B-5295-4AF4-95AB-FAF14F24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795B-DA97-4FAB-B4A4-99CD12EB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6E94A-F694-4840-A7E4-3C7F8D0D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C009A-B2C9-4908-BB9F-2EA7CECF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7577D-823C-4F5C-91EA-6743B8D0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D74C2-937C-4450-B699-7C38BAF5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13169-66F3-4420-BEC9-93610A97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5A159-F87E-4F9B-97C1-68FE8E84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3762E-D314-4EEE-B190-518DB6B6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8FCE6-1C93-4391-A241-D1A70BA52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BC36F-1132-4CD4-9EEA-BB99BB11D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D9F697-FF70-40E3-9224-135F76A71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2FAB-86FB-4795-AE5A-5FD25202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031E6F-725A-4586-8FB9-BAF2F17E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94DABD-EC23-4A20-87CA-0A094F35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EF57EC-4E37-4618-835A-557206DD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37D084-AED1-421F-8D66-0B79CC9F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E30CD2-6138-47DC-A826-84DF6F34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891BD0-8E97-4C8A-97E7-DC75D5FB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AE59E5-FD3D-4CC9-8A09-04EFF091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9BD750-6070-48AA-B977-9BF382CE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298A9C-0BE4-401B-919E-F4920E4F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649900-22CA-43D4-948D-DCB0E62E6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913D-4FD0-4AD4-A0D6-D7D70562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ED1956-1A35-498F-AA7A-10E88EC14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2ADA9D-C910-44E5-A107-095681975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3E2204-E36D-4844-933B-02E89FCC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44FA06-4043-4DE0-835F-F277E379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68C668-70D4-4701-8B6B-14325659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9257F1-E286-4642-B398-FF28FEAC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FF69C4-2496-4173-B13B-A80C146C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FA8C58-9361-4860-A73C-7F90A2A8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85A65C-8F86-495C-8E79-4FDC07C0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1FC915-67B5-4C1F-A1B0-DF84A8B7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5475-C4DA-44FB-90A3-7938410A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AE535F-3550-47B0-9E35-23DE4533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E0DC65-1B09-4EDD-93BD-3CC812382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81BF7C-D2DE-4014-B80D-D158A58AF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00E623-B961-40F2-910B-D61425DB4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50FA4C-CD10-4F2D-91F3-165AD593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31ACA7-2706-43C3-A222-590C02BD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D8E1A1-3BE5-42F1-ABAE-FB6A155C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9F2CA2-31CA-48DB-98D9-123D27B6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70E7CB-066F-410A-B623-BA154EF9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833B05-8A76-47E7-A2D7-D1C097DC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D91E-0913-4ECB-8DEF-4B4BC337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AAF9AF-DFA9-4DDD-A5F8-320C8306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C5B5CD-4B9A-498B-84FF-32523A08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84B026-FE60-4ED5-BF49-DA6D2464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EC64C8-D716-4F95-A816-7BBAC770B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0916AB-C295-4403-8586-CDD2F283F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EF86-9945-4A0B-A44A-AA5393C8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BD40-6504-4D3B-A88F-6964DC38F42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0C06-FBEF-4BFA-84CF-E35FE044641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81AA-B932-4370-8FDB-B26FCF90B89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4EA1-9256-4E7B-A353-5455FC9A256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2B45-6ACE-4163-87A9-80B680D55F8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8317-C9C8-44C5-B523-7C3FC32A0E7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D1CD-E80E-482F-B538-FB763A9B3ED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74920" y="464760"/>
            <a:ext cx="76723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2" name="Прямоугольник 5" descr=""/>
          <p:cNvPicPr/>
          <p:nvPr/>
        </p:nvPicPr>
        <p:blipFill>
          <a:blip r:embed="rId1"/>
          <a:stretch/>
        </p:blipFill>
        <p:spPr>
          <a:xfrm>
            <a:off x="1504800" y="804960"/>
            <a:ext cx="676116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МУЗЕЙ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"УСАДЬБА НАРОДНОГО ХУДОЖНИКА СССР А.А. ПЛАСТОВА"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2286000" y="260820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355" name="TextBox 5"/>
          <p:cNvSpPr/>
          <p:nvPr/>
        </p:nvSpPr>
        <p:spPr>
          <a:xfrm>
            <a:off x="1341000" y="6000840"/>
            <a:ext cx="65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Ульяновская область, Карсунский район, с. Прислоних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928440" y="142920"/>
            <a:ext cx="7715160" cy="63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 1988 году в селе Прислониха Карсунского района был открыт мемориально-документальный музей А.А. Пластова. Этому предшествовали долгие годы изысканий, научных исследований, размышлений, каким должен быть музей, и перспективы развития музея, усадьбы природоохранных зон архитектурно-ландшафтного заповедник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285840" y="3000240"/>
            <a:ext cx="3765600" cy="25718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"/>
          <p:cNvPicPr/>
          <p:nvPr/>
        </p:nvPicPr>
        <p:blipFill>
          <a:blip r:embed="rId2"/>
          <a:stretch/>
        </p:blipFill>
        <p:spPr>
          <a:xfrm>
            <a:off x="5000760" y="2357280"/>
            <a:ext cx="319536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71400" y="356760"/>
            <a:ext cx="5429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             </a:t>
            </a: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ОПИСАНИЕ  МУЗЕЯ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071720" y="1071720"/>
            <a:ext cx="68529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Экспозиция музея А.А. Пластова размещается в здании Правления бывшего колхоза им. М.И. Калинина, где Аркадий Александрович работал ряд лет в качестве писаря сельского Совета и секретаря Комбеда. Неизгладимое впечатление оставляют фризом венчающие экспозицию крупноформатные художественные фотографии односельчан, самого Аркадия Александровича, его друзей, выполненные сыном Николаем Аркадьевичем Пластовым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Прямоугольник 5"/>
          <p:cNvSpPr/>
          <p:nvPr/>
        </p:nvSpPr>
        <p:spPr>
          <a:xfrm>
            <a:off x="3929040" y="3000240"/>
            <a:ext cx="45720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В витринах размещены подлинные вещи из мастерской Аркадия Александровича: его палитра, тюбики с красками, лаки, корневая скульптура, различные предметы художественного творчества и "волшебные" кисти мастера. Рядом - этюдник - друг прогулок по лесам и полям окрестных сёл; складной походный стульчик и большой полотняный зонт, который укрывал его от жаркого солнца или летнего дождя во время работы на пленэре. В экспозиции также можно познакомиться с рабочими альбомами А.А. Пластова, заполненными его рисунками, набросками.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2" name="Picture 4" descr=""/>
          <p:cNvPicPr/>
          <p:nvPr/>
        </p:nvPicPr>
        <p:blipFill>
          <a:blip r:embed="rId1"/>
          <a:stretch/>
        </p:blipFill>
        <p:spPr>
          <a:xfrm>
            <a:off x="357120" y="3000240"/>
            <a:ext cx="339084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85920" y="428400"/>
            <a:ext cx="45720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ОСНОВНЫЕ ЭКСКУРСИИ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56760" y="928440"/>
            <a:ext cx="75675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В художественном музее вниманию посетителей предлагаются </a:t>
            </a:r>
            <a:r>
              <a:rPr b="1" lang="ru-RU" sz="1200" spc="-1" strike="noStrike">
                <a:solidFill>
                  <a:srgbClr val="000000"/>
                </a:solidFill>
                <a:latin typeface="Century Schoolbook"/>
              </a:rPr>
              <a:t>обзорные э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кскурсии по постоянной экспозиции, по залу временных выставок, а также </a:t>
            </a:r>
            <a:r>
              <a:rPr b="1" lang="ru-RU" sz="1200" spc="-1" strike="noStrike">
                <a:solidFill>
                  <a:srgbClr val="000000"/>
                </a:solidFill>
                <a:latin typeface="Century Schoolbook"/>
              </a:rPr>
              <a:t>тематические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экскурсии по следующим разделам: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Западноевропейское искусство 16-19 веков (Италия, Испания, Германия. Франция, Голландия, Фландрия).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Декоративно-прикладное искусство (западноевропейский и русский фарфор, стекло, художественная бронза, мебель).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Древнерусское искусство.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Русское искусство 18 века.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Русское искусство первой половины 19 века.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Русское искусство второй половины 19 века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5" name="Picture 4" descr=""/>
          <p:cNvPicPr/>
          <p:nvPr/>
        </p:nvPicPr>
        <p:blipFill>
          <a:blip r:embed="rId1"/>
          <a:stretch/>
        </p:blipFill>
        <p:spPr>
          <a:xfrm>
            <a:off x="500040" y="378612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"/>
          <p:cNvPicPr/>
          <p:nvPr/>
        </p:nvPicPr>
        <p:blipFill>
          <a:blip r:embed="rId2"/>
          <a:stretch/>
        </p:blipFill>
        <p:spPr>
          <a:xfrm>
            <a:off x="4500720" y="2857680"/>
            <a:ext cx="378612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Прямоугольник 3" descr=""/>
          <p:cNvPicPr/>
          <p:nvPr/>
        </p:nvPicPr>
        <p:blipFill>
          <a:blip r:embed="rId1"/>
          <a:stretch/>
        </p:blipFill>
        <p:spPr>
          <a:xfrm>
            <a:off x="244440" y="731880"/>
            <a:ext cx="8886960" cy="11523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"/>
          <p:cNvPicPr/>
          <p:nvPr/>
        </p:nvPicPr>
        <p:blipFill>
          <a:blip r:embed="rId2"/>
          <a:stretch/>
        </p:blipFill>
        <p:spPr>
          <a:xfrm>
            <a:off x="1143000" y="2352600"/>
            <a:ext cx="5572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08:03:59Z</dcterms:created>
  <dc:creator>BEST</dc:creator>
  <dc:description/>
  <dc:language>en-US</dc:language>
  <cp:lastModifiedBy>Ветер 2</cp:lastModifiedBy>
  <dcterms:modified xsi:type="dcterms:W3CDTF">2012-01-27T15:07:58Z</dcterms:modified>
  <cp:revision>7</cp:revision>
  <dc:subject/>
  <dc:title> </dc:title>
</cp:coreProperties>
</file>