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9E4-7C81-4AF1-868A-9056A270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C5E-18A6-4B18-BD0E-E1CDC9B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2E8-913F-4F70-AAA4-EBBFF283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B79-8D42-4996-8CCD-98DC9394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136-BF83-4180-8F58-94EB1606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3E49-1D8F-48B3-972B-AE6DD9F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419-67A8-4257-8261-E3AF7457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B65A-7F69-4AF7-8190-3B994E5F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85D4-0F95-431A-B216-0CA7129F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17D6-1CBC-49A7-99F1-716B64F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5FEB-0675-4D51-9289-0787729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947-FF8A-40E1-A165-E879EEB0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1FB-36C2-458C-845A-C843EC2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9C0-EB36-4C47-9F67-28770D2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4D1-BCFE-467C-A823-1A76991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8CA0-A4C9-466F-86F5-3F0981E9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82B7-3E54-441A-BCDA-C36F0871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BF03F-630A-4AE5-85A9-B40F1870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34165-1855-41BD-919C-6316256F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F731A-1AA0-4794-8EF8-A5DE853F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7C2A1-9C0F-4404-BE40-CAA1085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B1090-1E91-4B45-B8AB-AC38571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9C7-00CA-485F-938A-776C22A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77943-E5E3-4088-9F2A-9666A04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ACD08-D510-4ED4-8F44-9AA3DC5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6A495-2AA8-48CF-B392-1C37E782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4CF17-354E-4422-8344-3EB0F3A8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E7488-8767-4E30-9DA5-8B04FEE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04D47-95C4-4BF8-9C18-49208D15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C3B9F-B9AB-46E8-9643-B58993D5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F0BD-B950-4F3D-943A-BD20961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E61A-4234-4AD0-A5BF-AD0116EE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9435-8DFF-453D-A3D2-B23C32A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CFE-FBBB-4A6A-8263-6EB23340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FF64-E4A1-4960-B06E-62C1BFD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5496-279D-41B3-8E0A-9192598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25DA-65DF-461D-A799-9F04914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F6BD-9619-4A17-8CEF-5A133B79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3B4B-02D2-471F-91D1-BA0B64D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873F-6ABC-4B20-96BF-009D415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0D73-84A7-4BB9-A73F-033F4416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3E6C-B921-408B-9678-08DB7B43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7B1C-B0D5-46C9-840B-CAE2C431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416AA-6477-4CB9-8A03-804877B1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691-2221-465F-8F37-C10F35E6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3260F-DFD8-4E5D-8E40-5AB260D7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1C3FA-3941-42C5-AC1A-CB0D508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6A210-C0D0-45B4-A533-26ABCC9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49E92-3685-4950-9FD8-F022AA7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F85D6-62D7-46EF-A3A6-28AE7B7B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A75EA-751F-4E68-BF84-20094A7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73D3B-F221-47AA-88FE-DEDAB88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F1548-659A-4416-8AAA-1902180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10D62-CADE-48B5-8FEA-16408EDD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82406-8AFF-4DF6-9B45-E70EF045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71A-0A98-4549-823F-81D579E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248C2-D4D3-43A4-90EA-D934E718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B1598-7BE7-465B-9B0D-956A5E48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18097-EB2C-4361-8C1C-1C45322F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92C5C-0545-4D65-9BB0-CF60C85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A287B-DAD2-4B58-8A2E-4B3D4C9F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D29E69-A17D-49DA-9050-CE718B3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4886E-4141-4CE5-9E15-6FBB8388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7CAB4-8AFA-49C7-ADD8-C175D56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5EA64-9B50-42BA-9F7E-579228B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5091C-1334-43D4-ACDA-8B8423F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B00-1ADC-458F-8A2A-38178AD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4FC36-39A0-4F1D-B69C-0FB15F3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8DAF7-A29E-428B-9C1E-C9E962EF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9A1DD-CDD0-49A8-92A9-777391BF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E94C1-4D07-45A8-8D63-932DA2B3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12210-1BFA-478B-855C-21A9495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B1734-2532-4D0A-BEF8-CD567693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3F1EB-4E54-4603-9F46-43B2C860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EEC2D-71C7-470A-9610-B19CA43A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D1EB9-3269-43F9-B118-7BE8CD0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04A40-C8FD-4FE2-8B15-01A2C9D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051-991A-49BC-A832-5CBCEF57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FA6A9-4DCB-421E-87E3-93C92F4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EDC4E-C4CB-4D0D-8505-3B3D07E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D66AC-E1DF-46D5-B6E0-3BDFACDE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D27FF-1A81-468D-848C-CA4E6750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75CC2-772E-4E54-98F8-41BE9339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26C-0F3F-4B9C-BCF5-B29AF49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0E2-71A5-43C6-A301-E716965F4D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C952-A759-4305-AA19-BA63DF6BE5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2D7-5436-4C3B-A3B2-ED3229D27D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D7CF-FC0C-4487-A156-315B313206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7DF-ED2A-4AC6-9101-6F953A9481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63C8-40A8-4E71-8D84-1FCE2609BB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11F2-61ED-437B-AE62-21651827EA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4920" y="464760"/>
            <a:ext cx="76723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Прямоугольник 5" descr=""/>
          <p:cNvPicPr/>
          <p:nvPr/>
        </p:nvPicPr>
        <p:blipFill>
          <a:blip r:embed="rId1"/>
          <a:stretch/>
        </p:blipFill>
        <p:spPr>
          <a:xfrm>
            <a:off x="1504800" y="804960"/>
            <a:ext cx="67611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УЗЕЙ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"УСАДЬБА НАРОДНОГО ХУДОЖНИКА СССР А.А. ПЛАСТОВ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286000" y="2608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5"/>
          <p:cNvSpPr/>
          <p:nvPr/>
        </p:nvSpPr>
        <p:spPr>
          <a:xfrm>
            <a:off x="1341000" y="600084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льяновская область, Карсунский район, с. Прислоних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928440" y="142920"/>
            <a:ext cx="7715160" cy="63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1988 году в селе Прислониха Карсунского района был открыт мемориально-документальный музей А.А. Пластова. Этому предшествовали долгие годы изысканий, научных исследований, размышлений, каким должен быть музей, и перспективы развития музея, усадьбы природоохранных зон архитектурно-ландшафтного заповедни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85840" y="3000240"/>
            <a:ext cx="3765600" cy="25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5000760" y="2357280"/>
            <a:ext cx="31953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71400" y="356760"/>
            <a:ext cx="542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ПИСАНИЕ  МУЗЕ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71720" y="1071720"/>
            <a:ext cx="68529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Экспозиция музея А.А. Пластова размещается в здании Правления бывшего колхоза им. М.И. Калинина, где Аркадий Александрович работал ряд лет в качестве писаря сельского Совета и секретаря Комбеда. Неизгладимое впечатление оставляют фризом венчающие экспозицию крупноформатные художественные фотографии односельчан, самого Аркадия Александровича, его друзей, выполненные сыном Николаем Аркадьевичем Пластовым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3929040" y="300024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витринах размещены подлинные вещи из мастерской Аркадия Александровича: его палитра, тюбики с красками, лаки, корневая скульптура, различные предметы художественного творчества и "волшебные" кисти мастера. Рядом - этюдник - друг прогулок по лесам и полям окрестных сёл; складной походный стульчик и большой полотняный зонт, который укрывал его от жаркого солнца или летнего дождя во время работы на пленэре. В экспозиции также можно познакомиться с рабочими альбомами А.А. Пластова, заполненными его рисунками, набросками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33908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СНОВНЫЕ ЭКСКУРСИ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56760" y="928440"/>
            <a:ext cx="7567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В художественном музее вниманию посетителей предлагаются 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обзорные э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скурсии по постоянной экспозиции, по залу временных выставок, а также 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тематические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экскурсии по следующим разделам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Западноевропейское искусство 16-19 веков (Италия, Испания, Германия. Франция, Голландия, Фландрия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екоративно-прикладное искусство (западноевропейский и русский фарфор, стекло, художественная бронза, мебель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ревнерусское искусство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18 ве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первой половины 19 ве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второй половины 19 век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500040" y="3786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3786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731880"/>
            <a:ext cx="8886960" cy="115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1143000" y="2352600"/>
            <a:ext cx="557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8:03:59Z</dcterms:created>
  <dc:creator>BEST</dc:creator>
  <dc:description/>
  <dc:language>en-US</dc:language>
  <cp:lastModifiedBy>Ветер 2</cp:lastModifiedBy>
  <dcterms:modified xsi:type="dcterms:W3CDTF">2012-01-27T15:07:58Z</dcterms:modified>
  <cp:revision>7</cp:revision>
  <dc:subject/>
  <dc:title> </dc:title>
</cp:coreProperties>
</file>