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958-6F19-45C9-9DB5-055623EE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047-7B76-4359-ACAC-84E5A751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019-AD10-41B5-A640-E6E63287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BBD-7326-403B-B64E-F7AF093E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8BC6-C9BD-46C1-A136-55F6B580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AB6-AAE0-4FEA-A0DC-4AAC33D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E879-F350-4A67-B7AC-895C89B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A2B5-9C98-4066-831C-1C9EDC2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67D2-4531-43C7-A74A-9E61DB3D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7996-11C5-4589-9D10-09CCF03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3A8-9735-4B7C-B347-9D62295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3E0-A71F-48F2-86FB-672EFE86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346-43CA-489D-9B64-50C402F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98F-29C4-4F9A-B31C-CCCD9B0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4E2B-F8FF-4DA9-8345-88D308B7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C9B0-3318-40C9-AB1C-7775593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ECBE-E050-4477-95F6-C571AEAB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B85-03A0-4EC9-B08A-D025964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921-C304-4091-A9B9-B3853D3F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C81-C081-4B9E-9447-3E65E74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17A-1FF4-4EE3-858A-18BADC7E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A23-47A6-4485-9EE0-5E9E75A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013-FC41-4820-8C17-A1B8943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37B-278F-4867-B0CC-F71610D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9C47-2799-4F6D-A027-EDAC93325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7D46-18F7-462F-8F71-317F9D036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836280"/>
            <a:ext cx="6253200" cy="28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втор: Оспенникова М.П., учитель естествознания, ГС(К)ОУ (8 вида) школы № 46, С-Пб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43280" y="1341360"/>
            <a:ext cx="599904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н и его знач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аблица 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2400" y="2599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здание швейной машин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мериканец Илайес Хоу долго работал над созданием швейной машинки. Осталась мелочь – игла. . 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79640" y="5084640"/>
            <a:ext cx="2378160" cy="1522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01840" cy="2281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0360" y="4941720"/>
            <a:ext cx="2016360" cy="133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68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68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Гигиена с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Ложиться надо в одно и то же врем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Перед сном проветрить помещение, сходить на прогул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Ужинать за 1,5 – 2 часа до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остель должна быть чистой и удобной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Спать лучше на правом бо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койной ночи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19360" y="20923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904000" y="404640"/>
            <a:ext cx="3240000" cy="2419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403280" y="4714920"/>
            <a:ext cx="2664000" cy="1992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3359160" cy="2912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724360" y="3716280"/>
            <a:ext cx="3419640" cy="271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ользованные Интернет ресур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/images.yandex.ru/yandsearch?p=1&amp;text=сон и гигиена сна&amp;ed=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менделеева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ломоносов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Определ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Знач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Сновид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ророческие сны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Гигиена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Что такое сон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584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он – состояние нервной системы, при котором отключается активная работа коры головного мозга, замедляются процессы кровообращения, дыхания, расслабляются мышц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05120" cy="216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4360" y="3716280"/>
            <a:ext cx="1628640" cy="22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Значение с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Сон предохраняет нервную систему и весь организм от переутомления.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88080" cy="331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нови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800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се люди видят сны. Это связано с тем, что работа головного мозга во сне полностью не прекращается. Обычно человеку снится то, что с ним происходило, что его волнует. Иногда мысли путаются и тогда мы видим фантастические сн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1440"/>
            <a:ext cx="2581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08720" y="2205000"/>
            <a:ext cx="1673280" cy="2281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Вещие с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ревний Ри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Жена Гая Юлия Цезаря увидела во сне, что ее муж будет завтра убит в Сенате. Она умоляла его не идти туда. Но он пошел и 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Убийство Г.Ю.Цезаря в Сена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  М.В.Ломонос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а борту шхуны «Святая Мария» он плыл из Гамбурга  в Санкт-Петербург. Снится сон, что он на безлюдном острове бежит по ледяной воде и находит труп своего отц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89560" y="1523880"/>
            <a:ext cx="3533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Д.И.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295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.И.Менделеев – знаменитый химик очень долго не мог объединить в систему изученные химические элементы. Ему приснился сон, где они стояли в определенной таблиц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7115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32:41Z</dcterms:created>
  <dc:creator>Прускиня</dc:creator>
  <dc:description/>
  <dc:language>en-US</dc:language>
  <cp:lastModifiedBy>Прускиня</cp:lastModifiedBy>
  <dcterms:modified xsi:type="dcterms:W3CDTF">2011-04-18T18:54:17Z</dcterms:modified>
  <cp:revision>5</cp:revision>
  <dc:subject/>
  <dc:title>Слайд 1</dc:title>
</cp:coreProperties>
</file>