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2E59-4A24-4C70-A366-40741359F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5BA4-3696-4CE7-8DBD-444837F27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F559-8818-429F-8434-A9FBDE273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027E-E245-425A-A936-16F85A0A9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5B633-7773-47FB-872D-A4375BA32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ADEE6-29BB-4DA9-A392-F82BCFF8D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A3AC8-D361-4EE3-B1F7-A1082072B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D1317-C8C6-43CE-A44D-89555F6B6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1E13C-7A65-42C9-A5AD-729D5CE08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D5A23-BA81-4CF7-9061-E5D260D0D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4E3AF-6176-4D75-9886-BF781E52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9455-A84A-4AF5-9DFC-EE02708EA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634B7-5053-4032-A469-CB2925CA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D0343-B705-452E-BDC6-ABFFB028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D06DB-55A3-4C09-83F1-8DB26BC18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0481A-1931-4D4F-81E9-2792F2AC5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01E73-F52A-4184-BFD9-4E9A6318D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829A-9CD0-418B-A84C-1DE5E679F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F943-E827-4871-81CB-797E29033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DF5F-8888-4478-8057-AD22DD176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BDC4-EBEC-46A8-B962-326797115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E73D-8B9E-4B22-8A71-44776845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3644-6608-4BA3-9592-D7E765B8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26E1-3B65-4995-B84E-C59CAFEB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B4B3E-8441-4ECF-9116-C63B966F5C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27DD5-9C02-4FA0-8518-4DCBA00ED4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836280"/>
            <a:ext cx="6253200" cy="287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4124160"/>
            <a:ext cx="624996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Автор: Оспенникова М.П., учитель естествознания, ГС(К)ОУ (8 вида) школы № 46, С-Пб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843280" y="1341360"/>
            <a:ext cx="5999040" cy="194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н и его значен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Таблица Менделеев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500120" y="152388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2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4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cc00"/>
                                      </p:to>
                                    </p:animClr>
                                    <p:animClr clrSpc="rgb">
                                      <p:cBhvr>
                                        <p:cTn id="1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00"/>
                                      </p:to>
                                    </p:animClr>
                                    <p:set>
                                      <p:cBhvr>
                                        <p:cTn id="1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5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652400" y="25992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Создание швейной машинк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Американец Илайес Хоу долго работал над созданием швейной машинки. Осталась мелочь – игла. . 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979640" y="5084640"/>
            <a:ext cx="2378160" cy="15224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6156360" y="1628640"/>
            <a:ext cx="2301840" cy="22813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5940360" y="4941720"/>
            <a:ext cx="2016360" cy="1339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768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" dur="768" fill="hold"/>
                                        <p:tgtEl>
                                          <p:spTgt spid="1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1" dur="768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3" dur="768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5" dur="2000" fill="hold"/>
                                        <p:tgtEl>
                                          <p:spTgt spid="1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Гигиена с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1. Ложиться надо в одно и то же время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2. Перед сном проветрить помещение, сходить на прогулку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3. Ужинать за 1,5 – 2 часа до сна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4. Постель должна быть чистой и удобной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5. Спать лучше на правом боку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покойной ночи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619360" y="2092320"/>
            <a:ext cx="1428840" cy="1143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5904000" y="404640"/>
            <a:ext cx="3240000" cy="24195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1403280" y="4714920"/>
            <a:ext cx="2664000" cy="19922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2195640" y="1413000"/>
            <a:ext cx="3359160" cy="29127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5"/>
          <a:stretch/>
        </p:blipFill>
        <p:spPr>
          <a:xfrm>
            <a:off x="5724360" y="3716280"/>
            <a:ext cx="3419640" cy="27129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Использованные Интернет ресурс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/images.yandex.ru/yandsearch?p=1&amp;text=сон и гигиена сна&amp;ed=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yandex.ru/yandsearch?text=таблица+менделеева&amp;lr=2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yandex.ru/yandsearch?text=таблица+ломоносов&amp;lr=2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1. Определение сна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2. Значение сна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3. Сновидения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4. Пророческие сны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5. Гигиена сна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Что такое сон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4584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Сон – состояние нервной системы, при котором отключается активная работа коры головного мозга, замедляются процессы кровообращения, дыхания, расслабляются мышцы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227640" y="1341360"/>
            <a:ext cx="1905120" cy="21621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7164360" y="3716280"/>
            <a:ext cx="1628640" cy="2281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768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" dur="768" fill="hold"/>
                                        <p:tgtEl>
                                          <p:spTgt spid="1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" dur="768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" dur="768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Значение сн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Arial"/>
              </a:rPr>
              <a:t>Сон предохраняет нервную систему и весь организм от переутомления.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003640" y="1916280"/>
            <a:ext cx="3988080" cy="3311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98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98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Сновид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4800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Все люди видят сны. Это связано с тем, что работа головного мозга во сне полностью не прекращается. Обычно человеку снится то, что с ним происходило, что его волнует. Иногда мысли путаются и тогда мы видим фантастические сны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012000" y="1440"/>
            <a:ext cx="2581200" cy="20304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7308720" y="2205000"/>
            <a:ext cx="1673280" cy="22813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Вещие сн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Древний Рим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Жена Гая Юлия Цезаря увидела во сне, что ее муж будет завтра убит в Сенате. Она умоляла его не идти туда. Но он пошел и …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670560" cy="471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68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768" fill="hold"/>
                                        <p:tgtEl>
                                          <p:spTgt spid="1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" dur="768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768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Убийство Г.Ю.Цезаря в Сенате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500120" y="152388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Сон   М.В.Ломоносов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На борту шхуны «Святая Мария» он плыл из Гамбурга  в Санкт-Петербург. Снится сон, что он на безлюдном острове бежит по ледяной воде и находит труп своего отца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389560" y="1523880"/>
            <a:ext cx="353376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Сон Д.И.Менделеев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42958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Д.И.Менделеев – знаменитый химик очень долго не мог объединить в систему изученные химические элементы. Ему приснился сон, где они стояли в определенной таблице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796000" y="1628640"/>
            <a:ext cx="2711520" cy="37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6:32:41Z</dcterms:created>
  <dc:creator>Прускиня</dc:creator>
  <dc:description/>
  <dc:language>en-US</dc:language>
  <cp:lastModifiedBy>Прускиня</cp:lastModifiedBy>
  <dcterms:modified xsi:type="dcterms:W3CDTF">2011-04-18T18:54:17Z</dcterms:modified>
  <cp:revision>5</cp:revision>
  <dc:subject/>
  <dc:title>Слайд 1</dc:title>
</cp:coreProperties>
</file>