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77301-2E63-4076-A1A5-580D25D97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1F57E-45CE-4D75-9781-E118AB3F2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CBED0-14A6-487C-9427-7BC39C43B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92ECD-7E7E-43A9-BACB-729FC97F4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2847A-B100-4C1E-9C75-246247400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0FFCA-9704-4E7C-82B9-C80861FCA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EDDDA-6A05-47F3-9AB2-9899F1F86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82385-AECF-488D-9A23-092ECDA54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40D7A-00AA-4885-BFD8-F472A8EF7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9EF0B-7E27-419C-BF27-2034D9DD7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04A32-3123-450D-AF06-57F73C02C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904AF-075D-4AC0-8F33-602F0B69D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98D20-DAE6-4E62-AD63-DD0338ABE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FF3D2-E3F1-4CFC-99B4-A9E0E22A5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44296-E7DF-412F-B925-682B586B5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75A4A-67BC-49A7-9099-68FD0E2F7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969D5-AB01-4B3E-AD26-78086ED06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EF732-71F9-43EA-B243-715F8E732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AE27C-EA7A-4355-BC08-29E3C0C0A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83733-ADF8-47F3-B677-52A56F0D7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AFB58-43AC-4AAA-AECA-97BA5F5D9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8D532-33CE-4CE4-B613-B4D8AEE5D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E8F4D-6A12-4869-80B4-FFD02CE5A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3D616-3E41-4900-956A-18F08815C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2C677-401E-4474-B7AF-B94C3EAFC00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33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33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33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33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4BFB8-2D87-49CE-9E13-0C8BDDEA304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836280"/>
            <a:ext cx="6253200" cy="2878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4124160"/>
            <a:ext cx="6249960" cy="128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Автор: Оспенникова М.П., учитель естествознания, ГС(К)ОУ (8 вида) школы № 46, С-Пб.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2843280" y="1341360"/>
            <a:ext cx="5999040" cy="194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он и его значение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Таблица Менделеев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1500120" y="152388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mph" presetID="2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14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cc00"/>
                                      </p:to>
                                    </p:animClr>
                                    <p:animClr clrSpc="rgb">
                                      <p:cBhvr>
                                        <p:cTn id="14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cc00"/>
                                      </p:to>
                                    </p:animClr>
                                    <p:set>
                                      <p:cBhvr>
                                        <p:cTn id="15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15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652400" y="25992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Создание швейной машинки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Американец Илайес Хоу долго работал над созданием швейной машинки. Осталась мелочь – игла. . .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1979640" y="5084640"/>
            <a:ext cx="2378160" cy="152244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6156360" y="1628640"/>
            <a:ext cx="2301840" cy="228132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5940360" y="4941720"/>
            <a:ext cx="2016360" cy="13399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768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9" dur="768" fill="hold"/>
                                        <p:tgtEl>
                                          <p:spTgt spid="19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1" dur="768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6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63" dur="768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6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5" dur="2000" fill="hold"/>
                                        <p:tgtEl>
                                          <p:spTgt spid="19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1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Гигиена сн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1. Ложиться надо в одно и то же время.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2. Перед сном проветрить помещение, сходить на прогулку.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3. Ужинать за 1,5 – 2 часа до сна.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4. Постель должна быть чистой и удобной.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5. Спать лучше на правом боку.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0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20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20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20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2000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2000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Спокойной ночи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2619360" y="2092320"/>
            <a:ext cx="1428840" cy="11430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5904000" y="404640"/>
            <a:ext cx="3240000" cy="241956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3"/>
          <a:stretch/>
        </p:blipFill>
        <p:spPr>
          <a:xfrm>
            <a:off x="1403280" y="4714920"/>
            <a:ext cx="2664000" cy="199224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4"/>
          <a:stretch/>
        </p:blipFill>
        <p:spPr>
          <a:xfrm>
            <a:off x="2195640" y="1413000"/>
            <a:ext cx="3359160" cy="291276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5"/>
          <a:stretch/>
        </p:blipFill>
        <p:spPr>
          <a:xfrm>
            <a:off x="5724360" y="3716280"/>
            <a:ext cx="3419640" cy="27129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0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4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Использованные Интернет ресурс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/images.yandex.ru/yandsearch?p=1&amp;text=сон и гигиена сна&amp;ed=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yandex.ru/yandsearch?text=таблица+менделеева&amp;lr=2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yandex.ru/yandsearch?text=таблица+ломоносов&amp;lr=2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Содержани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1. Определение сна.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2. Значение сна.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3. Сновидения.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4. Пророческие сны.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5. Гигиена сна.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8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8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8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Что такое сон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4584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Сон – состояние нервной системы, при котором отключается активная работа коры головного мозга, замедляются процессы кровообращения, дыхания, расслабляются мышцы.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6227640" y="1341360"/>
            <a:ext cx="1905120" cy="216216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7164360" y="3716280"/>
            <a:ext cx="1628640" cy="22813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768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2" dur="768" fill="hold"/>
                                        <p:tgtEl>
                                          <p:spTgt spid="16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4" dur="768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6" dur="768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Значение сна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Arial"/>
              </a:rPr>
              <a:t>Сон предохраняет нервную систему и весь организм от переутомления.</a:t>
            </a:r>
            <a:endParaRPr b="1" lang="en-US" sz="36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5003640" y="1916280"/>
            <a:ext cx="3988080" cy="33112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898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898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Сновиде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4800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Все люди видят сны. Это связано с тем, что работа головного мозга во сне полностью не прекращается. Обычно человеку снится то, что с ним происходило, что его волнует. Иногда мысли путаются и тогда мы видим фантастические сны.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6012000" y="1440"/>
            <a:ext cx="2581200" cy="203040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7308720" y="2205000"/>
            <a:ext cx="1673280" cy="228132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Вещие сн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Древний Рим.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Жена Гая Юлия Цезаря увидела во сне, что ее муж будет завтра убит в Сенате. Она умоляла его не идти туда. Но он пошел и …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670560" cy="47149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768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6" dur="768" fill="hold"/>
                                        <p:tgtEl>
                                          <p:spTgt spid="17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8" dur="768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0" dur="768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Times New Roman"/>
              </a:rPr>
              <a:t>Убийство Г.Ю.Цезаря в Сенате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1500120" y="152388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Сон   М.В.Ломоносов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На борту шхуны «Святая Мария» он плыл из Гамбурга  в Санкт-Петербург. Снится сон, что он на безлюдном острове бежит по ледяной воде и находит труп своего отца.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5389560" y="1523880"/>
            <a:ext cx="353376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2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Сон Д.И.Менделеев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429588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Д.И.Менделеев – знаменитый химик очень долго не мог объединить в систему изученные химические элементы. Ему приснился сон, где они стояли в определенной таблице.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5796000" y="1628640"/>
            <a:ext cx="2711520" cy="370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8T16:32:41Z</dcterms:created>
  <dc:creator>Прускиня</dc:creator>
  <dc:description/>
  <dc:language>en-US</dc:language>
  <cp:lastModifiedBy>Прускиня</cp:lastModifiedBy>
  <dcterms:modified xsi:type="dcterms:W3CDTF">2011-04-18T18:54:17Z</dcterms:modified>
  <cp:revision>5</cp:revision>
  <dc:subject/>
  <dc:title>Слайд 1</dc:title>
</cp:coreProperties>
</file>