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F1F-8FFE-4035-A2B8-41A2231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540-3E1B-4019-8E8D-17798A55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85E-3E7D-4363-BCFE-A8B3C95C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1ED-E1CE-44B3-99B7-A71D3404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05B-FA90-4B4B-9023-264C493C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509-262E-4785-9BF6-C3906A52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554-7456-4EC5-9BED-1DF6596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13A-091E-42DF-8E36-DCB673B9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090-0488-44C1-9394-782E233C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60E-8087-42FF-A403-4DF19EA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A66-D1ED-4B79-ADAF-A98AC5E3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1CA-A4B7-4EE2-BFFA-5CFA0FE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213D-74FD-4269-91D8-4E6E03B2F6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0"/>
            <a:ext cx="9144000" cy="67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Государственное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среднего  профессион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Моск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«Ликино-Дулевский индустриальны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по истории России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«Создание государства на Рус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                     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Преподаватель: Сахарова Л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201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2322360" y="2189160"/>
            <a:ext cx="445644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480" y="285840"/>
            <a:ext cx="8429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Ведущим племенным союзом, ставшим во главе южнорусского предгосударственного объедине-ния, являлись поляне, представ-ленные в древнейшей летописи как более культурное племя по отношению к «некультурным» древлянам, радимичам, вятичам и северян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В «Повести временных лет» Нестор повествует о том, как был создан город Киев. Княживший там князь Кий, по рассказу Нестора, приезжал в Константинополь в гости к императору Византии, который принял его с большими почестями. Возвращаясь из Константинополя, Кий построил город на берегу Дуная, предполагая обосноваться здесь надолго. Но местные жители враждебно отнеслись к нему, и Кий вернулся на берега Днеп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1 из 7640"/>
          <p:cNvPicPr/>
          <p:nvPr/>
        </p:nvPicPr>
        <p:blipFill>
          <a:blip r:embed="rId1"/>
          <a:stretch/>
        </p:blipFill>
        <p:spPr>
          <a:xfrm>
            <a:off x="2643120" y="1643040"/>
            <a:ext cx="4143600" cy="5000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19 из 147640"/>
          <p:cNvPicPr/>
          <p:nvPr/>
        </p:nvPicPr>
        <p:blipFill>
          <a:blip r:embed="rId1"/>
          <a:stretch/>
        </p:blipFill>
        <p:spPr>
          <a:xfrm>
            <a:off x="214200" y="1071720"/>
            <a:ext cx="4429080" cy="55051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30240"/>
            <a:ext cx="9156960" cy="1073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4929120" y="1214280"/>
            <a:ext cx="3714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ложение первобытнообщинного строя у восточных славян происходило в то время, когда рабовладельческий строй уже изжил себя во всемирно-историческом масштабе. В процессе классообразования Русь пришла к феодализму, минуя рабовладельческую 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6 из 1371"/>
          <p:cNvPicPr/>
          <p:nvPr/>
        </p:nvPicPr>
        <p:blipFill>
          <a:blip r:embed="rId1"/>
          <a:stretch/>
        </p:blipFill>
        <p:spPr>
          <a:xfrm>
            <a:off x="1071720" y="1357200"/>
            <a:ext cx="7048440" cy="5286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165240"/>
            <a:ext cx="915696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43320" y="1499760"/>
            <a:ext cx="3786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 центре нового государственного обра-зования оказалось пле-мя полян. Древне-русское государство стало своеобразной федерацией племен, по своей форме это была раннефеодальная монарх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s50.radikal.ru/i127/1007/29/180f32bc3382.jpg"/>
          <p:cNvPicPr/>
          <p:nvPr/>
        </p:nvPicPr>
        <p:blipFill>
          <a:blip r:embed="rId1"/>
          <a:stretch/>
        </p:blipFill>
        <p:spPr>
          <a:xfrm>
            <a:off x="285840" y="214200"/>
            <a:ext cx="5160960" cy="6286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3840" y="221472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 IX-Х вв. формируются антагонистические классы феодального общества. Повсеместно увеличивается количество дружинников, усиливается их дифференциация, идёт выделение из их среды знати - бояр и кня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Картинка 28 из 1696"/>
          <p:cNvPicPr/>
          <p:nvPr/>
        </p:nvPicPr>
        <p:blipFill>
          <a:blip r:embed="rId1"/>
          <a:stretch/>
        </p:blipFill>
        <p:spPr>
          <a:xfrm>
            <a:off x="285840" y="928800"/>
            <a:ext cx="4500360" cy="5214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7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025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5000760" y="1857240"/>
            <a:ext cx="36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Игорь Рюрикович – 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еликий Князь Кие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Годы жизни: около 878-94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Годы правления: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912-9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 Новгородской первой летописи при захвате Киева в 882 году Игорь выступает уже в роли взрослого прав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2 из 2248"/>
          <p:cNvPicPr/>
          <p:nvPr/>
        </p:nvPicPr>
        <p:blipFill>
          <a:blip r:embed="rId1"/>
          <a:stretch/>
        </p:blipFill>
        <p:spPr>
          <a:xfrm>
            <a:off x="295200" y="428760"/>
            <a:ext cx="4133880" cy="601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7" name="Rectangle 1"/>
          <p:cNvSpPr/>
          <p:nvPr/>
        </p:nvSpPr>
        <p:spPr>
          <a:xfrm>
            <a:off x="4643280" y="145188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Княгиня Ольга Св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Годы жизн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: ?-96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Годы правлени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: 945-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Великая княгиня Ольга, в крещении Елена. Святая Русской православной церкви, первая из пра-вителей Руси приняла христианство еще до Крещения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000400" y="1285920"/>
            <a:ext cx="3857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вятослав Игоревич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Годы жизни: 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942-97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Годы правления: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 966-97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Полководец, Великий князь киевский, князь новгородск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ын князя </a:t>
            </a:r>
            <a:r>
              <a:rPr b="0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Игоря Рюриковича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 и княгини </a:t>
            </a:r>
            <a:r>
              <a:rPr b="0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Ольги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а 2 из 5014"/>
          <p:cNvPicPr/>
          <p:nvPr/>
        </p:nvPicPr>
        <p:blipFill>
          <a:blip r:embed="rId1"/>
          <a:stretch/>
        </p:blipFill>
        <p:spPr>
          <a:xfrm>
            <a:off x="285840" y="285840"/>
            <a:ext cx="4514760" cy="6286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42600" y="714240"/>
            <a:ext cx="7715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 964 г. Святослав начинает жестокую борьбу против Хазарского каганата. Он освобождает от власти хазар земли вятичей и подчиняет последних Киеву.  Одерживает победы над волжскими булгарами, северокавказскими пле-менами ясов, касогов, кабардинцев, черкесов, адыгейцев; положил начало русскому Тьму-тараканскому княжеств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есной 972 г., у днепровских порогов (на острове Хортица), Святослав попал в засаду и погиб вместе с дружиной в неравном бою с печенегами. По преданию, хан  Куря сделал из черепа Святослава чашу и, в знак своей воинской доблести, пил только из не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9 из 2105"/>
          <p:cNvPicPr/>
          <p:nvPr/>
        </p:nvPicPr>
        <p:blipFill>
          <a:blip r:embed="rId1"/>
          <a:stretch/>
        </p:blipFill>
        <p:spPr>
          <a:xfrm>
            <a:off x="285840" y="1500120"/>
            <a:ext cx="4546440" cy="5143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65240"/>
            <a:ext cx="9156960" cy="165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57840" y="1571760"/>
            <a:ext cx="40003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Ценнейшим памят-ником, содержа-щим сведения о начале Древне-русского государст-ва, является лето-писный свод «По-вести временных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99680" y="928440"/>
            <a:ext cx="8258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торию Киевской Руси, хронологические рамки 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— начало Х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.,  можно  разделить на три больших пери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1.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серед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. - время первых киевских княз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2. Втор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перв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I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. - время Владимира и Ярослава Мудр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3. Период втор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I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начало Х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. - переход к территориально-политической раздробл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90000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6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91569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personalguide.ru/cache/images/upload/2009/12/10/ab79d1e33c22fe154a6ba6f46acd9d27_1024_0.jpg"/>
          <p:cNvPicPr/>
          <p:nvPr/>
        </p:nvPicPr>
        <p:blipFill>
          <a:blip r:embed="rId1"/>
          <a:stretch/>
        </p:blipFill>
        <p:spPr>
          <a:xfrm>
            <a:off x="357120" y="1214280"/>
            <a:ext cx="4286160" cy="5311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>
            <a:off x="4571640" y="1428840"/>
            <a:ext cx="4357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Откуда пошла земля Русская, и кто в Киеве начал первый княжить, и откуда Русская земля стала, мы узнали из «Повести временных лет», составленной киевским монахом Нестором около 1113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-109440" y="36360"/>
            <a:ext cx="9393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4200" y="1928520"/>
            <a:ext cx="3500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 «Повести временных лет» Нестор повест-вует о расселе-нии в древности западных и вос-точных славян в Евро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ebed.com/2009/5471.jpg"/>
          <p:cNvPicPr/>
          <p:nvPr/>
        </p:nvPicPr>
        <p:blipFill>
          <a:blip r:embed="rId1"/>
          <a:stretch/>
        </p:blipFill>
        <p:spPr>
          <a:xfrm>
            <a:off x="3929040" y="500040"/>
            <a:ext cx="5033880" cy="6053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840" y="21420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В середине IX в. на территории будущей Северо-Западной Руси (Новгородская и Псковская земли) формируется межплеменное объединение, включающее словен, кривичей, чудь, мерю и, возможно, вес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si-shitova.ucoz.kz/Blog/cache_2656215463.jpg"/>
          <p:cNvPicPr/>
          <p:nvPr/>
        </p:nvPicPr>
        <p:blipFill>
          <a:blip r:embed="rId1"/>
          <a:stretch/>
        </p:blipFill>
        <p:spPr>
          <a:xfrm>
            <a:off x="1714680" y="1643040"/>
            <a:ext cx="6408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120" y="17859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Это объединение принято называть «северной конфедерацией племен» или «северным союзом племен», и именно от него, если верить «Повести временных лет», исходила инициатива призвания правителя (Рюрика) «со сторон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g15.nnm.ru/7/9/b/a/0/6a9a6ab48264de43f89ec6a8d09.jpg"/>
          <p:cNvPicPr/>
          <p:nvPr/>
        </p:nvPicPr>
        <p:blipFill>
          <a:blip r:embed="rId1"/>
          <a:stretch/>
        </p:blipFill>
        <p:spPr>
          <a:xfrm>
            <a:off x="1928880" y="3071880"/>
            <a:ext cx="5135400" cy="3000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853920" y="262080"/>
            <a:ext cx="7723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pravdasilakr.narod.ru/v3.files/image003.gif"/>
          <p:cNvPicPr/>
          <p:nvPr/>
        </p:nvPicPr>
        <p:blipFill>
          <a:blip r:embed="rId1"/>
          <a:srcRect l="2418" t="1404" r="55646" b="4521"/>
          <a:stretch/>
        </p:blipFill>
        <p:spPr>
          <a:xfrm>
            <a:off x="428760" y="571680"/>
            <a:ext cx="371448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юрик, основатель Древнерусского госуда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городский князь – 862-8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стия – Рюрикови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ын - Иго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greatprovince.com/uploads/Rjurik,_Sineus_ja_Truvor.jpg"/>
          <p:cNvPicPr/>
          <p:nvPr/>
        </p:nvPicPr>
        <p:blipFill>
          <a:blip r:embed="rId1"/>
          <a:stretch/>
        </p:blipFill>
        <p:spPr>
          <a:xfrm>
            <a:off x="1285920" y="1571760"/>
            <a:ext cx="6429240" cy="4879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:\распечатать\Кл.час Создание Государственности на Руси\Рисунок1.jpg"/>
          <p:cNvPicPr/>
          <p:nvPr/>
        </p:nvPicPr>
        <p:blipFill>
          <a:blip r:embed="rId1"/>
          <a:srcRect l="0" t="20412" r="0" b="0"/>
          <a:stretch/>
        </p:blipFill>
        <p:spPr>
          <a:xfrm>
            <a:off x="928800" y="1571760"/>
            <a:ext cx="7000920" cy="4178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480" y="21384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ервые князья дома Рюриковичей: Рюрик, Олег и Иго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3:54:40Z</dcterms:created>
  <dc:creator>Admin</dc:creator>
  <dc:description/>
  <dc:language>en-US</dc:language>
  <cp:lastModifiedBy>Admin</cp:lastModifiedBy>
  <dcterms:modified xsi:type="dcterms:W3CDTF">2013-12-29T16:23:07Z</dcterms:modified>
  <cp:revision>117</cp:revision>
  <dc:subject/>
  <dc:title>Слайд 1</dc:title>
</cp:coreProperties>
</file>