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F07-7103-4036-ACC6-FE21FC89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E30-24EA-470C-A328-FFB369EB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D4C-9EF1-4BC4-A898-F1EAE4CE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326-9CD5-44F2-9E00-AA891084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825-BAAD-4366-9669-A1EDD099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C69-BB92-49ED-B959-175B17AD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99D-33BC-4C4C-9745-864FEC05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DF1-A3B8-4657-B3AD-20DEBA65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8D1-102D-40B8-9033-DF6E5353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CEF-E2F8-4070-ACFB-1E4225D1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7CA-7E7E-4406-8A6A-6B7A40B1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66A-2A92-4882-95E3-F418D86F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5356-B33F-4A05-9D7B-DC1A535D5F2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0"/>
            <a:ext cx="9144000" cy="67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Государственное бюджет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среднего  профессион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Моск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«Ликино-Дулевский индустриальны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по истории России на те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«Создание государства на Рус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 Black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                     </a:t>
            </a: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Преподаватель: Сахарова Л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201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7030a0"/>
                </a:solidFill>
                <a:latin typeface="Arial Black"/>
              </a:rPr>
              <a:t>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2322360" y="2189160"/>
            <a:ext cx="4456440" cy="10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500"/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85480" y="285840"/>
            <a:ext cx="8429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Ведущим племенным союзом, ставшим во главе южнорусского предгосударственного объедине-ния, являлись поляне, представ-ленные в древнейшей летописи как более культурное племя по отношению к «некультурным» древлянам, радимичам, вятичам и северяна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В «Повести временных лет» Нестор повествует о том, как был создан город Киев. Княживший там князь Кий, по рассказу Нестора, приезжал в Константинополь в гости к императору Византии, который принял его с большими почестями. Возвращаясь из Константинополя, Кий построил город на берегу Дуная, предполагая обосноваться здесь надолго. Но местные жители враждебно отнеслись к нему, и Кий вернулся на берега Днеп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Картинка 1 из 7640"/>
          <p:cNvPicPr/>
          <p:nvPr/>
        </p:nvPicPr>
        <p:blipFill>
          <a:blip r:embed="rId1"/>
          <a:stretch/>
        </p:blipFill>
        <p:spPr>
          <a:xfrm>
            <a:off x="2643120" y="1643040"/>
            <a:ext cx="4143600" cy="5000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Картинка 19 из 147640"/>
          <p:cNvPicPr/>
          <p:nvPr/>
        </p:nvPicPr>
        <p:blipFill>
          <a:blip r:embed="rId1"/>
          <a:stretch/>
        </p:blipFill>
        <p:spPr>
          <a:xfrm>
            <a:off x="214200" y="1071720"/>
            <a:ext cx="4429080" cy="550512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30240"/>
            <a:ext cx="9156960" cy="1073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4929120" y="1214280"/>
            <a:ext cx="3714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Разложение первобытнообщинного строя у восточных славян происходило в то время, когда рабовладельческий строй уже изжил себя во всемирно-историческом масштабе. В процессе классообразования Русь пришла к феодализму, минуя рабовладельческую 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артинка 6 из 1371"/>
          <p:cNvPicPr/>
          <p:nvPr/>
        </p:nvPicPr>
        <p:blipFill>
          <a:blip r:embed="rId1"/>
          <a:stretch/>
        </p:blipFill>
        <p:spPr>
          <a:xfrm>
            <a:off x="1071720" y="1357200"/>
            <a:ext cx="7048440" cy="5286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9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165240"/>
            <a:ext cx="915696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143320" y="1499760"/>
            <a:ext cx="3786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В центре нового государственного обра-зования оказалось пле-мя полян. Древне-русское государство стало своеобразной федерацией племен, по своей форме это была раннефеодальная монарх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s50.radikal.ru/i127/1007/29/180f32bc3382.jpg"/>
          <p:cNvPicPr/>
          <p:nvPr/>
        </p:nvPicPr>
        <p:blipFill>
          <a:blip r:embed="rId1"/>
          <a:stretch/>
        </p:blipFill>
        <p:spPr>
          <a:xfrm>
            <a:off x="285840" y="214200"/>
            <a:ext cx="5160960" cy="62866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3840" y="221472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 IX-Х вв. формируются антагонистические классы феодального общества. Повсеместно увеличивается количество дружинников, усиливается их дифференциация, идёт выделение из их среды знати - бояр и княз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Картинка 28 из 1696"/>
          <p:cNvPicPr/>
          <p:nvPr/>
        </p:nvPicPr>
        <p:blipFill>
          <a:blip r:embed="rId1"/>
          <a:stretch/>
        </p:blipFill>
        <p:spPr>
          <a:xfrm>
            <a:off x="285840" y="928800"/>
            <a:ext cx="4500360" cy="5214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74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0252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5000760" y="1857240"/>
            <a:ext cx="3643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Игорь Рюрикович – 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Великий Князь Киев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Годы жизни: около 878-94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Годы правления: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912-94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В Новгородской первой летописи при захвате Киева в 882 году Игорь выступает уже в роли взрослого прав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2 из 2248"/>
          <p:cNvPicPr/>
          <p:nvPr/>
        </p:nvPicPr>
        <p:blipFill>
          <a:blip r:embed="rId1"/>
          <a:stretch/>
        </p:blipFill>
        <p:spPr>
          <a:xfrm>
            <a:off x="295200" y="428760"/>
            <a:ext cx="4133880" cy="6013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7" name="Rectangle 1"/>
          <p:cNvSpPr/>
          <p:nvPr/>
        </p:nvSpPr>
        <p:spPr>
          <a:xfrm>
            <a:off x="4643280" y="145188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Княгиня Ольга Св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 Black"/>
                <a:ea typeface="Times New Roman"/>
              </a:rPr>
              <a:t>Годы жизни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: ?-96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 Black"/>
                <a:ea typeface="Times New Roman"/>
              </a:rPr>
              <a:t>Годы правлени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: 945-9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Великая княгиня Ольга, в крещении Елена. Святая Русской православной церкви, первая из пра-вителей Руси приняла христианство еще до Крещения 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000400" y="1285920"/>
            <a:ext cx="3857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Святослав Игоревич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Arial Black"/>
              </a:rPr>
              <a:t>Годы жизни: 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942-972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2060"/>
                </a:solidFill>
                <a:uFillTx/>
                <a:latin typeface="Arial Black"/>
              </a:rPr>
              <a:t>Годы правления: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 966-972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Полководец, Великий князь киевский, князь новгородски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Сын князя </a:t>
            </a:r>
            <a:r>
              <a:rPr b="0" lang="ru-RU" sz="1900" spc="-1" strike="noStrike" u="sng">
                <a:solidFill>
                  <a:srgbClr val="002060"/>
                </a:solidFill>
                <a:uFillTx/>
                <a:latin typeface="Arial Black"/>
              </a:rPr>
              <a:t>Игоря Рюриковича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 и княгини </a:t>
            </a:r>
            <a:r>
              <a:rPr b="0" lang="ru-RU" sz="1900" spc="-1" strike="noStrike" u="sng">
                <a:solidFill>
                  <a:srgbClr val="002060"/>
                </a:solidFill>
                <a:uFillTx/>
                <a:latin typeface="Arial Black"/>
              </a:rPr>
              <a:t>Ольги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Картинка 2 из 5014"/>
          <p:cNvPicPr/>
          <p:nvPr/>
        </p:nvPicPr>
        <p:blipFill>
          <a:blip r:embed="rId1"/>
          <a:stretch/>
        </p:blipFill>
        <p:spPr>
          <a:xfrm>
            <a:off x="285840" y="285840"/>
            <a:ext cx="4514760" cy="62863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42600" y="714240"/>
            <a:ext cx="77151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С 964 г. Святослав начинает жестокую борьбу против Хазарского каганата. Он освобождает от власти хазар земли вятичей и подчиняет последних Киеву.  Одерживает победы над волжскими булгарами, северокавказскими пле-менами ясов, касогов, кабардинцев, черкесов, адыгейцев; положил начало русскому Тьму-тараканскому княжеству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Весной 972 г., у днепровских порогов (на острове Хортица), Святослав попал в засаду и погиб вместе с дружиной в неравном бою с печенегами. По преданию, хан  Куря сделал из черепа Святослава чашу и, в знак своей воинской доблести, пил только из не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а 9 из 2105"/>
          <p:cNvPicPr/>
          <p:nvPr/>
        </p:nvPicPr>
        <p:blipFill>
          <a:blip r:embed="rId1"/>
          <a:stretch/>
        </p:blipFill>
        <p:spPr>
          <a:xfrm>
            <a:off x="285840" y="1500120"/>
            <a:ext cx="4546440" cy="51436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65240"/>
            <a:ext cx="9156960" cy="1659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857840" y="1571760"/>
            <a:ext cx="400032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Ценнейшим памят-ником, содержа-щим сведения о начале Древне-русского государст-ва, является лето-писный свод «По-вести временных ле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99680" y="928440"/>
            <a:ext cx="8258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сторию Киевской Руси, хронологические рамки 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I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— начало Х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II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.,  можно  разделить на три больших пери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1.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I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- середина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в. - время первых киевских княз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2. Вторая половина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- первая половина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I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в. - время Владимира и Ярослава Мудр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3. Период вторая половина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I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- начало Х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II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. - переход к территориально-политической раздробл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90000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6" descr=""/>
          <p:cNvPicPr/>
          <p:nvPr/>
        </p:nvPicPr>
        <p:blipFill>
          <a:blip r:embed="rId1"/>
          <a:stretch/>
        </p:blipFill>
        <p:spPr>
          <a:xfrm>
            <a:off x="-6480" y="1596960"/>
            <a:ext cx="915696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personalguide.ru/cache/images/upload/2009/12/10/ab79d1e33c22fe154a6ba6f46acd9d27_1024_0.jpg"/>
          <p:cNvPicPr/>
          <p:nvPr/>
        </p:nvPicPr>
        <p:blipFill>
          <a:blip r:embed="rId1"/>
          <a:stretch/>
        </p:blipFill>
        <p:spPr>
          <a:xfrm>
            <a:off x="357120" y="1214280"/>
            <a:ext cx="4286160" cy="5311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47" name=""/>
          <p:cNvSpPr txBox="1"/>
          <p:nvPr/>
        </p:nvSpPr>
        <p:spPr>
          <a:xfrm>
            <a:off x="4571640" y="1428840"/>
            <a:ext cx="4357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Откуда пошла земля Русская, и кто в Киеве начал первый княжить, и откуда Русская земля стала, мы узнали из «Повести временных лет», составленной киевским монахом Нестором около 1113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Прямоугольник 4" descr=""/>
          <p:cNvPicPr/>
          <p:nvPr/>
        </p:nvPicPr>
        <p:blipFill>
          <a:blip r:embed="rId2"/>
          <a:stretch/>
        </p:blipFill>
        <p:spPr>
          <a:xfrm>
            <a:off x="-109440" y="36360"/>
            <a:ext cx="93931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4200" y="1928520"/>
            <a:ext cx="35006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В «Повести временных лет» Нестор повест-вует о расселе-нии в древности западных и вос-точных славян в Европ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lebed.com/2009/5471.jpg"/>
          <p:cNvPicPr/>
          <p:nvPr/>
        </p:nvPicPr>
        <p:blipFill>
          <a:blip r:embed="rId1"/>
          <a:stretch/>
        </p:blipFill>
        <p:spPr>
          <a:xfrm>
            <a:off x="3929040" y="500040"/>
            <a:ext cx="5033880" cy="6053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3840" y="21420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В середине IX в. на территории будущей Северо-Западной Руси (Новгородская и Псковская земли) формируется межплеменное объединение, включающее словен, кривичей, чудь, мерю и, возможно, весь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si-shitova.ucoz.kz/Blog/cache_2656215463.jpg"/>
          <p:cNvPicPr/>
          <p:nvPr/>
        </p:nvPicPr>
        <p:blipFill>
          <a:blip r:embed="rId1"/>
          <a:stretch/>
        </p:blipFill>
        <p:spPr>
          <a:xfrm>
            <a:off x="1714680" y="1643040"/>
            <a:ext cx="64087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57120" y="178596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Это объединение принято называть «северной конфедерацией племен» или «северным союзом племен», и именно от него, если верить «Повести временных лет», исходила инициатива призвания правителя (Рюрика) «со стороны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mg15.nnm.ru/7/9/b/a/0/6a9a6ab48264de43f89ec6a8d09.jpg"/>
          <p:cNvPicPr/>
          <p:nvPr/>
        </p:nvPicPr>
        <p:blipFill>
          <a:blip r:embed="rId1"/>
          <a:stretch/>
        </p:blipFill>
        <p:spPr>
          <a:xfrm>
            <a:off x="1928880" y="3071880"/>
            <a:ext cx="5135400" cy="30002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853920" y="262080"/>
            <a:ext cx="77234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pravdasilakr.narod.ru/v3.files/image003.gif"/>
          <p:cNvPicPr/>
          <p:nvPr/>
        </p:nvPicPr>
        <p:blipFill>
          <a:blip r:embed="rId1"/>
          <a:srcRect l="2418" t="1404" r="55646" b="4521"/>
          <a:stretch/>
        </p:blipFill>
        <p:spPr>
          <a:xfrm>
            <a:off x="428760" y="571680"/>
            <a:ext cx="3714480" cy="4786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юрик, основатель Древнерусского госуда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вгородский князь – 862-8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стия – Рюрикови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ын - Иго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greatprovince.com/uploads/Rjurik,_Sineus_ja_Truvor.jpg"/>
          <p:cNvPicPr/>
          <p:nvPr/>
        </p:nvPicPr>
        <p:blipFill>
          <a:blip r:embed="rId1"/>
          <a:stretch/>
        </p:blipFill>
        <p:spPr>
          <a:xfrm>
            <a:off x="1285920" y="1571760"/>
            <a:ext cx="6429240" cy="4879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9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:\распечатать\Кл.час Создание Государственности на Руси\Рисунок1.jpg"/>
          <p:cNvPicPr/>
          <p:nvPr/>
        </p:nvPicPr>
        <p:blipFill>
          <a:blip r:embed="rId1"/>
          <a:srcRect l="0" t="20412" r="0" b="0"/>
          <a:stretch/>
        </p:blipFill>
        <p:spPr>
          <a:xfrm>
            <a:off x="928800" y="1571760"/>
            <a:ext cx="7000920" cy="4178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85480" y="213840"/>
            <a:ext cx="86439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Первые князья дома Рюриковичей: Рюрик, Олег и Игор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3:54:40Z</dcterms:created>
  <dc:creator>Admin</dc:creator>
  <dc:description/>
  <dc:language>en-US</dc:language>
  <cp:lastModifiedBy>Admin</cp:lastModifiedBy>
  <dcterms:modified xsi:type="dcterms:W3CDTF">2013-12-29T16:23:07Z</dcterms:modified>
  <cp:revision>117</cp:revision>
  <dc:subject/>
  <dc:title>Слайд 1</dc:title>
</cp:coreProperties>
</file>