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5.gif" ContentType="image/gif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02E-CB38-4271-A114-A226DA30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0E8-8258-48F9-9029-B49080AB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E2D-BF97-48F4-998B-DF86B3A8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DF1-91E5-4B41-A70A-B6C9CF05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303-345A-49C1-A978-5CD7BA49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873-139A-4322-8F23-01B00FF8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931-846E-4AB8-A083-4DF20379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BDB-BA8B-4241-BA25-C0FB0830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7AB-81CD-4046-9068-433043A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989-C3A4-4607-A2FE-C8EAF9B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7E7-9C73-4533-AB0A-2515E33F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ABE-760E-4B8F-96B3-52D236CC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D2B1-E66A-424C-88C4-0754E1A70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549720"/>
            <a:ext cx="870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кандинавская ходьба (Nordic Walking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ходьба с палками - это вид фитнеса, в котором используются специальные палки, похожие на лыжные. В отличие, от обычной ходьбы без палок, велоспорта и бега, при такой ходьбе, задействуется 90% мышц тела. Расход энергии увеличивается до 46%, что равносильно 400 ккал/час. Скандинавская ходьба увеличивает нагрузки на руки, пресс. Скандинавская ходьба - это очень популярный вид оздоровления. А также, это очень легкий путь для улучшения физического состояния независимо от возраста, пола или текущей физической подгот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Gesi2NTduH4"/>
          <p:cNvPicPr/>
          <p:nvPr/>
        </p:nvPicPr>
        <p:blipFill>
          <a:blip r:embed="rId1"/>
          <a:srcRect l="0" t="5113" r="0" b="6166"/>
          <a:stretch/>
        </p:blipFill>
        <p:spPr>
          <a:xfrm>
            <a:off x="1403280" y="2852640"/>
            <a:ext cx="612144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179280" y="0"/>
            <a:ext cx="8785440" cy="18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WordArt 16"/>
          <p:cNvSpPr txBox="1"/>
          <p:nvPr/>
        </p:nvSpPr>
        <p:spPr>
          <a:xfrm>
            <a:off x="2268360" y="0"/>
            <a:ext cx="466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ндинавская ходьб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539640" y="18900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ращение торса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Upper torso twist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спина прямая. Заведите палки за голову (на затылок) и держите обеими руками. Медленно поверните один конец палки вперед, другой конец палки отводится наза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е вперед. Вернитесь в исходное положение. Сделать то же самое в другую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5" name="Rectangle 8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9" name="FOfficeDoc1"/>
          <p:cNvGraphicFramePr/>
          <p:nvPr/>
        </p:nvGraphicFramePr>
        <p:xfrm>
          <a:off x="1042920" y="1773360"/>
          <a:ext cx="696600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9660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24000" y="2636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авите палки на вытянутые руки вперед и, согнув корпус под прямым углом, хорошо прогните мышцы сп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50920" y="3357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лки остаются на вытянутых руках. Сделайте несколько глубоких присе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24000" y="4759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. п. - ноги на ширине плеч, палки в руках, руки опущены вниз. Поворачивая корпус влево, начинайте поднимать палки на вытянутых руках, держа руки над головой, разверните корпус вправо и опустите вытянутые руки вниз. Повторите это кругообразное движение 10-1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24000" y="169992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ираясь на палки, поднимите и согните правую ногу под прямым углом и делайте ступней вращательные движения по часовой стрелке, а затем против часовой стрелки. Также с левой но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4vxuW8_M3wM"/>
          <p:cNvPicPr/>
          <p:nvPr/>
        </p:nvPicPr>
        <p:blipFill>
          <a:blip r:embed="rId1"/>
          <a:stretch/>
        </p:blipFill>
        <p:spPr>
          <a:xfrm>
            <a:off x="395280" y="4221000"/>
            <a:ext cx="2206800" cy="242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AiYAvtU2XUU"/>
          <p:cNvPicPr/>
          <p:nvPr/>
        </p:nvPicPr>
        <p:blipFill>
          <a:blip r:embed="rId2"/>
          <a:stretch/>
        </p:blipFill>
        <p:spPr>
          <a:xfrm>
            <a:off x="2627280" y="4076640"/>
            <a:ext cx="1827360" cy="25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IOALnL_SqE0"/>
          <p:cNvPicPr/>
          <p:nvPr/>
        </p:nvPicPr>
        <p:blipFill>
          <a:blip r:embed="rId3"/>
          <a:stretch/>
        </p:blipFill>
        <p:spPr>
          <a:xfrm>
            <a:off x="4643280" y="3860640"/>
            <a:ext cx="1501920" cy="270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MVLZZBW3gLE"/>
          <p:cNvPicPr/>
          <p:nvPr/>
        </p:nvPicPr>
        <p:blipFill>
          <a:blip r:embed="rId4"/>
          <a:srcRect l="0" t="0" r="0" b="13785"/>
          <a:stretch/>
        </p:blipFill>
        <p:spPr>
          <a:xfrm>
            <a:off x="6372360" y="4149720"/>
            <a:ext cx="2627280" cy="2500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1"/>
          <p:cNvSpPr/>
          <p:nvPr/>
        </p:nvSpPr>
        <p:spPr>
          <a:xfrm>
            <a:off x="904320" y="189000"/>
            <a:ext cx="56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Ещё несколько подготовительных 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1" name="Rectangle 23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5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7"/>
          <p:cNvSpPr/>
          <p:nvPr/>
        </p:nvSpPr>
        <p:spPr>
          <a:xfrm>
            <a:off x="2414520" y="33336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СПРОСТРАНЕННЫЕ ОШИ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203640" y="2997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2. ВЯ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ок скрещивает локти и палки с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9640" y="530064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3. СОГНУТЫЕ ЛО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о работают мышцы плечевого поя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9079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1. П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ок ставит палки перед собой. Горбиться, не отталкивается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816a4be511fd"/>
          <p:cNvPicPr/>
          <p:nvPr/>
        </p:nvPicPr>
        <p:blipFill>
          <a:blip r:embed="rId1"/>
          <a:srcRect l="27433" t="69176" r="54499" b="16093"/>
          <a:stretch/>
        </p:blipFill>
        <p:spPr>
          <a:xfrm>
            <a:off x="6443640" y="333360"/>
            <a:ext cx="1944720" cy="280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816a4be511fd"/>
          <p:cNvPicPr/>
          <p:nvPr/>
        </p:nvPicPr>
        <p:blipFill>
          <a:blip r:embed="rId2"/>
          <a:srcRect l="50856" t="69176" r="30413" b="16093"/>
          <a:stretch/>
        </p:blipFill>
        <p:spPr>
          <a:xfrm>
            <a:off x="826920" y="2205000"/>
            <a:ext cx="2016360" cy="2806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816a4be511fd"/>
          <p:cNvPicPr/>
          <p:nvPr/>
        </p:nvPicPr>
        <p:blipFill>
          <a:blip r:embed="rId3"/>
          <a:srcRect l="74941" t="69176" r="2980" b="16093"/>
          <a:stretch/>
        </p:blipFill>
        <p:spPr>
          <a:xfrm>
            <a:off x="6012000" y="3789360"/>
            <a:ext cx="2376360" cy="28065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3" name="Rectangle 18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1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Logo_Nordic-Walking_Kopi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8920" y="981000"/>
            <a:ext cx="6480000" cy="484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skan_hod"/>
          <p:cNvPicPr/>
          <p:nvPr/>
        </p:nvPicPr>
        <p:blipFill>
          <a:blip r:embed="rId2"/>
          <a:stretch/>
        </p:blipFill>
        <p:spPr>
          <a:xfrm>
            <a:off x="6877080" y="4807080"/>
            <a:ext cx="2266920" cy="20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x_a6fa9d63"/>
          <p:cNvPicPr/>
          <p:nvPr/>
        </p:nvPicPr>
        <p:blipFill>
          <a:blip r:embed="rId3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thnordicwalking11"/>
          <p:cNvPicPr/>
          <p:nvPr/>
        </p:nvPicPr>
        <p:blipFill>
          <a:blip r:embed="rId4"/>
          <a:stretch/>
        </p:blipFill>
        <p:spPr>
          <a:xfrm>
            <a:off x="-181080" y="4932360"/>
            <a:ext cx="2160720" cy="19256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4"/>
          <p:cNvSpPr txBox="1"/>
          <p:nvPr/>
        </p:nvSpPr>
        <p:spPr>
          <a:xfrm rot="5400000">
            <a:off x="-1682280" y="2339280"/>
            <a:ext cx="4535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NORD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62" name="WordArt 15"/>
          <p:cNvSpPr txBox="1"/>
          <p:nvPr/>
        </p:nvSpPr>
        <p:spPr>
          <a:xfrm>
            <a:off x="1763640" y="260280"/>
            <a:ext cx="58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WAL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63" name="WordArt 16"/>
          <p:cNvSpPr txBox="1"/>
          <p:nvPr/>
        </p:nvSpPr>
        <p:spPr>
          <a:xfrm>
            <a:off x="2340000" y="5950080"/>
            <a:ext cx="40323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ШАГ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WordArt 17"/>
          <p:cNvSpPr txBox="1"/>
          <p:nvPr/>
        </p:nvSpPr>
        <p:spPr>
          <a:xfrm rot="5400000">
            <a:off x="6480720" y="2383560"/>
            <a:ext cx="4103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 ЗДОРОВЬ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755640" y="26172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алки для Скандинавской ходь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аются из стекловолокна с добавлением карбона. Специальной формы ручка и темляк (перчатка) формы «капкан» позволяют правильно делать движение рукой, надежно фиксируя кисть руки. Карбон придает палкам упругость, это сделано для того чтобы палки гасили удары на руки и подталкивали ходока вперед. Существует два вида наконечника для палок: резиновый для ровных твердых поверхностей (асфальт, камни) и заостренный металлический (земля, песок). Наконечник палок сделан из специального сплава что позволяет ему прослужить 1,5-2 года активно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227640" y="4869000"/>
            <a:ext cx="25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такая: продеваем кисть в петлю, обхватываем рукоятку, сдвигаем крепление к кисти и крепко затягива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aW0lSIM_Lj8"/>
          <p:cNvPicPr/>
          <p:nvPr/>
        </p:nvPicPr>
        <p:blipFill>
          <a:blip r:embed="rId1"/>
          <a:srcRect l="0" t="0" r="0" b="9861"/>
          <a:stretch/>
        </p:blipFill>
        <p:spPr>
          <a:xfrm>
            <a:off x="684360" y="4797360"/>
            <a:ext cx="5616360" cy="18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oKIdqE796qQ"/>
          <p:cNvPicPr/>
          <p:nvPr/>
        </p:nvPicPr>
        <p:blipFill>
          <a:blip r:embed="rId2"/>
          <a:srcRect l="15013" t="0" r="0" b="0"/>
          <a:stretch/>
        </p:blipFill>
        <p:spPr>
          <a:xfrm>
            <a:off x="5724360" y="189000"/>
            <a:ext cx="3240360" cy="225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TTWFf5Cftvc"/>
          <p:cNvPicPr/>
          <p:nvPr/>
        </p:nvPicPr>
        <p:blipFill>
          <a:blip r:embed="rId3"/>
          <a:stretch/>
        </p:blipFill>
        <p:spPr>
          <a:xfrm>
            <a:off x="0" y="189000"/>
            <a:ext cx="660240" cy="64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ujAD6ZDRR3A"/>
          <p:cNvPicPr/>
          <p:nvPr/>
        </p:nvPicPr>
        <p:blipFill>
          <a:blip r:embed="rId4"/>
          <a:stretch/>
        </p:blipFill>
        <p:spPr>
          <a:xfrm>
            <a:off x="5651640" y="2924280"/>
            <a:ext cx="3492360" cy="1919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18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1"/>
          <p:cNvSpPr/>
          <p:nvPr/>
        </p:nvSpPr>
        <p:spPr>
          <a:xfrm>
            <a:off x="250920" y="260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важно подобрать палки (poles) нужной высоты. Для этого используется следующая формула: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ост в см x 0.6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опускаются расхождение в 5 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пример, если ваш рост 165см, то вам подходят палки в 110см. У каждого есть свои физиологические особенности, поэтому можно проверить правильную длину следующим образом: держась за ручку, локоть должен находится под прямым углом к палке, палка касается острием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I47n8QdaLPQ"/>
          <p:cNvPicPr/>
          <p:nvPr/>
        </p:nvPicPr>
        <p:blipFill>
          <a:blip r:embed="rId1"/>
          <a:stretch/>
        </p:blipFill>
        <p:spPr>
          <a:xfrm>
            <a:off x="900000" y="1989000"/>
            <a:ext cx="7345440" cy="3683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8"/>
          <p:cNvSpPr/>
          <p:nvPr/>
        </p:nvSpPr>
        <p:spPr>
          <a:xfrm>
            <a:off x="179280" y="58701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уем также запастись бутылочкой воды. Очень важный момент - хорошая обувь. Идеально подходит спортивная обувь с рифленой подош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20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179280" y="328428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того как вы оттолкнулись палкой, ее нужно отпустить. На пару секунд разожмите пальцы — палка окажется в свободном полете позади вас, держась на креплении. Потом вы вновь подхватываете и подтягиваете впер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walkerimage"/>
          <p:cNvPicPr/>
          <p:nvPr/>
        </p:nvPicPr>
        <p:blipFill>
          <a:blip r:embed="rId1"/>
          <a:stretch/>
        </p:blipFill>
        <p:spPr>
          <a:xfrm>
            <a:off x="7128000" y="4292640"/>
            <a:ext cx="2016000" cy="256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н"/>
          <p:cNvPicPr/>
          <p:nvPr/>
        </p:nvPicPr>
        <p:blipFill>
          <a:blip r:embed="rId2"/>
          <a:srcRect l="3613" t="0" r="2706" b="3025"/>
          <a:stretch/>
        </p:blipFill>
        <p:spPr>
          <a:xfrm>
            <a:off x="179280" y="189000"/>
            <a:ext cx="374328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YlkflQWWmw"/>
          <p:cNvPicPr/>
          <p:nvPr/>
        </p:nvPicPr>
        <p:blipFill>
          <a:blip r:embed="rId3"/>
          <a:srcRect l="0" t="0" r="72968" b="0"/>
          <a:stretch/>
        </p:blipFill>
        <p:spPr>
          <a:xfrm>
            <a:off x="250920" y="4365720"/>
            <a:ext cx="19080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HYlkflQWWmw"/>
          <p:cNvPicPr/>
          <p:nvPr/>
        </p:nvPicPr>
        <p:blipFill>
          <a:blip r:embed="rId4"/>
          <a:srcRect l="27542" t="0" r="37122" b="0"/>
          <a:stretch/>
        </p:blipFill>
        <p:spPr>
          <a:xfrm>
            <a:off x="1908000" y="4292640"/>
            <a:ext cx="249408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YlkflQWWmw"/>
          <p:cNvPicPr/>
          <p:nvPr/>
        </p:nvPicPr>
        <p:blipFill>
          <a:blip r:embed="rId5"/>
          <a:srcRect l="63273" t="0" r="0" b="0"/>
          <a:stretch/>
        </p:blipFill>
        <p:spPr>
          <a:xfrm>
            <a:off x="4427640" y="4292640"/>
            <a:ext cx="25923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" name="Rectangle 22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26"/>
          <p:cNvSpPr/>
          <p:nvPr/>
        </p:nvSpPr>
        <p:spPr>
          <a:xfrm>
            <a:off x="3924360" y="189000"/>
            <a:ext cx="504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несколько шагов с палками просто волочите их за собой. Ставьте стопы, мягко перекатывая как колесо машины, с пятки до подушечек под паль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свойственно помогать себе при ходьбе руками, поэтому руки сами включатся в работу. Не выносите их вертикально перед собой, а держите под углом близко к телу, касаясь острием земли где-то на уровне пятки. На палки не просто переносят часть веса, ими еще и толкаться ну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179280" y="5157720"/>
            <a:ext cx="879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сколько вариантов ходьбы с пал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быстрые тройные шаги, широкий шаг, параллельное движение палок и ног (левая нога с левой палкой, правая нога с правой палкой). Смена техники ходьбы позволяет избежать рутинности и быстрой усталости. Для увеличения интенсивности тренировки ходьбу можно чередовать с бегом и прыж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UtO1iJGauuE"/>
          <p:cNvPicPr/>
          <p:nvPr/>
        </p:nvPicPr>
        <p:blipFill>
          <a:blip r:embed="rId1"/>
          <a:srcRect l="6322" t="0" r="5112" b="0"/>
          <a:stretch/>
        </p:blipFill>
        <p:spPr>
          <a:xfrm>
            <a:off x="179280" y="189000"/>
            <a:ext cx="6048360" cy="4029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4284720" y="3068640"/>
            <a:ext cx="46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ходьбы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уль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должен превышать 120-140 ударов в минуту. Рекомендуется регулярно измерять пульс, особенно на начальных этапах. Если пульс выше нормы, то лучше сбавить темп ходьбы, чем полностью останавлив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Rectangle 13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5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6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7"/>
          <p:cNvSpPr/>
          <p:nvPr/>
        </p:nvSpPr>
        <p:spPr>
          <a:xfrm>
            <a:off x="4427640" y="47628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до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ен быть в 1,5-2 раза длиннее вдоха. Ритм дыхания удобно подстраивать под шаги: на раз-два вдох, на три-четыре-пять выдох. И не бойтесь дышать ртом, особенно если двигаетесь в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79280" y="3330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ее всего тренировки проходят на слегка холмистой местности, в целом для ходьбы с палками подходит любая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VT4bwrz_7o"/>
          <p:cNvPicPr/>
          <p:nvPr/>
        </p:nvPicPr>
        <p:blipFill>
          <a:blip r:embed="rId1"/>
          <a:srcRect l="0" t="0" r="6562" b="5039"/>
          <a:stretch/>
        </p:blipFill>
        <p:spPr>
          <a:xfrm>
            <a:off x="179280" y="1413000"/>
            <a:ext cx="4137120" cy="46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91OiLbtA86Y"/>
          <p:cNvPicPr/>
          <p:nvPr/>
        </p:nvPicPr>
        <p:blipFill>
          <a:blip r:embed="rId2"/>
          <a:srcRect l="9887" t="0" r="10455" b="8764"/>
          <a:stretch/>
        </p:blipFill>
        <p:spPr>
          <a:xfrm>
            <a:off x="4211640" y="1197000"/>
            <a:ext cx="4643280" cy="48243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0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1360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началом ходьбы с палками нужно сделать несколько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дготовительных упраж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бы разогреть мыш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50920" y="836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стяжка для мышц плеча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houlder flex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колени и ступни развернуты вперед. Держите палки обеими руками, вытянув их перед собой на уровне плеча. Поднимите руки вверх, немного отведите назад и вернитесь в исходную пози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20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FOfficeDoc1"/>
          <p:cNvGraphicFramePr/>
          <p:nvPr/>
        </p:nvGraphicFramePr>
        <p:xfrm>
          <a:off x="1187280" y="2060640"/>
          <a:ext cx="669636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60640"/>
                    <a:ext cx="669636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50920" y="18900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ор присев с отступом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tep squat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спина прямая. Держи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ки по сторонам, они будут служить опорой во время выполнения упражнения. Сделайте широкий шаг левой ногой. Выдвиньте палки вперед и обопритесь ими на землю. Присядьте. Левую ногу не отрываем от земли. Возвратитесь в исходное по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Rectangle 7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FOfficeDoc1"/>
          <p:cNvGraphicFramePr/>
          <p:nvPr/>
        </p:nvGraphicFramePr>
        <p:xfrm>
          <a:off x="1258920" y="2060640"/>
          <a:ext cx="67690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7690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9528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ор присев с прямой спиной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traight back squat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спина прямая. Держите палки над головой. Согните ноги в коленях, держа палки над головой. Задержитесь в этом положении на несколько секунд и выпрямите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7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" name="FOfficeDoc1"/>
          <p:cNvGraphicFramePr/>
          <p:nvPr/>
        </p:nvGraphicFramePr>
        <p:xfrm>
          <a:off x="1187280" y="1628640"/>
          <a:ext cx="689472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89472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07:02:22Z</dcterms:created>
  <dc:creator>User</dc:creator>
  <dc:description/>
  <dc:language>en-US</dc:language>
  <cp:lastModifiedBy>Пользователь</cp:lastModifiedBy>
  <dcterms:modified xsi:type="dcterms:W3CDTF">2014-01-07T10:26:33Z</dcterms:modified>
  <cp:revision>8</cp:revision>
  <dc:subject/>
  <dc:title>Слайд 1</dc:title>
</cp:coreProperties>
</file>