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gif" ContentType="image/gif"/>
  <Override PartName="/ppt/media/image5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25.gif" ContentType="image/gif"/>
  <Override PartName="/ppt/media/image4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7C48-325F-4D48-A518-60304E99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5610-C1FE-4834-8C6C-3A81EA3B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9FB2-40BE-4633-BD3A-61C24DDCE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DB0A-A0A8-4546-A303-9498B85F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3A9A-9E30-435B-B14B-0BDE3D80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083D-7EFF-4B18-9804-4F305C82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888F-B42E-4DEA-9C07-F18EADE9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3ECA-63F2-42BE-B648-1A3EEEBB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05A6-559D-4CB6-86EC-396A1494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8B5C-2BB2-4057-84BF-EACD04FC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F57F-8C6B-49E5-AD61-755219DE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A9F5-C02A-4D83-A6D6-147137E6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6EB0-6523-4D8F-ABF0-356C739C89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50920" y="549720"/>
            <a:ext cx="870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Скандинавская ходьба (Nordic Walking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ходьба с палками - это вид фитнеса, в котором используются специальные палки, похожие на лыжные. В отличие, от обычной ходьбы без палок, велоспорта и бега, при такой ходьбе, задействуется 90% мышц тела. Расход энергии увеличивается до 46%, что равносильно 400 ккал/час. Скандинавская ходьба увеличивает нагрузки на руки, пресс. Скандинавская ходьба - это очень популярный вид оздоровления. А также, это очень легкий путь для улучшения физического состояния независимо от возраста, пола или текущей физической подгот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Gesi2NTduH4"/>
          <p:cNvPicPr/>
          <p:nvPr/>
        </p:nvPicPr>
        <p:blipFill>
          <a:blip r:embed="rId1"/>
          <a:srcRect l="0" t="5113" r="0" b="6166"/>
          <a:stretch/>
        </p:blipFill>
        <p:spPr>
          <a:xfrm>
            <a:off x="1403280" y="2852640"/>
            <a:ext cx="6121440" cy="37450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179280" y="0"/>
            <a:ext cx="8785440" cy="18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5" name="Rectangle 9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1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2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4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WordArt 16"/>
          <p:cNvSpPr txBox="1"/>
          <p:nvPr/>
        </p:nvSpPr>
        <p:spPr>
          <a:xfrm>
            <a:off x="2268360" y="0"/>
            <a:ext cx="4667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андинавская ходьб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539640" y="189000"/>
            <a:ext cx="820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Вращение торса (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Upper torso twist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.п. – ноги на ширине плеч, спина прямая. Заведите палки за голову (на затылок) и держите обеими руками. Медленно поверните один конец палки вперед, другой конец палки отводится назад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трите вперед. Вернитесь в исходное положение. Сделать то же самое в другую сторо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5" name="Rectangle 8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9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0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1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9" name="FOfficeDoc1"/>
          <p:cNvGraphicFramePr/>
          <p:nvPr/>
        </p:nvGraphicFramePr>
        <p:xfrm>
          <a:off x="1042920" y="1773360"/>
          <a:ext cx="6966000" cy="46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FOfficeDoc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73360"/>
                    <a:ext cx="69660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324000" y="263628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Упражнение 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ставите палки на вытянутые руки вперед и, согнув корпус под прямым углом, хорошо прогните мышцы сп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250920" y="335700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Упражнение 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алки остаются на вытянутых руках. Сделайте несколько глубоких присед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324000" y="47592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Упражнение 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. п. - ноги на ширине плеч, палки в руках, руки опущены вниз. Поворачивая корпус влево, начинайте поднимать палки на вытянутых руках, держа руки над головой, разверните корпус вправо и опустите вытянутые руки вниз. Повторите это кругообразное движение 10-15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324000" y="169992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Упражнение 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пираясь на палки, поднимите и согните правую ногу под прямым углом и делайте ступней вращательные движения по часовой стрелке, а затем против часовой стрелки. Также с левой ног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7" descr="4vxuW8_M3wM"/>
          <p:cNvPicPr/>
          <p:nvPr/>
        </p:nvPicPr>
        <p:blipFill>
          <a:blip r:embed="rId1"/>
          <a:stretch/>
        </p:blipFill>
        <p:spPr>
          <a:xfrm>
            <a:off x="395280" y="4221000"/>
            <a:ext cx="2206800" cy="2421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8" descr="AiYAvtU2XUU"/>
          <p:cNvPicPr/>
          <p:nvPr/>
        </p:nvPicPr>
        <p:blipFill>
          <a:blip r:embed="rId2"/>
          <a:stretch/>
        </p:blipFill>
        <p:spPr>
          <a:xfrm>
            <a:off x="2627280" y="4076640"/>
            <a:ext cx="1827360" cy="2557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9" descr="IOALnL_SqE0"/>
          <p:cNvPicPr/>
          <p:nvPr/>
        </p:nvPicPr>
        <p:blipFill>
          <a:blip r:embed="rId3"/>
          <a:stretch/>
        </p:blipFill>
        <p:spPr>
          <a:xfrm>
            <a:off x="4643280" y="3860640"/>
            <a:ext cx="1501920" cy="2708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0" descr="MVLZZBW3gLE"/>
          <p:cNvPicPr/>
          <p:nvPr/>
        </p:nvPicPr>
        <p:blipFill>
          <a:blip r:embed="rId4"/>
          <a:srcRect l="0" t="0" r="0" b="13785"/>
          <a:stretch/>
        </p:blipFill>
        <p:spPr>
          <a:xfrm>
            <a:off x="6372360" y="4149720"/>
            <a:ext cx="2627280" cy="25002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21"/>
          <p:cNvSpPr/>
          <p:nvPr/>
        </p:nvSpPr>
        <p:spPr>
          <a:xfrm>
            <a:off x="904320" y="189000"/>
            <a:ext cx="564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Ещё несколько подготовительных упраж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1" name="Rectangle 23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4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5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26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7"/>
          <p:cNvSpPr/>
          <p:nvPr/>
        </p:nvSpPr>
        <p:spPr>
          <a:xfrm>
            <a:off x="2414520" y="333360"/>
            <a:ext cx="39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РАСПРОСТРАНЕННЫЕ ОШИБ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3203640" y="29973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2. ВЯЗ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док скрещивает локти и палки спере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539640" y="530064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3. СОГНУТЫЕ ЛО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достаточно работают мышцы плечевого поя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468360" y="907920"/>
            <a:ext cx="61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1. ПА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док ставит палки перед собой. Горбиться, не отталкивается ру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816a4be511fd"/>
          <p:cNvPicPr/>
          <p:nvPr/>
        </p:nvPicPr>
        <p:blipFill>
          <a:blip r:embed="rId1"/>
          <a:srcRect l="27433" t="69176" r="54499" b="16093"/>
          <a:stretch/>
        </p:blipFill>
        <p:spPr>
          <a:xfrm>
            <a:off x="6443640" y="333360"/>
            <a:ext cx="1944720" cy="2806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3" descr="816a4be511fd"/>
          <p:cNvPicPr/>
          <p:nvPr/>
        </p:nvPicPr>
        <p:blipFill>
          <a:blip r:embed="rId2"/>
          <a:srcRect l="50856" t="69176" r="30413" b="16093"/>
          <a:stretch/>
        </p:blipFill>
        <p:spPr>
          <a:xfrm>
            <a:off x="826920" y="2205000"/>
            <a:ext cx="2016360" cy="2806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816a4be511fd"/>
          <p:cNvPicPr/>
          <p:nvPr/>
        </p:nvPicPr>
        <p:blipFill>
          <a:blip r:embed="rId3"/>
          <a:srcRect l="74941" t="69176" r="2980" b="16093"/>
          <a:stretch/>
        </p:blipFill>
        <p:spPr>
          <a:xfrm>
            <a:off x="6012000" y="3789360"/>
            <a:ext cx="2376360" cy="280656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1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3" name="Rectangle 18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9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20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21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1" descr="Logo_Nordic-Walking_Kopie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258920" y="981000"/>
            <a:ext cx="6480000" cy="4840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skan_hod"/>
          <p:cNvPicPr/>
          <p:nvPr/>
        </p:nvPicPr>
        <p:blipFill>
          <a:blip r:embed="rId2"/>
          <a:stretch/>
        </p:blipFill>
        <p:spPr>
          <a:xfrm>
            <a:off x="6877080" y="4807080"/>
            <a:ext cx="2266920" cy="2050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x_a6fa9d63"/>
          <p:cNvPicPr/>
          <p:nvPr/>
        </p:nvPicPr>
        <p:blipFill>
          <a:blip r:embed="rId3"/>
          <a:stretch/>
        </p:blipFill>
        <p:spPr>
          <a:xfrm>
            <a:off x="8317080" y="0"/>
            <a:ext cx="826920" cy="784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thnordicwalking11"/>
          <p:cNvPicPr/>
          <p:nvPr/>
        </p:nvPicPr>
        <p:blipFill>
          <a:blip r:embed="rId4"/>
          <a:stretch/>
        </p:blipFill>
        <p:spPr>
          <a:xfrm>
            <a:off x="-181080" y="4932360"/>
            <a:ext cx="2160720" cy="1925640"/>
          </a:xfrm>
          <a:prstGeom prst="rect">
            <a:avLst/>
          </a:prstGeom>
          <a:ln w="0">
            <a:noFill/>
          </a:ln>
        </p:spPr>
      </p:pic>
      <p:sp>
        <p:nvSpPr>
          <p:cNvPr id="161" name="WordArt 14"/>
          <p:cNvSpPr txBox="1"/>
          <p:nvPr/>
        </p:nvSpPr>
        <p:spPr>
          <a:xfrm rot="5400000">
            <a:off x="-1682280" y="2339280"/>
            <a:ext cx="45356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NORD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62" name="WordArt 15"/>
          <p:cNvSpPr txBox="1"/>
          <p:nvPr/>
        </p:nvSpPr>
        <p:spPr>
          <a:xfrm>
            <a:off x="1763640" y="260280"/>
            <a:ext cx="583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WALK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63" name="WordArt 16"/>
          <p:cNvSpPr txBox="1"/>
          <p:nvPr/>
        </p:nvSpPr>
        <p:spPr>
          <a:xfrm>
            <a:off x="2340000" y="5950080"/>
            <a:ext cx="403236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ШАГА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4" name="WordArt 17"/>
          <p:cNvSpPr txBox="1"/>
          <p:nvPr/>
        </p:nvSpPr>
        <p:spPr>
          <a:xfrm rot="5400000">
            <a:off x="6480720" y="2383560"/>
            <a:ext cx="41036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 ЗДОРОВЬЮ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755640" y="261720"/>
            <a:ext cx="496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алки для Скандинавской ходьб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лаются из стекловолокна с добавлением карбона. Специальной формы ручка и темляк (перчатка) формы «капкан» позволяют правильно делать движение рукой, надежно фиксируя кисть руки. Карбон придает палкам упругость, это сделано для того чтобы палки гасили удары на руки и подталкивали ходока вперед. Существует два вида наконечника для палок: резиновый для ровных твердых поверхностей (асфальт, камни) и заостренный металлический (земля, песок). Наконечник палок сделан из специального сплава что позволяет ему прослужить 1,5-2 года активного ис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227640" y="4869000"/>
            <a:ext cx="251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ема такая: продеваем кисть в петлю, обхватываем рукоятку, сдвигаем крепление к кисти и крепко затягива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aW0lSIM_Lj8"/>
          <p:cNvPicPr/>
          <p:nvPr/>
        </p:nvPicPr>
        <p:blipFill>
          <a:blip r:embed="rId1"/>
          <a:srcRect l="0" t="0" r="0" b="9861"/>
          <a:stretch/>
        </p:blipFill>
        <p:spPr>
          <a:xfrm>
            <a:off x="684360" y="4797360"/>
            <a:ext cx="5616360" cy="1873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oKIdqE796qQ"/>
          <p:cNvPicPr/>
          <p:nvPr/>
        </p:nvPicPr>
        <p:blipFill>
          <a:blip r:embed="rId2"/>
          <a:srcRect l="15013" t="0" r="0" b="0"/>
          <a:stretch/>
        </p:blipFill>
        <p:spPr>
          <a:xfrm>
            <a:off x="5724360" y="189000"/>
            <a:ext cx="3240360" cy="2254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TTWFf5Cftvc"/>
          <p:cNvPicPr/>
          <p:nvPr/>
        </p:nvPicPr>
        <p:blipFill>
          <a:blip r:embed="rId3"/>
          <a:stretch/>
        </p:blipFill>
        <p:spPr>
          <a:xfrm>
            <a:off x="0" y="189000"/>
            <a:ext cx="660240" cy="640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ujAD6ZDRR3A"/>
          <p:cNvPicPr/>
          <p:nvPr/>
        </p:nvPicPr>
        <p:blipFill>
          <a:blip r:embed="rId4"/>
          <a:stretch/>
        </p:blipFill>
        <p:spPr>
          <a:xfrm>
            <a:off x="5651640" y="2924280"/>
            <a:ext cx="3492360" cy="19191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1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7" name="Rectangle 18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1"/>
          <p:cNvSpPr/>
          <p:nvPr/>
        </p:nvSpPr>
        <p:spPr>
          <a:xfrm>
            <a:off x="250920" y="260280"/>
            <a:ext cx="86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важно подобрать палки (poles) нужной высоты. Для этого используется следующая формула: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рост в см x 0.68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допускаются расхождение в 5 с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апример, если ваш рост 165см, то вам подходят палки в 110см. У каждого есть свои физиологические особенности, поэтому можно проверить правильную длину следующим образом: держась за ручку, локоть должен находится под прямым углом к палке, палка касается острием зем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6" descr="I47n8QdaLPQ"/>
          <p:cNvPicPr/>
          <p:nvPr/>
        </p:nvPicPr>
        <p:blipFill>
          <a:blip r:embed="rId1"/>
          <a:stretch/>
        </p:blipFill>
        <p:spPr>
          <a:xfrm>
            <a:off x="900000" y="1989000"/>
            <a:ext cx="7345440" cy="36831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8"/>
          <p:cNvSpPr/>
          <p:nvPr/>
        </p:nvSpPr>
        <p:spPr>
          <a:xfrm>
            <a:off x="179280" y="587016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туем также запастись бутылочкой воды. Очень важный момент - хорошая обувь. Идеально подходит спортивная обувь с рифленой подош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20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1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2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23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179280" y="3284280"/>
            <a:ext cx="87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того как вы оттолкнулись палкой, ее нужно отпустить. На пару секунд разожмите пальцы — палка окажется в свободном полете позади вас, держась на креплении. Потом вы вновь подхватываете и подтягиваете впере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walkerimage"/>
          <p:cNvPicPr/>
          <p:nvPr/>
        </p:nvPicPr>
        <p:blipFill>
          <a:blip r:embed="rId1"/>
          <a:stretch/>
        </p:blipFill>
        <p:spPr>
          <a:xfrm>
            <a:off x="7128000" y="4292640"/>
            <a:ext cx="2016000" cy="2565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н"/>
          <p:cNvPicPr/>
          <p:nvPr/>
        </p:nvPicPr>
        <p:blipFill>
          <a:blip r:embed="rId2"/>
          <a:srcRect l="3613" t="0" r="2706" b="3025"/>
          <a:stretch/>
        </p:blipFill>
        <p:spPr>
          <a:xfrm>
            <a:off x="179280" y="189000"/>
            <a:ext cx="3743280" cy="2952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HYlkflQWWmw"/>
          <p:cNvPicPr/>
          <p:nvPr/>
        </p:nvPicPr>
        <p:blipFill>
          <a:blip r:embed="rId3"/>
          <a:srcRect l="0" t="0" r="72968" b="0"/>
          <a:stretch/>
        </p:blipFill>
        <p:spPr>
          <a:xfrm>
            <a:off x="250920" y="4365720"/>
            <a:ext cx="1908000" cy="228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HYlkflQWWmw"/>
          <p:cNvPicPr/>
          <p:nvPr/>
        </p:nvPicPr>
        <p:blipFill>
          <a:blip r:embed="rId4"/>
          <a:srcRect l="27542" t="0" r="37122" b="0"/>
          <a:stretch/>
        </p:blipFill>
        <p:spPr>
          <a:xfrm>
            <a:off x="1908000" y="4292640"/>
            <a:ext cx="249408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YlkflQWWmw"/>
          <p:cNvPicPr/>
          <p:nvPr/>
        </p:nvPicPr>
        <p:blipFill>
          <a:blip r:embed="rId5"/>
          <a:srcRect l="63273" t="0" r="0" b="0"/>
          <a:stretch/>
        </p:blipFill>
        <p:spPr>
          <a:xfrm>
            <a:off x="4427640" y="4292640"/>
            <a:ext cx="2592360" cy="2286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6" name="Rectangle 22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23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24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5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Rectangle 26"/>
          <p:cNvSpPr/>
          <p:nvPr/>
        </p:nvSpPr>
        <p:spPr>
          <a:xfrm>
            <a:off x="3924360" y="189000"/>
            <a:ext cx="5041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е несколько шагов с палками просто волочите их за собой. Ставьте стопы, мягко перекатывая как колесо машины, с пятки до подушечек под пальц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м свойственно помогать себе при ходьбе руками, поэтому руки сами включатся в работу. Не выносите их вертикально перед собой, а держите под углом близко к телу, касаясь острием земли где-то на уровне пятки. На палки не просто переносят часть веса, ими еще и толкаться нуж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179280" y="5157720"/>
            <a:ext cx="8793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несколько вариантов ходьбы с палк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быстрые тройные шаги, широкий шаг, параллельное движение палок и ног (левая нога с левой палкой, правая нога с правой палкой). Смена техники ходьбы позволяет избежать рутинности и быстрой усталости. Для увеличения интенсивности тренировки ходьбу можно чередовать с бегом и прыж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UtO1iJGauuE"/>
          <p:cNvPicPr/>
          <p:nvPr/>
        </p:nvPicPr>
        <p:blipFill>
          <a:blip r:embed="rId1"/>
          <a:srcRect l="6322" t="0" r="5112" b="0"/>
          <a:stretch/>
        </p:blipFill>
        <p:spPr>
          <a:xfrm>
            <a:off x="179280" y="189000"/>
            <a:ext cx="6048360" cy="40291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1"/>
          <p:cNvSpPr/>
          <p:nvPr/>
        </p:nvSpPr>
        <p:spPr>
          <a:xfrm>
            <a:off x="4284720" y="3068640"/>
            <a:ext cx="460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ремя ходьбы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уль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 должен превышать 120-140 ударов в минуту. Рекомендуется регулярно измерять пульс, особенно на начальных этапах. Если пульс выше нормы, то лучше сбавить темп ходьбы, чем полностью останавлива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5" name="Rectangle 13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4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15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16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17"/>
          <p:cNvSpPr/>
          <p:nvPr/>
        </p:nvSpPr>
        <p:spPr>
          <a:xfrm>
            <a:off x="4427640" y="476280"/>
            <a:ext cx="431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Выдо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лжен быть в 1,5-2 раза длиннее вдоха. Ритм дыхания удобно подстраивать под шаги: на раз-два вдох, на три-четыре-пять выдох. И не бойтесь дышать ртом, особенно если двигаетесь в темп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179280" y="33300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ффективнее всего тренировки проходят на слегка холмистой местности, в целом для ходьбы с палками подходит любая поверх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pVT4bwrz_7o"/>
          <p:cNvPicPr/>
          <p:nvPr/>
        </p:nvPicPr>
        <p:blipFill>
          <a:blip r:embed="rId1"/>
          <a:srcRect l="0" t="0" r="6562" b="5039"/>
          <a:stretch/>
        </p:blipFill>
        <p:spPr>
          <a:xfrm>
            <a:off x="179280" y="1413000"/>
            <a:ext cx="4137120" cy="4608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91OiLbtA86Y"/>
          <p:cNvPicPr/>
          <p:nvPr/>
        </p:nvPicPr>
        <p:blipFill>
          <a:blip r:embed="rId2"/>
          <a:srcRect l="9887" t="0" r="10455" b="8764"/>
          <a:stretch/>
        </p:blipFill>
        <p:spPr>
          <a:xfrm>
            <a:off x="4211640" y="1197000"/>
            <a:ext cx="4643280" cy="482436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" name="Rectangle 10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1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2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3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250920" y="1360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д началом ходьбы с палками нужно сделать несколько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одготовительных упражне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чтобы разогреть мышц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250920" y="8366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Растяжка для мышц плеча (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Shoulder flex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.п. – ноги на ширине плеч, колени и ступни развернуты вперед. Держите палки обеими руками, вытянув их перед собой на уровне плеча. Поднимите руки вверх, немного отведите назад и вернитесь в исходную пози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1" name="Rectangle 20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1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2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3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" name="FOfficeDoc1"/>
          <p:cNvGraphicFramePr/>
          <p:nvPr/>
        </p:nvGraphicFramePr>
        <p:xfrm>
          <a:off x="1187280" y="2060640"/>
          <a:ext cx="6696360" cy="446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FOfficeDoc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060640"/>
                    <a:ext cx="6696360" cy="44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250920" y="18900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Упор присев с отступом (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Step squat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.п. – ноги на ширине плеч, спина прямая. Держит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лки по сторонам, они будут служить опорой во время выполнения упражнения. Сделайте широкий шаг левой ногой. Выдвиньте палки вперед и обопритесь ими на землю. Присядьте. Левую ногу не отрываем от земли. Возвратитесь в исходное поло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Rectangle 7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3" name="FOfficeDoc1"/>
          <p:cNvGraphicFramePr/>
          <p:nvPr/>
        </p:nvGraphicFramePr>
        <p:xfrm>
          <a:off x="1258920" y="2060640"/>
          <a:ext cx="67690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FOfficeDoc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060640"/>
                    <a:ext cx="67690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395280" y="260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Упор присев с прямой спиной (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Straight back squat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.п. – ноги на ширине плеч, спина прямая. Держите палки над головой. Согните ноги в коленях, держа палки над головой. Задержитесь в этом положении на несколько секунд и выпрямите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7"/>
            <p:cNvSpPr/>
            <p:nvPr/>
          </p:nvSpPr>
          <p:spPr>
            <a:xfrm>
              <a:off x="896472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"/>
            <p:cNvSpPr/>
            <p:nvPr/>
          </p:nvSpPr>
          <p:spPr>
            <a:xfrm>
              <a:off x="0" y="0"/>
              <a:ext cx="179280" cy="6858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9"/>
            <p:cNvSpPr/>
            <p:nvPr/>
          </p:nvSpPr>
          <p:spPr>
            <a:xfrm>
              <a:off x="179280" y="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0"/>
            <p:cNvSpPr/>
            <p:nvPr/>
          </p:nvSpPr>
          <p:spPr>
            <a:xfrm>
              <a:off x="179280" y="6669000"/>
              <a:ext cx="8785440" cy="189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1" name="FOfficeDoc1"/>
          <p:cNvGraphicFramePr/>
          <p:nvPr/>
        </p:nvGraphicFramePr>
        <p:xfrm>
          <a:off x="1187280" y="1628640"/>
          <a:ext cx="6894720" cy="459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FOfficeDoc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28640"/>
                    <a:ext cx="6894720" cy="45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7T07:02:22Z</dcterms:created>
  <dc:creator>User</dc:creator>
  <dc:description/>
  <dc:language>en-US</dc:language>
  <cp:lastModifiedBy>Пользователь</cp:lastModifiedBy>
  <dcterms:modified xsi:type="dcterms:W3CDTF">2014-01-07T10:26:33Z</dcterms:modified>
  <cp:revision>8</cp:revision>
  <dc:subject/>
  <dc:title>Слайд 1</dc:title>
</cp:coreProperties>
</file>