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98E-E9B9-46C4-A29F-B7D572A8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547-F5BC-401E-B3C0-1252C1C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693-5601-4283-8702-E9DFB2C9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583-9549-4C16-98D7-63593B57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D2F-0621-464D-99B8-479F58C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AE6-46A7-47E3-8B39-34288565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1B9-3923-427A-8AC6-6B9D22F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521-32D7-4479-9AC6-4352D779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96E-263F-4493-AE61-42E9925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89E-6250-4FC3-AABD-C45CFDB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170-0ED1-44E8-B19F-8634FC3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EAA-954E-40AD-8420-B2FAF54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CAD2-7C0C-476A-842C-45C4B68D2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-2052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84360" y="3284640"/>
            <a:ext cx="77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аков его истинный смысл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835280" y="765000"/>
            <a:ext cx="5257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"Биография" слов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л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50920" y="69228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55600" y="3429000"/>
            <a:ext cx="77724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2) происхождение и история слов и морфем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272880" y="1916280"/>
            <a:ext cx="8620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) раздел языкознания,изучающий  происхождени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635040" y="2637000"/>
            <a:ext cx="6600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 историю отдельных слов и морфем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159520" y="476280"/>
            <a:ext cx="366228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228842912"/>
          <p:cNvPicPr/>
          <p:nvPr/>
        </p:nvPicPr>
        <p:blipFill>
          <a:blip r:embed="rId2"/>
          <a:stretch/>
        </p:blipFill>
        <p:spPr>
          <a:xfrm>
            <a:off x="250920" y="549360"/>
            <a:ext cx="2808360" cy="2324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549360"/>
            <a:ext cx="280836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logo"/>
          <p:cNvPicPr/>
          <p:nvPr/>
        </p:nvPicPr>
        <p:blipFill>
          <a:blip r:embed="rId3"/>
          <a:stretch/>
        </p:blipFill>
        <p:spPr>
          <a:xfrm>
            <a:off x="5435640" y="476280"/>
            <a:ext cx="3017880" cy="424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0"/>
          <p:cNvSpPr txBox="1"/>
          <p:nvPr/>
        </p:nvSpPr>
        <p:spPr>
          <a:xfrm>
            <a:off x="250920" y="3102120"/>
            <a:ext cx="2303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абл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6" name="WordArt 21"/>
          <p:cNvSpPr txBox="1"/>
          <p:nvPr/>
        </p:nvSpPr>
        <p:spPr>
          <a:xfrm>
            <a:off x="5435640" y="5229360"/>
            <a:ext cx="3024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об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7" name="Picture 24" descr="n017_space"/>
          <p:cNvPicPr/>
          <p:nvPr/>
        </p:nvPicPr>
        <p:blipFill>
          <a:blip r:embed="rId4"/>
          <a:stretch/>
        </p:blipFill>
        <p:spPr>
          <a:xfrm>
            <a:off x="250920" y="3860640"/>
            <a:ext cx="2736720" cy="2465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250920" y="3860640"/>
            <a:ext cx="273528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6"/>
          <p:cNvSpPr txBox="1"/>
          <p:nvPr/>
        </p:nvSpPr>
        <p:spPr>
          <a:xfrm>
            <a:off x="3708360" y="1341360"/>
            <a:ext cx="647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15f1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}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15f1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951c0e16e16535557adc72e8076bf661_full"/>
          <p:cNvPicPr/>
          <p:nvPr/>
        </p:nvPicPr>
        <p:blipFill>
          <a:blip r:embed="rId2"/>
          <a:stretch/>
        </p:blipFill>
        <p:spPr>
          <a:xfrm>
            <a:off x="2254320" y="190440"/>
            <a:ext cx="463536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WordArt 10"/>
          <p:cNvSpPr txBox="1"/>
          <p:nvPr/>
        </p:nvSpPr>
        <p:spPr>
          <a:xfrm rot="5400000">
            <a:off x="-1226160" y="267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НЯЗ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" name="WordArt 11"/>
          <p:cNvSpPr txBox="1"/>
          <p:nvPr/>
        </p:nvSpPr>
        <p:spPr>
          <a:xfrm rot="5400000">
            <a:off x="5435640" y="249300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ИТОВ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Diagram 5"/>
          <p:cNvGrpSpPr/>
          <p:nvPr/>
        </p:nvGrpSpPr>
        <p:grpSpPr>
          <a:xfrm>
            <a:off x="1991520" y="213840"/>
            <a:ext cx="6895440" cy="4106160"/>
            <a:chOff x="1991520" y="213840"/>
            <a:chExt cx="6895440" cy="4106160"/>
          </a:xfrm>
        </p:grpSpPr>
        <p:sp>
          <p:nvSpPr>
            <p:cNvPr id="66" name="_s1028"/>
            <p:cNvSpPr/>
            <p:nvPr/>
          </p:nvSpPr>
          <p:spPr>
            <a:xfrm>
              <a:off x="4396680" y="943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66ff">
                    <a:alpha val="50196"/>
                  </a:srgbClr>
                </a:gs>
                <a:gs pos="100000">
                  <a:srgbClr val="75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4601160" y="213840"/>
              <a:ext cx="1678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Monotype Corsiva"/>
                </a:rPr>
                <a:t>Русский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>
              <a:off x="5083560" y="2132640"/>
              <a:ext cx="2084400" cy="2084760"/>
            </a:xfrm>
            <a:prstGeom prst="ellipse">
              <a:avLst/>
            </a:prstGeom>
            <a:gradFill rotWithShape="0">
              <a:gsLst>
                <a:gs pos="0">
                  <a:srgbClr val="3366ff">
                    <a:alpha val="50196"/>
                  </a:srgbClr>
                </a:gs>
                <a:gs pos="100000">
                  <a:srgbClr val="17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720900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Украин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3708360" y="2131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3399">
                    <a:alpha val="50196"/>
                  </a:srgbClr>
                </a:gs>
                <a:gs pos="100000">
                  <a:srgbClr val="751746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199152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Белорус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3"/>
          <p:cNvSpPr txBox="1"/>
          <p:nvPr/>
        </p:nvSpPr>
        <p:spPr>
          <a:xfrm>
            <a:off x="395280" y="47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одств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" name="WordArt 54"/>
          <p:cNvSpPr txBox="1"/>
          <p:nvPr/>
        </p:nvSpPr>
        <p:spPr>
          <a:xfrm>
            <a:off x="0" y="450864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начительное количество слов в русском  языке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имствовано из белорусского и украинског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dex_seaotter"/>
          <p:cNvPicPr/>
          <p:nvPr/>
        </p:nvPicPr>
        <p:blipFill>
          <a:blip r:embed="rId2"/>
          <a:stretch/>
        </p:blipFill>
        <p:spPr>
          <a:xfrm>
            <a:off x="1692360" y="260280"/>
            <a:ext cx="5040360" cy="4511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692360" y="260280"/>
            <a:ext cx="5040360" cy="453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9840" y="5229360"/>
            <a:ext cx="9074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UDRA  (выдра); UDRAS (водяное животное)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HUDRA (гидра, водяная змея)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539640" y="765000"/>
            <a:ext cx="76676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вление народно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(ложной) этимологии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ркая примета простореч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95280" y="3716280"/>
            <a:ext cx="3384720" cy="216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KI-9"/>
          <p:cNvPicPr/>
          <p:nvPr/>
        </p:nvPicPr>
        <p:blipFill>
          <a:blip r:embed="rId2"/>
          <a:stretch/>
        </p:blipFill>
        <p:spPr>
          <a:xfrm>
            <a:off x="395280" y="3716280"/>
            <a:ext cx="338292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2484360" y="476280"/>
            <a:ext cx="46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Бить баклуш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AutoShape 7"/>
          <p:cNvSpPr/>
          <p:nvPr/>
        </p:nvSpPr>
        <p:spPr>
          <a:xfrm rot="2991600">
            <a:off x="916560" y="610560"/>
            <a:ext cx="576000" cy="1653840"/>
          </a:xfrm>
          <a:custGeom>
            <a:avLst/>
            <a:gdLst>
              <a:gd name="textAreaLeft" fmla="*/ 77040 w 576000"/>
              <a:gd name="textAreaRight" fmla="*/ 498960 w 576000"/>
              <a:gd name="textAreaTop" fmla="*/ 302760 h 1653840"/>
              <a:gd name="textAreaBottom" fmla="*/ 1190520 h 165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5" stAng="-5400000" swAng="-5400000"/>
                <a:lnTo>
                  <a:pt x="0" y="11589"/>
                </a:lnTo>
                <a:arcTo wR="21600" hR="7915" stAng="10800000" swAng="-2523581"/>
                <a:lnTo>
                  <a:pt x="13473" y="21018"/>
                </a:lnTo>
                <a:lnTo>
                  <a:pt x="21600" y="17666"/>
                </a:lnTo>
                <a:lnTo>
                  <a:pt x="13473" y="13150"/>
                </a:lnTo>
                <a:lnTo>
                  <a:pt x="13473" y="15247"/>
                </a:lnTo>
                <a:arcTo wR="21600" hR="7915" stAng="8276419" swAng="2223768"/>
                <a:lnTo>
                  <a:pt x="590" y="9752"/>
                </a:lnTo>
                <a:arcTo wR="21600" hR="7915" stAng="-10500186" swAng="5100186"/>
                <a:close/>
              </a:path>
              <a:path fill="darkenLess" w="21600" h="21600">
                <a:moveTo>
                  <a:pt x="21600" y="0"/>
                </a:moveTo>
                <a:arcTo wR="21600" hR="7915" stAng="-5400000" swAng="-5400000"/>
                <a:lnTo>
                  <a:pt x="0" y="7915"/>
                </a:lnTo>
                <a:arcTo wR="21600" hR="7915" stAng="10800000" swAng="-299814"/>
                <a:lnTo>
                  <a:pt x="590" y="9752"/>
                </a:lnTo>
                <a:arcTo wR="21600" hR="7915" stAng="-10500186" swAng="51001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0" y="2133720"/>
            <a:ext cx="47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ниматься простой работой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 щепеном промысл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6" name="Picture 10" descr="лжа"/>
          <p:cNvPicPr/>
          <p:nvPr/>
        </p:nvPicPr>
        <p:blipFill>
          <a:blip r:embed="rId3"/>
          <a:stretch/>
        </p:blipFill>
        <p:spPr>
          <a:xfrm>
            <a:off x="4572000" y="3645000"/>
            <a:ext cx="3887640" cy="2262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1"/>
          <p:cNvSpPr/>
          <p:nvPr/>
        </p:nvSpPr>
        <p:spPr>
          <a:xfrm rot="19887600">
            <a:off x="7616880" y="743040"/>
            <a:ext cx="598320" cy="1549440"/>
          </a:xfrm>
          <a:custGeom>
            <a:avLst/>
            <a:gdLst>
              <a:gd name="textAreaLeft" fmla="*/ 79920 w 598320"/>
              <a:gd name="textAreaRight" fmla="*/ 518400 w 598320"/>
              <a:gd name="textAreaTop" fmla="*/ 271080 h 1549440"/>
              <a:gd name="textAreaBottom" fmla="*/ 112356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5076720" y="2421000"/>
            <a:ext cx="3240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азбивать луж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572000" y="3645000"/>
            <a:ext cx="3887640" cy="223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835280" y="2565360"/>
            <a:ext cx="5905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увлекательнейшая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наук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762200" y="333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5:27:38Z</dcterms:created>
  <dc:creator>Serg</dc:creator>
  <dc:description/>
  <dc:language>en-US</dc:language>
  <cp:lastModifiedBy>Пользователь</cp:lastModifiedBy>
  <dcterms:modified xsi:type="dcterms:W3CDTF">2013-08-01T10:23:3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