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067-1362-4A8C-9BE5-45F5D94D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C446-D153-456F-90F5-D33DF7CD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720-5FC8-42F0-BDB5-17715822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D11-73F8-4799-877B-EE54E03D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067-A358-43CD-90E8-BE602A90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26E-27F0-41D9-8B37-56BACBD0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05B-1326-428B-83CB-A951FBEA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479-0069-48E4-81A9-63F9496D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C05-AD7C-467B-82B1-CFA384D9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301-9651-453A-A11A-485DCC59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33C-6847-4495-B1B0-1045C4A6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8DF-5186-4DDB-9331-375D2E85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0980-4782-4924-A093-46C525AED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7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-2052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84360" y="3284640"/>
            <a:ext cx="774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каков его истинный смысл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1835280" y="765000"/>
            <a:ext cx="52578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"Биография" слова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ил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250920" y="69228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Этимология -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255600" y="3429000"/>
            <a:ext cx="77724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2) происхождение и история слов и морфем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272880" y="1916280"/>
            <a:ext cx="86202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1) раздел языкознания,изучающий  происхождение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635040" y="2637000"/>
            <a:ext cx="66009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и историю отдельных слов и морфем;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159520" y="476280"/>
            <a:ext cx="3662280" cy="4294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228842912"/>
          <p:cNvPicPr/>
          <p:nvPr/>
        </p:nvPicPr>
        <p:blipFill>
          <a:blip r:embed="rId2"/>
          <a:stretch/>
        </p:blipFill>
        <p:spPr>
          <a:xfrm>
            <a:off x="250920" y="549360"/>
            <a:ext cx="2808360" cy="2324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50920" y="549360"/>
            <a:ext cx="2808360" cy="2303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" descr="logo"/>
          <p:cNvPicPr/>
          <p:nvPr/>
        </p:nvPicPr>
        <p:blipFill>
          <a:blip r:embed="rId3"/>
          <a:stretch/>
        </p:blipFill>
        <p:spPr>
          <a:xfrm>
            <a:off x="5435640" y="476280"/>
            <a:ext cx="3017880" cy="424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20"/>
          <p:cNvSpPr txBox="1"/>
          <p:nvPr/>
        </p:nvSpPr>
        <p:spPr>
          <a:xfrm>
            <a:off x="250920" y="3102120"/>
            <a:ext cx="2303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Корабль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6" name="WordArt 21"/>
          <p:cNvSpPr txBox="1"/>
          <p:nvPr/>
        </p:nvSpPr>
        <p:spPr>
          <a:xfrm>
            <a:off x="5435640" y="5229360"/>
            <a:ext cx="3024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Короб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7" name="Picture 24" descr="n017_space"/>
          <p:cNvPicPr/>
          <p:nvPr/>
        </p:nvPicPr>
        <p:blipFill>
          <a:blip r:embed="rId4"/>
          <a:stretch/>
        </p:blipFill>
        <p:spPr>
          <a:xfrm>
            <a:off x="250920" y="3860640"/>
            <a:ext cx="2736720" cy="2465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250920" y="3860640"/>
            <a:ext cx="2735280" cy="244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26"/>
          <p:cNvSpPr txBox="1"/>
          <p:nvPr/>
        </p:nvSpPr>
        <p:spPr>
          <a:xfrm>
            <a:off x="3708360" y="1341360"/>
            <a:ext cx="64764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15f1a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}</a:t>
            </a:r>
            <a:endParaRPr b="0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015f1a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951c0e16e16535557adc72e8076bf661_full"/>
          <p:cNvPicPr/>
          <p:nvPr/>
        </p:nvPicPr>
        <p:blipFill>
          <a:blip r:embed="rId2"/>
          <a:stretch/>
        </p:blipFill>
        <p:spPr>
          <a:xfrm>
            <a:off x="2254320" y="190440"/>
            <a:ext cx="463536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WordArt 10"/>
          <p:cNvSpPr txBox="1"/>
          <p:nvPr/>
        </p:nvSpPr>
        <p:spPr>
          <a:xfrm rot="5400000">
            <a:off x="-1226160" y="2673360"/>
            <a:ext cx="496908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КНЯЗЬ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3" name="WordArt 11"/>
          <p:cNvSpPr txBox="1"/>
          <p:nvPr/>
        </p:nvSpPr>
        <p:spPr>
          <a:xfrm rot="5400000">
            <a:off x="5435640" y="2493000"/>
            <a:ext cx="504036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ВИТОВТ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Diagram 5"/>
          <p:cNvGrpSpPr/>
          <p:nvPr/>
        </p:nvGrpSpPr>
        <p:grpSpPr>
          <a:xfrm>
            <a:off x="1991520" y="213840"/>
            <a:ext cx="6895440" cy="4106160"/>
            <a:chOff x="1991520" y="213840"/>
            <a:chExt cx="6895440" cy="4106160"/>
          </a:xfrm>
        </p:grpSpPr>
        <p:sp>
          <p:nvSpPr>
            <p:cNvPr id="66" name="_s1028"/>
            <p:cNvSpPr/>
            <p:nvPr/>
          </p:nvSpPr>
          <p:spPr>
            <a:xfrm>
              <a:off x="4396680" y="943200"/>
              <a:ext cx="2084760" cy="2084400"/>
            </a:xfrm>
            <a:prstGeom prst="ellipse">
              <a:avLst/>
            </a:prstGeom>
            <a:gradFill rotWithShape="0">
              <a:gsLst>
                <a:gs pos="0">
                  <a:srgbClr val="ff66ff">
                    <a:alpha val="50196"/>
                  </a:srgbClr>
                </a:gs>
                <a:gs pos="100000">
                  <a:srgbClr val="752f75"/>
                </a:gs>
              </a:gsLst>
              <a:path path="rect">
                <a:fillToRect l="50000" t="50000" r="50000" b="50000"/>
              </a:path>
            </a:gradFill>
            <a:ln w="46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29"/>
            <p:cNvSpPr/>
            <p:nvPr/>
          </p:nvSpPr>
          <p:spPr>
            <a:xfrm>
              <a:off x="4601160" y="213840"/>
              <a:ext cx="16783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000000"/>
                  </a:solidFill>
                  <a:latin typeface="Monotype Corsiva"/>
                </a:rPr>
                <a:t>Русский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0"/>
            <p:cNvSpPr/>
            <p:nvPr/>
          </p:nvSpPr>
          <p:spPr>
            <a:xfrm>
              <a:off x="5083560" y="2132640"/>
              <a:ext cx="2084400" cy="2084760"/>
            </a:xfrm>
            <a:prstGeom prst="ellipse">
              <a:avLst/>
            </a:prstGeom>
            <a:gradFill rotWithShape="0">
              <a:gsLst>
                <a:gs pos="0">
                  <a:srgbClr val="3366ff">
                    <a:alpha val="50196"/>
                  </a:srgbClr>
                </a:gs>
                <a:gs pos="100000">
                  <a:srgbClr val="172f75"/>
                </a:gs>
              </a:gsLst>
              <a:path path="rect">
                <a:fillToRect l="50000" t="50000" r="50000" b="50000"/>
              </a:path>
            </a:gra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1"/>
            <p:cNvSpPr/>
            <p:nvPr/>
          </p:nvSpPr>
          <p:spPr>
            <a:xfrm>
              <a:off x="7209000" y="3799080"/>
              <a:ext cx="167796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Monotype Corsiva"/>
                </a:rPr>
                <a:t>Украински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2"/>
            <p:cNvSpPr/>
            <p:nvPr/>
          </p:nvSpPr>
          <p:spPr>
            <a:xfrm>
              <a:off x="3708360" y="2131200"/>
              <a:ext cx="2084760" cy="2084400"/>
            </a:xfrm>
            <a:prstGeom prst="ellipse">
              <a:avLst/>
            </a:prstGeom>
            <a:gradFill rotWithShape="0">
              <a:gsLst>
                <a:gs pos="0">
                  <a:srgbClr val="ff3399">
                    <a:alpha val="50196"/>
                  </a:srgbClr>
                </a:gs>
                <a:gs pos="100000">
                  <a:srgbClr val="751746"/>
                </a:gs>
              </a:gsLst>
              <a:path path="rect">
                <a:fillToRect l="50000" t="50000" r="50000" b="50000"/>
              </a:path>
            </a:gradFill>
            <a:ln w="468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3"/>
            <p:cNvSpPr/>
            <p:nvPr/>
          </p:nvSpPr>
          <p:spPr>
            <a:xfrm>
              <a:off x="1991520" y="3799080"/>
              <a:ext cx="167796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Monotype Corsiva"/>
                </a:rPr>
                <a:t>Белорусски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53"/>
          <p:cNvSpPr txBox="1"/>
          <p:nvPr/>
        </p:nvSpPr>
        <p:spPr>
          <a:xfrm>
            <a:off x="395280" y="47628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Родство языков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3" name="WordArt 54"/>
          <p:cNvSpPr txBox="1"/>
          <p:nvPr/>
        </p:nvSpPr>
        <p:spPr>
          <a:xfrm>
            <a:off x="0" y="4508640"/>
            <a:ext cx="9144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Значительное количество слов в русском  языке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заимствовано из белорусского и украинского языков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index_seaotter"/>
          <p:cNvPicPr/>
          <p:nvPr/>
        </p:nvPicPr>
        <p:blipFill>
          <a:blip r:embed="rId2"/>
          <a:stretch/>
        </p:blipFill>
        <p:spPr>
          <a:xfrm>
            <a:off x="1692360" y="260280"/>
            <a:ext cx="5040360" cy="4511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1692360" y="260280"/>
            <a:ext cx="5040360" cy="453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69840" y="5229360"/>
            <a:ext cx="9074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UDRA  (выдра); UDRAS (водяное животное);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HUDRA (гидра, водяная змея)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9"/>
          <p:cNvSpPr txBox="1"/>
          <p:nvPr/>
        </p:nvSpPr>
        <p:spPr>
          <a:xfrm>
            <a:off x="539640" y="765000"/>
            <a:ext cx="766764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Явление народной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(ложной) этимологии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яркая примета простореч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95280" y="3716280"/>
            <a:ext cx="3384720" cy="2160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LOGKI-9"/>
          <p:cNvPicPr/>
          <p:nvPr/>
        </p:nvPicPr>
        <p:blipFill>
          <a:blip r:embed="rId2"/>
          <a:stretch/>
        </p:blipFill>
        <p:spPr>
          <a:xfrm>
            <a:off x="395280" y="3716280"/>
            <a:ext cx="3382920" cy="217656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2484360" y="476280"/>
            <a:ext cx="460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Бить баклуш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4" name="AutoShape 7"/>
          <p:cNvSpPr/>
          <p:nvPr/>
        </p:nvSpPr>
        <p:spPr>
          <a:xfrm rot="2991600">
            <a:off x="916560" y="610560"/>
            <a:ext cx="576000" cy="1653840"/>
          </a:xfrm>
          <a:custGeom>
            <a:avLst/>
            <a:gdLst>
              <a:gd name="textAreaLeft" fmla="*/ 77040 w 576000"/>
              <a:gd name="textAreaRight" fmla="*/ 498960 w 576000"/>
              <a:gd name="textAreaTop" fmla="*/ 302760 h 1653840"/>
              <a:gd name="textAreaBottom" fmla="*/ 1190520 h 165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5" stAng="-5400000" swAng="-5400000"/>
                <a:lnTo>
                  <a:pt x="0" y="11589"/>
                </a:lnTo>
                <a:arcTo wR="21600" hR="7915" stAng="10800000" swAng="-2523581"/>
                <a:lnTo>
                  <a:pt x="13473" y="21018"/>
                </a:lnTo>
                <a:lnTo>
                  <a:pt x="21600" y="17666"/>
                </a:lnTo>
                <a:lnTo>
                  <a:pt x="13473" y="13150"/>
                </a:lnTo>
                <a:lnTo>
                  <a:pt x="13473" y="15247"/>
                </a:lnTo>
                <a:arcTo wR="21600" hR="7915" stAng="8276419" swAng="2223768"/>
                <a:lnTo>
                  <a:pt x="590" y="9752"/>
                </a:lnTo>
                <a:arcTo wR="21600" hR="7915" stAng="-10500186" swAng="5100186"/>
                <a:close/>
              </a:path>
              <a:path fill="darkenLess" w="21600" h="21600">
                <a:moveTo>
                  <a:pt x="21600" y="0"/>
                </a:moveTo>
                <a:arcTo wR="21600" hR="7915" stAng="-5400000" swAng="-5400000"/>
                <a:lnTo>
                  <a:pt x="0" y="7915"/>
                </a:lnTo>
                <a:arcTo wR="21600" hR="7915" stAng="10800000" swAng="-299814"/>
                <a:lnTo>
                  <a:pt x="590" y="9752"/>
                </a:lnTo>
                <a:arcTo wR="21600" hR="7915" stAng="-10500186" swAng="510018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0" y="2133720"/>
            <a:ext cx="47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Заниматься простой работой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в щепеном промысл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86" name="Picture 10" descr="лжа"/>
          <p:cNvPicPr/>
          <p:nvPr/>
        </p:nvPicPr>
        <p:blipFill>
          <a:blip r:embed="rId3"/>
          <a:stretch/>
        </p:blipFill>
        <p:spPr>
          <a:xfrm>
            <a:off x="4572000" y="3645000"/>
            <a:ext cx="3887640" cy="22622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1"/>
          <p:cNvSpPr/>
          <p:nvPr/>
        </p:nvSpPr>
        <p:spPr>
          <a:xfrm rot="19887600">
            <a:off x="7616880" y="743040"/>
            <a:ext cx="598320" cy="1549440"/>
          </a:xfrm>
          <a:custGeom>
            <a:avLst/>
            <a:gdLst>
              <a:gd name="textAreaLeft" fmla="*/ 79920 w 598320"/>
              <a:gd name="textAreaRight" fmla="*/ 518400 w 598320"/>
              <a:gd name="textAreaTop" fmla="*/ 271080 h 1549440"/>
              <a:gd name="textAreaBottom" fmla="*/ 1123560 h 15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2"/>
          <p:cNvSpPr txBox="1"/>
          <p:nvPr/>
        </p:nvSpPr>
        <p:spPr>
          <a:xfrm>
            <a:off x="5076720" y="2421000"/>
            <a:ext cx="3240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Разбивать луж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4572000" y="3645000"/>
            <a:ext cx="3887640" cy="2232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1835280" y="2565360"/>
            <a:ext cx="5905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увлекательнейшая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 </a:t>
            </a: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наука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1762200" y="333360"/>
            <a:ext cx="576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Этимология-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5:27:38Z</dcterms:created>
  <dc:creator>Serg</dc:creator>
  <dc:description/>
  <dc:language>en-US</dc:language>
  <cp:lastModifiedBy>Пользователь</cp:lastModifiedBy>
  <dcterms:modified xsi:type="dcterms:W3CDTF">2013-08-01T10:23:34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