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B5D-3FFB-4C03-928B-3C1C0E97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925-D8F1-4F41-91E8-2D3F904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FCD-EF08-4067-8DAE-99898C1F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3BF-E7AE-4A06-835E-DECFDB2A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4199-4A0E-41E7-BB16-2C077337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E624-4FD2-485D-A0AE-077C993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290C-363B-4874-B1CD-5D584395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FC91-FD8D-4C70-A6A3-6BCBAEA8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4CCE-881A-4E9B-ABF2-B5953C1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FA6A-65A2-460E-88C3-F334B0B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7B37-DC83-494A-AC97-57CCCC3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7D0-F79D-4C30-9032-DBB190C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6ECA-3681-4024-9E6F-4E33F7C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622D-DB64-41C2-91F8-C480A2C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070B-5FC0-4D5F-B1BE-3C7A105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9725-29A8-486C-A9C2-E2938891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F535-6900-4281-AD6D-97189784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051-9DE2-44C9-B720-7E163384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3DA-26A9-4013-B404-A237B9CF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58A-2BF7-462B-9276-5AE3249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588-871E-4CD0-83C5-A696CA35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B1D-E22C-4BCD-AB35-3DCAB12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766-3CAA-4CEB-BD1F-00188CB1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1AE-3DC4-4FAC-B1B3-1CC6517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AA8A-355A-4734-AB3E-9107566F0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7B27-163C-4CE4-BC14-81CC895978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БАДы: за и проти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77000" cy="3886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960" y="1371240"/>
            <a:ext cx="392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дготови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ученицы 3-А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оскич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Ярощук Ю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Учитель-логопе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айс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льфия Рафкат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Чем, по Вашему мнению, является БАДом?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724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ДЕТИ - 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екарственным средством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обавкой к пище 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чебным средством -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зрослые - 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екарственным средством -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обавкой к пище 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чебным средством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4952880" y="1828800"/>
          <a:ext cx="419112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41911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, по Вашему мнению, является БАДом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Дети-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й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ь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зрослые-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й 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ь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228600" y="1828800"/>
          <a:ext cx="44197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По происхождению основных компоненто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растительные экстракты, цельные части раст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пчел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орепродук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животные вытяж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инеральные компонен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фермен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дукты биотехнологии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38080" y="1541520"/>
          <a:ext cx="7925040" cy="4572000"/>
        </p:xfrm>
        <a:graphic>
          <a:graphicData uri="http://schemas.openxmlformats.org/drawingml/2006/table">
            <a:tbl>
              <a:tblPr/>
              <a:tblGrid>
                <a:gridCol w="3973680"/>
                <a:gridCol w="395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туральные БА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 (натр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 (глюкоз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ная свёкла, сахарный трост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д в с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ие водоро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ий жир (омега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ыба, печень тр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человод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и (чёрный перец, мак, горчица, имбирь, укроп, лавровый лист и друг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иде порошка, настойки, экстрактов, сухих листь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матоген (витамин желез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из мяса живот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ушенные фрукты, ов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хофрукты, сушеные ов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ожение молочнокислое и спиртов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фир, йогурт, спиртовые настой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20400"/>
            <a:ext cx="90709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Распространенные продукты питания и их использование в пище в виде БАД </a:t>
            </a:r>
            <a:br>
              <a:rPr sz="2400"/>
            </a:b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(биологически активные добавки к пище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временные БАДы производятся в виде сиропов, концентратов, экстрактов, бальзамов, драже и порошков, а также таблеток и капсул, насто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ъединяет их одно - основными компонентами БАД остаются минералы, витамины и вытяжки из целебных трав, водорослей, продукты животновод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Основные доводы за и против употребления БАДа человек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Необходимая добавка к пище  (витамины, минералы, микроэлементы, фермент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офилактика заболеваний у взрослых и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Укрепление иммунитета здорового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овышение сопротивляемости организма больны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ало положительной  информации о  БАДах и их производител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ного  подделок  и обмана покуп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ало специалистов - нутрициологов  (врачи) по БА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орма потребления продуктов питания в ден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ети - наше будущее 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Ды: за и проти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0848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886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059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ирамида здорового пит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23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952880" y="533520"/>
            <a:ext cx="37339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дачи работ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Опросить людей разного возраста, что они знают о БАД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Изучить литературу по этому вопро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Проанализировать и обобщить полученную информ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ет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аботе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спользовали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следующие мет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 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 анализ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БАД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БАД (биологически активная добавка)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концентрат биологически активных веществ, который используется в составе продуктов или в виде капсул, таблеток, чаёв  для коррекции и обогащения рациона организма человека витаминами, микроэлементами и минера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Биологически активные добавки (БАД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применяются как профилактическое или вспомогательное средство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долж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менять    лекарственные препар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ке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4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1. Сколько вам л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2.Знаете ли вы, что такое БАД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Да                    Б)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3. Вы употребляете БАД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Да             Б) Нет              В) Иног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4. Если употребляете БАД то,  в каком виде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Капсул          Б) Порошка           В) Отва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5. Чем является, по вашему мнению, БАД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Лекарственным средством   Б)  Добавкой к пище   В) Лечебным сре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6.  Что, по вашему мнению, из данных продуктов является БАД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Чай             Б) Соль                    В) 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наете ли Вы, что такое БАД?</a:t>
            </a:r>
            <a:br>
              <a:rPr sz="28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- 15 человек:     да - 8             нет – 7 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- 15:           да -13            нет - 2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4495680" y="1905120"/>
          <a:ext cx="464832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64832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9" descr="Bad-002"/>
          <p:cNvPicPr/>
          <p:nvPr/>
        </p:nvPicPr>
        <p:blipFill>
          <a:blip r:embed="rId3"/>
          <a:stretch/>
        </p:blipFill>
        <p:spPr>
          <a:xfrm>
            <a:off x="457200" y="1905120"/>
            <a:ext cx="358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ы употребляете БАД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</a:t>
            </a:r>
            <a:r>
              <a:rPr b="1" lang="ru-RU" sz="18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- 15  человек          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– 15 человек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да     нет     иногда                          да    нет    иногда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5       9         1                                    3        9        3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72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38680" y="1904760"/>
            <a:ext cx="3206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685800" y="1905120"/>
          <a:ext cx="48006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4800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Из истории БАДов. Фото с сайта http://creative.gettyimages.com"/>
          <p:cNvPicPr/>
          <p:nvPr/>
        </p:nvPicPr>
        <p:blipFill>
          <a:blip r:embed="rId3"/>
          <a:stretch/>
        </p:blipFill>
        <p:spPr>
          <a:xfrm>
            <a:off x="5791320" y="266688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Если употребляете, то в каком виде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Дети: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апсул    порошка         отвара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о              2                      6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260px-Bad-001"/>
          <p:cNvPicPr/>
          <p:nvPr/>
        </p:nvPicPr>
        <p:blipFill>
          <a:blip r:embed="rId1"/>
          <a:stretch/>
        </p:blipFill>
        <p:spPr>
          <a:xfrm>
            <a:off x="914400" y="1828800"/>
            <a:ext cx="396252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8"/>
          <p:cNvGraphicFramePr/>
          <p:nvPr/>
        </p:nvGraphicFramePr>
        <p:xfrm>
          <a:off x="4876920" y="1752480"/>
          <a:ext cx="426708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752480"/>
                    <a:ext cx="426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143000" y="0"/>
          <a:ext cx="7648560" cy="579600"/>
        </p:xfrm>
        <a:graphic>
          <a:graphicData uri="http://schemas.openxmlformats.org/drawingml/2006/table">
            <a:tbl>
              <a:tblPr/>
              <a:tblGrid>
                <a:gridCol w="1267560"/>
                <a:gridCol w="770040"/>
                <a:gridCol w="915840"/>
                <a:gridCol w="784440"/>
                <a:gridCol w="216000"/>
                <a:gridCol w="216000"/>
                <a:gridCol w="1305000"/>
                <a:gridCol w="767160"/>
                <a:gridCol w="140652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92" descr="MPj04337090000[1]"/>
          <p:cNvPicPr/>
          <p:nvPr/>
        </p:nvPicPr>
        <p:blipFill>
          <a:blip r:embed="rId1"/>
          <a:stretch/>
        </p:blipFill>
        <p:spPr>
          <a:xfrm>
            <a:off x="5410080" y="25146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Если употребляете БАД, то в каком виде?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Взрослые:</a:t>
            </a:r>
            <a:br>
              <a:rPr sz="24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Капсул    порошка        отвара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6                   2                    0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744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8"/>
          <p:cNvGraphicFramePr/>
          <p:nvPr/>
        </p:nvGraphicFramePr>
        <p:xfrm>
          <a:off x="533520" y="2057400"/>
          <a:ext cx="426708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Object 1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57400"/>
                    <a:ext cx="4267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 Тыркова</cp:lastModifiedBy>
  <dcterms:modified xsi:type="dcterms:W3CDTF">2011-04-26T12:08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