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png" ContentType="image/png"/>
  <Override PartName="/ppt/media/image4.wmf" ContentType="image/x-wmf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100-6C45-4B31-933E-8BB67DE4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1E5-1BEA-4B36-BE10-5BE73FC1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241-03DE-4AD2-80AB-C1ACF675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6F0-3061-43C5-9F35-52C83E0A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B06-FD51-44F7-9B37-453ACB7C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F8C3-1747-4052-9A1A-846C3B84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712B-D94A-43B5-B1C2-8FEF24A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3268-52A8-4C66-A0A9-AFB31A17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0EE6-1E0C-4F15-A491-08AAD43E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C529-C2B5-43B8-BCE0-DCA3F88C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7AA8-EF3D-4344-9771-5CDC747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0B9-FF21-4E43-A1B5-B125BA08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0247-E3CA-4C6B-A644-2494CE9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826E-38FB-4B7C-AFAD-4F194691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876A-00BA-4039-876A-C46A2523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B353-7C7A-47BD-8E9C-CC64EF41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135B-C38B-4772-8D74-5BC9ACB1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EA8-3D2A-4761-97E5-DB0405F2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DD1-99B3-42D5-B922-94DCF063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08A-B823-4833-A4A1-25977A30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440-2190-4E6F-8FCE-F9CC4444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C01-344E-4573-9E4F-D357130A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915-40B5-430B-8AA3-3AE32DA0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507-016F-409C-85BF-69279F83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AC5-F477-43F9-B3AC-85AAE477F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5297-637C-41D6-9331-91311B3DF9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БАДы: за и проти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077000" cy="3886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960" y="1371240"/>
            <a:ext cx="392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дготови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ученицы 3-А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У СОШ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оскич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Ярощук Ю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уководит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Учитель-логопе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У СОШ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Гайс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льфия Рафкат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Чем, по Вашему мнению, является БАДом?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724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ДЕТИ - 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екарственным средством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обавкой к пище 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чебным средством -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Взрослые - 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екарственным средством -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обавкой к пище 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чебным средством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4952880" y="1828800"/>
          <a:ext cx="419112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28800"/>
                    <a:ext cx="41911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, по Вашему мнению, является БАДом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Дети-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й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ь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Взрослые-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й -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ь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228600" y="1828800"/>
          <a:ext cx="441972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По происхождению основных компонентов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растительные экстракты, цельные части раст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дукты пчел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морепродук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животные вытяж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минеральные компонен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дукты фермен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дукты биотехнологии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838080" y="1541520"/>
          <a:ext cx="7925040" cy="4572000"/>
        </p:xfrm>
        <a:graphic>
          <a:graphicData uri="http://schemas.openxmlformats.org/drawingml/2006/table">
            <a:tbl>
              <a:tblPr/>
              <a:tblGrid>
                <a:gridCol w="3973680"/>
                <a:gridCol w="3951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туральные БА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ь (натр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р (глюкоз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рная свёкла, сахарный трост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од в с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ские водорос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ыбий жир (омега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ыба, печень тр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человод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и (чёрный перец, мак, горчица, имбирь, укроп, лавровый лист и други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виде порошка, настойки, экстрактов, сухих листь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матоген (витамин желез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из мяса живот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ушенные фрукты, овощ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хофрукты, сушеные овощ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ожение молочнокислое и спиртов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фир, йогурт, спиртовые настой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20400"/>
            <a:ext cx="90709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Распространенные продукты питания и их использование в пище в виде БАД </a:t>
            </a:r>
            <a:br>
              <a:rPr sz="2400"/>
            </a:b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(биологически активные добавки к пище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05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временные БАДы производятся в виде сиропов, концентратов, экстрактов, бальзамов, драже и порошков, а также таблеток и капсул, насто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ъединяет их одно - основными компонентами БАД остаются минералы, витамины и вытяжки из целебных трав, водорослей, продукты животновод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Основные доводы за и против употребления БАДа человеко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Необходимая добавка к пище  (витамины, минералы, микроэлементы, фермент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офилактика заболеваний у взрослых и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Укрепление иммунитета здорового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овышение сопротивляемости организма больны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ти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ало положительной  информации о  БАДах и их производител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Много  подделок  и обмана покуп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ало специалистов - нутрициологов  (врачи) по БА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орма потребления продуктов питания в ден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ети - наше будущее 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Ды: за и проти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08480" cy="48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886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059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ирамида здорового пит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23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4952880" y="533520"/>
            <a:ext cx="373392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дачи работ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Опросить людей разного возраста, что они знают о БАД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- Изучить литературу по этому вопро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- Проанализировать и обобщить полученную информ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ет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работе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спользовали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следующие мет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- 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- анализ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БАД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БАД (биологически активная добавка)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концентрат биологически активных веществ, который используется в составе продуктов или в виде капсул, таблеток, чаёв  для коррекции и обогащения рациона организма человека витаминами, микроэлементами и минера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Биологически активные добавки (БАД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сии применяются как профилактическое или вспомогательное средство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долж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менять    лекарственные препар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нке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4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1. Сколько вам л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2.Знаете ли вы, что такое БАД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Да                    Б)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3. Вы употребляете БАД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Да             Б) Нет              В) Иног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4. Если употребляете БАД то,  в каком виде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Капсул          Б) Порошка           В) Отва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5. Чем является, по вашему мнению, БАД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Лекарственным средством   Б)  Добавкой к пище   В) Лечебным сред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6.  Что, по вашему мнению, из данных продуктов является БАД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Чай             Б) Соль                    В) 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Знаете ли Вы, что такое БАД?</a:t>
            </a:r>
            <a:br>
              <a:rPr sz="28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Дети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- 15 человек:     да - 8             нет – 7 </a:t>
            </a: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Взрослые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- 15:           да -13            нет - 2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4495680" y="1905120"/>
          <a:ext cx="464832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05120"/>
                    <a:ext cx="464832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9" descr="Bad-002"/>
          <p:cNvPicPr/>
          <p:nvPr/>
        </p:nvPicPr>
        <p:blipFill>
          <a:blip r:embed="rId3"/>
          <a:stretch/>
        </p:blipFill>
        <p:spPr>
          <a:xfrm>
            <a:off x="457200" y="1905120"/>
            <a:ext cx="3581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ы употребляете БАД?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Дети</a:t>
            </a:r>
            <a:r>
              <a:rPr b="1" lang="ru-RU" sz="18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- 15  человек                       </a:t>
            </a: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Взрослые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– 15 человек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да     нет     иногда                          да    нет    иногда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5       9         1                                    3        9        3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72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38680" y="1904760"/>
            <a:ext cx="3206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5800" y="1905120"/>
          <a:ext cx="480060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4800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6" descr="Из истории БАДов. Фото с сайта http://creative.gettyimages.com"/>
          <p:cNvPicPr/>
          <p:nvPr/>
        </p:nvPicPr>
        <p:blipFill>
          <a:blip r:embed="rId3"/>
          <a:stretch/>
        </p:blipFill>
        <p:spPr>
          <a:xfrm>
            <a:off x="5791320" y="266688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Если употребляете, то в каком виде?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Дети: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Капсул    порошка         отвара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о              2                      6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4" descr="260px-Bad-001"/>
          <p:cNvPicPr/>
          <p:nvPr/>
        </p:nvPicPr>
        <p:blipFill>
          <a:blip r:embed="rId1"/>
          <a:stretch/>
        </p:blipFill>
        <p:spPr>
          <a:xfrm>
            <a:off x="914400" y="1828800"/>
            <a:ext cx="3962520" cy="39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8"/>
          <p:cNvGraphicFramePr/>
          <p:nvPr/>
        </p:nvGraphicFramePr>
        <p:xfrm>
          <a:off x="4876920" y="1752480"/>
          <a:ext cx="426708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752480"/>
                    <a:ext cx="426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143000" y="0"/>
          <a:ext cx="7648560" cy="579600"/>
        </p:xfrm>
        <a:graphic>
          <a:graphicData uri="http://schemas.openxmlformats.org/drawingml/2006/table">
            <a:tbl>
              <a:tblPr/>
              <a:tblGrid>
                <a:gridCol w="1267560"/>
                <a:gridCol w="770040"/>
                <a:gridCol w="915840"/>
                <a:gridCol w="784440"/>
                <a:gridCol w="216000"/>
                <a:gridCol w="216000"/>
                <a:gridCol w="1305000"/>
                <a:gridCol w="767160"/>
                <a:gridCol w="140652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92" descr="MPj04337090000[1]"/>
          <p:cNvPicPr/>
          <p:nvPr/>
        </p:nvPicPr>
        <p:blipFill>
          <a:blip r:embed="rId1"/>
          <a:stretch/>
        </p:blipFill>
        <p:spPr>
          <a:xfrm>
            <a:off x="5410080" y="25146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Если употребляете БАД, то в каком виде?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Взрослые:</a:t>
            </a:r>
            <a:br>
              <a:rPr sz="24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Капсул    порошка        отвара</a:t>
            </a:r>
            <a:br>
              <a:rPr sz="2400"/>
            </a:b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6                   2                    0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744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8"/>
          <p:cNvGraphicFramePr/>
          <p:nvPr/>
        </p:nvGraphicFramePr>
        <p:xfrm>
          <a:off x="533520" y="2057400"/>
          <a:ext cx="426708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Object 1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057400"/>
                    <a:ext cx="4267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дия Тыркова</cp:lastModifiedBy>
  <dcterms:modified xsi:type="dcterms:W3CDTF">2011-04-26T12:08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