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6D0-AAE4-455D-A764-918D0268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79B-256A-40D3-92CB-945085E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B8D-8334-441D-A49C-92FA6EC7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5BF-19BB-4EFB-B908-D078B6CF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1FD-91CD-4F23-8C10-6A46A1F3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EB6-5568-4D15-8F5B-A7A3023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9BB7-A75B-42D0-A665-3187FA5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BBD-B130-47E8-8AB9-006EE2E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C7C-2C4C-4C76-99D5-D2EB661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1DB-03D1-484A-9644-676966DC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B3AB-ED41-43A2-A1D0-3FE585D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40C-ED0C-48D8-B30E-1BAEF61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8A5E-417B-4AE8-9261-4CEB841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3D6-B7E5-4F6E-93FC-9734AF9B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C73-99F7-453F-828A-4DDFAC0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B586-D77B-40BF-8450-8497C782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B2DD-465F-4A2C-895F-1ABFC6C2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72A-8584-4DEC-B615-F3EF909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5E9-585C-4ECD-823C-14173F78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D25-4489-4180-9257-17FB34D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7B5-D6E4-40F9-825C-E1B4C27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F22-CE4F-4A32-9F09-7297F73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093-748B-4151-9B38-CF7A3F2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247-8129-4D99-8784-BE0509B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D8B-1ACF-4DC0-A13F-23F59D576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8C9-4360-483D-B886-CB6E392D9D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БАДы: за и проти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7700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960" y="1371240"/>
            <a:ext cx="392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еницы 3-А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скич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Ярощук Ю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айс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льфия Рафка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Чем, по Вашему мнению, является БАДом?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724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4952880" y="1828800"/>
          <a:ext cx="419112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41911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, по Вашему мнению, является БАДом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228600" y="1828800"/>
          <a:ext cx="44197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По происхождению основных компоненто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стительные экстракты, цельные части раст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пчел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орепродук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животные вытяж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инеральные компонен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ферм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биотехнологии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1541520"/>
          <a:ext cx="7925040" cy="4572000"/>
        </p:xfrm>
        <a:graphic>
          <a:graphicData uri="http://schemas.openxmlformats.org/drawingml/2006/table">
            <a:tbl>
              <a:tblPr/>
              <a:tblGrid>
                <a:gridCol w="3973680"/>
                <a:gridCol w="395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туральные БА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 (натр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 (глюко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ная свёкла, сахарный трос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д в 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водоро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ий жир (омега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а, печень тр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чело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и (чёрный перец, мак, горчица, имбирь, укроп, лавровый лист и друг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иде порошка, настойки, экстрактов, сухих листь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матоген (витамин желез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из мяса живот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ушенные фрукты,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хофрукты, сушеные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ожение молочнокислое и спиртов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фир, йогурт, спиртовые наст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20400"/>
            <a:ext cx="9070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Распространенные продукты питания и их использование в пище в виде БАД 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(биологически активные добавки к пище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временные БАДы производятся в виде сиропов, концентратов, экстрактов, бальзамов, драже и порошков, а также таблеток и капсул, насто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ъединяет их одно - основными компонентами БАД остаются минералы, витамины и вытяжки из целебных трав, водорослей, продукты животнов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сновные доводы за и против употребления БАДа человек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еобходимая добавка к пище  (витамины, минералы, микроэлементы, фермен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офилактика заболеваний у взрослых 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Укрепление иммунитета здорово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вышение сопротивляемости организма больны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ало положительной  информации о  БАДах и их производите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ного  подделок  и обмана покуп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ало специалистов - нутрициологов  (врачи) по БА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орма потребления продуктов питания в ден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ети - наше будущее 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Ды: за и проти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084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86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059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ирамида здорового 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3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952880" y="533520"/>
            <a:ext cx="3733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чи работ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Опросить людей разного возраста, что они знают о БАД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Изучить литературу по этому вопро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Проанализировать и обобщить полученную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ет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аботе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спользовали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следующие 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анализ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БАД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АД (биологически активная добавка)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концентрат биологически активных веществ, который используется в составе продуктов или в виде капсул, таблеток, чаёв  для коррекции и обогащения рациона организма человека витаминами, микроэлементами и минера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Биологически активные добавки (БАД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применяются как профилактическое или вспомогательное средство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лж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менять    лекарственные препар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ке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1. Сколько вам 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2.Знаете ли вы, что такое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       Б)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3. Вы употребляете БАД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Б) Нет              В) Ино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4. Если употребляете БАД то,  в каком виде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Капсул          Б) Порошка           В) Отва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5. Чем является, по вашему мнению,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Лекарственным средством   Б)  Добавкой к пище   В) Лечебны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6.  Что, по вашему мнению, из данных продуктов является БАД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Чай             Б) Соль                    В)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наете ли Вы, что такое БАД?</a:t>
            </a:r>
            <a:br>
              <a:rPr sz="28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- 15 человек:     да - 8             нет – 7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- 15:           да -13            нет - 2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4495680" y="1905120"/>
          <a:ext cx="464832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9" descr="Bad-002"/>
          <p:cNvPicPr/>
          <p:nvPr/>
        </p:nvPicPr>
        <p:blipFill>
          <a:blip r:embed="rId3"/>
          <a:stretch/>
        </p:blipFill>
        <p:spPr>
          <a:xfrm>
            <a:off x="457200" y="19051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ы употребляете БАД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</a:t>
            </a:r>
            <a:r>
              <a:rPr b="1" lang="ru-RU" sz="18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- 15  человек          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– 15 человек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да     нет     иногда                          да    нет    иногда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5       9         1                                    3        9        3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72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38680" y="1904760"/>
            <a:ext cx="320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1905120"/>
          <a:ext cx="48006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4800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Из истории БАДов. Фото с сайта http://creative.gettyimages.com"/>
          <p:cNvPicPr/>
          <p:nvPr/>
        </p:nvPicPr>
        <p:blipFill>
          <a:blip r:embed="rId3"/>
          <a:stretch/>
        </p:blipFill>
        <p:spPr>
          <a:xfrm>
            <a:off x="5791320" y="266688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: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 отвар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              2                      6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260px-Bad-001"/>
          <p:cNvPicPr/>
          <p:nvPr/>
        </p:nvPicPr>
        <p:blipFill>
          <a:blip r:embed="rId1"/>
          <a:stretch/>
        </p:blipFill>
        <p:spPr>
          <a:xfrm>
            <a:off x="914400" y="1828800"/>
            <a:ext cx="396252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8"/>
          <p:cNvGraphicFramePr/>
          <p:nvPr/>
        </p:nvGraphicFramePr>
        <p:xfrm>
          <a:off x="4876920" y="1752480"/>
          <a:ext cx="426708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426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43000" y="0"/>
          <a:ext cx="7648560" cy="579600"/>
        </p:xfrm>
        <a:graphic>
          <a:graphicData uri="http://schemas.openxmlformats.org/drawingml/2006/table">
            <a:tbl>
              <a:tblPr/>
              <a:tblGrid>
                <a:gridCol w="1267560"/>
                <a:gridCol w="770040"/>
                <a:gridCol w="915840"/>
                <a:gridCol w="784440"/>
                <a:gridCol w="216000"/>
                <a:gridCol w="216000"/>
                <a:gridCol w="1305000"/>
                <a:gridCol w="767160"/>
                <a:gridCol w="140652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92" descr="MPj04337090000[1]"/>
          <p:cNvPicPr/>
          <p:nvPr/>
        </p:nvPicPr>
        <p:blipFill>
          <a:blip r:embed="rId1"/>
          <a:stretch/>
        </p:blipFill>
        <p:spPr>
          <a:xfrm>
            <a:off x="5410080" y="25146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 БАД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:</a:t>
            </a:r>
            <a:br>
              <a:rPr sz="24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отвара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6                   2                    0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744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8"/>
          <p:cNvGraphicFramePr/>
          <p:nvPr/>
        </p:nvGraphicFramePr>
        <p:xfrm>
          <a:off x="533520" y="2057400"/>
          <a:ext cx="426708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1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57400"/>
                    <a:ext cx="4267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 Тыркова</cp:lastModifiedBy>
  <dcterms:modified xsi:type="dcterms:W3CDTF">2011-04-26T12:08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