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10C-0F56-4387-A80E-E30C8CC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0D3-806A-4F53-862A-F7B8A959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133-7B83-4932-9D45-5C86361C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3B5-8177-4576-97A9-A82128B8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E78-A61D-459E-8173-F0AF0069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C2BB-99C6-4564-82C0-A35CDEE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C318-5221-4FE2-8ACB-EDB90FC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A23-07E6-48D8-BDA9-BC5E298E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1B12-185A-451D-9D50-6D31212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9D8-13A5-4356-9DDC-02A51B2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F2C-AA00-4105-85C5-45537AD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2F3-A243-44AD-95D5-06E8D1A3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623-0C1D-400F-B8D1-634DACA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4E0B-D417-446A-A624-5113A9F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A893-CB8A-4015-9C9F-F9ED753B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0B0F-44EC-4477-8557-B54DC57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F13-BE31-487C-9A1F-33BEA19A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6D8B-5D8A-4964-898A-2CBB1F2C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2448-362F-4BC0-88B1-E17C1A0C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2961-1379-4F36-9CEE-40CBCA7F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8898-066B-47EE-89C3-55C05C8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062F-3DD4-4F2A-BD7A-A7207F05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CE2-F0E8-4812-A58C-BC96DF7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561C-D821-469F-922D-D8040249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E5A4-53CE-41E0-9C14-B937D7C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1C68-BFDD-4FEB-8092-C067419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94F6-F103-4124-8EE3-6F132CE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1833-BB1F-4CD1-842F-68205FE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3E8D-1C57-41C3-AD66-70CEB4AE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1A95-B7BD-4A38-BD22-659C12D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EF3-7492-4E08-8D49-71C2817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4D4-B38D-4A4A-87F1-60A34D60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96C-55B4-4F0E-A454-49C028A2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F33-C41B-47D7-AFEE-11281E9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7DB-FFF3-44C3-A968-84C519A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377-5A88-4F1D-A59C-76CF6DD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C98-C0F3-4064-BDFB-22A0AF5D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4DC-99A0-431F-A39B-CF68BFD5A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62F-30BF-4E41-9D52-F48432A75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-719280"/>
            <a:ext cx="9144000" cy="7604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08000" y="1917720"/>
            <a:ext cx="921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«Изучение типов памяти 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детей младшего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и среднего возраста»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640" y="35568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ЫТУЕМ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1920" y="1474920"/>
            <a:ext cx="68054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класс  - 20 учащихся  (12 мальчиков 8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класс  - 20 учащихся  (11 мальчиков 9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  - 20 учащихся  (10 мальчиков, 10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ого – 100 школьни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ек – 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ьчиков – 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СТАВ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ЛЕДУЮЩЕЙ ТАБЛ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836640"/>
          <a:ext cx="8362800" cy="5854680"/>
        </p:xfrm>
        <a:graphic>
          <a:graphicData uri="http://schemas.openxmlformats.org/drawingml/2006/table">
            <a:tbl>
              <a:tblPr/>
              <a:tblGrid>
                <a:gridCol w="1079280"/>
                <a:gridCol w="1152720"/>
                <a:gridCol w="1295280"/>
                <a:gridCol w="1225440"/>
                <a:gridCol w="1295640"/>
                <a:gridCol w="231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2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20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3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5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 3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 1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4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2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 1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( 4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13, 7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18,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77920" y="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данных по преобладанию определенного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и - количество чел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271440"/>
            <a:ext cx="204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557360"/>
            <a:ext cx="8588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00 испытуемых у 20 преобладает слуховой тип памяти, у 24 – зрительный, у 14 – моторный, у 42 – смешанный, что составляет соответственно 20%, 24%, 14% и 42%. Таким образом видно, что преобладает смешанный тип памяти у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я анализ по гендерному признаку, выясняется, что среди 51 мальчика преобладает смешанный тип памяти, что составляет 47.1%, такой же результат мы видим и среди 49 дев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м уровнем характеризуется моторный тип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ый тип памяти и слуховой занимают средние позиции среди всех исследуемых т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840" y="333360"/>
            <a:ext cx="615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комендации дан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дителям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результатов исследования при выполнении домашних заданий и улучшения результатов подготовки к уро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индивидуального подхода на уроков во время объяснения и закрепл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м психолог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в индивидуальной работе со школь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 и родителям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полнительно представлены упражнения для развития наиболее слабых типов памяти (см. Приложение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8000" y="206064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типов памяти у детей младш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реднего 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880" y="3111480"/>
            <a:ext cx="789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оизводство практических выводов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160" y="126828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и рабо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69920"/>
            <a:ext cx="8785440" cy="65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ль памяти в школьном возрасте особенно вел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нно в этот период в связи с переходом к систематическому обучению и на его основе происходит усиленное развитие и качественная перестройка памяти ребенка. Вместе с этим, школьники еще не умеют в полной мере владеть свой памятью у них еще не выработались определенные способы и проемы заучивания. И тут особенную роль играет типологические особенности памяти, от которых зависит успешность и качество знаний учащихся. Поэтому важно знать, какой тип памяти преобладает у того или иного ребенка. А это в свою очередь даст возможность помочь им целенаправленно развивать свои мнемические способности, вырабатывать такой индивидуальный стиль познания, который был бы для них оптимальным. Полученные нами результаты могут быть использованы в работе школьного психол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476280"/>
            <a:ext cx="9036000" cy="67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работа состояла из теоретической части, в которой рассматривались научные аспекты касательно памяти и практической части, в которой проводились непосредственные исследования памяти школьников, а также выводов  и рекоменд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ти части и представлены нами ни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524880" y="163440"/>
            <a:ext cx="816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ОРЕТИЧЕСК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2421000"/>
            <a:ext cx="8928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— одна из психических функций и видов умственной деятельности, предназначенная сохранять, накапливать и воспроизводить информацию. Способности длительно хранить информацию о событиях внешнего мира и реакциях организма и многократно использовать её в сфере сознания для организации последующе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640" y="217440"/>
            <a:ext cx="535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ипология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017720"/>
            <a:ext cx="8856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енсорной модальн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зрительная (визуальная) память, моторная (кинестетическая) память, звуковая (аудиальная) память, вкусовая память, болев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бразная память, моторная память, эмоциональ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организации запомина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пизодическая память, семантическая память, процедур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временным характеристика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долговременная память, кратковременная память, ультракратковремен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цел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роизвольная и непроизволь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средст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посредованная и неопосредован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уровню развит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моторная, эмоциональная, образная, словесно-логическа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720" y="4314960"/>
            <a:ext cx="50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войства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1240" y="5070600"/>
            <a:ext cx="437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пом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б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560" y="217440"/>
            <a:ext cx="563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цессы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73040"/>
            <a:ext cx="87854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то процесс памяти, посредством которого происходит запечатление следов, ввод новых элементов ощущений, восприятие, мышления или переживания в систему ассоциативных связей. Основу запоминания составляет связь материала со смыслом в одно целое. Установление смысловых связей — результат работы мышления над содержанием запоминаемого материа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ране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накопления материала в структуре памяти, включающий его переработку и усвоение. Сохранение опыта дает возможность для обучения человека, развития его перцептивных (внутренних оценок, восприятия мира) процессов, мышления и реч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спроизведение и узнава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актуализации элементов прошлого опыта (образов, мыслей, чувств, движений). Простой формой воспроизведения является узнавание — опознание воспринимаемого объекта или явления как уже известного по прошлому опыту, установлением сходств между объектом и образом его в памяти. Воспроизведение бывает произвольным и непроизвольным. При непроизвольном образ всплывает в голове без усилий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быв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отеря возможности воспроизведения, а иногда даже и в узнавании раннее запомненного. Наиболее часто забываем то, что не значимо. Забывание может быть частичным (воспроизведение не полностью или с ошибкой) и полным (невозможность воспроизведения и узнавания). Выделяют временное и длительное забы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ПРАКТИЧЕСКАЯ</a:t>
            </a: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ЧАСТ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638080"/>
            <a:ext cx="821844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Определение типов памяти методом воспроизведения по-разному воспринятых сло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11592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ХОД ПРОВЕДЕНИЯ ИССЛЕДОВАНИЯ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80" y="1289160"/>
            <a:ext cx="89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ряда слов, записанных на отдельных карточках (см. Приложение 1), чистые листочки бумаги, секундом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840" y="2112840"/>
            <a:ext cx="496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нструкция проведения исследова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480" y="2417760"/>
            <a:ext cx="90565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яется после 10-минутного перерыва. Первый ряд слов внимательно прослушивается учащимися и по команде воспроизводится на выданных им листочк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торой ряд показывается учащимся и также воспроизводится по коман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тий ряд не только прослушивается, но и каждое слово «прописывается» ребятами в воздухе рукой, затем воспроизводи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етвертый ряд слов прослушивается, «прописывается» и проговаривается шепотом учениками и только потом воспроизводится на листочках бума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тистическая обработка данных по следующей формул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= В/А * 100%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– количес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 слов в ряду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количество слов, удержанных в  памяти, С – коэффициент памя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60" y="61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чание: интервал между зачитываемыми словами – 5 секунд, следующий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50:49Z</dcterms:created>
  <dc:creator>Portable</dc:creator>
  <dc:description/>
  <dc:language>en-US</dc:language>
  <cp:lastModifiedBy>OLEG</cp:lastModifiedBy>
  <dcterms:modified xsi:type="dcterms:W3CDTF">2010-01-17T16:58:38Z</dcterms:modified>
  <cp:revision>22</cp:revision>
  <dc:subject/>
  <dc:title>Слайд 1</dc:title>
</cp:coreProperties>
</file>