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ECDD-0779-4A05-92EE-31FDE7408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BB76-EBDF-474C-839D-C7B77384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C7C6-6E5D-45D8-9A70-A1EA926B9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F25B-D5EE-4A82-9C18-F97760F05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1D70-2983-47BC-92E7-46F713060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B9B4-5951-478A-AB2B-DB5FD766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FB4D-9520-46F4-89E3-2DDDE6C6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A24E-71C4-4FB8-81EB-1F90A8ED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9C5A5-3CF2-438B-AC5D-A64886C5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B12A-C8A5-444F-8225-BEBE27C7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FBB1-D07F-45A3-A2F1-C6A1F103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AE54-7CB7-48B1-B22F-D4F9D145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BBAC-1D71-47C0-877F-D4C8222C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3212-9BE4-4B2F-807C-66BBED95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313A-BC4C-4F02-87FC-B1E835A9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B323-2573-4F1A-B2ED-DA184C596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BF95-5C3E-4291-977D-7AC4B7C38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265BD-97D1-4F4D-994F-D2FB8D7CD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23920-FABB-412A-A32B-D2F7151D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F2D90-462B-47FF-9A1B-675EC9D1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79FED-D6C5-475C-B8B0-3E90F7A9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05BC7-1E14-4894-8026-A97D40B8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72AE-5155-4753-BE78-33FD0933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72420-8582-471E-8FFC-4A9FC706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7E045-3411-4E8B-83AB-37BA2167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D9C34-4CC2-4666-8D65-4921AFED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0CD9C-C406-4E3E-9E0E-2E667ADB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ADDB2-A95F-4047-8711-138BA5ED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0B0BB-5AF4-4AE9-A1C9-5466759B5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F1063-8487-4BD8-B1D0-AC2047B3B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3A27-B448-4648-B248-8087FD49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3283-73C5-4B5F-A98E-758121E0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FBA2-1F60-4E21-BAD3-DAD9BF87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ECE0-FEA5-424C-9F2F-00F5408D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CF84-AB2E-4657-ABBC-F79BBE33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4AB7-EC59-4EEB-B5D8-8B582204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6E8D-987F-4DB1-9604-532EE4412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2E09-892E-4208-845E-A48681A3AF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27AE-B10D-4A50-B038-47DDA16EB7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24000" y="-719280"/>
            <a:ext cx="9144000" cy="7604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108000" y="1917720"/>
            <a:ext cx="9217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292929"/>
                </a:solidFill>
                <a:latin typeface="Arial"/>
              </a:rPr>
              <a:t>«Изучение типов памяти </a:t>
            </a:r>
            <a:endParaRPr b="0" lang="en-US" sz="4000" spc="1" strike="noStrike">
              <a:ln w="0">
                <a:noFill/>
              </a:ln>
              <a:solidFill>
                <a:srgbClr val="29292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292929"/>
                </a:solidFill>
                <a:latin typeface="Arial"/>
              </a:rPr>
              <a:t>детей младшего</a:t>
            </a:r>
            <a:endParaRPr b="0" lang="en-US" sz="4000" spc="1" strike="noStrike">
              <a:ln w="0">
                <a:noFill/>
              </a:ln>
              <a:solidFill>
                <a:srgbClr val="29292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292929"/>
                </a:solidFill>
                <a:latin typeface="Arial"/>
              </a:rPr>
              <a:t>и среднего возраста»</a:t>
            </a:r>
            <a:endParaRPr b="0" lang="en-US" sz="4000" spc="1" strike="noStrike">
              <a:ln w="0">
                <a:noFill/>
              </a:ln>
              <a:solidFill>
                <a:srgbClr val="29292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7a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51640" y="355680"/>
            <a:ext cx="337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СПЫТУЕМЫ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1920" y="1474920"/>
            <a:ext cx="6805440" cy="58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 класс  - 20 учащихся  (12 мальчиков 8 девоч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 класс  - 20 учащихся  (11 мальчиков 9 девоч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 класс  - 20 учащихся  (10 мальчиков, 10 девоч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 класс  - 20 учащихся  (9 мальчиков, 11 девоч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 класс  - 20 учащихся  (9 мальчиков, 11 девоч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того – 100 школьнико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евочек – 4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альчиков – 5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ЗУЛЬТАТЫ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ЕДСТАВЛ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СЛЕДУЮЩЕЙ ТАБЛИЦ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7a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324000" y="836640"/>
          <a:ext cx="8362800" cy="5854680"/>
        </p:xfrm>
        <a:graphic>
          <a:graphicData uri="http://schemas.openxmlformats.org/drawingml/2006/table">
            <a:tbl>
              <a:tblPr/>
              <a:tblGrid>
                <a:gridCol w="1079280"/>
                <a:gridCol w="1152720"/>
                <a:gridCol w="1295280"/>
                <a:gridCol w="1225440"/>
                <a:gridCol w="1295640"/>
                <a:gridCol w="23144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ХО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МЯ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РИТЕ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МЯ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ОР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МЯ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МЯ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ОБЛАДАЮЩ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(25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(20 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(15 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( 40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ВОЧ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ЬЧ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( 20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( 25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( 20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( 35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ВОЧ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ЬЧ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(15 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( 25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( 20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( 40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ВОЧ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ЬЧ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( 25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( 20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( 5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( 50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ВОЧ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ЬЧ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(15 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( 30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( 10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( 45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ВОЧ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ЬЧ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( 20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( 24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( 14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 ( 42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ЬЧ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(19, 6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( 19, 6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( 13, 7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( 47, 1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ВОЧ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( 17, 2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( 18, 5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( 17, 2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( 47, 1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277920" y="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блица данных по преобладанию определенного тип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мяти - количество чел (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ff5d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50920" y="271440"/>
            <a:ext cx="2046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Итоги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1557360"/>
            <a:ext cx="858816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100 испытуемых у 20 преобладает слуховой тип памяти, у 24 – зрительный, у 14 – моторный, у 42 – смешанный, что составляет соответственно 20%, 24%, 14% и 42%. Таким образом видно, что преобладает смешанный тип памяти у школь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дя анализ по гендерному признаку, выясняется, что среди 51 мальчика преобладает смешанный тип памяти, что составляет 47.1%, такой же результат мы видим и среди 49 девоч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зким уровнем характеризуется моторный тип памя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рительный тип памяти и слуховой занимают средние позиции среди всех исследуемых тип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ff5d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30840" y="333360"/>
            <a:ext cx="615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Рекомендации даны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1341360"/>
            <a:ext cx="8353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одителям дет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использования результатов исследования при выполнении домашних заданий и улучшения результатов подготовки к урок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чителя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использования индивидуального подхода на уроков во время объяснения и закрепления материа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Школьным психолог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использования в индивидуальной работе со школьник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чителям и родителям такж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полнительно представлены упражнения для развития наиболее слабых типов памяти (см. Приложение 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8d5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08000" y="2060640"/>
            <a:ext cx="92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явление типов памяти у детей младш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среднего школьного возра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0880" y="3111480"/>
            <a:ext cx="7898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Производство практических выводов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коменд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0160" y="1268280"/>
            <a:ext cx="330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Цели работ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8d5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9280" y="169920"/>
            <a:ext cx="8785440" cy="65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КТУАЛЬНОСТЬ РАБО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оль памяти в школьном возрасте особенно вели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менно в этот период в связи с переходом к систематическому обучению и на его основе происходит усиленное развитие и качественная перестройка памяти ребенка. Вместе с этим, школьники еще не умеют в полной мере владеть свой памятью у них еще не выработались определенные способы и проемы заучивания. И тут особенную роль играет типологические особенности памяти, от которых зависит успешность и качество знаний учащихся. Поэтому важно знать, какой тип памяти преобладает у того или иного ребенка. А это в свою очередь даст возможность помочь им целенаправленно развивать свои мнемические способности, вырабатывать такой индивидуальный стиль познания, который был бы для них оптимальным. Полученные нами результаты могут быть использованы в работе школьного психолог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8d5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8000" y="476280"/>
            <a:ext cx="9036000" cy="67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ДЕРЖАНИЕ РАБО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ша работа состояла из теоретической части, в которой рассматривались научные аспекты касательно памяти и практической части, в которой проводились непосредственные исследования памяти школьников, а также выводов  и рекомендац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се эти части и представлены нами ниж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cc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-524880" y="163440"/>
            <a:ext cx="8161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ТЕОРЕТИЧЕСКА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ЧАС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8000" y="2421000"/>
            <a:ext cx="89280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амять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 — одна из психических функций и видов умственной деятельности, предназначенная сохранять, накапливать и воспроизводить информацию. Способности длительно хранить информацию о событиях внешнего мира и реакциях организма и многократно использовать её в сфере сознания для организации последующей деятельн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61640" y="217440"/>
            <a:ext cx="535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Типология памя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9280" y="1017720"/>
            <a:ext cx="885672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о сенсорной модальности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 — зрительная (визуальная) память, моторная (кинестетическая) память, звуковая (аудиальная) память, вкусовая память, болевая память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о содержанию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 — образная память, моторная память, эмоциональная память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о организации запоминания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 — эпизодическая память, семантическая память, процедурная память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о временным характеристикам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 — долговременная память, кратковременная память, ультракратковременная память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о наличию цели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 — произвольная и непроизвольная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о наличию средств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 — опосредованная и неопосредованная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о уровню развития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 — моторная, эмоциональная, образная, словесно-логическа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3720" y="4314960"/>
            <a:ext cx="507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Свойства памя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1240" y="5070600"/>
            <a:ext cx="437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ъ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орость процессов запоми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орость процессов забы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60560" y="217440"/>
            <a:ext cx="563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роцессы памя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9280" y="1373040"/>
            <a:ext cx="878544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Запоминание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 — это процесс памяти, посредством которого происходит запечатление следов, ввод новых элементов ощущений, восприятие, мышления или переживания в систему ассоциативных связей. Основу запоминания составляет связь материала со смыслом в одно целое. Установление смысловых связей — результат работы мышления над содержанием запоминаемого материал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Хранение 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— процесс накопления материала в структуре памяти, включающий его переработку и усвоение. Сохранение опыта дает возможность для обучения человека, развития его перцептивных (внутренних оценок, восприятия мира) процессов, мышления и реч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оспроизведение и узнавание 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— процесс актуализации элементов прошлого опыта (образов, мыслей, чувств, движений). Простой формой воспроизведения является узнавание — опознание воспринимаемого объекта или явления как уже известного по прошлому опыту, установлением сходств между объектом и образом его в памяти. Воспроизведение бывает произвольным и непроизвольным. При непроизвольном образ всплывает в голове без усилий человек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Забывание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 — потеря возможности воспроизведения, а иногда даже и в узнавании раннее запомненного. Наиболее часто забываем то, что не значимо. Забывание может быть частичным (воспроизведение не полностью или с ошибкой) и полным (невозможность воспроизведения и узнавания). Выделяют временное и длительное забывани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5400" spc="-1" strike="noStrike">
                <a:solidFill>
                  <a:srgbClr val="feec94"/>
                </a:solidFill>
                <a:latin typeface="Times New Roman"/>
              </a:rPr>
              <a:t>ПРАКТИЧЕСКАЯ</a:t>
            </a:r>
            <a:br>
              <a:rPr sz="5400"/>
            </a:br>
            <a:r>
              <a:rPr b="0" lang="en-US" sz="5400" spc="-1" strike="noStrike">
                <a:solidFill>
                  <a:srgbClr val="feec94"/>
                </a:solidFill>
                <a:latin typeface="Times New Roman"/>
              </a:rPr>
              <a:t> ЧАСТЬ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000" y="2638080"/>
            <a:ext cx="8218440" cy="34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«Определение типов памяти методом воспроизведения по-разному воспринятых слов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d7a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08000" y="115920"/>
            <a:ext cx="8893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ХОД ПРОВЕДЕНИЯ ИССЛЕДОВАНИЯ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1280" y="1289160"/>
            <a:ext cx="8964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Оборудование: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 ряда слов, записанных на отдельных карточках (см. Приложение 1), чистые листочки бумаги, секундомер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7840" y="2112840"/>
            <a:ext cx="49629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Инструкция проведения исследования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7480" y="2417760"/>
            <a:ext cx="905652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ыполняется после 10-минутного перерыва. Первый ряд слов внимательно прослушивается учащимися и по команде воспроизводится на выданных им листочках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торой ряд показывается учащимся и также воспроизводится по команд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ретий ряд не только прослушивается, но и каждое слово «прописывается» ребятами в воздухе рукой, затем воспроизводитс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Четвертый ряд слов прослушивается, «прописывается» и проговаривается шепотом учениками и только потом воспроизводится на листочках бумаг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татистическая обработка данных по следующей формуле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С = В/А * 100%</a:t>
            </a:r>
            <a:r>
              <a:rPr b="1" lang="uk-UA" sz="19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 где </a:t>
            </a:r>
            <a:r>
              <a:rPr b="1" lang="uk-UA" sz="19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 – количест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о слов в ряду,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– количество слов, удержанных в  памяти, С – коэффициент памят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360" y="61657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мечание: интервал между зачитываемыми словами – 5 секунд, следующий эта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14:50:49Z</dcterms:created>
  <dc:creator>Portable</dc:creator>
  <dc:description/>
  <dc:language>en-US</dc:language>
  <cp:lastModifiedBy>OLEG</cp:lastModifiedBy>
  <dcterms:modified xsi:type="dcterms:W3CDTF">2010-01-17T16:58:38Z</dcterms:modified>
  <cp:revision>22</cp:revision>
  <dc:subject/>
  <dc:title>Слайд 1</dc:title>
</cp:coreProperties>
</file>