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E689-4DD9-4CBD-85F9-A46C7C7B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5A34-A384-4342-8128-BF2FF382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A83-1747-41D8-84DC-85B183A9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046C-3969-4D18-A18C-DA7933FA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A7D3-883C-42D8-A95E-7C03C7A1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2C32-B025-4A62-BCCE-34E17C4D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1E8B-3CD2-473B-815C-300A070A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8F9-3913-4B0B-9805-A566ED31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E4B-94F4-4392-9014-5474BC52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E21D-32FE-4823-9BF4-14CA03C9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EDDB-47B7-4FA5-947B-F88F98C0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B5A5-19E5-4BAD-9E84-B3F08BB2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3f3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AD86-94D3-4775-9314-669F4376AD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vechnikov-sk@mail.ru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ПОЗН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68360" y="6093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.К. Свечников, 2006-20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  <a:hlinkClick r:id="rId1"/>
              </a:rPr>
              <a:t>svechnikov-sk@mail.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ст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оответствие представлений о предмете самому этому предм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 rot="20877600">
            <a:off x="3851280" y="2923920"/>
            <a:ext cx="1224000" cy="4856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826920" y="314172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сительная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151960" y="278136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солютная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547640" y="407664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ъе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 rot="20877600">
            <a:off x="3635280" y="3860280"/>
            <a:ext cx="1224000" cy="48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937400" y="371628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ивная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332000" y="530064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ый критерий истины – практи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564000" y="3429000"/>
            <a:ext cx="143964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 flipH="1">
            <a:off x="5866920" y="3068640"/>
            <a:ext cx="50508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тивоположности ист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блужд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знание, которое не соответствует своему предмет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Лож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преднамеренное введение в заблужд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ное, исчерпывающее знание назыв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ительной исти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бсолютной исти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ивной исти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Наука – основная форма позн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емление к объе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ные мет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ы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ление законов и закономерностей, более глубоких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2124000" y="0"/>
            <a:ext cx="5112000" cy="692280"/>
          </a:xfrm>
          <a:prstGeom prst="cloudCallout">
            <a:avLst>
              <a:gd name="adj1" fmla="val 19814"/>
              <a:gd name="adj2" fmla="val 6100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 искусство, философия, мораль, религия, повседневный опы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ановите соответ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600200"/>
          <a:ext cx="8229600" cy="4564080"/>
        </p:xfrm>
        <a:graphic>
          <a:graphicData uri="http://schemas.openxmlformats.org/drawingml/2006/table">
            <a:tbl>
              <a:tblPr/>
              <a:tblGrid>
                <a:gridCol w="5627520"/>
                <a:gridCol w="26020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позн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 – это многоголовая гидра, пожирающая человеческую индивидуальность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ч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ден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жествен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человека всегда важнее личная жизнь, чем общественна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 – это сложная динамичная система, все компоненты которой тесно взаимосвязан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й из функций семьи является социализация подрастающих поколени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вни научного по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4572000" y="4853160"/>
            <a:ext cx="41148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формы знания – закон, принцип, научная те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457200" y="4853160"/>
            <a:ext cx="41148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формы знания – факты и эмпирические 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4572000" y="3481560"/>
            <a:ext cx="4114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ая задача – объяснение изучаемых яв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7200" y="3481560"/>
            <a:ext cx="4114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ая задача – описание предметов и яв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572000" y="2349360"/>
            <a:ext cx="411480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циональные формы познания П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457200" y="2349360"/>
            <a:ext cx="411480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вственные формы познания ОВ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4572000" y="1600200"/>
            <a:ext cx="4114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оре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57200" y="1600200"/>
            <a:ext cx="4114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пир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>
            <a:off x="457200" y="234936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5"/>
          <p:cNvSpPr/>
          <p:nvPr/>
        </p:nvSpPr>
        <p:spPr>
          <a:xfrm>
            <a:off x="457200" y="348156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6"/>
          <p:cNvSpPr/>
          <p:nvPr/>
        </p:nvSpPr>
        <p:spPr>
          <a:xfrm>
            <a:off x="457200" y="485316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7"/>
          <p:cNvSpPr/>
          <p:nvPr/>
        </p:nvSpPr>
        <p:spPr>
          <a:xfrm>
            <a:off x="457200" y="665172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8"/>
          <p:cNvSpPr/>
          <p:nvPr/>
        </p:nvSpPr>
        <p:spPr>
          <a:xfrm>
            <a:off x="457200" y="1600200"/>
            <a:ext cx="0" cy="50515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9"/>
          <p:cNvSpPr/>
          <p:nvPr/>
        </p:nvSpPr>
        <p:spPr>
          <a:xfrm>
            <a:off x="4572000" y="1600200"/>
            <a:ext cx="0" cy="505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0"/>
          <p:cNvSpPr/>
          <p:nvPr/>
        </p:nvSpPr>
        <p:spPr>
          <a:xfrm>
            <a:off x="8686800" y="1600200"/>
            <a:ext cx="0" cy="50515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апы теоретического по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тановка цели и зада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литературы по те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улировка гипотез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рганизация и проведение исслед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и обобщение полученных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верка гипотез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улировка законов , научных прогноз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5867280" y="2492280"/>
            <a:ext cx="1922760" cy="360360"/>
          </a:xfrm>
          <a:prstGeom prst="wedgeRectCallout">
            <a:avLst>
              <a:gd name="adj1" fmla="val -97481"/>
              <a:gd name="adj2" fmla="val 6277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о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научного по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ет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овокупность приемов получения определенного результ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2565360"/>
          <a:ext cx="8229600" cy="4032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пирические мет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тические мет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е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ее (невключенно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ель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оч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слитело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тез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укция (от частного к общему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дукция (от общего к частному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ровани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ановите соответ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600200"/>
          <a:ext cx="8229600" cy="5037120"/>
        </p:xfrm>
        <a:graphic>
          <a:graphicData uri="http://schemas.openxmlformats.org/drawingml/2006/table">
            <a:tbl>
              <a:tblPr/>
              <a:tblGrid>
                <a:gridCol w="5267160"/>
                <a:gridCol w="296244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ы научного позн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ни научного позн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т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пир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ческое моделир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ный анали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ный подх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отрасли научного по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Organization Chart 16"/>
          <p:cNvGrpSpPr/>
          <p:nvPr/>
        </p:nvGrpSpPr>
        <p:grpSpPr>
          <a:xfrm>
            <a:off x="457200" y="1904760"/>
            <a:ext cx="8002080" cy="1387800"/>
            <a:chOff x="457200" y="1904760"/>
            <a:chExt cx="8002080" cy="1387800"/>
          </a:xfrm>
        </p:grpSpPr>
        <p:cxnSp>
          <p:nvCxnSpPr>
            <p:cNvPr id="187" name="_s2052"/>
            <p:cNvCxnSpPr>
              <a:stCxn id="188" idx="0"/>
              <a:endCxn id="189" idx="1"/>
            </p:cNvCxnSpPr>
            <p:nvPr/>
          </p:nvCxnSpPr>
          <p:spPr>
            <a:xfrm flipV="1" rot="16200000">
              <a:off x="5420520" y="1356840"/>
              <a:ext cx="228960" cy="2156400"/>
            </a:xfrm>
            <a:prstGeom prst="bentConnector3">
              <a:avLst>
                <a:gd name="adj1" fmla="val 4992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0" name="_s2053"/>
            <p:cNvCxnSpPr>
              <a:stCxn id="191" idx="0"/>
              <a:endCxn id="189" idx="0"/>
            </p:cNvCxnSpPr>
            <p:nvPr/>
          </p:nvCxnSpPr>
          <p:spPr>
            <a:xfrm flipH="1" flipV="1" rot="5400000">
              <a:off x="3266280" y="1359000"/>
              <a:ext cx="228960" cy="2152440"/>
            </a:xfrm>
            <a:prstGeom prst="bentConnector3">
              <a:avLst>
                <a:gd name="adj1" fmla="val 4992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9" name="_s2054"/>
            <p:cNvSpPr/>
            <p:nvPr/>
          </p:nvSpPr>
          <p:spPr>
            <a:xfrm>
              <a:off x="3550680" y="1904760"/>
              <a:ext cx="1812240" cy="416160"/>
            </a:xfrm>
            <a:prstGeom prst="bevel">
              <a:avLst>
                <a:gd name="adj" fmla="val 12500"/>
              </a:avLst>
            </a:prstGeom>
            <a:solidFill>
              <a:srgbClr val="99cc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ау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2055"/>
            <p:cNvSpPr/>
            <p:nvPr/>
          </p:nvSpPr>
          <p:spPr>
            <a:xfrm>
              <a:off x="457200" y="2549520"/>
              <a:ext cx="3693600" cy="743040"/>
            </a:xfrm>
            <a:prstGeom prst="bevel">
              <a:avLst>
                <a:gd name="adj" fmla="val 12500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Фундаменталь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физика, химия и т. д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2056"/>
            <p:cNvSpPr/>
            <p:nvPr/>
          </p:nvSpPr>
          <p:spPr>
            <a:xfrm>
              <a:off x="4765320" y="2549520"/>
              <a:ext cx="3693960" cy="743040"/>
            </a:xfrm>
            <a:prstGeom prst="bevel">
              <a:avLst>
                <a:gd name="adj" fmla="val 12500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иклад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агрономия, зоотехния и т. д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Organization Chart 23"/>
          <p:cNvGrpSpPr/>
          <p:nvPr/>
        </p:nvGrpSpPr>
        <p:grpSpPr>
          <a:xfrm>
            <a:off x="324000" y="3872880"/>
            <a:ext cx="8362800" cy="953280"/>
            <a:chOff x="324000" y="3872880"/>
            <a:chExt cx="8362800" cy="953280"/>
          </a:xfrm>
        </p:grpSpPr>
        <p:cxnSp>
          <p:nvCxnSpPr>
            <p:cNvPr id="193" name="_s2059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6017040" y="2722320"/>
              <a:ext cx="229320" cy="3252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96" name="_s2060"/>
            <p:cNvCxnSpPr>
              <a:stCxn id="197" idx="0"/>
              <a:endCxn id="195" idx="2"/>
            </p:cNvCxnSpPr>
            <p:nvPr/>
          </p:nvCxnSpPr>
          <p:spPr>
            <a:xfrm flipV="1" rot="16200000">
              <a:off x="4932720" y="3806640"/>
              <a:ext cx="229320" cy="1084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98" name="_s2061"/>
            <p:cNvCxnSpPr>
              <a:stCxn id="199" idx="0"/>
              <a:endCxn id="195" idx="2"/>
            </p:cNvCxnSpPr>
            <p:nvPr/>
          </p:nvCxnSpPr>
          <p:spPr>
            <a:xfrm flipH="1" flipV="1" rot="5400000">
              <a:off x="3848400" y="3806280"/>
              <a:ext cx="229320" cy="1085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0" name="_s2062"/>
            <p:cNvCxnSpPr>
              <a:stCxn id="201" idx="0"/>
              <a:endCxn id="195" idx="2"/>
            </p:cNvCxnSpPr>
            <p:nvPr/>
          </p:nvCxnSpPr>
          <p:spPr>
            <a:xfrm flipH="1" flipV="1" rot="5400000">
              <a:off x="2764080" y="2721960"/>
              <a:ext cx="229320" cy="3254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95" name="_s2063"/>
            <p:cNvSpPr/>
            <p:nvPr/>
          </p:nvSpPr>
          <p:spPr>
            <a:xfrm>
              <a:off x="2890080" y="3872880"/>
              <a:ext cx="3229200" cy="3621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3333cc"/>
              </a:solidFill>
              <a:miter/>
            </a:ln>
            <a:effectLst>
              <a:outerShdw dist="63504" dir="19383909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 предмету и методу позн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2064"/>
            <p:cNvSpPr/>
            <p:nvPr/>
          </p:nvSpPr>
          <p:spPr>
            <a:xfrm>
              <a:off x="324000" y="4464000"/>
              <a:ext cx="1857960" cy="362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af67ff"/>
              </a:solidFill>
              <a:miter/>
            </a:ln>
            <a:effectLst>
              <a:outerShdw dist="63504" dir="19383909" blurRad="0" rotWithShape="0">
                <a:srgbClr val="af6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Естествен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2065"/>
            <p:cNvSpPr/>
            <p:nvPr/>
          </p:nvSpPr>
          <p:spPr>
            <a:xfrm>
              <a:off x="2492280" y="4464000"/>
              <a:ext cx="1857960" cy="362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af67ff"/>
              </a:solidFill>
              <a:miter/>
            </a:ln>
            <a:effectLst>
              <a:outerShdw dist="63504" dir="19383909" blurRad="0" rotWithShape="0">
                <a:srgbClr val="af6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ехническ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2066"/>
            <p:cNvSpPr/>
            <p:nvPr/>
          </p:nvSpPr>
          <p:spPr>
            <a:xfrm>
              <a:off x="4660560" y="4464000"/>
              <a:ext cx="1857960" cy="3621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af67ff"/>
              </a:solidFill>
              <a:miter/>
            </a:ln>
            <a:effectLst>
              <a:outerShdw dist="63504" dir="19383909" blurRad="0" rotWithShape="0">
                <a:srgbClr val="af6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бществен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2067"/>
            <p:cNvSpPr/>
            <p:nvPr/>
          </p:nvSpPr>
          <p:spPr>
            <a:xfrm>
              <a:off x="6828840" y="4464000"/>
              <a:ext cx="1857960" cy="362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af67ff"/>
              </a:solidFill>
              <a:miter/>
            </a:ln>
            <a:effectLst>
              <a:outerShdw dist="63504" dir="19383909" blurRad="0" rotWithShape="0">
                <a:srgbClr val="af6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уманитар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35"/>
          <p:cNvSpPr/>
          <p:nvPr/>
        </p:nvSpPr>
        <p:spPr>
          <a:xfrm>
            <a:off x="395280" y="4797360"/>
            <a:ext cx="172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6"/>
          <p:cNvSpPr/>
          <p:nvPr/>
        </p:nvSpPr>
        <p:spPr>
          <a:xfrm>
            <a:off x="2556000" y="4797360"/>
            <a:ext cx="172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ная инжен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7"/>
          <p:cNvSpPr/>
          <p:nvPr/>
        </p:nvSpPr>
        <p:spPr>
          <a:xfrm>
            <a:off x="4716360" y="4797360"/>
            <a:ext cx="172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8"/>
          <p:cNvSpPr/>
          <p:nvPr/>
        </p:nvSpPr>
        <p:spPr>
          <a:xfrm>
            <a:off x="6948360" y="4797360"/>
            <a:ext cx="172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ходы к решению проблемы познаваемости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3564000" y="5221440"/>
            <a:ext cx="51228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 познаваем и познание есть единств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увствен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цион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3"/>
          <p:cNvSpPr/>
          <p:nvPr/>
        </p:nvSpPr>
        <p:spPr>
          <a:xfrm>
            <a:off x="457200" y="5221440"/>
            <a:ext cx="31068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и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564000" y="4316400"/>
            <a:ext cx="51228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ающую роль играют ощущения и вос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457200" y="4316400"/>
            <a:ext cx="31068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нсуал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Дж. Лок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3564000" y="3409920"/>
            <a:ext cx="51228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ающую роль играют мыслительные 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457200" y="3409920"/>
            <a:ext cx="31068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ционал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. Декар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3564000" y="2505240"/>
            <a:ext cx="51228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ающую роль играют опыт,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457200" y="2505240"/>
            <a:ext cx="31068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пир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Ф. Бэк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564000" y="1600200"/>
            <a:ext cx="51228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 познать невозм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57200" y="1600200"/>
            <a:ext cx="31068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гностиц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И. К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457200" y="250524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457200" y="34099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8"/>
          <p:cNvSpPr/>
          <p:nvPr/>
        </p:nvSpPr>
        <p:spPr>
          <a:xfrm>
            <a:off x="457200" y="43164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"/>
          <p:cNvSpPr/>
          <p:nvPr/>
        </p:nvSpPr>
        <p:spPr>
          <a:xfrm>
            <a:off x="457200" y="522144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457200" y="640728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457200" y="1600200"/>
            <a:ext cx="0" cy="4807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3564000" y="1600200"/>
            <a:ext cx="0" cy="480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8686800" y="1600200"/>
            <a:ext cx="0" cy="4807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"/>
          <p:cNvSpPr/>
          <p:nvPr/>
        </p:nvSpPr>
        <p:spPr>
          <a:xfrm>
            <a:off x="6300720" y="6019920"/>
            <a:ext cx="2087640" cy="838080"/>
          </a:xfrm>
          <a:prstGeom prst="cloudCallout">
            <a:avLst>
              <a:gd name="adj1" fmla="val -74333"/>
              <a:gd name="adj2" fmla="val -46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а уровня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ецифика познания об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Organization Chart 7"/>
          <p:cNvGrpSpPr/>
          <p:nvPr/>
        </p:nvGrpSpPr>
        <p:grpSpPr>
          <a:xfrm>
            <a:off x="539640" y="1737720"/>
            <a:ext cx="8064000" cy="4057920"/>
            <a:chOff x="539640" y="1737720"/>
            <a:chExt cx="8064000" cy="4057920"/>
          </a:xfrm>
        </p:grpSpPr>
        <p:cxnSp>
          <p:nvCxnSpPr>
            <p:cNvPr id="208" name="_s3076"/>
            <p:cNvCxnSpPr>
              <a:stCxn id="209" idx="1"/>
              <a:endCxn id="210" idx="2"/>
            </p:cNvCxnSpPr>
            <p:nvPr/>
          </p:nvCxnSpPr>
          <p:spPr>
            <a:xfrm rot="10800000">
              <a:off x="4574880" y="2307960"/>
              <a:ext cx="479160" cy="268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3077"/>
            <p:cNvCxnSpPr>
              <a:stCxn id="212" idx="3"/>
              <a:endCxn id="210" idx="2"/>
            </p:cNvCxnSpPr>
            <p:nvPr/>
          </p:nvCxnSpPr>
          <p:spPr>
            <a:xfrm flipV="1">
              <a:off x="4089960" y="2308320"/>
              <a:ext cx="486000" cy="268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3078"/>
            <p:cNvCxnSpPr>
              <a:stCxn id="214" idx="1"/>
              <a:endCxn id="210" idx="2"/>
            </p:cNvCxnSpPr>
            <p:nvPr/>
          </p:nvCxnSpPr>
          <p:spPr>
            <a:xfrm rot="10800000">
              <a:off x="4574880" y="2307960"/>
              <a:ext cx="479160" cy="913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3079"/>
            <p:cNvCxnSpPr>
              <a:stCxn id="216" idx="3"/>
              <a:endCxn id="210" idx="2"/>
            </p:cNvCxnSpPr>
            <p:nvPr/>
          </p:nvCxnSpPr>
          <p:spPr>
            <a:xfrm flipV="1">
              <a:off x="4089960" y="2308320"/>
              <a:ext cx="486000" cy="913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3080"/>
            <p:cNvSpPr/>
            <p:nvPr/>
          </p:nvSpPr>
          <p:spPr>
            <a:xfrm>
              <a:off x="1811880" y="1737720"/>
              <a:ext cx="5523480" cy="5104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оциальное позн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3081"/>
            <p:cNvSpPr/>
            <p:nvPr/>
          </p:nvSpPr>
          <p:spPr>
            <a:xfrm>
              <a:off x="539640" y="2418840"/>
              <a:ext cx="3485520" cy="1602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бъект и субъек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зн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овпадаю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3082"/>
            <p:cNvSpPr/>
            <p:nvPr/>
          </p:nvSpPr>
          <p:spPr>
            <a:xfrm>
              <a:off x="5118840" y="2418840"/>
              <a:ext cx="3484800" cy="1602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лож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изучаемо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бъек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3083"/>
            <p:cNvSpPr/>
            <p:nvPr/>
          </p:nvSpPr>
          <p:spPr>
            <a:xfrm>
              <a:off x="539640" y="4192920"/>
              <a:ext cx="3485520" cy="1602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Изуча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обытия 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я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еповтори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3084"/>
            <p:cNvSpPr/>
            <p:nvPr/>
          </p:nvSpPr>
          <p:spPr>
            <a:xfrm>
              <a:off x="5118840" y="4192920"/>
              <a:ext cx="3484800" cy="1602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Метод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оциально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зн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граниче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Верны ли следующие суждения о социальном знании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 Социальное знание связано с интересами субъектов социального по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 Социальное знание характеризуется единообразием взглядов и подх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но только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но только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но А и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а суждения невер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 чувственного по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3419640" y="4618080"/>
            <a:ext cx="526716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 предмета, возникающий на основе предшествующих ощущений и вос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457200" y="4618080"/>
            <a:ext cx="296244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редст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419640" y="3108240"/>
            <a:ext cx="52671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стный образ внешнего мира, формирующийся на основе ощущ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457200" y="3108240"/>
            <a:ext cx="296244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при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3419640" y="1600200"/>
            <a:ext cx="526716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арное отражение отдельных сторон и свойств явлений и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57200" y="1600200"/>
            <a:ext cx="296244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щу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457200" y="310824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>
            <a:off x="457200" y="4618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>
            <a:off x="457200" y="1600200"/>
            <a:ext cx="0" cy="4525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>
            <a:off x="3419640" y="1600200"/>
            <a:ext cx="0" cy="452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>
            <a:off x="8686800" y="1600200"/>
            <a:ext cx="0" cy="4525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ы рационального по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419640" y="4618080"/>
            <a:ext cx="526716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 нового знания на основе имеющихся су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57200" y="4618080"/>
            <a:ext cx="296244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мо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419640" y="3108240"/>
            <a:ext cx="52671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ая связь по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57200" y="3108240"/>
            <a:ext cx="296244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419640" y="1600200"/>
            <a:ext cx="526716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 обобщенный образ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57200" y="1600200"/>
            <a:ext cx="296244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457200" y="310824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457200" y="4618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>
            <a:off x="457200" y="1600200"/>
            <a:ext cx="0" cy="4525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3419640" y="1600200"/>
            <a:ext cx="0" cy="452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>
            <a:off x="8686800" y="1600200"/>
            <a:ext cx="0" cy="4525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39640" y="1125360"/>
            <a:ext cx="79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циональное познание, в отличие от чувственног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ет истинные знания о предм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рается на ощу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яет представления о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т логические умозаклю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39640" y="350028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оцессе чувственного познания, в отличие от рационального, происход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средственное восприятие предм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тизация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полученных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пон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мыслительны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1982880" y="1908000"/>
            <a:ext cx="984240" cy="6256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403280" y="2637000"/>
            <a:ext cx="566640" cy="207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>
            <a:off x="2195640" y="1557360"/>
            <a:ext cx="565200" cy="208080"/>
          </a:xfrm>
          <a:prstGeom prst="ellips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2987640" y="2637000"/>
            <a:ext cx="566640" cy="207720"/>
          </a:xfrm>
          <a:prstGeom prst="diamond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837080" y="263700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5757120" y="2637000"/>
            <a:ext cx="13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т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ibbon2Sharp"/>
          <p:cNvSpPr/>
          <p:nvPr/>
        </p:nvSpPr>
        <p:spPr>
          <a:xfrm>
            <a:off x="826920" y="3573360"/>
            <a:ext cx="1224000" cy="792360"/>
          </a:xfrm>
          <a:custGeom>
            <a:avLst/>
            <a:gdLst>
              <a:gd name="textAreaLeft" fmla="*/ 306000 w 1224000"/>
              <a:gd name="textAreaRight" fmla="*/ 918000 w 1224000"/>
              <a:gd name="textAreaTop" fmla="*/ 87840 h 792360"/>
              <a:gd name="textAreaBottom" fmla="*/ 7045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00" y="8400"/>
                </a:lnTo>
                <a:lnTo>
                  <a:pt x="0" y="16800"/>
                </a:lnTo>
                <a:lnTo>
                  <a:pt x="5400" y="16800"/>
                </a:lnTo>
                <a:lnTo>
                  <a:pt x="5400" y="19200"/>
                </a:lnTo>
                <a:lnTo>
                  <a:pt x="13500" y="192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3200"/>
                </a:lnTo>
                <a:lnTo>
                  <a:pt x="21600" y="4800"/>
                </a:lnTo>
                <a:lnTo>
                  <a:pt x="16200" y="4800"/>
                </a:lnTo>
                <a:lnTo>
                  <a:pt x="16200" y="2400"/>
                </a:lnTo>
                <a:lnTo>
                  <a:pt x="8100" y="2400"/>
                </a:lnTo>
                <a:lnTo>
                  <a:pt x="8100" y="0"/>
                </a:lnTo>
                <a:lnTo>
                  <a:pt x="0" y="0"/>
                </a:lnTo>
                <a:close/>
              </a:path>
              <a:path fill="none" w="21600" h="21600">
                <a:moveTo>
                  <a:pt x="8100" y="2400"/>
                </a:moveTo>
                <a:lnTo>
                  <a:pt x="5400" y="2400"/>
                </a:lnTo>
                <a:lnTo>
                  <a:pt x="5400" y="16800"/>
                </a:lnTo>
              </a:path>
              <a:path fill="none" w="21600" h="21600">
                <a:moveTo>
                  <a:pt x="8100" y="0"/>
                </a:moveTo>
                <a:lnTo>
                  <a:pt x="5400" y="2400"/>
                </a:lnTo>
              </a:path>
              <a:path fill="none" w="21600" h="21600">
                <a:moveTo>
                  <a:pt x="13500" y="19200"/>
                </a:moveTo>
                <a:lnTo>
                  <a:pt x="16200" y="19200"/>
                </a:lnTo>
                <a:lnTo>
                  <a:pt x="16200" y="4800"/>
                </a:lnTo>
              </a:path>
              <a:path fill="none" w="21600" h="21600">
                <a:moveTo>
                  <a:pt x="13500" y="21600"/>
                </a:moveTo>
                <a:lnTo>
                  <a:pt x="16200" y="1920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ibbon1Sharp"/>
          <p:cNvSpPr/>
          <p:nvPr/>
        </p:nvSpPr>
        <p:spPr>
          <a:xfrm>
            <a:off x="2340000" y="3573360"/>
            <a:ext cx="1224000" cy="792360"/>
          </a:xfrm>
          <a:custGeom>
            <a:avLst/>
            <a:gdLst>
              <a:gd name="textAreaLeft" fmla="*/ 459000 w 1224000"/>
              <a:gd name="textAreaRight" fmla="*/ 765000 w 1224000"/>
              <a:gd name="textAreaTop" fmla="*/ 87840 h 792360"/>
              <a:gd name="textAreaBottom" fmla="*/ 7045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00" y="8400"/>
                </a:lnTo>
                <a:lnTo>
                  <a:pt x="0" y="16800"/>
                </a:lnTo>
                <a:lnTo>
                  <a:pt x="5400" y="16800"/>
                </a:lnTo>
                <a:lnTo>
                  <a:pt x="5400" y="19200"/>
                </a:lnTo>
                <a:lnTo>
                  <a:pt x="13500" y="192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3200"/>
                </a:lnTo>
                <a:lnTo>
                  <a:pt x="21600" y="4800"/>
                </a:lnTo>
                <a:lnTo>
                  <a:pt x="16200" y="4800"/>
                </a:lnTo>
                <a:lnTo>
                  <a:pt x="16200" y="2400"/>
                </a:lnTo>
                <a:lnTo>
                  <a:pt x="8100" y="2400"/>
                </a:lnTo>
                <a:lnTo>
                  <a:pt x="8100" y="0"/>
                </a:lnTo>
                <a:lnTo>
                  <a:pt x="0" y="0"/>
                </a:lnTo>
                <a:close/>
              </a:path>
              <a:path fill="none" w="21600" h="21600">
                <a:moveTo>
                  <a:pt x="8100" y="2400"/>
                </a:moveTo>
                <a:lnTo>
                  <a:pt x="5400" y="2400"/>
                </a:lnTo>
                <a:lnTo>
                  <a:pt x="5400" y="16800"/>
                </a:lnTo>
              </a:path>
              <a:path fill="none" w="21600" h="21600">
                <a:moveTo>
                  <a:pt x="8100" y="0"/>
                </a:moveTo>
                <a:lnTo>
                  <a:pt x="5400" y="2400"/>
                </a:lnTo>
              </a:path>
              <a:path fill="none" w="21600" h="21600">
                <a:moveTo>
                  <a:pt x="16200" y="4800"/>
                </a:moveTo>
                <a:lnTo>
                  <a:pt x="13500" y="4800"/>
                </a:lnTo>
                <a:lnTo>
                  <a:pt x="13500" y="19200"/>
                </a:lnTo>
              </a:path>
              <a:path fill="none" w="21600" h="21600">
                <a:moveTo>
                  <a:pt x="16200" y="2400"/>
                </a:moveTo>
                <a:lnTo>
                  <a:pt x="13500" y="4800"/>
                </a:ln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1119240" y="4292640"/>
            <a:ext cx="205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loud"/>
          <p:cNvSpPr/>
          <p:nvPr/>
        </p:nvSpPr>
        <p:spPr>
          <a:xfrm>
            <a:off x="5796000" y="3284640"/>
            <a:ext cx="1655640" cy="1062000"/>
          </a:xfrm>
          <a:custGeom>
            <a:avLst/>
            <a:gdLst>
              <a:gd name="textAreaLeft" fmla="*/ 227880 w 1655640"/>
              <a:gd name="textAreaRight" fmla="*/ 1309680 w 1655640"/>
              <a:gd name="textAreaTop" fmla="*/ 160200 h 1062000"/>
              <a:gd name="textAreaBottom" fmla="*/ 852480 h 1062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5153760" y="4221000"/>
            <a:ext cx="32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бстраг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22"/>
          <p:cNvGrpSpPr/>
          <p:nvPr/>
        </p:nvGrpSpPr>
        <p:grpSpPr>
          <a:xfrm>
            <a:off x="5435640" y="1484280"/>
            <a:ext cx="1800000" cy="1250640"/>
            <a:chOff x="5435640" y="1484280"/>
            <a:chExt cx="1800000" cy="1250640"/>
          </a:xfrm>
        </p:grpSpPr>
        <p:sp>
          <p:nvSpPr>
            <p:cNvPr id="108" name="Puzzle3"/>
            <p:cNvSpPr/>
            <p:nvPr/>
          </p:nvSpPr>
          <p:spPr>
            <a:xfrm>
              <a:off x="6312240" y="1484280"/>
              <a:ext cx="707400" cy="664920"/>
            </a:xfrm>
            <a:custGeom>
              <a:avLst/>
              <a:gdLst>
                <a:gd name="textAreaLeft" fmla="*/ 74160 w 707400"/>
                <a:gd name="textAreaRight" fmla="*/ 627480 w 707400"/>
                <a:gd name="textAreaTop" fmla="*/ 237600 h 664920"/>
                <a:gd name="textAreaBottom" fmla="*/ 622800 h 66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Puzzle2"/>
            <p:cNvSpPr/>
            <p:nvPr/>
          </p:nvSpPr>
          <p:spPr>
            <a:xfrm>
              <a:off x="6106320" y="1968480"/>
              <a:ext cx="1129320" cy="605520"/>
            </a:xfrm>
            <a:custGeom>
              <a:avLst/>
              <a:gdLst>
                <a:gd name="textAreaLeft" fmla="*/ 281880 w 1129320"/>
                <a:gd name="textAreaRight" fmla="*/ 846000 w 1129320"/>
                <a:gd name="textAreaTop" fmla="*/ 188640 h 605520"/>
                <a:gd name="textAreaBottom" fmla="*/ 573120 h 60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Puzzle4"/>
            <p:cNvSpPr/>
            <p:nvPr/>
          </p:nvSpPr>
          <p:spPr>
            <a:xfrm>
              <a:off x="5669280" y="1960920"/>
              <a:ext cx="680760" cy="774000"/>
            </a:xfrm>
            <a:custGeom>
              <a:avLst/>
              <a:gdLst>
                <a:gd name="textAreaLeft" fmla="*/ 65160 w 680760"/>
                <a:gd name="textAreaRight" fmla="*/ 637200 w 680760"/>
                <a:gd name="textAreaTop" fmla="*/ 202680 h 774000"/>
                <a:gd name="textAreaBottom" fmla="*/ 572400 h 77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Puzzle1"/>
            <p:cNvSpPr/>
            <p:nvPr/>
          </p:nvSpPr>
          <p:spPr>
            <a:xfrm>
              <a:off x="5435640" y="1685160"/>
              <a:ext cx="1143360" cy="461520"/>
            </a:xfrm>
            <a:custGeom>
              <a:avLst/>
              <a:gdLst>
                <a:gd name="textAreaLeft" fmla="*/ 321840 w 1143360"/>
                <a:gd name="textAreaRight" fmla="*/ 853920 w 1143360"/>
                <a:gd name="textAreaTop" fmla="*/ 54720 h 461520"/>
                <a:gd name="textAreaBottom" fmla="*/ 417600 h 46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AutoShape 27"/>
          <p:cNvSpPr/>
          <p:nvPr/>
        </p:nvSpPr>
        <p:spPr>
          <a:xfrm>
            <a:off x="3492360" y="4581360"/>
            <a:ext cx="1871640" cy="1008360"/>
          </a:xfrm>
          <a:custGeom>
            <a:avLst/>
            <a:gdLst>
              <a:gd name="textAreaLeft" fmla="*/ 292320 w 1871640"/>
              <a:gd name="textAreaRight" fmla="*/ 1638000 w 1871640"/>
              <a:gd name="textAreaTop" fmla="*/ 252000 h 1008360"/>
              <a:gd name="textAreaBottom" fmla="*/ 756360 h 1008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3279600" y="5516640"/>
            <a:ext cx="21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б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826920" y="29242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ложение целого на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4356000" y="2924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ъединение частей в единое цел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2"/>
          <p:cNvSpPr/>
          <p:nvPr/>
        </p:nvSpPr>
        <p:spPr>
          <a:xfrm>
            <a:off x="1188720" y="4581360"/>
            <a:ext cx="196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пост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яда явлений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едметов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явления у 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щего 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ли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5437800" y="4581360"/>
            <a:ext cx="29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ирование обр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альности посред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влечения и попол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3205080" y="58770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ереход от единичного к общ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абстрагиров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пример абстраг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ль практики в позна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акт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атериальное освоение человеком окружающего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Diagram 6"/>
          <p:cNvGrpSpPr/>
          <p:nvPr/>
        </p:nvGrpSpPr>
        <p:grpSpPr>
          <a:xfrm>
            <a:off x="1116000" y="2708280"/>
            <a:ext cx="7272360" cy="3600360"/>
            <a:chOff x="1116000" y="2708280"/>
            <a:chExt cx="7272360" cy="3600360"/>
          </a:xfrm>
        </p:grpSpPr>
        <p:sp>
          <p:nvSpPr>
            <p:cNvPr id="125" name="_s1028"/>
            <p:cNvSpPr/>
            <p:nvPr/>
          </p:nvSpPr>
          <p:spPr>
            <a:xfrm flipH="1">
              <a:off x="3059280" y="5084640"/>
              <a:ext cx="720720" cy="289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29"/>
            <p:cNvSpPr/>
            <p:nvPr/>
          </p:nvSpPr>
          <p:spPr>
            <a:xfrm>
              <a:off x="1116000" y="5202360"/>
              <a:ext cx="2139840" cy="10173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Цель позн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0"/>
            <p:cNvSpPr/>
            <p:nvPr/>
          </p:nvSpPr>
          <p:spPr>
            <a:xfrm>
              <a:off x="5076720" y="5013360"/>
              <a:ext cx="935280" cy="360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31"/>
            <p:cNvSpPr/>
            <p:nvPr/>
          </p:nvSpPr>
          <p:spPr>
            <a:xfrm>
              <a:off x="5651640" y="5202360"/>
              <a:ext cx="2736720" cy="11062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af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ритери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истинности зна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32"/>
            <p:cNvSpPr/>
            <p:nvPr/>
          </p:nvSpPr>
          <p:spPr>
            <a:xfrm flipV="1">
              <a:off x="4427640" y="3789000"/>
              <a:ext cx="1440" cy="390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3"/>
            <p:cNvSpPr/>
            <p:nvPr/>
          </p:nvSpPr>
          <p:spPr>
            <a:xfrm>
              <a:off x="3348000" y="2708280"/>
              <a:ext cx="2303640" cy="10587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снова позн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4"/>
            <p:cNvSpPr/>
            <p:nvPr/>
          </p:nvSpPr>
          <p:spPr>
            <a:xfrm>
              <a:off x="3564000" y="4149720"/>
              <a:ext cx="1728720" cy="10587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акт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кажите, что практика – основа по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7:26:48Z</dcterms:created>
  <dc:creator>Сергей</dc:creator>
  <dc:description/>
  <dc:language>en-US</dc:language>
  <cp:lastModifiedBy>PC</cp:lastModifiedBy>
  <dcterms:modified xsi:type="dcterms:W3CDTF">2013-03-21T05:36:15Z</dcterms:modified>
  <cp:revision>36</cp:revision>
  <dc:subject/>
  <dc:title>ПОЗНАНИЕ</dc:title>
</cp:coreProperties>
</file>