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E5F-762C-4020-81AA-E011BB33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961-54CF-40F9-9044-1D0DE3E7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537-0C38-407A-B944-CF8BD8FB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5B4-BDD8-4F2D-A3FC-1744DB51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E85-11DB-4A1C-A2F7-2D910BF9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550-40F1-4F21-8E27-3D800AFA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DAF-9E94-4154-B08B-C80A770A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AC5-F209-4EEC-B16D-59181970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43E-C2A2-43FF-8D74-598C5092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912-7908-459B-BD41-DD43CC2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FF6-8B97-4E92-A246-A607579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F46-0271-4237-980B-0B6B8295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3f3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FDE4-7788-4DFC-963D-78A7BBF85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vechnikov-sk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836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.К. Свечников, 2006-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  <a:hlinkClick r:id="rId1"/>
              </a:rPr>
              <a:t>svechnikov-sk@mail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т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ответствие представлений о предмете самому этому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rot="20877600">
            <a:off x="3851280" y="2923920"/>
            <a:ext cx="1224000" cy="485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6920" y="3141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ель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1960" y="2781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олют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54764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 rot="20877600">
            <a:off x="3635280" y="3860280"/>
            <a:ext cx="1224000" cy="48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937400" y="3716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ив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332000" y="5300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й критерий истины – практ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564000" y="3429000"/>
            <a:ext cx="1439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 flipH="1">
            <a:off x="5866920" y="306864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ивоположности ис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знание, которое не соответствует своему предме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Лож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реднамеренное введение в заблу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е, исчерпывающее знание назы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ель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олют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ив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аука – основная форма позн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ление к объе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ны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ы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законов и закономерностей, более глубоки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124000" y="0"/>
            <a:ext cx="5112000" cy="692280"/>
          </a:xfrm>
          <a:prstGeom prst="cloudCallout">
            <a:avLst>
              <a:gd name="adj1" fmla="val 19814"/>
              <a:gd name="adj2" fmla="val 61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искусство, философия, мораль, религия, повседневный опы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4564080"/>
        </p:xfrm>
        <a:graphic>
          <a:graphicData uri="http://schemas.openxmlformats.org/drawingml/2006/table">
            <a:tbl>
              <a:tblPr/>
              <a:tblGrid>
                <a:gridCol w="5627520"/>
                <a:gridCol w="2602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– это многоголовая гидра, пожирающая человеческую индивидуальнос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д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ловека всегда важнее личная жизнь, чем обществен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– это сложная динамичная система, все компоненты которой тесно взаимосвязан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й из функций семьи является социализация подрастающих поколе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572000" y="4853160"/>
            <a:ext cx="41148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формы знания – закон, принцип, научная 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57200" y="4853160"/>
            <a:ext cx="41148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формы знания – факты и эмпирически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572000" y="3481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бъяснение изучаемых яв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7200" y="3481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писание предметов и яв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72000" y="234936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ьные формы познания П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57200" y="234936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енные формы познания ОВ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572000" y="1600200"/>
            <a:ext cx="4114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" y="1600200"/>
            <a:ext cx="4114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пи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57200" y="23493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457200" y="34815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457200" y="48531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457200" y="66517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457200" y="1600200"/>
            <a:ext cx="0" cy="50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4572000" y="1600200"/>
            <a:ext cx="0" cy="505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8686800" y="1600200"/>
            <a:ext cx="0" cy="50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пы теоретическ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ановка цели и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литературы по т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ировка гипот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я и проведение иссле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 обобщение получен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рка гипот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ировка законов , научных прогноз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5867280" y="2492280"/>
            <a:ext cx="1922760" cy="360360"/>
          </a:xfrm>
          <a:prstGeom prst="wedgeRectCallout">
            <a:avLst>
              <a:gd name="adj1" fmla="val -97481"/>
              <a:gd name="adj2" fmla="val 6277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т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вокупность приемов получения определенного результ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565360"/>
          <a:ext cx="8229600" cy="403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пирические 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е (невключенн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ело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укция (от частного к общему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дукция (от общего к частному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600200"/>
          <a:ext cx="8229600" cy="5037120"/>
        </p:xfrm>
        <a:graphic>
          <a:graphicData uri="http://schemas.openxmlformats.org/drawingml/2006/table">
            <a:tbl>
              <a:tblPr/>
              <a:tblGrid>
                <a:gridCol w="5267160"/>
                <a:gridCol w="29624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научного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ни научного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пир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ое модел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й 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под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отрасли научн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Organization Chart 16"/>
          <p:cNvGrpSpPr/>
          <p:nvPr/>
        </p:nvGrpSpPr>
        <p:grpSpPr>
          <a:xfrm>
            <a:off x="457200" y="1904760"/>
            <a:ext cx="8002080" cy="1387800"/>
            <a:chOff x="457200" y="1904760"/>
            <a:chExt cx="8002080" cy="1387800"/>
          </a:xfrm>
        </p:grpSpPr>
        <p:cxnSp>
          <p:nvCxnSpPr>
            <p:cNvPr id="187" name="_s2052"/>
            <p:cNvCxnSpPr>
              <a:stCxn id="188" idx="0"/>
              <a:endCxn id="189" idx="1"/>
            </p:cNvCxnSpPr>
            <p:nvPr/>
          </p:nvCxnSpPr>
          <p:spPr>
            <a:xfrm flipV="1" rot="16200000">
              <a:off x="5420520" y="1356840"/>
              <a:ext cx="228960" cy="215640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_s2053"/>
            <p:cNvCxnSpPr>
              <a:stCxn id="191" idx="0"/>
              <a:endCxn id="189" idx="0"/>
            </p:cNvCxnSpPr>
            <p:nvPr/>
          </p:nvCxnSpPr>
          <p:spPr>
            <a:xfrm flipH="1" flipV="1" rot="5400000">
              <a:off x="3266280" y="1359000"/>
              <a:ext cx="228960" cy="215244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9" name="_s2054"/>
            <p:cNvSpPr/>
            <p:nvPr/>
          </p:nvSpPr>
          <p:spPr>
            <a:xfrm>
              <a:off x="3550680" y="1904760"/>
              <a:ext cx="1812240" cy="416160"/>
            </a:xfrm>
            <a:prstGeom prst="bevel">
              <a:avLst>
                <a:gd name="adj" fmla="val 12500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5"/>
            <p:cNvSpPr/>
            <p:nvPr/>
          </p:nvSpPr>
          <p:spPr>
            <a:xfrm>
              <a:off x="457200" y="2549520"/>
              <a:ext cx="3693600" cy="74304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ундамент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физика, хим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6"/>
            <p:cNvSpPr/>
            <p:nvPr/>
          </p:nvSpPr>
          <p:spPr>
            <a:xfrm>
              <a:off x="4765320" y="2549520"/>
              <a:ext cx="3693960" cy="74304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клад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агрономия, зоотехн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Organization Chart 23"/>
          <p:cNvGrpSpPr/>
          <p:nvPr/>
        </p:nvGrpSpPr>
        <p:grpSpPr>
          <a:xfrm>
            <a:off x="324000" y="3872880"/>
            <a:ext cx="8362800" cy="953280"/>
            <a:chOff x="324000" y="3872880"/>
            <a:chExt cx="8362800" cy="953280"/>
          </a:xfrm>
        </p:grpSpPr>
        <p:cxnSp>
          <p:nvCxnSpPr>
            <p:cNvPr id="193" name="_s205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6017040" y="2722320"/>
              <a:ext cx="229320" cy="3252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6" name="_s2060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932720" y="3806640"/>
              <a:ext cx="229320" cy="108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8" name="_s206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848400" y="3806280"/>
              <a:ext cx="229320" cy="1085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0" name="_s2062"/>
            <p:cNvCxnSpPr>
              <a:stCxn id="201" idx="0"/>
              <a:endCxn id="195" idx="2"/>
            </p:cNvCxnSpPr>
            <p:nvPr/>
          </p:nvCxnSpPr>
          <p:spPr>
            <a:xfrm flipH="1" flipV="1" rot="5400000">
              <a:off x="2764080" y="2721960"/>
              <a:ext cx="229320" cy="3254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95" name="_s2063"/>
            <p:cNvSpPr/>
            <p:nvPr/>
          </p:nvSpPr>
          <p:spPr>
            <a:xfrm>
              <a:off x="2890080" y="3872880"/>
              <a:ext cx="3229200" cy="362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cc"/>
              </a:solidFill>
              <a:miter/>
            </a:ln>
            <a:effectLst>
              <a:outerShdw dist="63504" dir="19383909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 предмету и методу позн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2064"/>
            <p:cNvSpPr/>
            <p:nvPr/>
          </p:nvSpPr>
          <p:spPr>
            <a:xfrm>
              <a:off x="324000" y="4464000"/>
              <a:ext cx="1857960" cy="362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065"/>
            <p:cNvSpPr/>
            <p:nvPr/>
          </p:nvSpPr>
          <p:spPr>
            <a:xfrm>
              <a:off x="2492280" y="4464000"/>
              <a:ext cx="1857960" cy="362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66"/>
            <p:cNvSpPr/>
            <p:nvPr/>
          </p:nvSpPr>
          <p:spPr>
            <a:xfrm>
              <a:off x="4660560" y="4464000"/>
              <a:ext cx="1857960" cy="362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щ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67"/>
            <p:cNvSpPr/>
            <p:nvPr/>
          </p:nvSpPr>
          <p:spPr>
            <a:xfrm>
              <a:off x="6828840" y="4464000"/>
              <a:ext cx="1857960" cy="362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уманита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35"/>
          <p:cNvSpPr/>
          <p:nvPr/>
        </p:nvSpPr>
        <p:spPr>
          <a:xfrm>
            <a:off x="395280" y="479736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2556000" y="4797360"/>
            <a:ext cx="172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ая инжен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4716360" y="479736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6948360" y="4797360"/>
            <a:ext cx="17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ы к решению проблемы познаваемости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3564000" y="5221440"/>
            <a:ext cx="51228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ознаваем и познание есть единств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вствен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ц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457200" y="5221440"/>
            <a:ext cx="31068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564000" y="4316400"/>
            <a:ext cx="5122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ощущения и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57200" y="4316400"/>
            <a:ext cx="3106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су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ж. Лок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3564000" y="3409920"/>
            <a:ext cx="51228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мыслительны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57200" y="3409920"/>
            <a:ext cx="31068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. Декар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564000" y="2505240"/>
            <a:ext cx="5122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опыт,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57200" y="2505240"/>
            <a:ext cx="3106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пир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. Бэк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564000" y="1600200"/>
            <a:ext cx="5122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ознать невоз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7200" y="1600200"/>
            <a:ext cx="3106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ностиц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. К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457200" y="34099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457200" y="43164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457200" y="52214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457200" y="640728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57200" y="1600200"/>
            <a:ext cx="0" cy="4807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3564000" y="1600200"/>
            <a:ext cx="0" cy="480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8686800" y="1600200"/>
            <a:ext cx="0" cy="4807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6300720" y="6019920"/>
            <a:ext cx="2087640" cy="838080"/>
          </a:xfrm>
          <a:prstGeom prst="cloudCallout">
            <a:avLst>
              <a:gd name="adj1" fmla="val -74333"/>
              <a:gd name="adj2" fmla="val -46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уровня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фика познания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Organization Chart 7"/>
          <p:cNvGrpSpPr/>
          <p:nvPr/>
        </p:nvGrpSpPr>
        <p:grpSpPr>
          <a:xfrm>
            <a:off x="539640" y="1737720"/>
            <a:ext cx="8064000" cy="4057920"/>
            <a:chOff x="539640" y="1737720"/>
            <a:chExt cx="8064000" cy="4057920"/>
          </a:xfrm>
        </p:grpSpPr>
        <p:cxnSp>
          <p:nvCxnSpPr>
            <p:cNvPr id="208" name="_s3076"/>
            <p:cNvCxnSpPr>
              <a:stCxn id="209" idx="1"/>
              <a:endCxn id="210" idx="2"/>
            </p:cNvCxnSpPr>
            <p:nvPr/>
          </p:nvCxnSpPr>
          <p:spPr>
            <a:xfrm rot="10800000">
              <a:off x="4574880" y="2307960"/>
              <a:ext cx="479160" cy="268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3077"/>
            <p:cNvCxnSpPr>
              <a:stCxn id="212" idx="3"/>
              <a:endCxn id="210" idx="2"/>
            </p:cNvCxnSpPr>
            <p:nvPr/>
          </p:nvCxnSpPr>
          <p:spPr>
            <a:xfrm flipV="1">
              <a:off x="4089960" y="2308320"/>
              <a:ext cx="486000" cy="268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3078"/>
            <p:cNvCxnSpPr>
              <a:stCxn id="214" idx="1"/>
              <a:endCxn id="210" idx="2"/>
            </p:cNvCxnSpPr>
            <p:nvPr/>
          </p:nvCxnSpPr>
          <p:spPr>
            <a:xfrm rot="10800000">
              <a:off x="4574880" y="2307960"/>
              <a:ext cx="47916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3079"/>
            <p:cNvCxnSpPr>
              <a:stCxn id="216" idx="3"/>
              <a:endCxn id="210" idx="2"/>
            </p:cNvCxnSpPr>
            <p:nvPr/>
          </p:nvCxnSpPr>
          <p:spPr>
            <a:xfrm flipV="1">
              <a:off x="4089960" y="2308320"/>
              <a:ext cx="48600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3080"/>
            <p:cNvSpPr/>
            <p:nvPr/>
          </p:nvSpPr>
          <p:spPr>
            <a:xfrm>
              <a:off x="1811880" y="1737720"/>
              <a:ext cx="5523480" cy="510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циальное позн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3081"/>
            <p:cNvSpPr/>
            <p:nvPr/>
          </p:nvSpPr>
          <p:spPr>
            <a:xfrm>
              <a:off x="539640" y="2418840"/>
              <a:ext cx="348552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 и субъе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впада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3082"/>
            <p:cNvSpPr/>
            <p:nvPr/>
          </p:nvSpPr>
          <p:spPr>
            <a:xfrm>
              <a:off x="5118840" y="2418840"/>
              <a:ext cx="348480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ож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учаем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3083"/>
            <p:cNvSpPr/>
            <p:nvPr/>
          </p:nvSpPr>
          <p:spPr>
            <a:xfrm>
              <a:off x="539640" y="4192920"/>
              <a:ext cx="348552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уча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бытия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я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повтори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3084"/>
            <p:cNvSpPr/>
            <p:nvPr/>
          </p:nvSpPr>
          <p:spPr>
            <a:xfrm>
              <a:off x="5118840" y="4192920"/>
              <a:ext cx="348480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циаль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гранич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Верны ли следующие суждения о социальном знании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Социальное знание связано с интересами субъектов социаль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Социальное знание характеризуется единообразием взглядов и под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А и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чувствен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19640" y="461808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 предмета, возникающий на основе предшествующих ощущений и вос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57200" y="461808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419640" y="3108240"/>
            <a:ext cx="5267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стный образ внешнего мира, формирующийся на основе ощу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457200" y="310824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при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419640" y="160020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арное отражение отдельных сторон и свойств явлений и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у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457200" y="3108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457200" y="461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рациональн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419640" y="461808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ового знания на основе имеющихся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461808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мо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19640" y="3108240"/>
            <a:ext cx="5267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 связь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57200" y="310824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419640" y="160020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 обобщенный образ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" y="3108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457200" y="461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9640" y="112536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познание, в отличие от чувственн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истинные знания о предм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рается на ощу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яет представления о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 логические умоза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9640" y="35002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чувственного познания, в отличие от рационального, проис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редственное восприят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тизац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лучен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мыслитель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982880" y="1908000"/>
            <a:ext cx="984240" cy="625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403280" y="2637000"/>
            <a:ext cx="566640" cy="207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195640" y="1557360"/>
            <a:ext cx="565200" cy="208080"/>
          </a:xfrm>
          <a:prstGeom prst="ellips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2987640" y="2637000"/>
            <a:ext cx="566640" cy="207720"/>
          </a:xfrm>
          <a:prstGeom prst="diamond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837080" y="263700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757120" y="263700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bbon2Sharp"/>
          <p:cNvSpPr/>
          <p:nvPr/>
        </p:nvSpPr>
        <p:spPr>
          <a:xfrm>
            <a:off x="826920" y="3573360"/>
            <a:ext cx="1224000" cy="792360"/>
          </a:xfrm>
          <a:custGeom>
            <a:avLst/>
            <a:gdLst>
              <a:gd name="textAreaLeft" fmla="*/ 306000 w 1224000"/>
              <a:gd name="textAreaRight" fmla="*/ 918000 w 1224000"/>
              <a:gd name="textAreaTop" fmla="*/ 87840 h 792360"/>
              <a:gd name="textAreaBottom" fmla="*/ 7045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bbon1Sharp"/>
          <p:cNvSpPr/>
          <p:nvPr/>
        </p:nvSpPr>
        <p:spPr>
          <a:xfrm>
            <a:off x="2340000" y="3573360"/>
            <a:ext cx="1224000" cy="792360"/>
          </a:xfrm>
          <a:custGeom>
            <a:avLst/>
            <a:gdLst>
              <a:gd name="textAreaLeft" fmla="*/ 459000 w 1224000"/>
              <a:gd name="textAreaRight" fmla="*/ 765000 w 1224000"/>
              <a:gd name="textAreaTop" fmla="*/ 87840 h 792360"/>
              <a:gd name="textAreaBottom" fmla="*/ 7045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6200" y="4800"/>
                </a:moveTo>
                <a:lnTo>
                  <a:pt x="13500" y="4800"/>
                </a:lnTo>
                <a:lnTo>
                  <a:pt x="13500" y="19200"/>
                </a:lnTo>
              </a:path>
              <a:path fill="none" w="21600" h="21600">
                <a:moveTo>
                  <a:pt x="16200" y="2400"/>
                </a:moveTo>
                <a:lnTo>
                  <a:pt x="13500" y="4800"/>
                </a:ln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119240" y="429264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5796000" y="3284640"/>
            <a:ext cx="1655640" cy="1062000"/>
          </a:xfrm>
          <a:custGeom>
            <a:avLst/>
            <a:gdLst>
              <a:gd name="textAreaLeft" fmla="*/ 227880 w 1655640"/>
              <a:gd name="textAreaRight" fmla="*/ 1309680 w 1655640"/>
              <a:gd name="textAreaTop" fmla="*/ 160200 h 1062000"/>
              <a:gd name="textAreaBottom" fmla="*/ 852480 h 106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5153760" y="4221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г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2"/>
          <p:cNvGrpSpPr/>
          <p:nvPr/>
        </p:nvGrpSpPr>
        <p:grpSpPr>
          <a:xfrm>
            <a:off x="5435640" y="1484280"/>
            <a:ext cx="1800000" cy="1250640"/>
            <a:chOff x="5435640" y="1484280"/>
            <a:chExt cx="1800000" cy="1250640"/>
          </a:xfrm>
        </p:grpSpPr>
        <p:sp>
          <p:nvSpPr>
            <p:cNvPr id="108" name="Puzzle3"/>
            <p:cNvSpPr/>
            <p:nvPr/>
          </p:nvSpPr>
          <p:spPr>
            <a:xfrm>
              <a:off x="6312240" y="1484280"/>
              <a:ext cx="707400" cy="664920"/>
            </a:xfrm>
            <a:custGeom>
              <a:avLst/>
              <a:gdLst>
                <a:gd name="textAreaLeft" fmla="*/ 74160 w 707400"/>
                <a:gd name="textAreaRight" fmla="*/ 627480 w 707400"/>
                <a:gd name="textAreaTop" fmla="*/ 237600 h 664920"/>
                <a:gd name="textAreaBottom" fmla="*/ 622800 h 66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uzzle2"/>
            <p:cNvSpPr/>
            <p:nvPr/>
          </p:nvSpPr>
          <p:spPr>
            <a:xfrm>
              <a:off x="6106320" y="1968480"/>
              <a:ext cx="1129320" cy="605520"/>
            </a:xfrm>
            <a:custGeom>
              <a:avLst/>
              <a:gdLst>
                <a:gd name="textAreaLeft" fmla="*/ 281880 w 1129320"/>
                <a:gd name="textAreaRight" fmla="*/ 846000 w 1129320"/>
                <a:gd name="textAreaTop" fmla="*/ 188640 h 605520"/>
                <a:gd name="textAreaBottom" fmla="*/ 573120 h 60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uzzle4"/>
            <p:cNvSpPr/>
            <p:nvPr/>
          </p:nvSpPr>
          <p:spPr>
            <a:xfrm>
              <a:off x="5669280" y="1960920"/>
              <a:ext cx="680760" cy="774000"/>
            </a:xfrm>
            <a:custGeom>
              <a:avLst/>
              <a:gdLst>
                <a:gd name="textAreaLeft" fmla="*/ 65160 w 680760"/>
                <a:gd name="textAreaRight" fmla="*/ 637200 w 680760"/>
                <a:gd name="textAreaTop" fmla="*/ 202680 h 774000"/>
                <a:gd name="textAreaBottom" fmla="*/ 572400 h 77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zzle1"/>
            <p:cNvSpPr/>
            <p:nvPr/>
          </p:nvSpPr>
          <p:spPr>
            <a:xfrm>
              <a:off x="5435640" y="1685160"/>
              <a:ext cx="1143360" cy="461520"/>
            </a:xfrm>
            <a:custGeom>
              <a:avLst/>
              <a:gdLst>
                <a:gd name="textAreaLeft" fmla="*/ 321840 w 1143360"/>
                <a:gd name="textAreaRight" fmla="*/ 853920 w 1143360"/>
                <a:gd name="textAreaTop" fmla="*/ 54720 h 461520"/>
                <a:gd name="textAreaBottom" fmla="*/ 417600 h 4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27"/>
          <p:cNvSpPr/>
          <p:nvPr/>
        </p:nvSpPr>
        <p:spPr>
          <a:xfrm>
            <a:off x="3492360" y="4581360"/>
            <a:ext cx="1871640" cy="1008360"/>
          </a:xfrm>
          <a:custGeom>
            <a:avLst/>
            <a:gdLst>
              <a:gd name="textAreaLeft" fmla="*/ 292320 w 1871640"/>
              <a:gd name="textAreaRight" fmla="*/ 1638000 w 1871640"/>
              <a:gd name="textAreaTop" fmla="*/ 252000 h 1008360"/>
              <a:gd name="textAreaBottom" fmla="*/ 756360 h 100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3279600" y="551664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826920" y="29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ложение целого на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4356000" y="2924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частей в единое 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1188720" y="458136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пост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яда явлен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ов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явления у 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щего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ли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5437800" y="4581360"/>
            <a:ext cx="29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ование обр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альности посред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лечения и по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3205080" y="58770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реход от единичного к об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абстрагир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абстра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ль практики в позн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атериальное освоение человеком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Diagram 6"/>
          <p:cNvGrpSpPr/>
          <p:nvPr/>
        </p:nvGrpSpPr>
        <p:grpSpPr>
          <a:xfrm>
            <a:off x="1116000" y="2708280"/>
            <a:ext cx="7272360" cy="3600360"/>
            <a:chOff x="1116000" y="2708280"/>
            <a:chExt cx="7272360" cy="3600360"/>
          </a:xfrm>
        </p:grpSpPr>
        <p:sp>
          <p:nvSpPr>
            <p:cNvPr id="125" name="_s1028"/>
            <p:cNvSpPr/>
            <p:nvPr/>
          </p:nvSpPr>
          <p:spPr>
            <a:xfrm flipH="1">
              <a:off x="3059280" y="5084640"/>
              <a:ext cx="720720" cy="289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29"/>
            <p:cNvSpPr/>
            <p:nvPr/>
          </p:nvSpPr>
          <p:spPr>
            <a:xfrm>
              <a:off x="1116000" y="5202360"/>
              <a:ext cx="2139840" cy="1017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Цель позн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0"/>
            <p:cNvSpPr/>
            <p:nvPr/>
          </p:nvSpPr>
          <p:spPr>
            <a:xfrm>
              <a:off x="5076720" y="5013360"/>
              <a:ext cx="935280" cy="36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1"/>
            <p:cNvSpPr/>
            <p:nvPr/>
          </p:nvSpPr>
          <p:spPr>
            <a:xfrm>
              <a:off x="5651640" y="5202360"/>
              <a:ext cx="2736720" cy="1106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тер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стинности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2"/>
            <p:cNvSpPr/>
            <p:nvPr/>
          </p:nvSpPr>
          <p:spPr>
            <a:xfrm flipV="1">
              <a:off x="4427640" y="3789000"/>
              <a:ext cx="1440" cy="39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348000" y="2708280"/>
              <a:ext cx="2303640" cy="1058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снова позн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564000" y="4149720"/>
              <a:ext cx="1728720" cy="1058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к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ажите, что практика – основа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7:26:48Z</dcterms:created>
  <dc:creator>Сергей</dc:creator>
  <dc:description/>
  <dc:language>en-US</dc:language>
  <cp:lastModifiedBy>PC</cp:lastModifiedBy>
  <dcterms:modified xsi:type="dcterms:W3CDTF">2013-03-21T05:36:15Z</dcterms:modified>
  <cp:revision>36</cp:revision>
  <dc:subject/>
  <dc:title>ПОЗНАНИЕ</dc:title>
</cp:coreProperties>
</file>