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F03-1946-4577-85D4-7DEDDF2A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0D7-BDE6-40C1-BA78-43C1ABFF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8E1-A7F5-4588-9EB4-81204548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EDC-718D-491D-835A-75D0B768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F7B-55B7-4B93-8F07-29EEC5A5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3F5-0F14-4535-887C-1567ACA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D6A-52A4-4808-8E6A-AF6323D7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2B02-074B-4D36-BD4E-B58FD1B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C6FE-EE28-4862-BA28-339DE664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7F0-0C6E-4C95-8F6D-0D0A9F3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F09-1CDC-47E2-B1F8-ABFBA25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5ED-81E3-488F-9E00-6A5EE11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A741-5F28-47B0-BE83-B30F814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7120-5096-4A33-A7F1-6171A9C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B182-7A37-4E04-AFDD-DC977AFB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5B5-DE62-40AF-82DE-440D7C32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3B77-5EFE-4B9D-A6EB-3CDB4AF8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9893-2120-409B-990D-D3C9DB9B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9CAB-E4F2-4301-9AB9-A4E10A0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7AD0-E85B-4A77-A9AC-CAE2ACA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F2D5-D42C-48A3-B296-3C286CAC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866C-DF26-4241-A9B1-676C101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6AD-CAA0-41C3-9401-91EA5A3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134E-91E4-4E17-9CC5-864B908D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8988-CE49-40AE-B64A-613FE0C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8578-B1B2-4C59-80BD-A6DE9B7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4B99-C83F-4B76-9212-4AB6203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26AA-092F-4279-912D-30C6A5A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54F9-A405-4361-AE6C-19B9DE88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3697-9316-4058-A342-928680D0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1F00-40F3-4783-B214-DD7EDB2F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DF45-BBAE-4856-9AF9-8F830BAC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45C5-6CDE-4FC9-ADA5-8C6FE81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B47-64A6-4365-A9BB-376F79FB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A438-D50B-4060-829E-6D38324B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658B-4BE8-45EC-A942-9C442DFA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A91F-3FE1-42D6-90E2-84282A1C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302B-403A-4CE5-9A7D-FF5AA27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B2C5-0CAE-4687-8CC0-4F02B99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5523-4074-40BC-AB9D-FF9C4F0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D397-F0AD-4450-B947-5F635CBD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23FA-EB0E-4A52-AFCD-ED93DCFA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B06D-720C-4012-9A43-50B7654C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0773-6A7A-4D56-974D-EC720064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17A-5497-4D50-9D0D-CAA0329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3B10-9F73-46E7-BA36-1028AAB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375C-33A8-4AFE-A008-030B0EA5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65C8-9E7A-426A-AD50-BDB365DE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B446-FECF-4754-8242-EAD4004A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50E0-C7E5-496B-B163-1BF61A0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9B01-ECBC-4586-BF42-47F6B0D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456C-4BD1-4A36-96D3-8E96360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5A76-0D84-41A8-B319-DE1E424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B7B1-5A59-43D4-BEE8-9ADE8C2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EB7C-7AC0-4E64-9CF9-44436FEA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8E4-EA3E-45BC-A36B-31BCACC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8A0A-02CC-40F1-92FB-6642C3AC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98F9-2ABE-4DD9-B676-FA87E669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2CCF-B601-4BC5-92AB-E450F66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A5BA-E5C6-4DEB-82A4-3B7BB77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1BDE-B215-4442-ACF8-0D307FB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0AD0-547E-4F15-9E8F-D3107759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C506-D66E-46F4-B4F8-B9119BD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6B13-33C3-4C44-B708-E4E4895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97DC-EC49-4C91-B31D-36C7433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3D1E-CE25-4268-A9B9-DFB1062C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DCB-8355-4EA8-A259-1E73C00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45F60-F49F-4492-9805-3E8E602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FB24-351B-4018-96C2-1F0D3BC8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6C24-948C-466A-9E69-60C4E62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C56F-0A3E-4B29-8EC9-F43F37C5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7B54-DA7E-4DFF-BD74-DB87A12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0575-2A05-4721-9581-F9CE472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7715-BA78-4CF6-9F0C-F9A9DB1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94E5-051A-416C-A379-C007A780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16A9-AE59-43A3-A827-58D30F92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F166-8CB7-4321-841B-DF3A465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F60-5845-4A01-86C5-C37C676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6943C-9A30-4DEB-96DC-E8FA4D25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8425-66B9-4EDA-859A-4D4A9A6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9A2A4-AD81-4BA8-BA40-9ECBB52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FAD1-83E7-40E6-8DBC-7CEA24C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5F0C2-8869-4087-B485-40488276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A4008-85F4-4625-AD0A-F8EAFC0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BDA0-3008-4AD3-9C48-5F7819D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96CA-2ADA-4CA8-A94F-16F092B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C35A-2DD5-4616-A234-9F92041B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3C53-9204-43D2-B21B-188B1013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CB7-99A4-46E6-B25B-59F1542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8AC8-6636-4C50-B6FB-AEEF122C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D18C-D8E1-43F0-AFF0-AECF460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1EFE0-5220-4D88-92E3-6B2D7AB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52542-35BD-4A99-811B-F6AE93C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3D756-5391-4575-9FDC-9EEB960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81566-4649-453E-99AB-CB9946C2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1E98-85FB-4C82-BE29-762D15AA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FB2-9323-465A-B04A-316D16D014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C98-44F7-4CCB-A260-4AF49E9A39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D2AE-C514-4DC9-ABF8-DD622655B2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D22E-8BAC-48C9-A01B-F2A0ECA6AD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7F36-3BFE-4639-8D56-AC9F5A6367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CCB-1686-4878-90D8-406F79D84D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53D-4792-4436-ADE8-2625E955EE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AAF-A6E3-4684-8CC7-500BBECFEC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Введение. </a:t>
            </a:r>
            <a:br>
              <a:rPr sz="4900"/>
            </a:br>
            <a:r>
              <a:rPr b="1" lang="ru-RU" sz="4900" spc="-1" strike="noStrike">
                <a:solidFill>
                  <a:srgbClr val="572314"/>
                </a:solidFill>
                <a:latin typeface="Corbel"/>
              </a:rPr>
              <a:t>Знакомство с понятием «общество»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733920"/>
            <a:ext cx="79250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Курс «Обществознания «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Понятие «общество» и его основные призн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Основные сферы общественной жизни. Взаимосвязь сфер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Что такое мировое сообщ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Духов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830592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Социаль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362320" y="1828800"/>
            <a:ext cx="4038480" cy="253116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рганизации, учреждения, обеспечивающие благосостояние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724280" y="4648320"/>
            <a:ext cx="411480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Здравоохранение, средства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9480" y="4495680"/>
            <a:ext cx="3429000" cy="15562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Социально незащищенные сло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етоды позна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Опро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Анализ документов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Наблюдени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Эксперимен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ственные наук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280" y="990720"/>
          <a:ext cx="8763120" cy="5668920"/>
        </p:xfrm>
        <a:graphic>
          <a:graphicData uri="http://schemas.openxmlformats.org/drawingml/2006/table">
            <a:tbl>
              <a:tblPr/>
              <a:tblGrid>
                <a:gridCol w="2895840"/>
                <a:gridCol w="58672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На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Проблемы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1. Эконом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пособ производства товаров и предоставления услуг, поведение людей в рыночных отношениях, распределение това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2. Соц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Большие и малые группы, их поведение, образ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3. Псих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Внутренний мир человека, мотивы его п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4. Полит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Особенности власти, политических течений, пар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5. Юриспруде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Юридические правила поведения людей, модели правомерного поведения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6. Филосо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истема идей, взглядов на мир, место человека в 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7. Культур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Мир искусства: живопись, архитектура, образование, наук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7678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ОБЩЕСТВО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304920" y="2600280"/>
            <a:ext cx="2743200" cy="1285920"/>
          </a:xfrm>
          <a:prstGeom prst="borderCallout2">
            <a:avLst>
              <a:gd name="adj1" fmla="val 18750"/>
              <a:gd name="adj2" fmla="val -8333"/>
              <a:gd name="adj3" fmla="val 8888"/>
              <a:gd name="adj4" fmla="val 102777"/>
              <a:gd name="adj5" fmla="val -55555"/>
              <a:gd name="adj6" fmla="val 120662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Группа людей, объединившихся 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838080" y="4495680"/>
            <a:ext cx="2743200" cy="1600200"/>
          </a:xfrm>
          <a:prstGeom prst="borderCallout2">
            <a:avLst>
              <a:gd name="adj1" fmla="val 18750"/>
              <a:gd name="adj2" fmla="val -8333"/>
              <a:gd name="adj3" fmla="val 7143"/>
              <a:gd name="adj4" fmla="val 102777"/>
              <a:gd name="adj5" fmla="val -162500"/>
              <a:gd name="adj6" fmla="val 115625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Конкретный этап в историческом развитии на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4648320" y="2590920"/>
            <a:ext cx="41148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-1851"/>
              <a:gd name="adj5" fmla="val -26564"/>
              <a:gd name="adj6" fmla="val -8680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Часть материального мира, состоящая из людей с характерными способами взаимодействия, организации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676520" y="2819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152280" y="1600200"/>
            <a:ext cx="2667240" cy="45972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971800" y="1066680"/>
            <a:ext cx="3200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уществует дольше продолжительности жизни одно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324480" y="1600200"/>
            <a:ext cx="266724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полнение за счет детей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743200" y="4952880"/>
            <a:ext cx="160020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е название и ис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52280" y="4038480"/>
            <a:ext cx="281952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Браки между представителями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572000" y="5334120"/>
            <a:ext cx="2057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система управления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095880" y="3962520"/>
            <a:ext cx="281952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культура, общие обычаи, юридические нормы, нр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V="1">
            <a:off x="6629400" y="289512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 flipV="1">
            <a:off x="1371240" y="259056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1447560" y="35812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657240" y="3962520"/>
            <a:ext cx="15228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5181480" y="3962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6705720" y="3581280"/>
            <a:ext cx="9903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838080"/>
          <a:ext cx="8610480" cy="5524560"/>
        </p:xfrm>
        <a:graphic>
          <a:graphicData uri="http://schemas.openxmlformats.org/drawingml/2006/table">
            <a:tbl>
              <a:tblPr/>
              <a:tblGrid>
                <a:gridCol w="1950840"/>
                <a:gridCol w="3992760"/>
                <a:gridCol w="2666880"/>
              </a:tblGrid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аука, изучающая 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осуда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езависимость, свои законы, налоговая политика, политическая организация страны, система управления, суд, армия, правоохранительн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лит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Часть света, территория, граница, географическое местоположение, государственный сувере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Об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альная организация 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феры обществ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AutoShape 3"/>
          <p:cNvSpPr/>
          <p:nvPr/>
        </p:nvSpPr>
        <p:spPr>
          <a:xfrm rot="2743800">
            <a:off x="1980720" y="1142640"/>
            <a:ext cx="4876920" cy="4724280"/>
          </a:xfrm>
          <a:prstGeom prst="flowChartSummingJunction">
            <a:avLst/>
          </a:prstGeom>
          <a:solidFill>
            <a:srgbClr val="feb80a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 rot="2781600">
            <a:off x="4373640" y="2254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Эконом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"/>
          <p:cNvSpPr/>
          <p:nvPr/>
        </p:nvSpPr>
        <p:spPr>
          <a:xfrm rot="2097000">
            <a:off x="2208960" y="449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Духов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 rot="18993600">
            <a:off x="4496040" y="4419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оциаль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 rot="18846000">
            <a:off x="2089080" y="2178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лит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9" descr="C:\Program Files\Microsoft Office\Clipart\smbusbas\bl00102_.wmf"/>
          <p:cNvPicPr/>
          <p:nvPr/>
        </p:nvPicPr>
        <p:blipFill>
          <a:blip r:embed="rId1"/>
          <a:stretch/>
        </p:blipFill>
        <p:spPr>
          <a:xfrm>
            <a:off x="6629400" y="914400"/>
            <a:ext cx="2260440" cy="1859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C:\Program Files\Microsoft Office\Clipart\standard\stddir1\bd06618_.wmf"/>
          <p:cNvPicPr/>
          <p:nvPr/>
        </p:nvPicPr>
        <p:blipFill>
          <a:blip r:embed="rId2"/>
          <a:stretch/>
        </p:blipFill>
        <p:spPr>
          <a:xfrm>
            <a:off x="7086600" y="3809880"/>
            <a:ext cx="1620720" cy="201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:\Program Files\Microsoft Office\Clipart\standard\stddir4\pe06261_.wmf"/>
          <p:cNvPicPr/>
          <p:nvPr/>
        </p:nvPicPr>
        <p:blipFill>
          <a:blip r:embed="rId3"/>
          <a:stretch/>
        </p:blipFill>
        <p:spPr>
          <a:xfrm>
            <a:off x="304920" y="1143000"/>
            <a:ext cx="133956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C:\Program Files\Microsoft Office\Clipart\standard\stddir2\en00685_.wmf"/>
          <p:cNvPicPr/>
          <p:nvPr/>
        </p:nvPicPr>
        <p:blipFill>
          <a:blip r:embed="rId4"/>
          <a:stretch/>
        </p:blipFill>
        <p:spPr>
          <a:xfrm>
            <a:off x="0" y="4495680"/>
            <a:ext cx="22096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Экономическая сфера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треб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5800" y="533520"/>
            <a:ext cx="77724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Политическая   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220968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Вла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724280" y="4648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щественные объеди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685800" y="487692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езидент, правитель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257800" y="2362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Местные органы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09680" y="335268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литические пар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5:02:13Z</dcterms:created>
  <dc:creator>User187</dc:creator>
  <dc:description/>
  <dc:language>en-US</dc:language>
  <cp:lastModifiedBy>ZooM</cp:lastModifiedBy>
  <dcterms:modified xsi:type="dcterms:W3CDTF">2013-11-07T18:23:33Z</dcterms:modified>
  <cp:revision>16</cp:revision>
  <dc:subject/>
  <dc:title>Введение.  Знакомство с понятием «общество»</dc:title>
</cp:coreProperties>
</file>