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67C2-46C5-4AE5-9095-AEA5A5AC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C191-BB42-490A-8691-67F8EA41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D762-7405-4E35-B4DA-060886CF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ACC2-1881-4749-B650-7F71F530F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A67F-4CF1-41D3-A209-E0FC04BF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77EB-BDF0-4965-AB88-B61F311B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EC20-5877-4FDB-A212-B9001C42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34DC-8638-4361-ABB9-C9905D16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AFE2-C5E4-4337-AA41-39E35AF0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E502-4386-4919-9C5A-C405D2E0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AA27-1AB8-4FB5-8A9E-B6CC2B65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7C81-D5F3-46FB-8112-F346B274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61BB-9FE2-49AE-9063-E21FC594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8DED-3642-442F-9E73-E1E8A9B9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87D3-11DC-48D4-A347-4CBFE40F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FEFF-2178-432E-8A50-0C1C2933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E449-8A04-41C8-BB86-D81744B8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1C0F2-E2EC-4D22-8997-96CDA11B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58657-DC9C-48DA-9433-2B0FE7C0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1B859-8EF2-40D4-ABDD-74467871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B5A4F-1D66-452B-9130-7465B34E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7A71C-92D3-4C05-B94B-CB6C5BF5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B9E6-F348-43E0-A734-D0E50E6F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C0EF2-833C-49CD-A207-71CBFECB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CDA8A-7133-4240-90AD-897DA88D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D9614-6BFF-4D85-87ED-1DA82D80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94321-73EF-460E-8395-7D8ED1CC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92F94-4386-497D-9AAF-055A042C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A3D4C-9FFE-44DA-8122-08733654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E1FD0-B579-4D55-97BB-407569FB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BA305-23C7-4565-8BD6-4DA7B10E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BF4C1-8B3D-4632-8295-9C9096F0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75856-155B-4C0C-9010-AD60E01F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544E-9E22-4DC4-9577-7E08CEE6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197FC-88C8-4A07-8867-331C1CF2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B76D0-6562-4890-BA4B-8B50CAAD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59DCB-5B15-4895-81C1-D4895D85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66F8E-5989-4830-B1ED-97C24D38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6EAE9-CA32-4D86-B5DF-8468982F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C31C3-7FE7-4D56-9D17-EB9686A8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6EB01-6334-4453-AC3A-D387E200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63A1E-2987-49A4-A117-11F2CBD3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166B1-0506-424A-81E6-2E930836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5E565-DA54-469A-9515-290ED847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EFC7-CBD2-4B55-8B61-80E4EF05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9EB6D-DC06-414F-BAF4-466583A5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64A85-182C-436E-990F-E43E549C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7035E-BE22-4719-BDAB-4EC54FDC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52170-A60B-481E-9238-4DF4116A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D0AEB-D542-4D66-9741-ED121717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87F9E-22A7-49AD-9FC0-0FDC7B7F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186D9-80A5-46A4-A6FC-AAC4702C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31B89-6D87-4E51-8A88-0B3EC0AF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3E93A-6706-42F8-9208-2949AAFC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31653-D430-4765-9DB9-54D023FE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DF0B-68ED-4C6F-B899-DE5EC32C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2721E-0C10-43FF-B05C-A04C389E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C852F-4E5E-44B0-86E1-DFC906B5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41C1E-0C12-40D7-A8DC-693A3D5D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449FA-2AD3-4FAE-ACD1-AA146796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D5A89-2342-440F-98DB-22D1F83D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97BED-6235-424A-A122-2D1B3D8D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B674D-8C9C-4575-A611-CBF6A0D5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B29C5-1B61-4E33-B764-6819757E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2382D-6C4C-452C-8EE9-6322AA22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76E15-42B1-4B04-BBDB-02A73DD5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66DF-5D38-4269-A331-4C1AF262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BEF5B-B4BE-47E1-A71B-23D5D3E6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B1C47-BD30-451E-BF30-890206D5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7BE80-EFBF-4576-9E6C-92DD54B7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FC6E8-FCE6-4A81-82AF-60723CC5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96A3C-5021-447C-BD66-C2D1D8FD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248CB-6CA9-4036-B26A-1C17330D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43B7D-FFEF-479E-BD24-DEDD07B6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93162-7247-4994-9409-3AA19D13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5F09A-62AE-40E8-BBD2-C45CC2C0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39E47-DCBD-4BE3-8460-E84053E4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E72F-9666-4C8A-87EB-692730C6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0E952-FD49-43ED-A9B0-27EBA2AA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899ED-BE9B-4AB2-B55D-B44EE9C7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4091E-2A0A-4400-9797-99F503FE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2BE04-4922-4B9D-B6AF-4E99FED1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D9E07-DB42-460E-A092-93138001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0AA41-A62E-4C8E-8E3C-6B1A1056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E6950-9DCA-4FD5-886F-7875241D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F3465-3266-4F7B-9307-1B368835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0384E-E22F-4D7A-B95C-02E07D4D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7DED0-8435-4E2D-8800-8D19FAEC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3E5-1DAD-4E99-BC05-F38743F1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56860-3660-40DF-980C-736FD1EF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010D4-A4C2-44F7-8E56-3C6E40BF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ACAD4-63BB-4B4C-AE7D-1F01EADE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8F869-2B90-4E0D-BC90-D42E2F4C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5D752-830E-4A45-950A-E29FE40F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B5E98-400E-405F-95EF-862D4E7E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B4A37-4D71-42AC-95C7-E7D6750D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1A85-E19E-4C2C-8AC3-1814D2F7440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00C4-8B42-4E8B-9B6C-BB4047461E1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BF27-CA9E-4BC7-B005-7BA68217FD6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D427-6926-4D52-872D-6C6BFA50807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7DC5-B7A7-4774-973B-E6EB753BBF5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7748-3923-4DCD-9CE8-D63146D4F5E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A1A7-A7D6-4F1A-8DB4-1E288AAE0A1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07EF-CBBC-4AAA-A756-AED92038DB6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190476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572314"/>
                </a:solidFill>
                <a:latin typeface="Corbel"/>
              </a:rPr>
              <a:t>Введение. </a:t>
            </a:r>
            <a:br>
              <a:rPr sz="4900"/>
            </a:br>
            <a:r>
              <a:rPr b="1" lang="ru-RU" sz="4900" spc="-1" strike="noStrike">
                <a:solidFill>
                  <a:srgbClr val="572314"/>
                </a:solidFill>
                <a:latin typeface="Corbel"/>
              </a:rPr>
              <a:t>Знакомство с понятием «общество»</a:t>
            </a:r>
            <a:endParaRPr b="0" lang="en-US" sz="4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228240" y="1142640"/>
            <a:ext cx="1981080" cy="685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609480" y="3733920"/>
            <a:ext cx="79250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b0b0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0b0f"/>
                </a:solidFill>
                <a:latin typeface="Times New Roman"/>
              </a:rPr>
              <a:t>Курс «Обществознания « в шко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b0b0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0b0f"/>
                </a:solidFill>
                <a:latin typeface="Times New Roman"/>
              </a:rPr>
              <a:t>Понятие «общество» и его основные призна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b0b0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0b0f"/>
                </a:solidFill>
                <a:latin typeface="Times New Roman"/>
              </a:rPr>
              <a:t>Основные сферы общественной жизни. Взаимосвязь сфер общ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b0b0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0b0f"/>
                </a:solidFill>
                <a:latin typeface="Times New Roman"/>
              </a:rPr>
              <a:t>Что такое мировое сообще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685800" y="533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271c"/>
                </a:solidFill>
                <a:latin typeface="Tahoma"/>
              </a:rPr>
              <a:t>Духовная сфер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457200" y="2590920"/>
            <a:ext cx="3276720" cy="58140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Куль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4724280" y="4648320"/>
            <a:ext cx="3276720" cy="58140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Образ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762120" y="4495680"/>
            <a:ext cx="3276360" cy="58140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Рели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4800600" y="2666880"/>
            <a:ext cx="3505320" cy="58140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Нау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7"/>
          <p:cNvSpPr/>
          <p:nvPr/>
        </p:nvSpPr>
        <p:spPr>
          <a:xfrm>
            <a:off x="8305920" y="60958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10806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685800" y="533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271c"/>
                </a:solidFill>
                <a:latin typeface="Tahoma"/>
              </a:rPr>
              <a:t>Социальная сфер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2362320" y="1828800"/>
            <a:ext cx="4038480" cy="253116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Организации, учреждения, обеспечивающие благосостояние люд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4724280" y="4648320"/>
            <a:ext cx="4114800" cy="106884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Здравоохранение, средства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609480" y="4495680"/>
            <a:ext cx="3429000" cy="155628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Социально незащищенные слои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7"/>
          <p:cNvSpPr/>
          <p:nvPr/>
        </p:nvSpPr>
        <p:spPr>
          <a:xfrm>
            <a:off x="845820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Методы познания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Опрос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Анализ документов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Наблюдение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Эксперимент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бщественные науки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52280" y="990720"/>
          <a:ext cx="8763120" cy="5668920"/>
        </p:xfrm>
        <a:graphic>
          <a:graphicData uri="http://schemas.openxmlformats.org/drawingml/2006/table">
            <a:tbl>
              <a:tblPr/>
              <a:tblGrid>
                <a:gridCol w="2895840"/>
                <a:gridCol w="58672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Нау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Проблемы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1. Эконом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Способ производства товаров и предоставления услуг, поведение людей в рыночных отношениях, распределение това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2. Соци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Большие и малые группы, их поведение, образ жи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3. Псих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Внутренний мир человека, мотивы его п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4. Полит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Особенности власти, политических течений, пар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5. Юриспруден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Юридические правила поведения людей, модели правомерного поведения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6. Философ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Система идей, взглядов на мир, место человека в н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7. Культур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Мир искусства: живопись, архитектура, образование, наука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600" y="76788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72314"/>
                </a:solidFill>
                <a:latin typeface="Corbel"/>
              </a:rPr>
              <a:t>ОБЩЕСТВО</a:t>
            </a:r>
            <a:endParaRPr b="0" lang="en-US" sz="6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AutoShape 3"/>
          <p:cNvSpPr/>
          <p:nvPr/>
        </p:nvSpPr>
        <p:spPr>
          <a:xfrm>
            <a:off x="304920" y="2600280"/>
            <a:ext cx="2743200" cy="1285920"/>
          </a:xfrm>
          <a:prstGeom prst="borderCallout2">
            <a:avLst>
              <a:gd name="adj1" fmla="val 18750"/>
              <a:gd name="adj2" fmla="val -8333"/>
              <a:gd name="adj3" fmla="val 8888"/>
              <a:gd name="adj4" fmla="val 102777"/>
              <a:gd name="adj5" fmla="val -55555"/>
              <a:gd name="adj6" fmla="val 120662"/>
            </a:avLst>
          </a:prstGeom>
          <a:solidFill>
            <a:srgbClr val="feb80a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Группа людей, объединившихся вмес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4"/>
          <p:cNvSpPr/>
          <p:nvPr/>
        </p:nvSpPr>
        <p:spPr>
          <a:xfrm>
            <a:off x="838080" y="4495680"/>
            <a:ext cx="2743200" cy="1600200"/>
          </a:xfrm>
          <a:prstGeom prst="borderCallout2">
            <a:avLst>
              <a:gd name="adj1" fmla="val 18750"/>
              <a:gd name="adj2" fmla="val -8333"/>
              <a:gd name="adj3" fmla="val 7143"/>
              <a:gd name="adj4" fmla="val 102777"/>
              <a:gd name="adj5" fmla="val -162500"/>
              <a:gd name="adj6" fmla="val 115625"/>
            </a:avLst>
          </a:prstGeom>
          <a:solidFill>
            <a:srgbClr val="feb80a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Конкретный этап в историческом развитии наро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4648320" y="2590920"/>
            <a:ext cx="4114800" cy="2438280"/>
          </a:xfrm>
          <a:prstGeom prst="borderCallout2">
            <a:avLst>
              <a:gd name="adj1" fmla="val 18750"/>
              <a:gd name="adj2" fmla="val -8333"/>
              <a:gd name="adj3" fmla="val 4689"/>
              <a:gd name="adj4" fmla="val -1851"/>
              <a:gd name="adj5" fmla="val -26564"/>
              <a:gd name="adj6" fmla="val -8680"/>
            </a:avLst>
          </a:prstGeom>
          <a:solidFill>
            <a:srgbClr val="feb80a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Часть материального мира, состоящая из людей с характерными способами взаимодействия, организации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1676520" y="281952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271c"/>
                </a:solidFill>
                <a:latin typeface="Tahoma"/>
              </a:rPr>
              <a:t>ОБЩЕСТВ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152280" y="1600200"/>
            <a:ext cx="2667240" cy="459720"/>
          </a:xfrm>
          <a:prstGeom prst="rect">
            <a:avLst/>
          </a:prstGeom>
          <a:solidFill>
            <a:srgbClr val="feb80a"/>
          </a:solidFill>
          <a:ln cap="rnd" w="5724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Своя террит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2971800" y="1066680"/>
            <a:ext cx="3200400" cy="1557000"/>
          </a:xfrm>
          <a:prstGeom prst="rect">
            <a:avLst/>
          </a:prstGeom>
          <a:solidFill>
            <a:srgbClr val="feb80a"/>
          </a:solidFill>
          <a:ln cap="rnd" w="5724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Существует дольше продолжительности жизни одного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6324480" y="1600200"/>
            <a:ext cx="2667240" cy="1191240"/>
          </a:xfrm>
          <a:prstGeom prst="rect">
            <a:avLst/>
          </a:prstGeom>
          <a:solidFill>
            <a:srgbClr val="feb80a"/>
          </a:solidFill>
          <a:ln cap="rnd" w="5724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Пополнение за счет детей объеди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2743200" y="4952880"/>
            <a:ext cx="1600200" cy="1191240"/>
          </a:xfrm>
          <a:prstGeom prst="rect">
            <a:avLst/>
          </a:prstGeom>
          <a:solidFill>
            <a:srgbClr val="feb80a"/>
          </a:solidFill>
          <a:ln cap="rnd" w="5724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Свое название и ист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152280" y="4038480"/>
            <a:ext cx="2819520" cy="1191240"/>
          </a:xfrm>
          <a:prstGeom prst="rect">
            <a:avLst/>
          </a:prstGeom>
          <a:solidFill>
            <a:srgbClr val="feb80a"/>
          </a:solidFill>
          <a:ln cap="rnd" w="5724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Браки между представителями объеди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4572000" y="5334120"/>
            <a:ext cx="2057400" cy="1557000"/>
          </a:xfrm>
          <a:prstGeom prst="rect">
            <a:avLst/>
          </a:prstGeom>
          <a:solidFill>
            <a:srgbClr val="feb80a"/>
          </a:solidFill>
          <a:ln cap="rnd" w="5724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Своя система управления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6095880" y="3962520"/>
            <a:ext cx="2819520" cy="1557000"/>
          </a:xfrm>
          <a:prstGeom prst="rect">
            <a:avLst/>
          </a:prstGeom>
          <a:solidFill>
            <a:srgbClr val="feb80a"/>
          </a:solidFill>
          <a:ln cap="rnd" w="5724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Своя культура, общие обычаи, юридические нормы, нра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1"/>
          <p:cNvSpPr/>
          <p:nvPr/>
        </p:nvSpPr>
        <p:spPr>
          <a:xfrm flipV="1">
            <a:off x="4572000" y="2819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2"/>
          <p:cNvSpPr/>
          <p:nvPr/>
        </p:nvSpPr>
        <p:spPr>
          <a:xfrm flipV="1">
            <a:off x="6629400" y="2895120"/>
            <a:ext cx="99072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3"/>
          <p:cNvSpPr/>
          <p:nvPr/>
        </p:nvSpPr>
        <p:spPr>
          <a:xfrm flipH="1" flipV="1">
            <a:off x="1371240" y="2590560"/>
            <a:ext cx="114300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4"/>
          <p:cNvSpPr/>
          <p:nvPr/>
        </p:nvSpPr>
        <p:spPr>
          <a:xfrm flipH="1">
            <a:off x="1447560" y="3581280"/>
            <a:ext cx="10666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5"/>
          <p:cNvSpPr/>
          <p:nvPr/>
        </p:nvSpPr>
        <p:spPr>
          <a:xfrm flipH="1">
            <a:off x="3657240" y="3962520"/>
            <a:ext cx="152280" cy="761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6"/>
          <p:cNvSpPr/>
          <p:nvPr/>
        </p:nvSpPr>
        <p:spPr>
          <a:xfrm>
            <a:off x="5181480" y="3962520"/>
            <a:ext cx="304920" cy="761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7"/>
          <p:cNvSpPr/>
          <p:nvPr/>
        </p:nvSpPr>
        <p:spPr>
          <a:xfrm>
            <a:off x="6705720" y="3581280"/>
            <a:ext cx="990360" cy="228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304920" y="838080"/>
          <a:ext cx="8610480" cy="5524560"/>
        </p:xfrm>
        <a:graphic>
          <a:graphicData uri="http://schemas.openxmlformats.org/drawingml/2006/table">
            <a:tbl>
              <a:tblPr/>
              <a:tblGrid>
                <a:gridCol w="1950840"/>
                <a:gridCol w="3992760"/>
                <a:gridCol w="2666880"/>
              </a:tblGrid>
              <a:tr h="1227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Поня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Характерные чер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Наука, изучающая поня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Государ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Независимость, свои законы, налоговая политика, политическая организация страны, система управления, суд, армия, правоохранительные орг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Полит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Стр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Часть света, территория, граница, географическое местоположение, государственный сувере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Географ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4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Об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Социальная организация стр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Соци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Сферы общества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AutoShape 3"/>
          <p:cNvSpPr/>
          <p:nvPr/>
        </p:nvSpPr>
        <p:spPr>
          <a:xfrm rot="2743800">
            <a:off x="1980720" y="1142640"/>
            <a:ext cx="4876920" cy="4724280"/>
          </a:xfrm>
          <a:prstGeom prst="flowChartSummingJunction">
            <a:avLst/>
          </a:prstGeom>
          <a:solidFill>
            <a:srgbClr val="feb80a"/>
          </a:solidFill>
          <a:ln w="38160">
            <a:solidFill>
              <a:srgbClr val="000000"/>
            </a:solidFill>
            <a:miter/>
          </a:ln>
          <a:effectLst>
            <a:outerShdw dist="107932" dir="135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"/>
          <p:cNvSpPr/>
          <p:nvPr/>
        </p:nvSpPr>
        <p:spPr>
          <a:xfrm rot="2781600">
            <a:off x="4373640" y="2254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Экономическая</a:t>
            </a:r>
            <a:r>
              <a:rPr b="0" lang="ru-RU" sz="2800" spc="-1" strike="noStrike">
                <a:solidFill>
                  <a:srgbClr val="0b0b0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6"/>
          <p:cNvSpPr/>
          <p:nvPr/>
        </p:nvSpPr>
        <p:spPr>
          <a:xfrm rot="2097000">
            <a:off x="2208960" y="44953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Духовная</a:t>
            </a:r>
            <a:r>
              <a:rPr b="0" lang="ru-RU" sz="2800" spc="-1" strike="noStrike">
                <a:solidFill>
                  <a:srgbClr val="0b0b0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7"/>
          <p:cNvSpPr/>
          <p:nvPr/>
        </p:nvSpPr>
        <p:spPr>
          <a:xfrm rot="18993600">
            <a:off x="4496040" y="44193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Социальная</a:t>
            </a:r>
            <a:r>
              <a:rPr b="0" lang="ru-RU" sz="2800" spc="-1" strike="noStrike">
                <a:solidFill>
                  <a:srgbClr val="0b0b0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8"/>
          <p:cNvSpPr/>
          <p:nvPr/>
        </p:nvSpPr>
        <p:spPr>
          <a:xfrm rot="18846000">
            <a:off x="2089080" y="2178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Политическая</a:t>
            </a:r>
            <a:r>
              <a:rPr b="0" lang="ru-RU" sz="2800" spc="-1" strike="noStrike">
                <a:solidFill>
                  <a:srgbClr val="0b0b0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9" descr="C:\Program Files\Microsoft Office\Clipart\smbusbas\bl00102_.wmf"/>
          <p:cNvPicPr/>
          <p:nvPr/>
        </p:nvPicPr>
        <p:blipFill>
          <a:blip r:embed="rId1"/>
          <a:stretch/>
        </p:blipFill>
        <p:spPr>
          <a:xfrm>
            <a:off x="6629400" y="914400"/>
            <a:ext cx="2260440" cy="1859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C:\Program Files\Microsoft Office\Clipart\standard\stddir1\bd06618_.wmf"/>
          <p:cNvPicPr/>
          <p:nvPr/>
        </p:nvPicPr>
        <p:blipFill>
          <a:blip r:embed="rId2"/>
          <a:stretch/>
        </p:blipFill>
        <p:spPr>
          <a:xfrm>
            <a:off x="7086600" y="3809880"/>
            <a:ext cx="1620720" cy="2013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1" descr="C:\Program Files\Microsoft Office\Clipart\standard\stddir4\pe06261_.wmf"/>
          <p:cNvPicPr/>
          <p:nvPr/>
        </p:nvPicPr>
        <p:blipFill>
          <a:blip r:embed="rId3"/>
          <a:stretch/>
        </p:blipFill>
        <p:spPr>
          <a:xfrm>
            <a:off x="304920" y="1143000"/>
            <a:ext cx="1339560" cy="20574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2" descr="C:\Program Files\Microsoft Office\Clipart\standard\stddir2\en00685_.wmf"/>
          <p:cNvPicPr/>
          <p:nvPr/>
        </p:nvPicPr>
        <p:blipFill>
          <a:blip r:embed="rId4"/>
          <a:stretch/>
        </p:blipFill>
        <p:spPr>
          <a:xfrm>
            <a:off x="0" y="4495680"/>
            <a:ext cx="220968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Экономическая сфера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457200" y="2590920"/>
            <a:ext cx="3276720" cy="58140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Производ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4724280" y="4648320"/>
            <a:ext cx="3276720" cy="58140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Потреб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762120" y="4495680"/>
            <a:ext cx="3276360" cy="58140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Обм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4800600" y="2666880"/>
            <a:ext cx="3505320" cy="58140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Распреде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7"/>
          <p:cNvSpPr/>
          <p:nvPr/>
        </p:nvSpPr>
        <p:spPr>
          <a:xfrm>
            <a:off x="815328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685800" y="533520"/>
            <a:ext cx="777240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271c"/>
                </a:solidFill>
                <a:latin typeface="Tahoma"/>
              </a:rPr>
              <a:t>Политическая    сфер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380880" y="2209680"/>
            <a:ext cx="3276720" cy="58140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Вла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4724280" y="4648320"/>
            <a:ext cx="3505320" cy="106884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Общественные объеди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685800" y="4876920"/>
            <a:ext cx="3276720" cy="106884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Президент, правитель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5257800" y="2362320"/>
            <a:ext cx="3505320" cy="106884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Местные органы вла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2209680" y="3352680"/>
            <a:ext cx="3276720" cy="106884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Политические парт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8"/>
          <p:cNvSpPr/>
          <p:nvPr/>
        </p:nvSpPr>
        <p:spPr>
          <a:xfrm>
            <a:off x="830592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15:02:13Z</dcterms:created>
  <dc:creator>User187</dc:creator>
  <dc:description/>
  <dc:language>en-US</dc:language>
  <cp:lastModifiedBy>ZooM</cp:lastModifiedBy>
  <dcterms:modified xsi:type="dcterms:W3CDTF">2013-11-07T18:23:33Z</dcterms:modified>
  <cp:revision>16</cp:revision>
  <dc:subject/>
  <dc:title>Введение.  Знакомство с понятием «общество»</dc:title>
</cp:coreProperties>
</file>