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A9E-965D-4950-8184-1252D5DD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1E8-9761-4202-9048-1095A7E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738-093B-4217-B962-E944CFB8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2DE-E337-404A-AA1E-F4496143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33F7-AA6B-4E8E-9A7A-A7E7EF0A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DE2E-AF4C-45F5-9604-C018453D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BBC2-6DEF-4076-A8F1-2D1B527B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47E5-41F6-4774-A2C3-EB182370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1C8E-09E7-4C66-97BB-3EC933DD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95F1-929B-49AC-8DCB-897D72FF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6788-540F-4DD9-846A-BA09B89C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B52-08C0-4D69-80A1-64998CB3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1ED5-6F8D-478A-AF28-4BEEDD9A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AA79-0A83-4602-9209-DE9898D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3AA7-BDC9-4205-807D-B5F4D4F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F047-87B2-4C9B-9687-9556594A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AB08-797E-4EF2-AED7-25B58D29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8589-09B8-48BC-B656-F4F6A9E3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D46D-B1C6-4C49-BEE9-CEA35AC6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F364-2034-4F81-A67E-661DB7F6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2353-B69C-4AF5-A341-C97BC66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E887-6A92-4E98-9CF5-F6036B81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8EA-9F80-45CF-A60C-A02A6239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D72E-5A14-4EC7-8DA5-F4225988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EF902-D9D7-46DA-ACBD-0C04F0B6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A90C-03DB-4F93-84C5-A43AD0C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D9D1-D029-4572-8248-222BC87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5EBD-8B7D-4526-B800-770CAC57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4E34-19B3-4666-B86B-5679189C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D16F-1492-481E-AB62-AFE7563A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C2DC-E4F9-4A74-8257-AFF48B5A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9A553-9294-40B8-B82E-D90BF74E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E25B-D8AC-4305-B943-4C37037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480-C593-495C-8D8E-8FA36D4B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022F7-6C99-46C1-9EEE-63B8219D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5720B-5FC0-4B8A-9A05-5A030BCC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EDE5-D26A-4FFA-AFAE-7530A943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F4A3-C5B0-419C-B3A8-69551D3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4F1E6-911F-41AC-BCDC-B990AE7E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D8B1-DD16-44A2-9D67-D2A16B85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34B9F-062D-4B0F-BFE0-1788194F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3854D-5B05-4845-8352-92271801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13A9-83C6-4A85-BD14-76F1030C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16CEB-D3A6-43E0-9DED-42F9BBB0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A75-B2E9-4380-983F-C574AAE3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E2C31-7CEC-4290-8070-CBCB4333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CF5C-FD11-47E6-B939-69A12FE3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3CDE-4762-427E-A008-AA83BCF5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26E2-1C3F-4670-91AA-315B5881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57D9-C93A-4FDD-A118-941872C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2849-3C61-4C0F-83A6-DA2BCDAC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1416-D566-483F-9C09-8553B91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9642E-638A-479B-A98E-61CF67E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1A94B-94D8-41B3-ADDA-82058965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29693-F169-4655-A8EB-42625F58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B42-D984-4101-A07E-F0C15165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83A0-6F1B-4E06-9B80-517E4B69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273A8-9C03-43E4-8936-21FCEA0C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237D-CF52-4821-A3C0-9C405961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EB6A0-6918-451E-B80E-3A4BFC62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DFF06-AD52-4AFD-BCC1-C093BA23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93310-CA7A-4923-AF43-ACA7A790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872EE-ED4C-4859-BBBA-E4FF77F1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AF4FD-67D7-4253-B920-4FDC44F5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09FBA-F620-4323-ADEE-A9A2B58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DF08C-C9BF-40B5-A0C5-53DA5EF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901-6C53-4849-9573-F78F629E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2A96-EE04-40D3-96B7-477F8DA9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0719A-9A9E-40C8-9D9B-87ED553F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6D68-6E21-4D4E-A1B7-B579EACE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CA68F-60EE-46A6-854F-C0E84247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A684-8699-4D98-ADB7-90087A5B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2DBA-9F9F-4C4D-853A-75932107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AA10E-D788-457A-B6FA-B8D07BD7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B763-6880-4BC5-9231-A0D2A27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1B965-93B3-4C46-B651-2B49534E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91E75-C603-48D9-AC02-7286B4F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BC5-1C19-4B70-A151-466B86A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4A28E-6747-4C32-B785-D53166F7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DA17C-6D6F-4A1A-85FB-05184EC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4B49-1563-499E-83AA-AB6850EE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A5834-26EB-4935-B9C7-81EE71E3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57904-F2E4-46D3-943D-AA4E6DC6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31D9A-5EA1-4DE6-A50C-D4A38F56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C0C3C-D9FA-4719-9560-FEFCF5EE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68D5F-5577-4938-8303-B88AEB26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B3151-C205-4A8B-9FB3-907474CD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ABC0D-CCA2-4C74-A28E-947D160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18F-C1FF-4617-92C5-297C23FD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D8125-340B-4EF1-B80C-6771ACC9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16028-06EF-4047-8236-4D75CD2A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9E0D-010C-4E1E-B022-301CF1E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0A9B0-735E-4183-9134-67B2E312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B0B61-B106-4655-A237-2D24CA88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03C8B-C1BD-438A-8AC9-039D447F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759E-AA05-44E1-B6D1-A423F768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1514-4887-44D6-BB86-0631DFC7E8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934B-92CB-4675-8095-34145934125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14D2-F0A0-414E-94B4-57E2B7E1C4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E3D9-5E61-4AC2-AE83-FBCB627ACB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B2D1-5D9F-492B-9B67-1C806A0C37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6677-6683-413E-A59E-D4341B44B1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4E6-3861-4433-9CC5-6B90442176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4937-CF36-4237-B7B4-B8F0D130D9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572314"/>
                </a:solidFill>
                <a:latin typeface="Corbel"/>
              </a:rPr>
              <a:t>Введение. </a:t>
            </a:r>
            <a:br>
              <a:rPr sz="4900"/>
            </a:br>
            <a:r>
              <a:rPr b="1" lang="ru-RU" sz="4900" spc="-1" strike="noStrike">
                <a:solidFill>
                  <a:srgbClr val="572314"/>
                </a:solidFill>
                <a:latin typeface="Corbel"/>
              </a:rPr>
              <a:t>Знакомство с понятием «общество»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198108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09480" y="3733920"/>
            <a:ext cx="79250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Курс «Обществознания «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Понятие «общество» и его основные призн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Основные сферы общественной жизни. Взаимосвязь сфер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b0b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b0f"/>
                </a:solidFill>
                <a:latin typeface="Times New Roman"/>
              </a:rPr>
              <a:t>Что такое мировое сообщ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Духовная сфе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457200" y="25909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4724280" y="46483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62120" y="4495680"/>
            <a:ext cx="327636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4800600" y="2666880"/>
            <a:ext cx="35053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Нау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830592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Социальная сфе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362320" y="1828800"/>
            <a:ext cx="4038480" cy="253116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рганизации, учреждения, обеспечивающие благосостояние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4724280" y="4648320"/>
            <a:ext cx="411480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Здравоохранение, средства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09480" y="4495680"/>
            <a:ext cx="3429000" cy="155628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Социально незащищенные сло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етоды познан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Опро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Анализ документов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Наблюдени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Эксперимент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щественные наук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52280" y="990720"/>
          <a:ext cx="8763120" cy="5668920"/>
        </p:xfrm>
        <a:graphic>
          <a:graphicData uri="http://schemas.openxmlformats.org/drawingml/2006/table">
            <a:tbl>
              <a:tblPr/>
              <a:tblGrid>
                <a:gridCol w="2895840"/>
                <a:gridCol w="58672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Нау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Проблемы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1. Эконом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Способ производства товаров и предоставления услуг, поведение людей в рыночных отношениях, распределение това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2. Соц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Большие и малые группы, их поведение, образ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3. Псих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Внутренний мир человека, мотивы его п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4. Полит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Особенности власти, политических течений, пар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5. Юриспруден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Юридические правила поведения людей, модели правомерного поведения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6. Филосо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Система идей, взглядов на мир, место человека в н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7. Культур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Tahoma"/>
                        </a:rPr>
                        <a:t>Мир искусства: живопись, архитектура, образование, наук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76788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ОБЩЕСТВО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304920" y="2600280"/>
            <a:ext cx="2743200" cy="1285920"/>
          </a:xfrm>
          <a:prstGeom prst="borderCallout2">
            <a:avLst>
              <a:gd name="adj1" fmla="val 18750"/>
              <a:gd name="adj2" fmla="val -8333"/>
              <a:gd name="adj3" fmla="val 8888"/>
              <a:gd name="adj4" fmla="val 102777"/>
              <a:gd name="adj5" fmla="val -55555"/>
              <a:gd name="adj6" fmla="val 120662"/>
            </a:avLst>
          </a:prstGeom>
          <a:solidFill>
            <a:srgbClr val="feb80a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Группа людей, объединившихся 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838080" y="4495680"/>
            <a:ext cx="2743200" cy="1600200"/>
          </a:xfrm>
          <a:prstGeom prst="borderCallout2">
            <a:avLst>
              <a:gd name="adj1" fmla="val 18750"/>
              <a:gd name="adj2" fmla="val -8333"/>
              <a:gd name="adj3" fmla="val 7143"/>
              <a:gd name="adj4" fmla="val 102777"/>
              <a:gd name="adj5" fmla="val -162500"/>
              <a:gd name="adj6" fmla="val 115625"/>
            </a:avLst>
          </a:prstGeom>
          <a:solidFill>
            <a:srgbClr val="feb80a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Конкретный этап в историческом развитии на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4648320" y="2590920"/>
            <a:ext cx="4114800" cy="2438280"/>
          </a:xfrm>
          <a:prstGeom prst="borderCallout2">
            <a:avLst>
              <a:gd name="adj1" fmla="val 18750"/>
              <a:gd name="adj2" fmla="val -8333"/>
              <a:gd name="adj3" fmla="val 4689"/>
              <a:gd name="adj4" fmla="val -1851"/>
              <a:gd name="adj5" fmla="val -26564"/>
              <a:gd name="adj6" fmla="val -8680"/>
            </a:avLst>
          </a:prstGeom>
          <a:solidFill>
            <a:srgbClr val="feb80a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Часть материального мира, состоящая из людей с характерными способами взаимодействия, организации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1676520" y="28195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152280" y="1600200"/>
            <a:ext cx="2667240" cy="45972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я терр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2971800" y="1066680"/>
            <a:ext cx="3200400" cy="155700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уществует дольше продолжительности жизни одного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6324480" y="1600200"/>
            <a:ext cx="2667240" cy="119124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Пополнение за счет детей объ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743200" y="4952880"/>
            <a:ext cx="1600200" cy="119124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е название и ис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52280" y="4038480"/>
            <a:ext cx="2819520" cy="119124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Браки между представителями объ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4572000" y="5334120"/>
            <a:ext cx="2057400" cy="155700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я система управления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6095880" y="3962520"/>
            <a:ext cx="2819520" cy="1557000"/>
          </a:xfrm>
          <a:prstGeom prst="rect">
            <a:avLst/>
          </a:prstGeom>
          <a:solidFill>
            <a:srgbClr val="feb80a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воя культура, общие обычаи, юридические нормы, нра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1"/>
          <p:cNvSpPr/>
          <p:nvPr/>
        </p:nvSpPr>
        <p:spPr>
          <a:xfrm flipV="1">
            <a:off x="457200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"/>
          <p:cNvSpPr/>
          <p:nvPr/>
        </p:nvSpPr>
        <p:spPr>
          <a:xfrm flipV="1">
            <a:off x="6629400" y="2895120"/>
            <a:ext cx="99072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3"/>
          <p:cNvSpPr/>
          <p:nvPr/>
        </p:nvSpPr>
        <p:spPr>
          <a:xfrm flipH="1" flipV="1">
            <a:off x="1371240" y="259056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1447560" y="358128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3657240" y="3962520"/>
            <a:ext cx="152280" cy="761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>
            <a:off x="5181480" y="39625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7"/>
          <p:cNvSpPr/>
          <p:nvPr/>
        </p:nvSpPr>
        <p:spPr>
          <a:xfrm>
            <a:off x="6705720" y="3581280"/>
            <a:ext cx="99036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304920" y="838080"/>
          <a:ext cx="8610480" cy="5524560"/>
        </p:xfrm>
        <a:graphic>
          <a:graphicData uri="http://schemas.openxmlformats.org/drawingml/2006/table">
            <a:tbl>
              <a:tblPr/>
              <a:tblGrid>
                <a:gridCol w="1950840"/>
                <a:gridCol w="3992760"/>
                <a:gridCol w="2666880"/>
              </a:tblGrid>
              <a:tr h="122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Поня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Характерные че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Наука, изучающая поня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Государ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Независимость, свои законы, налоговая политика, политическая организация страны, система управления, суд, армия, правоохранительные 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Полит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Часть света, территория, граница, географическое местоположение, государственный сувере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Об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Социальная организация 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b0b0f"/>
                          </a:solidFill>
                          <a:latin typeface="Arial"/>
                        </a:rPr>
                        <a:t>Соц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феры обществ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AutoShape 3"/>
          <p:cNvSpPr/>
          <p:nvPr/>
        </p:nvSpPr>
        <p:spPr>
          <a:xfrm rot="2743800">
            <a:off x="1980720" y="1142640"/>
            <a:ext cx="4876920" cy="4724280"/>
          </a:xfrm>
          <a:prstGeom prst="flowChartSummingJunction">
            <a:avLst/>
          </a:prstGeom>
          <a:solidFill>
            <a:srgbClr val="feb80a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 rot="2781600">
            <a:off x="4373640" y="2254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Экономическ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6"/>
          <p:cNvSpPr/>
          <p:nvPr/>
        </p:nvSpPr>
        <p:spPr>
          <a:xfrm rot="2097000">
            <a:off x="2208960" y="4495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Духовн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 rot="18993600">
            <a:off x="4496040" y="4419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Социальн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 rot="18846000">
            <a:off x="2089080" y="2178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0b0f"/>
                </a:solidFill>
                <a:latin typeface="Arial"/>
              </a:rPr>
              <a:t>Политическая</a:t>
            </a:r>
            <a:r>
              <a:rPr b="0" lang="ru-RU" sz="2800" spc="-1" strike="noStrike">
                <a:solidFill>
                  <a:srgbClr val="0b0b0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9" descr="C:\Program Files\Microsoft Office\Clipart\smbusbas\bl00102_.wmf"/>
          <p:cNvPicPr/>
          <p:nvPr/>
        </p:nvPicPr>
        <p:blipFill>
          <a:blip r:embed="rId1"/>
          <a:stretch/>
        </p:blipFill>
        <p:spPr>
          <a:xfrm>
            <a:off x="6629400" y="914400"/>
            <a:ext cx="2260440" cy="1859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C:\Program Files\Microsoft Office\Clipart\standard\stddir1\bd06618_.wmf"/>
          <p:cNvPicPr/>
          <p:nvPr/>
        </p:nvPicPr>
        <p:blipFill>
          <a:blip r:embed="rId2"/>
          <a:stretch/>
        </p:blipFill>
        <p:spPr>
          <a:xfrm>
            <a:off x="7086600" y="3809880"/>
            <a:ext cx="1620720" cy="2013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C:\Program Files\Microsoft Office\Clipart\standard\stddir4\pe06261_.wmf"/>
          <p:cNvPicPr/>
          <p:nvPr/>
        </p:nvPicPr>
        <p:blipFill>
          <a:blip r:embed="rId3"/>
          <a:stretch/>
        </p:blipFill>
        <p:spPr>
          <a:xfrm>
            <a:off x="304920" y="1143000"/>
            <a:ext cx="1339560" cy="2057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C:\Program Files\Microsoft Office\Clipart\standard\stddir2\en00685_.wmf"/>
          <p:cNvPicPr/>
          <p:nvPr/>
        </p:nvPicPr>
        <p:blipFill>
          <a:blip r:embed="rId4"/>
          <a:stretch/>
        </p:blipFill>
        <p:spPr>
          <a:xfrm>
            <a:off x="0" y="4495680"/>
            <a:ext cx="22096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Экономическая сфера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457200" y="25909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роизво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4724280" y="464832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отреб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62120" y="4495680"/>
            <a:ext cx="327636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4800600" y="2666880"/>
            <a:ext cx="35053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81532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685800" y="533520"/>
            <a:ext cx="777240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271c"/>
                </a:solidFill>
                <a:latin typeface="Tahoma"/>
              </a:rPr>
              <a:t>Политическая    сфе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80880" y="2209680"/>
            <a:ext cx="3276720" cy="58140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Вла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4724280" y="4648320"/>
            <a:ext cx="35053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Общественные объеди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685800" y="4876920"/>
            <a:ext cx="32767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резидент, правитель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257800" y="2362320"/>
            <a:ext cx="35053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Местные органы в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09680" y="3352680"/>
            <a:ext cx="3276720" cy="106884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b0f"/>
                </a:solidFill>
                <a:latin typeface="Arial"/>
              </a:rPr>
              <a:t>Политические парт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5:02:13Z</dcterms:created>
  <dc:creator>User187</dc:creator>
  <dc:description/>
  <dc:language>en-US</dc:language>
  <cp:lastModifiedBy>ZooM</cp:lastModifiedBy>
  <dcterms:modified xsi:type="dcterms:W3CDTF">2013-11-07T18:23:33Z</dcterms:modified>
  <cp:revision>16</cp:revision>
  <dc:subject/>
  <dc:title>Введение.  Знакомство с понятием «общество»</dc:title>
</cp:coreProperties>
</file>