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gif" ContentType="image/gif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45F0-25A1-4053-899C-21E442AA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589F-BE0B-43C8-BAC3-DCD5CE6C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2FDE-37D1-41B9-AC80-0A370D5F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3F73-4109-4F2B-A458-1834E57C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F1DD-841A-48B1-BE6A-9E65337C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809F-5D0C-4527-A9A6-ACB6E611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55C7-8C84-48D3-BBCF-812A91F8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7254-43FF-4031-94E1-EDC5E7F9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71BD-D863-479E-B47F-8360FC6B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3E1D-79EA-4CD2-A20B-7DB611DF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06AC-3966-4050-B1B4-66203A8F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1B4A-B3E0-4A27-80DB-98D6299C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6E4A-ACCE-4771-91FD-D51A2DF9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C382-4135-4AFD-A7BF-88A82419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C301-80E2-4736-B4B2-F0E49603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8F6A-12E9-4D38-A8D6-183C5F2C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B45B-8519-4DAF-98AD-1B0A7248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E67A-6229-41C3-A57D-3EF5D4D2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2967-5FD4-467A-B9A7-FF6BF687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5C1B-02F3-459E-A7B6-1C16902D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7658-6A83-46BF-8082-CC31B364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6064-0862-48E6-8942-53A0D6AE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861D-F993-4F4F-B310-45B65A52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7578-2827-4B70-AA3B-4EC41A12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1187-9734-4F4C-85C4-347BC12121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23C8-01DC-4A16-8563-96CB925468B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avy.su/gallery/01/aivazovsky/64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wm-painting.ru/Demakov_Evgenii" TargetMode="External"/><Relationship Id="rId2" Type="http://schemas.openxmlformats.org/officeDocument/2006/relationships/hyperlink" Target="http://www.wm-painting.ru/Demakov_Evgenii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avy.su/gallery/01/aivazovsky/6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avy.su/gallery/01/aivazovsky/65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vy.su/gallery/01/aivazovsky/63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448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Тема урока:</a:t>
            </a:r>
            <a:br>
              <a:rPr sz="4800"/>
            </a:b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Песнь моя летит     с мольбою.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1" name="" descr=" (450x50, 8Kb)"/>
          <p:cNvPicPr/>
          <p:nvPr/>
        </p:nvPicPr>
        <p:blipFill>
          <a:blip r:embed="rId1"/>
          <a:stretch/>
        </p:blipFill>
        <p:spPr>
          <a:xfrm>
            <a:off x="0" y="5521320"/>
            <a:ext cx="914400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63705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удожник: Бассари ( Италия 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304920"/>
            <a:ext cx="914400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5562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Венеция. 1844 г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147600"/>
            <a:ext cx="914400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388800"/>
            <a:ext cx="91440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Франц Шуберт</a:t>
            </a:r>
            <a:br>
              <a:rPr sz="54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(немецкий композитор )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797-182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62160" y="2971440"/>
            <a:ext cx="518148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оманс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«Баркарола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1762200"/>
            <a:ext cx="3546360" cy="5095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удожник Дмитрий Спирос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944640"/>
            <a:ext cx="914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592740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удожник: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Е. Демаков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 _x000b__x000b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28600" y="0"/>
            <a:ext cx="583416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920" y="6480"/>
            <a:ext cx="8610480" cy="68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акие общие черты у романсов М. Глинки и Ф.Шуберта, ты можешь назвать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акое произведение тебе понравилось больш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спомни песни и романсы, в которых нарисованы образы природ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343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есн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Романс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Баркарол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еренад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Ноктюрн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ьес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 др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43200" y="457200"/>
            <a:ext cx="2362320" cy="2895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438280" y="3429000"/>
            <a:ext cx="2667240" cy="2666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2514600"/>
            <a:ext cx="3809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Лирически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зарисов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6200" y="0"/>
            <a:ext cx="3276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Чув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334120" y="1905120"/>
            <a:ext cx="335268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мыс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62520" y="4419720"/>
            <a:ext cx="4647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впечатл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114800" y="5680080"/>
            <a:ext cx="4800600" cy="7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настро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Венецианская ночь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. </a:t>
            </a: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И Козло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очь весенняя дышала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ветло-южною красой;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ихо Брента протекала,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еребримая луной;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тражен волной огнистой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леск прозрачных облаков,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 восходит пар душистый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т зеленых берегов…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5943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Венецианская ночь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.К. Айвазовски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0"/>
            <a:ext cx="914400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5866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Венеция. 1870-е г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203040"/>
            <a:ext cx="91440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9154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Каково восприятие природы у поэта?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Подбери определения, передающие это эмоциональное состояние.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Стихотворение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Из Гёте».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М. Ю. Лермонтова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Горные вершин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пят во тьме ночной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Тихие доли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лны свежей мгло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е пылит дорога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е дрожат листы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дожди немного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тдохнешь и т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5867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Что в них общего, что отличает их друг от друг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Михаил Иванович Глинка</a:t>
            </a: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      (1804-1857)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343040" y="2941200"/>
            <a:ext cx="4800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оманс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Венецианская ночь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1143000"/>
            <a:ext cx="4316400" cy="5200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Венеция. 1842 г.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138240"/>
            <a:ext cx="91440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5-04T14:38:24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