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7E7-6F27-4728-BCBF-78CE8A1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70A-D99D-416E-A6AB-0487B31D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5EA-3642-4F3C-97BA-827732A5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4FE-641D-467F-B486-984C618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513-60C8-4B6C-951B-BB6DB433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9010-7835-4471-BC6A-623A0CB5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E84D-5763-42FD-819B-3AEEE04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6D8A-D59D-43D9-A472-651E00E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81A3-B5D7-49C0-8264-2F96105F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271-A950-4F57-8053-02CD7E2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05B-FE8A-409C-B10A-FBCE3F93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AEE-A539-4F54-90E6-D71B207E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A074-409E-41E0-B858-3CBA6F0F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44E-223D-4122-B6FA-50B7948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2A1-4F4A-4D86-8DF6-EB8FD13C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D2A9-0052-45B4-B488-4FFB2DED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413E-5E5C-420C-9575-C8684E4D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7BC-2768-4DA8-86BA-31A395E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FD8-D1DF-4601-AF5D-424888B3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196-4030-4517-8143-A3E2E4F9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246-F255-439C-85C5-48766D8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A1D-8969-45A7-B48E-C49733AB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DFA-D6E0-405F-9C26-365D9D5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752-1D69-43F2-8D31-AD33BC76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3C4-A336-4CE6-957D-1E496798FF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409F-958F-4947-9AE0-5052CB6F1D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m-painting.ru/Demakov_Evgenii" TargetMode="External"/><Relationship Id="rId2" Type="http://schemas.openxmlformats.org/officeDocument/2006/relationships/hyperlink" Target="http://www.wm-painting.ru/Demakov_Evgenii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8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Песнь моя летит     с мольбою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 (450x50, 8Kb)"/>
          <p:cNvPicPr/>
          <p:nvPr/>
        </p:nvPicPr>
        <p:blipFill>
          <a:blip r:embed="rId1"/>
          <a:stretch/>
        </p:blipFill>
        <p:spPr>
          <a:xfrm>
            <a:off x="0" y="552132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3705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ник: Бассари ( Италия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0492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4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4760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Франц Шуберт</a:t>
            </a:r>
            <a:br>
              <a:rPr sz="54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(немецкий композитор )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797-182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62160" y="2971440"/>
            <a:ext cx="51814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«Баркар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762200"/>
            <a:ext cx="3546360" cy="5095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удожник Дмитрий Спирос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944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92740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удожник: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Е. Демаков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_x000b__x000b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0"/>
            <a:ext cx="58341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6480"/>
            <a:ext cx="86104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ие общие черты у романсов М. Глинки и Ф.Шуберта, ты можешь назвать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 произведение тебе понравилось больш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помни песни и романсы, в которых нарисованы образы прир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оман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аркарол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ерена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октюр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ье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57200"/>
            <a:ext cx="2362320" cy="2895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3429000"/>
            <a:ext cx="2667240" cy="266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514600"/>
            <a:ext cx="3809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ирическ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рисов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6200" y="0"/>
            <a:ext cx="3276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Чу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4120" y="1905120"/>
            <a:ext cx="3352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ыс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62520" y="441972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впечат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4800" y="5680080"/>
            <a:ext cx="48006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настро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енецианская ноч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И Козл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чь весенняя дышал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тло-южною крас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ихо Брента протекала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ребримая лун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ражен волной огнисто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еск прозрачных облаков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восходит пар душисты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 зеленых берегов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анская ночь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К. Айвазовс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70-е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20304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аково восприятие природы у поэта?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одбери определения, передающие это эмоциональное состояние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тихотвор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Из Гёте».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. Ю. Лермонто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рные вершин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ят во тьме ночной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ихие дол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ны свежей мгло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пылит дорог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дрожат листы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ожди немног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дохнешь и 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Что в них общего, что отличает их друг от друг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ихаил Иванович Глинка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    (1804-1857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43040" y="2941200"/>
            <a:ext cx="4800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Венецианская ноч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143000"/>
            <a:ext cx="4316400" cy="5200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2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38240"/>
            <a:ext cx="914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38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