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587-2C8F-4928-9CF4-95421FCD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FDB-9F28-4963-AED9-E4C624A1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22D-EB66-4FA4-AFC1-0050AA26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A88-3C23-42FA-95B6-AFF2B6BA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8E71-867C-425D-83F1-D39AF5D8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930A-82AD-40E5-BBAE-8DCC7E19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75D8-BE9E-4B9F-AEBB-794A4A59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6A00-4E0E-4A8C-9EBF-BEC90390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0599-433A-4934-8213-52FA163B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1952-374F-47E9-A748-8157D44C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1EA2-B693-498F-B3D1-342BA1E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C61-6570-462A-B231-C17129EE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0DFE-79A9-4845-9E4E-D4CB4C3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7A78-D64E-4828-A4A1-D357590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4FBB-98E9-4143-9727-215C617D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C667-E747-43B9-A573-F135C42B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FC59-3559-403D-A158-42EE5FA4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A6B-249F-472D-BF1E-E8057AC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46E-CA93-4120-B1A3-9A72611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C1D-0C9F-4485-87C3-2FC9E78C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77B-734B-4C3E-947B-AC2E44D6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865-6DFC-46A7-9AD6-ACBFC0FE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DCC-9CA7-4BA4-80A3-1E179E9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A18-AD8A-47CC-8D3F-2D42CED6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C838-F1B3-45FE-8ACE-1EB2E8A473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DA62-62DD-4E7A-851F-EE2C27C99B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4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m-painting.ru/Demakov_Evgenii" TargetMode="External"/><Relationship Id="rId2" Type="http://schemas.openxmlformats.org/officeDocument/2006/relationships/hyperlink" Target="http://www.wm-painting.ru/Demakov_Evgenii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3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48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Песнь моя летит     с мольбою.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 (450x50, 8Kb)"/>
          <p:cNvPicPr/>
          <p:nvPr/>
        </p:nvPicPr>
        <p:blipFill>
          <a:blip r:embed="rId1"/>
          <a:stretch/>
        </p:blipFill>
        <p:spPr>
          <a:xfrm>
            <a:off x="0" y="5521320"/>
            <a:ext cx="9144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63705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жник: Бассари ( Италия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304920"/>
            <a:ext cx="91440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я. 1844 г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47600"/>
            <a:ext cx="9144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Франц Шуберт</a:t>
            </a:r>
            <a:br>
              <a:rPr sz="54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(немецкий композитор )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797-182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62160" y="2971440"/>
            <a:ext cx="518148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оман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«Баркар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762200"/>
            <a:ext cx="3546360" cy="5095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удожник Дмитрий Спирос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94464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592740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удожник: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Е. Демаков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 _x000b__x000b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0"/>
            <a:ext cx="583416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6480"/>
            <a:ext cx="86104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ие общие черты у романсов М. Глинки и Ф.Шуберта, ты можешь назвать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ое произведение тебе понравилось больш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спомни песни и романсы, в которых нарисованы образы природ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ес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Романс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аркарол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ерена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октюр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ьес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457200"/>
            <a:ext cx="2362320" cy="2895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38280" y="3429000"/>
            <a:ext cx="2667240" cy="2666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514600"/>
            <a:ext cx="3809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Лирическ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рисов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6200" y="0"/>
            <a:ext cx="3276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Чув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4120" y="1905120"/>
            <a:ext cx="3352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мыс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62520" y="4419720"/>
            <a:ext cx="4647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впечатл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14800" y="5680080"/>
            <a:ext cx="480060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настро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енецианская ночь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И Козло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очь весенняя дышал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ветло-южною красой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ихо Брента протекала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ребримая луной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ражен волной огнистой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еск прозрачных облаков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восходит пар душистый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 зеленых берегов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анская ночь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.К. Айвазовск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я. 1870-е г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203040"/>
            <a:ext cx="9144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аково восприятие природы у поэта?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одбери определения, передающие это эмоциональное состояние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тихотвор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Из Гёте».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. Ю. Лермонтов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рные вершин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ят во тьме ночной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ихие дол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лны свежей мгло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 пылит дорог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 дрожат листы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дожди немног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дохнешь и 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867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Что в них общего, что отличает их друг от друг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ихаил Иванович Глинка</a:t>
            </a: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      (1804-1857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343040" y="2941200"/>
            <a:ext cx="4800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оман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Венецианская ноч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143000"/>
            <a:ext cx="4316400" cy="5200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я. 1842 г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138240"/>
            <a:ext cx="9144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04T14:38:2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