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6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3.jpeg" ContentType="image/jpeg"/>
  <Override PartName="/ppt/media/image15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6298-0B91-4735-8B0C-6408BBE19F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3C4F-3ED6-4C59-BB96-E66B82AB23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A6C0-270D-4F7E-BF2D-FEC034C0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515-5ED9-44E8-AF18-003F5149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DB5-EB97-42D4-AC2F-2A63B45B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496-8909-4334-9ECC-771149CB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B19-3311-4196-959B-C6D6889B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B503-0755-4CD0-BB42-963F60E3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53F-7091-4A21-984B-C355220D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D6E-7251-41A6-8BBF-6CE7F45E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756-8BEA-4A13-989D-7B7CC2DE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E62-FB22-43E7-95D0-8F9F26FB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3A58-EFCD-479A-A55C-4A084372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858A-3235-414B-AD7F-EADA818F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CAC8-C0AF-4D85-B0AF-E10A884814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6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57120" y="21420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F99B-4741-4D15-BE7A-0200934F44F0}" type="datetime">
              <a:rPr b="0" lang="ru-RU" sz="36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322200" y="1341360"/>
            <a:ext cx="87138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solidFill>
                    <a:srgbClr val="eaeaea"/>
                  </a:solidFill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пределение  параллельных </a:t>
            </a:r>
            <a:endParaRPr b="0" lang="en-US" sz="1800" spc="1" strike="noStrike">
              <a:ln w="0">
                <a:solidFill>
                  <a:srgbClr val="eaeaea"/>
                </a:solidFill>
              </a:ln>
              <a:solidFill>
                <a:srgbClr val="00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solidFill>
                    <a:srgbClr val="eaeaea"/>
                  </a:solidFill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ямых</a:t>
            </a:r>
            <a:endParaRPr b="0" lang="en-US" sz="1800" spc="1" strike="noStrike">
              <a:ln w="0">
                <a:solidFill>
                  <a:srgbClr val="eaeaea"/>
                </a:solidFill>
              </a:ln>
              <a:solidFill>
                <a:srgbClr val="00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Picture 8" descr="Рисунок1"/>
          <p:cNvPicPr/>
          <p:nvPr/>
        </p:nvPicPr>
        <p:blipFill>
          <a:blip r:embed="rId1"/>
          <a:stretch/>
        </p:blipFill>
        <p:spPr>
          <a:xfrm>
            <a:off x="826920" y="5950080"/>
            <a:ext cx="763272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Рисунок2"/>
          <p:cNvPicPr/>
          <p:nvPr/>
        </p:nvPicPr>
        <p:blipFill>
          <a:blip r:embed="rId2"/>
          <a:stretch/>
        </p:blipFill>
        <p:spPr>
          <a:xfrm flipH="1">
            <a:off x="755640" y="5157720"/>
            <a:ext cx="7632720" cy="61920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DEFA-B044-4710-9082-FBB05AD35C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826920" y="150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987640" y="9381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755640" y="4959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11"/>
          <p:cNvSpPr txBox="1"/>
          <p:nvPr/>
        </p:nvSpPr>
        <p:spPr>
          <a:xfrm>
            <a:off x="888840" y="11592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 называтся прямая с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1116000" y="2133720"/>
            <a:ext cx="763272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1116000" y="5661000"/>
            <a:ext cx="763272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2421720" y="842760"/>
            <a:ext cx="4784400" cy="59472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 rot="3063600">
            <a:off x="3877560" y="3303000"/>
            <a:ext cx="248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еку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8713-62C2-463C-B860-2396C2FE40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глы, образованные при пересечении двух прямых секущ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1835280" y="5734080"/>
            <a:ext cx="619272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1908000" y="3213000"/>
            <a:ext cx="6264360" cy="107964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 flipH="1">
            <a:off x="2842920" y="1960560"/>
            <a:ext cx="3816360" cy="48974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5724360" y="198900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1835280" y="501336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1908000" y="256536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4859280" y="3213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5580000" y="328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5148360" y="3860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4427640" y="3645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4284720" y="5013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3419640" y="501336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3708360" y="5805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2700360" y="5805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Номер слайда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E900-0CCA-4279-8713-07B3F0C5E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Line 2"/>
          <p:cNvSpPr/>
          <p:nvPr/>
        </p:nvSpPr>
        <p:spPr>
          <a:xfrm>
            <a:off x="2987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"/>
          <p:cNvSpPr/>
          <p:nvPr/>
        </p:nvSpPr>
        <p:spPr>
          <a:xfrm>
            <a:off x="5796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324000" y="260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крест лежа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395280" y="119700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395280" y="177336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 flipH="1">
            <a:off x="1187280" y="692280"/>
            <a:ext cx="64800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1258920" y="1125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1403280" y="148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468360" y="3716280"/>
            <a:ext cx="194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1186920" y="2492280"/>
            <a:ext cx="792360" cy="19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1692360" y="29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1187280" y="3429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3419640" y="333360"/>
            <a:ext cx="23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дносторон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3419640" y="1197000"/>
            <a:ext cx="19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3419640" y="1844640"/>
            <a:ext cx="19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3419640" y="2924280"/>
            <a:ext cx="19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9"/>
          <p:cNvSpPr/>
          <p:nvPr/>
        </p:nvSpPr>
        <p:spPr>
          <a:xfrm>
            <a:off x="3419640" y="3716280"/>
            <a:ext cx="19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6372360" y="119700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6443640" y="170028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6443640" y="321300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6443640" y="263700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6443640" y="465300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6443640" y="414972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6"/>
          <p:cNvSpPr/>
          <p:nvPr/>
        </p:nvSpPr>
        <p:spPr>
          <a:xfrm>
            <a:off x="6516720" y="602136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7"/>
          <p:cNvSpPr/>
          <p:nvPr/>
        </p:nvSpPr>
        <p:spPr>
          <a:xfrm>
            <a:off x="6516720" y="551664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6227640" y="33336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ответ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9"/>
          <p:cNvSpPr/>
          <p:nvPr/>
        </p:nvSpPr>
        <p:spPr>
          <a:xfrm flipH="1">
            <a:off x="4284360" y="692280"/>
            <a:ext cx="64764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0"/>
          <p:cNvSpPr/>
          <p:nvPr/>
        </p:nvSpPr>
        <p:spPr>
          <a:xfrm flipH="1">
            <a:off x="3995280" y="2421000"/>
            <a:ext cx="64764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"/>
          <p:cNvSpPr/>
          <p:nvPr/>
        </p:nvSpPr>
        <p:spPr>
          <a:xfrm flipH="1">
            <a:off x="7164000" y="3500280"/>
            <a:ext cx="647640" cy="172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2"/>
          <p:cNvSpPr/>
          <p:nvPr/>
        </p:nvSpPr>
        <p:spPr>
          <a:xfrm flipH="1">
            <a:off x="7092720" y="1989000"/>
            <a:ext cx="647640" cy="172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3"/>
          <p:cNvSpPr/>
          <p:nvPr/>
        </p:nvSpPr>
        <p:spPr>
          <a:xfrm flipH="1">
            <a:off x="7164360" y="765000"/>
            <a:ext cx="50472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4"/>
          <p:cNvSpPr/>
          <p:nvPr/>
        </p:nvSpPr>
        <p:spPr>
          <a:xfrm flipH="1">
            <a:off x="7164000" y="4941720"/>
            <a:ext cx="647640" cy="172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5"/>
          <p:cNvSpPr/>
          <p:nvPr/>
        </p:nvSpPr>
        <p:spPr>
          <a:xfrm>
            <a:off x="4427640" y="1125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6"/>
          <p:cNvSpPr/>
          <p:nvPr/>
        </p:nvSpPr>
        <p:spPr>
          <a:xfrm>
            <a:off x="7451640" y="9079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7308720" y="14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8"/>
          <p:cNvSpPr/>
          <p:nvPr/>
        </p:nvSpPr>
        <p:spPr>
          <a:xfrm>
            <a:off x="4211640" y="155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9"/>
          <p:cNvSpPr/>
          <p:nvPr/>
        </p:nvSpPr>
        <p:spPr>
          <a:xfrm>
            <a:off x="4356000" y="29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0"/>
          <p:cNvSpPr/>
          <p:nvPr/>
        </p:nvSpPr>
        <p:spPr>
          <a:xfrm>
            <a:off x="738036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1"/>
          <p:cNvSpPr/>
          <p:nvPr/>
        </p:nvSpPr>
        <p:spPr>
          <a:xfrm>
            <a:off x="716436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2"/>
          <p:cNvSpPr/>
          <p:nvPr/>
        </p:nvSpPr>
        <p:spPr>
          <a:xfrm>
            <a:off x="421164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3"/>
          <p:cNvSpPr/>
          <p:nvPr/>
        </p:nvSpPr>
        <p:spPr>
          <a:xfrm>
            <a:off x="7236000" y="386064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4"/>
          <p:cNvSpPr/>
          <p:nvPr/>
        </p:nvSpPr>
        <p:spPr>
          <a:xfrm>
            <a:off x="7093080" y="4365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723600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6"/>
          <p:cNvSpPr/>
          <p:nvPr/>
        </p:nvSpPr>
        <p:spPr>
          <a:xfrm>
            <a:off x="7093080" y="5950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7"/>
          <p:cNvSpPr/>
          <p:nvPr/>
        </p:nvSpPr>
        <p:spPr>
          <a:xfrm>
            <a:off x="0" y="260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8"/>
          <p:cNvSpPr/>
          <p:nvPr/>
        </p:nvSpPr>
        <p:spPr>
          <a:xfrm>
            <a:off x="3132000" y="33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9"/>
          <p:cNvSpPr/>
          <p:nvPr/>
        </p:nvSpPr>
        <p:spPr>
          <a:xfrm>
            <a:off x="6012000" y="333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4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FD0D-6AD9-42D4-9A83-E76F9BBCD5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4"/>
          <p:cNvSpPr txBox="1"/>
          <p:nvPr/>
        </p:nvSpPr>
        <p:spPr>
          <a:xfrm>
            <a:off x="1692360" y="189000"/>
            <a:ext cx="597384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кончи предложение:</a:t>
            </a:r>
            <a:endParaRPr b="1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68360" y="1486080"/>
            <a:ext cx="8424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7fede"/>
              </a:gs>
              <a:gs pos="100000">
                <a:srgbClr val="99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араллельными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называются прямы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68360" y="2492280"/>
            <a:ext cx="842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7fede"/>
              </a:gs>
              <a:gs pos="100000">
                <a:srgbClr val="99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ва отрезка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называются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араллельными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есл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68360" y="3645000"/>
            <a:ext cx="84247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7fede"/>
              </a:gs>
              <a:gs pos="100000">
                <a:srgbClr val="99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Если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ве прямые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ерпендикулярны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треть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о они … между с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68360" y="4797360"/>
            <a:ext cx="8496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7fede"/>
              </a:gs>
              <a:gs pos="100000">
                <a:srgbClr val="99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ямая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зывается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екущей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ношению к прямым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а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есл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9"/>
          <p:cNvSpPr/>
          <p:nvPr/>
        </p:nvSpPr>
        <p:spPr>
          <a:xfrm>
            <a:off x="468360" y="5877000"/>
            <a:ext cx="8496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7fede"/>
              </a:gs>
              <a:gs pos="100000">
                <a:srgbClr val="99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 пересечении двух прямых секущ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разуется …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развернутых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уг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BC13-BA4D-43F8-A650-6F0CDAE337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WordArt 12"/>
          <p:cNvSpPr txBox="1"/>
          <p:nvPr/>
        </p:nvSpPr>
        <p:spPr>
          <a:xfrm>
            <a:off x="250920" y="115920"/>
            <a:ext cx="7993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d90d2a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d90d2a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 называются эти углы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d90d2a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908000" y="27082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0"/>
          <p:cNvSpPr/>
          <p:nvPr/>
        </p:nvSpPr>
        <p:spPr>
          <a:xfrm>
            <a:off x="4572000" y="3213000"/>
            <a:ext cx="1079640" cy="71928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680" h="453">
                <a:moveTo>
                  <a:pt x="680" y="0"/>
                </a:moveTo>
                <a:lnTo>
                  <a:pt x="136" y="0"/>
                </a:lnTo>
                <a:lnTo>
                  <a:pt x="45" y="136"/>
                </a:lnTo>
                <a:lnTo>
                  <a:pt x="0" y="272"/>
                </a:lnTo>
                <a:lnTo>
                  <a:pt x="91" y="408"/>
                </a:lnTo>
                <a:lnTo>
                  <a:pt x="227" y="453"/>
                </a:lnTo>
                <a:lnTo>
                  <a:pt x="318" y="453"/>
                </a:lnTo>
                <a:lnTo>
                  <a:pt x="68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1"/>
          <p:cNvSpPr/>
          <p:nvPr/>
        </p:nvSpPr>
        <p:spPr>
          <a:xfrm>
            <a:off x="3348000" y="5734080"/>
            <a:ext cx="1079640" cy="7938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680" h="500">
                <a:moveTo>
                  <a:pt x="204" y="0"/>
                </a:moveTo>
                <a:lnTo>
                  <a:pt x="635" y="1"/>
                </a:lnTo>
                <a:lnTo>
                  <a:pt x="680" y="182"/>
                </a:lnTo>
                <a:lnTo>
                  <a:pt x="635" y="364"/>
                </a:lnTo>
                <a:lnTo>
                  <a:pt x="408" y="500"/>
                </a:lnTo>
                <a:lnTo>
                  <a:pt x="181" y="500"/>
                </a:lnTo>
                <a:lnTo>
                  <a:pt x="91" y="409"/>
                </a:lnTo>
                <a:lnTo>
                  <a:pt x="0" y="273"/>
                </a:lnTo>
                <a:lnTo>
                  <a:pt x="204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835280" y="51577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724360" y="2205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6"/>
          <p:cNvSpPr/>
          <p:nvPr/>
        </p:nvSpPr>
        <p:spPr>
          <a:xfrm>
            <a:off x="3708360" y="4941720"/>
            <a:ext cx="1224000" cy="79236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771" h="499">
                <a:moveTo>
                  <a:pt x="0" y="499"/>
                </a:moveTo>
                <a:lnTo>
                  <a:pt x="363" y="0"/>
                </a:lnTo>
                <a:lnTo>
                  <a:pt x="589" y="91"/>
                </a:lnTo>
                <a:lnTo>
                  <a:pt x="771" y="318"/>
                </a:lnTo>
                <a:lnTo>
                  <a:pt x="771" y="499"/>
                </a:lnTo>
                <a:lnTo>
                  <a:pt x="0" y="49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0"/>
          <p:cNvSpPr/>
          <p:nvPr/>
        </p:nvSpPr>
        <p:spPr>
          <a:xfrm>
            <a:off x="5651640" y="2492280"/>
            <a:ext cx="1233360" cy="72072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777" h="454">
                <a:moveTo>
                  <a:pt x="0" y="446"/>
                </a:moveTo>
                <a:lnTo>
                  <a:pt x="368" y="0"/>
                </a:lnTo>
                <a:lnTo>
                  <a:pt x="595" y="83"/>
                </a:lnTo>
                <a:lnTo>
                  <a:pt x="777" y="289"/>
                </a:lnTo>
                <a:lnTo>
                  <a:pt x="777" y="454"/>
                </a:lnTo>
                <a:lnTo>
                  <a:pt x="0" y="44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2"/>
          <p:cNvSpPr/>
          <p:nvPr/>
        </p:nvSpPr>
        <p:spPr>
          <a:xfrm>
            <a:off x="2627280" y="5734080"/>
            <a:ext cx="1079640" cy="71928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680" h="453">
                <a:moveTo>
                  <a:pt x="680" y="0"/>
                </a:moveTo>
                <a:lnTo>
                  <a:pt x="136" y="0"/>
                </a:lnTo>
                <a:lnTo>
                  <a:pt x="45" y="136"/>
                </a:lnTo>
                <a:lnTo>
                  <a:pt x="0" y="272"/>
                </a:lnTo>
                <a:lnTo>
                  <a:pt x="91" y="408"/>
                </a:lnTo>
                <a:lnTo>
                  <a:pt x="227" y="453"/>
                </a:lnTo>
                <a:lnTo>
                  <a:pt x="318" y="453"/>
                </a:lnTo>
                <a:lnTo>
                  <a:pt x="68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3"/>
          <p:cNvSpPr/>
          <p:nvPr/>
        </p:nvSpPr>
        <p:spPr>
          <a:xfrm>
            <a:off x="2916360" y="4941720"/>
            <a:ext cx="1084320" cy="792360"/>
          </a:xfrm>
          <a:custGeom>
            <a:avLst/>
            <a:gdLst>
              <a:gd name="textAreaLeft" fmla="*/ 0 w 1084320"/>
              <a:gd name="textAreaRight" fmla="*/ 1084680 w 10843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683" h="499">
                <a:moveTo>
                  <a:pt x="482" y="499"/>
                </a:moveTo>
                <a:lnTo>
                  <a:pt x="45" y="499"/>
                </a:lnTo>
                <a:lnTo>
                  <a:pt x="0" y="318"/>
                </a:lnTo>
                <a:lnTo>
                  <a:pt x="45" y="136"/>
                </a:lnTo>
                <a:lnTo>
                  <a:pt x="272" y="0"/>
                </a:lnTo>
                <a:lnTo>
                  <a:pt x="499" y="0"/>
                </a:lnTo>
                <a:lnTo>
                  <a:pt x="589" y="91"/>
                </a:lnTo>
                <a:lnTo>
                  <a:pt x="683" y="244"/>
                </a:lnTo>
                <a:lnTo>
                  <a:pt x="482" y="49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4"/>
          <p:cNvSpPr/>
          <p:nvPr/>
        </p:nvSpPr>
        <p:spPr>
          <a:xfrm>
            <a:off x="4788000" y="2565360"/>
            <a:ext cx="1152360" cy="68760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687600"/>
              <a:gd name="textAreaBottom" fmla="*/ 687960 h 687600"/>
            </a:gdLst>
            <a:ahLst/>
            <a:rect l="textAreaLeft" t="textAreaTop" r="textAreaRight" b="textAreaBottom"/>
            <a:pathLst>
              <a:path w="726" h="433">
                <a:moveTo>
                  <a:pt x="526" y="409"/>
                </a:moveTo>
                <a:cubicBezTo>
                  <a:pt x="383" y="409"/>
                  <a:pt x="242" y="414"/>
                  <a:pt x="99" y="410"/>
                </a:cubicBezTo>
                <a:cubicBezTo>
                  <a:pt x="94" y="410"/>
                  <a:pt x="117" y="433"/>
                  <a:pt x="101" y="409"/>
                </a:cubicBezTo>
                <a:lnTo>
                  <a:pt x="0" y="264"/>
                </a:lnTo>
                <a:lnTo>
                  <a:pt x="99" y="117"/>
                </a:lnTo>
                <a:lnTo>
                  <a:pt x="363" y="0"/>
                </a:lnTo>
                <a:lnTo>
                  <a:pt x="594" y="59"/>
                </a:lnTo>
                <a:lnTo>
                  <a:pt x="726" y="176"/>
                </a:lnTo>
                <a:lnTo>
                  <a:pt x="526" y="40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"/>
          <p:cNvSpPr/>
          <p:nvPr/>
        </p:nvSpPr>
        <p:spPr>
          <a:xfrm>
            <a:off x="1908000" y="3213000"/>
            <a:ext cx="619308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6"/>
          <p:cNvSpPr/>
          <p:nvPr/>
        </p:nvSpPr>
        <p:spPr>
          <a:xfrm flipH="1">
            <a:off x="2842920" y="1960560"/>
            <a:ext cx="3816360" cy="48974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1835280" y="5734080"/>
            <a:ext cx="619272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8AC6-C1C7-431D-80FF-F586CE1454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33"/>
          <p:cNvSpPr/>
          <p:nvPr/>
        </p:nvSpPr>
        <p:spPr>
          <a:xfrm>
            <a:off x="7486560" y="2633760"/>
            <a:ext cx="1298520" cy="1485720"/>
          </a:xfrm>
          <a:custGeom>
            <a:avLst/>
            <a:gdLst>
              <a:gd name="textAreaLeft" fmla="*/ 0 w 1298520"/>
              <a:gd name="textAreaRight" fmla="*/ 1298520 w 1298520"/>
              <a:gd name="textAreaTop" fmla="*/ 0 h 1485720"/>
              <a:gd name="textAreaBottom" fmla="*/ 1486080 h 1485720"/>
            </a:gdLst>
            <a:ahLst/>
            <a:rect l="textAreaLeft" t="textAreaTop" r="textAreaRight" b="textAreaBottom"/>
            <a:pathLst>
              <a:path w="818" h="936">
                <a:moveTo>
                  <a:pt x="513" y="0"/>
                </a:moveTo>
                <a:cubicBezTo>
                  <a:pt x="534" y="7"/>
                  <a:pt x="547" y="26"/>
                  <a:pt x="567" y="36"/>
                </a:cubicBezTo>
                <a:cubicBezTo>
                  <a:pt x="573" y="39"/>
                  <a:pt x="579" y="42"/>
                  <a:pt x="585" y="45"/>
                </a:cubicBezTo>
                <a:cubicBezTo>
                  <a:pt x="591" y="49"/>
                  <a:pt x="603" y="57"/>
                  <a:pt x="603" y="57"/>
                </a:cubicBezTo>
                <a:cubicBezTo>
                  <a:pt x="610" y="78"/>
                  <a:pt x="600" y="53"/>
                  <a:pt x="615" y="75"/>
                </a:cubicBezTo>
                <a:cubicBezTo>
                  <a:pt x="631" y="98"/>
                  <a:pt x="643" y="125"/>
                  <a:pt x="657" y="150"/>
                </a:cubicBezTo>
                <a:cubicBezTo>
                  <a:pt x="664" y="163"/>
                  <a:pt x="678" y="175"/>
                  <a:pt x="684" y="189"/>
                </a:cubicBezTo>
                <a:cubicBezTo>
                  <a:pt x="706" y="238"/>
                  <a:pt x="714" y="291"/>
                  <a:pt x="738" y="339"/>
                </a:cubicBezTo>
                <a:cubicBezTo>
                  <a:pt x="743" y="372"/>
                  <a:pt x="737" y="344"/>
                  <a:pt x="747" y="369"/>
                </a:cubicBezTo>
                <a:cubicBezTo>
                  <a:pt x="749" y="375"/>
                  <a:pt x="753" y="387"/>
                  <a:pt x="753" y="387"/>
                </a:cubicBezTo>
                <a:cubicBezTo>
                  <a:pt x="760" y="468"/>
                  <a:pt x="776" y="555"/>
                  <a:pt x="750" y="633"/>
                </a:cubicBezTo>
                <a:cubicBezTo>
                  <a:pt x="747" y="658"/>
                  <a:pt x="746" y="683"/>
                  <a:pt x="741" y="708"/>
                </a:cubicBezTo>
                <a:cubicBezTo>
                  <a:pt x="736" y="737"/>
                  <a:pt x="741" y="711"/>
                  <a:pt x="735" y="732"/>
                </a:cubicBezTo>
                <a:cubicBezTo>
                  <a:pt x="733" y="740"/>
                  <a:pt x="729" y="756"/>
                  <a:pt x="729" y="756"/>
                </a:cubicBezTo>
                <a:cubicBezTo>
                  <a:pt x="728" y="785"/>
                  <a:pt x="730" y="814"/>
                  <a:pt x="726" y="843"/>
                </a:cubicBezTo>
                <a:cubicBezTo>
                  <a:pt x="725" y="850"/>
                  <a:pt x="714" y="861"/>
                  <a:pt x="714" y="861"/>
                </a:cubicBezTo>
                <a:cubicBezTo>
                  <a:pt x="711" y="874"/>
                  <a:pt x="818" y="936"/>
                  <a:pt x="711" y="876"/>
                </a:cubicBezTo>
                <a:lnTo>
                  <a:pt x="0" y="591"/>
                </a:lnTo>
                <a:lnTo>
                  <a:pt x="513" y="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2700000"/>
          </a:grad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32"/>
          <p:cNvSpPr/>
          <p:nvPr/>
        </p:nvSpPr>
        <p:spPr>
          <a:xfrm>
            <a:off x="6410160" y="3200400"/>
            <a:ext cx="1062360" cy="1157400"/>
          </a:xfrm>
          <a:custGeom>
            <a:avLst/>
            <a:gdLst>
              <a:gd name="textAreaLeft" fmla="*/ 0 w 1062360"/>
              <a:gd name="textAreaRight" fmla="*/ 1062720 w 106236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669" h="729">
                <a:moveTo>
                  <a:pt x="129" y="0"/>
                </a:moveTo>
                <a:cubicBezTo>
                  <a:pt x="104" y="4"/>
                  <a:pt x="86" y="13"/>
                  <a:pt x="63" y="21"/>
                </a:cubicBezTo>
                <a:cubicBezTo>
                  <a:pt x="49" y="42"/>
                  <a:pt x="57" y="35"/>
                  <a:pt x="42" y="45"/>
                </a:cubicBezTo>
                <a:cubicBezTo>
                  <a:pt x="38" y="58"/>
                  <a:pt x="30" y="69"/>
                  <a:pt x="24" y="81"/>
                </a:cubicBezTo>
                <a:cubicBezTo>
                  <a:pt x="9" y="110"/>
                  <a:pt x="6" y="154"/>
                  <a:pt x="0" y="186"/>
                </a:cubicBezTo>
                <a:cubicBezTo>
                  <a:pt x="1" y="250"/>
                  <a:pt x="0" y="314"/>
                  <a:pt x="3" y="378"/>
                </a:cubicBezTo>
                <a:cubicBezTo>
                  <a:pt x="4" y="401"/>
                  <a:pt x="23" y="433"/>
                  <a:pt x="33" y="453"/>
                </a:cubicBezTo>
                <a:cubicBezTo>
                  <a:pt x="54" y="495"/>
                  <a:pt x="77" y="534"/>
                  <a:pt x="105" y="573"/>
                </a:cubicBezTo>
                <a:lnTo>
                  <a:pt x="240" y="729"/>
                </a:lnTo>
                <a:lnTo>
                  <a:pt x="669" y="228"/>
                </a:lnTo>
                <a:lnTo>
                  <a:pt x="129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8"/>
          <p:cNvSpPr/>
          <p:nvPr/>
        </p:nvSpPr>
        <p:spPr>
          <a:xfrm flipH="1">
            <a:off x="4127400" y="476280"/>
            <a:ext cx="2820960" cy="3240000"/>
          </a:xfrm>
          <a:prstGeom prst="line">
            <a:avLst/>
          </a:prstGeom>
          <a:ln w="28440">
            <a:solidFill>
              <a:srgbClr val="f33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9"/>
          <p:cNvSpPr/>
          <p:nvPr/>
        </p:nvSpPr>
        <p:spPr>
          <a:xfrm>
            <a:off x="5148360" y="1461960"/>
            <a:ext cx="1430280" cy="1719360"/>
          </a:xfrm>
          <a:custGeom>
            <a:avLst/>
            <a:gdLst>
              <a:gd name="textAreaLeft" fmla="*/ 0 w 1430280"/>
              <a:gd name="textAreaRight" fmla="*/ 1430640 w 1430280"/>
              <a:gd name="textAreaTop" fmla="*/ 0 h 1719360"/>
              <a:gd name="textAreaBottom" fmla="*/ 1719720 h 1719360"/>
            </a:gdLst>
            <a:ahLst/>
            <a:rect l="textAreaLeft" t="textAreaTop" r="textAreaRight" b="textAreaBottom"/>
            <a:pathLst>
              <a:path w="901" h="1083">
                <a:moveTo>
                  <a:pt x="592" y="0"/>
                </a:moveTo>
                <a:cubicBezTo>
                  <a:pt x="597" y="16"/>
                  <a:pt x="602" y="32"/>
                  <a:pt x="607" y="48"/>
                </a:cubicBezTo>
                <a:cubicBezTo>
                  <a:pt x="611" y="77"/>
                  <a:pt x="615" y="113"/>
                  <a:pt x="631" y="138"/>
                </a:cubicBezTo>
                <a:cubicBezTo>
                  <a:pt x="638" y="175"/>
                  <a:pt x="630" y="137"/>
                  <a:pt x="637" y="162"/>
                </a:cubicBezTo>
                <a:cubicBezTo>
                  <a:pt x="639" y="170"/>
                  <a:pt x="643" y="186"/>
                  <a:pt x="643" y="186"/>
                </a:cubicBezTo>
                <a:cubicBezTo>
                  <a:pt x="643" y="193"/>
                  <a:pt x="644" y="257"/>
                  <a:pt x="649" y="279"/>
                </a:cubicBezTo>
                <a:cubicBezTo>
                  <a:pt x="652" y="292"/>
                  <a:pt x="667" y="315"/>
                  <a:pt x="667" y="315"/>
                </a:cubicBezTo>
                <a:cubicBezTo>
                  <a:pt x="672" y="334"/>
                  <a:pt x="692" y="355"/>
                  <a:pt x="706" y="369"/>
                </a:cubicBezTo>
                <a:cubicBezTo>
                  <a:pt x="719" y="382"/>
                  <a:pt x="706" y="374"/>
                  <a:pt x="715" y="387"/>
                </a:cubicBezTo>
                <a:cubicBezTo>
                  <a:pt x="728" y="408"/>
                  <a:pt x="744" y="428"/>
                  <a:pt x="760" y="447"/>
                </a:cubicBezTo>
                <a:cubicBezTo>
                  <a:pt x="771" y="460"/>
                  <a:pt x="781" y="472"/>
                  <a:pt x="790" y="486"/>
                </a:cubicBezTo>
                <a:cubicBezTo>
                  <a:pt x="796" y="495"/>
                  <a:pt x="805" y="513"/>
                  <a:pt x="805" y="513"/>
                </a:cubicBezTo>
                <a:cubicBezTo>
                  <a:pt x="812" y="540"/>
                  <a:pt x="827" y="596"/>
                  <a:pt x="841" y="618"/>
                </a:cubicBezTo>
                <a:cubicBezTo>
                  <a:pt x="846" y="637"/>
                  <a:pt x="859" y="649"/>
                  <a:pt x="865" y="666"/>
                </a:cubicBezTo>
                <a:cubicBezTo>
                  <a:pt x="875" y="697"/>
                  <a:pt x="887" y="726"/>
                  <a:pt x="892" y="759"/>
                </a:cubicBezTo>
                <a:cubicBezTo>
                  <a:pt x="894" y="818"/>
                  <a:pt x="893" y="843"/>
                  <a:pt x="901" y="891"/>
                </a:cubicBezTo>
                <a:cubicBezTo>
                  <a:pt x="900" y="961"/>
                  <a:pt x="895" y="1019"/>
                  <a:pt x="895" y="1083"/>
                </a:cubicBezTo>
                <a:lnTo>
                  <a:pt x="0" y="694"/>
                </a:lnTo>
                <a:lnTo>
                  <a:pt x="592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4861080" y="21319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6804000" y="115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6300720" y="4941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8532720" y="3716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7308720" y="36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4140360" y="35002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3564000" y="162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18"/>
          <p:cNvSpPr txBox="1"/>
          <p:nvPr/>
        </p:nvSpPr>
        <p:spPr>
          <a:xfrm>
            <a:off x="1258920" y="189000"/>
            <a:ext cx="381780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зовите угол, который составляет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углом АВС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ру углов: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179280" y="191628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0d2a"/>
                </a:solidFill>
                <a:latin typeface="Arial"/>
              </a:rPr>
              <a:t>а) односторон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1"/>
          <p:cNvSpPr/>
          <p:nvPr/>
        </p:nvSpPr>
        <p:spPr>
          <a:xfrm rot="350400">
            <a:off x="8459280" y="16282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7"/>
          <p:cNvSpPr/>
          <p:nvPr/>
        </p:nvSpPr>
        <p:spPr>
          <a:xfrm>
            <a:off x="6732720" y="2506680"/>
            <a:ext cx="1368360" cy="10666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891" h="672">
                <a:moveTo>
                  <a:pt x="0" y="449"/>
                </a:moveTo>
                <a:cubicBezTo>
                  <a:pt x="30" y="404"/>
                  <a:pt x="4" y="447"/>
                  <a:pt x="9" y="311"/>
                </a:cubicBezTo>
                <a:cubicBezTo>
                  <a:pt x="10" y="276"/>
                  <a:pt x="23" y="255"/>
                  <a:pt x="45" y="230"/>
                </a:cubicBezTo>
                <a:cubicBezTo>
                  <a:pt x="52" y="223"/>
                  <a:pt x="68" y="200"/>
                  <a:pt x="78" y="197"/>
                </a:cubicBezTo>
                <a:cubicBezTo>
                  <a:pt x="92" y="175"/>
                  <a:pt x="116" y="154"/>
                  <a:pt x="138" y="140"/>
                </a:cubicBezTo>
                <a:cubicBezTo>
                  <a:pt x="156" y="113"/>
                  <a:pt x="184" y="85"/>
                  <a:pt x="216" y="74"/>
                </a:cubicBezTo>
                <a:cubicBezTo>
                  <a:pt x="290" y="0"/>
                  <a:pt x="378" y="16"/>
                  <a:pt x="483" y="14"/>
                </a:cubicBezTo>
                <a:cubicBezTo>
                  <a:pt x="499" y="9"/>
                  <a:pt x="515" y="5"/>
                  <a:pt x="531" y="2"/>
                </a:cubicBezTo>
                <a:cubicBezTo>
                  <a:pt x="564" y="13"/>
                  <a:pt x="607" y="11"/>
                  <a:pt x="642" y="17"/>
                </a:cubicBezTo>
                <a:cubicBezTo>
                  <a:pt x="666" y="33"/>
                  <a:pt x="637" y="12"/>
                  <a:pt x="657" y="32"/>
                </a:cubicBezTo>
                <a:cubicBezTo>
                  <a:pt x="663" y="38"/>
                  <a:pt x="704" y="56"/>
                  <a:pt x="714" y="59"/>
                </a:cubicBezTo>
                <a:cubicBezTo>
                  <a:pt x="723" y="72"/>
                  <a:pt x="754" y="97"/>
                  <a:pt x="768" y="107"/>
                </a:cubicBezTo>
                <a:cubicBezTo>
                  <a:pt x="774" y="111"/>
                  <a:pt x="779" y="117"/>
                  <a:pt x="786" y="119"/>
                </a:cubicBezTo>
                <a:cubicBezTo>
                  <a:pt x="792" y="121"/>
                  <a:pt x="804" y="125"/>
                  <a:pt x="804" y="125"/>
                </a:cubicBezTo>
                <a:cubicBezTo>
                  <a:pt x="806" y="128"/>
                  <a:pt x="807" y="132"/>
                  <a:pt x="810" y="134"/>
                </a:cubicBezTo>
                <a:cubicBezTo>
                  <a:pt x="812" y="136"/>
                  <a:pt x="813" y="131"/>
                  <a:pt x="819" y="137"/>
                </a:cubicBezTo>
                <a:lnTo>
                  <a:pt x="891" y="218"/>
                </a:lnTo>
                <a:lnTo>
                  <a:pt x="482" y="672"/>
                </a:lnTo>
                <a:lnTo>
                  <a:pt x="0" y="44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 flipH="1">
            <a:off x="6156360" y="1844640"/>
            <a:ext cx="2820960" cy="3240000"/>
          </a:xfrm>
          <a:prstGeom prst="line">
            <a:avLst/>
          </a:prstGeom>
          <a:ln w="28440">
            <a:solidFill>
              <a:srgbClr val="f33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3708360" y="1989000"/>
            <a:ext cx="5040360" cy="2089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179280" y="2708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0d2a"/>
                </a:solidFill>
                <a:latin typeface="Arial"/>
              </a:rPr>
              <a:t>б) накрест лежа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1"/>
          <p:cNvSpPr/>
          <p:nvPr/>
        </p:nvSpPr>
        <p:spPr>
          <a:xfrm>
            <a:off x="179280" y="3500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0d2a"/>
                </a:solidFill>
                <a:latin typeface="Arial"/>
              </a:rPr>
              <a:t>в) соответств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6046-C274-4F4C-A874-012E35D85C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4"/>
          <p:cNvSpPr/>
          <p:nvPr/>
        </p:nvSpPr>
        <p:spPr>
          <a:xfrm>
            <a:off x="2195640" y="1700280"/>
            <a:ext cx="5257800" cy="3168720"/>
          </a:xfrm>
          <a:prstGeom prst="parallelogram">
            <a:avLst>
              <a:gd name="adj" fmla="val 4148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132000" y="1268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7380360" y="1268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5940360" y="49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1692360" y="4869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9"/>
          <p:cNvSpPr/>
          <p:nvPr/>
        </p:nvSpPr>
        <p:spPr>
          <a:xfrm>
            <a:off x="3492360" y="1700280"/>
            <a:ext cx="2592360" cy="3168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1"/>
          <p:cNvSpPr/>
          <p:nvPr/>
        </p:nvSpPr>
        <p:spPr>
          <a:xfrm>
            <a:off x="3492360" y="1700280"/>
            <a:ext cx="1366920" cy="792000"/>
          </a:xfrm>
          <a:custGeom>
            <a:avLst/>
            <a:gdLst>
              <a:gd name="textAreaLeft" fmla="*/ 0 w 1366920"/>
              <a:gd name="textAreaRight" fmla="*/ 1366920 w 13669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861" h="499">
                <a:moveTo>
                  <a:pt x="0" y="0"/>
                </a:moveTo>
                <a:lnTo>
                  <a:pt x="408" y="499"/>
                </a:lnTo>
                <a:lnTo>
                  <a:pt x="589" y="499"/>
                </a:lnTo>
                <a:lnTo>
                  <a:pt x="861" y="273"/>
                </a:lnTo>
                <a:lnTo>
                  <a:pt x="861" y="91"/>
                </a:lnTo>
                <a:lnTo>
                  <a:pt x="63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009999">
                  <a:alpha val="0"/>
                </a:srgbClr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Freeform 17"/>
          <p:cNvGrpSpPr/>
          <p:nvPr/>
        </p:nvGrpSpPr>
        <p:grpSpPr>
          <a:xfrm>
            <a:off x="3481560" y="1689120"/>
            <a:ext cx="669600" cy="384120"/>
            <a:chOff x="3481560" y="1689120"/>
            <a:chExt cx="669600" cy="384120"/>
          </a:xfrm>
        </p:grpSpPr>
        <p:pic>
          <p:nvPicPr>
            <p:cNvPr id="324" name="Freeform 17" descr=""/>
            <p:cNvPicPr/>
            <p:nvPr/>
          </p:nvPicPr>
          <p:blipFill>
            <a:blip r:embed="rId1"/>
            <a:stretch/>
          </p:blipFill>
          <p:spPr>
            <a:xfrm>
              <a:off x="3481560" y="1689120"/>
              <a:ext cx="6696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492360" y="1700280"/>
              <a:ext cx="648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Freeform 18"/>
          <p:cNvGrpSpPr/>
          <p:nvPr/>
        </p:nvGrpSpPr>
        <p:grpSpPr>
          <a:xfrm>
            <a:off x="5425920" y="4498920"/>
            <a:ext cx="669960" cy="384120"/>
            <a:chOff x="5425920" y="4498920"/>
            <a:chExt cx="669960" cy="384120"/>
          </a:xfrm>
        </p:grpSpPr>
        <p:pic>
          <p:nvPicPr>
            <p:cNvPr id="327" name="Freeform 18" descr=""/>
            <p:cNvPicPr/>
            <p:nvPr/>
          </p:nvPicPr>
          <p:blipFill>
            <a:blip r:embed="rId2"/>
            <a:stretch/>
          </p:blipFill>
          <p:spPr>
            <a:xfrm>
              <a:off x="5425920" y="4498920"/>
              <a:ext cx="6699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 rot="10800000">
              <a:off x="5435280" y="4508280"/>
              <a:ext cx="647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WordArt 19"/>
          <p:cNvSpPr txBox="1"/>
          <p:nvPr/>
        </p:nvSpPr>
        <p:spPr>
          <a:xfrm>
            <a:off x="611280" y="33336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) Как называются эти углы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0" name="WordArt 20"/>
          <p:cNvSpPr txBox="1"/>
          <p:nvPr/>
        </p:nvSpPr>
        <p:spPr>
          <a:xfrm>
            <a:off x="324000" y="5661000"/>
            <a:ext cx="83674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) Для каких прямых и какой секущей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Line 22"/>
          <p:cNvSpPr/>
          <p:nvPr/>
        </p:nvSpPr>
        <p:spPr>
          <a:xfrm>
            <a:off x="1116000" y="1700280"/>
            <a:ext cx="76327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3"/>
          <p:cNvSpPr/>
          <p:nvPr/>
        </p:nvSpPr>
        <p:spPr>
          <a:xfrm>
            <a:off x="1116000" y="4869000"/>
            <a:ext cx="76327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6"/>
          <p:cNvGrpSpPr/>
          <p:nvPr/>
        </p:nvGrpSpPr>
        <p:grpSpPr>
          <a:xfrm>
            <a:off x="2398680" y="311040"/>
            <a:ext cx="4784400" cy="5947200"/>
            <a:chOff x="2398680" y="311040"/>
            <a:chExt cx="4784400" cy="5947200"/>
          </a:xfrm>
        </p:grpSpPr>
        <p:sp>
          <p:nvSpPr>
            <p:cNvPr id="334" name="Line 24"/>
            <p:cNvSpPr/>
            <p:nvPr/>
          </p:nvSpPr>
          <p:spPr>
            <a:xfrm>
              <a:off x="2398680" y="311040"/>
              <a:ext cx="4784400" cy="594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5"/>
            <p:cNvSpPr/>
            <p:nvPr/>
          </p:nvSpPr>
          <p:spPr>
            <a:xfrm rot="3063600">
              <a:off x="4133520" y="2770200"/>
              <a:ext cx="13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ff3300"/>
                  </a:solidFill>
                  <a:latin typeface="Arial"/>
                </a:rPr>
                <a:t>секущ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Номер слайда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03A9-F5CD-4B4E-B68C-D08931972C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2"/>
          <p:cNvSpPr/>
          <p:nvPr/>
        </p:nvSpPr>
        <p:spPr>
          <a:xfrm>
            <a:off x="2195640" y="1700280"/>
            <a:ext cx="5257800" cy="3168720"/>
          </a:xfrm>
          <a:prstGeom prst="parallelogram">
            <a:avLst>
              <a:gd name="adj" fmla="val 4148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132000" y="1268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7380360" y="1268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5940360" y="49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1692360" y="4869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8"/>
          <p:cNvSpPr/>
          <p:nvPr/>
        </p:nvSpPr>
        <p:spPr>
          <a:xfrm>
            <a:off x="3492360" y="1700280"/>
            <a:ext cx="1366920" cy="792000"/>
          </a:xfrm>
          <a:custGeom>
            <a:avLst/>
            <a:gdLst>
              <a:gd name="textAreaLeft" fmla="*/ 0 w 1366920"/>
              <a:gd name="textAreaRight" fmla="*/ 1366920 w 13669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861" h="499">
                <a:moveTo>
                  <a:pt x="0" y="0"/>
                </a:moveTo>
                <a:lnTo>
                  <a:pt x="408" y="499"/>
                </a:lnTo>
                <a:lnTo>
                  <a:pt x="589" y="499"/>
                </a:lnTo>
                <a:lnTo>
                  <a:pt x="861" y="273"/>
                </a:lnTo>
                <a:lnTo>
                  <a:pt x="861" y="91"/>
                </a:lnTo>
                <a:lnTo>
                  <a:pt x="63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009999">
                  <a:alpha val="0"/>
                </a:srgbClr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1"/>
          <p:cNvSpPr txBox="1"/>
          <p:nvPr/>
        </p:nvSpPr>
        <p:spPr>
          <a:xfrm>
            <a:off x="611280" y="33336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) Как называются эти углы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4" name="WordArt 12"/>
          <p:cNvSpPr txBox="1"/>
          <p:nvPr/>
        </p:nvSpPr>
        <p:spPr>
          <a:xfrm>
            <a:off x="324000" y="5661000"/>
            <a:ext cx="83674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) Для каких прямых и какой секущей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5" name="Line 17"/>
          <p:cNvSpPr/>
          <p:nvPr/>
        </p:nvSpPr>
        <p:spPr>
          <a:xfrm flipV="1">
            <a:off x="2195640" y="1700280"/>
            <a:ext cx="5256000" cy="3168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9"/>
          <p:cNvSpPr/>
          <p:nvPr/>
        </p:nvSpPr>
        <p:spPr>
          <a:xfrm>
            <a:off x="6227640" y="1700280"/>
            <a:ext cx="1224000" cy="108108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771" h="681">
                <a:moveTo>
                  <a:pt x="771" y="0"/>
                </a:moveTo>
                <a:lnTo>
                  <a:pt x="4" y="447"/>
                </a:lnTo>
                <a:lnTo>
                  <a:pt x="0" y="558"/>
                </a:lnTo>
                <a:lnTo>
                  <a:pt x="141" y="681"/>
                </a:lnTo>
                <a:lnTo>
                  <a:pt x="281" y="681"/>
                </a:lnTo>
                <a:lnTo>
                  <a:pt x="491" y="681"/>
                </a:lnTo>
                <a:lnTo>
                  <a:pt x="77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cc">
                  <a:alpha val="5137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20"/>
          <p:cNvSpPr/>
          <p:nvPr/>
        </p:nvSpPr>
        <p:spPr>
          <a:xfrm>
            <a:off x="2214720" y="3890880"/>
            <a:ext cx="1176120" cy="943200"/>
          </a:xfrm>
          <a:custGeom>
            <a:avLst/>
            <a:gdLst>
              <a:gd name="textAreaLeft" fmla="*/ 0 w 1176120"/>
              <a:gd name="textAreaRight" fmla="*/ 1176480 w 117612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741" h="594">
                <a:moveTo>
                  <a:pt x="0" y="594"/>
                </a:moveTo>
                <a:lnTo>
                  <a:pt x="741" y="147"/>
                </a:lnTo>
                <a:lnTo>
                  <a:pt x="737" y="72"/>
                </a:lnTo>
                <a:lnTo>
                  <a:pt x="586" y="0"/>
                </a:lnTo>
                <a:lnTo>
                  <a:pt x="447" y="17"/>
                </a:lnTo>
                <a:lnTo>
                  <a:pt x="239" y="42"/>
                </a:lnTo>
                <a:lnTo>
                  <a:pt x="0" y="5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cc">
                  <a:alpha val="5137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5"/>
          <p:cNvSpPr/>
          <p:nvPr/>
        </p:nvSpPr>
        <p:spPr>
          <a:xfrm flipH="1">
            <a:off x="5772600" y="1029960"/>
            <a:ext cx="1949400" cy="47167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2"/>
          <p:cNvGrpSpPr/>
          <p:nvPr/>
        </p:nvGrpSpPr>
        <p:grpSpPr>
          <a:xfrm>
            <a:off x="1521360" y="1311480"/>
            <a:ext cx="6533280" cy="3946320"/>
            <a:chOff x="1521360" y="1311480"/>
            <a:chExt cx="6533280" cy="3946320"/>
          </a:xfrm>
        </p:grpSpPr>
        <p:sp>
          <p:nvSpPr>
            <p:cNvPr id="350" name="Line 13"/>
            <p:cNvSpPr/>
            <p:nvPr/>
          </p:nvSpPr>
          <p:spPr>
            <a:xfrm flipV="1">
              <a:off x="1521360" y="1311480"/>
              <a:ext cx="6533280" cy="394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21"/>
            <p:cNvSpPr/>
            <p:nvPr/>
          </p:nvSpPr>
          <p:spPr>
            <a:xfrm rot="19786200">
              <a:off x="3924720" y="2707920"/>
              <a:ext cx="20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ff3300"/>
                  </a:solidFill>
                  <a:latin typeface="Arial"/>
                </a:rPr>
                <a:t>секущ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Line 14"/>
          <p:cNvSpPr/>
          <p:nvPr/>
        </p:nvSpPr>
        <p:spPr>
          <a:xfrm flipV="1">
            <a:off x="1903320" y="927000"/>
            <a:ext cx="1932840" cy="4681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Номер слайда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44FF-322B-46B1-A289-A6DB9853B0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2"/>
          <p:cNvSpPr/>
          <p:nvPr/>
        </p:nvSpPr>
        <p:spPr>
          <a:xfrm>
            <a:off x="2195640" y="1700280"/>
            <a:ext cx="5257800" cy="3168720"/>
          </a:xfrm>
          <a:prstGeom prst="parallelogram">
            <a:avLst>
              <a:gd name="adj" fmla="val 4148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3132000" y="1268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7380360" y="1268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5940360" y="49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692360" y="4869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8"/>
          <p:cNvSpPr/>
          <p:nvPr/>
        </p:nvSpPr>
        <p:spPr>
          <a:xfrm>
            <a:off x="3492360" y="1700280"/>
            <a:ext cx="1366920" cy="792000"/>
          </a:xfrm>
          <a:custGeom>
            <a:avLst/>
            <a:gdLst>
              <a:gd name="textAreaLeft" fmla="*/ 0 w 1366920"/>
              <a:gd name="textAreaRight" fmla="*/ 1366920 w 13669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861" h="499">
                <a:moveTo>
                  <a:pt x="0" y="0"/>
                </a:moveTo>
                <a:lnTo>
                  <a:pt x="408" y="499"/>
                </a:lnTo>
                <a:lnTo>
                  <a:pt x="589" y="499"/>
                </a:lnTo>
                <a:lnTo>
                  <a:pt x="861" y="273"/>
                </a:lnTo>
                <a:lnTo>
                  <a:pt x="861" y="91"/>
                </a:lnTo>
                <a:lnTo>
                  <a:pt x="63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009999">
                  <a:alpha val="0"/>
                </a:srgbClr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WordArt 11"/>
          <p:cNvSpPr txBox="1"/>
          <p:nvPr/>
        </p:nvSpPr>
        <p:spPr>
          <a:xfrm>
            <a:off x="611280" y="33336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) Как называются эти углы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1" name="WordArt 12"/>
          <p:cNvSpPr txBox="1"/>
          <p:nvPr/>
        </p:nvSpPr>
        <p:spPr>
          <a:xfrm>
            <a:off x="324000" y="5661000"/>
            <a:ext cx="83674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) Для каких прямых и какой секущей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62" name="Freeform 16"/>
          <p:cNvGrpSpPr/>
          <p:nvPr/>
        </p:nvGrpSpPr>
        <p:grpSpPr>
          <a:xfrm>
            <a:off x="3193920" y="1689120"/>
            <a:ext cx="1030320" cy="816120"/>
            <a:chOff x="3193920" y="1689120"/>
            <a:chExt cx="1030320" cy="816120"/>
          </a:xfrm>
        </p:grpSpPr>
        <p:pic>
          <p:nvPicPr>
            <p:cNvPr id="363" name="Freeform 16" descr=""/>
            <p:cNvPicPr/>
            <p:nvPr/>
          </p:nvPicPr>
          <p:blipFill>
            <a:blip r:embed="rId1"/>
            <a:stretch/>
          </p:blipFill>
          <p:spPr>
            <a:xfrm>
              <a:off x="3193920" y="1689120"/>
              <a:ext cx="10303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203640" y="1700280"/>
              <a:ext cx="100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Freeform 18"/>
          <p:cNvGrpSpPr/>
          <p:nvPr/>
        </p:nvGrpSpPr>
        <p:grpSpPr>
          <a:xfrm>
            <a:off x="2182680" y="4206960"/>
            <a:ext cx="1176480" cy="676080"/>
            <a:chOff x="2182680" y="4206960"/>
            <a:chExt cx="1176480" cy="676080"/>
          </a:xfrm>
        </p:grpSpPr>
        <p:pic>
          <p:nvPicPr>
            <p:cNvPr id="366" name="Freeform 18" descr=""/>
            <p:cNvPicPr/>
            <p:nvPr/>
          </p:nvPicPr>
          <p:blipFill>
            <a:blip r:embed="rId2"/>
            <a:stretch/>
          </p:blipFill>
          <p:spPr>
            <a:xfrm>
              <a:off x="2182680" y="4206960"/>
              <a:ext cx="11764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195640" y="4219560"/>
              <a:ext cx="11523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Freeform 15"/>
          <p:cNvSpPr/>
          <p:nvPr/>
        </p:nvSpPr>
        <p:spPr>
          <a:xfrm>
            <a:off x="1403280" y="-209520"/>
            <a:ext cx="2882880" cy="706752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7067520"/>
              <a:gd name="textAreaBottom" fmla="*/ 7067880 h 7067520"/>
            </a:gdLst>
            <a:ahLst/>
            <a:rect l="textAreaLeft" t="textAreaTop" r="textAreaRight" b="textAreaBottom"/>
            <a:pathLst>
              <a:path w="1816" h="4452">
                <a:moveTo>
                  <a:pt x="1816" y="0"/>
                </a:moveTo>
                <a:lnTo>
                  <a:pt x="685" y="2733"/>
                </a:lnTo>
                <a:lnTo>
                  <a:pt x="0" y="4452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9"/>
          <p:cNvSpPr/>
          <p:nvPr/>
        </p:nvSpPr>
        <p:spPr>
          <a:xfrm rot="17751000">
            <a:off x="2070720" y="2834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секу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4"/>
          <p:cNvSpPr/>
          <p:nvPr/>
        </p:nvSpPr>
        <p:spPr>
          <a:xfrm>
            <a:off x="971640" y="4869000"/>
            <a:ext cx="76327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1116000" y="1700280"/>
            <a:ext cx="76327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Номер слайда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C854-BFFB-4EFC-9FD1-92426A51D3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3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70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3851280" y="112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6659640" y="530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7740720" y="2637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1042920" y="5157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8"/>
          <p:cNvSpPr txBox="1"/>
          <p:nvPr/>
        </p:nvSpPr>
        <p:spPr>
          <a:xfrm>
            <a:off x="611280" y="33336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) Как называются эти углы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8" name="WordArt 9"/>
          <p:cNvSpPr txBox="1"/>
          <p:nvPr/>
        </p:nvSpPr>
        <p:spPr>
          <a:xfrm>
            <a:off x="324000" y="5661000"/>
            <a:ext cx="83674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) Для каких прямых и какой секущей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9" name="AutoShape 16"/>
          <p:cNvSpPr/>
          <p:nvPr/>
        </p:nvSpPr>
        <p:spPr>
          <a:xfrm>
            <a:off x="1332000" y="1628640"/>
            <a:ext cx="5473440" cy="3743640"/>
          </a:xfrm>
          <a:prstGeom prst="triangle">
            <a:avLst>
              <a:gd name="adj" fmla="val 50000"/>
            </a:avLst>
          </a:prstGeom>
          <a:solidFill>
            <a:srgbClr val="f7fede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0"/>
          <p:cNvSpPr/>
          <p:nvPr/>
        </p:nvSpPr>
        <p:spPr>
          <a:xfrm flipV="1">
            <a:off x="6804000" y="3141720"/>
            <a:ext cx="1655640" cy="22320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3"/>
          <p:cNvSpPr/>
          <p:nvPr/>
        </p:nvSpPr>
        <p:spPr>
          <a:xfrm>
            <a:off x="1332000" y="4581360"/>
            <a:ext cx="1439640" cy="79236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907" h="499">
                <a:moveTo>
                  <a:pt x="0" y="499"/>
                </a:moveTo>
                <a:lnTo>
                  <a:pt x="792" y="499"/>
                </a:lnTo>
                <a:lnTo>
                  <a:pt x="907" y="250"/>
                </a:lnTo>
                <a:lnTo>
                  <a:pt x="680" y="0"/>
                </a:lnTo>
                <a:lnTo>
                  <a:pt x="346" y="6"/>
                </a:lnTo>
                <a:lnTo>
                  <a:pt x="0" y="499"/>
                </a:lnTo>
                <a:close/>
              </a:path>
            </a:pathLst>
          </a:custGeom>
          <a:blipFill rotWithShape="0">
            <a:blip r:embed="rId1">
              <a:alphaModFix amt="45000"/>
            </a:blip>
            <a:srcRect/>
            <a:tile tx="0" ty="0" sx="100000" sy="100000" algn="ctr"/>
          </a:blip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4"/>
          <p:cNvSpPr/>
          <p:nvPr/>
        </p:nvSpPr>
        <p:spPr>
          <a:xfrm>
            <a:off x="6824520" y="4581360"/>
            <a:ext cx="1419480" cy="792360"/>
          </a:xfrm>
          <a:custGeom>
            <a:avLst/>
            <a:gdLst>
              <a:gd name="textAreaLeft" fmla="*/ 0 w 1419480"/>
              <a:gd name="textAreaRight" fmla="*/ 1419840 w 14194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894" h="499">
                <a:moveTo>
                  <a:pt x="0" y="495"/>
                </a:moveTo>
                <a:lnTo>
                  <a:pt x="779" y="499"/>
                </a:lnTo>
                <a:lnTo>
                  <a:pt x="894" y="250"/>
                </a:lnTo>
                <a:lnTo>
                  <a:pt x="667" y="0"/>
                </a:lnTo>
                <a:lnTo>
                  <a:pt x="336" y="36"/>
                </a:lnTo>
                <a:lnTo>
                  <a:pt x="0" y="495"/>
                </a:lnTo>
                <a:close/>
              </a:path>
            </a:pathLst>
          </a:cu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5"/>
          <p:cNvSpPr/>
          <p:nvPr/>
        </p:nvSpPr>
        <p:spPr>
          <a:xfrm flipV="1">
            <a:off x="1116000" y="907560"/>
            <a:ext cx="3456000" cy="4753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6"/>
          <p:cNvSpPr/>
          <p:nvPr/>
        </p:nvSpPr>
        <p:spPr>
          <a:xfrm flipV="1">
            <a:off x="6084720" y="2637000"/>
            <a:ext cx="2735280" cy="3744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31"/>
          <p:cNvGrpSpPr/>
          <p:nvPr/>
        </p:nvGrpSpPr>
        <p:grpSpPr>
          <a:xfrm>
            <a:off x="0" y="4941720"/>
            <a:ext cx="8497800" cy="432000"/>
            <a:chOff x="0" y="4941720"/>
            <a:chExt cx="8497800" cy="432000"/>
          </a:xfrm>
        </p:grpSpPr>
        <p:sp>
          <p:nvSpPr>
            <p:cNvPr id="386" name="Line 21"/>
            <p:cNvSpPr/>
            <p:nvPr/>
          </p:nvSpPr>
          <p:spPr>
            <a:xfrm>
              <a:off x="0" y="5373720"/>
              <a:ext cx="84978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0"/>
            <p:cNvSpPr/>
            <p:nvPr/>
          </p:nvSpPr>
          <p:spPr>
            <a:xfrm>
              <a:off x="3240000" y="4941720"/>
              <a:ext cx="237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3300"/>
                  </a:solidFill>
                  <a:latin typeface="Arial"/>
                </a:rPr>
                <a:t>секущ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Line 33"/>
          <p:cNvSpPr/>
          <p:nvPr/>
        </p:nvSpPr>
        <p:spPr>
          <a:xfrm>
            <a:off x="6804000" y="5373720"/>
            <a:ext cx="20890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DCF1-392B-4D76-8D4F-66C348C1CA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Картинка 5 из 5630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712944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B0F0-81E4-489D-8CBB-286497D5D0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3851280" y="112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6659640" y="530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774072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042920" y="5157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WordArt 6"/>
          <p:cNvSpPr txBox="1"/>
          <p:nvPr/>
        </p:nvSpPr>
        <p:spPr>
          <a:xfrm>
            <a:off x="611280" y="33336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) Как называются эти углы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5" name="WordArt 7"/>
          <p:cNvSpPr txBox="1"/>
          <p:nvPr/>
        </p:nvSpPr>
        <p:spPr>
          <a:xfrm>
            <a:off x="324000" y="5950080"/>
            <a:ext cx="83674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) Для каких прямых и какой секущей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AutoShape 8"/>
          <p:cNvSpPr/>
          <p:nvPr/>
        </p:nvSpPr>
        <p:spPr>
          <a:xfrm>
            <a:off x="1332000" y="1628640"/>
            <a:ext cx="5473440" cy="3743640"/>
          </a:xfrm>
          <a:prstGeom prst="triangle">
            <a:avLst>
              <a:gd name="adj" fmla="val 50000"/>
            </a:avLst>
          </a:prstGeom>
          <a:solidFill>
            <a:srgbClr val="f7fede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"/>
          <p:cNvSpPr/>
          <p:nvPr/>
        </p:nvSpPr>
        <p:spPr>
          <a:xfrm flipV="1">
            <a:off x="5724360" y="3141360"/>
            <a:ext cx="2735280" cy="3716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0"/>
          <p:cNvSpPr/>
          <p:nvPr/>
        </p:nvSpPr>
        <p:spPr>
          <a:xfrm>
            <a:off x="6804000" y="5373720"/>
            <a:ext cx="20890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1"/>
          <p:cNvSpPr/>
          <p:nvPr/>
        </p:nvSpPr>
        <p:spPr>
          <a:xfrm>
            <a:off x="1332000" y="4724280"/>
            <a:ext cx="1226880" cy="650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63" h="182">
                <a:moveTo>
                  <a:pt x="0" y="182"/>
                </a:moveTo>
                <a:lnTo>
                  <a:pt x="317" y="182"/>
                </a:lnTo>
                <a:lnTo>
                  <a:pt x="363" y="91"/>
                </a:lnTo>
                <a:lnTo>
                  <a:pt x="272" y="0"/>
                </a:lnTo>
                <a:lnTo>
                  <a:pt x="136" y="0"/>
                </a:lnTo>
                <a:lnTo>
                  <a:pt x="0" y="182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2"/>
          <p:cNvSpPr/>
          <p:nvPr/>
        </p:nvSpPr>
        <p:spPr>
          <a:xfrm flipH="1" flipV="1">
            <a:off x="5650920" y="5373000"/>
            <a:ext cx="1152360" cy="576360"/>
          </a:xfrm>
          <a:custGeom>
            <a:avLst/>
            <a:gdLst>
              <a:gd name="textAreaLeft" fmla="*/ -360 w 1152360"/>
              <a:gd name="textAreaRight" fmla="*/ 1152360 w 115236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w="363" h="182">
                <a:moveTo>
                  <a:pt x="0" y="182"/>
                </a:moveTo>
                <a:lnTo>
                  <a:pt x="317" y="182"/>
                </a:lnTo>
                <a:lnTo>
                  <a:pt x="363" y="91"/>
                </a:lnTo>
                <a:lnTo>
                  <a:pt x="272" y="0"/>
                </a:lnTo>
                <a:lnTo>
                  <a:pt x="136" y="0"/>
                </a:lnTo>
                <a:lnTo>
                  <a:pt x="0" y="18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3"/>
          <p:cNvSpPr/>
          <p:nvPr/>
        </p:nvSpPr>
        <p:spPr>
          <a:xfrm flipV="1">
            <a:off x="1116000" y="907560"/>
            <a:ext cx="3456000" cy="4753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4"/>
          <p:cNvSpPr/>
          <p:nvPr/>
        </p:nvSpPr>
        <p:spPr>
          <a:xfrm flipV="1">
            <a:off x="6084720" y="2637000"/>
            <a:ext cx="2735280" cy="374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15"/>
          <p:cNvGrpSpPr/>
          <p:nvPr/>
        </p:nvGrpSpPr>
        <p:grpSpPr>
          <a:xfrm>
            <a:off x="684360" y="5013360"/>
            <a:ext cx="7920000" cy="398880"/>
            <a:chOff x="684360" y="5013360"/>
            <a:chExt cx="7920000" cy="398880"/>
          </a:xfrm>
        </p:grpSpPr>
        <p:sp>
          <p:nvSpPr>
            <p:cNvPr id="404" name="Line 16"/>
            <p:cNvSpPr/>
            <p:nvPr/>
          </p:nvSpPr>
          <p:spPr>
            <a:xfrm>
              <a:off x="684360" y="5373720"/>
              <a:ext cx="7920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7"/>
            <p:cNvSpPr/>
            <p:nvPr/>
          </p:nvSpPr>
          <p:spPr>
            <a:xfrm>
              <a:off x="3635280" y="5013360"/>
              <a:ext cx="21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секущ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Номер слайда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F82A-DF72-4CF2-9B00-6C70734094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3851280" y="112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6659640" y="530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774072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1042920" y="5157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WordArt 6"/>
          <p:cNvSpPr txBox="1"/>
          <p:nvPr/>
        </p:nvSpPr>
        <p:spPr>
          <a:xfrm>
            <a:off x="611280" y="33336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) Как называются эти углы?</a:t>
            </a:r>
            <a:endParaRPr b="1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2" name="WordArt 7"/>
          <p:cNvSpPr txBox="1"/>
          <p:nvPr/>
        </p:nvSpPr>
        <p:spPr>
          <a:xfrm>
            <a:off x="611280" y="6021360"/>
            <a:ext cx="83674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) Для каких прямых и какой секущей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3" name="AutoShape 8"/>
          <p:cNvSpPr/>
          <p:nvPr/>
        </p:nvSpPr>
        <p:spPr>
          <a:xfrm>
            <a:off x="1332000" y="1628640"/>
            <a:ext cx="5473440" cy="3743640"/>
          </a:xfrm>
          <a:prstGeom prst="triangle">
            <a:avLst>
              <a:gd name="adj" fmla="val 50000"/>
            </a:avLst>
          </a:prstGeom>
          <a:solidFill>
            <a:srgbClr val="ffddfa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9"/>
          <p:cNvSpPr/>
          <p:nvPr/>
        </p:nvSpPr>
        <p:spPr>
          <a:xfrm flipV="1">
            <a:off x="5940360" y="2852280"/>
            <a:ext cx="2664000" cy="37450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0"/>
          <p:cNvSpPr/>
          <p:nvPr/>
        </p:nvSpPr>
        <p:spPr>
          <a:xfrm>
            <a:off x="6804000" y="5373720"/>
            <a:ext cx="20890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3"/>
          <p:cNvSpPr/>
          <p:nvPr/>
        </p:nvSpPr>
        <p:spPr>
          <a:xfrm flipV="1">
            <a:off x="1116000" y="907560"/>
            <a:ext cx="3456000" cy="4753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18"/>
          <p:cNvSpPr/>
          <p:nvPr/>
        </p:nvSpPr>
        <p:spPr>
          <a:xfrm>
            <a:off x="3492360" y="1628640"/>
            <a:ext cx="1150920" cy="107964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725" h="680">
                <a:moveTo>
                  <a:pt x="362" y="0"/>
                </a:moveTo>
                <a:lnTo>
                  <a:pt x="0" y="499"/>
                </a:lnTo>
                <a:lnTo>
                  <a:pt x="136" y="680"/>
                </a:lnTo>
                <a:lnTo>
                  <a:pt x="544" y="680"/>
                </a:lnTo>
                <a:lnTo>
                  <a:pt x="725" y="499"/>
                </a:lnTo>
                <a:lnTo>
                  <a:pt x="362" y="0"/>
                </a:lnTo>
                <a:close/>
              </a:path>
            </a:pathLst>
          </a:custGeom>
          <a:blipFill rotWithShape="0">
            <a:blip r:embed="rId1">
              <a:alphaModFix amt="38000"/>
            </a:blip>
            <a:srcRect/>
            <a:tile tx="0" ty="0" sx="100000" sy="100000" algn="ctr"/>
          </a:blip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21"/>
          <p:cNvSpPr/>
          <p:nvPr/>
        </p:nvSpPr>
        <p:spPr>
          <a:xfrm rot="192600">
            <a:off x="5436720" y="4508640"/>
            <a:ext cx="1368360" cy="13698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816" h="908">
                <a:moveTo>
                  <a:pt x="816" y="545"/>
                </a:moveTo>
                <a:lnTo>
                  <a:pt x="408" y="0"/>
                </a:lnTo>
                <a:lnTo>
                  <a:pt x="90" y="182"/>
                </a:lnTo>
                <a:lnTo>
                  <a:pt x="0" y="409"/>
                </a:lnTo>
                <a:lnTo>
                  <a:pt x="0" y="681"/>
                </a:lnTo>
                <a:lnTo>
                  <a:pt x="136" y="908"/>
                </a:lnTo>
                <a:lnTo>
                  <a:pt x="589" y="908"/>
                </a:lnTo>
                <a:lnTo>
                  <a:pt x="816" y="545"/>
                </a:lnTo>
                <a:close/>
              </a:path>
            </a:pathLst>
          </a:cu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5"/>
          <p:cNvGrpSpPr/>
          <p:nvPr/>
        </p:nvGrpSpPr>
        <p:grpSpPr>
          <a:xfrm>
            <a:off x="3023640" y="183600"/>
            <a:ext cx="4673160" cy="6394680"/>
            <a:chOff x="3023640" y="183600"/>
            <a:chExt cx="4673160" cy="6394680"/>
          </a:xfrm>
        </p:grpSpPr>
        <p:sp>
          <p:nvSpPr>
            <p:cNvPr id="420" name="Line 16"/>
            <p:cNvSpPr/>
            <p:nvPr/>
          </p:nvSpPr>
          <p:spPr>
            <a:xfrm>
              <a:off x="3023640" y="183600"/>
              <a:ext cx="4673160" cy="63946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17"/>
            <p:cNvSpPr/>
            <p:nvPr/>
          </p:nvSpPr>
          <p:spPr>
            <a:xfrm rot="3230400">
              <a:off x="4451760" y="3143880"/>
              <a:ext cx="21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секущ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Line 14"/>
          <p:cNvSpPr/>
          <p:nvPr/>
        </p:nvSpPr>
        <p:spPr>
          <a:xfrm flipV="1">
            <a:off x="5796000" y="2997360"/>
            <a:ext cx="2736720" cy="374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Номер слайда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998B-82D9-48F9-9CC8-CF6E6B923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468360" y="476280"/>
            <a:ext cx="820728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. 24-2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учить определение параллельных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ть названия новых углов и уметь их находить на рису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бочая тетрадь №№ 84 – 8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DE98-612C-40B9-95EA-32600150A8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Картинка 2 из 5630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34220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98C2-C78D-424A-BFDC-63C86847A7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Картинка 1 из 5630"/>
          <p:cNvPicPr/>
          <p:nvPr/>
        </p:nvPicPr>
        <p:blipFill>
          <a:blip r:embed="rId1"/>
          <a:stretch/>
        </p:blipFill>
        <p:spPr>
          <a:xfrm>
            <a:off x="792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8E2F-814C-48EB-90F2-3BF07050B6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конспект п.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8920" y="1197000"/>
            <a:ext cx="554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ямые называются параллель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и обозначьте параллельные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отрезки называются параллель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и обозначьте параллельные отре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27280" y="1339560"/>
            <a:ext cx="273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F02F-3ECB-4D21-AD5E-0433D6CBB9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2627280" y="765000"/>
            <a:ext cx="3745080" cy="302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2268360" y="1628640"/>
            <a:ext cx="3816360" cy="30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3132000" y="2349360"/>
            <a:ext cx="1800360" cy="1440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3419640" y="1413000"/>
            <a:ext cx="1873080" cy="1511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3059280" y="227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7"/>
          <p:cNvSpPr/>
          <p:nvPr/>
        </p:nvSpPr>
        <p:spPr>
          <a:xfrm>
            <a:off x="3348000" y="1341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5219640" y="2852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9"/>
          <p:cNvSpPr/>
          <p:nvPr/>
        </p:nvSpPr>
        <p:spPr>
          <a:xfrm>
            <a:off x="4859280" y="3716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276720" y="83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5148360" y="24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3059280" y="17733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485928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 flipH="1">
            <a:off x="4859280" y="4221000"/>
            <a:ext cx="649440" cy="1008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5"/>
          <p:cNvSpPr/>
          <p:nvPr/>
        </p:nvSpPr>
        <p:spPr>
          <a:xfrm>
            <a:off x="543564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6"/>
          <p:cNvSpPr/>
          <p:nvPr/>
        </p:nvSpPr>
        <p:spPr>
          <a:xfrm>
            <a:off x="4788000" y="5157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5435640" y="3789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4572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1332000" y="4149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А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0"/>
          <p:cNvSpPr/>
          <p:nvPr/>
        </p:nvSpPr>
        <p:spPr>
          <a:xfrm flipH="1">
            <a:off x="3132000" y="4292640"/>
            <a:ext cx="2160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2700360" y="33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28E0-4AF4-4A4E-A5F1-6767A1006A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187280" y="1574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995640" y="981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187280" y="4959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50920" y="115920"/>
            <a:ext cx="856908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удут ли прямые а и b параллельными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116000" y="2276640"/>
            <a:ext cx="763272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1116000" y="5661000"/>
            <a:ext cx="763272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563360" y="1210320"/>
            <a:ext cx="56880" cy="5597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4572000" y="4869000"/>
            <a:ext cx="1084320" cy="792000"/>
          </a:xfrm>
          <a:custGeom>
            <a:avLst/>
            <a:gdLst>
              <a:gd name="textAreaLeft" fmla="*/ 0 w 1084320"/>
              <a:gd name="textAreaRight" fmla="*/ 1084680 w 10843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683" h="499">
                <a:moveTo>
                  <a:pt x="482" y="499"/>
                </a:moveTo>
                <a:lnTo>
                  <a:pt x="45" y="499"/>
                </a:lnTo>
                <a:lnTo>
                  <a:pt x="0" y="318"/>
                </a:lnTo>
                <a:lnTo>
                  <a:pt x="45" y="136"/>
                </a:lnTo>
                <a:lnTo>
                  <a:pt x="272" y="0"/>
                </a:lnTo>
                <a:lnTo>
                  <a:pt x="499" y="0"/>
                </a:lnTo>
                <a:lnTo>
                  <a:pt x="589" y="91"/>
                </a:lnTo>
                <a:lnTo>
                  <a:pt x="683" y="244"/>
                </a:lnTo>
                <a:lnTo>
                  <a:pt x="482" y="49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716360" y="5157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4"/>
          <p:cNvSpPr/>
          <p:nvPr/>
        </p:nvSpPr>
        <p:spPr>
          <a:xfrm>
            <a:off x="4572000" y="1557360"/>
            <a:ext cx="1008000" cy="719280"/>
          </a:xfrm>
          <a:custGeom>
            <a:avLst/>
            <a:gdLst>
              <a:gd name="textAreaLeft" fmla="*/ 0 w 1008000"/>
              <a:gd name="textAreaRight" fmla="*/ 1008000 w 10080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683" h="499">
                <a:moveTo>
                  <a:pt x="482" y="499"/>
                </a:moveTo>
                <a:lnTo>
                  <a:pt x="45" y="499"/>
                </a:lnTo>
                <a:lnTo>
                  <a:pt x="0" y="318"/>
                </a:lnTo>
                <a:lnTo>
                  <a:pt x="45" y="136"/>
                </a:lnTo>
                <a:lnTo>
                  <a:pt x="272" y="0"/>
                </a:lnTo>
                <a:lnTo>
                  <a:pt x="499" y="0"/>
                </a:lnTo>
                <a:lnTo>
                  <a:pt x="589" y="91"/>
                </a:lnTo>
                <a:lnTo>
                  <a:pt x="683" y="244"/>
                </a:lnTo>
                <a:lnTo>
                  <a:pt x="482" y="49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4620600" y="17208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BC16-939B-47D9-A8F9-8E6335723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2050920" y="3141720"/>
            <a:ext cx="3887640" cy="3097080"/>
            <a:chOff x="2050920" y="3141720"/>
            <a:chExt cx="3887640" cy="3097080"/>
          </a:xfrm>
        </p:grpSpPr>
        <p:sp>
          <p:nvSpPr>
            <p:cNvPr id="97" name="Freeform 3"/>
            <p:cNvSpPr/>
            <p:nvPr/>
          </p:nvSpPr>
          <p:spPr>
            <a:xfrm>
              <a:off x="2050920" y="3141720"/>
              <a:ext cx="1800360" cy="1800360"/>
            </a:xfrm>
            <a:custGeom>
              <a:avLst/>
              <a:gdLst>
                <a:gd name="textAreaLeft" fmla="*/ 0 w 1800360"/>
                <a:gd name="textAreaRight" fmla="*/ 1800720 w 180036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1134" h="1134">
                  <a:moveTo>
                    <a:pt x="1134" y="1134"/>
                  </a:moveTo>
                  <a:lnTo>
                    <a:pt x="681" y="0"/>
                  </a:lnTo>
                  <a:lnTo>
                    <a:pt x="363" y="0"/>
                  </a:lnTo>
                  <a:lnTo>
                    <a:pt x="182" y="136"/>
                  </a:lnTo>
                  <a:lnTo>
                    <a:pt x="91" y="226"/>
                  </a:lnTo>
                  <a:lnTo>
                    <a:pt x="0" y="453"/>
                  </a:lnTo>
                  <a:lnTo>
                    <a:pt x="1134" y="1134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4138560" y="4438800"/>
              <a:ext cx="1800000" cy="180000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0 h 1800000"/>
                <a:gd name="textAreaBottom" fmla="*/ 1800360 h 1800000"/>
              </a:gdLst>
              <a:ahLst/>
              <a:rect l="textAreaLeft" t="textAreaTop" r="textAreaRight" b="textAreaBottom"/>
              <a:pathLst>
                <a:path w="1134" h="1134">
                  <a:moveTo>
                    <a:pt x="1134" y="1134"/>
                  </a:moveTo>
                  <a:lnTo>
                    <a:pt x="681" y="0"/>
                  </a:lnTo>
                  <a:lnTo>
                    <a:pt x="363" y="0"/>
                  </a:lnTo>
                  <a:lnTo>
                    <a:pt x="182" y="136"/>
                  </a:lnTo>
                  <a:lnTo>
                    <a:pt x="91" y="226"/>
                  </a:lnTo>
                  <a:lnTo>
                    <a:pt x="0" y="453"/>
                  </a:lnTo>
                  <a:lnTo>
                    <a:pt x="1134" y="1134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5"/>
          <p:cNvGrpSpPr/>
          <p:nvPr/>
        </p:nvGrpSpPr>
        <p:grpSpPr>
          <a:xfrm>
            <a:off x="-614520" y="4408200"/>
            <a:ext cx="2722320" cy="3343320"/>
            <a:chOff x="-614520" y="4408200"/>
            <a:chExt cx="2722320" cy="3343320"/>
          </a:xfrm>
        </p:grpSpPr>
        <p:sp>
          <p:nvSpPr>
            <p:cNvPr id="100" name="Freeform 6"/>
            <p:cNvSpPr/>
            <p:nvPr/>
          </p:nvSpPr>
          <p:spPr>
            <a:xfrm rot="12418200">
              <a:off x="-720" y="4579200"/>
              <a:ext cx="1351800" cy="3030480"/>
            </a:xfrm>
            <a:custGeom>
              <a:avLst/>
              <a:gdLst>
                <a:gd name="textAreaLeft" fmla="*/ 0 w 1351800"/>
                <a:gd name="textAreaRight" fmla="*/ 1352160 w 135180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 rot="12418200">
              <a:off x="600840" y="4453560"/>
              <a:ext cx="341280" cy="58896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 rot="12418200">
              <a:off x="694800" y="4441680"/>
              <a:ext cx="130320" cy="22392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9"/>
            <p:cNvGrpSpPr/>
            <p:nvPr/>
          </p:nvGrpSpPr>
          <p:grpSpPr>
            <a:xfrm>
              <a:off x="-546840" y="4779360"/>
              <a:ext cx="2654640" cy="2909880"/>
              <a:chOff x="-546840" y="4779360"/>
              <a:chExt cx="2654640" cy="2909880"/>
            </a:xfrm>
          </p:grpSpPr>
          <p:sp>
            <p:nvSpPr>
              <p:cNvPr id="104" name="Freeform 10"/>
              <p:cNvSpPr/>
              <p:nvPr/>
            </p:nvSpPr>
            <p:spPr>
              <a:xfrm rot="12418200">
                <a:off x="-36720" y="5027040"/>
                <a:ext cx="1180800" cy="2531880"/>
              </a:xfrm>
              <a:custGeom>
                <a:avLst/>
                <a:gdLst>
                  <a:gd name="textAreaLeft" fmla="*/ 0 w 1180800"/>
                  <a:gd name="textAreaRight" fmla="*/ 1181160 w 1180800"/>
                  <a:gd name="textAreaTop" fmla="*/ 0 h 2531880"/>
                  <a:gd name="textAreaBottom" fmla="*/ 2532240 h 253188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Group 11"/>
              <p:cNvGrpSpPr/>
              <p:nvPr/>
            </p:nvGrpSpPr>
            <p:grpSpPr>
              <a:xfrm>
                <a:off x="228240" y="4779360"/>
                <a:ext cx="1879560" cy="2737440"/>
                <a:chOff x="228240" y="4779360"/>
                <a:chExt cx="1879560" cy="2737440"/>
              </a:xfrm>
            </p:grpSpPr>
            <p:sp>
              <p:nvSpPr>
                <p:cNvPr id="106" name="Freeform 12"/>
                <p:cNvSpPr/>
                <p:nvPr/>
              </p:nvSpPr>
              <p:spPr>
                <a:xfrm rot="12418200">
                  <a:off x="1095480" y="4708800"/>
                  <a:ext cx="380520" cy="2877840"/>
                </a:xfrm>
                <a:custGeom>
                  <a:avLst/>
                  <a:gdLst>
                    <a:gd name="textAreaLeft" fmla="*/ 0 w 380520"/>
                    <a:gd name="textAreaRight" fmla="*/ 380880 w 380520"/>
                    <a:gd name="textAreaTop" fmla="*/ 0 h 2877840"/>
                    <a:gd name="textAreaBottom" fmla="*/ 2878200 h 287784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Oval 13"/>
                <p:cNvSpPr/>
                <p:nvPr/>
              </p:nvSpPr>
              <p:spPr>
                <a:xfrm rot="12418200">
                  <a:off x="298800" y="7009200"/>
                  <a:ext cx="456120" cy="4212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8" name="Freeform 14"/>
          <p:cNvSpPr/>
          <p:nvPr/>
        </p:nvSpPr>
        <p:spPr>
          <a:xfrm>
            <a:off x="2171880" y="990720"/>
            <a:ext cx="2463480" cy="5702040"/>
          </a:xfrm>
          <a:custGeom>
            <a:avLst/>
            <a:gdLst>
              <a:gd name="textAreaLeft" fmla="*/ 0 w 2463480"/>
              <a:gd name="textAreaRight" fmla="*/ 2463840 w 2463480"/>
              <a:gd name="textAreaTop" fmla="*/ 0 h 5702040"/>
              <a:gd name="textAreaBottom" fmla="*/ 5702400 h 5702040"/>
            </a:gdLst>
            <a:ahLst/>
            <a:rect l="textAreaLeft" t="textAreaTop" r="textAreaRight" b="textAreaBottom"/>
            <a:pathLst>
              <a:path w="1552" h="3592">
                <a:moveTo>
                  <a:pt x="0" y="0"/>
                </a:moveTo>
                <a:lnTo>
                  <a:pt x="1552" y="3592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836720" y="765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653080" y="98100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Arial"/>
              </a:rPr>
              <a:t>b</a:t>
            </a:r>
            <a:r>
              <a:rPr b="0" lang="en-US" sz="5400" spc="-1" strike="noStrike">
                <a:solidFill>
                  <a:srgbClr val="000066"/>
                </a:solidFill>
                <a:latin typeface="Arial"/>
                <a:ea typeface="Arial"/>
              </a:rPr>
              <a:t>II</a:t>
            </a: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392040" y="33480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Практические способы построения параллельных прям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8"/>
          <p:cNvGrpSpPr/>
          <p:nvPr/>
        </p:nvGrpSpPr>
        <p:grpSpPr>
          <a:xfrm>
            <a:off x="3606840" y="765000"/>
            <a:ext cx="2514600" cy="5953320"/>
            <a:chOff x="3606840" y="765000"/>
            <a:chExt cx="2514600" cy="5953320"/>
          </a:xfrm>
        </p:grpSpPr>
        <p:sp>
          <p:nvSpPr>
            <p:cNvPr id="113" name="Freeform 19"/>
            <p:cNvSpPr/>
            <p:nvPr/>
          </p:nvSpPr>
          <p:spPr>
            <a:xfrm>
              <a:off x="3606840" y="787320"/>
              <a:ext cx="2514600" cy="59310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5931000"/>
                <a:gd name="textAreaBottom" fmla="*/ 5931360 h 5931000"/>
              </a:gdLst>
              <a:ahLst/>
              <a:rect l="textAreaLeft" t="textAreaTop" r="textAreaRight" b="textAreaBottom"/>
              <a:pathLst>
                <a:path w="1584" h="3736">
                  <a:moveTo>
                    <a:pt x="0" y="0"/>
                  </a:moveTo>
                  <a:lnTo>
                    <a:pt x="1584" y="3736"/>
                  </a:lnTo>
                </a:path>
              </a:pathLst>
            </a:custGeom>
            <a:noFill/>
            <a:ln w="3816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0"/>
            <p:cNvSpPr/>
            <p:nvPr/>
          </p:nvSpPr>
          <p:spPr>
            <a:xfrm>
              <a:off x="3853080" y="7650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6600cc"/>
                  </a:solidFill>
                  <a:latin typeface="Times New Roman"/>
                  <a:ea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Freeform 21"/>
          <p:cNvSpPr/>
          <p:nvPr/>
        </p:nvSpPr>
        <p:spPr>
          <a:xfrm rot="8677200">
            <a:off x="1785600" y="1950480"/>
            <a:ext cx="1849320" cy="3422520"/>
          </a:xfrm>
          <a:custGeom>
            <a:avLst/>
            <a:gdLst>
              <a:gd name="textAreaLeft" fmla="*/ 0 w 1849320"/>
              <a:gd name="textAreaRight" fmla="*/ 1849680 w 1849320"/>
              <a:gd name="textAreaTop" fmla="*/ 0 h 3422520"/>
              <a:gd name="textAreaBottom" fmla="*/ 3422880 h 3422520"/>
            </a:gdLst>
            <a:ahLst/>
            <a:rect l="textAreaLeft" t="textAreaTop" r="textAreaRight" b="textAreaBottom"/>
            <a:pathLst>
              <a:path w="1438" h="2634">
                <a:moveTo>
                  <a:pt x="566" y="8"/>
                </a:moveTo>
                <a:lnTo>
                  <a:pt x="1438" y="2016"/>
                </a:lnTo>
                <a:lnTo>
                  <a:pt x="1190" y="1912"/>
                </a:lnTo>
                <a:lnTo>
                  <a:pt x="280" y="2296"/>
                </a:lnTo>
                <a:lnTo>
                  <a:pt x="14" y="2617"/>
                </a:lnTo>
                <a:lnTo>
                  <a:pt x="275" y="2307"/>
                </a:lnTo>
                <a:lnTo>
                  <a:pt x="623" y="621"/>
                </a:lnTo>
                <a:lnTo>
                  <a:pt x="566" y="0"/>
                </a:lnTo>
                <a:lnTo>
                  <a:pt x="633" y="624"/>
                </a:lnTo>
                <a:lnTo>
                  <a:pt x="1184" y="1920"/>
                </a:lnTo>
                <a:lnTo>
                  <a:pt x="1430" y="2016"/>
                </a:lnTo>
                <a:lnTo>
                  <a:pt x="0" y="2634"/>
                </a:lnTo>
                <a:lnTo>
                  <a:pt x="566" y="8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2"/>
          <p:cNvGrpSpPr/>
          <p:nvPr/>
        </p:nvGrpSpPr>
        <p:grpSpPr>
          <a:xfrm>
            <a:off x="659520" y="1893600"/>
            <a:ext cx="5589360" cy="6248880"/>
            <a:chOff x="659520" y="1893600"/>
            <a:chExt cx="5589360" cy="6248880"/>
          </a:xfrm>
        </p:grpSpPr>
        <p:sp>
          <p:nvSpPr>
            <p:cNvPr id="117" name="Freeform 23"/>
            <p:cNvSpPr/>
            <p:nvPr/>
          </p:nvSpPr>
          <p:spPr>
            <a:xfrm rot="19461000">
              <a:off x="2050560" y="2179440"/>
              <a:ext cx="2806560" cy="5676840"/>
            </a:xfrm>
            <a:custGeom>
              <a:avLst/>
              <a:gdLst>
                <a:gd name="textAreaLeft" fmla="*/ 0 w 2806560"/>
                <a:gd name="textAreaRight" fmla="*/ 2806920 w 2806560"/>
                <a:gd name="textAreaTop" fmla="*/ 0 h 5676840"/>
                <a:gd name="textAreaBottom" fmla="*/ 5677200 h 5676840"/>
              </a:gdLst>
              <a:ahLst/>
              <a:rect l="textAreaLeft" t="textAreaTop" r="textAreaRight" b="textAreaBottom"/>
              <a:pathLst>
                <a:path w="1768" h="3576">
                  <a:moveTo>
                    <a:pt x="312" y="0"/>
                  </a:moveTo>
                  <a:lnTo>
                    <a:pt x="0" y="128"/>
                  </a:lnTo>
                  <a:lnTo>
                    <a:pt x="1480" y="3576"/>
                  </a:lnTo>
                  <a:lnTo>
                    <a:pt x="1768" y="3432"/>
                  </a:lnTo>
                  <a:lnTo>
                    <a:pt x="312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4"/>
            <p:cNvSpPr/>
            <p:nvPr/>
          </p:nvSpPr>
          <p:spPr>
            <a:xfrm rot="19461000">
              <a:off x="1148760" y="3537720"/>
              <a:ext cx="14436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Line 25"/>
          <p:cNvSpPr/>
          <p:nvPr/>
        </p:nvSpPr>
        <p:spPr>
          <a:xfrm>
            <a:off x="971640" y="3187800"/>
            <a:ext cx="568800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5865480" y="3136320"/>
            <a:ext cx="2121840" cy="3276720"/>
            <a:chOff x="5865480" y="3136320"/>
            <a:chExt cx="2121840" cy="3276720"/>
          </a:xfrm>
        </p:grpSpPr>
        <p:sp>
          <p:nvSpPr>
            <p:cNvPr id="121" name="Freeform 27"/>
            <p:cNvSpPr/>
            <p:nvPr/>
          </p:nvSpPr>
          <p:spPr>
            <a:xfrm flipH="1" rot="898200">
              <a:off x="6266520" y="3259440"/>
              <a:ext cx="1352160" cy="3030480"/>
            </a:xfrm>
            <a:custGeom>
              <a:avLst/>
              <a:gdLst>
                <a:gd name="textAreaLeft" fmla="*/ 360 w 1352160"/>
                <a:gd name="textAreaRight" fmla="*/ 1352880 w 135216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8"/>
            <p:cNvSpPr/>
            <p:nvPr/>
          </p:nvSpPr>
          <p:spPr>
            <a:xfrm flipH="1" rot="898200">
              <a:off x="5934960" y="5560920"/>
              <a:ext cx="341640" cy="588600"/>
            </a:xfrm>
            <a:custGeom>
              <a:avLst/>
              <a:gdLst>
                <a:gd name="textAreaLeft" fmla="*/ -360 w 341640"/>
                <a:gd name="textAreaRight" fmla="*/ 341640 w 34164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9"/>
            <p:cNvSpPr/>
            <p:nvPr/>
          </p:nvSpPr>
          <p:spPr>
            <a:xfrm flipH="1" rot="898200">
              <a:off x="5902920" y="588060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30"/>
            <p:cNvGrpSpPr/>
            <p:nvPr/>
          </p:nvGrpSpPr>
          <p:grpSpPr>
            <a:xfrm>
              <a:off x="6081120" y="3184560"/>
              <a:ext cx="1883160" cy="2751840"/>
              <a:chOff x="6081120" y="3184560"/>
              <a:chExt cx="1883160" cy="2751840"/>
            </a:xfrm>
          </p:grpSpPr>
          <p:sp>
            <p:nvSpPr>
              <p:cNvPr id="125" name="Freeform 31"/>
              <p:cNvSpPr/>
              <p:nvPr/>
            </p:nvSpPr>
            <p:spPr>
              <a:xfrm flipH="1" rot="898200">
                <a:off x="6387840" y="3294000"/>
                <a:ext cx="1181160" cy="2532600"/>
              </a:xfrm>
              <a:custGeom>
                <a:avLst/>
                <a:gdLst>
                  <a:gd name="textAreaLeft" fmla="*/ -360 w 1181160"/>
                  <a:gd name="textAreaRight" fmla="*/ 1181160 w 1181160"/>
                  <a:gd name="textAreaTop" fmla="*/ 0 h 2532600"/>
                  <a:gd name="textAreaBottom" fmla="*/ 2532600 h 2532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2"/>
              <p:cNvSpPr/>
              <p:nvPr/>
            </p:nvSpPr>
            <p:spPr>
              <a:xfrm flipH="1" rot="19181400">
                <a:off x="7825680" y="3367440"/>
                <a:ext cx="66600" cy="24588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33"/>
          <p:cNvGrpSpPr/>
          <p:nvPr/>
        </p:nvGrpSpPr>
        <p:grpSpPr>
          <a:xfrm>
            <a:off x="4565520" y="2781360"/>
            <a:ext cx="442800" cy="503280"/>
            <a:chOff x="4565520" y="2781360"/>
            <a:chExt cx="442800" cy="503280"/>
          </a:xfrm>
        </p:grpSpPr>
        <p:sp>
          <p:nvSpPr>
            <p:cNvPr id="128" name="Text Box 34"/>
            <p:cNvSpPr/>
            <p:nvPr/>
          </p:nvSpPr>
          <p:spPr>
            <a:xfrm>
              <a:off x="4632480" y="278136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00cc"/>
                  </a:solidFill>
                  <a:latin typeface="Tahoma"/>
                  <a:ea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35"/>
            <p:cNvSpPr/>
            <p:nvPr/>
          </p:nvSpPr>
          <p:spPr>
            <a:xfrm>
              <a:off x="4565520" y="3141720"/>
              <a:ext cx="144720" cy="14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6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131" name="Freeform 37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8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9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0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1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2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3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4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0.22048 0.17847 E">
                                      <p:cBhvr>
                                        <p:cTn id="12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40741E-007 L -0.22257 -0.69699 E">
                                      <p:cBhvr>
                                        <p:cTn id="147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324160" y="2583000"/>
            <a:ext cx="4895640" cy="30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2189160" y="2333520"/>
            <a:ext cx="5251320" cy="3567240"/>
          </a:xfrm>
          <a:custGeom>
            <a:avLst/>
            <a:gdLst>
              <a:gd name="textAreaLeft" fmla="*/ 0 w 5251320"/>
              <a:gd name="textAreaRight" fmla="*/ 5251680 w 5251320"/>
              <a:gd name="textAreaTop" fmla="*/ 0 h 3567240"/>
              <a:gd name="textAreaBottom" fmla="*/ 3567600 h 3567240"/>
            </a:gdLst>
            <a:ahLst/>
            <a:rect l="textAreaLeft" t="textAreaTop" r="textAreaRight" b="textAreaBottom"/>
            <a:pathLst>
              <a:path w="3308" h="2247">
                <a:moveTo>
                  <a:pt x="8" y="8"/>
                </a:moveTo>
                <a:lnTo>
                  <a:pt x="132" y="159"/>
                </a:lnTo>
                <a:lnTo>
                  <a:pt x="3136" y="168"/>
                </a:lnTo>
                <a:lnTo>
                  <a:pt x="3268" y="23"/>
                </a:lnTo>
                <a:lnTo>
                  <a:pt x="3136" y="160"/>
                </a:lnTo>
                <a:lnTo>
                  <a:pt x="3160" y="2080"/>
                </a:lnTo>
                <a:lnTo>
                  <a:pt x="3308" y="2247"/>
                </a:lnTo>
                <a:lnTo>
                  <a:pt x="3160" y="2080"/>
                </a:lnTo>
                <a:lnTo>
                  <a:pt x="172" y="2063"/>
                </a:lnTo>
                <a:lnTo>
                  <a:pt x="16" y="2240"/>
                </a:lnTo>
                <a:lnTo>
                  <a:pt x="156" y="2071"/>
                </a:lnTo>
                <a:lnTo>
                  <a:pt x="128" y="168"/>
                </a:lnTo>
                <a:lnTo>
                  <a:pt x="0" y="0"/>
                </a:lnTo>
                <a:lnTo>
                  <a:pt x="3276" y="15"/>
                </a:lnTo>
                <a:lnTo>
                  <a:pt x="3308" y="2247"/>
                </a:lnTo>
                <a:lnTo>
                  <a:pt x="15" y="2243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2475000" y="5510160"/>
            <a:ext cx="7308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7054920" y="5500800"/>
            <a:ext cx="7308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7029360" y="2654280"/>
            <a:ext cx="7308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433600" y="2654280"/>
            <a:ext cx="7308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154160" y="6040440"/>
            <a:ext cx="73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Этим способом пользуются в чертежной прак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9"/>
          <p:cNvGrpSpPr/>
          <p:nvPr/>
        </p:nvGrpSpPr>
        <p:grpSpPr>
          <a:xfrm>
            <a:off x="2782080" y="3739680"/>
            <a:ext cx="4939560" cy="2422440"/>
            <a:chOff x="2782080" y="3739680"/>
            <a:chExt cx="4939560" cy="2422440"/>
          </a:xfrm>
        </p:grpSpPr>
        <p:grpSp>
          <p:nvGrpSpPr>
            <p:cNvPr id="147" name="Group 10"/>
            <p:cNvGrpSpPr/>
            <p:nvPr/>
          </p:nvGrpSpPr>
          <p:grpSpPr>
            <a:xfrm>
              <a:off x="2782080" y="3739680"/>
              <a:ext cx="4871880" cy="2422440"/>
              <a:chOff x="2782080" y="3739680"/>
              <a:chExt cx="4871880" cy="2422440"/>
            </a:xfrm>
          </p:grpSpPr>
          <p:sp>
            <p:nvSpPr>
              <p:cNvPr id="148" name="Freeform 11"/>
              <p:cNvSpPr/>
              <p:nvPr/>
            </p:nvSpPr>
            <p:spPr>
              <a:xfrm rot="16741200">
                <a:off x="4361400" y="2620080"/>
                <a:ext cx="1712880" cy="4660920"/>
              </a:xfrm>
              <a:custGeom>
                <a:avLst/>
                <a:gdLst>
                  <a:gd name="textAreaLeft" fmla="*/ 0 w 1712880"/>
                  <a:gd name="textAreaRight" fmla="*/ 1713240 w 1712880"/>
                  <a:gd name="textAreaTop" fmla="*/ 0 h 4660920"/>
                  <a:gd name="textAreaBottom" fmla="*/ 4661280 h 4660920"/>
                </a:gdLst>
                <a:ahLst/>
                <a:rect l="textAreaLeft" t="textAreaTop" r="textAreaRight" b="textAreaBottom"/>
                <a:pathLst>
                  <a:path w="1768" h="3576">
                    <a:moveTo>
                      <a:pt x="312" y="0"/>
                    </a:moveTo>
                    <a:lnTo>
                      <a:pt x="0" y="128"/>
                    </a:lnTo>
                    <a:lnTo>
                      <a:pt x="1480" y="3576"/>
                    </a:lnTo>
                    <a:lnTo>
                      <a:pt x="1768" y="3432"/>
                    </a:lnTo>
                    <a:lnTo>
                      <a:pt x="312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12"/>
              <p:cNvSpPr/>
              <p:nvPr/>
            </p:nvSpPr>
            <p:spPr>
              <a:xfrm rot="16741200">
                <a:off x="3094200" y="5176440"/>
                <a:ext cx="87840" cy="11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13"/>
            <p:cNvGrpSpPr/>
            <p:nvPr/>
          </p:nvGrpSpPr>
          <p:grpSpPr>
            <a:xfrm>
              <a:off x="7423200" y="4165560"/>
              <a:ext cx="298440" cy="941400"/>
              <a:chOff x="7423200" y="4165560"/>
              <a:chExt cx="298440" cy="941400"/>
            </a:xfrm>
          </p:grpSpPr>
          <p:sp>
            <p:nvSpPr>
              <p:cNvPr id="151" name="Freeform 14"/>
              <p:cNvSpPr/>
              <p:nvPr/>
            </p:nvSpPr>
            <p:spPr>
              <a:xfrm>
                <a:off x="7423200" y="4165560"/>
                <a:ext cx="298440" cy="93996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939960"/>
                  <a:gd name="textAreaBottom" fmla="*/ 940320 h 939960"/>
                </a:gdLst>
                <a:ahLst/>
                <a:rect l="textAreaLeft" t="textAreaTop" r="textAreaRight" b="textAreaBottom"/>
                <a:pathLst>
                  <a:path w="188" h="592">
                    <a:moveTo>
                      <a:pt x="0" y="0"/>
                    </a:moveTo>
                    <a:lnTo>
                      <a:pt x="188" y="185"/>
                    </a:lnTo>
                    <a:lnTo>
                      <a:pt x="184" y="432"/>
                    </a:lnTo>
                    <a:lnTo>
                      <a:pt x="0" y="592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Group 15"/>
              <p:cNvGrpSpPr/>
              <p:nvPr/>
            </p:nvGrpSpPr>
            <p:grpSpPr>
              <a:xfrm>
                <a:off x="7434360" y="4170600"/>
                <a:ext cx="287280" cy="936360"/>
                <a:chOff x="7434360" y="4170600"/>
                <a:chExt cx="287280" cy="936360"/>
              </a:xfrm>
            </p:grpSpPr>
            <p:sp>
              <p:nvSpPr>
                <p:cNvPr id="153" name="Freeform 16"/>
                <p:cNvSpPr/>
                <p:nvPr/>
              </p:nvSpPr>
              <p:spPr>
                <a:xfrm>
                  <a:off x="7434360" y="4170600"/>
                  <a:ext cx="1440" cy="93636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936360"/>
                    <a:gd name="textAreaBottom" fmla="*/ 936720 h 936360"/>
                  </a:gdLst>
                  <a:ahLst/>
                  <a:rect l="textAreaLeft" t="textAreaTop" r="textAreaRight" b="textAreaBottom"/>
                  <a:pathLst>
                    <a:path w="1" h="685">
                      <a:moveTo>
                        <a:pt x="0" y="0"/>
                      </a:moveTo>
                      <a:lnTo>
                        <a:pt x="1" y="685"/>
                      </a:lnTo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17"/>
                <p:cNvSpPr/>
                <p:nvPr/>
              </p:nvSpPr>
              <p:spPr>
                <a:xfrm>
                  <a:off x="7720200" y="4419000"/>
                  <a:ext cx="1080" cy="43596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35960"/>
                    <a:gd name="textAreaBottom" fmla="*/ 436320 h 435960"/>
                  </a:gdLst>
                  <a:ahLst/>
                  <a:rect l="textAreaLeft" t="textAreaTop" r="textAreaRight" b="textAreaBottom"/>
                  <a:pathLst>
                    <a:path w="1" h="319">
                      <a:moveTo>
                        <a:pt x="1" y="0"/>
                      </a:moveTo>
                      <a:lnTo>
                        <a:pt x="0" y="319"/>
                      </a:lnTo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18"/>
                <p:cNvSpPr/>
                <p:nvPr/>
              </p:nvSpPr>
              <p:spPr>
                <a:xfrm>
                  <a:off x="7434360" y="4170600"/>
                  <a:ext cx="287280" cy="2484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6" h="182">
                      <a:moveTo>
                        <a:pt x="0" y="0"/>
                      </a:moveTo>
                      <a:cubicBezTo>
                        <a:pt x="17" y="6"/>
                        <a:pt x="81" y="15"/>
                        <a:pt x="105" y="37"/>
                      </a:cubicBezTo>
                      <a:cubicBezTo>
                        <a:pt x="129" y="59"/>
                        <a:pt x="125" y="109"/>
                        <a:pt x="145" y="133"/>
                      </a:cubicBezTo>
                      <a:cubicBezTo>
                        <a:pt x="165" y="157"/>
                        <a:pt x="209" y="172"/>
                        <a:pt x="226" y="182"/>
                      </a:cubicBezTo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9"/>
                <p:cNvSpPr/>
                <p:nvPr/>
              </p:nvSpPr>
              <p:spPr>
                <a:xfrm flipV="1">
                  <a:off x="7434360" y="4851720"/>
                  <a:ext cx="287280" cy="24876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-360 h 248760"/>
                    <a:gd name="textAreaBottom" fmla="*/ 248760 h 248760"/>
                  </a:gdLst>
                  <a:ahLst/>
                  <a:rect l="textAreaLeft" t="textAreaTop" r="textAreaRight" b="textAreaBottom"/>
                  <a:pathLst>
                    <a:path w="226" h="182">
                      <a:moveTo>
                        <a:pt x="0" y="0"/>
                      </a:moveTo>
                      <a:cubicBezTo>
                        <a:pt x="17" y="6"/>
                        <a:pt x="81" y="15"/>
                        <a:pt x="105" y="37"/>
                      </a:cubicBezTo>
                      <a:cubicBezTo>
                        <a:pt x="129" y="59"/>
                        <a:pt x="125" y="109"/>
                        <a:pt x="145" y="133"/>
                      </a:cubicBezTo>
                      <a:cubicBezTo>
                        <a:pt x="165" y="157"/>
                        <a:pt x="209" y="172"/>
                        <a:pt x="226" y="182"/>
                      </a:cubicBezTo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Oval 20"/>
              <p:cNvSpPr/>
              <p:nvPr/>
            </p:nvSpPr>
            <p:spPr>
              <a:xfrm>
                <a:off x="7506000" y="45309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Rectangle 21"/>
          <p:cNvSpPr/>
          <p:nvPr/>
        </p:nvSpPr>
        <p:spPr>
          <a:xfrm>
            <a:off x="582480" y="260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особ построения параллельных прямых с помощь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рейсшины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2"/>
          <p:cNvSpPr/>
          <p:nvPr/>
        </p:nvSpPr>
        <p:spPr>
          <a:xfrm>
            <a:off x="2689200" y="4370400"/>
            <a:ext cx="4195800" cy="617400"/>
          </a:xfrm>
          <a:custGeom>
            <a:avLst/>
            <a:gdLst>
              <a:gd name="textAreaLeft" fmla="*/ 0 w 4195800"/>
              <a:gd name="textAreaRight" fmla="*/ 4196160 w 419580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2643" h="389">
                <a:moveTo>
                  <a:pt x="2643" y="0"/>
                </a:moveTo>
                <a:lnTo>
                  <a:pt x="0" y="3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3"/>
          <p:cNvSpPr/>
          <p:nvPr/>
        </p:nvSpPr>
        <p:spPr>
          <a:xfrm>
            <a:off x="2689200" y="3705120"/>
            <a:ext cx="4178160" cy="647640"/>
          </a:xfrm>
          <a:custGeom>
            <a:avLst/>
            <a:gdLst>
              <a:gd name="textAreaLeft" fmla="*/ 0 w 4178160"/>
              <a:gd name="textAreaRight" fmla="*/ 4178160 w 41781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632" h="408">
                <a:moveTo>
                  <a:pt x="2632" y="0"/>
                </a:moveTo>
                <a:lnTo>
                  <a:pt x="0" y="4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4"/>
          <p:cNvSpPr/>
          <p:nvPr/>
        </p:nvSpPr>
        <p:spPr>
          <a:xfrm>
            <a:off x="2651040" y="3014640"/>
            <a:ext cx="4143600" cy="614520"/>
          </a:xfrm>
          <a:custGeom>
            <a:avLst/>
            <a:gdLst>
              <a:gd name="textAreaLeft" fmla="*/ 0 w 4143600"/>
              <a:gd name="textAreaRight" fmla="*/ 4143960 w 41436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610" h="387">
                <a:moveTo>
                  <a:pt x="2610" y="0"/>
                </a:moveTo>
                <a:lnTo>
                  <a:pt x="0" y="38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5"/>
          <p:cNvSpPr/>
          <p:nvPr/>
        </p:nvSpPr>
        <p:spPr>
          <a:xfrm>
            <a:off x="2752560" y="4861080"/>
            <a:ext cx="4191120" cy="60948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640" h="384">
                <a:moveTo>
                  <a:pt x="2640" y="0"/>
                </a:moveTo>
                <a:lnTo>
                  <a:pt x="0" y="3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6"/>
          <p:cNvGrpSpPr/>
          <p:nvPr/>
        </p:nvGrpSpPr>
        <p:grpSpPr>
          <a:xfrm>
            <a:off x="5514480" y="2907360"/>
            <a:ext cx="1386360" cy="2140920"/>
            <a:chOff x="5514480" y="2907360"/>
            <a:chExt cx="1386360" cy="2140920"/>
          </a:xfrm>
        </p:grpSpPr>
        <p:sp>
          <p:nvSpPr>
            <p:cNvPr id="164" name="Freeform 27"/>
            <p:cNvSpPr/>
            <p:nvPr/>
          </p:nvSpPr>
          <p:spPr>
            <a:xfrm rot="20701800">
              <a:off x="5754240" y="2989800"/>
              <a:ext cx="900360" cy="197532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1975320"/>
                <a:gd name="textAreaBottom" fmla="*/ 1975680 h 197532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8"/>
            <p:cNvSpPr/>
            <p:nvPr/>
          </p:nvSpPr>
          <p:spPr>
            <a:xfrm rot="20701800">
              <a:off x="6627600" y="4492800"/>
              <a:ext cx="227160" cy="3837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9"/>
            <p:cNvSpPr/>
            <p:nvPr/>
          </p:nvSpPr>
          <p:spPr>
            <a:xfrm rot="20701800">
              <a:off x="6792840" y="4702320"/>
              <a:ext cx="86400" cy="145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30"/>
            <p:cNvGrpSpPr/>
            <p:nvPr/>
          </p:nvGrpSpPr>
          <p:grpSpPr>
            <a:xfrm>
              <a:off x="5541120" y="2938320"/>
              <a:ext cx="1233000" cy="1797480"/>
              <a:chOff x="5541120" y="2938320"/>
              <a:chExt cx="1233000" cy="1797480"/>
            </a:xfrm>
          </p:grpSpPr>
          <p:sp>
            <p:nvSpPr>
              <p:cNvPr id="168" name="Freeform 31"/>
              <p:cNvSpPr/>
              <p:nvPr/>
            </p:nvSpPr>
            <p:spPr>
              <a:xfrm rot="20701800">
                <a:off x="5788080" y="3011760"/>
                <a:ext cx="786240" cy="1650600"/>
              </a:xfrm>
              <a:custGeom>
                <a:avLst/>
                <a:gdLst>
                  <a:gd name="textAreaLeft" fmla="*/ 0 w 786240"/>
                  <a:gd name="textAreaRight" fmla="*/ 786600 w 786240"/>
                  <a:gd name="textAreaTop" fmla="*/ 0 h 1650600"/>
                  <a:gd name="textAreaBottom" fmla="*/ 1650960 h 1650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32"/>
              <p:cNvSpPr/>
              <p:nvPr/>
            </p:nvSpPr>
            <p:spPr>
              <a:xfrm rot="2418600">
                <a:off x="5588640" y="3054960"/>
                <a:ext cx="43200" cy="1634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33"/>
          <p:cNvGrpSpPr/>
          <p:nvPr/>
        </p:nvGrpSpPr>
        <p:grpSpPr>
          <a:xfrm>
            <a:off x="5311080" y="2467800"/>
            <a:ext cx="1386720" cy="2141280"/>
            <a:chOff x="5311080" y="2467800"/>
            <a:chExt cx="1386720" cy="2141280"/>
          </a:xfrm>
        </p:grpSpPr>
        <p:sp>
          <p:nvSpPr>
            <p:cNvPr id="171" name="Freeform 34"/>
            <p:cNvSpPr/>
            <p:nvPr/>
          </p:nvSpPr>
          <p:spPr>
            <a:xfrm rot="20701800">
              <a:off x="5550840" y="2550240"/>
              <a:ext cx="900720" cy="1975680"/>
            </a:xfrm>
            <a:custGeom>
              <a:avLst/>
              <a:gdLst>
                <a:gd name="textAreaLeft" fmla="*/ 0 w 900720"/>
                <a:gd name="textAreaRight" fmla="*/ 901080 w 900720"/>
                <a:gd name="textAreaTop" fmla="*/ 0 h 1975680"/>
                <a:gd name="textAreaBottom" fmla="*/ 1976040 h 19756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5"/>
            <p:cNvSpPr/>
            <p:nvPr/>
          </p:nvSpPr>
          <p:spPr>
            <a:xfrm rot="20701800">
              <a:off x="6424560" y="4053240"/>
              <a:ext cx="227160" cy="3837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6"/>
            <p:cNvSpPr/>
            <p:nvPr/>
          </p:nvSpPr>
          <p:spPr>
            <a:xfrm rot="20701800">
              <a:off x="6589800" y="4262760"/>
              <a:ext cx="86400" cy="145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37"/>
            <p:cNvGrpSpPr/>
            <p:nvPr/>
          </p:nvGrpSpPr>
          <p:grpSpPr>
            <a:xfrm>
              <a:off x="5338080" y="2498400"/>
              <a:ext cx="1233360" cy="1797480"/>
              <a:chOff x="5338080" y="2498400"/>
              <a:chExt cx="1233360" cy="1797480"/>
            </a:xfrm>
          </p:grpSpPr>
          <p:sp>
            <p:nvSpPr>
              <p:cNvPr id="175" name="Freeform 38"/>
              <p:cNvSpPr/>
              <p:nvPr/>
            </p:nvSpPr>
            <p:spPr>
              <a:xfrm rot="20701800">
                <a:off x="5585040" y="2571480"/>
                <a:ext cx="786600" cy="1650600"/>
              </a:xfrm>
              <a:custGeom>
                <a:avLst/>
                <a:gdLst>
                  <a:gd name="textAreaLeft" fmla="*/ 0 w 786600"/>
                  <a:gd name="textAreaRight" fmla="*/ 786960 w 786600"/>
                  <a:gd name="textAreaTop" fmla="*/ 0 h 1650600"/>
                  <a:gd name="textAreaBottom" fmla="*/ 1650960 h 1650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9"/>
              <p:cNvSpPr/>
              <p:nvPr/>
            </p:nvSpPr>
            <p:spPr>
              <a:xfrm rot="2418600">
                <a:off x="5385600" y="2615040"/>
                <a:ext cx="43200" cy="1634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Group 40"/>
          <p:cNvGrpSpPr/>
          <p:nvPr/>
        </p:nvGrpSpPr>
        <p:grpSpPr>
          <a:xfrm>
            <a:off x="5383800" y="1761840"/>
            <a:ext cx="1386720" cy="2140920"/>
            <a:chOff x="5383800" y="1761840"/>
            <a:chExt cx="1386720" cy="2140920"/>
          </a:xfrm>
        </p:grpSpPr>
        <p:sp>
          <p:nvSpPr>
            <p:cNvPr id="178" name="Freeform 41"/>
            <p:cNvSpPr/>
            <p:nvPr/>
          </p:nvSpPr>
          <p:spPr>
            <a:xfrm rot="20701800">
              <a:off x="5623560" y="1844280"/>
              <a:ext cx="900720" cy="1975320"/>
            </a:xfrm>
            <a:custGeom>
              <a:avLst/>
              <a:gdLst>
                <a:gd name="textAreaLeft" fmla="*/ 0 w 900720"/>
                <a:gd name="textAreaRight" fmla="*/ 901080 w 900720"/>
                <a:gd name="textAreaTop" fmla="*/ 0 h 1975320"/>
                <a:gd name="textAreaBottom" fmla="*/ 1975680 h 197532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2"/>
            <p:cNvSpPr/>
            <p:nvPr/>
          </p:nvSpPr>
          <p:spPr>
            <a:xfrm rot="20701800">
              <a:off x="6497280" y="3346920"/>
              <a:ext cx="227160" cy="3837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3"/>
            <p:cNvSpPr/>
            <p:nvPr/>
          </p:nvSpPr>
          <p:spPr>
            <a:xfrm rot="20701800">
              <a:off x="6662520" y="3556440"/>
              <a:ext cx="86400" cy="145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44"/>
            <p:cNvGrpSpPr/>
            <p:nvPr/>
          </p:nvGrpSpPr>
          <p:grpSpPr>
            <a:xfrm>
              <a:off x="5411160" y="1792080"/>
              <a:ext cx="1233360" cy="1797480"/>
              <a:chOff x="5411160" y="1792080"/>
              <a:chExt cx="1233360" cy="1797480"/>
            </a:xfrm>
          </p:grpSpPr>
          <p:sp>
            <p:nvSpPr>
              <p:cNvPr id="182" name="Freeform 45"/>
              <p:cNvSpPr/>
              <p:nvPr/>
            </p:nvSpPr>
            <p:spPr>
              <a:xfrm rot="20701800">
                <a:off x="5658120" y="1865160"/>
                <a:ext cx="786600" cy="1650600"/>
              </a:xfrm>
              <a:custGeom>
                <a:avLst/>
                <a:gdLst>
                  <a:gd name="textAreaLeft" fmla="*/ 0 w 786600"/>
                  <a:gd name="textAreaRight" fmla="*/ 786960 w 786600"/>
                  <a:gd name="textAreaTop" fmla="*/ 0 h 1650600"/>
                  <a:gd name="textAreaBottom" fmla="*/ 1650960 h 1650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6"/>
              <p:cNvSpPr/>
              <p:nvPr/>
            </p:nvSpPr>
            <p:spPr>
              <a:xfrm rot="2418600">
                <a:off x="5458680" y="1908720"/>
                <a:ext cx="43200" cy="1634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47"/>
          <p:cNvGrpSpPr/>
          <p:nvPr/>
        </p:nvGrpSpPr>
        <p:grpSpPr>
          <a:xfrm>
            <a:off x="5311440" y="1070640"/>
            <a:ext cx="1386360" cy="2141280"/>
            <a:chOff x="5311440" y="1070640"/>
            <a:chExt cx="1386360" cy="2141280"/>
          </a:xfrm>
        </p:grpSpPr>
        <p:sp>
          <p:nvSpPr>
            <p:cNvPr id="185" name="Freeform 48"/>
            <p:cNvSpPr/>
            <p:nvPr/>
          </p:nvSpPr>
          <p:spPr>
            <a:xfrm rot="20701800">
              <a:off x="5551200" y="1153080"/>
              <a:ext cx="900360" cy="197568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1975680"/>
                <a:gd name="textAreaBottom" fmla="*/ 1976040 h 19756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9"/>
            <p:cNvSpPr/>
            <p:nvPr/>
          </p:nvSpPr>
          <p:spPr>
            <a:xfrm rot="20701800">
              <a:off x="6424560" y="2656080"/>
              <a:ext cx="227160" cy="3837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0"/>
            <p:cNvSpPr/>
            <p:nvPr/>
          </p:nvSpPr>
          <p:spPr>
            <a:xfrm rot="20701800">
              <a:off x="6589800" y="2865600"/>
              <a:ext cx="86400" cy="145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51"/>
            <p:cNvGrpSpPr/>
            <p:nvPr/>
          </p:nvGrpSpPr>
          <p:grpSpPr>
            <a:xfrm>
              <a:off x="5337720" y="1101240"/>
              <a:ext cx="1233360" cy="1797480"/>
              <a:chOff x="5337720" y="1101240"/>
              <a:chExt cx="1233360" cy="1797480"/>
            </a:xfrm>
          </p:grpSpPr>
          <p:sp>
            <p:nvSpPr>
              <p:cNvPr id="189" name="Freeform 52"/>
              <p:cNvSpPr/>
              <p:nvPr/>
            </p:nvSpPr>
            <p:spPr>
              <a:xfrm rot="20701800">
                <a:off x="5585040" y="1174680"/>
                <a:ext cx="786240" cy="1650600"/>
              </a:xfrm>
              <a:custGeom>
                <a:avLst/>
                <a:gdLst>
                  <a:gd name="textAreaLeft" fmla="*/ 0 w 786240"/>
                  <a:gd name="textAreaRight" fmla="*/ 786600 w 786240"/>
                  <a:gd name="textAreaTop" fmla="*/ 0 h 1650600"/>
                  <a:gd name="textAreaBottom" fmla="*/ 1650960 h 1650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53"/>
              <p:cNvSpPr/>
              <p:nvPr/>
            </p:nvSpPr>
            <p:spPr>
              <a:xfrm rot="2418600">
                <a:off x="5385240" y="1217880"/>
                <a:ext cx="43200" cy="1634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54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192" name="Freeform 55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6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7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8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59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0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2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-0.40539 0.08125 E">
                                      <p:cBhvr>
                                        <p:cTn id="179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208 L -0.00104 -0.0743 E">
                                      <p:cBhvr>
                                        <p:cTn id="188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-0.40539 0.08125 E">
                                      <p:cBhvr>
                                        <p:cTn id="195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7222 L -0.00017 -0.16667 E">
                                      <p:cBhvr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-0.40539 0.08125 E">
                                      <p:cBhvr>
                                        <p:cTn id="211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16667 L -0.00243 -0.26875 E">
                                      <p:cBhvr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-0.40539 0.08125 E">
                                      <p:cBhvr>
                                        <p:cTn id="227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27245 L -0.20746 -0.43981 E">
                                      <p:cBhvr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">
                                      <p:cBhvr>
                                        <p:cTn id="2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4:30:19Z</dcterms:created>
  <dc:creator>STAAS</dc:creator>
  <dc:description/>
  <dc:language>en-US</dc:language>
  <cp:lastModifiedBy>Александр</cp:lastModifiedBy>
  <dcterms:modified xsi:type="dcterms:W3CDTF">2010-06-20T14:41:45Z</dcterms:modified>
  <cp:revision>25</cp:revision>
  <dc:subject/>
  <dc:title>Слайд 1</dc:title>
</cp:coreProperties>
</file>