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11F-150B-4A2C-8799-3AE6841D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A29-316F-4DF5-A767-1AFD43A9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D12-2CFF-4E67-B65C-87476A6E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25C-A52F-4947-A970-17EC2EC4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AD63-9A88-461E-981D-037E5CD2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7C97-54B4-4B19-A819-5AFD3B93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7207-85DB-48CA-B1EF-042BD6AC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1D84-BBE4-44E5-86EA-797EE051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69EF-D9AC-471A-949B-5B04AB69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1FCB-03AB-4C7C-A261-80BBD63F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CC6D-9F06-4F51-B448-2F0B03E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F78-35C0-4FD6-999D-CAED7AE4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5CB1-C5B8-4E28-87F2-327912A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F2F2-9907-4C88-9F60-B1C7A4E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32D7-D69D-4D54-A9B5-90D7DAA6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D54F-36BA-4696-8E1B-60C50CF0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C670-094D-481E-98ED-4D07C208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1E2-2BC0-4802-805E-A8DE6419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E5E-5776-40E8-983B-79A63759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D3E-60B6-4F29-8E8C-CB497FCA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0D0-D9B7-46D5-B7E4-7DC6CB02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AD3-2E9A-4958-8F75-0DCDB2A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4E5-14A5-4EE7-9680-C224C840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FCF-F782-436D-8A9E-6043074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7244-F64D-4952-9CC2-6543D6E1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4DB6-6666-41B4-B623-4309E600AA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98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36640" y="1066680"/>
            <a:ext cx="573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ни-баг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57800" y="5334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381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ные особенности багги класса Д3 "Мини"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участию в соревнованиях ранга Первенства России допускаются дети от 8 до 12 лет, имеющие соответствующую Лицензию РАФ (Водителя и Участника), страховое свидетельство и медицинскую справку установленного образца (с 01.01.08 - обязательно). Возраст спортсмена определяется на день его первого старта в многоэтапном Первенстве (Кубке) России, РАФ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ркас безопасности автомобиля должен соответствовать требованиям Приложения 14 к КиТТ РАФ. Боковые отбойники запрещены, вместо них может применяться композитный материал. Основные дуги безопасности должны быть изготовлены из холоднотянутой, бесшовной, высокопрочной трубы с регламентированными характеристиками. Максимальные габаритные размеры автомобиля: ширина 1300 см, высота 1400 см.</a:t>
            </a: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ес мини-багги с Водителем в любой момент заезда, до и после него, должен быть не менее 170 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нструкция трансмиссии свободная, задний ход не обязате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рмоза должны действовать на два колеса задней оси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аксимальный посадочный диаметр шины - 8 дюй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и дости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010280" y="2286000"/>
            <a:ext cx="106704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38480" y="2714760"/>
            <a:ext cx="106704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09680" y="48006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7:18:53Z</dcterms:created>
  <dc:creator>User</dc:creator>
  <dc:description/>
  <dc:language>en-US</dc:language>
  <cp:lastModifiedBy>Светлана</cp:lastModifiedBy>
  <dcterms:modified xsi:type="dcterms:W3CDTF">2011-01-23T10:17:24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