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766-E286-4AFE-928B-70AFE582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BE2-AEE1-41DD-9C96-3E22C744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8A4-3A6A-413D-8949-98993C17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989-9518-4BF7-B0EC-BB38E9B0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B903-0B89-4FD8-B3B8-DE9DA602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0A75-EDA8-462E-ACE7-D421C274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4027-B629-48DE-891B-D4BFE230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B05C-9489-462E-AB58-4C213505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88D1-EB5D-4943-883A-FAFBAA30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A620-A059-431F-9D47-E39F6012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BADC-5215-48BA-A3E1-93C2B9B6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447-823F-4244-A807-0B0E9780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11DA-C92C-4799-A278-45F73F05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4328-E2D6-4F78-97C4-3B841759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E340-DF04-494F-B127-4BCC40ED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57BB-BADC-4331-BA39-0A5DFB79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139F-A049-4283-AD5E-1B364A95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895-7863-458C-81AE-B35FAC39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5C3-5D8C-4774-876C-73D6350F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2A6-EB7F-4255-908A-3AA4AF7C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EC1-2C60-429E-A118-5FE29749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C94-40DD-4458-8943-DD98D746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0CAA-3780-4C6A-B913-185A585E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BC9-A873-499D-A191-C529AA66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BF56-A108-4645-8CB3-E6603ABA3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E239-5CDD-42E2-8DF7-EC0681F59C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8985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736640" y="1066680"/>
            <a:ext cx="573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ини-баг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2238480" cy="1609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71800" y="3733920"/>
            <a:ext cx="2238480" cy="1609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57800" y="533412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381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ные особенности багги класса Д3 "Мини"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участию в соревнованиях ранга Первенства России допускаются дети от 8 до 12 лет, имеющие соответствующую Лицензию РАФ (Водителя и Участника), страховое свидетельство и медицинскую справку установленного образца (с 01.01.08 - обязательно). Возраст спортсмена определяется на день его первого старта в многоэтапном Первенстве (Кубке) России, РАФ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160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Мини-багг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ркас безопасности автомобиля должен соответствовать требованиям Приложения 14 к КиТТ РАФ. Боковые отбойники запрещены, вместо них может применяться композитный материал. Основные дуги безопасности должны быть изготовлены из холоднотянутой, бесшовной, высокопрочной трубы с регламентированными характеристиками. Максимальные габаритные размеры автомобиля: ширина 1300 см, высота 1400 см.</a:t>
            </a:r>
            <a:br>
              <a:rPr sz="2800"/>
            </a:b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Мини-багг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ес мини-багги с Водителем в любой момент заезда, до и после него, должен быть не менее 170 к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Конструкция трансмиссии свободная, задний ход не обязател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ормоза должны действовать на два колеса задней оси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аксимальный посадочный диаметр шины - 8 дюйм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и достиж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010280" y="2286000"/>
            <a:ext cx="106704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038480" y="2714760"/>
            <a:ext cx="1067040" cy="1428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209680" y="48006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7:18:53Z</dcterms:created>
  <dc:creator>User</dc:creator>
  <dc:description/>
  <dc:language>en-US</dc:language>
  <cp:lastModifiedBy>Светлана</cp:lastModifiedBy>
  <dcterms:modified xsi:type="dcterms:W3CDTF">2011-01-23T10:17:24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