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255-76E3-4427-B879-F935CE45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01A-4DBD-401F-B512-A90A4C5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A62-91B3-4476-873D-0D88B2E4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F28-A042-4C23-BFCE-CE29188A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4B3-57EC-463F-A153-ADA62C73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581-1876-4649-B02B-8C80380D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C432-9B88-4AE8-9E46-B64A7E5D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8751-818C-4437-9A8F-FB50DFB7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1FA3-F368-430B-B138-7464327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625-FB8C-4250-A346-675834F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7F1F-078F-47EC-B3EA-0EB8DFB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CAE-9BD8-4FDB-84D7-DB0E7BD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2F9-CB7C-4F39-A500-B8041B2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443A-F63A-419C-8471-E667A68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BB55-B985-46FE-83A4-8ADFB85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F02A-91A5-4039-BFC5-A2FF356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497E-942A-4C11-9536-CBB84C90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818-3DE0-4CA5-A6D4-F9681E7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055-305B-41AC-A75D-7D2BC9E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6CB-C95C-4A17-8113-E66535D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70F-7A22-41CA-8C17-247960A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3EA-C122-49B5-8ED4-1D39679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B6E-CF95-46C3-BBEB-40B3178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110-EB5C-4AE3-AE8A-0C470D9D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B8A-A830-4BC2-9304-089827B7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650E-8F4F-4728-8B47-0029FA8EC6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98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36640" y="1066680"/>
            <a:ext cx="57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ни-баг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57800" y="5334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особенности багги класса Д3 "Мини"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участию в соревнованиях ранга Первенства России допускаются дети от 8 до 12 лет, имеющие соответствующую Лицензию РАФ (Водителя и Участника), страховое свидетельство и медицинскую справку установленного образца (с 01.01.08 - обязательно). Возраст спортсмена определяется на день его первого старта в многоэтапном Первенстве (Кубке) России, РАФ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ркас безопасности автомобиля должен соответствовать требованиям Приложения 14 к КиТТ РАФ. Боковые отбойники запрещены, вместо них может применяться композитный материал. Основные дуги безопасности должны быть изготовлены из холоднотянутой, бесшовной, высокопрочной трубы с регламентированными характеристиками. Максимальные габаритные размеры автомобиля: ширина 1300 см, высота 1400 см.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с мини-багги с Водителем в любой момент заезда, до и после него, должен быть не менее 170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рукция трансмиссии свободная, задний ход не обяза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рмоза должны действовать на два колеса задней оси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аксимальный посадочный диаметр шины - 8 дюй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и дости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27147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18:53Z</dcterms:created>
  <dc:creator>User</dc:creator>
  <dc:description/>
  <dc:language>en-US</dc:language>
  <cp:lastModifiedBy>Светлана</cp:lastModifiedBy>
  <dcterms:modified xsi:type="dcterms:W3CDTF">2011-01-23T10:17:2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