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646-E69D-4642-AE6B-9B212A9D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7C0-B32B-4783-81F5-05C08823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574-DE66-4323-9159-6DC88735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DC0-3148-4986-82A5-938CB08A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928-33AB-46DB-942A-DF1B1DC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FBF-D153-4927-8C54-6F829EFA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488-558B-4F78-BFBE-6ED8B2AF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E9E-8A73-47DA-B0BC-207F52A3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9CF-2079-4530-BE6E-45BED27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E02-1FC4-4EAC-808E-6176AAD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0A7-775D-455E-88D3-7297045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7D0-7B2E-405A-9AF4-9965631C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361E-617F-47B8-AF47-338F9713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3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8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51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"/>
          <p:cNvSpPr txBox="1"/>
          <p:nvPr/>
        </p:nvSpPr>
        <p:spPr>
          <a:xfrm>
            <a:off x="611280" y="90792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етоды решения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33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геометрических задач</a:t>
            </a:r>
            <a:endParaRPr b="1" i="1" lang="en-US" sz="1800" spc="1" strike="noStrike">
              <a:ln w="19080">
                <a:solidFill>
                  <a:srgbClr val="0033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43280" y="407664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Подготовил:                                                  учитель математики                                          МОУ «СОШ №10 с. Солдато-Александровского»                 Кобзев Д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6237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2 – 2013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852640"/>
            <a:ext cx="432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ЕГЭ, задание С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42900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Verdana"/>
              </a:rPr>
              <a:t>(Расстояние от точки до плоск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356000" y="299736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56000" y="443700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125892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Расстояние от точки 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1125360"/>
            <a:ext cx="324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1844640"/>
            <a:ext cx="0" cy="374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53964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оэтапно-вычисли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270828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паралле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прямых и плоск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Вектор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149720"/>
            <a:ext cx="3816360" cy="71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Координатный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5589720"/>
            <a:ext cx="3816360" cy="7189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Метод объе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824040" y="1628280"/>
            <a:ext cx="2162160" cy="2448000"/>
          </a:xfrm>
          <a:prstGeom prst="flowChartInputOutpu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 rot="12631800">
            <a:off x="2055240" y="1897200"/>
            <a:ext cx="1368360" cy="231732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84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92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А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5186400">
            <a:off x="2004840" y="1793520"/>
            <a:ext cx="1298520" cy="2536560"/>
          </a:xfrm>
          <a:custGeom>
            <a:avLst/>
            <a:gdLst/>
            <a:ahLst/>
            <a:rect l="l" t="t" r="r" b="b"/>
            <a:pathLst>
              <a:path w="570" h="1182">
                <a:moveTo>
                  <a:pt x="570" y="0"/>
                </a:moveTo>
                <a:lnTo>
                  <a:pt x="211" y="135"/>
                </a:lnTo>
                <a:lnTo>
                  <a:pt x="0" y="1182"/>
                </a:lnTo>
                <a:lnTo>
                  <a:pt x="570" y="0"/>
                </a:lnTo>
                <a:close/>
              </a:path>
            </a:pathLst>
          </a:custGeom>
          <a:solidFill>
            <a:srgbClr val="ffff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1835000">
            <a:off x="3132000" y="1699560"/>
            <a:ext cx="882720" cy="631800"/>
          </a:xfrm>
          <a:custGeom>
            <a:avLst/>
            <a:gdLst/>
            <a:ahLst/>
            <a:rect l="l" t="t" r="r" b="b"/>
            <a:pathLst>
              <a:path w="556" h="1174">
                <a:moveTo>
                  <a:pt x="8" y="1174"/>
                </a:moveTo>
                <a:lnTo>
                  <a:pt x="556" y="8"/>
                </a:lnTo>
                <a:lnTo>
                  <a:pt x="0" y="0"/>
                </a:lnTo>
                <a:lnTo>
                  <a:pt x="0" y="1174"/>
                </a:lnTo>
              </a:path>
            </a:pathLst>
          </a:cu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134460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120" y="31129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85360" y="3462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2800" y="2928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4200" y="2792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520" y="378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224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14360" y="105264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0840" y="13906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6000" y="20588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9760" y="17002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6160" y="217980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83200" y="1839960"/>
            <a:ext cx="1404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6440" y="21319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6440" y="1724040"/>
            <a:ext cx="1440" cy="176040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3120" y="136368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30520" y="139392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3484440"/>
            <a:ext cx="625680" cy="40500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9120" y="3597120"/>
            <a:ext cx="1071360" cy="33840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20840" y="3894120"/>
            <a:ext cx="1789200" cy="4752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155736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5800" y="3327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8000" y="38005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059280" y="1844280"/>
            <a:ext cx="1081080" cy="360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32000" y="2205000"/>
            <a:ext cx="1728720" cy="1655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563640" y="1844640"/>
            <a:ext cx="576360" cy="136836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332000" y="3212640"/>
            <a:ext cx="2232000" cy="64764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500280"/>
            <a:ext cx="2447640" cy="433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35280" y="2205000"/>
            <a:ext cx="1296720" cy="151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364500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20360" y="32846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195280" y="3357720"/>
            <a:ext cx="936360" cy="576000"/>
          </a:xfrm>
          <a:prstGeom prst="line">
            <a:avLst/>
          </a:prstGeom>
          <a:ln w="57240">
            <a:solidFill>
              <a:srgbClr val="66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2400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9800" y="29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716360" y="1052640"/>
          <a:ext cx="3816360" cy="3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052640"/>
                    <a:ext cx="3816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4360" y="1700280"/>
            <a:ext cx="244764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43280" y="1413000"/>
          <a:ext cx="1419480" cy="2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1413000"/>
                    <a:ext cx="14194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 flipH="1">
            <a:off x="3059280" y="3860640"/>
            <a:ext cx="1425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0" y="1773360"/>
          <a:ext cx="3673440" cy="41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773360"/>
                    <a:ext cx="3673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64000" y="2205000"/>
          <a:ext cx="2517840" cy="371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4000" y="2205000"/>
                    <a:ext cx="25178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00720" y="2565360"/>
            <a:ext cx="432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ысота АН в треугольнике А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комое рас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3357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0" y="3645000"/>
          <a:ext cx="4032360" cy="7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0" y="3645000"/>
                    <a:ext cx="4032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24000" y="4508640"/>
            <a:ext cx="39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рямоуг. треуголь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140360" y="4292640"/>
          <a:ext cx="2234880" cy="806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40360" y="4292640"/>
                    <a:ext cx="22348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95280" y="5157720"/>
          <a:ext cx="4608360" cy="10033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5280" y="5157720"/>
                    <a:ext cx="46083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17080" y="5877000"/>
          <a:ext cx="549000" cy="836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317080" y="5877000"/>
                    <a:ext cx="549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>
            <a:hlinkClick r:id="rId18" action="ppaction://hlinksldjump"/>
          </p:cNvPr>
          <p:cNvSpPr/>
          <p:nvPr/>
        </p:nvSpPr>
        <p:spPr>
          <a:xfrm>
            <a:off x="8639280" y="260280"/>
            <a:ext cx="504720" cy="40500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14" h="21600">
                <a:moveTo>
                  <a:pt x="0" y="0"/>
                </a:moveTo>
                <a:lnTo>
                  <a:pt x="26914" y="0"/>
                </a:lnTo>
                <a:lnTo>
                  <a:pt x="26914" y="21600"/>
                </a:lnTo>
                <a:lnTo>
                  <a:pt x="0" y="21600"/>
                </a:lnTo>
                <a:close/>
              </a:path>
              <a:path fill="lightenLess" w="26914" h="21600">
                <a:moveTo>
                  <a:pt x="0" y="0"/>
                </a:moveTo>
                <a:lnTo>
                  <a:pt x="26914" y="0"/>
                </a:lnTo>
                <a:lnTo>
                  <a:pt x="25514" y="1400"/>
                </a:lnTo>
                <a:lnTo>
                  <a:pt x="1400" y="1400"/>
                </a:lnTo>
                <a:close/>
              </a:path>
              <a:path fill="darken" w="26914" h="21600">
                <a:moveTo>
                  <a:pt x="26914" y="0"/>
                </a:moveTo>
                <a:lnTo>
                  <a:pt x="26914" y="21600"/>
                </a:lnTo>
                <a:lnTo>
                  <a:pt x="25514" y="20200"/>
                </a:lnTo>
                <a:lnTo>
                  <a:pt x="25514" y="1400"/>
                </a:lnTo>
                <a:close/>
              </a:path>
              <a:path fill="darkenLess" w="26914" h="21600">
                <a:moveTo>
                  <a:pt x="26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4" y="20200"/>
                </a:lnTo>
                <a:close/>
              </a:path>
              <a:path fill="lighten" w="26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4" h="21600">
                <a:moveTo>
                  <a:pt x="9958" y="10800"/>
                </a:moveTo>
                <a:lnTo>
                  <a:pt x="20463" y="3794"/>
                </a:lnTo>
                <a:lnTo>
                  <a:pt x="20463" y="17806"/>
                </a:lnTo>
                <a:close/>
              </a:path>
              <a:path fill="darken" w="26914" h="21600">
                <a:moveTo>
                  <a:pt x="6450" y="3794"/>
                </a:moveTo>
                <a:lnTo>
                  <a:pt x="8113" y="3794"/>
                </a:lnTo>
                <a:lnTo>
                  <a:pt x="8113" y="17806"/>
                </a:lnTo>
                <a:lnTo>
                  <a:pt x="6450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55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156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161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164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395280" y="260280"/>
            <a:ext cx="792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227664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6600" y="320508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136600" y="3679560"/>
            <a:ext cx="1752840" cy="4842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6600" y="1793520"/>
            <a:ext cx="1752840" cy="482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7640" y="1795320"/>
            <a:ext cx="3240" cy="1884600"/>
          </a:xfrm>
          <a:custGeom>
            <a:avLst/>
            <a:gdLst/>
            <a:ahLst/>
            <a:rect l="l" t="t" r="r" b="b"/>
            <a:pathLst>
              <a:path w="2" h="1870">
                <a:moveTo>
                  <a:pt x="0" y="0"/>
                </a:moveTo>
                <a:lnTo>
                  <a:pt x="2" y="187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3800" y="1309680"/>
            <a:ext cx="1800" cy="18874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81200" y="130968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3800" y="3197160"/>
            <a:ext cx="130824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1787400"/>
            <a:ext cx="3057480" cy="6480"/>
          </a:xfrm>
          <a:custGeom>
            <a:avLst/>
            <a:gdLst/>
            <a:ahLst/>
            <a:rect l="l" t="t" r="r" b="b"/>
            <a:pathLst>
              <a:path w="1926" h="6">
                <a:moveTo>
                  <a:pt x="0" y="0"/>
                </a:moveTo>
                <a:lnTo>
                  <a:pt x="1926" y="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2240" y="1309680"/>
            <a:ext cx="1771560" cy="479520"/>
          </a:xfrm>
          <a:custGeom>
            <a:avLst/>
            <a:gdLst/>
            <a:ahLst/>
            <a:rect l="l" t="t" r="r" b="b"/>
            <a:pathLst>
              <a:path w="1116" h="476">
                <a:moveTo>
                  <a:pt x="0" y="476"/>
                </a:moveTo>
                <a:lnTo>
                  <a:pt x="1116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41320" y="3196800"/>
            <a:ext cx="1752480" cy="4827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6120" y="1785960"/>
            <a:ext cx="1440" cy="18860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8720" y="3679920"/>
            <a:ext cx="1307880" cy="484200"/>
          </a:xfrm>
          <a:custGeom>
            <a:avLst/>
            <a:gdLst/>
            <a:ahLst/>
            <a:rect l="l" t="t" r="r" b="b"/>
            <a:pathLst>
              <a:path w="824" h="480">
                <a:moveTo>
                  <a:pt x="0" y="0"/>
                </a:moveTo>
                <a:lnTo>
                  <a:pt x="824" y="4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6120" y="1789200"/>
            <a:ext cx="1307880" cy="487440"/>
          </a:xfrm>
          <a:custGeom>
            <a:avLst/>
            <a:gdLst/>
            <a:ahLst/>
            <a:rect l="l" t="t" r="r" b="b"/>
            <a:pathLst>
              <a:path w="824" h="484">
                <a:moveTo>
                  <a:pt x="0" y="0"/>
                </a:moveTo>
                <a:lnTo>
                  <a:pt x="824" y="4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480" y="35434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8840" y="3614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4840" y="28940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95400" y="411804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24120" y="1886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5760" y="152568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4840" y="102240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95760" y="145404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00720" y="1052640"/>
          <a:ext cx="12236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052640"/>
                    <a:ext cx="1223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124000" y="1341360"/>
            <a:ext cx="457200" cy="943200"/>
          </a:xfrm>
          <a:custGeom>
            <a:avLst/>
            <a:gdLst/>
            <a:ahLst/>
            <a:rect l="l" t="t" r="r" b="b"/>
            <a:pathLst>
              <a:path w="288" h="936">
                <a:moveTo>
                  <a:pt x="0" y="936"/>
                </a:moveTo>
                <a:lnTo>
                  <a:pt x="288" y="0"/>
                </a:lnTo>
              </a:path>
            </a:pathLst>
          </a:cu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10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227640" y="981000"/>
          <a:ext cx="18734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981000"/>
                    <a:ext cx="18734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 flipH="1" flipV="1">
            <a:off x="826560" y="1773000"/>
            <a:ext cx="1297080" cy="23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773360"/>
            <a:ext cx="1800360" cy="14396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 rot="2350800">
            <a:off x="250560" y="2491200"/>
            <a:ext cx="2509920" cy="100800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4720" y="1484280"/>
            <a:ext cx="446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этому искомое расстоя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авно расстоянию от произвольной точки А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плоскости 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645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340000" y="177300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773360"/>
            <a:ext cx="1513080" cy="18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68360" y="357336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476000" y="1773360"/>
            <a:ext cx="863640" cy="8636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256536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170028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2000" y="256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573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1341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191628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2421000"/>
            <a:ext cx="4680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означим расстояние от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3141720"/>
            <a:ext cx="33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кажем, что О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┴ А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284720" y="3500280"/>
          <a:ext cx="46800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500280"/>
                    <a:ext cx="4680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284720" y="400536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– перпендикуляр к (А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), а 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35280" y="4292640"/>
          <a:ext cx="22320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4292640"/>
                    <a:ext cx="2232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4140360" y="4508640"/>
            <a:ext cx="50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из прямоугольного треугольника О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55640" y="5084640"/>
          <a:ext cx="2016000" cy="72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5084640"/>
                    <a:ext cx="2016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5292720" y="5084640"/>
          <a:ext cx="3456000" cy="77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5084640"/>
                    <a:ext cx="3456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843280" y="5300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мое расстоя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8360" y="6021360"/>
          <a:ext cx="484200" cy="71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8360" y="6021360"/>
                    <a:ext cx="4842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268280"/>
            <a:ext cx="1447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00000" y="184464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3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23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24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468360" y="260280"/>
            <a:ext cx="80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В единичном куб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А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33577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2637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105264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27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899640" y="184428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899640" y="184464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378936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3284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0920" y="292428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177336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9640" y="342900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1916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0920" y="1413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4800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335772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900000" y="299700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900000" y="184428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68360" y="206064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87280" y="350028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0028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539640" y="2349360"/>
          <a:ext cx="31140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349360"/>
                    <a:ext cx="3114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332000" y="263700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63700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06728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003640" y="981000"/>
          <a:ext cx="2521080" cy="4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981000"/>
                    <a:ext cx="25210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7524720" y="98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11640" y="1341360"/>
          <a:ext cx="381780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1341360"/>
                    <a:ext cx="3817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708360" y="1844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зим ве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724360" y="1773360"/>
          <a:ext cx="18720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1773360"/>
                    <a:ext cx="187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7524720" y="18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221680" y="1773360"/>
          <a:ext cx="790560" cy="441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21680" y="1773360"/>
                    <a:ext cx="7905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H="1" flipV="1">
            <a:off x="2123640" y="299736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851280" y="2205000"/>
          <a:ext cx="3529080" cy="3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1280" y="2205000"/>
                    <a:ext cx="352908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4211640" y="256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076720" y="2565360"/>
          <a:ext cx="259236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2565360"/>
                    <a:ext cx="25923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3924360" y="2924280"/>
          <a:ext cx="2266920" cy="401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4360" y="2924280"/>
                    <a:ext cx="22669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2771640" y="206064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3924360" y="3284640"/>
          <a:ext cx="4032360" cy="441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24360" y="3284640"/>
                    <a:ext cx="40323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376360" y="3645000"/>
          <a:ext cx="6767640" cy="115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76360" y="3645000"/>
                    <a:ext cx="6767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55640" y="4724280"/>
          <a:ext cx="8137440" cy="1989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5640" y="4724280"/>
                    <a:ext cx="8137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16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17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22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25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755640" y="1484280"/>
            <a:ext cx="1800360" cy="1008000"/>
          </a:xfrm>
          <a:prstGeom prst="line">
            <a:avLst/>
          </a:prstGeom>
          <a:ln w="28440">
            <a:solidFill>
              <a:srgbClr val="66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8531400">
            <a:off x="1763280" y="220464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249228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29973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57480" y="317340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39800" y="2660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92240" y="266076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57480" y="196380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992240" y="1123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145044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9800" y="145080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92240" y="11239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157480" y="163620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9800" y="11239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992240" y="163620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157480" y="163620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8000" y="350028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03640" y="31399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2276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440" y="28526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4000" y="112392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692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92240" y="1557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09920" y="16362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26692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755280" y="1483920"/>
            <a:ext cx="2590920" cy="142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755280" y="1484280"/>
            <a:ext cx="1871640" cy="1052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572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0920" y="342900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2560" y="292428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06560" y="256392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2560" y="1413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74920" y="306864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74920" y="1555920"/>
            <a:ext cx="1447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6560" y="1052640"/>
            <a:ext cx="14436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119700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2997360"/>
            <a:ext cx="1368360" cy="50292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55640" y="2636640"/>
            <a:ext cx="1224000" cy="36036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55640" y="1483920"/>
            <a:ext cx="0" cy="15130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24000" y="1700280"/>
            <a:ext cx="1224000" cy="1800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042920" y="3139920"/>
          <a:ext cx="344520" cy="5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139920"/>
                    <a:ext cx="34452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95280" y="1989000"/>
          <a:ext cx="31104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989000"/>
                    <a:ext cx="31104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187280" y="2276640"/>
          <a:ext cx="3445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276640"/>
                    <a:ext cx="3445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 flipH="1" flipV="1">
            <a:off x="1979280" y="2637000"/>
            <a:ext cx="144360" cy="8632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627280" y="1700280"/>
            <a:ext cx="720720" cy="7920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00720" y="40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3635280" y="836640"/>
          <a:ext cx="532944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836640"/>
                    <a:ext cx="532944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4356000" y="23493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юда получ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780000" y="2852640"/>
          <a:ext cx="5184720" cy="679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2852640"/>
                    <a:ext cx="5184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4427640" y="3573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16000" y="4076640"/>
          <a:ext cx="7559640" cy="876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4076640"/>
                    <a:ext cx="7559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8232840" y="6021360"/>
          <a:ext cx="5983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32840" y="6021360"/>
                    <a:ext cx="5983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9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390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395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398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>
            <a:off x="539640" y="189000"/>
            <a:ext cx="8425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В правильной шестиугольной призме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ABCDEFA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E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ru-RU" sz="1800" spc="-1" strike="noStrike" baseline="-25000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Verdana"/>
              </a:rPr>
              <a:t>, ребра которой равны 1, найти расстояние от точки А до плоскости </a:t>
            </a:r>
            <a:r>
              <a:rPr b="1" i="1" lang="en-US" sz="1800" spc="-1" strike="noStrike">
                <a:solidFill>
                  <a:srgbClr val="660066"/>
                </a:solidFill>
                <a:latin typeface="Verdana"/>
              </a:rPr>
              <a:t>DEF</a:t>
            </a:r>
            <a:r>
              <a:rPr b="1" i="1" lang="en-US" sz="18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4360" y="1628640"/>
            <a:ext cx="3520800" cy="827280"/>
          </a:xfrm>
          <a:custGeom>
            <a:avLst/>
            <a:gdLst/>
            <a:ahLst/>
            <a:rect l="l" t="t" r="r" b="b"/>
            <a:pathLst>
              <a:path w="2111" h="560">
                <a:moveTo>
                  <a:pt x="0" y="257"/>
                </a:moveTo>
                <a:lnTo>
                  <a:pt x="642" y="0"/>
                </a:lnTo>
                <a:lnTo>
                  <a:pt x="1713" y="40"/>
                </a:lnTo>
                <a:lnTo>
                  <a:pt x="2111" y="329"/>
                </a:lnTo>
                <a:lnTo>
                  <a:pt x="1457" y="560"/>
                </a:lnTo>
                <a:lnTo>
                  <a:pt x="386" y="534"/>
                </a:lnTo>
                <a:lnTo>
                  <a:pt x="0" y="257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2280" y="3397320"/>
            <a:ext cx="3522600" cy="487440"/>
          </a:xfrm>
          <a:custGeom>
            <a:avLst/>
            <a:gdLst/>
            <a:ahLst/>
            <a:rect l="l" t="t" r="r" b="b"/>
            <a:pathLst>
              <a:path w="2112" h="330">
                <a:moveTo>
                  <a:pt x="0" y="247"/>
                </a:moveTo>
                <a:lnTo>
                  <a:pt x="643" y="0"/>
                </a:lnTo>
                <a:lnTo>
                  <a:pt x="1714" y="40"/>
                </a:lnTo>
                <a:lnTo>
                  <a:pt x="2112" y="33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05680" y="3065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504240" y="3137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52600" y="364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7320" y="3568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43400" y="1336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57640" y="18414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61280" y="20574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47160" y="234324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1280" y="15526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27320" y="2463840"/>
            <a:ext cx="3240" cy="1755720"/>
          </a:xfrm>
          <a:custGeom>
            <a:avLst/>
            <a:gdLst/>
            <a:ahLst/>
            <a:rect l="l" t="t" r="r" b="b"/>
            <a:pathLst>
              <a:path w="2" h="1190">
                <a:moveTo>
                  <a:pt x="0" y="0"/>
                </a:moveTo>
                <a:lnTo>
                  <a:pt x="2" y="119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4000" y="2124000"/>
            <a:ext cx="14400" cy="1754280"/>
          </a:xfrm>
          <a:custGeom>
            <a:avLst/>
            <a:gdLst/>
            <a:ahLst/>
            <a:rect l="l" t="t" r="r" b="b"/>
            <a:pathLst>
              <a:path w="8" h="1188">
                <a:moveTo>
                  <a:pt x="0" y="0"/>
                </a:moveTo>
                <a:lnTo>
                  <a:pt x="8" y="1188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17600" y="2416320"/>
            <a:ext cx="0" cy="1749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240" y="2008080"/>
            <a:ext cx="1800" cy="1760760"/>
          </a:xfrm>
          <a:custGeom>
            <a:avLst/>
            <a:gdLst/>
            <a:ahLst/>
            <a:rect l="l" t="t" r="r" b="b"/>
            <a:pathLst>
              <a:path w="1" h="1193">
                <a:moveTo>
                  <a:pt x="0" y="0"/>
                </a:moveTo>
                <a:lnTo>
                  <a:pt x="0" y="1193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4280" y="1647720"/>
            <a:ext cx="0" cy="17496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41680" y="1677960"/>
            <a:ext cx="0" cy="1747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3720" y="3768840"/>
            <a:ext cx="625320" cy="404640"/>
          </a:xfrm>
          <a:custGeom>
            <a:avLst/>
            <a:gdLst/>
            <a:ahLst/>
            <a:rect l="l" t="t" r="r" b="b"/>
            <a:pathLst>
              <a:path w="375" h="274">
                <a:moveTo>
                  <a:pt x="375" y="274"/>
                </a:move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bbe0e3">
                  <a:alpha val="3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9920" y="3881520"/>
            <a:ext cx="1071720" cy="338040"/>
          </a:xfrm>
          <a:custGeom>
            <a:avLst/>
            <a:gdLst/>
            <a:ahLst/>
            <a:rect l="l" t="t" r="r" b="b"/>
            <a:pathLst>
              <a:path w="642" h="230">
                <a:moveTo>
                  <a:pt x="0" y="230"/>
                </a:moveTo>
                <a:lnTo>
                  <a:pt x="64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2000" y="4178160"/>
            <a:ext cx="1789200" cy="47880"/>
          </a:xfrm>
          <a:custGeom>
            <a:avLst/>
            <a:gdLst/>
            <a:ahLst/>
            <a:rect l="l" t="t" r="r" b="b"/>
            <a:pathLst>
              <a:path w="1072" h="32">
                <a:moveTo>
                  <a:pt x="0" y="0"/>
                </a:moveTo>
                <a:lnTo>
                  <a:pt x="1072" y="3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14440" y="126540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00600" y="4145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7800" y="4149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11280" y="4149720"/>
            <a:ext cx="720720" cy="287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35280" y="4076640"/>
            <a:ext cx="57492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340000" y="134136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332000" y="3789360"/>
            <a:ext cx="1008000" cy="360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1295280" cy="2872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340000" y="242064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97964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1197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40766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4365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3300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332000" y="1700280"/>
            <a:ext cx="223200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32000" y="2421000"/>
            <a:ext cx="1800000" cy="180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132000" y="3860280"/>
            <a:ext cx="107964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1700280"/>
            <a:ext cx="647640" cy="216036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16360" y="9079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ведем систему координат и найдем координаты точе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79520" y="3713040"/>
            <a:ext cx="144720" cy="14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3645000"/>
            <a:ext cx="14436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643280" y="1557360"/>
          <a:ext cx="432144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57360"/>
                    <a:ext cx="43214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429000" y="27813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781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4572000" y="2205000"/>
          <a:ext cx="24480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205000"/>
                    <a:ext cx="244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7018200" y="220500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7640" y="256536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ставим координаты точе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, E, 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500720" y="3141720"/>
          <a:ext cx="4643280" cy="187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141720"/>
                    <a:ext cx="46432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4716360" y="5013360"/>
            <a:ext cx="212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равнение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877080" y="5013360"/>
          <a:ext cx="208764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5013360"/>
                    <a:ext cx="2087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395280" y="5300640"/>
          <a:ext cx="5545080" cy="1309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5300640"/>
                    <a:ext cx="5545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716436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172360" y="6021360"/>
          <a:ext cx="720720" cy="65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6021360"/>
                    <a:ext cx="720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8567640" y="260280"/>
            <a:ext cx="576360" cy="40500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0731" h="21600">
                <a:moveTo>
                  <a:pt x="0" y="0"/>
                </a:moveTo>
                <a:lnTo>
                  <a:pt x="30731" y="0"/>
                </a:lnTo>
                <a:lnTo>
                  <a:pt x="30731" y="21600"/>
                </a:lnTo>
                <a:lnTo>
                  <a:pt x="0" y="21600"/>
                </a:lnTo>
                <a:close/>
              </a:path>
              <a:path fill="lightenLess" w="30731" h="21600">
                <a:moveTo>
                  <a:pt x="0" y="0"/>
                </a:moveTo>
                <a:lnTo>
                  <a:pt x="30731" y="0"/>
                </a:lnTo>
                <a:lnTo>
                  <a:pt x="29331" y="1400"/>
                </a:lnTo>
                <a:lnTo>
                  <a:pt x="1400" y="1400"/>
                </a:lnTo>
                <a:close/>
              </a:path>
              <a:path fill="darken" w="30731" h="21600">
                <a:moveTo>
                  <a:pt x="30731" y="0"/>
                </a:moveTo>
                <a:lnTo>
                  <a:pt x="30731" y="21600"/>
                </a:lnTo>
                <a:lnTo>
                  <a:pt x="29331" y="20200"/>
                </a:lnTo>
                <a:lnTo>
                  <a:pt x="29331" y="1400"/>
                </a:lnTo>
                <a:close/>
              </a:path>
              <a:path fill="darkenLess" w="30731" h="21600">
                <a:moveTo>
                  <a:pt x="30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1" y="20200"/>
                </a:lnTo>
                <a:close/>
              </a:path>
              <a:path fill="lighten" w="30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1" h="21600">
                <a:moveTo>
                  <a:pt x="11867" y="10800"/>
                </a:moveTo>
                <a:lnTo>
                  <a:pt x="22372" y="3794"/>
                </a:lnTo>
                <a:lnTo>
                  <a:pt x="22372" y="17806"/>
                </a:lnTo>
                <a:close/>
              </a:path>
              <a:path fill="darken" w="30731" h="21600">
                <a:moveTo>
                  <a:pt x="8359" y="3794"/>
                </a:moveTo>
                <a:lnTo>
                  <a:pt x="10021" y="3794"/>
                </a:lnTo>
                <a:lnTo>
                  <a:pt x="10021" y="17806"/>
                </a:lnTo>
                <a:lnTo>
                  <a:pt x="83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61" name=""/>
            <p:cNvGrpSpPr/>
            <p:nvPr/>
          </p:nvGrpSpPr>
          <p:grpSpPr>
            <a:xfrm>
              <a:off x="0" y="0"/>
              <a:ext cx="538920" cy="548640"/>
              <a:chOff x="0" y="0"/>
              <a:chExt cx="538920" cy="548640"/>
            </a:xfrm>
          </p:grpSpPr>
          <p:sp>
            <p:nvSpPr>
              <p:cNvPr id="462" name=""/>
              <p:cNvSpPr/>
              <p:nvPr/>
            </p:nvSpPr>
            <p:spPr>
              <a:xfrm>
                <a:off x="219240" y="331200"/>
                <a:ext cx="215280" cy="217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640" y="10908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08000" y="0"/>
                <a:ext cx="215280" cy="221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221760"/>
                <a:ext cx="219240" cy="218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11280" y="115920"/>
              <a:ext cx="8532720" cy="144000"/>
              <a:chOff x="611280" y="115920"/>
              <a:chExt cx="8532720" cy="144000"/>
            </a:xfrm>
          </p:grpSpPr>
          <p:sp>
            <p:nvSpPr>
              <p:cNvPr id="467" name=""/>
              <p:cNvSpPr/>
              <p:nvPr/>
            </p:nvSpPr>
            <p:spPr>
              <a:xfrm rot="16200000">
                <a:off x="4852440" y="-41248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6200000">
                <a:off x="4852440" y="-4031280"/>
                <a:ext cx="50400" cy="8532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08000" y="620640"/>
              <a:ext cx="178560" cy="6237360"/>
              <a:chOff x="108000" y="620640"/>
              <a:chExt cx="178560" cy="6237360"/>
            </a:xfrm>
          </p:grpSpPr>
          <p:sp>
            <p:nvSpPr>
              <p:cNvPr id="470" name=""/>
              <p:cNvSpPr/>
              <p:nvPr/>
            </p:nvSpPr>
            <p:spPr>
              <a:xfrm rot="10800000">
                <a:off x="108000" y="620640"/>
                <a:ext cx="5976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66ff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0800000">
                <a:off x="227160" y="620640"/>
                <a:ext cx="59400" cy="623736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50000">
                    <a:srgbClr val="ff99ff"/>
                  </a:gs>
                  <a:gs pos="100000">
                    <a:srgbClr val="3333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68360" y="260280"/>
            <a:ext cx="813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ебро куба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ABCDA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D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равно а. Найти расстояние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                            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от точк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C </a:t>
            </a:r>
            <a:r>
              <a:rPr b="1" i="1" lang="ru-RU" sz="2000" spc="-1" strike="noStrike">
                <a:solidFill>
                  <a:srgbClr val="660066"/>
                </a:solidFill>
                <a:latin typeface="Verdana"/>
              </a:rPr>
              <a:t>до плоскости </a:t>
            </a:r>
            <a:r>
              <a:rPr b="1" i="1" lang="en-US" sz="2000" spc="-1" strike="noStrike">
                <a:solidFill>
                  <a:srgbClr val="660066"/>
                </a:solidFill>
                <a:latin typeface="Verdana"/>
              </a:rPr>
              <a:t>BDC</a:t>
            </a:r>
            <a:r>
              <a:rPr b="1" i="1" lang="en-US" sz="2000" spc="-1" strike="noStrike" baseline="-25000">
                <a:solidFill>
                  <a:srgbClr val="66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8531400">
            <a:off x="1907640" y="2565000"/>
            <a:ext cx="1959120" cy="679320"/>
          </a:xfrm>
          <a:custGeom>
            <a:avLst/>
            <a:gdLst/>
            <a:ahLst/>
            <a:rect l="l" t="t" r="r" b="b"/>
            <a:pathLst>
              <a:path w="664" h="2016">
                <a:moveTo>
                  <a:pt x="664" y="0"/>
                </a:moveTo>
                <a:lnTo>
                  <a:pt x="576" y="2016"/>
                </a:lnTo>
                <a:lnTo>
                  <a:pt x="0" y="2008"/>
                </a:lnTo>
                <a:lnTo>
                  <a:pt x="664" y="0"/>
                </a:lnTo>
                <a:close/>
              </a:path>
            </a:pathLst>
          </a:custGeom>
          <a:solidFill>
            <a:srgbClr val="33cc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700360" y="2852640"/>
            <a:ext cx="73080" cy="73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84160" y="334800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301840" y="353376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884160" y="302112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36600" y="302112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301840" y="2324160"/>
            <a:ext cx="0" cy="153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136600" y="148392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84160" y="181080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84160" y="1811160"/>
            <a:ext cx="1417680" cy="513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36600" y="1484280"/>
            <a:ext cx="1417680" cy="512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301840" y="1996560"/>
            <a:ext cx="1252440" cy="327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884160" y="1484280"/>
            <a:ext cx="1252440" cy="3268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136600" y="1996560"/>
            <a:ext cx="1417680" cy="1024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301840" y="1996560"/>
            <a:ext cx="1252440" cy="186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36600" y="3021120"/>
            <a:ext cx="165240" cy="83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84160" y="3348000"/>
            <a:ext cx="2670120" cy="185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219400" y="1996560"/>
            <a:ext cx="1334880" cy="144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2700360" y="2852640"/>
            <a:ext cx="853920" cy="6811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2720" y="386064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48000" y="350028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01800" y="270972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0800" y="321300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68360" y="148428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86040" y="112536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70400" y="1628640"/>
            <a:ext cx="585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136600" y="1917720"/>
            <a:ext cx="58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554280" y="1996560"/>
            <a:ext cx="0" cy="1536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342900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1128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08000" y="3357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51280" y="1413000"/>
            <a:ext cx="51483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тояние х равно высо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опущенной в пирами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вершины С на основа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24000" y="3357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95640" y="2349360"/>
          <a:ext cx="453708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349360"/>
                    <a:ext cx="45370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3924360" y="3573360"/>
          <a:ext cx="4921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921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4067280" y="3213000"/>
            <a:ext cx="432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сторон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95280" y="4797360"/>
            <a:ext cx="489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лучаем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932360" y="4508640"/>
          <a:ext cx="367200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508640"/>
                    <a:ext cx="3672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680400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Verdan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885080" y="5877000"/>
          <a:ext cx="9414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85080" y="5877000"/>
                    <a:ext cx="9414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640720" y="26028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9920" y="10800"/>
                </a:moveTo>
                <a:lnTo>
                  <a:pt x="20425" y="3794"/>
                </a:lnTo>
                <a:lnTo>
                  <a:pt x="20425" y="17806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8074" y="3794"/>
                </a:lnTo>
                <a:lnTo>
                  <a:pt x="8074" y="17806"/>
                </a:lnTo>
                <a:lnTo>
                  <a:pt x="641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7:20:56Z</dcterms:created>
  <dc:creator>Admin</dc:creator>
  <dc:description/>
  <dc:language>en-US</dc:language>
  <cp:lastModifiedBy>Admin</cp:lastModifiedBy>
  <dcterms:modified xsi:type="dcterms:W3CDTF">2013-02-15T12:49:16Z</dcterms:modified>
  <cp:revision>5</cp:revision>
  <dc:subject/>
  <dc:title>Слайд 1</dc:title>
</cp:coreProperties>
</file>