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37.wmf" ContentType="image/x-wmf"/>
  <Override PartName="/ppt/media/image7.wmf" ContentType="image/x-wmf"/>
  <Override PartName="/ppt/media/image2.wmf" ContentType="image/x-wmf"/>
  <Override PartName="/ppt/media/image32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0E8B-15D4-47A8-A15C-120652CB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909-B4BF-4A53-AB5E-74BB463C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F9C-72EA-4CA8-A89E-28D143A4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CFEF-FA7A-42AF-B3CF-A98A0FA7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B34-6ABE-4886-A6CE-BFD19DB7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3881-B444-4CD1-9B9B-57E5A48E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D26-B745-40FB-9DDC-2B54571D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945C-1FC2-4BB9-81A2-4D32BA0A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55D-B712-404D-AA97-677B0052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2DD5-A035-4A80-A648-50D1F653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9A7-F49D-49FB-B0E8-AC55E8A4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DD1-E9C5-435F-ACED-2DA90A94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526D-90E6-46DF-8F97-0A64BF99F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slide" Target="slide2.xml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9.wmf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43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48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51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"/>
          <p:cNvSpPr txBox="1"/>
          <p:nvPr/>
        </p:nvSpPr>
        <p:spPr>
          <a:xfrm>
            <a:off x="611280" y="907920"/>
            <a:ext cx="82818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етоды решения</a:t>
            </a:r>
            <a:endParaRPr b="1" i="1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геометрических задач</a:t>
            </a:r>
            <a:endParaRPr b="1" i="1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43280" y="407664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Подготовил:                                                  учитель математики                                          МОУ «СОШ №10 с. Солдато-Александровского»                 Кобзев Д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62373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2 – 2013 уч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84360" y="2852640"/>
            <a:ext cx="4321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ЕГЭ, задание С2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3429000"/>
            <a:ext cx="77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Verdana"/>
              </a:rPr>
              <a:t>(Расстояние от точки до плоск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356000" y="2997360"/>
            <a:ext cx="719280" cy="144360"/>
          </a:xfrm>
          <a:prstGeom prst="leftRightArrow">
            <a:avLst>
              <a:gd name="adj1" fmla="val 50000"/>
              <a:gd name="adj2" fmla="val 9918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56000" y="4437000"/>
            <a:ext cx="719280" cy="144360"/>
          </a:xfrm>
          <a:prstGeom prst="leftRightArrow">
            <a:avLst>
              <a:gd name="adj1" fmla="val 50000"/>
              <a:gd name="adj2" fmla="val 9918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62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67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70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" name=""/>
          <p:cNvSpPr/>
          <p:nvPr/>
        </p:nvSpPr>
        <p:spPr>
          <a:xfrm>
            <a:off x="1258920" y="333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Расстояние от точки до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1125360"/>
            <a:ext cx="324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1844640"/>
            <a:ext cx="0" cy="3745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539640" y="2708280"/>
            <a:ext cx="3816360" cy="719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Поэтапно-вычислите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мет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2708280"/>
            <a:ext cx="3816360" cy="719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Метод параллель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прямых и плоск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4149720"/>
            <a:ext cx="3816360" cy="719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Векторный мет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4149720"/>
            <a:ext cx="3816360" cy="719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Координатный мет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43280" y="5589720"/>
            <a:ext cx="3816360" cy="7189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Метод объе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 rot="5400000">
            <a:off x="824040" y="1628280"/>
            <a:ext cx="2162160" cy="2448000"/>
          </a:xfrm>
          <a:prstGeom prst="flowChartInputOutpu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 rot="12631800">
            <a:off x="2055240" y="1897200"/>
            <a:ext cx="1368360" cy="2317320"/>
          </a:xfrm>
          <a:custGeom>
            <a:avLst/>
            <a:gdLst/>
            <a:ahLst/>
            <a:rect l="l" t="t" r="r" b="b"/>
            <a:pathLst>
              <a:path w="570" h="1182">
                <a:moveTo>
                  <a:pt x="570" y="0"/>
                </a:moveTo>
                <a:lnTo>
                  <a:pt x="211" y="135"/>
                </a:lnTo>
                <a:lnTo>
                  <a:pt x="0" y="1182"/>
                </a:lnTo>
                <a:lnTo>
                  <a:pt x="570" y="0"/>
                </a:lnTo>
                <a:close/>
              </a:path>
            </a:pathLst>
          </a:custGeom>
          <a:solidFill>
            <a:srgbClr val="ffff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84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89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92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539640" y="189000"/>
            <a:ext cx="8425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Verdana"/>
              </a:rPr>
              <a:t>В правильной шестиугольной призме 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ABCDEFA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B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C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D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E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F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ru-RU" sz="1800" spc="-1" strike="noStrike" baseline="-25000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660066"/>
                </a:solidFill>
                <a:latin typeface="Verdana"/>
              </a:rPr>
              <a:t>, ребра которой равны 1, найти расстояние от точки А до плоскости А</a:t>
            </a:r>
            <a:r>
              <a:rPr b="1" i="1" lang="ru-RU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ru-RU" sz="1800" spc="-1" strike="noStrike">
                <a:solidFill>
                  <a:srgbClr val="660066"/>
                </a:solidFill>
                <a:latin typeface="Verdana"/>
              </a:rPr>
              <a:t>В</a:t>
            </a:r>
            <a:r>
              <a:rPr b="1" i="1" lang="ru-RU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ru-RU" sz="1800" spc="-1" strike="noStrike">
                <a:solidFill>
                  <a:srgbClr val="660066"/>
                </a:solidFill>
                <a:latin typeface="Verdana"/>
              </a:rPr>
              <a:t>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rot="5186400">
            <a:off x="2004840" y="1793520"/>
            <a:ext cx="1298520" cy="2536560"/>
          </a:xfrm>
          <a:custGeom>
            <a:avLst/>
            <a:gdLst/>
            <a:ahLst/>
            <a:rect l="l" t="t" r="r" b="b"/>
            <a:pathLst>
              <a:path w="570" h="1182">
                <a:moveTo>
                  <a:pt x="570" y="0"/>
                </a:moveTo>
                <a:lnTo>
                  <a:pt x="211" y="135"/>
                </a:lnTo>
                <a:lnTo>
                  <a:pt x="0" y="1182"/>
                </a:lnTo>
                <a:lnTo>
                  <a:pt x="570" y="0"/>
                </a:lnTo>
                <a:close/>
              </a:path>
            </a:pathLst>
          </a:custGeom>
          <a:solidFill>
            <a:srgbClr val="ffff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1835000">
            <a:off x="3132000" y="1699560"/>
            <a:ext cx="882720" cy="631800"/>
          </a:xfrm>
          <a:custGeom>
            <a:avLst/>
            <a:gdLst/>
            <a:ahLst/>
            <a:rect l="l" t="t" r="r" b="b"/>
            <a:pathLst>
              <a:path w="556" h="1174">
                <a:moveTo>
                  <a:pt x="8" y="1174"/>
                </a:moveTo>
                <a:lnTo>
                  <a:pt x="556" y="8"/>
                </a:lnTo>
                <a:lnTo>
                  <a:pt x="0" y="0"/>
                </a:lnTo>
                <a:lnTo>
                  <a:pt x="0" y="1174"/>
                </a:lnTo>
              </a:path>
            </a:pathLst>
          </a:custGeom>
          <a:solidFill>
            <a:srgbClr val="ffff9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3200" y="1344600"/>
            <a:ext cx="3520800" cy="827280"/>
          </a:xfrm>
          <a:custGeom>
            <a:avLst/>
            <a:gdLst/>
            <a:ahLst/>
            <a:rect l="l" t="t" r="r" b="b"/>
            <a:pathLst>
              <a:path w="2111" h="560">
                <a:moveTo>
                  <a:pt x="0" y="257"/>
                </a:moveTo>
                <a:lnTo>
                  <a:pt x="642" y="0"/>
                </a:lnTo>
                <a:lnTo>
                  <a:pt x="1713" y="40"/>
                </a:lnTo>
                <a:lnTo>
                  <a:pt x="2111" y="329"/>
                </a:lnTo>
                <a:lnTo>
                  <a:pt x="1457" y="560"/>
                </a:lnTo>
                <a:lnTo>
                  <a:pt x="386" y="534"/>
                </a:lnTo>
                <a:lnTo>
                  <a:pt x="0" y="257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1120" y="3112920"/>
            <a:ext cx="3522600" cy="487440"/>
          </a:xfrm>
          <a:custGeom>
            <a:avLst/>
            <a:gdLst/>
            <a:ahLst/>
            <a:rect l="l" t="t" r="r" b="b"/>
            <a:pathLst>
              <a:path w="2112" h="330">
                <a:moveTo>
                  <a:pt x="0" y="247"/>
                </a:moveTo>
                <a:lnTo>
                  <a:pt x="643" y="0"/>
                </a:lnTo>
                <a:lnTo>
                  <a:pt x="1714" y="40"/>
                </a:lnTo>
                <a:lnTo>
                  <a:pt x="2112" y="330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85360" y="3462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02800" y="2928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84200" y="2792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34520" y="378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32240" y="105264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14360" y="105264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0840" y="139068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36000" y="20588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49760" y="17002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16160" y="2179800"/>
            <a:ext cx="3240" cy="1755720"/>
          </a:xfrm>
          <a:custGeom>
            <a:avLst/>
            <a:gdLst/>
            <a:ahLst/>
            <a:rect l="l" t="t" r="r" b="b"/>
            <a:pathLst>
              <a:path w="2" h="1190">
                <a:moveTo>
                  <a:pt x="0" y="0"/>
                </a:moveTo>
                <a:lnTo>
                  <a:pt x="2" y="1190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83200" y="1839960"/>
            <a:ext cx="14040" cy="1754280"/>
          </a:xfrm>
          <a:custGeom>
            <a:avLst/>
            <a:gdLst/>
            <a:ahLst/>
            <a:rect l="l" t="t" r="r" b="b"/>
            <a:pathLst>
              <a:path w="8" h="1188">
                <a:moveTo>
                  <a:pt x="0" y="0"/>
                </a:moveTo>
                <a:lnTo>
                  <a:pt x="8" y="1188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06440" y="2131920"/>
            <a:ext cx="0" cy="17496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6440" y="1724040"/>
            <a:ext cx="1440" cy="1760400"/>
          </a:xfrm>
          <a:custGeom>
            <a:avLst/>
            <a:gdLst/>
            <a:ahLst/>
            <a:rect l="l" t="t" r="r" b="b"/>
            <a:pathLst>
              <a:path w="1" h="1193">
                <a:moveTo>
                  <a:pt x="0" y="0"/>
                </a:moveTo>
                <a:lnTo>
                  <a:pt x="0" y="1193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43120" y="1363680"/>
            <a:ext cx="0" cy="17492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30520" y="1393920"/>
            <a:ext cx="0" cy="174780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2560" y="3484440"/>
            <a:ext cx="625680" cy="405000"/>
          </a:xfrm>
          <a:custGeom>
            <a:avLst/>
            <a:gdLst/>
            <a:ahLst/>
            <a:rect l="l" t="t" r="r" b="b"/>
            <a:pathLst>
              <a:path w="375" h="274">
                <a:moveTo>
                  <a:pt x="375" y="274"/>
                </a:move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9120" y="3597120"/>
            <a:ext cx="1071360" cy="338400"/>
          </a:xfrm>
          <a:custGeom>
            <a:avLst/>
            <a:gdLst/>
            <a:ahLst/>
            <a:rect l="l" t="t" r="r" b="b"/>
            <a:pathLst>
              <a:path w="642" h="230">
                <a:moveTo>
                  <a:pt x="0" y="230"/>
                </a:moveTo>
                <a:lnTo>
                  <a:pt x="64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20840" y="3894120"/>
            <a:ext cx="1789200" cy="47520"/>
          </a:xfrm>
          <a:custGeom>
            <a:avLst/>
            <a:gdLst/>
            <a:ahLst/>
            <a:rect l="l" t="t" r="r" b="b"/>
            <a:pathLst>
              <a:path w="1072" h="32">
                <a:moveTo>
                  <a:pt x="0" y="0"/>
                </a:moveTo>
                <a:lnTo>
                  <a:pt x="1072" y="32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1640" y="1557360"/>
            <a:ext cx="45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5800" y="3327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08000" y="38005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059280" y="1844280"/>
            <a:ext cx="1081080" cy="360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332000" y="2205000"/>
            <a:ext cx="1728720" cy="16556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563640" y="1844640"/>
            <a:ext cx="576360" cy="136836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332000" y="3212640"/>
            <a:ext cx="2232000" cy="64764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500280"/>
            <a:ext cx="2447640" cy="433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35280" y="2205000"/>
            <a:ext cx="1296720" cy="1511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3640" y="364500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20360" y="3284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195280" y="3357720"/>
            <a:ext cx="936360" cy="576000"/>
          </a:xfrm>
          <a:prstGeom prst="line">
            <a:avLst/>
          </a:prstGeom>
          <a:ln w="57240">
            <a:solidFill>
              <a:srgbClr val="66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24000" y="3284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9800" y="29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716360" y="1052640"/>
          <a:ext cx="3816360" cy="36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6360" y="1052640"/>
                    <a:ext cx="3816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684360" y="1700280"/>
            <a:ext cx="244764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43280" y="1413000"/>
          <a:ext cx="1419480" cy="29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1413000"/>
                    <a:ext cx="141948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 flipH="1">
            <a:off x="3059280" y="386064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0" y="1773360"/>
          <a:ext cx="3673440" cy="412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1773360"/>
                    <a:ext cx="36734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64000" y="2205000"/>
          <a:ext cx="2517840" cy="371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64000" y="2205000"/>
                    <a:ext cx="25178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500720" y="2565360"/>
            <a:ext cx="4321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ысота АН в треугольнике АА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комое расстоя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335772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 прямоуг. треугольни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E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0" y="3645000"/>
          <a:ext cx="4032360" cy="782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72000" y="3645000"/>
                    <a:ext cx="40323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24000" y="4508640"/>
            <a:ext cx="396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 прямоуг. треугольни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140360" y="4292640"/>
          <a:ext cx="2234880" cy="806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40360" y="4292640"/>
                    <a:ext cx="223488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95280" y="5157720"/>
          <a:ext cx="4608360" cy="1003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95280" y="5157720"/>
                    <a:ext cx="46083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7164360" y="61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Verdan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8317080" y="5877000"/>
          <a:ext cx="549000" cy="836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317080" y="5877000"/>
                    <a:ext cx="549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>
            <a:hlinkClick r:id="rId18" action="ppaction://hlinksldjump"/>
          </p:cNvPr>
          <p:cNvSpPr/>
          <p:nvPr/>
        </p:nvSpPr>
        <p:spPr>
          <a:xfrm>
            <a:off x="8639280" y="260280"/>
            <a:ext cx="504720" cy="40500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14" h="21600">
                <a:moveTo>
                  <a:pt x="0" y="0"/>
                </a:moveTo>
                <a:lnTo>
                  <a:pt x="26914" y="0"/>
                </a:lnTo>
                <a:lnTo>
                  <a:pt x="26914" y="21600"/>
                </a:lnTo>
                <a:lnTo>
                  <a:pt x="0" y="21600"/>
                </a:lnTo>
                <a:close/>
              </a:path>
              <a:path fill="lightenLess" w="26914" h="21600">
                <a:moveTo>
                  <a:pt x="0" y="0"/>
                </a:moveTo>
                <a:lnTo>
                  <a:pt x="26914" y="0"/>
                </a:lnTo>
                <a:lnTo>
                  <a:pt x="25514" y="1400"/>
                </a:lnTo>
                <a:lnTo>
                  <a:pt x="1400" y="1400"/>
                </a:lnTo>
                <a:close/>
              </a:path>
              <a:path fill="darken" w="26914" h="21600">
                <a:moveTo>
                  <a:pt x="26914" y="0"/>
                </a:moveTo>
                <a:lnTo>
                  <a:pt x="26914" y="21600"/>
                </a:lnTo>
                <a:lnTo>
                  <a:pt x="25514" y="20200"/>
                </a:lnTo>
                <a:lnTo>
                  <a:pt x="25514" y="1400"/>
                </a:lnTo>
                <a:close/>
              </a:path>
              <a:path fill="darkenLess" w="26914" h="21600">
                <a:moveTo>
                  <a:pt x="26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4" y="20200"/>
                </a:lnTo>
                <a:close/>
              </a:path>
              <a:path fill="lighten" w="26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4" h="21600">
                <a:moveTo>
                  <a:pt x="9958" y="10800"/>
                </a:moveTo>
                <a:lnTo>
                  <a:pt x="20463" y="3794"/>
                </a:lnTo>
                <a:lnTo>
                  <a:pt x="20463" y="17806"/>
                </a:lnTo>
                <a:close/>
              </a:path>
              <a:path fill="darken" w="26914" h="21600">
                <a:moveTo>
                  <a:pt x="6450" y="3794"/>
                </a:moveTo>
                <a:lnTo>
                  <a:pt x="8113" y="3794"/>
                </a:lnTo>
                <a:lnTo>
                  <a:pt x="8113" y="17806"/>
                </a:lnTo>
                <a:lnTo>
                  <a:pt x="6450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55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156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161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164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"/>
          <p:cNvSpPr/>
          <p:nvPr/>
        </p:nvSpPr>
        <p:spPr>
          <a:xfrm>
            <a:off x="395280" y="260280"/>
            <a:ext cx="7921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В единичном кубе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ABCDA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B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C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D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найти расстояние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                           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от точки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C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до плоскости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AB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2276640"/>
            <a:ext cx="1800" cy="1887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6600" y="3205080"/>
            <a:ext cx="457200" cy="943200"/>
          </a:xfrm>
          <a:custGeom>
            <a:avLst/>
            <a:gdLst/>
            <a:ahLst/>
            <a:rect l="l" t="t" r="r" b="b"/>
            <a:pathLst>
              <a:path w="288" h="936">
                <a:moveTo>
                  <a:pt x="0" y="936"/>
                </a:moveTo>
                <a:lnTo>
                  <a:pt x="288" y="0"/>
                </a:lnTo>
              </a:path>
            </a:pathLst>
          </a:custGeom>
          <a:noFill/>
          <a:ln w="28440">
            <a:solidFill>
              <a:srgbClr val="66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136600" y="3679560"/>
            <a:ext cx="1752840" cy="4842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136600" y="1793520"/>
            <a:ext cx="1752840" cy="4827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7640" y="1795320"/>
            <a:ext cx="3240" cy="1884600"/>
          </a:xfrm>
          <a:custGeom>
            <a:avLst/>
            <a:gdLst/>
            <a:ahLst/>
            <a:rect l="l" t="t" r="r" b="b"/>
            <a:pathLst>
              <a:path w="2" h="1870">
                <a:moveTo>
                  <a:pt x="0" y="0"/>
                </a:moveTo>
                <a:lnTo>
                  <a:pt x="2" y="1870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93800" y="1309680"/>
            <a:ext cx="1800" cy="18874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81200" y="1309680"/>
            <a:ext cx="1308240" cy="487440"/>
          </a:xfrm>
          <a:custGeom>
            <a:avLst/>
            <a:gdLst/>
            <a:ahLst/>
            <a:rect l="l" t="t" r="r" b="b"/>
            <a:pathLst>
              <a:path w="824" h="484">
                <a:moveTo>
                  <a:pt x="0" y="0"/>
                </a:moveTo>
                <a:lnTo>
                  <a:pt x="824" y="4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93800" y="3197160"/>
            <a:ext cx="1308240" cy="487440"/>
          </a:xfrm>
          <a:custGeom>
            <a:avLst/>
            <a:gdLst/>
            <a:ahLst/>
            <a:rect l="l" t="t" r="r" b="b"/>
            <a:pathLst>
              <a:path w="824" h="484">
                <a:moveTo>
                  <a:pt x="0" y="0"/>
                </a:moveTo>
                <a:lnTo>
                  <a:pt x="824" y="484"/>
                </a:lnTo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8720" y="1787400"/>
            <a:ext cx="3057480" cy="6480"/>
          </a:xfrm>
          <a:custGeom>
            <a:avLst/>
            <a:gdLst/>
            <a:ahLst/>
            <a:rect l="l" t="t" r="r" b="b"/>
            <a:pathLst>
              <a:path w="1926" h="6">
                <a:moveTo>
                  <a:pt x="0" y="0"/>
                </a:moveTo>
                <a:lnTo>
                  <a:pt x="1926" y="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2240" y="1309680"/>
            <a:ext cx="1771560" cy="479520"/>
          </a:xfrm>
          <a:custGeom>
            <a:avLst/>
            <a:gdLst/>
            <a:ahLst/>
            <a:rect l="l" t="t" r="r" b="b"/>
            <a:pathLst>
              <a:path w="1116" h="476">
                <a:moveTo>
                  <a:pt x="0" y="476"/>
                </a:moveTo>
                <a:lnTo>
                  <a:pt x="1116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841320" y="3196800"/>
            <a:ext cx="1752480" cy="48276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6120" y="1785960"/>
            <a:ext cx="1440" cy="18860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8720" y="3679920"/>
            <a:ext cx="1307880" cy="484200"/>
          </a:xfrm>
          <a:custGeom>
            <a:avLst/>
            <a:gdLst/>
            <a:ahLst/>
            <a:rect l="l" t="t" r="r" b="b"/>
            <a:pathLst>
              <a:path w="824" h="480">
                <a:moveTo>
                  <a:pt x="0" y="0"/>
                </a:moveTo>
                <a:lnTo>
                  <a:pt x="824" y="4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6120" y="1789200"/>
            <a:ext cx="1307880" cy="487440"/>
          </a:xfrm>
          <a:custGeom>
            <a:avLst/>
            <a:gdLst/>
            <a:ahLst/>
            <a:rect l="l" t="t" r="r" b="b"/>
            <a:pathLst>
              <a:path w="824" h="484">
                <a:moveTo>
                  <a:pt x="0" y="0"/>
                </a:moveTo>
                <a:lnTo>
                  <a:pt x="824" y="4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8480" y="354348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68840" y="36147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4840" y="28940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95400" y="411804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24120" y="188604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5760" y="152568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44840" y="102240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95760" y="145404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00720" y="1052640"/>
          <a:ext cx="122364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052640"/>
                    <a:ext cx="12236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2124000" y="1341360"/>
            <a:ext cx="457200" cy="943200"/>
          </a:xfrm>
          <a:custGeom>
            <a:avLst/>
            <a:gdLst/>
            <a:ahLst/>
            <a:rect l="l" t="t" r="r" b="b"/>
            <a:pathLst>
              <a:path w="288" h="936">
                <a:moveTo>
                  <a:pt x="0" y="936"/>
                </a:moveTo>
                <a:lnTo>
                  <a:pt x="288" y="0"/>
                </a:lnTo>
              </a:path>
            </a:pathLst>
          </a:custGeom>
          <a:noFill/>
          <a:ln w="284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96000" y="1052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227640" y="981000"/>
          <a:ext cx="1873440" cy="5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981000"/>
                    <a:ext cx="187344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 flipH="1" flipV="1">
            <a:off x="826560" y="1773000"/>
            <a:ext cx="1297080" cy="237636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1773360"/>
            <a:ext cx="1800360" cy="143964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 rot="2350800">
            <a:off x="250560" y="2491200"/>
            <a:ext cx="2509920" cy="1008000"/>
          </a:xfrm>
          <a:custGeom>
            <a:avLst/>
            <a:gdLst/>
            <a:ahLst/>
            <a:rect l="l" t="t" r="r" b="b"/>
            <a:pathLst>
              <a:path w="664" h="2016">
                <a:moveTo>
                  <a:pt x="664" y="0"/>
                </a:moveTo>
                <a:lnTo>
                  <a:pt x="576" y="2016"/>
                </a:lnTo>
                <a:lnTo>
                  <a:pt x="0" y="2008"/>
                </a:lnTo>
                <a:lnTo>
                  <a:pt x="664" y="0"/>
                </a:lnTo>
                <a:close/>
              </a:path>
            </a:pathLst>
          </a:custGeom>
          <a:solidFill>
            <a:srgbClr val="33cc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1484280"/>
            <a:ext cx="4464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этому искомое расстояни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равно расстоянию от произвольной точки А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до плоскости АВ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36450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340000" y="177300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773360"/>
            <a:ext cx="1513080" cy="1871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68360" y="3573360"/>
            <a:ext cx="14472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476000" y="1773360"/>
            <a:ext cx="863640" cy="8636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2565360"/>
            <a:ext cx="73080" cy="73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68360" y="170028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2000" y="256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8360" y="3573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79640" y="1341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191628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2421000"/>
            <a:ext cx="4680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означим расстояние от О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через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84720" y="3141720"/>
            <a:ext cx="331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кажем, что О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┴ АВ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284720" y="3500280"/>
          <a:ext cx="468000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3500280"/>
                    <a:ext cx="46800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4284720" y="400536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 – перпендикуляр к (АВ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), а О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450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35280" y="4292640"/>
          <a:ext cx="2232000" cy="77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5280" y="4292640"/>
                    <a:ext cx="2232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4140360" y="4508640"/>
            <a:ext cx="500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 из прямоугольного треугольника О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55640" y="5084640"/>
          <a:ext cx="2016000" cy="72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5084640"/>
                    <a:ext cx="2016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292720" y="5084640"/>
          <a:ext cx="3456000" cy="77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92720" y="5084640"/>
                    <a:ext cx="345600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843280" y="530064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омое расстоя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164360" y="61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Verdan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8388360" y="6021360"/>
          <a:ext cx="484200" cy="716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8360" y="6021360"/>
                    <a:ext cx="4842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8567640" y="260280"/>
            <a:ext cx="576360" cy="40500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0731" h="21600">
                <a:moveTo>
                  <a:pt x="0" y="0"/>
                </a:moveTo>
                <a:lnTo>
                  <a:pt x="30731" y="0"/>
                </a:lnTo>
                <a:lnTo>
                  <a:pt x="30731" y="21600"/>
                </a:lnTo>
                <a:lnTo>
                  <a:pt x="0" y="21600"/>
                </a:lnTo>
                <a:close/>
              </a:path>
              <a:path fill="lightenLess" w="30731" h="21600">
                <a:moveTo>
                  <a:pt x="0" y="0"/>
                </a:moveTo>
                <a:lnTo>
                  <a:pt x="30731" y="0"/>
                </a:lnTo>
                <a:lnTo>
                  <a:pt x="29331" y="1400"/>
                </a:lnTo>
                <a:lnTo>
                  <a:pt x="1400" y="1400"/>
                </a:lnTo>
                <a:close/>
              </a:path>
              <a:path fill="darken" w="30731" h="21600">
                <a:moveTo>
                  <a:pt x="30731" y="0"/>
                </a:moveTo>
                <a:lnTo>
                  <a:pt x="30731" y="21600"/>
                </a:lnTo>
                <a:lnTo>
                  <a:pt x="29331" y="20200"/>
                </a:lnTo>
                <a:lnTo>
                  <a:pt x="29331" y="1400"/>
                </a:lnTo>
                <a:close/>
              </a:path>
              <a:path fill="darkenLess" w="30731" h="21600">
                <a:moveTo>
                  <a:pt x="3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1" y="20200"/>
                </a:lnTo>
                <a:close/>
              </a:path>
              <a:path fill="lighten" w="3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1" h="21600">
                <a:moveTo>
                  <a:pt x="11867" y="10800"/>
                </a:moveTo>
                <a:lnTo>
                  <a:pt x="22372" y="3794"/>
                </a:lnTo>
                <a:lnTo>
                  <a:pt x="22372" y="17806"/>
                </a:lnTo>
                <a:close/>
              </a:path>
              <a:path fill="darken" w="30731" h="21600">
                <a:moveTo>
                  <a:pt x="8359" y="3794"/>
                </a:moveTo>
                <a:lnTo>
                  <a:pt x="10021" y="3794"/>
                </a:lnTo>
                <a:lnTo>
                  <a:pt x="10021" y="17806"/>
                </a:lnTo>
                <a:lnTo>
                  <a:pt x="835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84360" y="1268280"/>
            <a:ext cx="14472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00000" y="1844640"/>
            <a:ext cx="1800360" cy="1008000"/>
          </a:xfrm>
          <a:prstGeom prst="line">
            <a:avLst/>
          </a:prstGeom>
          <a:ln w="2844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31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232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237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240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"/>
          <p:cNvSpPr/>
          <p:nvPr/>
        </p:nvSpPr>
        <p:spPr>
          <a:xfrm>
            <a:off x="468360" y="260280"/>
            <a:ext cx="8064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В единичном кубе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ABCDA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B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C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D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найти расстояние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                           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от точки А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до плоскости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BDC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8531400">
            <a:off x="1907640" y="2565000"/>
            <a:ext cx="1959120" cy="679320"/>
          </a:xfrm>
          <a:custGeom>
            <a:avLst/>
            <a:gdLst/>
            <a:ahLst/>
            <a:rect l="l" t="t" r="r" b="b"/>
            <a:pathLst>
              <a:path w="664" h="2016">
                <a:moveTo>
                  <a:pt x="664" y="0"/>
                </a:moveTo>
                <a:lnTo>
                  <a:pt x="576" y="2016"/>
                </a:lnTo>
                <a:lnTo>
                  <a:pt x="0" y="2008"/>
                </a:lnTo>
                <a:lnTo>
                  <a:pt x="664" y="0"/>
                </a:lnTo>
                <a:close/>
              </a:path>
            </a:pathLst>
          </a:custGeom>
          <a:solidFill>
            <a:srgbClr val="33cc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0360" y="2852640"/>
            <a:ext cx="73080" cy="73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00000" y="335772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301840" y="353376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884160" y="302112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36600" y="302112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301840" y="2324160"/>
            <a:ext cx="0" cy="1536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136600" y="148392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84160" y="181080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84160" y="1811160"/>
            <a:ext cx="1417680" cy="513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36600" y="148428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301840" y="1996560"/>
            <a:ext cx="1252440" cy="327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884160" y="148428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136600" y="1996560"/>
            <a:ext cx="1417680" cy="1024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301840" y="1996560"/>
            <a:ext cx="1252440" cy="186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2720" y="386064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48000" y="350028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63640" y="263700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0800" y="321300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8360" y="148428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8000" y="1052640"/>
            <a:ext cx="58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36600" y="1917720"/>
            <a:ext cx="58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554280" y="199656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1128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899640" y="1844280"/>
            <a:ext cx="2590920" cy="1429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899640" y="1844640"/>
            <a:ext cx="1871640" cy="1052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2123640" y="2997360"/>
            <a:ext cx="144360" cy="863280"/>
          </a:xfrm>
          <a:prstGeom prst="line">
            <a:avLst/>
          </a:prstGeom>
          <a:ln w="57240">
            <a:solidFill>
              <a:srgbClr val="00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195640" y="3789360"/>
            <a:ext cx="14436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3284640"/>
            <a:ext cx="1447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50920" y="2924280"/>
            <a:ext cx="1447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6920" y="177336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19640" y="3429000"/>
            <a:ext cx="14436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19640" y="1916280"/>
            <a:ext cx="14436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50920" y="1413000"/>
            <a:ext cx="1447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48000" y="155736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00000" y="3357720"/>
            <a:ext cx="1368360" cy="50292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900000" y="2997000"/>
            <a:ext cx="1224000" cy="360360"/>
          </a:xfrm>
          <a:prstGeom prst="line">
            <a:avLst/>
          </a:prstGeom>
          <a:ln w="57240">
            <a:solidFill>
              <a:srgbClr val="66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900000" y="1844280"/>
            <a:ext cx="0" cy="15130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268360" y="2060640"/>
            <a:ext cx="1224000" cy="18000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187280" y="3500280"/>
          <a:ext cx="344520" cy="5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500280"/>
                    <a:ext cx="34452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539640" y="2349360"/>
          <a:ext cx="311400" cy="5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349360"/>
                    <a:ext cx="31140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332000" y="2637000"/>
          <a:ext cx="34452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2637000"/>
                    <a:ext cx="3445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4067280" y="981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003640" y="981000"/>
          <a:ext cx="2521080" cy="420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3640" y="981000"/>
                    <a:ext cx="25210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7524720" y="981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211640" y="1341360"/>
          <a:ext cx="3817800" cy="52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11640" y="1341360"/>
                    <a:ext cx="3817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708360" y="1844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азим ве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724360" y="1773360"/>
          <a:ext cx="187200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24360" y="1773360"/>
                    <a:ext cx="1872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7524720" y="1844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8221680" y="1773360"/>
          <a:ext cx="790560" cy="441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21680" y="1773360"/>
                    <a:ext cx="7905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 flipH="1" flipV="1">
            <a:off x="2123640" y="2997360"/>
            <a:ext cx="144360" cy="8632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851280" y="2205000"/>
          <a:ext cx="3529080" cy="385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51280" y="2205000"/>
                    <a:ext cx="352908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4211640" y="2565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076720" y="2565360"/>
          <a:ext cx="2592360" cy="379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6720" y="2565360"/>
                    <a:ext cx="25923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3924360" y="2924280"/>
          <a:ext cx="2266920" cy="401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24360" y="2924280"/>
                    <a:ext cx="226692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 flipH="1">
            <a:off x="2771640" y="2060640"/>
            <a:ext cx="720720" cy="79200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3924360" y="3284640"/>
          <a:ext cx="4032360" cy="441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924360" y="3284640"/>
                    <a:ext cx="40323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2376360" y="3645000"/>
          <a:ext cx="6767640" cy="1152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376360" y="3645000"/>
                    <a:ext cx="67676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755640" y="4724280"/>
          <a:ext cx="8137440" cy="1989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5640" y="4724280"/>
                    <a:ext cx="813744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16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317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322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325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755640" y="1484280"/>
            <a:ext cx="1800360" cy="1008000"/>
          </a:xfrm>
          <a:prstGeom prst="line">
            <a:avLst/>
          </a:prstGeom>
          <a:ln w="2844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8531400">
            <a:off x="1763280" y="2204640"/>
            <a:ext cx="1959120" cy="679320"/>
          </a:xfrm>
          <a:custGeom>
            <a:avLst/>
            <a:gdLst/>
            <a:ahLst/>
            <a:rect l="l" t="t" r="r" b="b"/>
            <a:pathLst>
              <a:path w="664" h="2016">
                <a:moveTo>
                  <a:pt x="664" y="0"/>
                </a:moveTo>
                <a:lnTo>
                  <a:pt x="576" y="2016"/>
                </a:lnTo>
                <a:lnTo>
                  <a:pt x="0" y="2008"/>
                </a:lnTo>
                <a:lnTo>
                  <a:pt x="664" y="0"/>
                </a:lnTo>
                <a:close/>
              </a:path>
            </a:pathLst>
          </a:custGeom>
          <a:solidFill>
            <a:srgbClr val="33cc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56000" y="2492280"/>
            <a:ext cx="73080" cy="73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5640" y="299736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157480" y="317340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739800" y="266076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92240" y="266076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157480" y="1963800"/>
            <a:ext cx="0" cy="1536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992240" y="112356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739800" y="145044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9800" y="1450800"/>
            <a:ext cx="1417680" cy="513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92240" y="112392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157480" y="1636200"/>
            <a:ext cx="1252440" cy="327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739800" y="112392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992240" y="1636200"/>
            <a:ext cx="1417680" cy="1024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157480" y="1636200"/>
            <a:ext cx="1252440" cy="186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08000" y="350028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03640" y="313992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19280" y="22766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6440" y="28526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4000" y="112392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63640" y="69228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92240" y="155736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409920" y="163620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266920" y="24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755280" y="1483920"/>
            <a:ext cx="2590920" cy="1429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755280" y="1484280"/>
            <a:ext cx="1871640" cy="1052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1979280" y="2637000"/>
            <a:ext cx="144360" cy="863280"/>
          </a:xfrm>
          <a:prstGeom prst="line">
            <a:avLst/>
          </a:prstGeom>
          <a:ln w="57240">
            <a:solidFill>
              <a:srgbClr val="00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0920" y="3429000"/>
            <a:ext cx="1447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82560" y="2924280"/>
            <a:ext cx="14436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06560" y="2563920"/>
            <a:ext cx="14436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2560" y="141300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74920" y="3068640"/>
            <a:ext cx="1447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74920" y="1555920"/>
            <a:ext cx="1447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06560" y="1052640"/>
            <a:ext cx="14436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03640" y="119700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55640" y="2997360"/>
            <a:ext cx="1368360" cy="50292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55640" y="2636640"/>
            <a:ext cx="1224000" cy="360360"/>
          </a:xfrm>
          <a:prstGeom prst="line">
            <a:avLst/>
          </a:prstGeom>
          <a:ln w="57240">
            <a:solidFill>
              <a:srgbClr val="66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755640" y="1483920"/>
            <a:ext cx="0" cy="15130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124000" y="1700280"/>
            <a:ext cx="1224000" cy="18000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042920" y="3139920"/>
          <a:ext cx="344520" cy="5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139920"/>
                    <a:ext cx="34452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95280" y="1989000"/>
          <a:ext cx="311040" cy="5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1989000"/>
                    <a:ext cx="31104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1187280" y="2276640"/>
          <a:ext cx="34452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2276640"/>
                    <a:ext cx="3445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 flipH="1" flipV="1">
            <a:off x="1979280" y="2637000"/>
            <a:ext cx="144360" cy="8632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627280" y="1700280"/>
            <a:ext cx="720720" cy="79200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00720" y="40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3635280" y="836640"/>
          <a:ext cx="532944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836640"/>
                    <a:ext cx="532944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4356000" y="2349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сюда получа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3780000" y="2852640"/>
          <a:ext cx="5184720" cy="67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80000" y="2852640"/>
                    <a:ext cx="518472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4427640" y="3573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им образ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116000" y="4076640"/>
          <a:ext cx="7559640" cy="876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16000" y="4076640"/>
                    <a:ext cx="75596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>
            <a:off x="7164360" y="61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Verdan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8232840" y="6021360"/>
          <a:ext cx="598320" cy="654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32840" y="6021360"/>
                    <a:ext cx="59832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8640720" y="260280"/>
            <a:ext cx="503280" cy="40500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837" h="21600">
                <a:moveTo>
                  <a:pt x="0" y="0"/>
                </a:moveTo>
                <a:lnTo>
                  <a:pt x="26837" y="0"/>
                </a:lnTo>
                <a:lnTo>
                  <a:pt x="26837" y="21600"/>
                </a:lnTo>
                <a:lnTo>
                  <a:pt x="0" y="21600"/>
                </a:lnTo>
                <a:close/>
              </a:path>
              <a:path fill="lightenLess" w="26837" h="21600">
                <a:moveTo>
                  <a:pt x="0" y="0"/>
                </a:moveTo>
                <a:lnTo>
                  <a:pt x="26837" y="0"/>
                </a:lnTo>
                <a:lnTo>
                  <a:pt x="25437" y="1400"/>
                </a:lnTo>
                <a:lnTo>
                  <a:pt x="1400" y="1400"/>
                </a:lnTo>
                <a:close/>
              </a:path>
              <a:path fill="darken" w="26837" h="21600">
                <a:moveTo>
                  <a:pt x="26837" y="0"/>
                </a:moveTo>
                <a:lnTo>
                  <a:pt x="26837" y="21600"/>
                </a:lnTo>
                <a:lnTo>
                  <a:pt x="25437" y="20200"/>
                </a:lnTo>
                <a:lnTo>
                  <a:pt x="25437" y="1400"/>
                </a:lnTo>
                <a:close/>
              </a:path>
              <a:path fill="darkenLess" w="26837" h="21600">
                <a:moveTo>
                  <a:pt x="2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37" y="20200"/>
                </a:lnTo>
                <a:close/>
              </a:path>
              <a:path fill="lighten" w="2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37" h="21600">
                <a:moveTo>
                  <a:pt x="9920" y="10800"/>
                </a:moveTo>
                <a:lnTo>
                  <a:pt x="20425" y="3794"/>
                </a:lnTo>
                <a:lnTo>
                  <a:pt x="20425" y="17806"/>
                </a:lnTo>
                <a:close/>
              </a:path>
              <a:path fill="darken" w="26837" h="21600">
                <a:moveTo>
                  <a:pt x="6412" y="3794"/>
                </a:moveTo>
                <a:lnTo>
                  <a:pt x="8074" y="3794"/>
                </a:lnTo>
                <a:lnTo>
                  <a:pt x="8074" y="17806"/>
                </a:lnTo>
                <a:lnTo>
                  <a:pt x="641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9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390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395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398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"/>
          <p:cNvSpPr/>
          <p:nvPr/>
        </p:nvSpPr>
        <p:spPr>
          <a:xfrm>
            <a:off x="539640" y="189000"/>
            <a:ext cx="8425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Verdana"/>
              </a:rPr>
              <a:t>В правильной шестиугольной призме 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ABCDEFA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B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C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D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E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F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ru-RU" sz="1800" spc="-1" strike="noStrike" baseline="-25000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660066"/>
                </a:solidFill>
                <a:latin typeface="Verdana"/>
              </a:rPr>
              <a:t>, ребра которой равны 1, найти расстояние от точки А до плоскости 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DEF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4360" y="1628640"/>
            <a:ext cx="3520800" cy="827280"/>
          </a:xfrm>
          <a:custGeom>
            <a:avLst/>
            <a:gdLst/>
            <a:ahLst/>
            <a:rect l="l" t="t" r="r" b="b"/>
            <a:pathLst>
              <a:path w="2111" h="560">
                <a:moveTo>
                  <a:pt x="0" y="257"/>
                </a:moveTo>
                <a:lnTo>
                  <a:pt x="642" y="0"/>
                </a:lnTo>
                <a:lnTo>
                  <a:pt x="1713" y="40"/>
                </a:lnTo>
                <a:lnTo>
                  <a:pt x="2111" y="329"/>
                </a:lnTo>
                <a:lnTo>
                  <a:pt x="1457" y="560"/>
                </a:lnTo>
                <a:lnTo>
                  <a:pt x="386" y="534"/>
                </a:lnTo>
                <a:lnTo>
                  <a:pt x="0" y="257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2280" y="3397320"/>
            <a:ext cx="3522600" cy="487440"/>
          </a:xfrm>
          <a:custGeom>
            <a:avLst/>
            <a:gdLst/>
            <a:ahLst/>
            <a:rect l="l" t="t" r="r" b="b"/>
            <a:pathLst>
              <a:path w="2112" h="330">
                <a:moveTo>
                  <a:pt x="0" y="247"/>
                </a:moveTo>
                <a:lnTo>
                  <a:pt x="643" y="0"/>
                </a:lnTo>
                <a:lnTo>
                  <a:pt x="1714" y="40"/>
                </a:lnTo>
                <a:lnTo>
                  <a:pt x="2112" y="330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05680" y="3065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504240" y="3137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52600" y="3641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37320" y="3568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43400" y="13366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157640" y="18414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61280" y="205740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47160" y="23432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1280" y="15526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127320" y="2463840"/>
            <a:ext cx="3240" cy="1755720"/>
          </a:xfrm>
          <a:custGeom>
            <a:avLst/>
            <a:gdLst/>
            <a:ahLst/>
            <a:rect l="l" t="t" r="r" b="b"/>
            <a:pathLst>
              <a:path w="2" h="1190">
                <a:moveTo>
                  <a:pt x="0" y="0"/>
                </a:moveTo>
                <a:lnTo>
                  <a:pt x="2" y="1190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194000" y="2124000"/>
            <a:ext cx="14400" cy="1754280"/>
          </a:xfrm>
          <a:custGeom>
            <a:avLst/>
            <a:gdLst/>
            <a:ahLst/>
            <a:rect l="l" t="t" r="r" b="b"/>
            <a:pathLst>
              <a:path w="8" h="1188">
                <a:moveTo>
                  <a:pt x="0" y="0"/>
                </a:moveTo>
                <a:lnTo>
                  <a:pt x="8" y="1188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317600" y="2416320"/>
            <a:ext cx="0" cy="1749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240" y="2008080"/>
            <a:ext cx="1800" cy="1760760"/>
          </a:xfrm>
          <a:custGeom>
            <a:avLst/>
            <a:gdLst/>
            <a:ahLst/>
            <a:rect l="l" t="t" r="r" b="b"/>
            <a:pathLst>
              <a:path w="1" h="1193">
                <a:moveTo>
                  <a:pt x="0" y="0"/>
                </a:moveTo>
                <a:lnTo>
                  <a:pt x="0" y="1193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54280" y="1647720"/>
            <a:ext cx="0" cy="174960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41680" y="1677960"/>
            <a:ext cx="0" cy="174780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93720" y="3768840"/>
            <a:ext cx="625320" cy="404640"/>
          </a:xfrm>
          <a:custGeom>
            <a:avLst/>
            <a:gdLst/>
            <a:ahLst/>
            <a:rect l="l" t="t" r="r" b="b"/>
            <a:pathLst>
              <a:path w="375" h="274">
                <a:moveTo>
                  <a:pt x="375" y="274"/>
                </a:move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9920" y="3881520"/>
            <a:ext cx="1071720" cy="338040"/>
          </a:xfrm>
          <a:custGeom>
            <a:avLst/>
            <a:gdLst/>
            <a:ahLst/>
            <a:rect l="l" t="t" r="r" b="b"/>
            <a:pathLst>
              <a:path w="642" h="230">
                <a:moveTo>
                  <a:pt x="0" y="230"/>
                </a:moveTo>
                <a:lnTo>
                  <a:pt x="64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2000" y="4178160"/>
            <a:ext cx="1789200" cy="47880"/>
          </a:xfrm>
          <a:custGeom>
            <a:avLst/>
            <a:gdLst/>
            <a:ahLst/>
            <a:rect l="l" t="t" r="r" b="b"/>
            <a:pathLst>
              <a:path w="1072" h="32">
                <a:moveTo>
                  <a:pt x="0" y="0"/>
                </a:moveTo>
                <a:lnTo>
                  <a:pt x="1072" y="32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14440" y="1265400"/>
            <a:ext cx="45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00600" y="4145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7800" y="4149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611280" y="4149720"/>
            <a:ext cx="720720" cy="287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35280" y="4076640"/>
            <a:ext cx="57492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340000" y="1341360"/>
            <a:ext cx="0" cy="115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1332000" y="3789360"/>
            <a:ext cx="1008000" cy="360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340000" y="3789360"/>
            <a:ext cx="1295280" cy="287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2340000" y="2420640"/>
            <a:ext cx="0" cy="1368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97964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340000" y="119700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Verdana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140360" y="407664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Verdan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8360" y="436572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Verdan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1332000" y="1700280"/>
            <a:ext cx="2232000" cy="7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332000" y="2421000"/>
            <a:ext cx="1800000" cy="180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132000" y="3860280"/>
            <a:ext cx="107964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64000" y="1700280"/>
            <a:ext cx="647640" cy="216036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716360" y="9079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ведем систему координат и найдем координаты точ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79520" y="3713040"/>
            <a:ext cx="14472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3645000"/>
            <a:ext cx="14436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643280" y="1557360"/>
          <a:ext cx="432144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557360"/>
                    <a:ext cx="43214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3429000" y="278136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7813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4572000" y="2205000"/>
          <a:ext cx="244800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205000"/>
                    <a:ext cx="24480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7018200" y="2205000"/>
            <a:ext cx="212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авнение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27640" y="2565360"/>
            <a:ext cx="3743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ставим координаты точе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, E, 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урав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500720" y="3141720"/>
          <a:ext cx="4643280" cy="187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3141720"/>
                    <a:ext cx="464328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4716360" y="5013360"/>
            <a:ext cx="212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авнение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6877080" y="5013360"/>
          <a:ext cx="2087640" cy="45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5013360"/>
                    <a:ext cx="20876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395280" y="5300640"/>
          <a:ext cx="5545080" cy="1309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5300640"/>
                    <a:ext cx="554508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7164360" y="61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Verdan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8172360" y="6021360"/>
          <a:ext cx="720720" cy="654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72360" y="6021360"/>
                    <a:ext cx="72072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8567640" y="260280"/>
            <a:ext cx="576360" cy="40500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0731" h="21600">
                <a:moveTo>
                  <a:pt x="0" y="0"/>
                </a:moveTo>
                <a:lnTo>
                  <a:pt x="30731" y="0"/>
                </a:lnTo>
                <a:lnTo>
                  <a:pt x="30731" y="21600"/>
                </a:lnTo>
                <a:lnTo>
                  <a:pt x="0" y="21600"/>
                </a:lnTo>
                <a:close/>
              </a:path>
              <a:path fill="lightenLess" w="30731" h="21600">
                <a:moveTo>
                  <a:pt x="0" y="0"/>
                </a:moveTo>
                <a:lnTo>
                  <a:pt x="30731" y="0"/>
                </a:lnTo>
                <a:lnTo>
                  <a:pt x="29331" y="1400"/>
                </a:lnTo>
                <a:lnTo>
                  <a:pt x="1400" y="1400"/>
                </a:lnTo>
                <a:close/>
              </a:path>
              <a:path fill="darken" w="30731" h="21600">
                <a:moveTo>
                  <a:pt x="30731" y="0"/>
                </a:moveTo>
                <a:lnTo>
                  <a:pt x="30731" y="21600"/>
                </a:lnTo>
                <a:lnTo>
                  <a:pt x="29331" y="20200"/>
                </a:lnTo>
                <a:lnTo>
                  <a:pt x="29331" y="1400"/>
                </a:lnTo>
                <a:close/>
              </a:path>
              <a:path fill="darkenLess" w="30731" h="21600">
                <a:moveTo>
                  <a:pt x="3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1" y="20200"/>
                </a:lnTo>
                <a:close/>
              </a:path>
              <a:path fill="lighten" w="3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1" h="21600">
                <a:moveTo>
                  <a:pt x="11867" y="10800"/>
                </a:moveTo>
                <a:lnTo>
                  <a:pt x="22372" y="3794"/>
                </a:lnTo>
                <a:lnTo>
                  <a:pt x="22372" y="17806"/>
                </a:lnTo>
                <a:close/>
              </a:path>
              <a:path fill="darken" w="30731" h="21600">
                <a:moveTo>
                  <a:pt x="8359" y="3794"/>
                </a:moveTo>
                <a:lnTo>
                  <a:pt x="10021" y="3794"/>
                </a:lnTo>
                <a:lnTo>
                  <a:pt x="10021" y="17806"/>
                </a:lnTo>
                <a:lnTo>
                  <a:pt x="835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61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462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467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470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468360" y="260280"/>
            <a:ext cx="8137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Ребро куба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ABCDA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B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C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D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равно а. Найти расстояние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                           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от точки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C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до плоскости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BDC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8531400">
            <a:off x="1907640" y="2565000"/>
            <a:ext cx="1959120" cy="679320"/>
          </a:xfrm>
          <a:custGeom>
            <a:avLst/>
            <a:gdLst/>
            <a:ahLst/>
            <a:rect l="l" t="t" r="r" b="b"/>
            <a:pathLst>
              <a:path w="664" h="2016">
                <a:moveTo>
                  <a:pt x="664" y="0"/>
                </a:moveTo>
                <a:lnTo>
                  <a:pt x="576" y="2016"/>
                </a:lnTo>
                <a:lnTo>
                  <a:pt x="0" y="2008"/>
                </a:lnTo>
                <a:lnTo>
                  <a:pt x="664" y="0"/>
                </a:lnTo>
                <a:close/>
              </a:path>
            </a:pathLst>
          </a:custGeom>
          <a:solidFill>
            <a:srgbClr val="33cc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700360" y="2852640"/>
            <a:ext cx="73080" cy="73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84160" y="334800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2301840" y="353376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884160" y="302112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36600" y="302112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301840" y="2324160"/>
            <a:ext cx="0" cy="1536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136600" y="148392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884160" y="181080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84160" y="1811160"/>
            <a:ext cx="1417680" cy="513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36600" y="148428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301840" y="1996560"/>
            <a:ext cx="1252440" cy="327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884160" y="148428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136600" y="1996560"/>
            <a:ext cx="1417680" cy="1024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301840" y="1996560"/>
            <a:ext cx="1252440" cy="186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136600" y="3021120"/>
            <a:ext cx="165240" cy="839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84160" y="3348000"/>
            <a:ext cx="2670120" cy="185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2219400" y="1996560"/>
            <a:ext cx="1334880" cy="144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2700360" y="2852640"/>
            <a:ext cx="853920" cy="6811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052720" y="386064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348000" y="350028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801800" y="270972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0800" y="321300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68360" y="148428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886040" y="112536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70400" y="162864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136600" y="1917720"/>
            <a:ext cx="58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554280" y="199656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492360" y="342900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411280" y="2637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908000" y="3357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51280" y="1413000"/>
            <a:ext cx="51483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сстояние х равно высот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опущенной в пирамид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D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 вершины С на основани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124000" y="335772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3995640" y="2349360"/>
          <a:ext cx="453708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349360"/>
                    <a:ext cx="453708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3924360" y="3573360"/>
          <a:ext cx="49212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9212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>
            <a:off x="4067280" y="3213000"/>
            <a:ext cx="432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сторон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95280" y="4797360"/>
            <a:ext cx="489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лучаем урав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4932360" y="4508640"/>
          <a:ext cx="3672000" cy="87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4508640"/>
                    <a:ext cx="367200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6804000" y="61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Verdan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7885080" y="5877000"/>
          <a:ext cx="941400" cy="87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85080" y="5877000"/>
                    <a:ext cx="94140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8640720" y="260280"/>
            <a:ext cx="503280" cy="40500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837" h="21600">
                <a:moveTo>
                  <a:pt x="0" y="0"/>
                </a:moveTo>
                <a:lnTo>
                  <a:pt x="26837" y="0"/>
                </a:lnTo>
                <a:lnTo>
                  <a:pt x="26837" y="21600"/>
                </a:lnTo>
                <a:lnTo>
                  <a:pt x="0" y="21600"/>
                </a:lnTo>
                <a:close/>
              </a:path>
              <a:path fill="lightenLess" w="26837" h="21600">
                <a:moveTo>
                  <a:pt x="0" y="0"/>
                </a:moveTo>
                <a:lnTo>
                  <a:pt x="26837" y="0"/>
                </a:lnTo>
                <a:lnTo>
                  <a:pt x="25437" y="1400"/>
                </a:lnTo>
                <a:lnTo>
                  <a:pt x="1400" y="1400"/>
                </a:lnTo>
                <a:close/>
              </a:path>
              <a:path fill="darken" w="26837" h="21600">
                <a:moveTo>
                  <a:pt x="26837" y="0"/>
                </a:moveTo>
                <a:lnTo>
                  <a:pt x="26837" y="21600"/>
                </a:lnTo>
                <a:lnTo>
                  <a:pt x="25437" y="20200"/>
                </a:lnTo>
                <a:lnTo>
                  <a:pt x="25437" y="1400"/>
                </a:lnTo>
                <a:close/>
              </a:path>
              <a:path fill="darkenLess" w="26837" h="21600">
                <a:moveTo>
                  <a:pt x="2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37" y="20200"/>
                </a:lnTo>
                <a:close/>
              </a:path>
              <a:path fill="lighten" w="2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37" h="21600">
                <a:moveTo>
                  <a:pt x="9920" y="10800"/>
                </a:moveTo>
                <a:lnTo>
                  <a:pt x="20425" y="3794"/>
                </a:lnTo>
                <a:lnTo>
                  <a:pt x="20425" y="17806"/>
                </a:lnTo>
                <a:close/>
              </a:path>
              <a:path fill="darken" w="26837" h="21600">
                <a:moveTo>
                  <a:pt x="6412" y="3794"/>
                </a:moveTo>
                <a:lnTo>
                  <a:pt x="8074" y="3794"/>
                </a:lnTo>
                <a:lnTo>
                  <a:pt x="8074" y="17806"/>
                </a:lnTo>
                <a:lnTo>
                  <a:pt x="641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7:20:56Z</dcterms:created>
  <dc:creator>Admin</dc:creator>
  <dc:description/>
  <dc:language>en-US</dc:language>
  <cp:lastModifiedBy>Admin</cp:lastModifiedBy>
  <dcterms:modified xsi:type="dcterms:W3CDTF">2013-02-15T12:49:16Z</dcterms:modified>
  <cp:revision>5</cp:revision>
  <dc:subject/>
  <dc:title>Слайд 1</dc:title>
</cp:coreProperties>
</file>