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9D1-8968-4E58-8AE5-D75894AD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F85-562C-4952-BA0C-AA5A37A2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E8A-E623-4F2B-9AC8-3B04E14D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D12-C94C-464B-8CB5-0436779C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970-9108-4B2C-8BA4-E1EDCD96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6873-EB09-4105-AD15-BF002F5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A4B-8294-4A21-A586-C2FF5A42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B44-2AFF-4AC2-BAB7-A6B2408D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1CC-D4E6-49E4-951C-F1D924C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13F6-3A41-4EDA-86DA-9FF2138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15ED-8E13-4849-A36A-7B61507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A55-892D-4CC8-93F7-8A5A372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95E-3A77-4B55-8200-7A87CA6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EA9A-FB54-4F06-97A1-ACA63AE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33D-BE61-47D9-BD42-295C11F6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7CA3-1367-45C3-A1F9-18873FC9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5199-E134-4D54-96E8-BFD3D262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3CB-C863-4002-A07F-980E7E48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4D5-F828-4495-B675-8DD150A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A59-5F07-41FD-A311-F5F1E757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5B7-8F07-41C2-BF33-7D1BA5C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E34-6797-49ED-9527-9BF45CF5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14F-0EC1-4765-B08F-60B1288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80B-DB42-4C69-883B-3454A8AB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956-6055-4C2E-9CD0-F3426C43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41A-9BFE-4DC6-B0E8-0A4CDF7D8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егко ли быть молоды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3239"/>
          <p:cNvPicPr/>
          <p:nvPr/>
        </p:nvPicPr>
        <p:blipFill>
          <a:blip r:embed="rId1"/>
          <a:stretch/>
        </p:blipFill>
        <p:spPr>
          <a:xfrm>
            <a:off x="3114720" y="2828880"/>
            <a:ext cx="253980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pruchini"/>
          <p:cNvPicPr/>
          <p:nvPr/>
        </p:nvPicPr>
        <p:blipFill>
          <a:blip r:embed="rId1"/>
          <a:stretch/>
        </p:blipFill>
        <p:spPr>
          <a:xfrm>
            <a:off x="3352680" y="2752560"/>
            <a:ext cx="2362320" cy="181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5580000" y="260280"/>
            <a:ext cx="230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о не живет, что в каменных гробах,  Вдыхает мрак, а выдыхает страх...Над чем не властен тлен, то не живо. Смерть, ожидает смерть, скорей всего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Н.Р.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ovecraft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971640" y="981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старос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ы механизмы старен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picture"/>
          <p:cNvPicPr/>
          <p:nvPr/>
        </p:nvPicPr>
        <p:blipFill>
          <a:blip r:embed="rId1"/>
          <a:stretch/>
        </p:blipFill>
        <p:spPr>
          <a:xfrm>
            <a:off x="1116000" y="1989000"/>
            <a:ext cx="2793960" cy="218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imageg"/>
          <p:cNvPicPr/>
          <p:nvPr/>
        </p:nvPicPr>
        <p:blipFill>
          <a:blip r:embed="rId2"/>
          <a:stretch/>
        </p:blipFill>
        <p:spPr>
          <a:xfrm>
            <a:off x="4427640" y="3213000"/>
            <a:ext cx="22860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и что влияет на механизмы стар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ssss"/>
          <p:cNvPicPr/>
          <p:nvPr/>
        </p:nvPicPr>
        <p:blipFill>
          <a:blip r:embed="rId1"/>
          <a:stretch/>
        </p:blipFill>
        <p:spPr>
          <a:xfrm>
            <a:off x="4427640" y="2924280"/>
            <a:ext cx="2666880" cy="2124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716360" y="476280"/>
            <a:ext cx="280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ногие вещи непонятны нам не потому, что наши понятия слабы, но потому, что сии вещи не входят в круг наших понят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зьма Прутков. Плоды раздумь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mask"/>
          <p:cNvPicPr/>
          <p:nvPr/>
        </p:nvPicPr>
        <p:blipFill>
          <a:blip r:embed="rId1"/>
          <a:stretch/>
        </p:blipFill>
        <p:spPr>
          <a:xfrm>
            <a:off x="900000" y="260280"/>
            <a:ext cx="224784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843280" y="3716280"/>
          <a:ext cx="5610240" cy="3641760"/>
        </p:xfrm>
        <a:graphic>
          <a:graphicData uri="http://schemas.openxmlformats.org/drawingml/2006/table">
            <a:tbl>
              <a:tblPr/>
              <a:tblGrid>
                <a:gridCol w="5610240"/>
              </a:tblGrid>
              <a:tr h="36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6"/>
          <p:cNvSpPr/>
          <p:nvPr/>
        </p:nvSpPr>
        <p:spPr>
          <a:xfrm>
            <a:off x="3132000" y="2852640"/>
            <a:ext cx="53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ует ли ген долголет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40640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...Уж если медь, гранит, земля и мор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 устоят, когда придет им срок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к может уцелеть, со смертью споря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раса твоя — беспомощный цветок? 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. Шекспи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ксиданты- помощники или враг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razdum2"/>
          <p:cNvPicPr/>
          <p:nvPr/>
        </p:nvPicPr>
        <p:blipFill>
          <a:blip r:embed="rId1"/>
          <a:stretch/>
        </p:blipFill>
        <p:spPr>
          <a:xfrm>
            <a:off x="5651640" y="1197000"/>
            <a:ext cx="18856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tarost3"/>
          <p:cNvPicPr/>
          <p:nvPr/>
        </p:nvPicPr>
        <p:blipFill>
          <a:blip r:embed="rId2"/>
          <a:stretch/>
        </p:blipFill>
        <p:spPr>
          <a:xfrm>
            <a:off x="3203640" y="34290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loning2"/>
          <p:cNvPicPr/>
          <p:nvPr/>
        </p:nvPicPr>
        <p:blipFill>
          <a:blip r:embed="rId3"/>
          <a:stretch/>
        </p:blipFill>
        <p:spPr>
          <a:xfrm>
            <a:off x="179280" y="1773360"/>
            <a:ext cx="2028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79640" y="0"/>
            <a:ext cx="38480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ест мало, тот живет долго, ибо ножом и вилкой роем мы могилу себ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/ф "Формула любви" (Граф Колиостро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правильно 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macbaba"/>
          <p:cNvPicPr/>
          <p:nvPr/>
        </p:nvPicPr>
        <p:blipFill>
          <a:blip r:embed="rId1"/>
          <a:stretch/>
        </p:blipFill>
        <p:spPr>
          <a:xfrm>
            <a:off x="684360" y="260280"/>
            <a:ext cx="1714320" cy="313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obgor"/>
          <p:cNvPicPr/>
          <p:nvPr/>
        </p:nvPicPr>
        <p:blipFill>
          <a:blip r:embed="rId2"/>
          <a:stretch/>
        </p:blipFill>
        <p:spPr>
          <a:xfrm>
            <a:off x="3419640" y="3645000"/>
            <a:ext cx="2085840" cy="1628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al"/>
          <p:cNvPicPr/>
          <p:nvPr/>
        </p:nvPicPr>
        <p:blipFill>
          <a:blip r:embed="rId3"/>
          <a:stretch/>
        </p:blipFill>
        <p:spPr>
          <a:xfrm>
            <a:off x="5867280" y="494172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327168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есс — сильный и частый — это верный способ разрушить свой организм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stress"/>
          <p:cNvPicPr/>
          <p:nvPr/>
        </p:nvPicPr>
        <p:blipFill>
          <a:blip r:embed="rId1"/>
          <a:stretch/>
        </p:blipFill>
        <p:spPr>
          <a:xfrm>
            <a:off x="971640" y="177336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гут ли эти знания пригодиться нам жизн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6546960" cy="2128680"/>
          </a:xfrm>
          <a:prstGeom prst="rect">
            <a:avLst/>
          </a:prstGeom>
          <a:solidFill>
            <a:srgbClr val="00b2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и многие другие вопросы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аст ответ наш проек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елаю успеха и твор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1:19:26Z</dcterms:created>
  <dc:creator>XXX</dc:creator>
  <dc:description/>
  <dc:language>en-US</dc:language>
  <cp:lastModifiedBy>Customer</cp:lastModifiedBy>
  <dcterms:modified xsi:type="dcterms:W3CDTF">2009-09-16T08:36:22Z</dcterms:modified>
  <cp:revision>4</cp:revision>
  <dc:subject/>
  <dc:title>Легко ли быть молодым?</dc:title>
</cp:coreProperties>
</file>