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1F0-9F20-4CAF-AFA9-6E0D4B52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7A3-0975-4F44-A71C-9093F007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D51-CA00-44E4-938A-57765DBF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9D3-170C-4C02-9014-37AF8B1B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DE2B-4695-4E6A-9CE1-18388EDC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7711-310B-46D0-96EF-70B84543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99F4-F923-4074-9BB1-F9BE29D4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32A7-A0FC-4AF9-AF70-CC485C88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4295-0043-4E81-8204-759EFF61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49ED-0F9F-4B54-943A-B7118175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7489-BEAC-4FA9-AF91-CFA874F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E69-76CA-4E9B-9AA3-ED8047E3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90A-7B89-4921-86CF-F373317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A9F8-1CB7-4B88-973F-C94E8B7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D60C-B1D9-4CCC-81E7-E3C67F12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7BEE-94AD-47DB-9377-03B6EE98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BD2-DDDD-4D01-8C9D-35CBC190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F85-80E5-4DF2-BC69-E4476AB5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065-23AF-4EA9-8095-99BB21CD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F40-C700-4508-A582-5304AEC5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10A-D60F-4755-BFD3-CC44021C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78E-4139-4FBB-886F-73B2957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66C-98D1-4F14-9479-7EA0154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294-4F27-4BF8-B208-EA622CE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79FA-64E6-414F-80D3-CEEEE342B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2225-E3E6-40AC-A6E3-E0ACC9CFB7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егко ли быть молоды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3239"/>
          <p:cNvPicPr/>
          <p:nvPr/>
        </p:nvPicPr>
        <p:blipFill>
          <a:blip r:embed="rId1"/>
          <a:stretch/>
        </p:blipFill>
        <p:spPr>
          <a:xfrm>
            <a:off x="3114720" y="2828880"/>
            <a:ext cx="253980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pruchini"/>
          <p:cNvPicPr/>
          <p:nvPr/>
        </p:nvPicPr>
        <p:blipFill>
          <a:blip r:embed="rId1"/>
          <a:stretch/>
        </p:blipFill>
        <p:spPr>
          <a:xfrm>
            <a:off x="3352680" y="2752560"/>
            <a:ext cx="2362320" cy="1810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5580000" y="260280"/>
            <a:ext cx="230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То не живет, что в каменных гробах,  Вдыхает мрак, а выдыхает страх...Над чем не властен тлен, то не живо. Смерть, ожидает смерть, скорей всего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Н.Р.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ovecraft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971640" y="981000"/>
            <a:ext cx="41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старос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вы механизмы старени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picture"/>
          <p:cNvPicPr/>
          <p:nvPr/>
        </p:nvPicPr>
        <p:blipFill>
          <a:blip r:embed="rId1"/>
          <a:stretch/>
        </p:blipFill>
        <p:spPr>
          <a:xfrm>
            <a:off x="1116000" y="1989000"/>
            <a:ext cx="2793960" cy="2184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imageg"/>
          <p:cNvPicPr/>
          <p:nvPr/>
        </p:nvPicPr>
        <p:blipFill>
          <a:blip r:embed="rId2"/>
          <a:stretch/>
        </p:blipFill>
        <p:spPr>
          <a:xfrm>
            <a:off x="4427640" y="3213000"/>
            <a:ext cx="22860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и что влияет на механизмы старе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sssss"/>
          <p:cNvPicPr/>
          <p:nvPr/>
        </p:nvPicPr>
        <p:blipFill>
          <a:blip r:embed="rId1"/>
          <a:stretch/>
        </p:blipFill>
        <p:spPr>
          <a:xfrm>
            <a:off x="4427640" y="2924280"/>
            <a:ext cx="2666880" cy="2124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4716360" y="476280"/>
            <a:ext cx="280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Многие вещи непонятны нам не потому, что наши понятия слабы, но потому, что сии вещи не входят в круг наших понят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зьма Прутков. Плоды раздумь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mask"/>
          <p:cNvPicPr/>
          <p:nvPr/>
        </p:nvPicPr>
        <p:blipFill>
          <a:blip r:embed="rId1"/>
          <a:stretch/>
        </p:blipFill>
        <p:spPr>
          <a:xfrm>
            <a:off x="900000" y="260280"/>
            <a:ext cx="224784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843280" y="3716280"/>
          <a:ext cx="5610240" cy="3641760"/>
        </p:xfrm>
        <a:graphic>
          <a:graphicData uri="http://schemas.openxmlformats.org/drawingml/2006/table">
            <a:tbl>
              <a:tblPr/>
              <a:tblGrid>
                <a:gridCol w="5610240"/>
              </a:tblGrid>
              <a:tr h="364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16"/>
          <p:cNvSpPr/>
          <p:nvPr/>
        </p:nvSpPr>
        <p:spPr>
          <a:xfrm>
            <a:off x="3132000" y="2852640"/>
            <a:ext cx="53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ществует ли ген долголет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92000" y="549360"/>
            <a:ext cx="40640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...Уж если медь, гранит, земля и мор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е устоят, когда придет им срок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ак может уцелеть, со смертью споря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раса твоя — беспомощный цветок? </a:t>
            </a:r>
            <a:br>
              <a:rPr sz="1400"/>
            </a:br>
            <a:br>
              <a:rPr sz="14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. Шекспи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ксиданты- помощники или враг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razdum2"/>
          <p:cNvPicPr/>
          <p:nvPr/>
        </p:nvPicPr>
        <p:blipFill>
          <a:blip r:embed="rId1"/>
          <a:stretch/>
        </p:blipFill>
        <p:spPr>
          <a:xfrm>
            <a:off x="5651640" y="1197000"/>
            <a:ext cx="1885680" cy="285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tarost3"/>
          <p:cNvPicPr/>
          <p:nvPr/>
        </p:nvPicPr>
        <p:blipFill>
          <a:blip r:embed="rId2"/>
          <a:stretch/>
        </p:blipFill>
        <p:spPr>
          <a:xfrm>
            <a:off x="3203640" y="342900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loning2"/>
          <p:cNvPicPr/>
          <p:nvPr/>
        </p:nvPicPr>
        <p:blipFill>
          <a:blip r:embed="rId3"/>
          <a:stretch/>
        </p:blipFill>
        <p:spPr>
          <a:xfrm>
            <a:off x="179280" y="1773360"/>
            <a:ext cx="20289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79640" y="0"/>
            <a:ext cx="38480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то ест мало, тот живет долго, ибо ножом и вилкой роем мы могилу себе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/ф "Формула любви" (Граф Колиостро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правильно 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macbaba"/>
          <p:cNvPicPr/>
          <p:nvPr/>
        </p:nvPicPr>
        <p:blipFill>
          <a:blip r:embed="rId1"/>
          <a:stretch/>
        </p:blipFill>
        <p:spPr>
          <a:xfrm>
            <a:off x="684360" y="260280"/>
            <a:ext cx="1714320" cy="3133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obgor"/>
          <p:cNvPicPr/>
          <p:nvPr/>
        </p:nvPicPr>
        <p:blipFill>
          <a:blip r:embed="rId2"/>
          <a:stretch/>
        </p:blipFill>
        <p:spPr>
          <a:xfrm>
            <a:off x="3419640" y="3645000"/>
            <a:ext cx="2085840" cy="1628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mal"/>
          <p:cNvPicPr/>
          <p:nvPr/>
        </p:nvPicPr>
        <p:blipFill>
          <a:blip r:embed="rId3"/>
          <a:stretch/>
        </p:blipFill>
        <p:spPr>
          <a:xfrm>
            <a:off x="5867280" y="494172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327168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ресс — сильный и частый — это верный способ разрушить свой организм!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stress"/>
          <p:cNvPicPr/>
          <p:nvPr/>
        </p:nvPicPr>
        <p:blipFill>
          <a:blip r:embed="rId1"/>
          <a:stretch/>
        </p:blipFill>
        <p:spPr>
          <a:xfrm>
            <a:off x="971640" y="1773360"/>
            <a:ext cx="2286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гут ли эти знания пригодиться нам жизн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6546960" cy="2128680"/>
          </a:xfrm>
          <a:prstGeom prst="rect">
            <a:avLst/>
          </a:prstGeom>
          <a:solidFill>
            <a:srgbClr val="00b2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эти многие другие вопросы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даст ответ наш проек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елаю успеха и творче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1:19:26Z</dcterms:created>
  <dc:creator>XXX</dc:creator>
  <dc:description/>
  <dc:language>en-US</dc:language>
  <cp:lastModifiedBy>Customer</cp:lastModifiedBy>
  <dcterms:modified xsi:type="dcterms:W3CDTF">2009-09-16T08:36:22Z</dcterms:modified>
  <cp:revision>4</cp:revision>
  <dc:subject/>
  <dc:title>Легко ли быть молодым?</dc:title>
</cp:coreProperties>
</file>