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F05-AAFE-4CDB-BE0A-2CA20284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B02-2514-417E-B0D4-482A709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23D-7E4F-4E74-A0F6-380CA6E7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382-DBA6-4AF2-A7E6-080868DD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2BC-E610-4A14-89B8-810E7AE6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E98A-058A-44C4-AA95-AFBB5DB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A0A-6BBD-4234-9C6E-1EE8930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704-3D84-4EBF-B127-FC15488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C22C-441F-4117-8EFF-A571998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87CF-7A2C-4DA4-9CF5-124D5F0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E18-9975-4F2F-B27E-86742D8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B8D-B78E-4264-AC69-BB83784C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FA62-0016-4AD2-8156-71B773A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552F-B39F-40F9-AA03-5D0453E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A040-5A2C-4D4C-9C4D-ED4A910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886-4FF6-4B2F-BC1A-2AE3B634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0053-8EA3-4BB6-9486-DE9FC336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9CC-BA5D-46F4-B8C9-D76491C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8BF-15B5-4C53-A268-918737A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301-C828-46D8-9767-6308A24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794-3916-4C32-A5B7-1DFCFE2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328-E182-480E-A76C-7999D7A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9F9-8E21-4CA2-A0B0-4C83A54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ECA-4063-4F3B-9188-6B8361B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41A-4A99-468D-8B2B-C73AD162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68B0-1569-44AC-82C1-372E2EC51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егко ли быть молоды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3239"/>
          <p:cNvPicPr/>
          <p:nvPr/>
        </p:nvPicPr>
        <p:blipFill>
          <a:blip r:embed="rId1"/>
          <a:stretch/>
        </p:blipFill>
        <p:spPr>
          <a:xfrm>
            <a:off x="3114720" y="2828880"/>
            <a:ext cx="253980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pruchini"/>
          <p:cNvPicPr/>
          <p:nvPr/>
        </p:nvPicPr>
        <p:blipFill>
          <a:blip r:embed="rId1"/>
          <a:stretch/>
        </p:blipFill>
        <p:spPr>
          <a:xfrm>
            <a:off x="3352680" y="2752560"/>
            <a:ext cx="2362320" cy="181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5580000" y="260280"/>
            <a:ext cx="230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о не живет, что в каменных гробах,  Вдыхает мрак, а выдыхает страх...Над чем не властен тлен, то не живо. Смерть, ожидает смерть, скорей всего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Н.Р.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ovecraft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971640" y="981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старос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ы механизмы старен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picture"/>
          <p:cNvPicPr/>
          <p:nvPr/>
        </p:nvPicPr>
        <p:blipFill>
          <a:blip r:embed="rId1"/>
          <a:stretch/>
        </p:blipFill>
        <p:spPr>
          <a:xfrm>
            <a:off x="1116000" y="1989000"/>
            <a:ext cx="2793960" cy="218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imageg"/>
          <p:cNvPicPr/>
          <p:nvPr/>
        </p:nvPicPr>
        <p:blipFill>
          <a:blip r:embed="rId2"/>
          <a:stretch/>
        </p:blipFill>
        <p:spPr>
          <a:xfrm>
            <a:off x="4427640" y="3213000"/>
            <a:ext cx="22860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и что влияет на механизмы стар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ssss"/>
          <p:cNvPicPr/>
          <p:nvPr/>
        </p:nvPicPr>
        <p:blipFill>
          <a:blip r:embed="rId1"/>
          <a:stretch/>
        </p:blipFill>
        <p:spPr>
          <a:xfrm>
            <a:off x="4427640" y="2924280"/>
            <a:ext cx="2666880" cy="2124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716360" y="476280"/>
            <a:ext cx="280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ногие вещи непонятны нам не потому, что наши понятия слабы, но потому, что сии вещи не входят в круг наших понят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зьма Прутков. Плоды раздумь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mask"/>
          <p:cNvPicPr/>
          <p:nvPr/>
        </p:nvPicPr>
        <p:blipFill>
          <a:blip r:embed="rId1"/>
          <a:stretch/>
        </p:blipFill>
        <p:spPr>
          <a:xfrm>
            <a:off x="900000" y="260280"/>
            <a:ext cx="224784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843280" y="3716280"/>
          <a:ext cx="5610240" cy="3641760"/>
        </p:xfrm>
        <a:graphic>
          <a:graphicData uri="http://schemas.openxmlformats.org/drawingml/2006/table">
            <a:tbl>
              <a:tblPr/>
              <a:tblGrid>
                <a:gridCol w="5610240"/>
              </a:tblGrid>
              <a:tr h="36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6"/>
          <p:cNvSpPr/>
          <p:nvPr/>
        </p:nvSpPr>
        <p:spPr>
          <a:xfrm>
            <a:off x="3132000" y="2852640"/>
            <a:ext cx="53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ует ли ген долголет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40640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...Уж если медь, гранит, земля и мор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 устоят, когда придет им срок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к может уцелеть, со смертью споря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раса твоя — беспомощный цветок? 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. Шекспи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ксиданты- помощники или враг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razdum2"/>
          <p:cNvPicPr/>
          <p:nvPr/>
        </p:nvPicPr>
        <p:blipFill>
          <a:blip r:embed="rId1"/>
          <a:stretch/>
        </p:blipFill>
        <p:spPr>
          <a:xfrm>
            <a:off x="5651640" y="1197000"/>
            <a:ext cx="18856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tarost3"/>
          <p:cNvPicPr/>
          <p:nvPr/>
        </p:nvPicPr>
        <p:blipFill>
          <a:blip r:embed="rId2"/>
          <a:stretch/>
        </p:blipFill>
        <p:spPr>
          <a:xfrm>
            <a:off x="3203640" y="34290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loning2"/>
          <p:cNvPicPr/>
          <p:nvPr/>
        </p:nvPicPr>
        <p:blipFill>
          <a:blip r:embed="rId3"/>
          <a:stretch/>
        </p:blipFill>
        <p:spPr>
          <a:xfrm>
            <a:off x="179280" y="1773360"/>
            <a:ext cx="2028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79640" y="0"/>
            <a:ext cx="38480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ест мало, тот живет долго, ибо ножом и вилкой роем мы могилу себ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/ф "Формула любви" (Граф Колиостро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правильно 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macbaba"/>
          <p:cNvPicPr/>
          <p:nvPr/>
        </p:nvPicPr>
        <p:blipFill>
          <a:blip r:embed="rId1"/>
          <a:stretch/>
        </p:blipFill>
        <p:spPr>
          <a:xfrm>
            <a:off x="684360" y="260280"/>
            <a:ext cx="1714320" cy="313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obgor"/>
          <p:cNvPicPr/>
          <p:nvPr/>
        </p:nvPicPr>
        <p:blipFill>
          <a:blip r:embed="rId2"/>
          <a:stretch/>
        </p:blipFill>
        <p:spPr>
          <a:xfrm>
            <a:off x="3419640" y="3645000"/>
            <a:ext cx="2085840" cy="1628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al"/>
          <p:cNvPicPr/>
          <p:nvPr/>
        </p:nvPicPr>
        <p:blipFill>
          <a:blip r:embed="rId3"/>
          <a:stretch/>
        </p:blipFill>
        <p:spPr>
          <a:xfrm>
            <a:off x="5867280" y="494172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327168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есс — сильный и частый — это верный способ разрушить свой организм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stress"/>
          <p:cNvPicPr/>
          <p:nvPr/>
        </p:nvPicPr>
        <p:blipFill>
          <a:blip r:embed="rId1"/>
          <a:stretch/>
        </p:blipFill>
        <p:spPr>
          <a:xfrm>
            <a:off x="971640" y="177336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гут ли эти знания пригодиться нам жизн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6546960" cy="2128680"/>
          </a:xfrm>
          <a:prstGeom prst="rect">
            <a:avLst/>
          </a:prstGeom>
          <a:solidFill>
            <a:srgbClr val="00b2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и многие другие вопросы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аст ответ наш проек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елаю успеха и твор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1:19:26Z</dcterms:created>
  <dc:creator>XXX</dc:creator>
  <dc:description/>
  <dc:language>en-US</dc:language>
  <cp:lastModifiedBy>Customer</cp:lastModifiedBy>
  <dcterms:modified xsi:type="dcterms:W3CDTF">2009-09-16T08:36:22Z</dcterms:modified>
  <cp:revision>4</cp:revision>
  <dc:subject/>
  <dc:title>Легко ли быть молодым?</dc:title>
</cp:coreProperties>
</file>