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8E7-D6A9-40A7-AABE-9A1DA2E3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7E2-877A-45D4-9B2A-6747E79F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A17-8AD5-4826-9D10-F6CC7015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BBE-7316-4468-BAA2-402DBE04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62A-CC53-4E10-892B-4FFDE3A2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395-D0CA-4915-998F-5E88F318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205-AF85-4C5C-8FD8-2F2A278C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988-F869-4E00-B63E-8D007219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46E-2AC2-47FE-9FFF-7A812D1D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FD2-2E27-4A8E-AD7E-099B8E64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CC4-2A06-45D3-89F3-42A00753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E90-D868-4363-BE03-6972C1F6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2F01-6B73-49B4-84B3-14EB4979C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3816360"/>
          </a:xfrm>
          <a:prstGeom prst="rect">
            <a:avLst/>
          </a:prstGeom>
          <a:solidFill>
            <a:srgbClr val="d9d9d9"/>
          </a:solidFill>
          <a:ln w="381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ИМАТ ЮЖНОЙ АМЕРИКИ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ЮЖНАЯ АМЕРИКА -   САМЫЙ ВЛАЖНЫЙ МАТЕР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ижний колонтитул 2"/>
          <p:cNvSpPr/>
          <p:nvPr/>
        </p:nvSpPr>
        <p:spPr>
          <a:xfrm>
            <a:off x="1979640" y="6381720"/>
            <a:ext cx="5545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Arial"/>
              </a:rPr>
              <a:t>г.Санкт-Петербург  школа№260  учитель  Миронов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979640" y="115920"/>
            <a:ext cx="51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ль-Нинь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63509476076_1.jpg"/>
          <p:cNvPicPr/>
          <p:nvPr/>
        </p:nvPicPr>
        <p:blipFill>
          <a:blip r:embed="rId2"/>
          <a:stretch/>
        </p:blipFill>
        <p:spPr>
          <a:xfrm>
            <a:off x="3635280" y="2997360"/>
            <a:ext cx="5221440" cy="3479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0" name="Скругленный прямоугольник 4"/>
          <p:cNvSpPr/>
          <p:nvPr/>
        </p:nvSpPr>
        <p:spPr>
          <a:xfrm>
            <a:off x="250920" y="1125360"/>
            <a:ext cx="856908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ёплое поверхностное сезонное течение в Тихом океане, у берегов Южной Америки. Появляется раз в три или семь лет после исчезновения холодного течения и существует не менее года. Обычно зарождается в декабре, ближе к рождественским праздникам, откуда название, означающее в перево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ладенец» (подразумевается Иисус Христо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250920" y="2970360"/>
            <a:ext cx="3241440" cy="3554280"/>
          </a:xfrm>
          <a:custGeom>
            <a:avLst/>
            <a:gdLst>
              <a:gd name="textAreaLeft" fmla="*/ 158040 w 3241440"/>
              <a:gd name="textAreaRight" fmla="*/ 3083400 w 3241440"/>
              <a:gd name="textAreaTop" fmla="*/ 158040 h 3554280"/>
              <a:gd name="textAreaBottom" fmla="*/ 3396240 h 3554280"/>
            </a:gdLst>
            <a:ahLst/>
            <a:rect l="textAreaLeft" t="textAreaTop" r="textAreaRight" b="textAreaBottom"/>
            <a:pathLst>
              <a:path w="21600" h="23684">
                <a:moveTo>
                  <a:pt x="3600" y="0"/>
                </a:moveTo>
                <a:arcTo wR="3600" hR="3600" stAng="16200000" swAng="-5400000"/>
                <a:lnTo>
                  <a:pt x="0" y="20084"/>
                </a:lnTo>
                <a:arcTo wR="3600" hR="3600" stAng="10800000" swAng="-5400000"/>
                <a:lnTo>
                  <a:pt x="18000" y="23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на холодных вод на тёплые приводит к обильным осадкам в засушливых областях на побережье Южной Америки, массовой гибели рыб и др. морских организмов, а также птиц, питающихся ими в прибрежных во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43775f1ef6aa00294b699d65763ca466.jpg"/>
          <p:cNvPicPr/>
          <p:nvPr/>
        </p:nvPicPr>
        <p:blipFill>
          <a:blip r:embed="rId1"/>
          <a:stretch/>
        </p:blipFill>
        <p:spPr>
          <a:xfrm>
            <a:off x="900000" y="333360"/>
            <a:ext cx="7523280" cy="624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3" name="Рисунок 2" descr="6661.jpg"/>
          <p:cNvPicPr/>
          <p:nvPr/>
        </p:nvPicPr>
        <p:blipFill>
          <a:blip r:embed="rId2"/>
          <a:stretch/>
        </p:blipFill>
        <p:spPr>
          <a:xfrm>
            <a:off x="324000" y="333360"/>
            <a:ext cx="8597880" cy="626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4" name="TextBox 4"/>
          <p:cNvSpPr/>
          <p:nvPr/>
        </p:nvSpPr>
        <p:spPr>
          <a:xfrm>
            <a:off x="611280" y="404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ь-Нинь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18440" cy="4969080"/>
          </a:xfrm>
          <a:prstGeom prst="rect">
            <a:avLst/>
          </a:prstGeom>
          <a:solidFill>
            <a:srgbClr val="d9d9d9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) эквато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) субэквато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) троп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) субтроп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) умерен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лится по водоразделу Анд на две подобл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морск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на запад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юль +8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ёплая пасмурная), январь +8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лажное, прохладное) осадки - до3000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континентальный (на востоке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юль+8°С(прохладная, малоснежная), январь+16°С(сухое, тепло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Климатическая карта мира"/>
          <p:cNvPicPr/>
          <p:nvPr/>
        </p:nvPicPr>
        <p:blipFill>
          <a:blip r:embed="rId2"/>
          <a:stretch/>
        </p:blipFill>
        <p:spPr>
          <a:xfrm>
            <a:off x="108000" y="115920"/>
            <a:ext cx="1946160" cy="3384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97" name="Скругленный прямоугольник 4"/>
          <p:cNvSpPr/>
          <p:nvPr/>
        </p:nvSpPr>
        <p:spPr>
          <a:xfrm>
            <a:off x="2268360" y="260280"/>
            <a:ext cx="6480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иматические пояса Южной Амер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лиматическая карта мира"/>
          <p:cNvPicPr/>
          <p:nvPr/>
        </p:nvPicPr>
        <p:blipFill>
          <a:blip r:embed="rId2"/>
          <a:stretch/>
        </p:blipFill>
        <p:spPr>
          <a:xfrm>
            <a:off x="2268360" y="333360"/>
            <a:ext cx="5077080" cy="61912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250920" y="3860640"/>
            <a:ext cx="3168720" cy="137376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РСКОЙ УМЕРЕННЫЙ 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 rot="1503600">
            <a:off x="3298320" y="5105520"/>
            <a:ext cx="1930680" cy="288720"/>
          </a:xfrm>
          <a:prstGeom prst="rightArrow">
            <a:avLst>
              <a:gd name="adj1" fmla="val 50000"/>
              <a:gd name="adj2" fmla="val 167176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103640" y="2276640"/>
            <a:ext cx="4716360" cy="947160"/>
          </a:xfrm>
          <a:prstGeom prst="rect">
            <a:avLst/>
          </a:prstGeom>
          <a:solidFill>
            <a:srgbClr val="00ff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ТИТЕНТАЛЬНЫЙ УМЕРЕННЫЙ  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 rot="18452400">
            <a:off x="5039640" y="4111920"/>
            <a:ext cx="2592360" cy="216000"/>
          </a:xfrm>
          <a:prstGeom prst="leftArrow">
            <a:avLst>
              <a:gd name="adj1" fmla="val 50000"/>
              <a:gd name="adj2" fmla="val 300042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95280" y="260280"/>
            <a:ext cx="84978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ы климата умеренного поя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539640" y="1484280"/>
            <a:ext cx="8136000" cy="48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ая мудрость глас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Держи ноги в тепле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а голову в холоде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страна поступает наоборо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жит “ноги “в холодных широ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” в умеренно тёплой пам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“голову “ в жарких тропиках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Климатическая карта мира"/>
          <p:cNvPicPr/>
          <p:nvPr/>
        </p:nvPicPr>
        <p:blipFill>
          <a:blip r:embed="rId1"/>
          <a:stretch/>
        </p:blipFill>
        <p:spPr>
          <a:xfrm>
            <a:off x="539640" y="115920"/>
            <a:ext cx="3767400" cy="655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000000"/>
          <p:cNvPicPr/>
          <p:nvPr/>
        </p:nvPicPr>
        <p:blipFill>
          <a:blip r:embed="rId2"/>
          <a:stretch/>
        </p:blipFill>
        <p:spPr>
          <a:xfrm>
            <a:off x="4859280" y="115920"/>
            <a:ext cx="4033800" cy="6510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 rot="18359400">
            <a:off x="5139720" y="19371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е климатический пояс по климатической диаграм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li1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cli2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cli3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cli4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539640" y="1557360"/>
            <a:ext cx="43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4572000" y="1557360"/>
            <a:ext cx="503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68360" y="4005360"/>
            <a:ext cx="504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572000" y="3933720"/>
            <a:ext cx="576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Южная Америка - самый влажный материк Земл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Южное Чили и Западную Колумбию назыв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окрыми углами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”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Южной Америки. 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сканирование0002"/>
          <p:cNvPicPr/>
          <p:nvPr/>
        </p:nvPicPr>
        <p:blipFill>
          <a:blip r:embed="rId2"/>
          <a:stretch/>
        </p:blipFill>
        <p:spPr>
          <a:xfrm>
            <a:off x="2627280" y="260280"/>
            <a:ext cx="4530600" cy="6308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ый прямоугольник 3"/>
          <p:cNvSpPr/>
          <p:nvPr/>
        </p:nvSpPr>
        <p:spPr>
          <a:xfrm>
            <a:off x="539640" y="1628640"/>
            <a:ext cx="8209080" cy="47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ческая широта,  высота   Солнца над горизон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тмосферное д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стоянные ветра, мусс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движение воздушных мас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течения (тёплые, холодны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релье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подстилающая поверх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5"/>
          <p:cNvSpPr/>
          <p:nvPr/>
        </p:nvSpPr>
        <p:spPr>
          <a:xfrm>
            <a:off x="468360" y="333360"/>
            <a:ext cx="8136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иматообразующие фа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сканирование0002"/>
          <p:cNvPicPr/>
          <p:nvPr/>
        </p:nvPicPr>
        <p:blipFill>
          <a:blip r:embed="rId2"/>
          <a:stretch/>
        </p:blipFill>
        <p:spPr>
          <a:xfrm>
            <a:off x="4284720" y="260280"/>
            <a:ext cx="4530600" cy="6308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250920" y="18900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ияние географического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5"/>
          <p:cNvGrpSpPr/>
          <p:nvPr/>
        </p:nvGrpSpPr>
        <p:grpSpPr>
          <a:xfrm>
            <a:off x="433440" y="249120"/>
            <a:ext cx="8277120" cy="1195560"/>
            <a:chOff x="433440" y="249120"/>
            <a:chExt cx="8277120" cy="1195560"/>
          </a:xfrm>
        </p:grpSpPr>
        <p:pic>
          <p:nvPicPr>
            <p:cNvPr id="51" name="Rectangle 5" descr=""/>
            <p:cNvPicPr/>
            <p:nvPr/>
          </p:nvPicPr>
          <p:blipFill>
            <a:blip r:embed="rId2"/>
            <a:stretch/>
          </p:blipFill>
          <p:spPr>
            <a:xfrm>
              <a:off x="433440" y="249120"/>
              <a:ext cx="82771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айдите по карте  максимальную и минимальную температуру на материке</a:t>
              </a: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2420640"/>
            <a:ext cx="3960720" cy="28796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ая низкая температура           (-33°С ) зафиксирована в Сармьенто (Патаго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сканирование0002"/>
          <p:cNvPicPr/>
          <p:nvPr/>
        </p:nvPicPr>
        <p:blipFill>
          <a:blip r:embed="rId3"/>
          <a:stretch/>
        </p:blipFill>
        <p:spPr>
          <a:xfrm>
            <a:off x="4932360" y="1628640"/>
            <a:ext cx="3386160" cy="47134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55" name="AutoShape 11"/>
          <p:cNvSpPr/>
          <p:nvPr/>
        </p:nvSpPr>
        <p:spPr>
          <a:xfrm>
            <a:off x="3419640" y="5084640"/>
            <a:ext cx="2734920" cy="360360"/>
          </a:xfrm>
          <a:prstGeom prst="rightArrow">
            <a:avLst>
              <a:gd name="adj1" fmla="val 50000"/>
              <a:gd name="adj2" fmla="val 189735"/>
            </a:avLst>
          </a:prstGeom>
          <a:solidFill>
            <a:srgbClr val="ffff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сканирование0002"/>
          <p:cNvPicPr/>
          <p:nvPr/>
        </p:nvPicPr>
        <p:blipFill>
          <a:blip r:embed="rId2"/>
          <a:stretch/>
        </p:blipFill>
        <p:spPr>
          <a:xfrm>
            <a:off x="2340000" y="-27000"/>
            <a:ext cx="5035680" cy="6323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6"/>
          <p:cNvSpPr/>
          <p:nvPr/>
        </p:nvSpPr>
        <p:spPr>
          <a:xfrm rot="19858800">
            <a:off x="9108720" y="-963720"/>
            <a:ext cx="1944720" cy="1152720"/>
          </a:xfrm>
          <a:prstGeom prst="leftArrow">
            <a:avLst>
              <a:gd name="adj1" fmla="val 50000"/>
              <a:gd name="adj2" fmla="val 4217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-В пасс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 rot="1950600">
            <a:off x="9972720" y="5805360"/>
            <a:ext cx="1944720" cy="1224000"/>
          </a:xfrm>
          <a:prstGeom prst="leftArrow">
            <a:avLst>
              <a:gd name="adj1" fmla="val 50000"/>
              <a:gd name="adj2" fmla="val 3972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-В пасс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788000">
            <a:off x="-2197080" y="1628280"/>
            <a:ext cx="2243160" cy="1376640"/>
          </a:xfrm>
          <a:prstGeom prst="rightArrow">
            <a:avLst>
              <a:gd name="adj1" fmla="val 50000"/>
              <a:gd name="adj2" fmla="val 40736"/>
            </a:avLst>
          </a:prstGeom>
          <a:solidFill>
            <a:srgbClr val="99cc00">
              <a:alpha val="8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ад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4211640" y="1341360"/>
            <a:ext cx="6494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4284720" y="3860640"/>
            <a:ext cx="64908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4284720" y="6210360"/>
            <a:ext cx="6490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H="1" flipV="1">
            <a:off x="2556000" y="1773360"/>
            <a:ext cx="720720" cy="79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2556000" y="1196640"/>
            <a:ext cx="720720" cy="57636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-36360" y="47628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ваториальный мус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5"/>
          <p:cNvSpPr/>
          <p:nvPr/>
        </p:nvSpPr>
        <p:spPr>
          <a:xfrm>
            <a:off x="3166920" y="981000"/>
            <a:ext cx="1117800" cy="4969080"/>
          </a:xfrm>
          <a:custGeom>
            <a:avLst/>
            <a:gdLst>
              <a:gd name="textAreaLeft" fmla="*/ 0 w 1117800"/>
              <a:gd name="textAreaRight" fmla="*/ 1118160 w 1117800"/>
              <a:gd name="textAreaTop" fmla="*/ 0 h 4969080"/>
              <a:gd name="textAreaBottom" fmla="*/ 4969440 h 4969080"/>
            </a:gdLst>
            <a:ahLst/>
            <a:rect l="textAreaLeft" t="textAreaTop" r="textAreaRight" b="textAreaBottom"/>
            <a:pathLst>
              <a:path w="704" h="3130">
                <a:moveTo>
                  <a:pt x="159" y="0"/>
                </a:moveTo>
                <a:cubicBezTo>
                  <a:pt x="166" y="60"/>
                  <a:pt x="174" y="121"/>
                  <a:pt x="159" y="181"/>
                </a:cubicBezTo>
                <a:cubicBezTo>
                  <a:pt x="144" y="241"/>
                  <a:pt x="92" y="310"/>
                  <a:pt x="69" y="363"/>
                </a:cubicBezTo>
                <a:cubicBezTo>
                  <a:pt x="46" y="416"/>
                  <a:pt x="31" y="439"/>
                  <a:pt x="23" y="499"/>
                </a:cubicBezTo>
                <a:cubicBezTo>
                  <a:pt x="15" y="559"/>
                  <a:pt x="0" y="651"/>
                  <a:pt x="23" y="726"/>
                </a:cubicBezTo>
                <a:cubicBezTo>
                  <a:pt x="46" y="801"/>
                  <a:pt x="114" y="892"/>
                  <a:pt x="159" y="952"/>
                </a:cubicBezTo>
                <a:cubicBezTo>
                  <a:pt x="204" y="1012"/>
                  <a:pt x="235" y="1035"/>
                  <a:pt x="295" y="1088"/>
                </a:cubicBezTo>
                <a:cubicBezTo>
                  <a:pt x="355" y="1141"/>
                  <a:pt x="469" y="1217"/>
                  <a:pt x="522" y="1270"/>
                </a:cubicBezTo>
                <a:cubicBezTo>
                  <a:pt x="575" y="1323"/>
                  <a:pt x="590" y="1346"/>
                  <a:pt x="613" y="1406"/>
                </a:cubicBezTo>
                <a:cubicBezTo>
                  <a:pt x="636" y="1466"/>
                  <a:pt x="650" y="1542"/>
                  <a:pt x="658" y="1633"/>
                </a:cubicBezTo>
                <a:cubicBezTo>
                  <a:pt x="666" y="1724"/>
                  <a:pt x="665" y="1852"/>
                  <a:pt x="658" y="1950"/>
                </a:cubicBezTo>
                <a:cubicBezTo>
                  <a:pt x="651" y="2048"/>
                  <a:pt x="628" y="2131"/>
                  <a:pt x="613" y="2222"/>
                </a:cubicBezTo>
                <a:cubicBezTo>
                  <a:pt x="598" y="2313"/>
                  <a:pt x="582" y="2404"/>
                  <a:pt x="567" y="2495"/>
                </a:cubicBezTo>
                <a:cubicBezTo>
                  <a:pt x="552" y="2586"/>
                  <a:pt x="514" y="2676"/>
                  <a:pt x="522" y="2767"/>
                </a:cubicBezTo>
                <a:cubicBezTo>
                  <a:pt x="530" y="2858"/>
                  <a:pt x="583" y="2979"/>
                  <a:pt x="613" y="3039"/>
                </a:cubicBezTo>
                <a:cubicBezTo>
                  <a:pt x="643" y="3099"/>
                  <a:pt x="689" y="3115"/>
                  <a:pt x="704" y="3130"/>
                </a:cubicBezTo>
              </a:path>
            </a:pathLst>
          </a:custGeom>
          <a:noFill/>
          <a:ln w="763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1116000" y="1159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и атмосферного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340000" y="189000"/>
            <a:ext cx="5040360" cy="581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оянные в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41736 0.22061 E">
                                      <p:cBhvr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5 -0.00509 L -0.48421 -0.39375 E">
                                      <p:cBhvr>
                                        <p:cTn id="68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35 0.08866 L 0.42066 0.31968 E">
                                      <p:cBhvr>
                                        <p:cTn id="7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сканирование0064"/>
          <p:cNvPicPr/>
          <p:nvPr/>
        </p:nvPicPr>
        <p:blipFill>
          <a:blip r:embed="rId2"/>
          <a:srcRect l="0" t="0" r="-514" b="0"/>
          <a:stretch/>
        </p:blipFill>
        <p:spPr>
          <a:xfrm>
            <a:off x="1692360" y="-27000"/>
            <a:ext cx="562932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 rot="2119800">
            <a:off x="4642560" y="141264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виан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8670200">
            <a:off x="4940640" y="34207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разиль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 rot="3343800">
            <a:off x="1301760" y="3384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уан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500720" y="508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лкленд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284720" y="616572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чение Западных в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700360" y="4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верное пассатное т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1"/>
          <p:cNvSpPr/>
          <p:nvPr/>
        </p:nvSpPr>
        <p:spPr>
          <a:xfrm>
            <a:off x="4529160" y="1001880"/>
            <a:ext cx="826920" cy="609480"/>
          </a:xfrm>
          <a:custGeom>
            <a:avLst/>
            <a:gdLst>
              <a:gd name="textAreaLeft" fmla="*/ 0 w 826920"/>
              <a:gd name="textAreaRight" fmla="*/ 827280 w 826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21" h="384">
                <a:moveTo>
                  <a:pt x="521" y="384"/>
                </a:moveTo>
                <a:cubicBezTo>
                  <a:pt x="473" y="355"/>
                  <a:pt x="474" y="345"/>
                  <a:pt x="438" y="311"/>
                </a:cubicBezTo>
                <a:cubicBezTo>
                  <a:pt x="425" y="272"/>
                  <a:pt x="395" y="232"/>
                  <a:pt x="356" y="219"/>
                </a:cubicBezTo>
                <a:cubicBezTo>
                  <a:pt x="319" y="163"/>
                  <a:pt x="361" y="214"/>
                  <a:pt x="310" y="183"/>
                </a:cubicBezTo>
                <a:cubicBezTo>
                  <a:pt x="246" y="144"/>
                  <a:pt x="344" y="181"/>
                  <a:pt x="265" y="155"/>
                </a:cubicBezTo>
                <a:cubicBezTo>
                  <a:pt x="234" y="126"/>
                  <a:pt x="204" y="104"/>
                  <a:pt x="164" y="91"/>
                </a:cubicBezTo>
                <a:cubicBezTo>
                  <a:pt x="148" y="80"/>
                  <a:pt x="135" y="65"/>
                  <a:pt x="118" y="55"/>
                </a:cubicBezTo>
                <a:cubicBezTo>
                  <a:pt x="102" y="45"/>
                  <a:pt x="82" y="43"/>
                  <a:pt x="64" y="36"/>
                </a:cubicBezTo>
                <a:cubicBezTo>
                  <a:pt x="43" y="17"/>
                  <a:pt x="25" y="12"/>
                  <a:pt x="0" y="0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2"/>
          <p:cNvSpPr/>
          <p:nvPr/>
        </p:nvSpPr>
        <p:spPr>
          <a:xfrm>
            <a:off x="4932360" y="2852640"/>
            <a:ext cx="1530360" cy="216072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964" h="1361">
                <a:moveTo>
                  <a:pt x="964" y="0"/>
                </a:moveTo>
                <a:cubicBezTo>
                  <a:pt x="949" y="3"/>
                  <a:pt x="932" y="3"/>
                  <a:pt x="918" y="10"/>
                </a:cubicBezTo>
                <a:cubicBezTo>
                  <a:pt x="874" y="32"/>
                  <a:pt x="866" y="128"/>
                  <a:pt x="836" y="174"/>
                </a:cubicBezTo>
                <a:cubicBezTo>
                  <a:pt x="833" y="183"/>
                  <a:pt x="832" y="193"/>
                  <a:pt x="827" y="202"/>
                </a:cubicBezTo>
                <a:cubicBezTo>
                  <a:pt x="816" y="221"/>
                  <a:pt x="790" y="256"/>
                  <a:pt x="790" y="256"/>
                </a:cubicBezTo>
                <a:cubicBezTo>
                  <a:pt x="781" y="380"/>
                  <a:pt x="804" y="364"/>
                  <a:pt x="744" y="421"/>
                </a:cubicBezTo>
                <a:cubicBezTo>
                  <a:pt x="741" y="430"/>
                  <a:pt x="739" y="439"/>
                  <a:pt x="735" y="448"/>
                </a:cubicBezTo>
                <a:cubicBezTo>
                  <a:pt x="730" y="458"/>
                  <a:pt x="721" y="466"/>
                  <a:pt x="717" y="476"/>
                </a:cubicBezTo>
                <a:cubicBezTo>
                  <a:pt x="705" y="505"/>
                  <a:pt x="710" y="573"/>
                  <a:pt x="671" y="586"/>
                </a:cubicBezTo>
                <a:cubicBezTo>
                  <a:pt x="651" y="593"/>
                  <a:pt x="628" y="592"/>
                  <a:pt x="607" y="595"/>
                </a:cubicBezTo>
                <a:cubicBezTo>
                  <a:pt x="511" y="626"/>
                  <a:pt x="571" y="612"/>
                  <a:pt x="424" y="622"/>
                </a:cubicBezTo>
                <a:cubicBezTo>
                  <a:pt x="407" y="633"/>
                  <a:pt x="384" y="636"/>
                  <a:pt x="370" y="650"/>
                </a:cubicBezTo>
                <a:cubicBezTo>
                  <a:pt x="363" y="657"/>
                  <a:pt x="366" y="670"/>
                  <a:pt x="360" y="677"/>
                </a:cubicBezTo>
                <a:cubicBezTo>
                  <a:pt x="353" y="685"/>
                  <a:pt x="341" y="688"/>
                  <a:pt x="333" y="695"/>
                </a:cubicBezTo>
                <a:cubicBezTo>
                  <a:pt x="326" y="701"/>
                  <a:pt x="320" y="707"/>
                  <a:pt x="315" y="714"/>
                </a:cubicBezTo>
                <a:cubicBezTo>
                  <a:pt x="302" y="731"/>
                  <a:pt x="278" y="768"/>
                  <a:pt x="278" y="768"/>
                </a:cubicBezTo>
                <a:cubicBezTo>
                  <a:pt x="267" y="801"/>
                  <a:pt x="252" y="815"/>
                  <a:pt x="232" y="842"/>
                </a:cubicBezTo>
                <a:cubicBezTo>
                  <a:pt x="219" y="859"/>
                  <a:pt x="196" y="896"/>
                  <a:pt x="196" y="896"/>
                </a:cubicBezTo>
                <a:cubicBezTo>
                  <a:pt x="177" y="972"/>
                  <a:pt x="170" y="1040"/>
                  <a:pt x="114" y="1098"/>
                </a:cubicBezTo>
                <a:cubicBezTo>
                  <a:pt x="111" y="1107"/>
                  <a:pt x="108" y="1116"/>
                  <a:pt x="104" y="1125"/>
                </a:cubicBezTo>
                <a:cubicBezTo>
                  <a:pt x="99" y="1135"/>
                  <a:pt x="90" y="1142"/>
                  <a:pt x="86" y="1152"/>
                </a:cubicBezTo>
                <a:cubicBezTo>
                  <a:pt x="67" y="1195"/>
                  <a:pt x="56" y="1245"/>
                  <a:pt x="40" y="1290"/>
                </a:cubicBezTo>
                <a:cubicBezTo>
                  <a:pt x="36" y="1300"/>
                  <a:pt x="27" y="1307"/>
                  <a:pt x="22" y="1317"/>
                </a:cubicBezTo>
                <a:cubicBezTo>
                  <a:pt x="0" y="1361"/>
                  <a:pt x="25" y="1331"/>
                  <a:pt x="4" y="1354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4272120" y="576360"/>
            <a:ext cx="1747800" cy="12852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101" h="81">
                <a:moveTo>
                  <a:pt x="1101" y="0"/>
                </a:moveTo>
                <a:cubicBezTo>
                  <a:pt x="1082" y="6"/>
                  <a:pt x="1080" y="9"/>
                  <a:pt x="1056" y="12"/>
                </a:cubicBezTo>
                <a:cubicBezTo>
                  <a:pt x="1011" y="27"/>
                  <a:pt x="965" y="33"/>
                  <a:pt x="918" y="39"/>
                </a:cubicBezTo>
                <a:cubicBezTo>
                  <a:pt x="874" y="68"/>
                  <a:pt x="729" y="68"/>
                  <a:pt x="705" y="69"/>
                </a:cubicBezTo>
                <a:cubicBezTo>
                  <a:pt x="677" y="72"/>
                  <a:pt x="664" y="78"/>
                  <a:pt x="636" y="81"/>
                </a:cubicBezTo>
                <a:cubicBezTo>
                  <a:pt x="502" y="80"/>
                  <a:pt x="368" y="80"/>
                  <a:pt x="234" y="78"/>
                </a:cubicBezTo>
                <a:cubicBezTo>
                  <a:pt x="201" y="78"/>
                  <a:pt x="167" y="57"/>
                  <a:pt x="135" y="51"/>
                </a:cubicBezTo>
                <a:cubicBezTo>
                  <a:pt x="103" y="45"/>
                  <a:pt x="69" y="40"/>
                  <a:pt x="36" y="36"/>
                </a:cubicBezTo>
                <a:cubicBezTo>
                  <a:pt x="24" y="33"/>
                  <a:pt x="12" y="30"/>
                  <a:pt x="0" y="30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7"/>
          <p:cNvSpPr/>
          <p:nvPr/>
        </p:nvSpPr>
        <p:spPr>
          <a:xfrm>
            <a:off x="2374920" y="1994040"/>
            <a:ext cx="1143000" cy="4216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216320"/>
              <a:gd name="textAreaBottom" fmla="*/ 4216680 h 4216320"/>
            </a:gdLst>
            <a:ahLst/>
            <a:rect l="textAreaLeft" t="textAreaTop" r="textAreaRight" b="textAreaBottom"/>
            <a:pathLst>
              <a:path w="720" h="2656">
                <a:moveTo>
                  <a:pt x="104" y="2656"/>
                </a:moveTo>
                <a:cubicBezTo>
                  <a:pt x="189" y="2653"/>
                  <a:pt x="275" y="2655"/>
                  <a:pt x="360" y="2648"/>
                </a:cubicBezTo>
                <a:cubicBezTo>
                  <a:pt x="377" y="2647"/>
                  <a:pt x="392" y="2637"/>
                  <a:pt x="408" y="2632"/>
                </a:cubicBezTo>
                <a:cubicBezTo>
                  <a:pt x="426" y="2626"/>
                  <a:pt x="456" y="2600"/>
                  <a:pt x="456" y="2600"/>
                </a:cubicBezTo>
                <a:cubicBezTo>
                  <a:pt x="481" y="2563"/>
                  <a:pt x="513" y="2543"/>
                  <a:pt x="544" y="2512"/>
                </a:cubicBezTo>
                <a:cubicBezTo>
                  <a:pt x="553" y="2476"/>
                  <a:pt x="569" y="2453"/>
                  <a:pt x="576" y="2416"/>
                </a:cubicBezTo>
                <a:cubicBezTo>
                  <a:pt x="577" y="2393"/>
                  <a:pt x="575" y="2294"/>
                  <a:pt x="592" y="2248"/>
                </a:cubicBezTo>
                <a:cubicBezTo>
                  <a:pt x="596" y="2237"/>
                  <a:pt x="604" y="2227"/>
                  <a:pt x="608" y="2216"/>
                </a:cubicBezTo>
                <a:cubicBezTo>
                  <a:pt x="614" y="2200"/>
                  <a:pt x="624" y="2168"/>
                  <a:pt x="624" y="2168"/>
                </a:cubicBezTo>
                <a:cubicBezTo>
                  <a:pt x="633" y="1883"/>
                  <a:pt x="590" y="1581"/>
                  <a:pt x="680" y="1312"/>
                </a:cubicBezTo>
                <a:cubicBezTo>
                  <a:pt x="675" y="1146"/>
                  <a:pt x="720" y="1037"/>
                  <a:pt x="592" y="952"/>
                </a:cubicBezTo>
                <a:cubicBezTo>
                  <a:pt x="574" y="925"/>
                  <a:pt x="546" y="907"/>
                  <a:pt x="528" y="880"/>
                </a:cubicBezTo>
                <a:cubicBezTo>
                  <a:pt x="491" y="824"/>
                  <a:pt x="512" y="843"/>
                  <a:pt x="472" y="816"/>
                </a:cubicBezTo>
                <a:cubicBezTo>
                  <a:pt x="435" y="760"/>
                  <a:pt x="456" y="779"/>
                  <a:pt x="416" y="752"/>
                </a:cubicBezTo>
                <a:cubicBezTo>
                  <a:pt x="399" y="726"/>
                  <a:pt x="362" y="689"/>
                  <a:pt x="336" y="672"/>
                </a:cubicBezTo>
                <a:cubicBezTo>
                  <a:pt x="325" y="656"/>
                  <a:pt x="308" y="643"/>
                  <a:pt x="304" y="624"/>
                </a:cubicBezTo>
                <a:cubicBezTo>
                  <a:pt x="301" y="611"/>
                  <a:pt x="302" y="596"/>
                  <a:pt x="296" y="584"/>
                </a:cubicBezTo>
                <a:cubicBezTo>
                  <a:pt x="273" y="534"/>
                  <a:pt x="217" y="492"/>
                  <a:pt x="200" y="440"/>
                </a:cubicBezTo>
                <a:cubicBezTo>
                  <a:pt x="193" y="418"/>
                  <a:pt x="182" y="366"/>
                  <a:pt x="168" y="344"/>
                </a:cubicBezTo>
                <a:cubicBezTo>
                  <a:pt x="154" y="322"/>
                  <a:pt x="146" y="313"/>
                  <a:pt x="136" y="288"/>
                </a:cubicBezTo>
                <a:cubicBezTo>
                  <a:pt x="127" y="265"/>
                  <a:pt x="126" y="237"/>
                  <a:pt x="112" y="216"/>
                </a:cubicBezTo>
                <a:cubicBezTo>
                  <a:pt x="92" y="186"/>
                  <a:pt x="83" y="154"/>
                  <a:pt x="72" y="120"/>
                </a:cubicBezTo>
                <a:cubicBezTo>
                  <a:pt x="66" y="102"/>
                  <a:pt x="51" y="88"/>
                  <a:pt x="40" y="72"/>
                </a:cubicBezTo>
                <a:cubicBezTo>
                  <a:pt x="29" y="56"/>
                  <a:pt x="19" y="40"/>
                  <a:pt x="8" y="24"/>
                </a:cubicBezTo>
                <a:cubicBezTo>
                  <a:pt x="3" y="17"/>
                  <a:pt x="0" y="0"/>
                  <a:pt x="0" y="0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0"/>
          <p:cNvSpPr/>
          <p:nvPr/>
        </p:nvSpPr>
        <p:spPr>
          <a:xfrm>
            <a:off x="4197240" y="5076720"/>
            <a:ext cx="451080" cy="1138320"/>
          </a:xfrm>
          <a:custGeom>
            <a:avLst/>
            <a:gdLst>
              <a:gd name="textAreaLeft" fmla="*/ 0 w 451080"/>
              <a:gd name="textAreaRight" fmla="*/ 451440 w 45108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284" h="717">
                <a:moveTo>
                  <a:pt x="50" y="717"/>
                </a:moveTo>
                <a:cubicBezTo>
                  <a:pt x="45" y="702"/>
                  <a:pt x="37" y="688"/>
                  <a:pt x="32" y="672"/>
                </a:cubicBezTo>
                <a:cubicBezTo>
                  <a:pt x="30" y="666"/>
                  <a:pt x="28" y="660"/>
                  <a:pt x="26" y="654"/>
                </a:cubicBezTo>
                <a:cubicBezTo>
                  <a:pt x="25" y="651"/>
                  <a:pt x="23" y="645"/>
                  <a:pt x="23" y="645"/>
                </a:cubicBezTo>
                <a:cubicBezTo>
                  <a:pt x="18" y="583"/>
                  <a:pt x="0" y="513"/>
                  <a:pt x="29" y="456"/>
                </a:cubicBezTo>
                <a:cubicBezTo>
                  <a:pt x="36" y="441"/>
                  <a:pt x="32" y="430"/>
                  <a:pt x="47" y="420"/>
                </a:cubicBezTo>
                <a:cubicBezTo>
                  <a:pt x="57" y="406"/>
                  <a:pt x="59" y="389"/>
                  <a:pt x="68" y="375"/>
                </a:cubicBezTo>
                <a:cubicBezTo>
                  <a:pt x="70" y="343"/>
                  <a:pt x="64" y="331"/>
                  <a:pt x="83" y="312"/>
                </a:cubicBezTo>
                <a:cubicBezTo>
                  <a:pt x="90" y="291"/>
                  <a:pt x="84" y="298"/>
                  <a:pt x="98" y="288"/>
                </a:cubicBezTo>
                <a:cubicBezTo>
                  <a:pt x="105" y="278"/>
                  <a:pt x="112" y="271"/>
                  <a:pt x="122" y="264"/>
                </a:cubicBezTo>
                <a:cubicBezTo>
                  <a:pt x="145" y="229"/>
                  <a:pt x="126" y="264"/>
                  <a:pt x="137" y="204"/>
                </a:cubicBezTo>
                <a:cubicBezTo>
                  <a:pt x="139" y="194"/>
                  <a:pt x="161" y="183"/>
                  <a:pt x="161" y="183"/>
                </a:cubicBezTo>
                <a:cubicBezTo>
                  <a:pt x="165" y="170"/>
                  <a:pt x="176" y="158"/>
                  <a:pt x="188" y="150"/>
                </a:cubicBezTo>
                <a:cubicBezTo>
                  <a:pt x="196" y="138"/>
                  <a:pt x="205" y="124"/>
                  <a:pt x="215" y="114"/>
                </a:cubicBezTo>
                <a:cubicBezTo>
                  <a:pt x="221" y="96"/>
                  <a:pt x="231" y="45"/>
                  <a:pt x="248" y="39"/>
                </a:cubicBezTo>
                <a:cubicBezTo>
                  <a:pt x="262" y="25"/>
                  <a:pt x="270" y="14"/>
                  <a:pt x="284" y="0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1"/>
          <p:cNvSpPr/>
          <p:nvPr/>
        </p:nvSpPr>
        <p:spPr>
          <a:xfrm>
            <a:off x="2095560" y="5776920"/>
            <a:ext cx="3632040" cy="873000"/>
          </a:xfrm>
          <a:custGeom>
            <a:avLst/>
            <a:gdLst>
              <a:gd name="textAreaLeft" fmla="*/ 0 w 3632040"/>
              <a:gd name="textAreaRight" fmla="*/ 3632400 w 363204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2288" h="550">
                <a:moveTo>
                  <a:pt x="0" y="521"/>
                </a:moveTo>
                <a:cubicBezTo>
                  <a:pt x="333" y="479"/>
                  <a:pt x="310" y="507"/>
                  <a:pt x="904" y="513"/>
                </a:cubicBezTo>
                <a:cubicBezTo>
                  <a:pt x="1045" y="523"/>
                  <a:pt x="1202" y="550"/>
                  <a:pt x="1336" y="505"/>
                </a:cubicBezTo>
                <a:cubicBezTo>
                  <a:pt x="1373" y="450"/>
                  <a:pt x="1362" y="475"/>
                  <a:pt x="1376" y="433"/>
                </a:cubicBezTo>
                <a:cubicBezTo>
                  <a:pt x="1383" y="387"/>
                  <a:pt x="1393" y="349"/>
                  <a:pt x="1408" y="305"/>
                </a:cubicBezTo>
                <a:cubicBezTo>
                  <a:pt x="1411" y="295"/>
                  <a:pt x="1409" y="281"/>
                  <a:pt x="1416" y="273"/>
                </a:cubicBezTo>
                <a:cubicBezTo>
                  <a:pt x="1436" y="250"/>
                  <a:pt x="1502" y="212"/>
                  <a:pt x="1536" y="201"/>
                </a:cubicBezTo>
                <a:cubicBezTo>
                  <a:pt x="1620" y="74"/>
                  <a:pt x="1838" y="50"/>
                  <a:pt x="1976" y="41"/>
                </a:cubicBezTo>
                <a:cubicBezTo>
                  <a:pt x="2140" y="0"/>
                  <a:pt x="2041" y="9"/>
                  <a:pt x="2288" y="9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692360" y="260280"/>
            <a:ext cx="5616360" cy="581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ияние те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сканирование0002"/>
          <p:cNvPicPr/>
          <p:nvPr/>
        </p:nvPicPr>
        <p:blipFill>
          <a:blip r:embed="rId2"/>
          <a:stretch/>
        </p:blipFill>
        <p:spPr>
          <a:xfrm>
            <a:off x="971640" y="189000"/>
            <a:ext cx="4708440" cy="65228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84" name="AutoShape 10"/>
          <p:cNvSpPr/>
          <p:nvPr/>
        </p:nvSpPr>
        <p:spPr>
          <a:xfrm rot="20649600">
            <a:off x="1976400" y="816120"/>
            <a:ext cx="2592360" cy="287280"/>
          </a:xfrm>
          <a:prstGeom prst="leftArrow">
            <a:avLst>
              <a:gd name="adj1" fmla="val 50000"/>
              <a:gd name="adj2" fmla="val 225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 rot="1774800">
            <a:off x="2268360" y="3789000"/>
            <a:ext cx="2340000" cy="289080"/>
          </a:xfrm>
          <a:prstGeom prst="leftArrow">
            <a:avLst>
              <a:gd name="adj1" fmla="val 50000"/>
              <a:gd name="adj2" fmla="val 2023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8"/>
          <p:cNvSpPr/>
          <p:nvPr/>
        </p:nvSpPr>
        <p:spPr>
          <a:xfrm>
            <a:off x="4643280" y="333360"/>
            <a:ext cx="424980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е влажное место в мире – Тутунендо (Колумбия), где среднегодовое количество осадков  11770 м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0"/>
          <p:cNvSpPr/>
          <p:nvPr/>
        </p:nvSpPr>
        <p:spPr>
          <a:xfrm>
            <a:off x="4716360" y="4076640"/>
            <a:ext cx="417672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е сухое место на Земле – север Чили, где уровень осадков составляет 0,1 мм в год. Там есть места, где за последние 400 лет ни разу не шёл дож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9:25:17Z</dcterms:created>
  <dc:creator>Миронова</dc:creator>
  <dc:description/>
  <dc:language>en-US</dc:language>
  <cp:lastModifiedBy>ИНКА</cp:lastModifiedBy>
  <dcterms:modified xsi:type="dcterms:W3CDTF">2013-08-25T13:44:22Z</dcterms:modified>
  <cp:revision>25</cp:revision>
  <dc:subject/>
  <dc:title>Вопрос.</dc:title>
</cp:coreProperties>
</file>