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FDD-3864-43D0-A024-8F8C3914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8A7-D11E-41CA-AE6C-69BA2D7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4AE-3554-495A-B409-A005089A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0A9-C81A-496C-82C7-688D2DB1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075-805E-4CA6-AD55-C258B42B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14E1-5972-4BF1-B32E-AC47B46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E9BA-A3C2-44D1-BC60-8DA06CC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4C77-685B-48A7-A80C-7CA68F1F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87CF-3808-4648-9297-34E9CFF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1E2F-D793-47D2-AC59-D38F912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E95F-9008-4D73-B1E8-237092A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28B-C160-45BD-99FC-AF9EBE47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AB1E-8B0C-4B37-9FFD-C9180D5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A944-2114-4522-88E2-0B8B08A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71DF-433E-4034-8B66-7584484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C607-6CFC-451D-A9F6-83D0C6EB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A34F-24A7-4B5C-977D-9C771E63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9EB-1120-4ED4-96DE-A49C993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6D0-CCC1-47EA-B2A9-D5651D22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8D6-5939-4631-A776-D778B05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390-76D6-4E7E-8A09-2EAB705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F08-C193-4984-BBF4-7C1EAFE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7D9-C47A-4CFB-8C23-1EB93B4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16B-D8A3-42C1-B421-09A7517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655-F551-4343-A2E0-A33A30D1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311-52E0-4FEC-84AC-6C209E98C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ЛАССНОЕ РОДИТЕЛЬСКОЕ СОБР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br>
              <a:rPr sz="2500"/>
            </a:br>
            <a:br>
              <a:rPr sz="2500"/>
            </a:b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«СЧАСТЛИВ ТОТ, КТО СЧАСТЛИВ ДОМА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рфино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0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луостров «Отношения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ЗОБРАЗИТЕ ОТНОШЕНИЯ ЧЛЕНОВ СЕМЬИ С ПОМОЩЬЮ  ЯВЛЕНИ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рт «Свершение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ЛИСТОК ОТКРОВ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После этой встречи я задума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- С этой  встречи я возьм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«САМОЕ БОЛЬШОЕ СЧАСТЬЕ В ЖИЗНИ – ЭТО УВЕРЕННОСТЬ В ТОМ, ЧТО ТЕБЯ ЛЮБЯТ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В. ГЮ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Ирина\Desktop\картаfiz-map.jpg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381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tretch/>
        </p:blipFill>
        <p:spPr>
          <a:xfrm>
            <a:off x="6762600" y="2139840"/>
            <a:ext cx="1417680" cy="1008000"/>
          </a:xfrm>
          <a:prstGeom prst="rect">
            <a:avLst/>
          </a:prstGeom>
          <a:ln w="0">
            <a:noFill/>
          </a:ln>
        </p:spPr>
      </p:pic>
      <p:cxnSp>
        <p:nvCxnSpPr>
          <p:cNvPr id="144" name="Прямая со стрелкой 8"/>
          <p:cNvCxnSpPr/>
          <p:nvPr/>
        </p:nvCxnSpPr>
        <p:spPr>
          <a:xfrm flipH="1">
            <a:off x="5650920" y="3573360"/>
            <a:ext cx="7722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TextBox 9"/>
          <p:cNvSpPr/>
          <p:nvPr/>
        </p:nvSpPr>
        <p:spPr>
          <a:xfrm>
            <a:off x="4734360" y="4005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1"/>
          <p:cNvCxnSpPr/>
          <p:nvPr/>
        </p:nvCxnSpPr>
        <p:spPr>
          <a:xfrm>
            <a:off x="5745240" y="4374720"/>
            <a:ext cx="101520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12"/>
          <p:cNvSpPr/>
          <p:nvPr/>
        </p:nvSpPr>
        <p:spPr>
          <a:xfrm>
            <a:off x="5993280" y="46162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14"/>
          <p:cNvCxnSpPr/>
          <p:nvPr/>
        </p:nvCxnSpPr>
        <p:spPr>
          <a:xfrm flipH="1" flipV="1">
            <a:off x="5744520" y="2852280"/>
            <a:ext cx="110700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Box 15"/>
          <p:cNvSpPr/>
          <p:nvPr/>
        </p:nvSpPr>
        <p:spPr>
          <a:xfrm>
            <a:off x="4765320" y="221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-ов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5896800" y="36972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е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18"/>
          <p:cNvCxnSpPr/>
          <p:nvPr/>
        </p:nvCxnSpPr>
        <p:spPr>
          <a:xfrm>
            <a:off x="5893920" y="2852280"/>
            <a:ext cx="84204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9"/>
          <p:cNvSpPr/>
          <p:nvPr/>
        </p:nvSpPr>
        <p:spPr>
          <a:xfrm>
            <a:off x="6093360" y="31478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вер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ЛИВ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Интеллектуалы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ИНТЕЛЛЕКТ» – латинское слово, означ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«ПОНИМАНИЕ», «УМ», «РАССУД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емейная энциклопедия раздел «Семья и взаимопоним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13000"/>
            <a:ext cx="8507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ЕМЬЯ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ЗАИМОПОНИМАНИЕ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малая группа, основанная на браке или родстве, члены которой связаны общностью быта, взаимной помощью и моральной ответствен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…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« взаимное понимание и 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тров «Воспитание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692280"/>
            <a:ext cx="85075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, ученик 5 класса, послал бабушку к чёрту. Когда бабушка пожаловалась отцу, тот возмутил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бушка о тебе заботиться. А ты её оскорбляешь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 ведь ты маме тоже так говорил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а как ты смеешь отца 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шивается м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ы кричишь на сына, сам хамишь, а от ребёнка требуешь вежлив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АЙТЕ ОЦЕНКУ ПОВЕДЕНИЯ ВСЕХ ЧЛЕНОВ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и Никита, ученики 7 класса, дружили только в школе. Родители запрещали Ивану приводить Никиту домой, встречаться после уроков. Мама считала, что Никита развит не по возрасту: курит, прогуливает уроки и часто бывает в компании со старшими мальчиками. Одним словом, может научить лишь плох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АШ ВЫХОД ИЗ ЭТОЙ СИТУ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я, ученица 6 класса, мечтала иметь друга. Но как подойти и предложить дружбу она не знала. Решила поговорить с мамой, так как близких подруг у неё не было. Мама услышав робкие вопросы дочери рассердилась. «Рановато, дочка, мальчиками интересуешься, лучше бы побольше времени урокам уделяла»-сказала она. Вечером мама по секрету рассказала отцу о вопросах дочери. Отец был категоричен - «Ишь невеста»,-бросил он дочери. Родители запретили Насте после девяти часов вечера выходить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 БЫ ВЫ ПОСТУПИЛИ НА МЕСТЕ КАЖДОГО ЧЛЕНА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ф «Общение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учатся жить у 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стоянно критику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о вражде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высме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упреках, он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терпим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бадр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хваля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растет в чест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безопасности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ка поддерживают, он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ребенок живет в понимании и дружелюбии, о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9:54:46Z</dcterms:created>
  <dc:creator>Ирина</dc:creator>
  <dc:description/>
  <dc:language>en-US</dc:language>
  <cp:lastModifiedBy>Ирина</cp:lastModifiedBy>
  <dcterms:modified xsi:type="dcterms:W3CDTF">2012-05-13T21:52:09Z</dcterms:modified>
  <cp:revision>19</cp:revision>
  <dc:subject/>
  <dc:title>КЛАССНОЕ РОДИТЕЛЬСКОЕ СОБРАНИЕ  в форме деловой игры  «СЧАСТЛИВ ТОТ, КТО СЧАСТЛИВ ДОМА»  Парфино  2012</dc:title>
</cp:coreProperties>
</file>