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6680-08E7-46DE-9EB0-A40A369C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01E-BE57-4EFC-AA1A-4D1537BC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E31-CEC8-453D-9F9A-16284623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4E2-9C79-4419-9EB4-6CC34106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E8A4-423A-4C94-AA16-78743CBE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2F61-9B87-4F7A-9724-ACF96DA4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29FB-F18A-49F1-991D-AD02AC36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24C0-1535-4200-8C9D-D81BBDCC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8076-9E1C-4F62-A1FD-991DA8DC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3169-6DAC-47A5-AA5D-BAB7CF54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9F73-BA1E-44A5-BDA8-2713BAE6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1BF-824B-4E25-980D-8258934A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A16E-5C08-4DCF-A6AA-F36002C5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5289-4F08-473A-852D-6F2B36E3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5B4D-D598-42F1-85CE-0B2FF64A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5F6C-69D7-46AC-B415-DB096BA3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40E6-1540-4286-A058-7E90FB01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4DF-FF6C-4893-A2D7-752F6F95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EE5-28DF-447E-9A07-D16F6314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4CE6-9577-4C36-8DF8-4AFA4F83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3E1-52E4-431D-91B8-51CC92FA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C8D-5263-43BB-A773-72DD16EA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41A-85AF-486D-9E71-C38468DF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A56-6689-49CC-9E34-33768DD4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39E7-23E7-4EA1-A4A3-1259AA18E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3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9D3F-9396-4B00-8C77-6F0EB57CC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ЛАССНОЕ РОДИТЕЛЬСКОЕ СОБРАНИЕ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еловая игра</a:t>
            </a:r>
            <a:br>
              <a:rPr sz="2500"/>
            </a:br>
            <a:br>
              <a:rPr sz="2500"/>
            </a:b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«СЧАСТЛИВ ТОТ, КТО СЧАСТЛИВ ДОМА»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арфино 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201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олуостров «Отношения»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ИЗОБРАЗИТЕ ОТНОШЕНИЯ ЧЛЕНОВ СЕМЬИ С ПОМОЩЬЮ  ЯВЛЕНИЙ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орт «Свершение»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«ЛИСТОК ОТКРОВЕН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- После этой встречи я задумал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- С этой  встречи я возьм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«САМОЕ БОЛЬШОЕ СЧАСТЬЕ В ЖИЗНИ – ЭТО УВЕРЕННОСТЬ В ТОМ, ЧТО ТЕБЯ ЛЮБЯТ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                                                            </a:t>
            </a: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В. ГЮ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Users\Ирина\Desktop\картаfiz-map.jpg"/>
          <p:cNvPicPr/>
          <p:nvPr/>
        </p:nvPicPr>
        <p:blipFill>
          <a:blip r:embed="rId1"/>
          <a:stretch/>
        </p:blipFill>
        <p:spPr>
          <a:xfrm>
            <a:off x="611280" y="189000"/>
            <a:ext cx="8229600" cy="63817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"/>
          <p:cNvPicPr/>
          <p:nvPr/>
        </p:nvPicPr>
        <p:blipFill>
          <a:blip r:embed="rId2"/>
          <a:stretch/>
        </p:blipFill>
        <p:spPr>
          <a:xfrm>
            <a:off x="6762600" y="2139840"/>
            <a:ext cx="1417680" cy="1008000"/>
          </a:xfrm>
          <a:prstGeom prst="rect">
            <a:avLst/>
          </a:prstGeom>
          <a:ln w="0">
            <a:noFill/>
          </a:ln>
        </p:spPr>
      </p:pic>
      <p:cxnSp>
        <p:nvCxnSpPr>
          <p:cNvPr id="144" name="Прямая со стрелкой 8"/>
          <p:cNvCxnSpPr/>
          <p:nvPr/>
        </p:nvCxnSpPr>
        <p:spPr>
          <a:xfrm flipH="1">
            <a:off x="5650920" y="3573360"/>
            <a:ext cx="7722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TextBox 9"/>
          <p:cNvSpPr/>
          <p:nvPr/>
        </p:nvSpPr>
        <p:spPr>
          <a:xfrm>
            <a:off x="4734360" y="4005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.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Прямая со стрелкой 11"/>
          <p:cNvCxnSpPr/>
          <p:nvPr/>
        </p:nvCxnSpPr>
        <p:spPr>
          <a:xfrm>
            <a:off x="5745240" y="4374720"/>
            <a:ext cx="101520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TextBox 12"/>
          <p:cNvSpPr/>
          <p:nvPr/>
        </p:nvSpPr>
        <p:spPr>
          <a:xfrm>
            <a:off x="5993280" y="461628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ф 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Прямая со стрелкой 14"/>
          <p:cNvCxnSpPr/>
          <p:nvPr/>
        </p:nvCxnSpPr>
        <p:spPr>
          <a:xfrm flipH="1" flipV="1">
            <a:off x="5744520" y="2852280"/>
            <a:ext cx="1107000" cy="172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TextBox 15"/>
          <p:cNvSpPr/>
          <p:nvPr/>
        </p:nvSpPr>
        <p:spPr>
          <a:xfrm>
            <a:off x="4765320" y="22176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-ов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6"/>
          <p:cNvSpPr/>
          <p:nvPr/>
        </p:nvSpPr>
        <p:spPr>
          <a:xfrm>
            <a:off x="5896800" y="3697200"/>
            <a:ext cx="136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е Рад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Прямая со стрелкой 18"/>
          <p:cNvCxnSpPr/>
          <p:nvPr/>
        </p:nvCxnSpPr>
        <p:spPr>
          <a:xfrm>
            <a:off x="5893920" y="2852280"/>
            <a:ext cx="842040" cy="50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2" name="TextBox 19"/>
          <p:cNvSpPr/>
          <p:nvPr/>
        </p:nvSpPr>
        <p:spPr>
          <a:xfrm>
            <a:off x="6093360" y="314784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Свер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ЗАЛИВ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Интеллектуалы»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«ИНТЕЛЛЕКТ» – латинское слово, означа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«ПОНИМАНИЕ», «УМ», «РАССУД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Семейная энциклопедия раздел «Семья и взаимопонимание»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413000"/>
            <a:ext cx="8507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СЕМЬЯ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ВЗАИМОПОНИМАНИЕ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   …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«малая группа, основанная на браке или родстве, члены которой связаны общностью быта, взаимной помощью и моральной ответственность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   …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« взаимное понимание и соглас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Остров «Воспитание»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692280"/>
            <a:ext cx="85075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туация 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ьчик, ученик 5 класса, послал бабушку к чёрту. Когда бабушка пожаловалась отцу, тот возмутил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Бабушка о тебе заботиться. А ты её оскорбляешь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о ведь ты маме тоже так говорил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Да как ты смеешь отца уч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шивается м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то ты кричишь на сына, сам хамишь, а от ребёнка требуешь вежлив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АЙТЕ ОЦЕНКУ ПОВЕДЕНИЯ ВСЕХ ЧЛЕНОВ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туация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 и Никита, ученики 7 класса, дружили только в школе. Родители запрещали Ивану приводить Никиту домой, встречаться после уроков. Мама считала, что Никита развит не по возрасту: курит, прогуливает уроки и часто бывает в компании со старшими мальчиками. Одним словом, может научить лишь плох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АШ ВЫХОД ИЗ ЭТОЙ СИТУ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6840" y="0"/>
            <a:ext cx="84358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туация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я, ученица 6 класса, мечтала иметь друга. Но как подойти и предложить дружбу она не знала. Решила поговорить с мамой, так как близких подруг у неё не было. Мама услышав робкие вопросы дочери рассердилась. «Рановато, дочка, мальчиками интересуешься, лучше бы побольше времени урокам уделяла»-сказала она. Вечером мама по секрету рассказала отцу о вопросах дочери. Отец был категоричен - «Ишь невеста»,-бросил он дочери. Родители запретили Насте после девяти часов вечера выходить на у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АК БЫ ВЫ ПОСТУПИЛИ НА МЕСТЕ КАЖДОГО ЧЛЕНА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Риф «Общение»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учатся жить у жиз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ка постоянно критикуют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ок живет во вражде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ка высмеивают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ок растет в упреках, он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ок растет в терпимости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ка подбадривают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ка хвалят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ок растет в честности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ок живет в безопасности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ка поддерживают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ок живет в понимании и дружелюбии, он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9:54:46Z</dcterms:created>
  <dc:creator>Ирина</dc:creator>
  <dc:description/>
  <dc:language>en-US</dc:language>
  <cp:lastModifiedBy>Ирина</cp:lastModifiedBy>
  <dcterms:modified xsi:type="dcterms:W3CDTF">2012-05-13T21:52:09Z</dcterms:modified>
  <cp:revision>19</cp:revision>
  <dc:subject/>
  <dc:title>КЛАССНОЕ РОДИТЕЛЬСКОЕ СОБРАНИЕ  в форме деловой игры  «СЧАСТЛИВ ТОТ, КТО СЧАСТЛИВ ДОМА»  Парфино  2012</dc:title>
</cp:coreProperties>
</file>