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F07-0C37-4E47-AC30-2A64BC9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FA3-8273-45A1-B8A7-6018CA65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575-7696-4C68-8DF1-302D91FF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BD9-36FE-4CBF-ACEB-E9855C1D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E479-766B-4BB3-9495-74932BA8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1F4-003F-4DD0-A45D-1E2BDDBF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DE6C-AC05-47A7-9758-C8326F3A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15BA-1637-460C-904F-C6DA8274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F34-9875-440A-806B-DE4D2338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A99F-67A8-4648-A591-573BE66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AF74-A4A7-4F71-8E73-7A456FA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EE0-567B-4C81-AE65-8707F418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3F78-7CEB-44C5-BCBC-513F4EAA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A0E7-8CC9-4E27-BED0-C8D8952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352A-5DB8-401B-89A3-0E0DE1A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F1EF-D73D-425B-B322-EDC589E4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0BDF-C9E3-4647-8D26-6D320490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E01-50B5-419C-A0F3-A333E3A8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378-4D6E-45FA-98FF-4B4B84C1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C45-CD15-46E0-ACF0-9AC7EF3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E67-7188-4D95-8148-B47F224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8A9-D38A-410E-90ED-468069A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5F4-5376-4D0B-8099-869DF48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8E6-4FC9-4E76-985F-AF49757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765E-9D9F-4F8E-AC4F-7EAB4AA3B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84C1-6625-4383-B16C-8F626B85E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ЛАССНОЕ РОДИТЕЛЬСКОЕ СОБР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еловая игра</a:t>
            </a:r>
            <a:br>
              <a:rPr sz="2500"/>
            </a:br>
            <a:br>
              <a:rPr sz="2500"/>
            </a:b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«СЧАСТЛИВ ТОТ, КТО СЧАСТЛИВ ДОМА»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арфино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0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луостров «Отношения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ЗОБРАЗИТЕ ОТНОШЕНИЯ ЧЛЕНОВ СЕМЬИ С ПОМОЩЬЮ  ЯВЛЕНИ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рт «Свершение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ЛИСТОК ОТКРОВЕ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- После этой встречи я задума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- С этой  встречи я возьм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«САМОЕ БОЛЬШОЕ СЧАСТЬЕ В ЖИЗНИ – ЭТО УВЕРЕННОСТЬ В ТОМ, ЧТО ТЕБЯ ЛЮБЯТ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В. ГЮ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Ирина\Desktop\картаfiz-map.jpg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381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2"/>
          <a:stretch/>
        </p:blipFill>
        <p:spPr>
          <a:xfrm>
            <a:off x="6762600" y="2139840"/>
            <a:ext cx="1417680" cy="1008000"/>
          </a:xfrm>
          <a:prstGeom prst="rect">
            <a:avLst/>
          </a:prstGeom>
          <a:ln w="0">
            <a:noFill/>
          </a:ln>
        </p:spPr>
      </p:pic>
      <p:cxnSp>
        <p:nvCxnSpPr>
          <p:cNvPr id="144" name="Прямая со стрелкой 8"/>
          <p:cNvCxnSpPr/>
          <p:nvPr/>
        </p:nvCxnSpPr>
        <p:spPr>
          <a:xfrm flipH="1">
            <a:off x="5650920" y="3573360"/>
            <a:ext cx="7722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TextBox 9"/>
          <p:cNvSpPr/>
          <p:nvPr/>
        </p:nvSpPr>
        <p:spPr>
          <a:xfrm>
            <a:off x="4734360" y="4005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11"/>
          <p:cNvCxnSpPr/>
          <p:nvPr/>
        </p:nvCxnSpPr>
        <p:spPr>
          <a:xfrm>
            <a:off x="5745240" y="4374720"/>
            <a:ext cx="101520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12"/>
          <p:cNvSpPr/>
          <p:nvPr/>
        </p:nvSpPr>
        <p:spPr>
          <a:xfrm>
            <a:off x="5993280" y="46162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14"/>
          <p:cNvCxnSpPr/>
          <p:nvPr/>
        </p:nvCxnSpPr>
        <p:spPr>
          <a:xfrm flipH="1" flipV="1">
            <a:off x="5744520" y="2852280"/>
            <a:ext cx="1107000" cy="17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extBox 15"/>
          <p:cNvSpPr/>
          <p:nvPr/>
        </p:nvSpPr>
        <p:spPr>
          <a:xfrm>
            <a:off x="4765320" y="221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-ов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5896800" y="36972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е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18"/>
          <p:cNvCxnSpPr/>
          <p:nvPr/>
        </p:nvCxnSpPr>
        <p:spPr>
          <a:xfrm>
            <a:off x="5893920" y="2852280"/>
            <a:ext cx="84204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19"/>
          <p:cNvSpPr/>
          <p:nvPr/>
        </p:nvSpPr>
        <p:spPr>
          <a:xfrm>
            <a:off x="6093360" y="31478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вер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ЛИВ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Интеллектуалы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ИНТЕЛЛЕКТ» – латинское слово, означ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ПОНИМАНИЕ», «УМ», «РАССУД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емейная энциклопедия раздел «Семья и взаимопонимание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13000"/>
            <a:ext cx="8507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ЕМЬЯ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ЗАИМОПОНИМАНИЕ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…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«малая группа, основанная на браке или родстве, члены которой связаны общностью быта, взаимной помощью и моральной ответствен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…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« взаимное понимание и 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тров «Воспитание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692280"/>
            <a:ext cx="85075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, ученик 5 класса, послал бабушку к чёрту. Когда бабушка пожаловалась отцу, тот возмутил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абушка о тебе заботиться. А ты её оскорбляешь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о ведь ты маме тоже так говорил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а как ты смеешь отца 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шивается м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ы кричишь на сына, сам хамишь, а от ребёнка требуешь вежлив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АЙТЕ ОЦЕНКУ ПОВЕДЕНИЯ ВСЕХ ЧЛЕНОВ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и Никита, ученики 7 класса, дружили только в школе. Родители запрещали Ивану приводить Никиту домой, встречаться после уроков. Мама считала, что Никита развит не по возрасту: курит, прогуливает уроки и часто бывает в компании со старшими мальчиками. Одним словом, может научить лишь плох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АШ ВЫХОД ИЗ ЭТОЙ СИТУ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я, ученица 6 класса, мечтала иметь друга. Но как подойти и предложить дружбу она не знала. Решила поговорить с мамой, так как близких подруг у неё не было. Мама услышав робкие вопросы дочери рассердилась. «Рановато, дочка, мальчиками интересуешься, лучше бы побольше времени урокам уделяла»-сказала она. Вечером мама по секрету рассказала отцу о вопросах дочери. Отец был категоричен - «Ишь невеста»,-бросил он дочери. Родители запретили Насте после девяти часов вечера выходить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К БЫ ВЫ ПОСТУПИЛИ НА МЕСТЕ КАЖДОГО ЧЛЕНА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ф «Общение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учатся жить у 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стоянно критику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о вражде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высме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упреках, он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терпим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дбадр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хваля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честн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 безопасн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ддерж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 понимании и дружелюбии, 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9:54:46Z</dcterms:created>
  <dc:creator>Ирина</dc:creator>
  <dc:description/>
  <dc:language>en-US</dc:language>
  <cp:lastModifiedBy>Ирина</cp:lastModifiedBy>
  <dcterms:modified xsi:type="dcterms:W3CDTF">2012-05-13T21:52:09Z</dcterms:modified>
  <cp:revision>19</cp:revision>
  <dc:subject/>
  <dc:title>КЛАССНОЕ РОДИТЕЛЬСКОЕ СОБРАНИЕ  в форме деловой игры  «СЧАСТЛИВ ТОТ, КТО СЧАСТЛИВ ДОМА»  Парфино  2012</dc:title>
</cp:coreProperties>
</file>