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C6C9E4-C2DF-4CE7-988F-8614B4D44E21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BC0B08-CAC6-46E9-A89D-D08EC36B356C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E81561-FF2E-4E88-B93C-2AB65AFE3E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89280" cy="34434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268DAE-CB41-4C76-87F5-1D459060733F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00595F-21CF-4705-8B27-BD749E3983EB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621024-95D3-47D1-9592-9D57B805A0E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7C7027-6847-4086-9C33-1DFAA53D27E0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8517A6-362A-47F7-9111-86C1E74DB2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9199BA-28AF-4467-8E89-36F90F9AACA0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5AB900-043E-44B2-B1FC-2A20569893F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393224-A352-48F1-A4DF-4B416064ED07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01E423-25E8-492C-AEEB-18F3A54B136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5ED9AE-31C9-46F9-8841-F646EB9515EB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997659-458A-4B32-8DA5-A53870CE381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1FA4A6-5905-484B-84A8-F6188D8CEF11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910B81-948F-41B6-BE12-2B38FAD136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2BC013-C06A-4C19-8A7B-9EED0727BD49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2D8A0D-7B7B-43B3-938B-BE46D697861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8DBE7D-1E77-46AE-8424-E9AF7A85B107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121939-E1D7-4D6D-B2F7-3496C056ACD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13C628-B337-4963-875D-002AAB3A186F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5EC1CE-4DD5-45B1-9393-FE44058925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B648D6-1B98-4DDC-B45F-5D9A8B1344C4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A0C0BD-538C-4100-9CDD-5C61F186CBF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D0FDBE-3FD0-4F37-8C09-56F2F25D4987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7D0E6A-F006-493D-8CD3-17DBC82239C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E46B05-7FD0-466D-9099-FC21EC60BD59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73582D-6FDF-4C84-820E-8F541D5ED18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9455BC-F727-4849-8913-309D873E8EB9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21D816-5FFC-47DD-A828-24D3EDC101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950E-CB1E-4A41-BE3C-156EADC24F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13BF-147F-4995-902F-BE35C3D7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7D5A-5091-4829-AFE1-474F6759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ADEF-F611-4386-83C7-2B3F040608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C16-C2BC-41D8-BACC-E92980B3F2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19C-2CBF-47E6-8281-04D397BD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627-C383-4E43-85FD-F66AE24E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EA3-8CB3-4282-814D-68DC1430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E2E-8DBB-454F-A346-AC59F10E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DBE-195A-4995-928B-A626C2E9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737-8B35-4C81-8E38-5832E8B3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B751-D89B-4C62-B9BE-7500FDFC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FB2-D41A-4495-BCAA-7EF73066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96D-DA7D-48D6-874F-0FCE69E6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3EA-D7C0-4BF2-AAE5-1AED82CC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54A-2D27-4BE5-8716-EC558206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FC5-0F67-437B-A229-42AB47702A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1493-F46A-4CAB-AB0E-5CDE04C9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9F64-162D-4593-B55C-D8900483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092B-0073-4298-975D-C208C3A9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7EC1-2065-4E11-BC6D-9FC109D8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4605-FD2E-4FC8-B376-DA64D88E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B700-8D07-4E38-9489-454118C9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F659-BE7B-4EC0-B8B3-E0D49C32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F12F1D-7607-450F-AFA9-4920E53D81E3}" type="slidenum"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7C914E-3305-4097-8821-80B446386B3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нформационное пра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35720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дения (сообщения, данные), независимо от формы их предст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н «Об информации, информационных технологиях и защите информации» 2006 г.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ый ресурс формируется на основе приобретенных человеком зна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ный цикл формирования и использования ИР немыслим без  системы связей и передачи информации между различными субъект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2425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95280" y="0"/>
            <a:ext cx="8291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тличие от других отрасл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0" y="1015920"/>
            <a:ext cx="9144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ые отношения - совокупность реально существующих материализованных результатов творчества и труда, воплощенных в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информации при разнообразии форм ее проявления и формируемых на этой основе информационных ресурс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средствах и технологиях работы с информацией (информационных технологиях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средствах и технологиях коммуникации информации по сетям связ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14616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Принципы правового регулирования отношений в сфере информации, информационных технологий и защиты информа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0" y="1989000"/>
            <a:ext cx="91440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свобода поиска, получения, передачи, производства и распространения информации любым законным способ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установление ограничений доступа к информации только федеральными зако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открытость информации о деятельности государственных органов и органов местного самоуправления и свободный доступ к такой информации, кроме случаев, установленных федеральными зако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равноправие языков народов Российской Федерации при создании информационных систем и их эксплуат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 обеспечение безопасности Российской Федерации при создании информационных систем, их эксплуатации и защите содержащейся в них информ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) достоверность информации и своевременность ее предостав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) неприкосновенность частной жизни, недопустимость сбора, хранения, использования и распространения информации о частной жизни лица без его соглас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) недопустимость установления нормативными правовыми актами каких-либо преимуществ применения одних информационных технологий перед други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для создания и эксплуатации государственных информационных систем этот принцип может меняться в рамках  ФЗ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2876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чники Информационного пра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0" y="1643040"/>
            <a:ext cx="45007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итуция РФ от 12.12.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 21.10.1994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он «Об информации, информационных технологиях и о защите информации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2006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З «О коммерческой тайне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9 июля 2004 г. N 98-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43280" y="1000080"/>
            <a:ext cx="4500720" cy="68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З «О связи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7.07.2003 N 126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О ЭЦП» 10.01.2002 N 1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О СМИ» 27.12.1991 N 2124-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Государственной тайне» 21 июля 1993 г. N 5485-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З «О персональных данных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7 июля 2006 года. N 152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0" y="214200"/>
            <a:ext cx="4500720" cy="70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РФ от 9 февраля 2009 г. N 8-ФЗ "Об обеспечении доступа к информации о деятельности государственных органов и органов местного самоуправления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РФ от 29.12.1994 N 78-ФЗ (ред. о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3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6.2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"О БИБЛИОТЕЧНОМ ДЕЛЕ" (принят ГД ФС РФ 23.11.1994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Об ОРД» 16 февраля 1995 г. N 15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З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786200" y="214200"/>
            <a:ext cx="43578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О ЗАЩИТЕ КОНКУРЕНЦИИ от  8 июля 2006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«Банках и банковской деятельности» 02.12.1990 N 395-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изм. 25 ноября 2009 г. N 281-Ф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З РФ от 22.10.2004 N 125-ФЗ (ред. от 13.05.2008) "ОБ АРХИВНОМ ДЕЛЕ В РОССИЙСКОЙ ФЕДЕРАЦИИ" (принят ГД ФС РФ 01.10.2004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посылки для формирования отрас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143000"/>
            <a:ext cx="82296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новение информационной деятельност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вращение информации в ресурс жизнедеятельности и развит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овление информационного ресурса как товар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материальная природа возникновения информации и особая форма ее выражения (овеществления) и включения в социально-экономическую сферу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1159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Становление информационных отношений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28760" y="1500120"/>
            <a:ext cx="82580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нформационное право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мплексная отрасль российского прав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пецифика информационных отношений определяется их субъектным состав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собые категории субъектов информационных отношений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бладатель информационных ресурсов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ператор информационной систем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ФЗ «Об информации, информационных технологиях и о защите информации» ст. 2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ормы информационного права регулируют далеко не все, а лишь наиболее важные, принципиальные группы общественных отношений, которые имеют существенное значение для интересов государства, общества и личност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0" y="-39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нформационные правомоч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0" y="981000"/>
            <a:ext cx="8893080" cy="57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право знать содержание информации (владение информацией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право применять информацию в собственной деятельности (пользование информацие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право тиражировать и распространять информацию (распоряжение информацией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вуют три субъект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создатель информации (обладает всеми информационными правомочиями по факту ее создания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обладатель информации (пользователь по авторскому праву) - приобретает информационные правомочия например, по авторскому договор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потребитель информации (имеет только право знать содержание информации и применять в личной деятельности, ему запрещается распространять информацию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68360" y="0"/>
            <a:ext cx="8229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тоды пра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0" y="981000"/>
            <a:ext cx="914400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од — совокупность способов правового воздействия на общественные отношения, составляющие этот предм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.е.  способы воздействия отрасли информационного права на информационные отнош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функциональность и специфика информации приводит к необходимости применять в информационном праве по сути дела весь известный спектр методов правового регулирования в зависимости от вида и назначения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бенности метода проявляются в правовом положении субъектов, форме и содержании правоотношений, в юридическом инструментарии, используемом при воздействии на общественные отнош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8584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Информационного пра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й —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етод субординации (императивный) -  положение субъектов характеризуется отношениями подчиненност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ой —метод координации (диспозитивпый), строится на основе равенства участников правоотношений и их автономи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нформационное право 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истема правовых норм, регулирующих на комплексной основе дозволений, позитивных обязываний и запретов область общественных отношений по поиску, получению, передаче, производству и распространению информации и производных от нее продуктов, а также смежных с ними отношений, признанных действующим законодательством информационн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пецифика информацио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11120" y="900000"/>
            <a:ext cx="82296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ишены вещной приро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з-за этого ВОЗНИКАЮТ трудности при введения критериев стоимостной оценки результатов информационной деятельности, оценке ущерба, причиненного отношениям в той или иной локальной информационной сред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91960"/>
            <a:ext cx="82296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дмет отрасли информационного пра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440000" y="1905120"/>
            <a:ext cx="73800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ые отношения - «комплекс общественных отношений, возникающих при реализации информационных процессов, т.е. создания, сбора, обработки, накопления, хранения, поиска, распространения и потребления информации, а также процессов создания и применения информационных систем, информационных технологий и средств информационной безопаснос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28760" y="142920"/>
            <a:ext cx="82296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мет и объект  информационных отноше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28760" y="1143000"/>
            <a:ext cx="83581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дм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явно выраженный предмет отношений - информац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тношения физических и юридических лиц, органов публичной власти и иных  организаций по поводу реализации своих прав относительно предмета на стадии их создания, включения в оборот и их соз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воего специфического метода правового регулирования информационное право не име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4:28:07Z</dcterms:created>
  <dc:creator>Admin</dc:creator>
  <dc:description/>
  <dc:language>en-US</dc:language>
  <cp:lastModifiedBy>ZooM</cp:lastModifiedBy>
  <dcterms:modified xsi:type="dcterms:W3CDTF">2013-12-10T14:21:57Z</dcterms:modified>
  <cp:revision>54</cp:revision>
  <dc:subject/>
  <dc:title>Слайд 1</dc:title>
</cp:coreProperties>
</file>