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481676-5F80-4D86-82EA-84126E14B308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DB8057-76D0-4043-891E-7E72D84823AE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EA90AC-95CC-4968-A8EE-440D3EF968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F1E15B-0C0B-463C-B3E5-6F1F3750904E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79440F-ED08-4618-B3A1-360505568F3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A13440-BD50-434D-9E4F-E19D0C30DD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108412-779D-41B6-B1EF-DABA10C83033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23C437-70D7-4B27-A988-6DA48900E6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963C82-53C1-4B9D-A70F-B0CE3A135314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A0376F-9EBF-4F9B-9DC9-49364AF142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7E7336-82C5-493D-9D4F-968D65C7D458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768436-949F-4C1A-934F-22C6A0010A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5FDF68-7EE1-42E5-B364-9286001A389C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002D91-9DA2-4161-ACC2-1719241070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A8022-4494-415F-99AE-4EACC264039A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983D6A-05CE-4FB6-9825-1DB4ECE8D5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30B21B-8289-4DCF-A1E6-DCA7721119A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2F8001-EFA2-4A24-A9A7-AB9E9FC0EC6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4B05E-1D33-4445-9E69-F8B6D29BFA7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52B9CD-4743-4FB9-8F0A-57F7A944AD8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CA4279-FC15-49C9-A9C8-FDA7C50CD4B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E686BC-3D41-4DD5-878E-EE4FF4BD6E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140810-AFA1-42DB-8AA4-1EB26337B64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A05E84-7A1D-4C7D-9ADB-EA9778EA77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631851-BABB-4829-9EAA-1115AF201F7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838994-BB40-499A-B1FB-69A3A15A86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C189B-897A-4E4E-936A-28AD6BCA50C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C5F735-EAA2-4B9A-8B21-42F25B9FBC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B189F-2CC7-4BFF-8BF0-0DC9E12DB5A8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069D0C-18B7-45CC-BEF4-CB220F14E1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1A37-3DBD-4D65-84D4-50021F0CC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ED36-78DE-4052-9CC8-80FC24BC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BBCB-6A2D-4D8C-941E-AEE88C7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5F14-F044-478D-B494-ECA9F34C9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04C-DB0A-4697-AAE0-51986DF8D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02F-7017-4F6F-8C0F-A81F11B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4A7-E506-444A-8127-481F8D15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F67-2FC6-4A5E-BEA4-B863E994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EBB-8B78-44F5-9175-6AAFFA8D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F8E-5C1A-4682-B0E1-93AB116B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140-43D2-4D06-BF34-CF3A8B29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08B7-03F9-46A7-9862-7AF3A6C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092-878C-4FCE-8A44-60D8B61F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37C-1B12-4AD9-B46E-065A7F8E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0A9-8DCA-47BE-8422-E171C402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A6A-BDC1-499C-BFA3-A26FA93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E2C-6BD8-4DEA-A6BC-82030F88A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1D7B-21AD-40F5-BA86-74E3799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61B6-C2E9-476B-B05C-68FB0A3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0D47-25C7-4E9F-A143-A3642928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9B76-DD43-4EEA-815D-C667E4E8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766C-6ECF-4F18-97C7-77FA7D7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2276-084D-4C6E-A56B-E16C1090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023E-5C29-4765-A3F7-B0280771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9E96C5-B252-4171-B5CF-CDDAD9D3A130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761C78-49EC-4CA8-8279-148C4D3EB3D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формационное пра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5720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дения (сообщения, данные), независимо от формы их предст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н «Об информации, информационных технологиях и защите информации» 2006 г.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ый ресурс формируется на основе приобретенных человеком зн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ный цикл формирования и использования ИР немыслим без  системы связей и передачи информации между различными субъект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2425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91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тличие от других отрасл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101592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отношения - совокупность реально существующих материализованных результатов творчества и труда, воплощенных 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информации при разнообразии форм ее проявления и формируемых на этой основе информационных ресурс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средствах и технологиях работы с информацией (информационных технологиях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средствах и технологиях коммуникации информации по сетям связ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14616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ринципы правового регулирования отношений в сфере информации, информационных технологий и защиты информа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вобода поиска, получения, передачи, производства и распространения информации любым законным способ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установление ограничений доступа к информации только федеральными зако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открытость информации о деятельности государственных органов и органов местного самоуправления и свободный доступ к такой информации, кроме случаев, установленных федеральными зако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равноправие языков народов Российской Федерации при создании информационных систем и их эксплуат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обеспечение безопасности Российской Федерации при создании информационных систем, их эксплуатации и защите содержащейся в них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) достоверность информации и своевременность ее предост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) неприкосновенность частной жизни, недопустимость сбора, хранения, использования и распространения информации о частной жизни лица без его соглас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) недопустимость установления нормативными правовыми актами каких-либо преимуществ применения одних информационных технологий перед други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для создания и эксплуатации государственных информационных систем этот принцип может меняться в рамках  Ф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2876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чники Информационного пр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1643040"/>
            <a:ext cx="4500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итуция РФ от 12.12.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 21.10.1994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«Об информации, информационных технологиях и о защите информации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006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коммерческой тайне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9 июля 2004 г. N 98-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43280" y="1000080"/>
            <a:ext cx="4500720" cy="68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связи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7.07.2003 N 126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 ЭЦП» 10.01.2002 N 1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 СМИ» 27.12.1991 N 2124-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Государственной тайне» 21 июля 1993 г. N 5485-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персональных данных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7 июля 2006 года. N 152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0" y="214200"/>
            <a:ext cx="4500720" cy="70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9 февраля 2009 г. N 8-ФЗ "Об обеспечении доступа к информации о деятельности государственных органов и органов местного самоуправления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29.12.1994 N 78-ФЗ (ред. о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3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6.2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"О БИБЛИОТЕЧНОМ ДЕЛЕ" (принят ГД ФС РФ 23.11.199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б ОРД» 16 февраля 1995 г. N 15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86200" y="214200"/>
            <a:ext cx="43578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О ЗАЩИТЕ КОНКУРЕНЦИИ от  8 июля 2006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Банках и банковской деятельности» 02.12.1990 N 395-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изм. 25 ноября 2009 г. N 281-Ф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22.10.2004 N 125-ФЗ (ред. от 13.05.2008) "ОБ АРХИВНОМ ДЕЛЕ В РОССИЙСКОЙ ФЕДЕРАЦИИ" (принят ГД ФС РФ 01.10.2004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осылки для формирования отрас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143000"/>
            <a:ext cx="82296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новение информационной деятельнос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ращение информации в ресурс жизнедеятельности и развит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информационного ресурса как товар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териальная природа возникновения информации и особая форма ее выражения (овеществления) и включения в социально-экономическую сферу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1159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тановление информационных отношений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28760" y="1500120"/>
            <a:ext cx="82580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нформационное право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мплексная отрасль российского пра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ецифика информационных отношений определяется их субъектным соста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собые категории субъектов информационных отношений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бладатель информационных ресурсов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ператор информационной систем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ФЗ «Об информации, информационных технологиях и о защите информации» ст. 2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ормы информационного права регулируют далеко не все, а лишь наиболее важные, принципиальные группы общественных отношений, которые имеют существенное значение для интересов государства, общества и личност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0" y="-39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формационные правомоч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981000"/>
            <a:ext cx="889308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право знать содержание информации (владение информацией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право применять информацию в собственной деятельности (пользование информацие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право тиражировать и распространять информацию (распоряжение информацией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уют три субъ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создатель информации (обладает всеми информационными правомочиями по факту ее создания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обладатель информации (пользователь по авторскому праву) - приобретает информационные правомочия например, по авторскому договор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потребитель информации (имеет только право знать содержание информации и применять в личной деятельности, ему запрещается распространять информацию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68360" y="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ы пра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0" y="981000"/>
            <a:ext cx="914400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 — совокупность способов правового воздействия на общественные отношения, составляющие этот предм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.е.  способы воздействия отрасли информационного права на информационные отнош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функциональность и специфика информации приводит к необходимости применять в информационном праве по сути дела весь известный спектр методов правового регулирования в зависимости от вида и назначения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енности метода проявляются в правовом положении субъектов, форме и содержании правоотношений, в юридическом инструментарии, используемом при воздействии на общественные отнош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858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Информационного пр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—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етод субординации (императивный) -  положение субъектов характеризуется отношениями подчиненност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ой —метод координации (диспозитивпый), строится на основе равенства участников правоотношений и их автономи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нформационное право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истема правовых норм, регулирующих на комплексной основе дозволений, позитивных обязываний и запретов область общественных отношений по поиску, получению, передаче, производству и распространению информации и производных от нее продуктов, а также смежных с ними отношений, признанных действующим законодательством информацион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пецифика информацио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11120" y="900000"/>
            <a:ext cx="82296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шены вещной приро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-за этого ВОЗНИКАЮТ трудности при введения критериев стоимостной оценки результатов информационной деятельности, оценке ущерба, причиненного отношениям в той или иной локальной информационной сре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мет отрасли информационного пра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440000" y="1905120"/>
            <a:ext cx="73800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отношения - «комплекс общественных отношений, возникающих при реализации информационных процессов, т.е. создания, сбора, обработки, накопления, хранения, поиска, распространения и потребления информации, а также процессов создания и применения информационных систем, информационных технологий и средств информационной безопас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28760" y="142920"/>
            <a:ext cx="8229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мет и объект  информационных отноше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28760" y="1143000"/>
            <a:ext cx="83581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м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явно выраженный предмет отношений - информац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тношения физических и юридических лиц, органов публичной власти и иных  организаций по поводу реализации своих прав относительно предмета на стадии их создания, включения в оборот и их соз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воего специфического метода правового регулирования информационное право не име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8:07Z</dcterms:created>
  <dc:creator>Admin</dc:creator>
  <dc:description/>
  <dc:language>en-US</dc:language>
  <cp:lastModifiedBy>ZooM</cp:lastModifiedBy>
  <dcterms:modified xsi:type="dcterms:W3CDTF">2013-12-10T14:21:57Z</dcterms:modified>
  <cp:revision>54</cp:revision>
  <dc:subject/>
  <dc:title>Слайд 1</dc:title>
</cp:coreProperties>
</file>