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D8CCB6-F326-4BE5-9ABC-FE543A7E273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09C32-1FF6-4782-80BE-C7594AC463E8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B41DCD-57C8-4F2E-B76C-0EBD3C17E5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CF4EFC-24A8-49D2-8CFC-C0F2D701CA36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D13A3E-77A5-48F6-8136-D1C7C0E01EEC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F88AE0-230F-4650-9B8E-A7B71C67CE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92469-1666-443E-8964-1AB2977443D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BA3ABC-763E-47CE-B15A-BD37736008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1CB8F9-A45A-4490-9E34-737DD58D9A9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B18B1E-ABC3-45C5-89CE-853B61723A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1EF1C1-9C21-44FA-A2C9-6EFFA341268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074D2-6F02-407F-91D3-2328678D71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A916C-2EE3-49EF-984F-89B2070561A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4A69DF-8151-47E5-82B3-175D6CB6CD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128262-75E6-4BA4-9A1F-18C53337B69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A3AE2-4252-4FDB-9ECA-6EFFD897FB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F9FB3-E368-49AE-BF4E-C75B6C303384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0F1C5-431A-4F5E-AED0-3B011E48CA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472836-1A4A-4A9F-8E8F-AB944C8FDE6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E581B-3888-45E5-B7D9-57535692AD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5E1CB5-AEDF-4FA7-BCFA-53E229308ED8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295FBC-115D-4DEE-ACC6-259DDB791D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D2E07-2D3B-4C00-A423-C58D7AAA50A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FD609-4EDA-4DA7-B7C5-1B849D2E22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3F72B1-FD86-4ED4-89C5-CC8D973F75F0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3B3359-CE6E-411F-B588-D8C2D8A924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3E0728-B009-491A-954D-C15911AC13E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DB3331-6404-4BF3-BDDE-BBA816510D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89373D-4690-46F9-87B8-34EC091235C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B03846-1C70-4953-B026-9705162663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12F4-5413-4E51-9280-FEB31897E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BB84-D9CC-4511-A4AF-A752D62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6079-4D64-4D23-B1B2-C1F8D49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6637-3DFF-489B-8CFC-DAF1FA169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BBC-A7BE-4816-B9F2-BA05222F7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440-8AE2-49E9-B565-CAE461F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A38-C717-4430-AD1C-376CE54A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2E8-1055-4F47-BE54-C2577B95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562-5366-470D-9183-FDDBE8AF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9A1-2205-4B18-A259-7ED1C642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2CD-FB19-468A-A96E-9305C59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5342-F527-4123-A9F3-B2C50461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C3A-6BD5-4172-A8B7-86A14A90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081-3644-4388-BD78-F4A0BD1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ECC-D5B5-465B-BDFF-E36DA13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794-E585-4797-8C2C-D8D7C2F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2F7-3247-4106-9A7E-68F25DD84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9985-222F-4A2B-92F5-8B53DC69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9350-8FE5-44C5-B932-E5ABF6B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9EDF-AE7B-4F64-9305-CA0E3135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3CF6-C4B6-415B-AF94-C9D6A6B2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FE85-13F1-4393-B2DA-45CF587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8ED8-AD1A-4C07-8969-0A6B28A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C5C4-3826-4B98-8687-7B1A5660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A96661-8E7A-49A9-B479-4EFBE12E3B4C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163FE9-63E4-4813-823F-BF1773CAE1F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формационное пра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5720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дения (сообщения, данные), независимо от формы их предст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защите информации» 2006 г.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ый ресурс формируется на основе приобретенных человеком зн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ный цикл формирования и использования ИР немыслим без  системы связей и передачи информации между различными субъект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242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91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тличие от других отрасл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101592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совокупность реально существующих материализованных результатов творчества и труда, воплощенных 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информации при разнообразии форм ее проявления и формируемых на этой основе информационных ресурс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средствах и технологиях работы с информацией (информационных технологиях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средствах и технологиях коммуникации информации по сетям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14616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ринципы правового регулирования отношений в сфере информации, информационных технологий и защиты информ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вобода поиска, получения, передачи, производства и распространения информации любым законным способ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становление ограничений доступа к информации только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открытость информации о деятельности государственных органов и органов местного самоуправления и свободный доступ к такой информации, кроме случаев, установленных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равноправие языков народов Российской Федерации при создании информационных систем и их эксплуат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обеспечение безопасности Российской Федерации при создании информационных систем, их эксплуатации и защите содержащейся в них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 достоверность информации и своевременность ее предост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 неприкосновенность частной жизни, недопустимость сбора, хранения, использования и распространения информации о частной жизни лица без его соглас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 недопустимость установления нормативными правовыми актами каких-либо преимуществ применения одних информационных технологий перед други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для создания и эксплуатации государственных информационных систем этот принцип может меняться в рамках  Ф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2876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чники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1643040"/>
            <a:ext cx="4500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итуция РФ от 12.12.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 21.10.1994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о защите информации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0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коммерческой тайне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9 июля 2004 г. N 98-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43280" y="1000080"/>
            <a:ext cx="4500720" cy="68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связи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7.07.2003 N 126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ЭЦП» 10.01.2002 N 1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СМИ» 27.12.1991 N 2124-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Государственной тайне» 21 июля 1993 г. N 5485-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персональных данных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7 июля 2006 года. N 152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0" y="214200"/>
            <a:ext cx="4500720" cy="70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9 февраля 2009 г. N 8-ФЗ "Об обеспечении доступа к информации о деятельности государственных органов и органов местного самоуправления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9.12.1994 N 78-ФЗ (ред. о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3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6.2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"О БИБЛИОТЕЧНОМ ДЕЛЕ" (принят ГД ФС РФ 23.11.199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б ОРД» 16 февраля 1995 г. N 15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86200" y="214200"/>
            <a:ext cx="43578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О ЗАЩИТЕ КОНКУРЕНЦИИ от  8 июля 2006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Банках и банковской деятельности» 02.12.1990 N 395-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изм. 25 ноября 2009 г. N 281-Ф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2.10.2004 N 125-ФЗ (ред. от 13.05.2008) "ОБ АРХИВНОМ ДЕЛЕ В РОССИЙСКОЙ ФЕДЕРАЦИИ" (принят ГД ФС РФ 01.10.2004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осылки для формирования отра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143000"/>
            <a:ext cx="82296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нформационной деятель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информации в ресурс жизнедеятельности и развит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информационного ресурса как товар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териальная природа возникновения информации и особая форма ее выражения (овеществления) и включения в социально-экономическую сферу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1159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тановление информационных отношений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28760" y="1500120"/>
            <a:ext cx="82580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нформационное право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мплексная отрасль российского пра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 определяется их субъектным соста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обые категории субъектов информационных отношений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бладатель информационных ресурсов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ператор информационной систем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ФЗ «Об информации, информационных технологиях и о защите информации» ст. 2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ормы информационного права регулируют далеко не все, а лишь наиболее важные, принципиальные группы общественных отношений, которые имеют существенное значение для интересов государства, общества и личност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0" y="-39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формационные правомоч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981000"/>
            <a:ext cx="889308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право знать содержание информации (владение информацией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право применять информацию в собственной деятельности (пользование информаци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раво тиражировать и распространять информацию (распоряжение информацией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ют три субъ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создатель информации (обладает всеми информационными правомочиями по факту ее создания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обладатель информации (пользователь по авторскому праву) - приобретает информационные правомочия например, по авторскому договор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отребитель информации (имеет только право знать содержание информации и применять в личной деятельности, ему запрещается распространять информацию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ы пра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981000"/>
            <a:ext cx="914400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 — совокупность способов правового воздействия на общественные отношения, составляющие этот предм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.е.  способы воздействия отрасли информационного права на информационные отнош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функциональность и специфика информации приводит к необходимости применять в информационном праве по сути дела весь известный спектр методов правового регулирования в зависимости от вида и назначения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енности метода проявляются в правовом положении субъектов, форме и содержании правоотношений, в юридическом инструментарии, используемом при воздействии на общественные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858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—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етод субординации (императивный) -  положение субъектов характеризуется отношениями подчиненност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ой —метод координации (диспозитивпый), строится на основе равенства участников правоотношений и их автоном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нформационное право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истема правовых норм, регулирующих на комплексной основе дозволений, позитивных обязываний и запретов область общественных отношений по поиску, получению, передаче, производству и распространению информации и производных от нее продуктов, а также смежных с ними отношений, признанных действующим законодательством информацион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11120" y="900000"/>
            <a:ext cx="82296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шены вещной приро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-за этого ВОЗНИКАЮТ трудности при введения критериев стоимостной оценки результатов информационной деятельности, оценке ущерба, причиненного отношениям в той или иной локальной информационной сре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мет отрасли информационного пра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440000" y="1905120"/>
            <a:ext cx="73800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«комплекс общественных отношений, возникающих при реализации информационных процессов, т.е. создания, сбора, обработки, накопления, хранения, поиска, распространения и потребления информации, а также процессов создания и применения информационных систем, информационных технологий и средств информационной безопас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28760" y="142920"/>
            <a:ext cx="8229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мет и объект  информационных отноше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28760" y="1143000"/>
            <a:ext cx="83581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явно выраженный предмет отношений - информац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тношения физических и юридических лиц, органов публичной власти и иных  организаций по поводу реализации своих прав относительно предмета на стадии их создания, включения в оборот и их соз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воего специфического метода правового регулирования информационное право не име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8:07Z</dcterms:created>
  <dc:creator>Admin</dc:creator>
  <dc:description/>
  <dc:language>en-US</dc:language>
  <cp:lastModifiedBy>ZooM</cp:lastModifiedBy>
  <dcterms:modified xsi:type="dcterms:W3CDTF">2013-12-10T14:21:57Z</dcterms:modified>
  <cp:revision>54</cp:revision>
  <dc:subject/>
  <dc:title>Слайд 1</dc:title>
</cp:coreProperties>
</file>