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5D3-6B31-4B8C-A827-4EE63FA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A89-3407-4313-BE15-E2186666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1599-038B-43CB-9A09-5D5B9D0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F4D6B-B3DD-4500-89CF-2E253520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9109-AA8F-472E-B274-DC9AF114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0CF25-5253-40E8-B45B-98E03DB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46195-6043-4016-A9CB-638EA5A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7EB9-F518-49F5-B915-850F796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C9904-AD94-4433-8442-2AF521C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2445B-D208-4355-89E0-555BE5F7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1E2AB-830B-4C3C-A0A4-FBF8AF0C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81E0-59F0-479D-A907-BAFA6E80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F07-D592-4761-B7BC-6BE9E3A0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B2A00-1268-4E4E-A7A9-F502F12A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40FB2-1AE5-4150-8E99-85308B4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EEE35-C745-42E4-886E-4889530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1BE5B-3AF6-4453-A657-9062B61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0B60F-0C5C-40EC-AF70-C3A3E125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0E973-74CB-4DA2-8615-75BFDCFD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5DC1A-D3C9-4ABD-851F-8C8017C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4ABCB-ACAC-45B9-AD39-AE9AAC65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AAC75-A64E-47C7-9DD8-7C2FC093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A60B-8812-47FE-83F2-1A462C8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FD8-2500-4E4C-B8FB-A41CBF2C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67506-9B0C-4E00-805F-61F70530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026B0-B4AC-4AEA-8E7D-8759F6B7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C0274-5686-4AF7-B7CF-2ED028DE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AC3A-FF5F-4F55-AE3F-C2C327FC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C13A-55DD-4BD3-8802-31F8AEB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647B-76CB-44F1-A8A2-62468D58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0361-014B-440A-93E2-87E722D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EF4B3-B5F7-4D93-9C20-998ED62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70DD1-C51B-4A5F-8532-47EEEF8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AFFB-A355-4CF3-A1D5-98F6D30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F80-2952-4F12-85A1-222DE687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D097A-05B8-4574-8BDA-98DB7BA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E3BA4-4A53-4488-A55B-F0456A87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7DA4E-6A1D-42BE-8F29-B7A72D53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9B413-10F7-4660-85FE-11C3C66F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D4ECE-CFCC-4E0B-B545-E187827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CCE99-6FC6-4B59-8197-CEE20C9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51387-FB23-405C-B576-908C3073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C2510-E0A5-4E48-960A-07C736B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2EEB4-CDEC-40E2-8159-377FA63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83D0B-1E58-494C-A708-67259A3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FDA-D3AE-4075-A7E1-3A572D4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87F3D-029C-4DC2-86E6-C917D8C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9A5E4-CF50-4174-BDF6-F3FEEDB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638F0-3D22-40ED-8CC6-AA1C847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7702-753C-4583-B052-DC647CD4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54F2F-8B59-4C04-B913-235AF3A4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B24-D929-4B71-ADC5-1BA1D7FE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4FB-1A2F-4F99-973E-B95EE99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AC4-AD19-4A92-8856-1AC7260C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7D9-7ABB-4DF8-A62E-4E7F8EB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06D2-B71B-4E54-BC76-26F0F27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3C7-B143-49CE-ADAE-1AA75AA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0481-5C8E-49DE-8F61-4FE77E8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C0BA-D62F-49B2-8DF1-D411F17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2F1-BFFF-48F4-9799-C3C17AF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520-AA41-4BFA-8C8C-5ABC9526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C8D6-0E63-4FB7-B1E1-64DE8F78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9221-DCC7-464E-B072-EB83A63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E545-E75F-49AB-9824-67279F8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40D4-5D51-48D9-96AD-7E95549E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070A-DB49-4F5C-9AA3-F4146ED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0918-8CE2-4FD3-BB1C-3CA66933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A77-CF11-4735-8F08-3A61AD8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E8D4-C26F-4127-A958-C9B172E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C7E5-D3F2-4FF1-9B99-946DA6F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9D01-78DD-436D-A214-79A93C5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8397-E6ED-4DAA-92B2-9A9DE72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E326-14D9-4E85-81DC-421D5B2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9AC6-0A5E-4F3B-A485-18FB35A1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CC94-2344-4E71-9824-0F957720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59F4-6C55-47E3-B99A-111D2B1B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491A-3294-4DB6-835A-72A4411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A8D9-473B-4DA8-8C85-071D5C5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5AD-AA08-4008-8F07-79EAFE2B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28D6-F0B1-4891-BEAC-A31F559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E964-9E2A-4F26-81AA-E575F3B0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3A0C-12BB-47ED-8242-2917987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3BE5-530D-472C-B226-00133B7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9D4C-5B3F-4EFE-ACDE-AAF28AC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4E44-0521-41A1-A332-4DE6816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ED19-E144-49D3-A4E4-6C2B061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2B488-F7AB-419D-A283-312724B3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27D3-4CE2-4A02-B7DB-4777C6B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3419-0E27-4351-96FF-E4084E56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88E-EBB4-4690-8F9A-12D715E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1246-120B-4884-A64D-8984959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1A00-2F31-4435-B9C2-F147316C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4B296-DD50-4D4A-A68D-A7BD696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ADF3-5829-4558-8E95-4458BAB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B67F-E46B-4732-84EF-C59EBEB2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6A84-0B1B-49A2-A9C1-95CE799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D1E9-15A6-4821-9C31-EBCDA5D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F470-B92B-48F6-8A19-BB73BD3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8419-6CE4-41BC-8F82-A45D9BF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C106-8903-4A4C-A696-6236C2FC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0EB-C774-4F67-88B3-DBA3C65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9E11-C653-4798-890A-7D1ADA5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72ED-3C31-4E66-B5AD-94C431B8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E83A-C8D8-4BD1-8463-F688CED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9C5B-8E38-4B1C-90A3-0D225EF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42C5-DD2F-4525-AFBB-616C1EFC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B262D-10BA-4300-948D-109E3458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F3D0-76F6-483F-B837-0FE0073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C2F9-0942-410A-92F2-16F48B4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B018-A9DB-4333-8A1B-11039D4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72DE-B2F4-48A9-8D79-7A2D64D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502-7661-4F1D-AAAB-092F78E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368D-D696-4C08-8AF8-23642D4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7E7E-4EBA-4C4A-BA64-E2ECC80D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169A-36C8-412E-8964-CBDF293A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EBA6-9E33-40BB-A037-86530650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2BA7B-BBEC-4A8A-95E2-2034AE5C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2329-79F4-4321-8AA1-40ED18CB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D7D3-45F3-4E14-9067-B8B2A2FB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B276-0F05-465F-BFD4-79E485B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D07F-701B-4C12-8D1D-36D471A8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ED07-E0A7-4722-B451-2EFC7F3D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BAB-4FED-4992-A08B-FD034BD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6A21-9B0A-4276-948B-1F3E658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E339-B781-4ED3-A7C3-1DB8A5F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72D9-A86D-4979-9D5E-BA5E131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45F5-6D24-444D-88D0-C3CB942F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7DE9-81F8-42A3-BA5B-9A686AB5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B580A-3AB8-457F-8B2A-704C4694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1361-33A0-4AEE-A99C-E920803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D7E32-4F34-49D4-AC5C-7D74BFC7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36138-78ED-4705-A3F0-2392F63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3C48-A1F7-49F7-B116-0A4C931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9DC-21A8-49BA-801A-B74D661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8C87-314F-44FB-A205-02794FA3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47B38-B4BB-49DA-9582-BEB512E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35D4-3F92-4E88-8D30-13EB408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1C80-11F8-4FD4-8E71-E3EF446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0041-3E51-4F9A-8934-8CB5B815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2320B-2521-489C-9E62-CED47648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6B3D-B64D-43FD-A0E7-4595C0EF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207A-2C51-4BFD-BE00-8921EC80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FD729-BB30-4363-9A86-9EC942D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9C671-A27E-4DE0-89AF-E505EF2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F28-C221-4332-AF84-90BCB8072D9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7D1D-97B6-4E9A-90FC-89C0610FC18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5C2-C850-49DB-9C85-00D786586D5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5DC0-9E17-434C-A494-243D322B6BF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B33-EC19-4AED-B698-9EB7F0567A2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A435-5905-4FE6-B759-D21283663AE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EE7-8EEE-4D70-A16D-CF2F0650E3E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78E4-488B-4FCB-98DD-3A5A5F2353C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3B5-6B47-435E-895D-BD263FDC169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E7A-9A05-453A-AE62-63B59A84FC4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4A0-5F0E-4C06-A9E0-1038CED2534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4F11-2784-4A39-A845-41F046F07FFE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4"/>
          <p:cNvSpPr/>
          <p:nvPr/>
        </p:nvSpPr>
        <p:spPr>
          <a:xfrm>
            <a:off x="1619280" y="0"/>
            <a:ext cx="75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мена на земле  Тамбовской просиявшие</a:t>
            </a:r>
            <a:r>
              <a:rPr b="0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7"/>
          <p:cNvSpPr/>
          <p:nvPr/>
        </p:nvSpPr>
        <p:spPr>
          <a:xfrm>
            <a:off x="1928880" y="6211800"/>
            <a:ext cx="65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564000" y="2060640"/>
            <a:ext cx="50720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  Бога к человеку столь велика, что Он не может принуждать! Он ждёт у дверей нашей души, но никогда не дерзнёт их взломать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русский филосо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ладимир Лосск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2879640" cy="3384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0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E:\мама\Питирим\фото Питирим\питирим 2\источник в трег..jpg"/>
          <p:cNvPicPr/>
          <p:nvPr/>
        </p:nvPicPr>
        <p:blipFill>
          <a:blip r:embed="rId1"/>
          <a:stretch/>
        </p:blipFill>
        <p:spPr>
          <a:xfrm>
            <a:off x="214200" y="2428920"/>
            <a:ext cx="3265560" cy="200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3"/>
          <p:cNvSpPr/>
          <p:nvPr/>
        </p:nvSpPr>
        <p:spPr>
          <a:xfrm>
            <a:off x="2484360" y="18900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247680" y="4724280"/>
            <a:ext cx="31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в Трегуляевском монастыр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5"/>
          <p:cNvSpPr/>
          <p:nvPr/>
        </p:nvSpPr>
        <p:spPr>
          <a:xfrm>
            <a:off x="3635280" y="1413000"/>
            <a:ext cx="518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   «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@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скорыстная любовь, искреннее желание всем добра, а также кроткое, ласковое обращение – это было главною причиной сильного влияния архипастыря на его пасомых.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3276720" y="1557360"/>
            <a:ext cx="51433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ление души Питирима к Богу и единению с Ним составляло основу всех его монашеских подвигов, смысл его жизни, освящало все его деяния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2" descr="E:\мама\Питирим\фото Питирим\обитель, где был игумен Питирим.jpeg"/>
          <p:cNvPicPr/>
          <p:nvPr/>
        </p:nvPicPr>
        <p:blipFill>
          <a:blip r:embed="rId1"/>
          <a:stretch/>
        </p:blipFill>
        <p:spPr>
          <a:xfrm>
            <a:off x="324000" y="2384280"/>
            <a:ext cx="2703240" cy="2268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47" name="Прямоугольник 8"/>
          <p:cNvSpPr/>
          <p:nvPr/>
        </p:nvSpPr>
        <p:spPr>
          <a:xfrm>
            <a:off x="324000" y="472428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96969"/>
                </a:solidFill>
                <a:latin typeface="Times New Roman"/>
                <a:ea typeface="Times New Roman"/>
              </a:rPr>
              <a:t>Обитель, где был Питирим игуме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2050920" y="33336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10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2"/>
          <p:cNvSpPr/>
          <p:nvPr/>
        </p:nvSpPr>
        <p:spPr>
          <a:xfrm>
            <a:off x="0" y="1052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630360" y="3222720"/>
            <a:ext cx="78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days.pravoslavie.ru/Life/life4321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www.eparhia-tmb.ru/monastery/tregulyaj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Вестник Православия, 2000.Том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VI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  № 8 (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А.Алленов, Центр Православной культу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г. Там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Рисунок 5" descr=""/>
          <p:cNvPicPr/>
          <p:nvPr/>
        </p:nvPicPr>
        <p:blipFill>
          <a:blip r:embed="rId2"/>
          <a:srcRect l="0" t="0" r="3865" b="15060"/>
          <a:stretch/>
        </p:blipFill>
        <p:spPr>
          <a:xfrm>
            <a:off x="4788000" y="189000"/>
            <a:ext cx="4032000" cy="2519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5940360" y="2708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к н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8"/>
          <p:cNvSpPr/>
          <p:nvPr/>
        </p:nvSpPr>
        <p:spPr>
          <a:xfrm>
            <a:off x="4788000" y="39337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ница 10-го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уделина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228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1187280" y="580536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Тамб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248000" cy="4687920"/>
          </a:xfrm>
          <a:prstGeom prst="rect">
            <a:avLst/>
          </a:prstGeom>
          <a:ln w="0">
            <a:noFill/>
          </a:ln>
        </p:spPr>
      </p:pic>
      <p:sp>
        <p:nvSpPr>
          <p:cNvPr id="509" name="TextBox 3"/>
          <p:cNvSpPr/>
          <p:nvPr/>
        </p:nvSpPr>
        <p:spPr>
          <a:xfrm>
            <a:off x="1116000" y="3059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итир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332000" y="189000"/>
            <a:ext cx="73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ятитель Питири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3276720" y="260280"/>
            <a:ext cx="4824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лажен, кто среди бед и з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блюл Евангельский гла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плоть распял с её стра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вергнув беззаконий гнё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 к свету вечному ид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преткновенными н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чуждый дольней су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ится в вечную обитель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итель вечной красо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де в славе царствует Спас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Отцом и Духом и пред Н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ют немолчно  херуви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 ними лики гор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вечереющих свети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п. Варсонфий, 1889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E:\мама\Питирим\фото Питирим\дептуровская.jpeg"/>
          <p:cNvPicPr/>
          <p:nvPr/>
        </p:nvPicPr>
        <p:blipFill>
          <a:blip r:embed="rId1"/>
          <a:stretch/>
        </p:blipFill>
        <p:spPr>
          <a:xfrm>
            <a:off x="684360" y="2852640"/>
            <a:ext cx="1912680" cy="22320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26920" y="522936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туровская ик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6"/>
          <p:cNvSpPr/>
          <p:nvPr/>
        </p:nvSpPr>
        <p:spPr>
          <a:xfrm>
            <a:off x="1332000" y="33336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7"/>
          <p:cNvSpPr/>
          <p:nvPr/>
        </p:nvSpPr>
        <p:spPr>
          <a:xfrm>
            <a:off x="3924360" y="2009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учить жизнь и деятельность святителя Питирим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пископа Тамбов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79280" y="53006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анно- Предтеченский монасты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10"/>
          <p:cNvSpPr/>
          <p:nvPr/>
        </p:nvSpPr>
        <p:spPr>
          <a:xfrm>
            <a:off x="248436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E:\мама\Питирим\фото Питирим\Тамб.Иоанно-Предт. мон..jpeg"/>
          <p:cNvPicPr/>
          <p:nvPr/>
        </p:nvPicPr>
        <p:blipFill>
          <a:blip r:embed="rId2"/>
          <a:stretch/>
        </p:blipFill>
        <p:spPr>
          <a:xfrm>
            <a:off x="395280" y="2492280"/>
            <a:ext cx="3330720" cy="2665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476360" y="26028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поте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1476360" y="172080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очисленные  уроки, которые можно извлечь из жизни святителя Питирима  - средство для спасения души и прославления верного Богу челове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2"/>
          <p:cNvSpPr/>
          <p:nvPr/>
        </p:nvSpPr>
        <p:spPr>
          <a:xfrm>
            <a:off x="2124000" y="333360"/>
            <a:ext cx="59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од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611280" y="1989000"/>
            <a:ext cx="835344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йти и изучить  материал о жизни и деятельности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брать факты из жизни святителя, которые можно считать полезными для спасения душ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анализировать основу монашеских подвигов святителя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формить результаты, сделать     соответс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вующие выв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255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ятитель Питирим – это крупнейший церковно-исторический деятель конца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VII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призванный вместе с Тамбовскими воеводами укреплять границы русского государства.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 природы он имел выдающиеся дарования, хорошую память, способность  разбираться в запутанных обстоятельствах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Святитель Питирим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1547640" y="33336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пров"/>
          <p:cNvPicPr/>
          <p:nvPr/>
        </p:nvPicPr>
        <p:blipFill>
          <a:blip r:embed="rId1"/>
          <a:stretch/>
        </p:blipFill>
        <p:spPr>
          <a:xfrm>
            <a:off x="0" y="189000"/>
            <a:ext cx="1254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ы меньше делать ошибок, нужно внимательно изучать опыт каждого поколения, так как за событиями стоят конкретные люди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уклет «Жизненный путь святителя Питирим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1332000" y="33336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38836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ходатайству архиепископа       Тамбовского и Шацкого Кирилла перед Святейшим Синодом о прославлении и открытии мощей святителя Питирима была создана специальная комиссия, которая  изучила вопрос о чудесах благодатной помощи по молитвам святителю Питириму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TextBox 2"/>
          <p:cNvSpPr/>
          <p:nvPr/>
        </p:nvSpPr>
        <p:spPr>
          <a:xfrm>
            <a:off x="1547640" y="26028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4"/>
          <p:cNvSpPr/>
          <p:nvPr/>
        </p:nvSpPr>
        <p:spPr>
          <a:xfrm>
            <a:off x="792000" y="515772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Чудеса и исцеления святителя         Питирим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04:08Z</dcterms:created>
  <dc:creator>Алексей</dc:creator>
  <dc:description/>
  <dc:language>en-US</dc:language>
  <cp:lastModifiedBy>Алексей</cp:lastModifiedBy>
  <dcterms:modified xsi:type="dcterms:W3CDTF">2011-01-20T04:30:07Z</dcterms:modified>
  <cp:revision>71</cp:revision>
  <dc:subject/>
  <dc:title>Слайд 1</dc:title>
</cp:coreProperties>
</file>