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2908-DFBD-4B98-B7C4-791E1A11D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AE69-2FAF-4FA3-911A-39F893B4C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030D47-36AD-445D-9853-E9FE689EC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90C572-7BF2-4C1C-A5FE-C9B0F0ACE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F4953D-175F-4985-B56F-2193DD510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449FC0-BD5D-431C-9925-227141D25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0D4512-B7AF-447D-91F2-76C22A766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528E0D-C777-425F-A55F-CAF80BC60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651599-6119-4636-AB9B-53CA30DAB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5B0251-B4B6-4C29-9B04-08C18F7D3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617F9F-8EDA-464B-8D4D-9DDC46F4C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AC6AC6-878F-4A3E-B217-70C115C19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5210-F1CC-467F-BA83-5809542AC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538B85-9917-4577-8AD9-91DF23132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6BCB4D-72E7-4FF9-8481-CF5E1A6D1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39C59C-234D-4E7C-88A4-D4B3FCE15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AEF900-23EF-40DA-AF0C-03033D587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703371-B99F-47EE-893E-491859DB6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F2F083-6737-4B10-8827-DF0CF7C30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F5F30A-C74B-4D42-A553-648686A6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66B218-2411-4BD1-80B2-1C04F3F11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09BD3D-1094-49D8-A3B7-826060698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4D522A-63EC-4146-9288-ADDE985E6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EF99-D667-4BF3-AC6A-2E043E422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4FAFDA-7755-4EB2-8010-AD6283674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4D2B9D-8482-4746-AB6F-4BFC6BFF2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0BDB62-8D7F-48B5-AE7E-F3C677E50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AFFF75-A0FF-4E08-AAD3-A8D321522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54F636-E8A4-475E-BCD8-C9EB44382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9142FF-F780-4262-89CC-3CFD50D0D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698A36-ACEC-4D45-8D71-3228AB281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E0FBA4-E265-46A7-BEC7-394152DAA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9EED3B-657A-42BE-BD4B-58018CB0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076C96-1B88-4277-B5AD-9DE205C65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2D68F-B9A3-438A-940F-63D1084C1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14A87E-6FAB-42ED-9D9B-A2AE13576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980241-276F-4724-BDA7-77E805BE1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CA67FF-4B1D-42A9-8841-D54FBF633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559C92-66C4-4E84-AA2F-18103ECE0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F3880A-A34A-4329-9943-E308BFC60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F7768C-4A75-4399-ADE4-957769514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87BA57-2D18-4A48-BD94-171A62D28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814360-FACE-4266-A752-474B202A5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5791E1-552F-4D99-A7F8-29FE84C17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8839C1-D9D3-4CCC-A9CA-ADA1DFC51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5718D-464B-4736-A42D-61D9F8309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557712-743D-4F41-A8E4-6BA95E338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79C8A6-7D51-41B3-AF4C-BD6E30B6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2AF9E3-7509-45CA-86DD-57D3FF277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107A46-15F2-4CE0-BBDF-F17D409A2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0E16CD-111C-4A31-B048-2A9EB97B2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EB32C-1D89-4FF0-9459-9979A2E5C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E3A57-D383-4697-9A9A-7F8F8B49B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84729-ED67-419A-B39B-25C0D77B6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438F9-C149-4C80-AFCD-68BE70612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DDC3A-5FB1-48E2-AACB-9C954EE63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2444-28A6-4206-833B-A94E4743E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A1853-E9E8-4333-8EB6-B961EF4CB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5C0E2-1CF8-4800-BBD1-FC4CE3952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85BE5-B69E-4E35-8E2F-7C4DD6CD1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A34BD-7C67-410F-9EE8-005A964C3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4EA10-BFD9-4138-8BDA-FCBD769CF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81151-E75A-4534-902A-79699AA1C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3DC0B-1402-4335-A7F9-4064FB921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B1CD2-7B5F-4C65-98CC-689E7FC42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EC690-53B1-492A-82E0-A16327D0D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B4FB2-4C09-4A6B-BDFB-9E4B01E62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FBC8-A2C8-4141-B387-6F073D8D9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08536-0F25-4BFF-BE26-CD9D64C16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9F6A6-21D8-4D02-87AD-05882AB0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91818-D51F-4FEE-8260-D38565EE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9A236-3894-4CDB-843A-46448E86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25CCA-4157-40CD-A2D8-6EDC1D55F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6683D-6039-49C5-B3F4-89E3D583B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4A9F5-7035-4E40-B9E8-A9003BC17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E1FD3-6D50-44B7-B2D9-15FA029C9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916C6-7FAA-4AAF-B833-9CC7EDAAE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D265F-AADF-4CEA-BB41-31FAAE404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267B-3C12-4892-B2BD-A1F87D9FB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3A4AE-FF96-4E9C-97B3-BF0A96BBC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99134-52C1-461B-8450-A7F7CF2EE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36ADD-41E7-4569-AC8B-501841E20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B1069-CCB7-403E-9004-BE26B6316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95B6A-41BC-490F-A965-458BBF5CD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80C23-D676-4703-954A-E481E4120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DA201-F34E-4DF3-9437-8957E3204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28E66-BCB8-4D13-91C0-6B86C1FBD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501F8-49B3-41D2-B0B7-FBF9105F6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9D675-125B-497C-950A-7689F59EE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E26D-78FD-4E40-A206-DF7EA8CB1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9F2C0F-8511-437D-9019-CB9871EC0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555848-8C16-40A2-8F29-B0C9C117F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DD4BF2-A8E1-49C3-8696-9F0E71052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26F0D-E97C-44D7-95D2-69629E170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55F05-F982-4D00-ABA7-94F7D0179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9957C-2C5A-4DD5-9FF6-DF3923B10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17B6C6-4311-4B39-AF23-9D7C241A3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94AB18-0735-4F4E-ABD0-4786D183B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7A738-936D-484B-A626-8DE2E62BF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E67606-350F-4F3E-9769-0B07087A9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5297-BAC7-4516-A094-902BE5638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E97B6C-BF14-4B8B-9E67-4F2598D2F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9C290-2D08-4C62-BE59-3A06865DD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BA6B67-D125-4729-AB7A-8B776E18D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495C71-375B-4572-A6E2-E10F38557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A56A6D-7D2C-4B77-AB5C-D395C8A4F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D015B2-67AD-47D6-BEFB-9C3131A1F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CB9AEE-4C5B-46D1-BEC5-D8458A3F8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B29FBE-18E3-4CD4-9CD5-BB94A8F0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5A9CC4-8F31-4760-8B9C-28506EEA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64324F-46FF-4F38-A384-55D25EE47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91B9-02F2-40AB-ADE3-08C1E0302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CB7E40-7496-434A-872C-2BE08035B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A750B2-B62A-486C-9C47-D9AA1EE3D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9A63DD-CBAA-4528-B858-42BF8B75F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5A6388-F50B-4D78-AFA5-6F8438F7A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61957C-D14E-4130-9D31-B792C9ED2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1EE4B6-5F73-4CB7-9806-3CD67BE46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783E01-B9C8-4A8C-9D60-5AAFA9EB1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4BE35E-E520-4D5C-A615-05A062515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11BF56-8A96-4AF8-BAD5-C40FC7B8B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B7C435-4656-4792-86F6-46E81743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F4FF-1134-4CF5-B782-44FB46C8A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5E8073-742F-462E-B637-0A8EE534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4AB4D1-082F-4EF4-B2E0-6EFFE861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5FE243-9B1D-42C2-89CE-40501D600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312273-F418-40CA-BE35-F43C5AA33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6C351C-65E0-47E1-A7C7-41CA13F40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5826E1-C989-44F8-A45B-89E678961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F19AC8-DAD0-4DE9-A4EB-37E141DFC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8F2B26-A042-4230-B3BF-647880312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723FC1-4767-4306-BC3C-CD67A4AB0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DA7BD3-A6D8-4C76-96A2-7F35205E6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F8C1-4AC1-4E99-ABB4-C4D886A1D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42C6E7-99BD-4C84-9958-F23AE1A6A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D7FD5D-7432-4FC4-919A-E66955D68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F82FFA-8E8C-440C-811B-9DDB9CA4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976392-59F3-4DAE-87CE-9B90822D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C2ED10-9911-434C-8F22-7E0185978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C7EFE5-319E-4118-947D-76973A9E9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B1127B-22F9-449A-9AB5-32D6AB712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CB6E48-1A93-46F0-AAF8-2EEE14BCE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BDD433-3B6A-4345-86DA-AB7011369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574CA4-9CD8-4C1A-A529-E12412391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64EE8-F01C-4D98-8D4F-538D0A8E2DAE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8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9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30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2BEEB-F984-416F-A350-CE47579D3215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3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3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3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E68E5-D329-445D-AD30-05A8F7EF349A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34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35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36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70CE8-96BD-4FD8-BD39-BC1D059C53E5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0D6B5-D705-4E22-9AE1-DBD7A7B07202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35696-898B-4AA2-BCEC-4D611ABB4B6E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9AD7D-C015-4113-A7E1-6077AD185150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C3D5E-932D-4D9E-88E6-7CEB1531BFEE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8B520-D778-4C62-B533-EAB18B93C172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9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20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21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6F528-3FDD-4163-BB88-DB68A4F8BD3C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CBD7D-6732-4E82-BA04-ED9F602871C6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5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6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7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D36CA-B163-4D7B-91CF-28D4210DB82C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Прямоугольник 4"/>
          <p:cNvSpPr/>
          <p:nvPr/>
        </p:nvSpPr>
        <p:spPr>
          <a:xfrm>
            <a:off x="1619280" y="0"/>
            <a:ext cx="7524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Имена на земле  Тамбовской просиявшие</a:t>
            </a:r>
            <a:r>
              <a:rPr b="0" lang="ru-RU" sz="4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          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Прямоугольник 7"/>
          <p:cNvSpPr/>
          <p:nvPr/>
        </p:nvSpPr>
        <p:spPr>
          <a:xfrm>
            <a:off x="1928880" y="6211800"/>
            <a:ext cx="650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3300"/>
                </a:solidFill>
                <a:latin typeface="Times New Roman"/>
              </a:rPr>
              <a:t>МО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3300"/>
                </a:solidFill>
                <a:latin typeface="Times New Roman"/>
              </a:rPr>
              <a:t>Тулиновская средняя общеобразовательная школ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Прямоугольник 8"/>
          <p:cNvSpPr/>
          <p:nvPr/>
        </p:nvSpPr>
        <p:spPr>
          <a:xfrm>
            <a:off x="3564000" y="2060640"/>
            <a:ext cx="5072040" cy="36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Любовь  Бога к человеку столь велика, что Он не может принуждать! Он ждёт у дверей нашей души, но никогда не дерзнёт их взломать!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(русский философ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ладимир Лосской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Рисунок 6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2879640" cy="338472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504" name="Picture 5" descr="пров"/>
          <p:cNvPicPr/>
          <p:nvPr/>
        </p:nvPicPr>
        <p:blipFill>
          <a:blip r:embed="rId2"/>
          <a:stretch/>
        </p:blipFill>
        <p:spPr>
          <a:xfrm>
            <a:off x="250920" y="189000"/>
            <a:ext cx="137628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2" descr="E:\мама\Питирим\фото Питирим\питирим 2\источник в трег..jpg"/>
          <p:cNvPicPr/>
          <p:nvPr/>
        </p:nvPicPr>
        <p:blipFill>
          <a:blip r:embed="rId1"/>
          <a:stretch/>
        </p:blipFill>
        <p:spPr>
          <a:xfrm>
            <a:off x="214200" y="2428920"/>
            <a:ext cx="3265560" cy="200808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5" descr="пров"/>
          <p:cNvPicPr/>
          <p:nvPr/>
        </p:nvPicPr>
        <p:blipFill>
          <a:blip r:embed="rId2"/>
          <a:stretch/>
        </p:blipFill>
        <p:spPr>
          <a:xfrm>
            <a:off x="250920" y="189000"/>
            <a:ext cx="1376280" cy="2133360"/>
          </a:xfrm>
          <a:prstGeom prst="rect">
            <a:avLst/>
          </a:prstGeom>
          <a:ln w="0">
            <a:noFill/>
          </a:ln>
        </p:spPr>
      </p:pic>
      <p:sp>
        <p:nvSpPr>
          <p:cNvPr id="541" name="Прямоугольник 3"/>
          <p:cNvSpPr/>
          <p:nvPr/>
        </p:nvSpPr>
        <p:spPr>
          <a:xfrm>
            <a:off x="2484360" y="189000"/>
            <a:ext cx="475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4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Вывод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Прямоугольник 4"/>
          <p:cNvSpPr/>
          <p:nvPr/>
        </p:nvSpPr>
        <p:spPr>
          <a:xfrm>
            <a:off x="247680" y="4724280"/>
            <a:ext cx="314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 в Трегуляевском монастыр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Прямоугольник 5"/>
          <p:cNvSpPr/>
          <p:nvPr/>
        </p:nvSpPr>
        <p:spPr>
          <a:xfrm>
            <a:off x="3635280" y="1413000"/>
            <a:ext cx="5184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    «»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@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» </a:t>
            </a:r>
            <a:r>
              <a:rPr b="1" i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Бескорыстная любовь, искреннее желание всем добра, а также кроткое, ласковое обращение – это было главною причиной сильного влияния архипастыря на его пасомых.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Прямоугольник 6"/>
          <p:cNvSpPr/>
          <p:nvPr/>
        </p:nvSpPr>
        <p:spPr>
          <a:xfrm>
            <a:off x="2286000" y="609300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3300"/>
                </a:solidFill>
                <a:latin typeface="Times New Roman"/>
              </a:rPr>
              <a:t>МО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3300"/>
                </a:solidFill>
                <a:latin typeface="Times New Roman"/>
              </a:rPr>
              <a:t>Тулиновская средняя общеобразовательная школ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Прямоугольник 1"/>
          <p:cNvSpPr/>
          <p:nvPr/>
        </p:nvSpPr>
        <p:spPr>
          <a:xfrm>
            <a:off x="3276720" y="1557360"/>
            <a:ext cx="514332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i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тремление души Питирима к Богу и единению с Ним составляло основу всех его монашеских подвигов, смысл его жизни, освящало все его деяния.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6" name="Picture 2" descr="E:\мама\Питирим\фото Питирим\обитель, где был игумен Питирим.jpeg"/>
          <p:cNvPicPr/>
          <p:nvPr/>
        </p:nvPicPr>
        <p:blipFill>
          <a:blip r:embed="rId1"/>
          <a:stretch/>
        </p:blipFill>
        <p:spPr>
          <a:xfrm>
            <a:off x="324000" y="2384280"/>
            <a:ext cx="2703240" cy="226872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sp>
        <p:nvSpPr>
          <p:cNvPr id="547" name="Прямоугольник 8"/>
          <p:cNvSpPr/>
          <p:nvPr/>
        </p:nvSpPr>
        <p:spPr>
          <a:xfrm>
            <a:off x="324000" y="4724280"/>
            <a:ext cx="2286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96969"/>
                </a:solidFill>
                <a:latin typeface="Times New Roman"/>
                <a:ea typeface="Times New Roman"/>
              </a:rPr>
              <a:t>Обитель, где был Питирим игумено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Прямоугольник 6"/>
          <p:cNvSpPr/>
          <p:nvPr/>
        </p:nvSpPr>
        <p:spPr>
          <a:xfrm>
            <a:off x="2050920" y="333360"/>
            <a:ext cx="655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4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Вывод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9" name="Picture 5" descr="пров"/>
          <p:cNvPicPr/>
          <p:nvPr/>
        </p:nvPicPr>
        <p:blipFill>
          <a:blip r:embed="rId2"/>
          <a:stretch/>
        </p:blipFill>
        <p:spPr>
          <a:xfrm>
            <a:off x="250920" y="189000"/>
            <a:ext cx="1376280" cy="2133360"/>
          </a:xfrm>
          <a:prstGeom prst="rect">
            <a:avLst/>
          </a:prstGeom>
          <a:ln w="0">
            <a:noFill/>
          </a:ln>
        </p:spPr>
      </p:pic>
      <p:sp>
        <p:nvSpPr>
          <p:cNvPr id="550" name="Прямоугольник 10"/>
          <p:cNvSpPr/>
          <p:nvPr/>
        </p:nvSpPr>
        <p:spPr>
          <a:xfrm>
            <a:off x="2286000" y="609300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3300"/>
                </a:solidFill>
                <a:latin typeface="Times New Roman"/>
              </a:rPr>
              <a:t>МО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3300"/>
                </a:solidFill>
                <a:latin typeface="Times New Roman"/>
              </a:rPr>
              <a:t>Тулиновская средняя общеобразовательная школ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5" descr="пров"/>
          <p:cNvPicPr/>
          <p:nvPr/>
        </p:nvPicPr>
        <p:blipFill>
          <a:blip r:embed="rId1"/>
          <a:stretch/>
        </p:blipFill>
        <p:spPr>
          <a:xfrm>
            <a:off x="250920" y="189000"/>
            <a:ext cx="1376280" cy="2133360"/>
          </a:xfrm>
          <a:prstGeom prst="rect">
            <a:avLst/>
          </a:prstGeom>
          <a:ln w="0">
            <a:noFill/>
          </a:ln>
        </p:spPr>
      </p:pic>
      <p:sp>
        <p:nvSpPr>
          <p:cNvPr id="552" name="Прямоугольник 2"/>
          <p:cNvSpPr/>
          <p:nvPr/>
        </p:nvSpPr>
        <p:spPr>
          <a:xfrm>
            <a:off x="0" y="1052640"/>
            <a:ext cx="65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4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Литератур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Rectangle 1"/>
          <p:cNvSpPr/>
          <p:nvPr/>
        </p:nvSpPr>
        <p:spPr>
          <a:xfrm>
            <a:off x="630360" y="3222720"/>
            <a:ext cx="7883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  <a:ea typeface="Calibri"/>
              </a:rPr>
              <a:t>http://days.pravoslavie.ru/Life/life4321.ht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  <a:ea typeface="Calibri"/>
              </a:rPr>
              <a:t>http://www.eparhia-tmb.ru/monastery/tregulyaj.ph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Calibri"/>
              </a:rPr>
              <a:t>Вестник Православия, 2000.Том 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  <a:ea typeface="Calibri"/>
              </a:rPr>
              <a:t>VI</a:t>
            </a: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Calibri"/>
              </a:rPr>
              <a:t>  № 8 (5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Calibri"/>
              </a:rPr>
              <a:t>А.Алленов, Центр Православной культуры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Calibri"/>
              </a:rPr>
              <a:t>г. Тамбо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Прямоугольник 4"/>
          <p:cNvSpPr/>
          <p:nvPr/>
        </p:nvSpPr>
        <p:spPr>
          <a:xfrm>
            <a:off x="2286000" y="609300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3300"/>
                </a:solidFill>
                <a:latin typeface="Times New Roman"/>
              </a:rPr>
              <a:t>МО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3300"/>
                </a:solidFill>
                <a:latin typeface="Times New Roman"/>
              </a:rPr>
              <a:t>Тулиновская средняя общеобразовательная школ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5" name="Рисунок 5" descr=""/>
          <p:cNvPicPr/>
          <p:nvPr/>
        </p:nvPicPr>
        <p:blipFill>
          <a:blip r:embed="rId2"/>
          <a:srcRect l="0" t="0" r="3865" b="15060"/>
          <a:stretch/>
        </p:blipFill>
        <p:spPr>
          <a:xfrm>
            <a:off x="4788000" y="189000"/>
            <a:ext cx="4032000" cy="2519280"/>
          </a:xfrm>
          <a:prstGeom prst="rect">
            <a:avLst/>
          </a:prstGeom>
          <a:ln w="0">
            <a:noFill/>
          </a:ln>
        </p:spPr>
      </p:pic>
      <p:sp>
        <p:nvSpPr>
          <p:cNvPr id="556" name="TextBox 6"/>
          <p:cNvSpPr/>
          <p:nvPr/>
        </p:nvSpPr>
        <p:spPr>
          <a:xfrm>
            <a:off x="5940360" y="2708280"/>
            <a:ext cx="24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к нательны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Прямоугольник 8"/>
          <p:cNvSpPr/>
          <p:nvPr/>
        </p:nvSpPr>
        <p:spPr>
          <a:xfrm>
            <a:off x="4788000" y="3933720"/>
            <a:ext cx="396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Работу выполнил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ученица 10-го клас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Куделина Наталь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Прямоугольник 10"/>
          <p:cNvSpPr/>
          <p:nvPr/>
        </p:nvSpPr>
        <p:spPr>
          <a:xfrm>
            <a:off x="2286000" y="633420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3300"/>
                </a:solidFill>
                <a:latin typeface="Times New Roman"/>
              </a:rPr>
              <a:t>МО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3300"/>
                </a:solidFill>
                <a:latin typeface="Times New Roman"/>
              </a:rPr>
              <a:t>Тулиновская средняя общеобразовательная школ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TextBox 6"/>
          <p:cNvSpPr/>
          <p:nvPr/>
        </p:nvSpPr>
        <p:spPr>
          <a:xfrm>
            <a:off x="1187280" y="5805360"/>
            <a:ext cx="273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а Тамбовской обла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8" name="Picture 8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4248000" cy="4687920"/>
          </a:xfrm>
          <a:prstGeom prst="rect">
            <a:avLst/>
          </a:prstGeom>
          <a:ln w="0">
            <a:noFill/>
          </a:ln>
        </p:spPr>
      </p:pic>
      <p:sp>
        <p:nvSpPr>
          <p:cNvPr id="509" name="TextBox 3"/>
          <p:cNvSpPr/>
          <p:nvPr/>
        </p:nvSpPr>
        <p:spPr>
          <a:xfrm>
            <a:off x="1116000" y="305928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итири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332000" y="189000"/>
            <a:ext cx="731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Святитель Питирим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Прямоугольник 1"/>
          <p:cNvSpPr/>
          <p:nvPr/>
        </p:nvSpPr>
        <p:spPr>
          <a:xfrm>
            <a:off x="3276720" y="260280"/>
            <a:ext cx="4824360" cy="58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Блажен, кто среди бед и зо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облюл Евангельский глаго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И плоть распял с её страстя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И свергнув беззаконий гнёт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Он к свету вечному идё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Непреткновенными ног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И чуждый дольней суе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тремится в вечную обитель,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Обитель вечной красоты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Где в славе царствует Спасите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 Отцом и Духом и пред Ни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оют немолчно  херувимы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И с ними лики горных си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Невечереющих светил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        </a:t>
            </a:r>
            <a:r>
              <a:rPr b="1" i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реп. Варсонфий, 1889 год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2" name="Picture 2" descr="E:\мама\Питирим\фото Питирим\дептуровская.jpeg"/>
          <p:cNvPicPr/>
          <p:nvPr/>
        </p:nvPicPr>
        <p:blipFill>
          <a:blip r:embed="rId1"/>
          <a:stretch/>
        </p:blipFill>
        <p:spPr>
          <a:xfrm>
            <a:off x="684360" y="2852640"/>
            <a:ext cx="1912680" cy="2232000"/>
          </a:xfrm>
          <a:prstGeom prst="rect">
            <a:avLst/>
          </a:prstGeom>
          <a:ln w="0">
            <a:noFill/>
          </a:ln>
        </p:spPr>
      </p:pic>
      <p:sp>
        <p:nvSpPr>
          <p:cNvPr id="513" name="TextBox 6"/>
          <p:cNvSpPr/>
          <p:nvPr/>
        </p:nvSpPr>
        <p:spPr>
          <a:xfrm>
            <a:off x="826920" y="5229360"/>
            <a:ext cx="178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птуровская ико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4" name="Picture 5" descr="пров"/>
          <p:cNvPicPr/>
          <p:nvPr/>
        </p:nvPicPr>
        <p:blipFill>
          <a:blip r:embed="rId2"/>
          <a:stretch/>
        </p:blipFill>
        <p:spPr>
          <a:xfrm>
            <a:off x="250920" y="189000"/>
            <a:ext cx="137628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Box 6"/>
          <p:cNvSpPr/>
          <p:nvPr/>
        </p:nvSpPr>
        <p:spPr>
          <a:xfrm>
            <a:off x="1332000" y="333360"/>
            <a:ext cx="684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Цель исследовани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TextBox 7"/>
          <p:cNvSpPr/>
          <p:nvPr/>
        </p:nvSpPr>
        <p:spPr>
          <a:xfrm>
            <a:off x="3924360" y="2009880"/>
            <a:ext cx="4895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Изучить жизнь и деятельность святителя Питирима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епископа Тамбовског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Box 9"/>
          <p:cNvSpPr/>
          <p:nvPr/>
        </p:nvSpPr>
        <p:spPr>
          <a:xfrm>
            <a:off x="179280" y="5300640"/>
            <a:ext cx="36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оанно- Предтеченский монастыр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Прямоугольник 10"/>
          <p:cNvSpPr/>
          <p:nvPr/>
        </p:nvSpPr>
        <p:spPr>
          <a:xfrm>
            <a:off x="2484360" y="633420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3300"/>
                </a:solidFill>
                <a:latin typeface="Times New Roman"/>
              </a:rPr>
              <a:t>МО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3300"/>
                </a:solidFill>
                <a:latin typeface="Times New Roman"/>
              </a:rPr>
              <a:t>Тулиновская средняя общеобразовательная школ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9" name="Picture 5" descr="пров"/>
          <p:cNvPicPr/>
          <p:nvPr/>
        </p:nvPicPr>
        <p:blipFill>
          <a:blip r:embed="rId1"/>
          <a:stretch/>
        </p:blipFill>
        <p:spPr>
          <a:xfrm>
            <a:off x="250920" y="189000"/>
            <a:ext cx="1376280" cy="213336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3" descr="E:\мама\Питирим\фото Питирим\Тамб.Иоанно-Предт. мон..jpeg"/>
          <p:cNvPicPr/>
          <p:nvPr/>
        </p:nvPicPr>
        <p:blipFill>
          <a:blip r:embed="rId2"/>
          <a:stretch/>
        </p:blipFill>
        <p:spPr>
          <a:xfrm>
            <a:off x="395280" y="2492280"/>
            <a:ext cx="3330720" cy="266544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Box 1"/>
          <p:cNvSpPr/>
          <p:nvPr/>
        </p:nvSpPr>
        <p:spPr>
          <a:xfrm>
            <a:off x="1476360" y="260280"/>
            <a:ext cx="619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Гипотез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2" name="Picture 5" descr="пров"/>
          <p:cNvPicPr/>
          <p:nvPr/>
        </p:nvPicPr>
        <p:blipFill>
          <a:blip r:embed="rId1"/>
          <a:stretch/>
        </p:blipFill>
        <p:spPr>
          <a:xfrm>
            <a:off x="250920" y="189000"/>
            <a:ext cx="1376280" cy="2133360"/>
          </a:xfrm>
          <a:prstGeom prst="rect">
            <a:avLst/>
          </a:prstGeom>
          <a:ln w="0">
            <a:noFill/>
          </a:ln>
        </p:spPr>
      </p:pic>
      <p:sp>
        <p:nvSpPr>
          <p:cNvPr id="523" name="TextBox 3"/>
          <p:cNvSpPr/>
          <p:nvPr/>
        </p:nvSpPr>
        <p:spPr>
          <a:xfrm>
            <a:off x="1476360" y="1720800"/>
            <a:ext cx="712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Многочисленные  уроки, которые можно извлечь из жизни святителя Питирима  - средство для спасения души и прославления верного Богу человек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Прямоугольник 4"/>
          <p:cNvSpPr/>
          <p:nvPr/>
        </p:nvSpPr>
        <p:spPr>
          <a:xfrm>
            <a:off x="2286000" y="609300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3300"/>
                </a:solidFill>
                <a:latin typeface="Times New Roman"/>
              </a:rPr>
              <a:t>МО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3300"/>
                </a:solidFill>
                <a:latin typeface="Times New Roman"/>
              </a:rPr>
              <a:t>Тулиновская средняя общеобразовательная школ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5" descr="пров"/>
          <p:cNvPicPr/>
          <p:nvPr/>
        </p:nvPicPr>
        <p:blipFill>
          <a:blip r:embed="rId1"/>
          <a:stretch/>
        </p:blipFill>
        <p:spPr>
          <a:xfrm>
            <a:off x="250920" y="189000"/>
            <a:ext cx="1253880" cy="1944720"/>
          </a:xfrm>
          <a:prstGeom prst="rect">
            <a:avLst/>
          </a:prstGeom>
          <a:ln w="0">
            <a:noFill/>
          </a:ln>
        </p:spPr>
      </p:pic>
      <p:sp>
        <p:nvSpPr>
          <p:cNvPr id="526" name="TextBox 2"/>
          <p:cNvSpPr/>
          <p:nvPr/>
        </p:nvSpPr>
        <p:spPr>
          <a:xfrm>
            <a:off x="2124000" y="333360"/>
            <a:ext cx="59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Ход исследовани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Прямоугольник 3"/>
          <p:cNvSpPr/>
          <p:nvPr/>
        </p:nvSpPr>
        <p:spPr>
          <a:xfrm>
            <a:off x="611280" y="1989000"/>
            <a:ext cx="8353440" cy="40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90000"/>
              </a:lnSpc>
              <a:buClr>
                <a:srgbClr val="8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Найти и изучить  материал о жизни и деятельности Питирим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buClr>
                <a:srgbClr val="8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ыбрать факты из жизни святителя, которые можно считать полезными для спасения души челове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buClr>
                <a:srgbClr val="8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роанализировать основу монашеских подвигов святителя Питирим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buClr>
                <a:srgbClr val="8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Оформить результаты, сделать     соответс</a:t>
            </a:r>
            <a:r>
              <a:rPr b="1" i="1" lang="ru-RU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твующие вывод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Прямоугольник 4"/>
          <p:cNvSpPr/>
          <p:nvPr/>
        </p:nvSpPr>
        <p:spPr>
          <a:xfrm>
            <a:off x="2556000" y="633420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3300"/>
                </a:solidFill>
                <a:latin typeface="Times New Roman"/>
              </a:rPr>
              <a:t>МО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3300"/>
                </a:solidFill>
                <a:latin typeface="Times New Roman"/>
              </a:rPr>
              <a:t>Тулиновская средняя общеобразовательная школ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250920" y="620640"/>
            <a:ext cx="86421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07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07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вятитель Питирим – это крупнейший церковно-исторический деятель конца </a:t>
            </a:r>
            <a:r>
              <a:rPr b="1" i="1" lang="en-US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XVII</a:t>
            </a:r>
            <a:r>
              <a:rPr b="1" i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, призванный вместе с Тамбовскими воеводами укреплять границы русского государства. </a:t>
            </a:r>
            <a:r>
              <a:rPr b="1" i="1" lang="en-US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От природы он имел выдающиеся дарования, хорошую память, способность  разбираться в запутанных обстоятельствах</a:t>
            </a:r>
            <a:r>
              <a:rPr b="1" i="1" lang="en-US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.</a:t>
            </a:r>
            <a:r>
              <a:rPr b="1" i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07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i="1" lang="ru-RU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«Святитель Питирим»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07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0" name="TextBox 2"/>
          <p:cNvSpPr/>
          <p:nvPr/>
        </p:nvSpPr>
        <p:spPr>
          <a:xfrm>
            <a:off x="1547640" y="333360"/>
            <a:ext cx="759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Результаты  исследовани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1" name="Picture 5" descr="пров"/>
          <p:cNvPicPr/>
          <p:nvPr/>
        </p:nvPicPr>
        <p:blipFill>
          <a:blip r:embed="rId1"/>
          <a:stretch/>
        </p:blipFill>
        <p:spPr>
          <a:xfrm>
            <a:off x="0" y="189000"/>
            <a:ext cx="12542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611280" y="134100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251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25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Чтобы меньше делать ошибок, нужно внимательно изучать опыт каждого поколения, так как за событиями стоят конкретные люди</a:t>
            </a:r>
            <a:r>
              <a:rPr b="1" i="1" lang="en-US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251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Буклет «Жизненный путь святителя Питирима»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3" name="TextBox 2"/>
          <p:cNvSpPr/>
          <p:nvPr/>
        </p:nvSpPr>
        <p:spPr>
          <a:xfrm>
            <a:off x="1332000" y="333360"/>
            <a:ext cx="759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Результаты  исследовани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4" name="Picture 5" descr="пров"/>
          <p:cNvPicPr/>
          <p:nvPr/>
        </p:nvPicPr>
        <p:blipFill>
          <a:blip r:embed="rId1"/>
          <a:stretch/>
        </p:blipFill>
        <p:spPr>
          <a:xfrm>
            <a:off x="250920" y="189000"/>
            <a:ext cx="12538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539280" y="1196640"/>
            <a:ext cx="8388360" cy="35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16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             </a:t>
            </a:r>
            <a:r>
              <a:rPr b="1" i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о ходатайству архиепископа       Тамбовского и Шацкого Кирилла перед Святейшим Синодом о прославлении и открытии мощей святителя Питирима была создана специальная комиссия, которая  изучила вопрос о чудесах благодатной помощи по молитвам святителю Питириму</a:t>
            </a:r>
            <a:r>
              <a:rPr b="1" i="1" lang="en-US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6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6" name="TextBox 2"/>
          <p:cNvSpPr/>
          <p:nvPr/>
        </p:nvSpPr>
        <p:spPr>
          <a:xfrm>
            <a:off x="1547640" y="260280"/>
            <a:ext cx="759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Результаты  исследовани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7" name="Picture 5" descr="пров"/>
          <p:cNvPicPr/>
          <p:nvPr/>
        </p:nvPicPr>
        <p:blipFill>
          <a:blip r:embed="rId1"/>
          <a:stretch/>
        </p:blipFill>
        <p:spPr>
          <a:xfrm>
            <a:off x="250920" y="189000"/>
            <a:ext cx="1253880" cy="1944720"/>
          </a:xfrm>
          <a:prstGeom prst="rect">
            <a:avLst/>
          </a:prstGeom>
          <a:ln w="0">
            <a:noFill/>
          </a:ln>
        </p:spPr>
      </p:pic>
      <p:sp>
        <p:nvSpPr>
          <p:cNvPr id="538" name="Прямоугольник 4"/>
          <p:cNvSpPr/>
          <p:nvPr/>
        </p:nvSpPr>
        <p:spPr>
          <a:xfrm>
            <a:off x="792000" y="5157720"/>
            <a:ext cx="756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«Чудеса и исцеления святителя         Питирима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0T09:04:08Z</dcterms:created>
  <dc:creator>Алексей</dc:creator>
  <dc:description/>
  <dc:language>en-US</dc:language>
  <cp:lastModifiedBy>Алексей</cp:lastModifiedBy>
  <dcterms:modified xsi:type="dcterms:W3CDTF">2011-01-20T04:30:07Z</dcterms:modified>
  <cp:revision>71</cp:revision>
  <dc:subject/>
  <dc:title>Слайд 1</dc:title>
</cp:coreProperties>
</file>