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247-4DA4-45D4-B355-54135579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E79-5FFC-436F-A9EB-47F7B709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FA030-9DE6-4268-9416-871FC75F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1CDFA-C63D-4BF4-B52B-82D09D0A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96FEE-F99C-4D62-81FF-C4A4554A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478F0-EBEB-4705-97C8-CED21933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0B4D7-43B4-46AC-A1EB-9BBE328D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54B84-F019-4854-959A-F5BAF744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7A035-58A2-4E90-8A37-13C73D2A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BC7FA-C5DC-4C42-8F9B-0D92656B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3BA9B-F4B4-4597-8D3E-4B5D6D40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D2721-22BA-4490-80D8-0372D62D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9FE-8D93-4C38-A498-95B6D20C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2F3A9-0E69-4474-84BB-AE3A5F9B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D77EB-8FAE-471F-AC65-BBFC5C08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87243-F615-49F7-BCA6-A916C09B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955D4-B6B2-4D18-817E-B17E9435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F2F83-FD59-4525-B6C5-26A589B1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9D5B3-5838-469E-848E-931D91DC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39B20-A4FA-4677-9892-CF2C8275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94A1A-4973-4848-B045-90DB3AA6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63038-1978-4109-B1E6-8B8D28E3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4905C-8841-44A3-8F89-8A6100F4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F98-EB69-4F68-96F3-209A3463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B596F-0D3E-442F-9867-5CF5AFDF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AE114-F4E1-47FD-A693-B2FBB1FE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60E63-4DA9-41ED-A46E-AB6FBAA7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ABAF0-B949-4253-86D2-1D9A7EA4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5578A-955B-4864-9E75-2A278934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0F15A-F4FB-4D23-B32C-9C0868A5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B2010-1F1D-44EC-A3C9-B14FC21E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9C546-69F9-4E8A-9680-F60779A1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0BA9D-A641-45AE-9D4A-A474308D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25DB3-A812-4BD2-A0DA-2927180F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B5A6-19B2-45F1-BB9D-A2979589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B00D2-6AC6-4F2A-A134-88B49439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C18CB-CF74-45BC-ABC6-2C4973A7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F150C-48D8-4BC2-90AF-F0FA11D7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0A65D-C0AD-48A3-A7E2-CBEFAE9D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3613F-8EBF-427A-A37B-B0966829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5A71A-F817-4E73-874D-1C1E7FFA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D2277-2B4A-4525-AC0F-A107A553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61489-B4D4-4F3A-877E-BB7F76C2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025EE-0994-45F0-879E-9782A89C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C410B-2088-4C2D-BE2A-1C28A8DA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D957-3A6D-4C4C-8B2B-4F742C75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68ADD-82A8-421E-BB98-04D93007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16E0F-C0ED-4D8F-B378-E6BC3367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99F79-1ADF-4497-9357-A6B18801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6B109-744E-4D96-BE4B-93B01DE2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241D5-F8E9-4AC9-9311-B351424A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4B17-3173-405C-AD08-4EC5D9CB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DB7D-61CC-48EF-92BA-9A754F2A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4808-4376-437B-AA37-432E862D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B5CA-05D4-420A-A236-2D456422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F49C-CCB8-40D4-8091-ED7338BA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312-DF2C-45C8-994E-122FCFEA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C646-51C1-444D-9273-F9F2BB05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E368-F1C5-4C8A-9665-4EEBB08E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2F5F-47C6-425E-81B8-21B444E1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2D7E-E531-4756-AA95-8619FE99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0F8F-D045-4F9E-BC45-12583FAC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4E54B-48B4-45B9-AF3C-B965D419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970B1-945D-4FCD-9994-D16340A9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B8D09-6585-4BF5-A184-563C4AFC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EBFD2-C357-48A7-B04A-EB4EBEE5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C1A4D-ECF9-4F62-B326-5004E698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D8E-0783-4A6D-A44E-65082E89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D7BE0-C16C-48D6-A9AC-E5464895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88BDA-9661-44F3-9886-8AA2CADD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E89D2-E7AF-429D-9109-2FDFC232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62A29-CA5A-411F-867D-5CA20A08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16F75-DFB0-4A52-B781-081850F2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065ED-BFD8-401F-BC4E-469A5CC0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A888E-ADE9-4F3D-93E2-6EE9DBCD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3E289-AC9A-47B7-AF5D-A76D985F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236BA-B00F-491D-81F7-97725563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A59BC-6B4D-4BEA-BF7B-24BA444E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76A6-33E8-426A-B6F3-F0A2381C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A4AE7-4758-4173-8076-3C53646E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DC838-F721-4E37-8E0E-F80DE151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3FDCB-28AD-4CE4-BC61-E3419B2B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B3B8B-DFA4-4087-842D-7E3617FC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0BE57-B6EE-4E5D-89E8-A3B1CBDA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75F71-19D9-42C8-8F70-DACC9E41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FB270-E3CF-4F29-8935-1BBEF15A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77F5D-3350-47B0-9F54-53BD0B8C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B0AAD-B131-4F9B-A775-4D2974E8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F75E4-B002-4FF7-9470-9FF236A2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ED8-A93A-431E-BF2C-46B51404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546CC-1000-4253-9BD3-53FA12DE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DFC12-01A0-48B0-83EF-1B7F80EA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C775E-8428-4E6F-AC68-898080C8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E2250-6C34-48F8-8A96-72D77112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33A6E-C2EA-4F69-BB9F-5E5D77B0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98DEC-8E70-4F76-8C36-4823C3F5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4BFD4-1A9B-4939-AED9-55E15EA3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3CC91-E18C-4B77-BC40-2E48843C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53235-9F59-40C8-93C4-A882251B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30BD8-0BA2-4BF7-9510-E89C9029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45C-58DD-45E7-A29F-9B4A8B23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C1988-2A98-4FE5-A989-1B4B2C53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7A01A-7CC9-4FBE-8223-FC27F3C3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5FE4E-2A91-4999-9A27-677917E8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99456-0C9A-45F2-8CA9-38EA7515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795E0-0DDC-4526-82DF-516C6351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54AFD-595B-49B5-98F7-FB417D59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93626-E226-47A5-93E3-1A632509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683F4-90F0-437D-8F0D-DFB65BDF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6F80D-AB4D-4B22-B4D1-6CA31BCC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B467E-42CE-47B6-9DD0-678EA387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903-6321-478E-8AFE-856FD8F5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20041-1B2C-4DED-91DB-44C78F5B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88D67-8619-4400-85E7-5F34FBF6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184E9-879C-422B-85ED-E740547C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63C7A-F809-453E-9A02-91E4DD9C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CBF87-8F59-445D-AD90-7FC19F63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A91A4-23E4-4716-997B-8E1220A8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7F0C3-C07B-4FC8-A9A6-323C995B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FA6FA-9EF7-4D02-99E8-4F043CA8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B657A-2718-4ACC-806B-05F96F03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8B31C-79F9-46DF-A731-FB713E58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268-4416-4614-9B37-BA4FF0E5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27FF4-BFB4-4DAA-90A5-F2C13D0E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C0C1C-F7BD-435D-9215-D2301ED3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147F8-1AA0-40C7-B13E-7676711E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A1899-DCB0-4714-90CB-BF6BA918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8636D-3553-42D4-B0D6-8DCF8C24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F68E6-886B-45A3-B063-6F059E0A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A2EE2-C891-4740-955B-25688E0F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07D1F-D971-42A4-A5B7-8CC547E4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0004C-394E-4441-9DEF-5E007C20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92A45-3E47-4DCF-A98E-DC786227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AABE-4982-4CD7-B0E4-38BB0F45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A9964-7BAB-4C75-8BE4-F49B88AF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445EC-7CCD-4094-AC2B-D17E87B8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B480B-3E44-4739-B167-F43BED5C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6189C-9BCF-4B99-804C-635EBCBC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F1053-139E-4B1B-803F-B9062B33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6EC1C-F7BF-4588-BE6F-86059D4B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35BD2-B7EE-4B3B-817E-A768F5EA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BBB87-8020-4712-B65C-BCD52CD8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DA5F0-6E26-4064-9C20-ED392D86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31395-48FC-4BE5-8484-D2EA1C28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63F3-D26B-4139-9447-19A6A662A65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53FC-6A7A-4490-939C-001539EF0395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C438-5AF2-4B6B-8F58-12BA4916E74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9398-FC3B-4FC9-9F7B-EEC30B588E6D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B917-EDBE-41E1-A36A-0AA4408659E8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E243-24ED-4EF9-B0CA-46A73380FB7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6030-EE9F-40FB-AA59-4BE3BAFAF43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447A-BCBF-43FE-B85A-B8806DF7C4B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2505-4587-4BE2-975E-00EF2CAECD9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5B25-EADB-4153-8A77-DBF2C867F17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3D78-38B4-469C-9EBB-598F636C4B8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364C-F92F-4E27-9B28-7B481E18B947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рямоугольник 4"/>
          <p:cNvSpPr/>
          <p:nvPr/>
        </p:nvSpPr>
        <p:spPr>
          <a:xfrm>
            <a:off x="1619280" y="0"/>
            <a:ext cx="75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Имена на земле  Тамбовской просиявшие</a:t>
            </a:r>
            <a:r>
              <a:rPr b="0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Прямоугольник 7"/>
          <p:cNvSpPr/>
          <p:nvPr/>
        </p:nvSpPr>
        <p:spPr>
          <a:xfrm>
            <a:off x="1928880" y="6211800"/>
            <a:ext cx="650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Прямоугольник 8"/>
          <p:cNvSpPr/>
          <p:nvPr/>
        </p:nvSpPr>
        <p:spPr>
          <a:xfrm>
            <a:off x="3564000" y="2060640"/>
            <a:ext cx="507204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юбовь  Бога к человеку столь велика, что Он не может принуждать! Он ждёт у дверей нашей души, но никогда не дерзнёт их взломать!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русский филосо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ладимир Лосско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Рисунок 6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2879640" cy="3384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504" name="Picture 5" descr="пров"/>
          <p:cNvPicPr/>
          <p:nvPr/>
        </p:nvPicPr>
        <p:blipFill>
          <a:blip r:embed="rId2"/>
          <a:stretch/>
        </p:blipFill>
        <p:spPr>
          <a:xfrm>
            <a:off x="250920" y="189000"/>
            <a:ext cx="13762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E:\мама\Питирим\фото Питирим\питирим 2\источник в трег..jpg"/>
          <p:cNvPicPr/>
          <p:nvPr/>
        </p:nvPicPr>
        <p:blipFill>
          <a:blip r:embed="rId1"/>
          <a:stretch/>
        </p:blipFill>
        <p:spPr>
          <a:xfrm>
            <a:off x="214200" y="2428920"/>
            <a:ext cx="3265560" cy="20080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пров"/>
          <p:cNvPicPr/>
          <p:nvPr/>
        </p:nvPicPr>
        <p:blipFill>
          <a:blip r:embed="rId2"/>
          <a:stretch/>
        </p:blipFill>
        <p:spPr>
          <a:xfrm>
            <a:off x="250920" y="189000"/>
            <a:ext cx="1376280" cy="2133360"/>
          </a:xfrm>
          <a:prstGeom prst="rect">
            <a:avLst/>
          </a:prstGeom>
          <a:ln w="0">
            <a:noFill/>
          </a:ln>
        </p:spPr>
      </p:pic>
      <p:sp>
        <p:nvSpPr>
          <p:cNvPr id="541" name="Прямоугольник 3"/>
          <p:cNvSpPr/>
          <p:nvPr/>
        </p:nvSpPr>
        <p:spPr>
          <a:xfrm>
            <a:off x="2484360" y="189000"/>
            <a:ext cx="47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ыво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Прямоугольник 4"/>
          <p:cNvSpPr/>
          <p:nvPr/>
        </p:nvSpPr>
        <p:spPr>
          <a:xfrm>
            <a:off x="247680" y="4724280"/>
            <a:ext cx="31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в Трегуляевском монастыр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Прямоугольник 5"/>
          <p:cNvSpPr/>
          <p:nvPr/>
        </p:nvSpPr>
        <p:spPr>
          <a:xfrm>
            <a:off x="3635280" y="1413000"/>
            <a:ext cx="518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    «»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@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ескорыстная любовь, искреннее желание всем добра, а также кроткое, ласковое обращение – это было главною причиной сильного влияния архипастыря на его пасомых.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Прямоугольник 6"/>
          <p:cNvSpPr/>
          <p:nvPr/>
        </p:nvSpPr>
        <p:spPr>
          <a:xfrm>
            <a:off x="2286000" y="6093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ольник 1"/>
          <p:cNvSpPr/>
          <p:nvPr/>
        </p:nvSpPr>
        <p:spPr>
          <a:xfrm>
            <a:off x="3276720" y="1557360"/>
            <a:ext cx="514332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ремление души Питирима к Богу и единению с Ним составляло основу всех его монашеских подвигов, смысл его жизни, освящало все его деяния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2" descr="E:\мама\Питирим\фото Питирим\обитель, где был игумен Питирим.jpeg"/>
          <p:cNvPicPr/>
          <p:nvPr/>
        </p:nvPicPr>
        <p:blipFill>
          <a:blip r:embed="rId1"/>
          <a:stretch/>
        </p:blipFill>
        <p:spPr>
          <a:xfrm>
            <a:off x="324000" y="2384280"/>
            <a:ext cx="2703240" cy="2268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547" name="Прямоугольник 8"/>
          <p:cNvSpPr/>
          <p:nvPr/>
        </p:nvSpPr>
        <p:spPr>
          <a:xfrm>
            <a:off x="324000" y="4724280"/>
            <a:ext cx="2286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96969"/>
                </a:solidFill>
                <a:latin typeface="Times New Roman"/>
                <a:ea typeface="Times New Roman"/>
              </a:rPr>
              <a:t>Обитель, где был Питирим игумен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Прямоугольник 6"/>
          <p:cNvSpPr/>
          <p:nvPr/>
        </p:nvSpPr>
        <p:spPr>
          <a:xfrm>
            <a:off x="2050920" y="33336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ыво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5" descr="пров"/>
          <p:cNvPicPr/>
          <p:nvPr/>
        </p:nvPicPr>
        <p:blipFill>
          <a:blip r:embed="rId2"/>
          <a:stretch/>
        </p:blipFill>
        <p:spPr>
          <a:xfrm>
            <a:off x="250920" y="189000"/>
            <a:ext cx="1376280" cy="2133360"/>
          </a:xfrm>
          <a:prstGeom prst="rect">
            <a:avLst/>
          </a:prstGeom>
          <a:ln w="0">
            <a:noFill/>
          </a:ln>
        </p:spPr>
      </p:pic>
      <p:sp>
        <p:nvSpPr>
          <p:cNvPr id="550" name="Прямоугольник 10"/>
          <p:cNvSpPr/>
          <p:nvPr/>
        </p:nvSpPr>
        <p:spPr>
          <a:xfrm>
            <a:off x="2286000" y="6093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5" descr="пров"/>
          <p:cNvPicPr/>
          <p:nvPr/>
        </p:nvPicPr>
        <p:blipFill>
          <a:blip r:embed="rId1"/>
          <a:stretch/>
        </p:blipFill>
        <p:spPr>
          <a:xfrm>
            <a:off x="250920" y="189000"/>
            <a:ext cx="1376280" cy="2133360"/>
          </a:xfrm>
          <a:prstGeom prst="rect">
            <a:avLst/>
          </a:prstGeom>
          <a:ln w="0">
            <a:noFill/>
          </a:ln>
        </p:spPr>
      </p:pic>
      <p:sp>
        <p:nvSpPr>
          <p:cNvPr id="552" name="Прямоугольник 2"/>
          <p:cNvSpPr/>
          <p:nvPr/>
        </p:nvSpPr>
        <p:spPr>
          <a:xfrm>
            <a:off x="0" y="105264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Литерату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1"/>
          <p:cNvSpPr/>
          <p:nvPr/>
        </p:nvSpPr>
        <p:spPr>
          <a:xfrm>
            <a:off x="630360" y="3222720"/>
            <a:ext cx="788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http://days.pravoslavie.ru/Life/life4321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http://www.eparhia-tmb.ru/monastery/tregulyaj.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Вестник Православия, 2000.Том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VI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  № 8 (5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А.Алленов, Центр Православной культур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г. Тамб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Прямоугольник 4"/>
          <p:cNvSpPr/>
          <p:nvPr/>
        </p:nvSpPr>
        <p:spPr>
          <a:xfrm>
            <a:off x="2286000" y="6093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Рисунок 5" descr=""/>
          <p:cNvPicPr/>
          <p:nvPr/>
        </p:nvPicPr>
        <p:blipFill>
          <a:blip r:embed="rId2"/>
          <a:srcRect l="0" t="0" r="3865" b="15060"/>
          <a:stretch/>
        </p:blipFill>
        <p:spPr>
          <a:xfrm>
            <a:off x="4788000" y="189000"/>
            <a:ext cx="4032000" cy="2519280"/>
          </a:xfrm>
          <a:prstGeom prst="rect">
            <a:avLst/>
          </a:prstGeom>
          <a:ln w="0">
            <a:noFill/>
          </a:ln>
        </p:spPr>
      </p:pic>
      <p:sp>
        <p:nvSpPr>
          <p:cNvPr id="556" name="TextBox 6"/>
          <p:cNvSpPr/>
          <p:nvPr/>
        </p:nvSpPr>
        <p:spPr>
          <a:xfrm>
            <a:off x="5940360" y="2708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к нате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Прямоугольник 8"/>
          <p:cNvSpPr/>
          <p:nvPr/>
        </p:nvSpPr>
        <p:spPr>
          <a:xfrm>
            <a:off x="4788000" y="393372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боту выполни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ченица 10-го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уделина Натал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Прямоугольник 10"/>
          <p:cNvSpPr/>
          <p:nvPr/>
        </p:nvSpPr>
        <p:spPr>
          <a:xfrm>
            <a:off x="2286000" y="63342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1187280" y="5805360"/>
            <a:ext cx="27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 Тамбов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8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248000" cy="4687920"/>
          </a:xfrm>
          <a:prstGeom prst="rect">
            <a:avLst/>
          </a:prstGeom>
          <a:ln w="0">
            <a:noFill/>
          </a:ln>
        </p:spPr>
      </p:pic>
      <p:sp>
        <p:nvSpPr>
          <p:cNvPr id="509" name="TextBox 3"/>
          <p:cNvSpPr/>
          <p:nvPr/>
        </p:nvSpPr>
        <p:spPr>
          <a:xfrm>
            <a:off x="1116000" y="3059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итир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332000" y="189000"/>
            <a:ext cx="731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вятитель Питири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Прямоугольник 1"/>
          <p:cNvSpPr/>
          <p:nvPr/>
        </p:nvSpPr>
        <p:spPr>
          <a:xfrm>
            <a:off x="3276720" y="260280"/>
            <a:ext cx="482436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лажен, кто среди бед и з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облюл Евангельский глаго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 плоть распял с её страст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 свергнув беззаконий гнё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н к свету вечному идё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преткновенными ног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 чуждый дольней су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ремится в вечную обитель,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итель вечной красот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де в славе царствует Спаси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 Отцом и Духом и пред Ни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ют немолчно  херувим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 с ними лики горных с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вечереющих светил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еп. Варсонфий, 1889 го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2" descr="E:\мама\Питирим\фото Питирим\дептуровская.jpeg"/>
          <p:cNvPicPr/>
          <p:nvPr/>
        </p:nvPicPr>
        <p:blipFill>
          <a:blip r:embed="rId1"/>
          <a:stretch/>
        </p:blipFill>
        <p:spPr>
          <a:xfrm>
            <a:off x="684360" y="2852640"/>
            <a:ext cx="1912680" cy="2232000"/>
          </a:xfrm>
          <a:prstGeom prst="rect">
            <a:avLst/>
          </a:prstGeom>
          <a:ln w="0">
            <a:noFill/>
          </a:ln>
        </p:spPr>
      </p:pic>
      <p:sp>
        <p:nvSpPr>
          <p:cNvPr id="513" name="TextBox 6"/>
          <p:cNvSpPr/>
          <p:nvPr/>
        </p:nvSpPr>
        <p:spPr>
          <a:xfrm>
            <a:off x="826920" y="522936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туровская ик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5" descr="пров"/>
          <p:cNvPicPr/>
          <p:nvPr/>
        </p:nvPicPr>
        <p:blipFill>
          <a:blip r:embed="rId2"/>
          <a:stretch/>
        </p:blipFill>
        <p:spPr>
          <a:xfrm>
            <a:off x="250920" y="189000"/>
            <a:ext cx="13762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6"/>
          <p:cNvSpPr/>
          <p:nvPr/>
        </p:nvSpPr>
        <p:spPr>
          <a:xfrm>
            <a:off x="1332000" y="33336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Цель исследова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Box 7"/>
          <p:cNvSpPr/>
          <p:nvPr/>
        </p:nvSpPr>
        <p:spPr>
          <a:xfrm>
            <a:off x="3924360" y="2009880"/>
            <a:ext cx="48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зучить жизнь и деятельность святителя Питирима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пископа Тамбовско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9"/>
          <p:cNvSpPr/>
          <p:nvPr/>
        </p:nvSpPr>
        <p:spPr>
          <a:xfrm>
            <a:off x="179280" y="53006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анно- Предтеченский монастыр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Прямоугольник 10"/>
          <p:cNvSpPr/>
          <p:nvPr/>
        </p:nvSpPr>
        <p:spPr>
          <a:xfrm>
            <a:off x="2484360" y="63342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5" descr="пров"/>
          <p:cNvPicPr/>
          <p:nvPr/>
        </p:nvPicPr>
        <p:blipFill>
          <a:blip r:embed="rId1"/>
          <a:stretch/>
        </p:blipFill>
        <p:spPr>
          <a:xfrm>
            <a:off x="250920" y="189000"/>
            <a:ext cx="1376280" cy="21333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E:\мама\Питирим\фото Питирим\Тамб.Иоанно-Предт. мон..jpeg"/>
          <p:cNvPicPr/>
          <p:nvPr/>
        </p:nvPicPr>
        <p:blipFill>
          <a:blip r:embed="rId2"/>
          <a:stretch/>
        </p:blipFill>
        <p:spPr>
          <a:xfrm>
            <a:off x="395280" y="2492280"/>
            <a:ext cx="3330720" cy="26654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1"/>
          <p:cNvSpPr/>
          <p:nvPr/>
        </p:nvSpPr>
        <p:spPr>
          <a:xfrm>
            <a:off x="1476360" y="260280"/>
            <a:ext cx="619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Гипотез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5" descr="пров"/>
          <p:cNvPicPr/>
          <p:nvPr/>
        </p:nvPicPr>
        <p:blipFill>
          <a:blip r:embed="rId1"/>
          <a:stretch/>
        </p:blipFill>
        <p:spPr>
          <a:xfrm>
            <a:off x="250920" y="189000"/>
            <a:ext cx="1376280" cy="2133360"/>
          </a:xfrm>
          <a:prstGeom prst="rect">
            <a:avLst/>
          </a:prstGeom>
          <a:ln w="0">
            <a:noFill/>
          </a:ln>
        </p:spPr>
      </p:pic>
      <p:sp>
        <p:nvSpPr>
          <p:cNvPr id="523" name="TextBox 3"/>
          <p:cNvSpPr/>
          <p:nvPr/>
        </p:nvSpPr>
        <p:spPr>
          <a:xfrm>
            <a:off x="1476360" y="1720800"/>
            <a:ext cx="71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ногочисленные  уроки, которые можно извлечь из жизни святителя Питирима  - средство для спасения души и прославления верного Богу челове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оугольник 4"/>
          <p:cNvSpPr/>
          <p:nvPr/>
        </p:nvSpPr>
        <p:spPr>
          <a:xfrm>
            <a:off x="2286000" y="6093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5" descr="пров"/>
          <p:cNvPicPr/>
          <p:nvPr/>
        </p:nvPicPr>
        <p:blipFill>
          <a:blip r:embed="rId1"/>
          <a:stretch/>
        </p:blipFill>
        <p:spPr>
          <a:xfrm>
            <a:off x="250920" y="189000"/>
            <a:ext cx="1253880" cy="1944720"/>
          </a:xfrm>
          <a:prstGeom prst="rect">
            <a:avLst/>
          </a:prstGeom>
          <a:ln w="0">
            <a:noFill/>
          </a:ln>
        </p:spPr>
      </p:pic>
      <p:sp>
        <p:nvSpPr>
          <p:cNvPr id="526" name="TextBox 2"/>
          <p:cNvSpPr/>
          <p:nvPr/>
        </p:nvSpPr>
        <p:spPr>
          <a:xfrm>
            <a:off x="2124000" y="333360"/>
            <a:ext cx="59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Ход исследова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Прямоугольник 3"/>
          <p:cNvSpPr/>
          <p:nvPr/>
        </p:nvSpPr>
        <p:spPr>
          <a:xfrm>
            <a:off x="611280" y="1989000"/>
            <a:ext cx="8353440" cy="40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йти и изучить  материал о жизни и деятельности Питири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ыбрать факты из жизни святителя, которые можно считать полезными для спасения души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анализировать основу монашеских подвигов святителя Питири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формить результаты, сделать     соответс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вующие выво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Прямоугольник 4"/>
          <p:cNvSpPr/>
          <p:nvPr/>
        </p:nvSpPr>
        <p:spPr>
          <a:xfrm>
            <a:off x="2556000" y="63342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Тулиновская средняя общеобразовательная шко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вятитель Питирим – это крупнейший церковно-исторический деятель конца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XVII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, призванный вместе с Тамбовскими воеводами укреплять границы русского государства.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т природы он имел выдающиеся дарования, хорошую память, способность  разбираться в запутанных обстоятельствах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Святитель Питирим»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TextBox 2"/>
          <p:cNvSpPr/>
          <p:nvPr/>
        </p:nvSpPr>
        <p:spPr>
          <a:xfrm>
            <a:off x="1547640" y="333360"/>
            <a:ext cx="75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езультаты  исследова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5" descr="пров"/>
          <p:cNvPicPr/>
          <p:nvPr/>
        </p:nvPicPr>
        <p:blipFill>
          <a:blip r:embed="rId1"/>
          <a:stretch/>
        </p:blipFill>
        <p:spPr>
          <a:xfrm>
            <a:off x="0" y="189000"/>
            <a:ext cx="12542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тобы меньше делать ошибок, нужно внимательно изучать опыт каждого поколения, так как за событиями стоят конкретные люди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уклет «Жизненный путь святителя Питирима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3" name="TextBox 2"/>
          <p:cNvSpPr/>
          <p:nvPr/>
        </p:nvSpPr>
        <p:spPr>
          <a:xfrm>
            <a:off x="1332000" y="333360"/>
            <a:ext cx="75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езультаты  исследова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5" descr="пров"/>
          <p:cNvPicPr/>
          <p:nvPr/>
        </p:nvPicPr>
        <p:blipFill>
          <a:blip r:embed="rId1"/>
          <a:stretch/>
        </p:blipFill>
        <p:spPr>
          <a:xfrm>
            <a:off x="250920" y="189000"/>
            <a:ext cx="1253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539280" y="1196640"/>
            <a:ext cx="838836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 ходатайству архиепископа       Тамбовского и Шацкого Кирилла перед Святейшим Синодом о прославлении и открытии мощей святителя Питирима была создана специальная комиссия, которая  изучила вопрос о чудесах благодатной помощи по молитвам святителю Питириму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TextBox 2"/>
          <p:cNvSpPr/>
          <p:nvPr/>
        </p:nvSpPr>
        <p:spPr>
          <a:xfrm>
            <a:off x="1547640" y="260280"/>
            <a:ext cx="75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езультаты  исследова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5" descr="пров"/>
          <p:cNvPicPr/>
          <p:nvPr/>
        </p:nvPicPr>
        <p:blipFill>
          <a:blip r:embed="rId1"/>
          <a:stretch/>
        </p:blipFill>
        <p:spPr>
          <a:xfrm>
            <a:off x="250920" y="189000"/>
            <a:ext cx="1253880" cy="1944720"/>
          </a:xfrm>
          <a:prstGeom prst="rect">
            <a:avLst/>
          </a:prstGeom>
          <a:ln w="0">
            <a:noFill/>
          </a:ln>
        </p:spPr>
      </p:pic>
      <p:sp>
        <p:nvSpPr>
          <p:cNvPr id="538" name="Прямоугольник 4"/>
          <p:cNvSpPr/>
          <p:nvPr/>
        </p:nvSpPr>
        <p:spPr>
          <a:xfrm>
            <a:off x="792000" y="5157720"/>
            <a:ext cx="75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Чудеса и исцеления святителя         Питирим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9:04:08Z</dcterms:created>
  <dc:creator>Алексей</dc:creator>
  <dc:description/>
  <dc:language>en-US</dc:language>
  <cp:lastModifiedBy>Алексей</cp:lastModifiedBy>
  <dcterms:modified xsi:type="dcterms:W3CDTF">2011-01-20T04:30:07Z</dcterms:modified>
  <cp:revision>71</cp:revision>
  <dc:subject/>
  <dc:title>Слайд 1</dc:title>
</cp:coreProperties>
</file>