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217-FF8E-4195-BBB6-BBA4C913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EF6-0432-425D-9134-2C6BC81F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50B-F77D-4628-9081-5260295F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62E-34DD-47F5-A633-A7F1A54E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97A-A1BC-460C-97AD-8915CF6A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7B9-C612-4A4D-9B12-14101020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186-477E-4F05-8BDB-C4299D6A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B46-FB80-4A6C-B0B2-29278F77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789-D1A6-4238-9B4F-A07D666D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095-44BD-4C83-A205-5F3DDC6D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3C8-360A-4233-9B06-38A2D1B0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E350-F527-4D2B-ADD8-877244C4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DD40-A9AC-4309-9B0E-412FCFFA7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404640"/>
            <a:ext cx="85694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6" name="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efefe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199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1" name="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1476360" y="1988640"/>
            <a:ext cx="2519280" cy="4869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6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2" name="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5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1197000"/>
            <a:ext cx="2519280" cy="4869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2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8" name="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efef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1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1341360"/>
            <a:ext cx="2232000" cy="386100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8" name="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4" name="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7" name="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efefe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9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1562040"/>
            <a:ext cx="4487760" cy="5092920"/>
          </a:xfrm>
          <a:custGeom>
            <a:avLst/>
            <a:gdLst/>
            <a:ahLst/>
            <a:rect l="l" t="t" r="r" b="b"/>
            <a:pathLst>
              <a:path w="2827" h="3208">
                <a:moveTo>
                  <a:pt x="0" y="0"/>
                </a:moveTo>
                <a:lnTo>
                  <a:pt x="2827" y="3208"/>
                </a:lnTo>
              </a:path>
            </a:pathLst>
          </a:cu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4" name="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6" name="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7" name="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1" name="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4" name="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8" name="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6faec"/>
              </a:gs>
              <a:gs pos="50000">
                <a:srgbClr val="99cc00"/>
              </a:gs>
              <a:gs pos="100000">
                <a:srgbClr val="f6faec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2" name="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7" name="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"/>
          <p:cNvGrpSpPr/>
          <p:nvPr/>
        </p:nvGrpSpPr>
        <p:grpSpPr>
          <a:xfrm>
            <a:off x="-576360" y="2133720"/>
            <a:ext cx="2055600" cy="1023480"/>
            <a:chOff x="-576360" y="2133720"/>
            <a:chExt cx="2055600" cy="1023480"/>
          </a:xfrm>
        </p:grpSpPr>
        <p:sp>
          <p:nvSpPr>
            <p:cNvPr id="280" name=""/>
            <p:cNvSpPr/>
            <p:nvPr/>
          </p:nvSpPr>
          <p:spPr>
            <a:xfrm>
              <a:off x="-57636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-2232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1368360" y="1773360"/>
            <a:ext cx="2382480" cy="1985400"/>
            <a:chOff x="1368360" y="1773360"/>
            <a:chExt cx="2382480" cy="1985400"/>
          </a:xfrm>
        </p:grpSpPr>
        <p:sp>
          <p:nvSpPr>
            <p:cNvPr id="283" name=""/>
            <p:cNvSpPr/>
            <p:nvPr/>
          </p:nvSpPr>
          <p:spPr>
            <a:xfrm>
              <a:off x="157608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136836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5" name="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106960" y="2320920"/>
            <a:ext cx="3741840" cy="3362400"/>
          </a:xfrm>
          <a:custGeom>
            <a:avLst/>
            <a:gdLst/>
            <a:ahLst/>
            <a:rect l="l" t="t" r="r" b="b"/>
            <a:pathLst>
              <a:path w="2357" h="2118">
                <a:moveTo>
                  <a:pt x="2357" y="0"/>
                </a:moveTo>
                <a:lnTo>
                  <a:pt x="0" y="2118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67640" y="3429000"/>
            <a:ext cx="12600" cy="1692360"/>
          </a:xfrm>
          <a:custGeom>
            <a:avLst/>
            <a:gdLst/>
            <a:ahLst/>
            <a:rect l="l" t="t" r="r" b="b"/>
            <a:pathLst>
              <a:path w="8" h="1066">
                <a:moveTo>
                  <a:pt x="8" y="10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99080" y="4375080"/>
            <a:ext cx="1800" cy="71748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4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6" name="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8" name="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6faec"/>
              </a:gs>
              <a:gs pos="50000">
                <a:srgbClr val="99cc00"/>
              </a:gs>
              <a:gs pos="100000">
                <a:srgbClr val="f6faec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0" name="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"/>
          <p:cNvSpPr/>
          <p:nvPr/>
        </p:nvSpPr>
        <p:spPr>
          <a:xfrm>
            <a:off x="4108320" y="2911320"/>
            <a:ext cx="4768920" cy="1800"/>
          </a:xfrm>
          <a:custGeom>
            <a:avLst/>
            <a:gdLst/>
            <a:ahLst/>
            <a:rect l="l" t="t" r="r" b="b"/>
            <a:pathLst>
              <a:path w="3004" h="1">
                <a:moveTo>
                  <a:pt x="0" y="0"/>
                </a:moveTo>
                <a:lnTo>
                  <a:pt x="3004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1760" y="2911320"/>
            <a:ext cx="14400" cy="1814760"/>
          </a:xfrm>
          <a:custGeom>
            <a:avLst/>
            <a:gdLst/>
            <a:ahLst/>
            <a:rect l="l" t="t" r="r" b="b"/>
            <a:pathLst>
              <a:path w="9" h="1143">
                <a:moveTo>
                  <a:pt x="0" y="1143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0872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6" name="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1" name="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4" name="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"/>
          <p:cNvSpPr/>
          <p:nvPr/>
        </p:nvSpPr>
        <p:spPr>
          <a:xfrm>
            <a:off x="6429240" y="1041480"/>
            <a:ext cx="1349640" cy="5908680"/>
          </a:xfrm>
          <a:custGeom>
            <a:avLst/>
            <a:gdLst/>
            <a:ahLst/>
            <a:rect l="l" t="t" r="r" b="b"/>
            <a:pathLst>
              <a:path w="850" h="3722">
                <a:moveTo>
                  <a:pt x="0" y="3722"/>
                </a:moveTo>
                <a:lnTo>
                  <a:pt x="850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0872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39" name="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3" name="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1" name="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4" name="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/>
          <p:cNvSpPr/>
          <p:nvPr/>
        </p:nvSpPr>
        <p:spPr>
          <a:xfrm>
            <a:off x="4797360" y="1336680"/>
            <a:ext cx="3192480" cy="5429160"/>
          </a:xfrm>
          <a:custGeom>
            <a:avLst/>
            <a:gdLst/>
            <a:ahLst/>
            <a:rect l="l" t="t" r="r" b="b"/>
            <a:pathLst>
              <a:path w="2011" h="3420">
                <a:moveTo>
                  <a:pt x="2011" y="34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24360" y="2924280"/>
            <a:ext cx="6480" cy="1815840"/>
          </a:xfrm>
          <a:custGeom>
            <a:avLst/>
            <a:gdLst/>
            <a:ahLst/>
            <a:rect l="l" t="t" r="r" b="b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69" name="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3" name="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696000" y="4614840"/>
            <a:ext cx="14400" cy="111240"/>
          </a:xfrm>
          <a:custGeom>
            <a:avLst/>
            <a:gdLst/>
            <a:ahLst/>
            <a:rect l="l" t="t" r="r" b="b"/>
            <a:pathLst>
              <a:path w="9" h="70">
                <a:moveTo>
                  <a:pt x="9" y="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9440" y="1547640"/>
            <a:ext cx="4360680" cy="4951440"/>
          </a:xfrm>
          <a:custGeom>
            <a:avLst/>
            <a:gdLst/>
            <a:ahLst/>
            <a:rect l="l" t="t" r="r" b="b"/>
            <a:pathLst>
              <a:path w="2747" h="3119">
                <a:moveTo>
                  <a:pt x="0" y="3119"/>
                </a:moveTo>
                <a:lnTo>
                  <a:pt x="2747" y="0"/>
                </a:lnTo>
              </a:path>
            </a:pathLst>
          </a:cu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0" name="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3" name="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" name="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20920" y="4290840"/>
            <a:ext cx="1440" cy="435240"/>
          </a:xfrm>
          <a:custGeom>
            <a:avLst/>
            <a:gdLst/>
            <a:ahLst/>
            <a:rect l="l" t="t" r="r" b="b"/>
            <a:pathLst>
              <a:path w="1" h="274">
                <a:moveTo>
                  <a:pt x="0" y="27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16480" y="2940120"/>
            <a:ext cx="14040" cy="1758960"/>
          </a:xfrm>
          <a:custGeom>
            <a:avLst/>
            <a:gdLst/>
            <a:ahLst/>
            <a:rect l="l" t="t" r="r" b="b"/>
            <a:pathLst>
              <a:path w="9" h="1108">
                <a:moveTo>
                  <a:pt x="9" y="11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1" name="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4" name="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7" name="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0" name="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3" name="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6" name="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9600" y="4430880"/>
            <a:ext cx="5022720" cy="1449360"/>
          </a:xfrm>
          <a:custGeom>
            <a:avLst/>
            <a:gdLst/>
            <a:ahLst/>
            <a:rect l="l" t="t" r="r" b="b"/>
            <a:pathLst>
              <a:path w="3164" h="913">
                <a:moveTo>
                  <a:pt x="0" y="913"/>
                </a:moveTo>
                <a:lnTo>
                  <a:pt x="3164" y="0"/>
                </a:ln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09" name="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295960" y="5877000"/>
                  <a:ext cx="34243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2" name="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6" name="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8" name="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0" name="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2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4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6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8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0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2" name="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4" name="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efefe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0" name="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3" name="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4" name="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6" name="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8" name="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1" name="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0" name="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7" name="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630520" y="2714760"/>
            <a:ext cx="3544920" cy="3573360"/>
          </a:xfrm>
          <a:custGeom>
            <a:avLst/>
            <a:gdLst/>
            <a:ahLst/>
            <a:rect l="l" t="t" r="r" b="b"/>
            <a:pathLst>
              <a:path w="2233" h="2251">
                <a:moveTo>
                  <a:pt x="0" y="2251"/>
                </a:moveTo>
                <a:lnTo>
                  <a:pt x="22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2786040"/>
            <a:ext cx="3009960" cy="2981520"/>
          </a:xfrm>
          <a:custGeom>
            <a:avLst/>
            <a:gdLst/>
            <a:ahLst/>
            <a:rect l="l" t="t" r="r" b="b"/>
            <a:pathLst>
              <a:path w="1896" h="1878">
                <a:moveTo>
                  <a:pt x="0" y="0"/>
                </a:moveTo>
                <a:lnTo>
                  <a:pt x="1896" y="1878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3981600"/>
            <a:ext cx="14400" cy="1322280"/>
          </a:xfrm>
          <a:custGeom>
            <a:avLst/>
            <a:gdLst/>
            <a:ahLst/>
            <a:rect l="l" t="t" r="r" b="b"/>
            <a:pathLst>
              <a:path w="9" h="833">
                <a:moveTo>
                  <a:pt x="9" y="83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405160"/>
            <a:ext cx="3797280" cy="4319640"/>
          </a:xfrm>
          <a:custGeom>
            <a:avLst/>
            <a:gdLst/>
            <a:ahLst/>
            <a:rect l="l" t="t" r="r" b="b"/>
            <a:pathLst>
              <a:path w="2392" h="2721">
                <a:moveTo>
                  <a:pt x="0" y="0"/>
                </a:moveTo>
                <a:lnTo>
                  <a:pt x="2392" y="2721"/>
                </a:lnTo>
              </a:path>
            </a:pathLst>
          </a:cu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8040" y="1476360"/>
            <a:ext cx="4051440" cy="4629240"/>
          </a:xfrm>
          <a:custGeom>
            <a:avLst/>
            <a:gdLst/>
            <a:ahLst/>
            <a:rect l="l" t="t" r="r" b="b"/>
            <a:pathLst>
              <a:path w="2552" h="2916">
                <a:moveTo>
                  <a:pt x="2552" y="0"/>
                </a:moveTo>
                <a:lnTo>
                  <a:pt x="0" y="2916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4" name="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efefe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7" name="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0" name="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efefe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437080" y="5734080"/>
                  <a:ext cx="323964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Admin</cp:lastModifiedBy>
  <dcterms:modified xsi:type="dcterms:W3CDTF">2010-06-14T20:58:37Z</dcterms:modified>
  <cp:revision>5</cp:revision>
  <dc:subject/>
  <dc:title>Слайд 1</dc:title>
</cp:coreProperties>
</file>