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4.png" ContentType="image/png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46495-B3F0-4199-B2D0-D26F62ED8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A0D66-7941-4293-8B4E-6C832EAE7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3CF47-26CA-4FA6-897C-4AD56FCE6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2C000-A9A9-44C5-A4AA-75EBF9D8E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EBFC8-D4E7-4AD2-88E9-B93DF9BB9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6B989-9204-4FB9-AC34-FEB170B1C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68E5E-3117-4CDA-89EA-90C9E61F4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53CDA-528B-4332-BF90-09F220AE5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B5974-85D1-495B-95C2-07BC6623A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62928-2700-48DD-AB24-1D5CD73F8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9A278-5807-438D-BF8F-92C3B7421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5E669-C444-4FA3-834C-032F343A5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fefe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B8C31-5227-4BB5-BA92-FBBB1F6F5C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fefe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79280" y="404640"/>
            <a:ext cx="8569440" cy="259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8000"/>
                    </a:gs>
                    <a:gs pos="100000">
                      <a:srgbClr val="99cc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Графический способ</a:t>
            </a:r>
            <a:endParaRPr b="1" i="1" lang="en-US" sz="1800" spc="1" strike="noStrike">
              <a:ln w="0">
                <a:noFill/>
              </a:ln>
              <a:gradFill rotWithShape="0">
                <a:gsLst>
                  <a:gs pos="0">
                    <a:srgbClr val="008000"/>
                  </a:gs>
                  <a:gs pos="100000">
                    <a:srgbClr val="99cc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8000"/>
                    </a:gs>
                    <a:gs pos="100000">
                      <a:srgbClr val="99cc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решения уравнений.</a:t>
            </a:r>
            <a:endParaRPr b="1" i="1" lang="en-US" sz="1800" spc="1" strike="noStrike">
              <a:ln w="0">
                <a:noFill/>
              </a:ln>
              <a:gradFill rotWithShape="0">
                <a:gsLst>
                  <a:gs pos="0">
                    <a:srgbClr val="008000"/>
                  </a:gs>
                  <a:gs pos="100000">
                    <a:srgbClr val="99cc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42" name=""/>
          <p:cNvSpPr/>
          <p:nvPr/>
        </p:nvSpPr>
        <p:spPr>
          <a:xfrm>
            <a:off x="2833560" y="5851440"/>
            <a:ext cx="3596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Georgia"/>
              </a:rPr>
              <a:t>Каратанова М.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Georgia"/>
              </a:rPr>
              <a:t>МОУ СОШ №256 г.Фоки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Georgia"/>
              </a:rPr>
              <a:t>Приморский кра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3708360" y="5157720"/>
            <a:ext cx="19623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41400">
                  <a:solidFill>
                    <a:srgbClr val="008000"/>
                  </a:solidFill>
                  <a:miter/>
                </a:ln>
                <a:solidFill>
                  <a:srgbClr val="ffffff"/>
                </a:solidFill>
                <a:latin typeface="Georgia"/>
              </a:rPr>
              <a:t>8 класс.</a:t>
            </a:r>
            <a:endParaRPr b="1" i="1" lang="en-US" sz="1800" spc="1" strike="noStrike">
              <a:ln w="41400">
                <a:solidFill>
                  <a:srgbClr val="008000"/>
                </a:solidFill>
                <a:miter/>
              </a:ln>
              <a:solidFill>
                <a:srgbClr val="ffffff"/>
              </a:solidFill>
              <a:latin typeface="Georgia"/>
              <a:ea typeface="Georgia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723960" y="2997360"/>
          <a:ext cx="2552760" cy="287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3960" y="2997360"/>
                    <a:ext cx="2552760" cy="28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"/>
          <p:cNvGraphicFramePr/>
          <p:nvPr/>
        </p:nvGraphicFramePr>
        <p:xfrm>
          <a:off x="6019920" y="2924280"/>
          <a:ext cx="2630520" cy="2952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19920" y="2924280"/>
                    <a:ext cx="2630520" cy="295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7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0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fefe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395280" y="260280"/>
            <a:ext cx="2519280" cy="71928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fefefe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Georgia"/>
              </a:rPr>
              <a:t>Зада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-9360" y="1125360"/>
          <a:ext cx="5352840" cy="573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9360" y="1125360"/>
                    <a:ext cx="5352840" cy="573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95" name=""/>
          <p:cNvGrpSpPr/>
          <p:nvPr/>
        </p:nvGrpSpPr>
        <p:grpSpPr>
          <a:xfrm>
            <a:off x="6012000" y="2060640"/>
            <a:ext cx="2520720" cy="831960"/>
            <a:chOff x="6012000" y="2060640"/>
            <a:chExt cx="2520720" cy="831960"/>
          </a:xfrm>
        </p:grpSpPr>
        <p:sp>
          <p:nvSpPr>
            <p:cNvPr id="196" name=""/>
            <p:cNvSpPr/>
            <p:nvPr/>
          </p:nvSpPr>
          <p:spPr>
            <a:xfrm>
              <a:off x="6012000" y="2060640"/>
              <a:ext cx="2520720" cy="792360"/>
            </a:xfrm>
            <a:prstGeom prst="rect">
              <a:avLst/>
            </a:prstGeom>
            <a:gradFill rotWithShape="0">
              <a:gsLst>
                <a:gs pos="0">
                  <a:srgbClr val="993300"/>
                </a:gs>
                <a:gs pos="50000">
                  <a:srgbClr val="fefefe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7" name=""/>
                <p:cNvSpPr txBox="1"/>
                <p:nvPr/>
              </p:nvSpPr>
              <p:spPr>
                <a:xfrm>
                  <a:off x="6531120" y="2087640"/>
                  <a:ext cx="1458720" cy="80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у</m:t>
                      </m:r>
                      <m:r>
                        <m:t xml:space="preserve">=</m:t>
                      </m:r>
                      <m:sSup>
                        <m:e>
                          <m:r>
                            <m:t xml:space="preserve">х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98" name=""/>
          <p:cNvGrpSpPr/>
          <p:nvPr/>
        </p:nvGrpSpPr>
        <p:grpSpPr>
          <a:xfrm>
            <a:off x="6012000" y="3284640"/>
            <a:ext cx="2563560" cy="804600"/>
            <a:chOff x="6012000" y="3284640"/>
            <a:chExt cx="2563560" cy="804600"/>
          </a:xfrm>
        </p:grpSpPr>
        <p:sp>
          <p:nvSpPr>
            <p:cNvPr id="199" name=""/>
            <p:cNvSpPr/>
            <p:nvPr/>
          </p:nvSpPr>
          <p:spPr>
            <a:xfrm>
              <a:off x="6045120" y="3284640"/>
              <a:ext cx="2521080" cy="79200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fefefe"/>
                </a:gs>
                <a:gs pos="100000">
                  <a:srgbClr val="ff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0" name=""/>
                <p:cNvSpPr txBox="1"/>
                <p:nvPr/>
              </p:nvSpPr>
              <p:spPr>
                <a:xfrm>
                  <a:off x="6012000" y="3284640"/>
                  <a:ext cx="2563560" cy="804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у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sSup>
                        <m:e>
                          <m:r>
                            <m:t xml:space="preserve">х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r>
                        <m:t xml:space="preserve">6</m:t>
                      </m:r>
                    </m:oMath>
                  </a14:m>
                </a:p>
              </p:txBody>
            </p:sp>
          </mc:Choice>
          <mc:Fallback/>
        </mc:AlternateContent>
      </p:grpSp>
      <p:graphicFrame>
        <p:nvGraphicFramePr>
          <p:cNvPr id="201" name=""/>
          <p:cNvGraphicFramePr/>
          <p:nvPr/>
        </p:nvGraphicFramePr>
        <p:xfrm>
          <a:off x="0" y="1125360"/>
          <a:ext cx="5353200" cy="5732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125360"/>
                    <a:ext cx="5353200" cy="573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3" name=""/>
          <p:cNvSpPr/>
          <p:nvPr/>
        </p:nvSpPr>
        <p:spPr>
          <a:xfrm>
            <a:off x="3851280" y="333360"/>
            <a:ext cx="4968720" cy="115272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fefefe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Georgia"/>
              </a:rPr>
              <a:t>Определите, како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Georgia"/>
              </a:rPr>
              <a:t>уравнение  решен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rot="10800000">
            <a:off x="1476360" y="1988640"/>
            <a:ext cx="2519280" cy="4869000"/>
          </a:xfrm>
          <a:custGeom>
            <a:avLst/>
            <a:gdLst/>
            <a:ahLst/>
            <a:rect l="l" t="t" r="r" b="b"/>
            <a:pathLst>
              <a:path w="4236" h="6585">
                <a:moveTo>
                  <a:pt x="0" y="0"/>
                </a:moveTo>
                <a:cubicBezTo>
                  <a:pt x="65" y="358"/>
                  <a:pt x="293" y="1625"/>
                  <a:pt x="390" y="2145"/>
                </a:cubicBezTo>
                <a:cubicBezTo>
                  <a:pt x="487" y="2665"/>
                  <a:pt x="518" y="2815"/>
                  <a:pt x="585" y="3120"/>
                </a:cubicBezTo>
                <a:cubicBezTo>
                  <a:pt x="652" y="3425"/>
                  <a:pt x="713" y="3673"/>
                  <a:pt x="795" y="3975"/>
                </a:cubicBezTo>
                <a:cubicBezTo>
                  <a:pt x="877" y="4277"/>
                  <a:pt x="968" y="4605"/>
                  <a:pt x="1080" y="4935"/>
                </a:cubicBezTo>
                <a:cubicBezTo>
                  <a:pt x="1192" y="5265"/>
                  <a:pt x="1355" y="5710"/>
                  <a:pt x="1470" y="5955"/>
                </a:cubicBezTo>
                <a:cubicBezTo>
                  <a:pt x="1585" y="6200"/>
                  <a:pt x="1660" y="6300"/>
                  <a:pt x="1770" y="6405"/>
                </a:cubicBezTo>
                <a:cubicBezTo>
                  <a:pt x="1880" y="6510"/>
                  <a:pt x="2015" y="6585"/>
                  <a:pt x="2130" y="6585"/>
                </a:cubicBezTo>
                <a:cubicBezTo>
                  <a:pt x="2245" y="6585"/>
                  <a:pt x="2337" y="6535"/>
                  <a:pt x="2460" y="6405"/>
                </a:cubicBezTo>
                <a:cubicBezTo>
                  <a:pt x="2583" y="6275"/>
                  <a:pt x="2747" y="6040"/>
                  <a:pt x="2865" y="5805"/>
                </a:cubicBezTo>
                <a:cubicBezTo>
                  <a:pt x="2983" y="5570"/>
                  <a:pt x="3080" y="5258"/>
                  <a:pt x="3165" y="4995"/>
                </a:cubicBezTo>
                <a:cubicBezTo>
                  <a:pt x="3250" y="4732"/>
                  <a:pt x="3310" y="4480"/>
                  <a:pt x="3375" y="4230"/>
                </a:cubicBezTo>
                <a:cubicBezTo>
                  <a:pt x="3440" y="3980"/>
                  <a:pt x="3497" y="3738"/>
                  <a:pt x="3555" y="3495"/>
                </a:cubicBezTo>
                <a:cubicBezTo>
                  <a:pt x="3613" y="3252"/>
                  <a:pt x="3663" y="3040"/>
                  <a:pt x="3720" y="2775"/>
                </a:cubicBezTo>
                <a:cubicBezTo>
                  <a:pt x="3777" y="2510"/>
                  <a:pt x="3814" y="2366"/>
                  <a:pt x="3900" y="1905"/>
                </a:cubicBezTo>
                <a:cubicBezTo>
                  <a:pt x="3986" y="1444"/>
                  <a:pt x="4166" y="406"/>
                  <a:pt x="4236" y="11"/>
                </a:cubicBez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3276720" y="5686560"/>
            <a:ext cx="5545080" cy="766800"/>
            <a:chOff x="3276720" y="5686560"/>
            <a:chExt cx="5545080" cy="766800"/>
          </a:xfrm>
        </p:grpSpPr>
        <p:sp>
          <p:nvSpPr>
            <p:cNvPr id="206" name=""/>
            <p:cNvSpPr/>
            <p:nvPr/>
          </p:nvSpPr>
          <p:spPr>
            <a:xfrm>
              <a:off x="3276720" y="5734080"/>
              <a:ext cx="5545080" cy="719280"/>
            </a:xfrm>
            <a:prstGeom prst="rect">
              <a:avLst/>
            </a:prstGeom>
            <a:gradFill rotWithShape="0">
              <a:gsLst>
                <a:gs pos="0">
                  <a:srgbClr val="99cc00"/>
                </a:gs>
                <a:gs pos="50000">
                  <a:srgbClr val="fefefe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Georgia"/>
                </a:rPr>
                <a:t>Ответ: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7" name=""/>
                <p:cNvSpPr txBox="1"/>
                <p:nvPr/>
              </p:nvSpPr>
              <p:spPr>
                <a:xfrm>
                  <a:off x="5622840" y="5686560"/>
                  <a:ext cx="2868120" cy="757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х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=</m:t>
                      </m:r>
                      <m:r>
                        <m:t xml:space="preserve">−</m:t>
                      </m:r>
                      <m:sSup>
                        <m:e>
                          <m:r>
                            <m:t xml:space="preserve">х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r>
                        <m:t xml:space="preserve">6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0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4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1000"/>
                            </p:stCondLst>
                            <p:childTnLst>
                              <p:par>
                                <p:cTn id="37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3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2000"/>
                            </p:stCondLst>
                            <p:childTnLst>
                              <p:par>
                                <p:cTn id="3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7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8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fefe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395280" y="260280"/>
            <a:ext cx="2519280" cy="71928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fefefe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Georgia"/>
              </a:rPr>
              <a:t>Зада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-9360" y="1125360"/>
          <a:ext cx="5352840" cy="573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9360" y="1125360"/>
                    <a:ext cx="5352840" cy="573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11" name=""/>
          <p:cNvGrpSpPr/>
          <p:nvPr/>
        </p:nvGrpSpPr>
        <p:grpSpPr>
          <a:xfrm>
            <a:off x="6012000" y="2060640"/>
            <a:ext cx="2520720" cy="853560"/>
            <a:chOff x="6012000" y="2060640"/>
            <a:chExt cx="2520720" cy="853560"/>
          </a:xfrm>
        </p:grpSpPr>
        <p:sp>
          <p:nvSpPr>
            <p:cNvPr id="212" name=""/>
            <p:cNvSpPr/>
            <p:nvPr/>
          </p:nvSpPr>
          <p:spPr>
            <a:xfrm>
              <a:off x="6012000" y="2060640"/>
              <a:ext cx="2520720" cy="792000"/>
            </a:xfrm>
            <a:prstGeom prst="rect">
              <a:avLst/>
            </a:prstGeom>
            <a:gradFill rotWithShape="0">
              <a:gsLst>
                <a:gs pos="0">
                  <a:srgbClr val="3366ff"/>
                </a:gs>
                <a:gs pos="50000">
                  <a:srgbClr val="fefefe"/>
                </a:gs>
                <a:gs pos="100000">
                  <a:srgbClr val="33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3" name=""/>
                <p:cNvSpPr txBox="1"/>
                <p:nvPr/>
              </p:nvSpPr>
              <p:spPr>
                <a:xfrm>
                  <a:off x="6419880" y="2064960"/>
                  <a:ext cx="1681200" cy="849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у</m:t>
                      </m:r>
                      <m:r>
                        <m:t xml:space="preserve">=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х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14" name=""/>
          <p:cNvGrpSpPr/>
          <p:nvPr/>
        </p:nvGrpSpPr>
        <p:grpSpPr>
          <a:xfrm>
            <a:off x="6045120" y="3284640"/>
            <a:ext cx="2521080" cy="804600"/>
            <a:chOff x="6045120" y="3284640"/>
            <a:chExt cx="2521080" cy="804600"/>
          </a:xfrm>
        </p:grpSpPr>
        <p:sp>
          <p:nvSpPr>
            <p:cNvPr id="215" name=""/>
            <p:cNvSpPr/>
            <p:nvPr/>
          </p:nvSpPr>
          <p:spPr>
            <a:xfrm>
              <a:off x="6045120" y="3284640"/>
              <a:ext cx="2521080" cy="792000"/>
            </a:xfrm>
            <a:prstGeom prst="rect">
              <a:avLst/>
            </a:prstGeom>
            <a:gradFill rotWithShape="0">
              <a:gsLst>
                <a:gs pos="0">
                  <a:srgbClr val="99cc00"/>
                </a:gs>
                <a:gs pos="50000">
                  <a:srgbClr val="fefefe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6" name=""/>
                <p:cNvSpPr txBox="1"/>
                <p:nvPr/>
              </p:nvSpPr>
              <p:spPr>
                <a:xfrm>
                  <a:off x="6188040" y="3284640"/>
                  <a:ext cx="2209680" cy="804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у</m:t>
                      </m:r>
                      <m:r>
                        <m:t xml:space="preserve">=</m:t>
                      </m:r>
                      <m:sSup>
                        <m:e>
                          <m:r>
                            <m:t xml:space="preserve">х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−</m:t>
                      </m:r>
                      <m:r>
                        <m:t xml:space="preserve">3</m:t>
                      </m:r>
                    </m:oMath>
                  </a14:m>
                </a:p>
              </p:txBody>
            </p:sp>
          </mc:Choice>
          <mc:Fallback/>
        </mc:AlternateContent>
      </p:grpSp>
      <p:graphicFrame>
        <p:nvGraphicFramePr>
          <p:cNvPr id="217" name=""/>
          <p:cNvGraphicFramePr/>
          <p:nvPr/>
        </p:nvGraphicFramePr>
        <p:xfrm>
          <a:off x="0" y="1125360"/>
          <a:ext cx="5353200" cy="5732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125360"/>
                    <a:ext cx="5353200" cy="573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9" name=""/>
          <p:cNvSpPr/>
          <p:nvPr/>
        </p:nvSpPr>
        <p:spPr>
          <a:xfrm>
            <a:off x="3851280" y="333360"/>
            <a:ext cx="4968720" cy="115272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fefefe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Georgia"/>
              </a:rPr>
              <a:t>Определите, како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Georgia"/>
              </a:rPr>
              <a:t>уравнение  решен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476360" y="1197000"/>
            <a:ext cx="2519280" cy="4869000"/>
          </a:xfrm>
          <a:custGeom>
            <a:avLst/>
            <a:gdLst/>
            <a:ahLst/>
            <a:rect l="l" t="t" r="r" b="b"/>
            <a:pathLst>
              <a:path w="4236" h="6585">
                <a:moveTo>
                  <a:pt x="0" y="0"/>
                </a:moveTo>
                <a:cubicBezTo>
                  <a:pt x="65" y="358"/>
                  <a:pt x="293" y="1625"/>
                  <a:pt x="390" y="2145"/>
                </a:cubicBezTo>
                <a:cubicBezTo>
                  <a:pt x="487" y="2665"/>
                  <a:pt x="518" y="2815"/>
                  <a:pt x="585" y="3120"/>
                </a:cubicBezTo>
                <a:cubicBezTo>
                  <a:pt x="652" y="3425"/>
                  <a:pt x="713" y="3673"/>
                  <a:pt x="795" y="3975"/>
                </a:cubicBezTo>
                <a:cubicBezTo>
                  <a:pt x="877" y="4277"/>
                  <a:pt x="968" y="4605"/>
                  <a:pt x="1080" y="4935"/>
                </a:cubicBezTo>
                <a:cubicBezTo>
                  <a:pt x="1192" y="5265"/>
                  <a:pt x="1355" y="5710"/>
                  <a:pt x="1470" y="5955"/>
                </a:cubicBezTo>
                <a:cubicBezTo>
                  <a:pt x="1585" y="6200"/>
                  <a:pt x="1660" y="6300"/>
                  <a:pt x="1770" y="6405"/>
                </a:cubicBezTo>
                <a:cubicBezTo>
                  <a:pt x="1880" y="6510"/>
                  <a:pt x="2015" y="6585"/>
                  <a:pt x="2130" y="6585"/>
                </a:cubicBezTo>
                <a:cubicBezTo>
                  <a:pt x="2245" y="6585"/>
                  <a:pt x="2337" y="6535"/>
                  <a:pt x="2460" y="6405"/>
                </a:cubicBezTo>
                <a:cubicBezTo>
                  <a:pt x="2583" y="6275"/>
                  <a:pt x="2747" y="6040"/>
                  <a:pt x="2865" y="5805"/>
                </a:cubicBezTo>
                <a:cubicBezTo>
                  <a:pt x="2983" y="5570"/>
                  <a:pt x="3080" y="5258"/>
                  <a:pt x="3165" y="4995"/>
                </a:cubicBezTo>
                <a:cubicBezTo>
                  <a:pt x="3250" y="4732"/>
                  <a:pt x="3310" y="4480"/>
                  <a:pt x="3375" y="4230"/>
                </a:cubicBezTo>
                <a:cubicBezTo>
                  <a:pt x="3440" y="3980"/>
                  <a:pt x="3497" y="3738"/>
                  <a:pt x="3555" y="3495"/>
                </a:cubicBezTo>
                <a:cubicBezTo>
                  <a:pt x="3613" y="3252"/>
                  <a:pt x="3663" y="3040"/>
                  <a:pt x="3720" y="2775"/>
                </a:cubicBezTo>
                <a:cubicBezTo>
                  <a:pt x="3777" y="2510"/>
                  <a:pt x="3814" y="2366"/>
                  <a:pt x="3900" y="1905"/>
                </a:cubicBezTo>
                <a:cubicBezTo>
                  <a:pt x="3986" y="1444"/>
                  <a:pt x="4166" y="406"/>
                  <a:pt x="4236" y="11"/>
                </a:cubicBezTo>
              </a:path>
            </a:pathLst>
          </a:custGeom>
          <a:noFill/>
          <a:ln w="507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3276720" y="5640480"/>
            <a:ext cx="5545080" cy="850680"/>
            <a:chOff x="3276720" y="5640480"/>
            <a:chExt cx="5545080" cy="850680"/>
          </a:xfrm>
        </p:grpSpPr>
        <p:sp>
          <p:nvSpPr>
            <p:cNvPr id="222" name=""/>
            <p:cNvSpPr/>
            <p:nvPr/>
          </p:nvSpPr>
          <p:spPr>
            <a:xfrm>
              <a:off x="3276720" y="5734080"/>
              <a:ext cx="5545080" cy="719280"/>
            </a:xfrm>
            <a:prstGeom prst="rect">
              <a:avLst/>
            </a:prstGeom>
            <a:gradFill rotWithShape="0">
              <a:gsLst>
                <a:gs pos="0">
                  <a:srgbClr val="99cc00"/>
                </a:gs>
                <a:gs pos="50000">
                  <a:srgbClr val="fefefe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Georgia"/>
                </a:rPr>
                <a:t>Ответ: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23" name=""/>
                <p:cNvSpPr txBox="1"/>
                <p:nvPr/>
              </p:nvSpPr>
              <p:spPr>
                <a:xfrm>
                  <a:off x="5715000" y="5640480"/>
                  <a:ext cx="2684160" cy="850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х</m:t>
                          </m:r>
                        </m:e>
                      </m:rad>
                      <m:r>
                        <m:t xml:space="preserve">=</m:t>
                      </m:r>
                      <m:sSup>
                        <m:e>
                          <m:r>
                            <m:t xml:space="preserve">х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−</m:t>
                      </m:r>
                      <m:r>
                        <m:t xml:space="preserve">3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0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5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1000"/>
                            </p:stCondLst>
                            <p:childTnLst>
                              <p:par>
                                <p:cTn id="40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9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0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fefe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395280" y="260280"/>
            <a:ext cx="2519280" cy="71928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fefefe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Georgia"/>
              </a:rPr>
              <a:t>Зада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-9360" y="1125360"/>
          <a:ext cx="5352840" cy="573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9360" y="1125360"/>
                    <a:ext cx="5352840" cy="573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27" name=""/>
          <p:cNvGrpSpPr/>
          <p:nvPr/>
        </p:nvGrpSpPr>
        <p:grpSpPr>
          <a:xfrm>
            <a:off x="6084720" y="1700280"/>
            <a:ext cx="2448000" cy="1386000"/>
            <a:chOff x="6084720" y="1700280"/>
            <a:chExt cx="2448000" cy="1386000"/>
          </a:xfrm>
        </p:grpSpPr>
        <p:sp>
          <p:nvSpPr>
            <p:cNvPr id="228" name=""/>
            <p:cNvSpPr/>
            <p:nvPr/>
          </p:nvSpPr>
          <p:spPr>
            <a:xfrm>
              <a:off x="6084720" y="1773360"/>
              <a:ext cx="2448000" cy="1295280"/>
            </a:xfrm>
            <a:prstGeom prst="rect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efefe"/>
                </a:gs>
                <a:gs pos="100000">
                  <a:srgbClr val="ff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29" name=""/>
                <p:cNvSpPr txBox="1"/>
                <p:nvPr/>
              </p:nvSpPr>
              <p:spPr>
                <a:xfrm>
                  <a:off x="6588000" y="1700280"/>
                  <a:ext cx="1371600" cy="1386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у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2</m:t>
                          </m:r>
                        </m:num>
                        <m:den>
                          <m:r>
                            <m:t xml:space="preserve">х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30" name=""/>
          <p:cNvGrpSpPr/>
          <p:nvPr/>
        </p:nvGrpSpPr>
        <p:grpSpPr>
          <a:xfrm>
            <a:off x="6045120" y="3284640"/>
            <a:ext cx="2521080" cy="804600"/>
            <a:chOff x="6045120" y="3284640"/>
            <a:chExt cx="2521080" cy="804600"/>
          </a:xfrm>
        </p:grpSpPr>
        <p:sp>
          <p:nvSpPr>
            <p:cNvPr id="231" name=""/>
            <p:cNvSpPr/>
            <p:nvPr/>
          </p:nvSpPr>
          <p:spPr>
            <a:xfrm>
              <a:off x="6045120" y="3284640"/>
              <a:ext cx="2521080" cy="792000"/>
            </a:xfrm>
            <a:prstGeom prst="rect">
              <a:avLst/>
            </a:prstGeom>
            <a:gradFill rotWithShape="0">
              <a:gsLst>
                <a:gs pos="0">
                  <a:srgbClr val="99cc00"/>
                </a:gs>
                <a:gs pos="50000">
                  <a:srgbClr val="fefefe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2" name=""/>
                <p:cNvSpPr txBox="1"/>
                <p:nvPr/>
              </p:nvSpPr>
              <p:spPr>
                <a:xfrm>
                  <a:off x="6232680" y="3284640"/>
                  <a:ext cx="2120760" cy="804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у</m:t>
                      </m:r>
                      <m:r>
                        <m:t xml:space="preserve">=</m:t>
                      </m:r>
                      <m:sSup>
                        <m:e>
                          <m:r>
                            <m:t xml:space="preserve">х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−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</p:grpSp>
      <p:graphicFrame>
        <p:nvGraphicFramePr>
          <p:cNvPr id="233" name=""/>
          <p:cNvGraphicFramePr/>
          <p:nvPr/>
        </p:nvGraphicFramePr>
        <p:xfrm>
          <a:off x="0" y="1125360"/>
          <a:ext cx="5354640" cy="5732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125360"/>
                    <a:ext cx="5354640" cy="573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5" name=""/>
          <p:cNvSpPr/>
          <p:nvPr/>
        </p:nvSpPr>
        <p:spPr>
          <a:xfrm>
            <a:off x="3851280" y="333360"/>
            <a:ext cx="4968720" cy="115272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fefefe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Georgia"/>
              </a:rPr>
              <a:t>Определите, како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Georgia"/>
              </a:rPr>
              <a:t>уравнение  решен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619280" y="1341360"/>
            <a:ext cx="2232000" cy="3861000"/>
          </a:xfrm>
          <a:custGeom>
            <a:avLst/>
            <a:gdLst/>
            <a:ahLst/>
            <a:rect l="l" t="t" r="r" b="b"/>
            <a:pathLst>
              <a:path w="4236" h="6585">
                <a:moveTo>
                  <a:pt x="0" y="0"/>
                </a:moveTo>
                <a:cubicBezTo>
                  <a:pt x="65" y="358"/>
                  <a:pt x="293" y="1625"/>
                  <a:pt x="390" y="2145"/>
                </a:cubicBezTo>
                <a:cubicBezTo>
                  <a:pt x="487" y="2665"/>
                  <a:pt x="518" y="2815"/>
                  <a:pt x="585" y="3120"/>
                </a:cubicBezTo>
                <a:cubicBezTo>
                  <a:pt x="652" y="3425"/>
                  <a:pt x="713" y="3673"/>
                  <a:pt x="795" y="3975"/>
                </a:cubicBezTo>
                <a:cubicBezTo>
                  <a:pt x="877" y="4277"/>
                  <a:pt x="968" y="4605"/>
                  <a:pt x="1080" y="4935"/>
                </a:cubicBezTo>
                <a:cubicBezTo>
                  <a:pt x="1192" y="5265"/>
                  <a:pt x="1355" y="5710"/>
                  <a:pt x="1470" y="5955"/>
                </a:cubicBezTo>
                <a:cubicBezTo>
                  <a:pt x="1585" y="6200"/>
                  <a:pt x="1660" y="6300"/>
                  <a:pt x="1770" y="6405"/>
                </a:cubicBezTo>
                <a:cubicBezTo>
                  <a:pt x="1880" y="6510"/>
                  <a:pt x="2015" y="6585"/>
                  <a:pt x="2130" y="6585"/>
                </a:cubicBezTo>
                <a:cubicBezTo>
                  <a:pt x="2245" y="6585"/>
                  <a:pt x="2337" y="6535"/>
                  <a:pt x="2460" y="6405"/>
                </a:cubicBezTo>
                <a:cubicBezTo>
                  <a:pt x="2583" y="6275"/>
                  <a:pt x="2747" y="6040"/>
                  <a:pt x="2865" y="5805"/>
                </a:cubicBezTo>
                <a:cubicBezTo>
                  <a:pt x="2983" y="5570"/>
                  <a:pt x="3080" y="5258"/>
                  <a:pt x="3165" y="4995"/>
                </a:cubicBezTo>
                <a:cubicBezTo>
                  <a:pt x="3250" y="4732"/>
                  <a:pt x="3310" y="4480"/>
                  <a:pt x="3375" y="4230"/>
                </a:cubicBezTo>
                <a:cubicBezTo>
                  <a:pt x="3440" y="3980"/>
                  <a:pt x="3497" y="3738"/>
                  <a:pt x="3555" y="3495"/>
                </a:cubicBezTo>
                <a:cubicBezTo>
                  <a:pt x="3613" y="3252"/>
                  <a:pt x="3663" y="3040"/>
                  <a:pt x="3720" y="2775"/>
                </a:cubicBezTo>
                <a:cubicBezTo>
                  <a:pt x="3777" y="2510"/>
                  <a:pt x="3814" y="2366"/>
                  <a:pt x="3900" y="1905"/>
                </a:cubicBezTo>
                <a:cubicBezTo>
                  <a:pt x="3986" y="1444"/>
                  <a:pt x="4166" y="406"/>
                  <a:pt x="4236" y="11"/>
                </a:cubicBezTo>
              </a:path>
            </a:pathLst>
          </a:custGeom>
          <a:noFill/>
          <a:ln w="507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3276720" y="5229360"/>
            <a:ext cx="5545080" cy="1465200"/>
            <a:chOff x="3276720" y="5229360"/>
            <a:chExt cx="5545080" cy="1465200"/>
          </a:xfrm>
        </p:grpSpPr>
        <p:sp>
          <p:nvSpPr>
            <p:cNvPr id="238" name=""/>
            <p:cNvSpPr/>
            <p:nvPr/>
          </p:nvSpPr>
          <p:spPr>
            <a:xfrm>
              <a:off x="3276720" y="5300640"/>
              <a:ext cx="5545080" cy="1368360"/>
            </a:xfrm>
            <a:prstGeom prst="rect">
              <a:avLst/>
            </a:prstGeom>
            <a:gradFill rotWithShape="0">
              <a:gsLst>
                <a:gs pos="0">
                  <a:srgbClr val="99cc00"/>
                </a:gs>
                <a:gs pos="50000">
                  <a:srgbClr val="fefefe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Georgia"/>
                </a:rPr>
                <a:t>Ответ: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9" name=""/>
                <p:cNvSpPr txBox="1"/>
                <p:nvPr/>
              </p:nvSpPr>
              <p:spPr>
                <a:xfrm>
                  <a:off x="5867280" y="5229360"/>
                  <a:ext cx="2314800" cy="1465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х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−</m:t>
                      </m:r>
                      <m:r>
                        <m:t xml:space="preserve">1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2</m:t>
                          </m:r>
                        </m:num>
                        <m:den>
                          <m:r>
                            <m:t xml:space="preserve">х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0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after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437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2000"/>
                            </p:stCondLst>
                            <p:childTnLst>
                              <p:par>
                                <p:cTn id="4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1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fefe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395280" y="260280"/>
            <a:ext cx="2519280" cy="71928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fefefe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Georgia"/>
              </a:rPr>
              <a:t>Зада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-9360" y="1125360"/>
          <a:ext cx="5352840" cy="573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9360" y="1125360"/>
                    <a:ext cx="5352840" cy="573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43" name=""/>
          <p:cNvGrpSpPr/>
          <p:nvPr/>
        </p:nvGrpSpPr>
        <p:grpSpPr>
          <a:xfrm>
            <a:off x="6012000" y="2060640"/>
            <a:ext cx="2520720" cy="830160"/>
            <a:chOff x="6012000" y="2060640"/>
            <a:chExt cx="2520720" cy="830160"/>
          </a:xfrm>
        </p:grpSpPr>
        <p:sp>
          <p:nvSpPr>
            <p:cNvPr id="244" name=""/>
            <p:cNvSpPr/>
            <p:nvPr/>
          </p:nvSpPr>
          <p:spPr>
            <a:xfrm>
              <a:off x="6012000" y="2060640"/>
              <a:ext cx="2520720" cy="792360"/>
            </a:xfrm>
            <a:prstGeom prst="rect">
              <a:avLst/>
            </a:prstGeom>
            <a:gradFill rotWithShape="0">
              <a:gsLst>
                <a:gs pos="0">
                  <a:srgbClr val="3366ff"/>
                </a:gs>
                <a:gs pos="50000">
                  <a:srgbClr val="fefefe"/>
                </a:gs>
                <a:gs pos="100000">
                  <a:srgbClr val="33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45" name=""/>
                <p:cNvSpPr txBox="1"/>
                <p:nvPr/>
              </p:nvSpPr>
              <p:spPr>
                <a:xfrm>
                  <a:off x="6529320" y="2087640"/>
                  <a:ext cx="1460520" cy="803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у</m:t>
                      </m:r>
                      <m:r>
                        <m:t xml:space="preserve">=</m:t>
                      </m:r>
                      <m:sSup>
                        <m:e>
                          <m:r>
                            <m:t xml:space="preserve">х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46" name=""/>
          <p:cNvGrpSpPr/>
          <p:nvPr/>
        </p:nvGrpSpPr>
        <p:grpSpPr>
          <a:xfrm>
            <a:off x="6045120" y="3284640"/>
            <a:ext cx="2521080" cy="792000"/>
            <a:chOff x="6045120" y="3284640"/>
            <a:chExt cx="2521080" cy="792000"/>
          </a:xfrm>
        </p:grpSpPr>
        <p:sp>
          <p:nvSpPr>
            <p:cNvPr id="247" name=""/>
            <p:cNvSpPr/>
            <p:nvPr/>
          </p:nvSpPr>
          <p:spPr>
            <a:xfrm>
              <a:off x="6045120" y="3284640"/>
              <a:ext cx="2521080" cy="792000"/>
            </a:xfrm>
            <a:prstGeom prst="rect">
              <a:avLst/>
            </a:prstGeom>
            <a:gradFill rotWithShape="0">
              <a:gsLst>
                <a:gs pos="0">
                  <a:srgbClr val="993300"/>
                </a:gs>
                <a:gs pos="50000">
                  <a:srgbClr val="fefefe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48" name=""/>
                <p:cNvSpPr txBox="1"/>
                <p:nvPr/>
              </p:nvSpPr>
              <p:spPr>
                <a:xfrm>
                  <a:off x="6188040" y="3328920"/>
                  <a:ext cx="2209680" cy="715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у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х</m:t>
                      </m:r>
                      <m:r>
                        <m:t xml:space="preserve">+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</p:grpSp>
      <p:graphicFrame>
        <p:nvGraphicFramePr>
          <p:cNvPr id="249" name=""/>
          <p:cNvGraphicFramePr/>
          <p:nvPr/>
        </p:nvGraphicFramePr>
        <p:xfrm>
          <a:off x="0" y="1125360"/>
          <a:ext cx="5354640" cy="5732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125360"/>
                    <a:ext cx="5354640" cy="573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1" name=""/>
          <p:cNvSpPr/>
          <p:nvPr/>
        </p:nvSpPr>
        <p:spPr>
          <a:xfrm>
            <a:off x="3851280" y="333360"/>
            <a:ext cx="4968720" cy="115272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fefefe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Georgia"/>
              </a:rPr>
              <a:t>Определите, како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Georgia"/>
              </a:rPr>
              <a:t>уравнение  решен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24000" y="1562040"/>
            <a:ext cx="4487760" cy="5092920"/>
          </a:xfrm>
          <a:custGeom>
            <a:avLst/>
            <a:gdLst/>
            <a:ahLst/>
            <a:rect l="l" t="t" r="r" b="b"/>
            <a:pathLst>
              <a:path w="2827" h="3208">
                <a:moveTo>
                  <a:pt x="0" y="0"/>
                </a:moveTo>
                <a:lnTo>
                  <a:pt x="2827" y="3208"/>
                </a:lnTo>
              </a:path>
            </a:pathLst>
          </a:custGeom>
          <a:noFill/>
          <a:ln w="475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3276720" y="5157720"/>
            <a:ext cx="5545080" cy="765360"/>
            <a:chOff x="3276720" y="5157720"/>
            <a:chExt cx="5545080" cy="765360"/>
          </a:xfrm>
        </p:grpSpPr>
        <p:sp>
          <p:nvSpPr>
            <p:cNvPr id="254" name=""/>
            <p:cNvSpPr/>
            <p:nvPr/>
          </p:nvSpPr>
          <p:spPr>
            <a:xfrm>
              <a:off x="3276720" y="5203800"/>
              <a:ext cx="5545080" cy="719280"/>
            </a:xfrm>
            <a:prstGeom prst="rect">
              <a:avLst/>
            </a:prstGeom>
            <a:gradFill rotWithShape="0">
              <a:gsLst>
                <a:gs pos="0">
                  <a:srgbClr val="99cc00"/>
                </a:gs>
                <a:gs pos="50000">
                  <a:srgbClr val="fefefe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Georgia"/>
                </a:rPr>
                <a:t>Ответ: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55" name=""/>
                <p:cNvSpPr txBox="1"/>
                <p:nvPr/>
              </p:nvSpPr>
              <p:spPr>
                <a:xfrm>
                  <a:off x="5786280" y="5157720"/>
                  <a:ext cx="2544480" cy="755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х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х</m:t>
                      </m:r>
                      <m:r>
                        <m:t xml:space="preserve">+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56" name=""/>
          <p:cNvGrpSpPr/>
          <p:nvPr/>
        </p:nvGrpSpPr>
        <p:grpSpPr>
          <a:xfrm>
            <a:off x="5418000" y="5877000"/>
            <a:ext cx="3420720" cy="980640"/>
            <a:chOff x="5418000" y="5877000"/>
            <a:chExt cx="3420720" cy="980640"/>
          </a:xfrm>
        </p:grpSpPr>
        <p:sp>
          <p:nvSpPr>
            <p:cNvPr id="257" name=""/>
            <p:cNvSpPr/>
            <p:nvPr/>
          </p:nvSpPr>
          <p:spPr>
            <a:xfrm>
              <a:off x="6270480" y="5972040"/>
              <a:ext cx="1798560" cy="86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58" name=""/>
                <p:cNvSpPr txBox="1"/>
                <p:nvPr/>
              </p:nvSpPr>
              <p:spPr>
                <a:xfrm>
                  <a:off x="5418000" y="5877000"/>
                  <a:ext cx="3420720" cy="980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х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r>
                        <m:t xml:space="preserve">х</m:t>
                      </m:r>
                      <m:r>
                        <m:t xml:space="preserve">−</m:t>
                      </m:r>
                      <m:r>
                        <m:t xml:space="preserve">1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0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9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1000"/>
                            </p:stCondLst>
                            <p:childTnLst>
                              <p:par>
                                <p:cTn id="47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3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8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4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1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fefe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755640" y="1341360"/>
            <a:ext cx="784872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8000"/>
                    </a:gs>
                    <a:gs pos="100000">
                      <a:srgbClr val="99cc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Графический способ</a:t>
            </a:r>
            <a:endParaRPr b="1" i="1" lang="en-US" sz="1800" spc="1" strike="noStrike">
              <a:ln w="0">
                <a:noFill/>
              </a:ln>
              <a:gradFill rotWithShape="0">
                <a:gsLst>
                  <a:gs pos="0">
                    <a:srgbClr val="008000"/>
                  </a:gs>
                  <a:gs pos="100000">
                    <a:srgbClr val="99cc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8000"/>
                    </a:gs>
                    <a:gs pos="100000">
                      <a:srgbClr val="99cc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решения </a:t>
            </a:r>
            <a:endParaRPr b="1" i="1" lang="en-US" sz="1800" spc="1" strike="noStrike">
              <a:ln w="0">
                <a:noFill/>
              </a:ln>
              <a:gradFill rotWithShape="0">
                <a:gsLst>
                  <a:gs pos="0">
                    <a:srgbClr val="008000"/>
                  </a:gs>
                  <a:gs pos="100000">
                    <a:srgbClr val="99cc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8000"/>
                    </a:gs>
                    <a:gs pos="100000">
                      <a:srgbClr val="99cc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квадратного уравнения.</a:t>
            </a:r>
            <a:endParaRPr b="1" i="1" lang="en-US" sz="1800" spc="1" strike="noStrike">
              <a:ln w="0">
                <a:noFill/>
              </a:ln>
              <a:gradFill rotWithShape="0">
                <a:gsLst>
                  <a:gs pos="0">
                    <a:srgbClr val="008000"/>
                  </a:gs>
                  <a:gs pos="100000">
                    <a:srgbClr val="99cc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2124000" y="4437000"/>
            <a:ext cx="4701960" cy="1023480"/>
            <a:chOff x="2124000" y="4437000"/>
            <a:chExt cx="4701960" cy="1023480"/>
          </a:xfrm>
        </p:grpSpPr>
        <p:sp>
          <p:nvSpPr>
            <p:cNvPr id="261" name=""/>
            <p:cNvSpPr/>
            <p:nvPr/>
          </p:nvSpPr>
          <p:spPr>
            <a:xfrm>
              <a:off x="3493800" y="4536000"/>
              <a:ext cx="2055240" cy="90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62" name=""/>
                <p:cNvSpPr txBox="1"/>
                <p:nvPr/>
              </p:nvSpPr>
              <p:spPr>
                <a:xfrm>
                  <a:off x="2124000" y="4437000"/>
                  <a:ext cx="4701960" cy="1023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ах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bх</m:t>
                      </m:r>
                      <m:r>
                        <m:t xml:space="preserve">+</m:t>
                      </m:r>
                      <m:r>
                        <m:t xml:space="preserve">c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2" dur="indefinite" restart="never" nodeType="tmRoot">
          <p:childTnLst>
            <p:seq>
              <p:cTn id="503" dur="indefinite" nodeType="mainSeq">
                <p:childTnLst>
                  <p:par>
                    <p:cTn id="504" fill="hold">
                      <p:stCondLst>
                        <p:cond delay="0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0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5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fefe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3" name=""/>
          <p:cNvGrpSpPr/>
          <p:nvPr/>
        </p:nvGrpSpPr>
        <p:grpSpPr>
          <a:xfrm>
            <a:off x="3924360" y="0"/>
            <a:ext cx="4701600" cy="1023480"/>
            <a:chOff x="3924360" y="0"/>
            <a:chExt cx="4701600" cy="1023480"/>
          </a:xfrm>
        </p:grpSpPr>
        <p:sp>
          <p:nvSpPr>
            <p:cNvPr id="264" name=""/>
            <p:cNvSpPr/>
            <p:nvPr/>
          </p:nvSpPr>
          <p:spPr>
            <a:xfrm>
              <a:off x="5293800" y="99000"/>
              <a:ext cx="2055240" cy="90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65" name=""/>
                <p:cNvSpPr txBox="1"/>
                <p:nvPr/>
              </p:nvSpPr>
              <p:spPr>
                <a:xfrm>
                  <a:off x="3924360" y="0"/>
                  <a:ext cx="4701600" cy="1023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ах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bх</m:t>
                      </m:r>
                      <m:r>
                        <m:t xml:space="preserve">+</m:t>
                      </m:r>
                      <m:r>
                        <m:t xml:space="preserve">c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66" name=""/>
          <p:cNvSpPr/>
          <p:nvPr/>
        </p:nvSpPr>
        <p:spPr>
          <a:xfrm>
            <a:off x="468360" y="260280"/>
            <a:ext cx="3095640" cy="71928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fefefe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Georgia"/>
              </a:rPr>
              <a:t>Алгорит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0" y="1125360"/>
            <a:ext cx="2055600" cy="937800"/>
            <a:chOff x="0" y="1125360"/>
            <a:chExt cx="2055600" cy="937800"/>
          </a:xfrm>
        </p:grpSpPr>
        <p:sp>
          <p:nvSpPr>
            <p:cNvPr id="268" name=""/>
            <p:cNvSpPr/>
            <p:nvPr/>
          </p:nvSpPr>
          <p:spPr>
            <a:xfrm>
              <a:off x="0" y="1160280"/>
              <a:ext cx="2055600" cy="90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69" name=""/>
                <p:cNvSpPr txBox="1"/>
                <p:nvPr/>
              </p:nvSpPr>
              <p:spPr>
                <a:xfrm>
                  <a:off x="125640" y="1125360"/>
                  <a:ext cx="1709640" cy="896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а</m:t>
                      </m:r>
                      <m:r>
                        <m:t xml:space="preserve">≠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70" name=""/>
          <p:cNvSpPr/>
          <p:nvPr/>
        </p:nvSpPr>
        <p:spPr>
          <a:xfrm>
            <a:off x="1979640" y="1413000"/>
            <a:ext cx="1368360" cy="287280"/>
          </a:xfrm>
          <a:custGeom>
            <a:avLst/>
            <a:gdLst>
              <a:gd name="textAreaLeft" fmla="*/ 171000 w 1368360"/>
              <a:gd name="textAreaRight" fmla="*/ 1197360 w 136836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f6faec"/>
              </a:gs>
              <a:gs pos="50000">
                <a:srgbClr val="99cc00"/>
              </a:gs>
              <a:gs pos="100000">
                <a:srgbClr val="f6faec"/>
              </a:gs>
            </a:gsLst>
            <a:lin ang="5400000"/>
          </a:gradFill>
          <a:ln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3348000" y="907920"/>
            <a:ext cx="4701960" cy="1023840"/>
            <a:chOff x="3348000" y="907920"/>
            <a:chExt cx="4701960" cy="1023840"/>
          </a:xfrm>
        </p:grpSpPr>
        <p:sp>
          <p:nvSpPr>
            <p:cNvPr id="272" name=""/>
            <p:cNvSpPr/>
            <p:nvPr/>
          </p:nvSpPr>
          <p:spPr>
            <a:xfrm>
              <a:off x="4717800" y="1006920"/>
              <a:ext cx="2055240" cy="90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73" name=""/>
                <p:cNvSpPr txBox="1"/>
                <p:nvPr/>
              </p:nvSpPr>
              <p:spPr>
                <a:xfrm>
                  <a:off x="3348000" y="907920"/>
                  <a:ext cx="4701960" cy="1023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ах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bх</m:t>
                      </m:r>
                      <m:r>
                        <m:t xml:space="preserve">+</m:t>
                      </m:r>
                      <m:r>
                        <m:t xml:space="preserve">c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74" name=""/>
          <p:cNvSpPr/>
          <p:nvPr/>
        </p:nvSpPr>
        <p:spPr>
          <a:xfrm>
            <a:off x="8028000" y="981000"/>
            <a:ext cx="0" cy="936720"/>
          </a:xfrm>
          <a:prstGeom prst="line">
            <a:avLst/>
          </a:prstGeom>
          <a:ln w="4140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8172360" y="1197000"/>
            <a:ext cx="824040" cy="51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99cc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: а</a:t>
            </a:r>
            <a:endParaRPr b="1" i="1" lang="en-US" sz="1800" spc="1" strike="noStrike">
              <a:ln w="19080">
                <a:solidFill>
                  <a:srgbClr val="99cc00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276" name=""/>
          <p:cNvGrpSpPr/>
          <p:nvPr/>
        </p:nvGrpSpPr>
        <p:grpSpPr>
          <a:xfrm>
            <a:off x="0" y="1773360"/>
            <a:ext cx="4824000" cy="1985400"/>
            <a:chOff x="0" y="1773360"/>
            <a:chExt cx="4824000" cy="1985400"/>
          </a:xfrm>
        </p:grpSpPr>
        <p:sp>
          <p:nvSpPr>
            <p:cNvPr id="277" name=""/>
            <p:cNvSpPr/>
            <p:nvPr/>
          </p:nvSpPr>
          <p:spPr>
            <a:xfrm>
              <a:off x="1429200" y="2352240"/>
              <a:ext cx="2055600" cy="90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78" name=""/>
                <p:cNvSpPr txBox="1"/>
                <p:nvPr/>
              </p:nvSpPr>
              <p:spPr>
                <a:xfrm>
                  <a:off x="0" y="1773360"/>
                  <a:ext cx="4824000" cy="1985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х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f>
                        <m:num>
                          <m:r>
                            <m:t xml:space="preserve">b</m:t>
                          </m:r>
                        </m:num>
                        <m:den>
                          <m:r>
                            <m:t xml:space="preserve">a</m:t>
                          </m:r>
                        </m:den>
                      </m:f>
                      <m:r>
                        <m:t xml:space="preserve">х</m:t>
                      </m:r>
                      <m:r>
                        <m:t xml:space="preserve">+</m:t>
                      </m:r>
                      <m:f>
                        <m:num>
                          <m:r>
                            <m:t xml:space="preserve">c</m:t>
                          </m:r>
                        </m:num>
                        <m:den>
                          <m:r>
                            <m:t xml:space="preserve">a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79" name=""/>
          <p:cNvGrpSpPr/>
          <p:nvPr/>
        </p:nvGrpSpPr>
        <p:grpSpPr>
          <a:xfrm>
            <a:off x="-576360" y="2133720"/>
            <a:ext cx="2055600" cy="1023480"/>
            <a:chOff x="-576360" y="2133720"/>
            <a:chExt cx="2055600" cy="1023480"/>
          </a:xfrm>
        </p:grpSpPr>
        <p:sp>
          <p:nvSpPr>
            <p:cNvPr id="280" name=""/>
            <p:cNvSpPr/>
            <p:nvPr/>
          </p:nvSpPr>
          <p:spPr>
            <a:xfrm>
              <a:off x="-576360" y="2232720"/>
              <a:ext cx="2055600" cy="90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81" name=""/>
                <p:cNvSpPr txBox="1"/>
                <p:nvPr/>
              </p:nvSpPr>
              <p:spPr>
                <a:xfrm>
                  <a:off x="-22320" y="2133720"/>
                  <a:ext cx="857160" cy="1023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х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82" name=""/>
          <p:cNvGrpSpPr/>
          <p:nvPr/>
        </p:nvGrpSpPr>
        <p:grpSpPr>
          <a:xfrm>
            <a:off x="1368360" y="1773360"/>
            <a:ext cx="2382480" cy="1985400"/>
            <a:chOff x="1368360" y="1773360"/>
            <a:chExt cx="2382480" cy="1985400"/>
          </a:xfrm>
        </p:grpSpPr>
        <p:sp>
          <p:nvSpPr>
            <p:cNvPr id="283" name=""/>
            <p:cNvSpPr/>
            <p:nvPr/>
          </p:nvSpPr>
          <p:spPr>
            <a:xfrm>
              <a:off x="1576080" y="2352240"/>
              <a:ext cx="2057040" cy="90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84" name=""/>
                <p:cNvSpPr txBox="1"/>
                <p:nvPr/>
              </p:nvSpPr>
              <p:spPr>
                <a:xfrm>
                  <a:off x="1368360" y="1773360"/>
                  <a:ext cx="2382480" cy="1985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b</m:t>
                          </m:r>
                        </m:num>
                        <m:den>
                          <m:r>
                            <m:t xml:space="preserve">a</m:t>
                          </m:r>
                        </m:den>
                      </m:f>
                      <m:r>
                        <m:t xml:space="preserve">х</m:t>
                      </m:r>
                      <m:r>
                        <m:t xml:space="preserve">+</m:t>
                      </m:r>
                      <m:f>
                        <m:num>
                          <m:r>
                            <m:t xml:space="preserve">c</m:t>
                          </m:r>
                        </m:num>
                        <m:den>
                          <m:r>
                            <m:t xml:space="preserve">a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85" name=""/>
          <p:cNvSpPr/>
          <p:nvPr/>
        </p:nvSpPr>
        <p:spPr>
          <a:xfrm>
            <a:off x="252360" y="4076640"/>
            <a:ext cx="822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у 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252360" y="5300640"/>
            <a:ext cx="822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у 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7" name=""/>
          <p:cNvGraphicFramePr/>
          <p:nvPr/>
        </p:nvGraphicFramePr>
        <p:xfrm>
          <a:off x="4729320" y="2133720"/>
          <a:ext cx="441468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9320" y="2133720"/>
                    <a:ext cx="441468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9" name=""/>
          <p:cNvSpPr/>
          <p:nvPr/>
        </p:nvSpPr>
        <p:spPr>
          <a:xfrm>
            <a:off x="5106960" y="2320920"/>
            <a:ext cx="3741840" cy="3362400"/>
          </a:xfrm>
          <a:custGeom>
            <a:avLst/>
            <a:gdLst/>
            <a:ahLst/>
            <a:rect l="l" t="t" r="r" b="b"/>
            <a:pathLst>
              <a:path w="2357" h="2118">
                <a:moveTo>
                  <a:pt x="2357" y="0"/>
                </a:moveTo>
                <a:lnTo>
                  <a:pt x="0" y="2118"/>
                </a:lnTo>
              </a:path>
            </a:pathLst>
          </a:custGeom>
          <a:noFill/>
          <a:ln w="4752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667640" y="3429000"/>
            <a:ext cx="12600" cy="1692360"/>
          </a:xfrm>
          <a:custGeom>
            <a:avLst/>
            <a:gdLst/>
            <a:ahLst/>
            <a:rect l="l" t="t" r="r" b="b"/>
            <a:pathLst>
              <a:path w="8" h="1066">
                <a:moveTo>
                  <a:pt x="8" y="1066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499080" y="4375080"/>
            <a:ext cx="1800" cy="717480"/>
          </a:xfrm>
          <a:custGeom>
            <a:avLst/>
            <a:gdLst/>
            <a:ahLst/>
            <a:rect l="l" t="t" r="r" b="b"/>
            <a:pathLst>
              <a:path w="1" h="452">
                <a:moveTo>
                  <a:pt x="0" y="452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156360" y="5300640"/>
            <a:ext cx="574560" cy="55404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808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7451640" y="5300640"/>
            <a:ext cx="574920" cy="55404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808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fill="hold">
                      <p:stCondLst>
                        <p:cond delay="0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4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6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1000"/>
                            </p:stCondLst>
                            <p:childTnLst>
                              <p:par>
                                <p:cTn id="53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2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7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fill="hold">
                            <p:stCondLst>
                              <p:cond delay="2000"/>
                            </p:stCondLst>
                            <p:childTnLst>
                              <p:par>
                                <p:cTn id="5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1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fill="hold">
                            <p:stCondLst>
                              <p:cond delay="3000"/>
                            </p:stCondLst>
                            <p:childTnLst>
                              <p:par>
                                <p:cTn id="5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4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9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4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1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1.39685E-006 L 0.11215 0.2507 E">
                                      <p:cBhvr>
                                        <p:cTn id="585" dur="2000" fill="hold"/>
                                        <p:tgtEl>
                                          <p:spTgt spid="2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fill="hold">
                            <p:stCondLst>
                              <p:cond delay="2000"/>
                            </p:stCondLst>
                            <p:childTnLst>
                              <p:par>
                                <p:cTn id="5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9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6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2.28492E-006 L -0.03177 0.42183 E">
                                      <p:cBhvr>
                                        <p:cTn id="600" dur="2000" fill="hold"/>
                                        <p:tgtEl>
                                          <p:spTgt spid="2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fill="hold">
                            <p:stCondLst>
                              <p:cond delay="2000"/>
                            </p:stCondLst>
                            <p:childTnLst>
                              <p:par>
                                <p:cTn id="60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4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3000"/>
                            </p:stCondLst>
                            <p:childTnLst>
                              <p:par>
                                <p:cTn id="6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8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3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fill="hold">
                            <p:stCondLst>
                              <p:cond delay="4000"/>
                            </p:stCondLst>
                            <p:childTnLst>
                              <p:par>
                                <p:cTn id="6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7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2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fefe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468360" y="260280"/>
            <a:ext cx="8351640" cy="71928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fefefe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Georgia"/>
              </a:rPr>
              <a:t>Решим графически уравнен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1344960" y="1916280"/>
            <a:ext cx="135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у = х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1333440" y="4076640"/>
            <a:ext cx="1203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у =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3790800" y="1125360"/>
          <a:ext cx="5353200" cy="573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90800" y="1125360"/>
                    <a:ext cx="5353200" cy="573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9" name=""/>
          <p:cNvSpPr/>
          <p:nvPr/>
        </p:nvSpPr>
        <p:spPr>
          <a:xfrm>
            <a:off x="809280" y="2820960"/>
            <a:ext cx="179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Парабо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58520" y="3429000"/>
            <a:ext cx="221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Ветви ввер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539640" y="2060640"/>
            <a:ext cx="574920" cy="55404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808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539640" y="4221000"/>
            <a:ext cx="574920" cy="55404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808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3" name=""/>
          <p:cNvGraphicFramePr/>
          <p:nvPr/>
        </p:nvGraphicFramePr>
        <p:xfrm>
          <a:off x="3789360" y="1125360"/>
          <a:ext cx="5354640" cy="5732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89360" y="1125360"/>
                    <a:ext cx="5354640" cy="573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05" name=""/>
          <p:cNvGrpSpPr/>
          <p:nvPr/>
        </p:nvGrpSpPr>
        <p:grpSpPr>
          <a:xfrm>
            <a:off x="252360" y="1052640"/>
            <a:ext cx="2354400" cy="734760"/>
            <a:chOff x="252360" y="1052640"/>
            <a:chExt cx="2354400" cy="734760"/>
          </a:xfrm>
        </p:grpSpPr>
        <p:sp>
          <p:nvSpPr>
            <p:cNvPr id="306" name=""/>
            <p:cNvSpPr/>
            <p:nvPr/>
          </p:nvSpPr>
          <p:spPr>
            <a:xfrm>
              <a:off x="673200" y="1123560"/>
              <a:ext cx="1584360" cy="64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07" name=""/>
                <p:cNvSpPr txBox="1"/>
                <p:nvPr/>
              </p:nvSpPr>
              <p:spPr>
                <a:xfrm>
                  <a:off x="252360" y="1052640"/>
                  <a:ext cx="2354400" cy="734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х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−</m:t>
                      </m:r>
                      <m:r>
                        <m:t xml:space="preserve">4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08" name=""/>
          <p:cNvSpPr/>
          <p:nvPr/>
        </p:nvSpPr>
        <p:spPr>
          <a:xfrm>
            <a:off x="2916360" y="1341360"/>
            <a:ext cx="1368360" cy="287280"/>
          </a:xfrm>
          <a:custGeom>
            <a:avLst/>
            <a:gdLst>
              <a:gd name="textAreaLeft" fmla="*/ 171000 w 1368360"/>
              <a:gd name="textAreaRight" fmla="*/ 1197360 w 136836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f6faec"/>
              </a:gs>
              <a:gs pos="50000">
                <a:srgbClr val="99cc00"/>
              </a:gs>
              <a:gs pos="100000">
                <a:srgbClr val="f6faec"/>
              </a:gs>
            </a:gsLst>
            <a:lin ang="5400000"/>
          </a:gradFill>
          <a:ln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4427640" y="1052640"/>
            <a:ext cx="1604880" cy="734760"/>
            <a:chOff x="4427640" y="1052640"/>
            <a:chExt cx="1604880" cy="734760"/>
          </a:xfrm>
        </p:grpSpPr>
        <p:sp>
          <p:nvSpPr>
            <p:cNvPr id="310" name=""/>
            <p:cNvSpPr/>
            <p:nvPr/>
          </p:nvSpPr>
          <p:spPr>
            <a:xfrm>
              <a:off x="4448160" y="1123560"/>
              <a:ext cx="1584360" cy="64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11" name=""/>
                <p:cNvSpPr txBox="1"/>
                <p:nvPr/>
              </p:nvSpPr>
              <p:spPr>
                <a:xfrm>
                  <a:off x="4427640" y="1052640"/>
                  <a:ext cx="1554120" cy="734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х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=</m:t>
                      </m:r>
                      <m:r>
                        <m:t xml:space="preserve">4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12" name=""/>
          <p:cNvSpPr/>
          <p:nvPr/>
        </p:nvSpPr>
        <p:spPr>
          <a:xfrm>
            <a:off x="4108320" y="2911320"/>
            <a:ext cx="4768920" cy="1800"/>
          </a:xfrm>
          <a:custGeom>
            <a:avLst/>
            <a:gdLst/>
            <a:ahLst/>
            <a:rect l="l" t="t" r="r" b="b"/>
            <a:pathLst>
              <a:path w="3004" h="1">
                <a:moveTo>
                  <a:pt x="0" y="0"/>
                </a:moveTo>
                <a:lnTo>
                  <a:pt x="3004" y="0"/>
                </a:lnTo>
              </a:path>
            </a:pathLst>
          </a:custGeom>
          <a:noFill/>
          <a:ln w="4428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5711760" y="2911320"/>
            <a:ext cx="14400" cy="1814760"/>
          </a:xfrm>
          <a:custGeom>
            <a:avLst/>
            <a:gdLst/>
            <a:ahLst/>
            <a:rect l="l" t="t" r="r" b="b"/>
            <a:pathLst>
              <a:path w="9" h="1143">
                <a:moveTo>
                  <a:pt x="0" y="1143"/>
                </a:moveTo>
                <a:lnTo>
                  <a:pt x="9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7308720" y="2924280"/>
            <a:ext cx="6480" cy="1815840"/>
          </a:xfrm>
          <a:custGeom>
            <a:avLst/>
            <a:gdLst/>
            <a:ahLst/>
            <a:rect l="l" t="t" r="r" b="b"/>
            <a:pathLst>
              <a:path w="4" h="1144">
                <a:moveTo>
                  <a:pt x="4" y="1144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5" name=""/>
          <p:cNvGrpSpPr/>
          <p:nvPr/>
        </p:nvGrpSpPr>
        <p:grpSpPr>
          <a:xfrm>
            <a:off x="684360" y="5757840"/>
            <a:ext cx="5545080" cy="766800"/>
            <a:chOff x="684360" y="5757840"/>
            <a:chExt cx="5545080" cy="766800"/>
          </a:xfrm>
        </p:grpSpPr>
        <p:sp>
          <p:nvSpPr>
            <p:cNvPr id="316" name=""/>
            <p:cNvSpPr/>
            <p:nvPr/>
          </p:nvSpPr>
          <p:spPr>
            <a:xfrm>
              <a:off x="684360" y="5805360"/>
              <a:ext cx="5545080" cy="719280"/>
            </a:xfrm>
            <a:prstGeom prst="rect">
              <a:avLst/>
            </a:prstGeom>
            <a:gradFill rotWithShape="0">
              <a:gsLst>
                <a:gs pos="0">
                  <a:srgbClr val="99cc00"/>
                </a:gs>
                <a:gs pos="50000">
                  <a:srgbClr val="fefefe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Georgia"/>
                </a:rPr>
                <a:t>Ответ: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17" name=""/>
                <p:cNvSpPr txBox="1"/>
                <p:nvPr/>
              </p:nvSpPr>
              <p:spPr>
                <a:xfrm>
                  <a:off x="2913120" y="5757840"/>
                  <a:ext cx="3101400" cy="757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х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2</m:t>
                      </m:r>
                      <m:r>
                        <m:t xml:space="preserve">;</m:t>
                      </m:r>
                      <m:r>
                        <m:rPr>
                          <m:lit/>
                          <m:nor/>
                        </m:rPr>
                        <m:t xml:space="preserve">  </m:t>
                      </m:r>
                      <m:r>
                        <m:t xml:space="preserve">х</m:t>
                      </m:r>
                      <m:r>
                        <m:t xml:space="preserve">=</m:t>
                      </m:r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18" name=""/>
          <p:cNvSpPr/>
          <p:nvPr/>
        </p:nvSpPr>
        <p:spPr>
          <a:xfrm>
            <a:off x="5435640" y="4869000"/>
            <a:ext cx="574560" cy="55404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808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7020000" y="4869000"/>
            <a:ext cx="574560" cy="55404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808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0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9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6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3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fill="hold">
                            <p:stCondLst>
                              <p:cond delay="1000"/>
                            </p:stCondLst>
                            <p:childTnLst>
                              <p:par>
                                <p:cTn id="6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7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9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fill="hold">
                            <p:stCondLst>
                              <p:cond delay="2000"/>
                            </p:stCondLst>
                            <p:childTnLst>
                              <p:par>
                                <p:cTn id="65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5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0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2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7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9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4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6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1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fill="hold">
                            <p:stCondLst>
                              <p:cond delay="1000"/>
                            </p:stCondLst>
                            <p:childTnLst>
                              <p:par>
                                <p:cTn id="68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7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2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4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9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4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5" fill="hold">
                            <p:stCondLst>
                              <p:cond delay="1000"/>
                            </p:stCondLst>
                            <p:childTnLst>
                              <p:par>
                                <p:cTn id="70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1" fill="hold">
                            <p:stCondLst>
                              <p:cond delay="1500"/>
                            </p:stCondLst>
                            <p:childTnLst>
                              <p:par>
                                <p:cTn id="7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4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5" fill="hold">
                            <p:stCondLst>
                              <p:cond delay="2500"/>
                            </p:stCondLst>
                            <p:childTnLst>
                              <p:par>
                                <p:cTn id="71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8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0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5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27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fefe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468360" y="260280"/>
            <a:ext cx="8351640" cy="71928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fefefe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Georgia"/>
              </a:rPr>
              <a:t>Решим графически уравнен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200600" y="2637000"/>
            <a:ext cx="135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у = х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1189080" y="3860640"/>
            <a:ext cx="2134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у =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-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3" name=""/>
          <p:cNvGraphicFramePr/>
          <p:nvPr/>
        </p:nvGraphicFramePr>
        <p:xfrm>
          <a:off x="3790800" y="1125360"/>
          <a:ext cx="5353200" cy="573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90800" y="1125360"/>
                    <a:ext cx="5353200" cy="573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5" name=""/>
          <p:cNvSpPr/>
          <p:nvPr/>
        </p:nvSpPr>
        <p:spPr>
          <a:xfrm>
            <a:off x="252000" y="3284640"/>
            <a:ext cx="179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Парабо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414360" y="2739960"/>
            <a:ext cx="574560" cy="55404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808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466560" y="4003560"/>
            <a:ext cx="574920" cy="55404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808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8" name=""/>
          <p:cNvGraphicFramePr/>
          <p:nvPr/>
        </p:nvGraphicFramePr>
        <p:xfrm>
          <a:off x="3789360" y="1125360"/>
          <a:ext cx="5354640" cy="5732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2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89360" y="1125360"/>
                    <a:ext cx="5354640" cy="573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30" name=""/>
          <p:cNvGrpSpPr/>
          <p:nvPr/>
        </p:nvGrpSpPr>
        <p:grpSpPr>
          <a:xfrm>
            <a:off x="395280" y="1125360"/>
            <a:ext cx="3436920" cy="735120"/>
            <a:chOff x="395280" y="1125360"/>
            <a:chExt cx="3436920" cy="735120"/>
          </a:xfrm>
        </p:grpSpPr>
        <p:sp>
          <p:nvSpPr>
            <p:cNvPr id="331" name=""/>
            <p:cNvSpPr/>
            <p:nvPr/>
          </p:nvSpPr>
          <p:spPr>
            <a:xfrm>
              <a:off x="1357200" y="1196640"/>
              <a:ext cx="158436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32" name=""/>
                <p:cNvSpPr txBox="1"/>
                <p:nvPr/>
              </p:nvSpPr>
              <p:spPr>
                <a:xfrm>
                  <a:off x="395280" y="1125360"/>
                  <a:ext cx="3436920" cy="735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х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−</m:t>
                      </m:r>
                      <m:r>
                        <m:t xml:space="preserve">4</m:t>
                      </m:r>
                      <m:r>
                        <m:t xml:space="preserve">х</m:t>
                      </m:r>
                      <m:r>
                        <m:t xml:space="preserve">+</m:t>
                      </m:r>
                      <m:r>
                        <m:t xml:space="preserve">4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33" name=""/>
          <p:cNvGrpSpPr/>
          <p:nvPr/>
        </p:nvGrpSpPr>
        <p:grpSpPr>
          <a:xfrm>
            <a:off x="395280" y="1844640"/>
            <a:ext cx="2638440" cy="735120"/>
            <a:chOff x="395280" y="1844640"/>
            <a:chExt cx="2638440" cy="735120"/>
          </a:xfrm>
        </p:grpSpPr>
        <p:sp>
          <p:nvSpPr>
            <p:cNvPr id="334" name=""/>
            <p:cNvSpPr/>
            <p:nvPr/>
          </p:nvSpPr>
          <p:spPr>
            <a:xfrm>
              <a:off x="957240" y="1915920"/>
              <a:ext cx="158436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35" name=""/>
                <p:cNvSpPr txBox="1"/>
                <p:nvPr/>
              </p:nvSpPr>
              <p:spPr>
                <a:xfrm>
                  <a:off x="395280" y="1844640"/>
                  <a:ext cx="2638440" cy="735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х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=</m:t>
                      </m:r>
                      <m:r>
                        <m:t xml:space="preserve">4</m:t>
                      </m:r>
                      <m:r>
                        <m:t xml:space="preserve">х</m:t>
                      </m:r>
                      <m:r>
                        <m:t xml:space="preserve">−</m:t>
                      </m:r>
                      <m:r>
                        <m:t xml:space="preserve">4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36" name=""/>
          <p:cNvSpPr/>
          <p:nvPr/>
        </p:nvSpPr>
        <p:spPr>
          <a:xfrm>
            <a:off x="6429240" y="1041480"/>
            <a:ext cx="1349640" cy="5908680"/>
          </a:xfrm>
          <a:custGeom>
            <a:avLst/>
            <a:gdLst/>
            <a:ahLst/>
            <a:rect l="l" t="t" r="r" b="b"/>
            <a:pathLst>
              <a:path w="850" h="3722">
                <a:moveTo>
                  <a:pt x="0" y="3722"/>
                </a:moveTo>
                <a:lnTo>
                  <a:pt x="850" y="0"/>
                </a:lnTo>
              </a:path>
            </a:pathLst>
          </a:custGeom>
          <a:noFill/>
          <a:ln w="4428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308720" y="2924280"/>
            <a:ext cx="6480" cy="1815840"/>
          </a:xfrm>
          <a:custGeom>
            <a:avLst/>
            <a:gdLst/>
            <a:ahLst/>
            <a:rect l="l" t="t" r="r" b="b"/>
            <a:pathLst>
              <a:path w="4" h="1144">
                <a:moveTo>
                  <a:pt x="4" y="1144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8" name=""/>
          <p:cNvGrpSpPr/>
          <p:nvPr/>
        </p:nvGrpSpPr>
        <p:grpSpPr>
          <a:xfrm>
            <a:off x="3132000" y="5661000"/>
            <a:ext cx="5545440" cy="719280"/>
            <a:chOff x="3132000" y="5661000"/>
            <a:chExt cx="5545440" cy="719280"/>
          </a:xfrm>
        </p:grpSpPr>
        <p:sp>
          <p:nvSpPr>
            <p:cNvPr id="339" name=""/>
            <p:cNvSpPr/>
            <p:nvPr/>
          </p:nvSpPr>
          <p:spPr>
            <a:xfrm>
              <a:off x="3132000" y="5661000"/>
              <a:ext cx="5545440" cy="719280"/>
            </a:xfrm>
            <a:prstGeom prst="rect">
              <a:avLst/>
            </a:prstGeom>
            <a:gradFill rotWithShape="0">
              <a:gsLst>
                <a:gs pos="0">
                  <a:srgbClr val="99cc00"/>
                </a:gs>
                <a:gs pos="50000">
                  <a:srgbClr val="fefefe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Georgia"/>
                </a:rPr>
                <a:t>         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Georgia"/>
                </a:rPr>
                <a:t>Ответ: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40" name=""/>
                <p:cNvSpPr txBox="1"/>
                <p:nvPr/>
              </p:nvSpPr>
              <p:spPr>
                <a:xfrm>
                  <a:off x="6194520" y="5661000"/>
                  <a:ext cx="1434960" cy="662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х</m:t>
                      </m:r>
                      <m:r>
                        <m:t xml:space="preserve">=</m:t>
                      </m:r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41" name=""/>
          <p:cNvSpPr/>
          <p:nvPr/>
        </p:nvSpPr>
        <p:spPr>
          <a:xfrm>
            <a:off x="2053800" y="3284640"/>
            <a:ext cx="221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Ветви ввер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2" name=""/>
          <p:cNvGrpSpPr/>
          <p:nvPr/>
        </p:nvGrpSpPr>
        <p:grpSpPr>
          <a:xfrm>
            <a:off x="539640" y="4724280"/>
            <a:ext cx="1850760" cy="1873080"/>
            <a:chOff x="539640" y="4724280"/>
            <a:chExt cx="1850760" cy="1873080"/>
          </a:xfrm>
        </p:grpSpPr>
        <p:sp>
          <p:nvSpPr>
            <p:cNvPr id="343" name=""/>
            <p:cNvSpPr/>
            <p:nvPr/>
          </p:nvSpPr>
          <p:spPr>
            <a:xfrm>
              <a:off x="539640" y="4724280"/>
              <a:ext cx="914400" cy="6246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х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1476000" y="4724280"/>
              <a:ext cx="914400" cy="6246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у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39640" y="5348880"/>
              <a:ext cx="914400" cy="624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1476000" y="5348880"/>
              <a:ext cx="914400" cy="624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39640" y="5972760"/>
              <a:ext cx="914400" cy="624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1476000" y="5972760"/>
              <a:ext cx="914400" cy="624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- 4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9" name=""/>
          <p:cNvSpPr/>
          <p:nvPr/>
        </p:nvSpPr>
        <p:spPr>
          <a:xfrm>
            <a:off x="7020000" y="4869000"/>
            <a:ext cx="574560" cy="55404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808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8" dur="indefinite" restart="never" nodeType="tmRoot">
          <p:childTnLst>
            <p:seq>
              <p:cTn id="729" dur="indefinite" nodeType="mainSeq">
                <p:childTnLst>
                  <p:par>
                    <p:cTn id="730" fill="hold">
                      <p:stCondLst>
                        <p:cond delay="0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4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6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1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3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4" fill="hold">
                            <p:stCondLst>
                              <p:cond delay="1000"/>
                            </p:stCondLst>
                            <p:childTnLst>
                              <p:par>
                                <p:cTn id="7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7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9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56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1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63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fill="hold">
                            <p:stCondLst>
                              <p:cond delay="1000"/>
                            </p:stCondLst>
                            <p:childTnLst>
                              <p:par>
                                <p:cTn id="76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7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69" dur="1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4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5" fill="hold">
                            <p:stCondLst>
                              <p:cond delay="1000"/>
                            </p:stCondLst>
                            <p:childTnLst>
                              <p:par>
                                <p:cTn id="77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8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0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5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87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2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3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5" fill="hold">
                            <p:stCondLst>
                              <p:cond delay="1000"/>
                            </p:stCondLst>
                            <p:childTnLst>
                              <p:par>
                                <p:cTn id="7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8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9" fill="hold">
                            <p:stCondLst>
                              <p:cond delay="2000"/>
                            </p:stCondLst>
                            <p:childTnLst>
                              <p:par>
                                <p:cTn id="8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2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3" fill="hold">
                            <p:stCondLst>
                              <p:cond delay="3000"/>
                            </p:stCondLst>
                            <p:childTnLst>
                              <p:par>
                                <p:cTn id="80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6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8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3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15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fefe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468360" y="260280"/>
            <a:ext cx="8351640" cy="71928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fefefe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Georgia"/>
              </a:rPr>
              <a:t>Решим графически уравнен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1199160" y="2684520"/>
            <a:ext cx="12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у = х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1189440" y="3860640"/>
            <a:ext cx="2669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у =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- 1,5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3" name=""/>
          <p:cNvGraphicFramePr/>
          <p:nvPr/>
        </p:nvGraphicFramePr>
        <p:xfrm>
          <a:off x="3790800" y="1125360"/>
          <a:ext cx="5353200" cy="573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90800" y="1125360"/>
                    <a:ext cx="5353200" cy="573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5" name=""/>
          <p:cNvSpPr/>
          <p:nvPr/>
        </p:nvSpPr>
        <p:spPr>
          <a:xfrm>
            <a:off x="252000" y="3284640"/>
            <a:ext cx="179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Парабо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414360" y="2739960"/>
            <a:ext cx="574560" cy="55404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808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466560" y="4003560"/>
            <a:ext cx="574920" cy="55404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808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8" name=""/>
          <p:cNvGraphicFramePr/>
          <p:nvPr/>
        </p:nvGraphicFramePr>
        <p:xfrm>
          <a:off x="3789360" y="1125360"/>
          <a:ext cx="5354640" cy="5732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89360" y="1125360"/>
                    <a:ext cx="5354640" cy="573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60" name=""/>
          <p:cNvGrpSpPr/>
          <p:nvPr/>
        </p:nvGrpSpPr>
        <p:grpSpPr>
          <a:xfrm>
            <a:off x="277920" y="1125360"/>
            <a:ext cx="3671640" cy="735120"/>
            <a:chOff x="277920" y="1125360"/>
            <a:chExt cx="3671640" cy="735120"/>
          </a:xfrm>
        </p:grpSpPr>
        <p:sp>
          <p:nvSpPr>
            <p:cNvPr id="361" name=""/>
            <p:cNvSpPr/>
            <p:nvPr/>
          </p:nvSpPr>
          <p:spPr>
            <a:xfrm>
              <a:off x="1357200" y="1196640"/>
              <a:ext cx="158400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62" name=""/>
                <p:cNvSpPr txBox="1"/>
                <p:nvPr/>
              </p:nvSpPr>
              <p:spPr>
                <a:xfrm>
                  <a:off x="277920" y="1125360"/>
                  <a:ext cx="3671640" cy="735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sSup>
                        <m:e>
                          <m:r>
                            <m:t xml:space="preserve">х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r>
                        <m:t xml:space="preserve">3</m:t>
                      </m:r>
                      <m:r>
                        <m:t xml:space="preserve">х</m:t>
                      </m:r>
                      <m:r>
                        <m:t xml:space="preserve">−</m:t>
                      </m:r>
                      <m:r>
                        <m:t xml:space="preserve">2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63" name=""/>
          <p:cNvGrpSpPr/>
          <p:nvPr/>
        </p:nvGrpSpPr>
        <p:grpSpPr>
          <a:xfrm>
            <a:off x="324000" y="1773360"/>
            <a:ext cx="3205080" cy="826920"/>
            <a:chOff x="324000" y="1773360"/>
            <a:chExt cx="3205080" cy="826920"/>
          </a:xfrm>
        </p:grpSpPr>
        <p:sp>
          <p:nvSpPr>
            <p:cNvPr id="364" name=""/>
            <p:cNvSpPr/>
            <p:nvPr/>
          </p:nvSpPr>
          <p:spPr>
            <a:xfrm>
              <a:off x="1168560" y="1890720"/>
              <a:ext cx="158436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65" name=""/>
                <p:cNvSpPr txBox="1"/>
                <p:nvPr/>
              </p:nvSpPr>
              <p:spPr>
                <a:xfrm>
                  <a:off x="324000" y="1773360"/>
                  <a:ext cx="3205080" cy="826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х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1,5</m:t>
                      </m:r>
                      <m:r>
                        <m:t xml:space="preserve">х</m:t>
                      </m:r>
                      <m:r>
                        <m:t xml:space="preserve">+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66" name=""/>
          <p:cNvSpPr/>
          <p:nvPr/>
        </p:nvSpPr>
        <p:spPr>
          <a:xfrm>
            <a:off x="4797360" y="1336680"/>
            <a:ext cx="3192480" cy="5429160"/>
          </a:xfrm>
          <a:custGeom>
            <a:avLst/>
            <a:gdLst/>
            <a:ahLst/>
            <a:rect l="l" t="t" r="r" b="b"/>
            <a:pathLst>
              <a:path w="2011" h="3420">
                <a:moveTo>
                  <a:pt x="2011" y="3420"/>
                </a:moveTo>
                <a:lnTo>
                  <a:pt x="0" y="0"/>
                </a:lnTo>
              </a:path>
            </a:pathLst>
          </a:custGeom>
          <a:noFill/>
          <a:ln w="475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5724360" y="2924280"/>
            <a:ext cx="6480" cy="1815840"/>
          </a:xfrm>
          <a:custGeom>
            <a:avLst/>
            <a:gdLst/>
            <a:ahLst/>
            <a:rect l="l" t="t" r="r" b="b"/>
            <a:pathLst>
              <a:path w="4" h="1144">
                <a:moveTo>
                  <a:pt x="4" y="1144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8" name=""/>
          <p:cNvGrpSpPr/>
          <p:nvPr/>
        </p:nvGrpSpPr>
        <p:grpSpPr>
          <a:xfrm>
            <a:off x="2627280" y="5589720"/>
            <a:ext cx="6337440" cy="804600"/>
            <a:chOff x="2627280" y="5589720"/>
            <a:chExt cx="6337440" cy="804600"/>
          </a:xfrm>
        </p:grpSpPr>
        <p:sp>
          <p:nvSpPr>
            <p:cNvPr id="369" name=""/>
            <p:cNvSpPr/>
            <p:nvPr/>
          </p:nvSpPr>
          <p:spPr>
            <a:xfrm>
              <a:off x="2627280" y="5661000"/>
              <a:ext cx="6337440" cy="719280"/>
            </a:xfrm>
            <a:prstGeom prst="rect">
              <a:avLst/>
            </a:prstGeom>
            <a:gradFill rotWithShape="0">
              <a:gsLst>
                <a:gs pos="0">
                  <a:srgbClr val="99cc00"/>
                </a:gs>
                <a:gs pos="50000">
                  <a:srgbClr val="fefefe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Georgia"/>
                </a:rPr>
                <a:t>Ответ: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70" name=""/>
                <p:cNvSpPr txBox="1"/>
                <p:nvPr/>
              </p:nvSpPr>
              <p:spPr>
                <a:xfrm>
                  <a:off x="4716360" y="5589720"/>
                  <a:ext cx="3981600" cy="804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х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2</m:t>
                      </m:r>
                      <m:r>
                        <m:t xml:space="preserve">;</m:t>
                      </m:r>
                      <m:r>
                        <m:rPr>
                          <m:lit/>
                          <m:nor/>
                        </m:rPr>
                        <m:t xml:space="preserve">  </m:t>
                      </m:r>
                      <m:sSub>
                        <m:e>
                          <m:r>
                            <m:t xml:space="preserve">х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0,5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71" name=""/>
          <p:cNvSpPr/>
          <p:nvPr/>
        </p:nvSpPr>
        <p:spPr>
          <a:xfrm>
            <a:off x="2053800" y="3284640"/>
            <a:ext cx="221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Ветви ввер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2" name=""/>
          <p:cNvGrpSpPr/>
          <p:nvPr/>
        </p:nvGrpSpPr>
        <p:grpSpPr>
          <a:xfrm>
            <a:off x="539640" y="4724280"/>
            <a:ext cx="1850760" cy="1873080"/>
            <a:chOff x="539640" y="4724280"/>
            <a:chExt cx="1850760" cy="1873080"/>
          </a:xfrm>
        </p:grpSpPr>
        <p:sp>
          <p:nvSpPr>
            <p:cNvPr id="373" name=""/>
            <p:cNvSpPr/>
            <p:nvPr/>
          </p:nvSpPr>
          <p:spPr>
            <a:xfrm>
              <a:off x="539640" y="4724280"/>
              <a:ext cx="914400" cy="6246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х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476000" y="4724280"/>
              <a:ext cx="914400" cy="6246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у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539640" y="5348880"/>
              <a:ext cx="914400" cy="624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476000" y="5348880"/>
              <a:ext cx="914400" cy="624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539640" y="5972760"/>
              <a:ext cx="914400" cy="624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476000" y="5972760"/>
              <a:ext cx="914400" cy="624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- 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9" name=""/>
          <p:cNvSpPr/>
          <p:nvPr/>
        </p:nvSpPr>
        <p:spPr>
          <a:xfrm>
            <a:off x="6696000" y="4614840"/>
            <a:ext cx="14400" cy="111240"/>
          </a:xfrm>
          <a:custGeom>
            <a:avLst/>
            <a:gdLst/>
            <a:ahLst/>
            <a:rect l="l" t="t" r="r" b="b"/>
            <a:pathLst>
              <a:path w="9" h="70">
                <a:moveTo>
                  <a:pt x="9" y="70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5435640" y="4869000"/>
            <a:ext cx="574560" cy="55404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808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516720" y="4869000"/>
            <a:ext cx="574560" cy="55404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808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0,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6" dur="indefinite" restart="never" nodeType="tmRoot">
          <p:childTnLst>
            <p:seq>
              <p:cTn id="817" dur="indefinite" nodeType="mainSeq">
                <p:childTnLst>
                  <p:par>
                    <p:cTn id="818" fill="hold">
                      <p:stCondLst>
                        <p:cond delay="0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2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9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1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2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44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9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51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2" fill="hold">
                            <p:stCondLst>
                              <p:cond delay="1000"/>
                            </p:stCondLst>
                            <p:childTnLst>
                              <p:par>
                                <p:cTn id="85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5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57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2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3" fill="hold">
                            <p:stCondLst>
                              <p:cond delay="1000"/>
                            </p:stCondLst>
                            <p:childTnLst>
                              <p:par>
                                <p:cTn id="86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6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8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3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75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0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1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3" fill="hold">
                            <p:stCondLst>
                              <p:cond delay="1000"/>
                            </p:stCondLst>
                            <p:childTnLst>
                              <p:par>
                                <p:cTn id="88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6" dur="1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0" dur="1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1" fill="hold">
                            <p:stCondLst>
                              <p:cond delay="3000"/>
                            </p:stCondLst>
                            <p:childTnLst>
                              <p:par>
                                <p:cTn id="89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4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5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6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7" fill="hold">
                            <p:stCondLst>
                              <p:cond delay="3500"/>
                            </p:stCondLst>
                            <p:childTnLst>
                              <p:par>
                                <p:cTn id="8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0" dur="1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1" fill="hold">
                            <p:stCondLst>
                              <p:cond delay="4500"/>
                            </p:stCondLst>
                            <p:childTnLst>
                              <p:par>
                                <p:cTn id="90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4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6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1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2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13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fefe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/>
          <p:nvPr/>
        </p:nvSpPr>
        <p:spPr>
          <a:xfrm>
            <a:off x="395280" y="260280"/>
            <a:ext cx="2519280" cy="71928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fefefe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Georgia"/>
              </a:rPr>
              <a:t>Зада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3" name=""/>
          <p:cNvGraphicFramePr/>
          <p:nvPr/>
        </p:nvGraphicFramePr>
        <p:xfrm>
          <a:off x="-9360" y="1125360"/>
          <a:ext cx="5352840" cy="573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9360" y="1125360"/>
                    <a:ext cx="5352840" cy="573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5" name=""/>
          <p:cNvGraphicFramePr/>
          <p:nvPr/>
        </p:nvGraphicFramePr>
        <p:xfrm>
          <a:off x="0" y="1125360"/>
          <a:ext cx="5354640" cy="5732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125360"/>
                    <a:ext cx="5354640" cy="573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7" name=""/>
          <p:cNvSpPr/>
          <p:nvPr/>
        </p:nvSpPr>
        <p:spPr>
          <a:xfrm>
            <a:off x="3851280" y="333360"/>
            <a:ext cx="4968720" cy="115272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fefefe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Georgia"/>
              </a:rPr>
              <a:t>Решите  графическ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Georgia"/>
              </a:rPr>
              <a:t>уравнен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379440" y="1547640"/>
            <a:ext cx="4360680" cy="4951440"/>
          </a:xfrm>
          <a:custGeom>
            <a:avLst/>
            <a:gdLst/>
            <a:ahLst/>
            <a:rect l="l" t="t" r="r" b="b"/>
            <a:pathLst>
              <a:path w="2747" h="3119">
                <a:moveTo>
                  <a:pt x="0" y="3119"/>
                </a:moveTo>
                <a:lnTo>
                  <a:pt x="2747" y="0"/>
                </a:lnTo>
              </a:path>
            </a:pathLst>
          </a:custGeom>
          <a:noFill/>
          <a:ln w="475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9" name=""/>
          <p:cNvGrpSpPr/>
          <p:nvPr/>
        </p:nvGrpSpPr>
        <p:grpSpPr>
          <a:xfrm>
            <a:off x="3276720" y="5684760"/>
            <a:ext cx="5545080" cy="803160"/>
            <a:chOff x="3276720" y="5684760"/>
            <a:chExt cx="5545080" cy="803160"/>
          </a:xfrm>
        </p:grpSpPr>
        <p:sp>
          <p:nvSpPr>
            <p:cNvPr id="390" name=""/>
            <p:cNvSpPr/>
            <p:nvPr/>
          </p:nvSpPr>
          <p:spPr>
            <a:xfrm>
              <a:off x="3276720" y="5754600"/>
              <a:ext cx="5545080" cy="719280"/>
            </a:xfrm>
            <a:prstGeom prst="rect">
              <a:avLst/>
            </a:prstGeom>
            <a:gradFill rotWithShape="0">
              <a:gsLst>
                <a:gs pos="0">
                  <a:srgbClr val="99cc00"/>
                </a:gs>
                <a:gs pos="50000">
                  <a:srgbClr val="fefefe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Georgia"/>
                </a:rPr>
                <a:t>Ответ: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91" name=""/>
                <p:cNvSpPr txBox="1"/>
                <p:nvPr/>
              </p:nvSpPr>
              <p:spPr>
                <a:xfrm>
                  <a:off x="5346720" y="5684760"/>
                  <a:ext cx="3423600" cy="803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х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1</m:t>
                      </m:r>
                      <m:r>
                        <m:t xml:space="preserve">;</m:t>
                      </m:r>
                      <m:r>
                        <m:rPr>
                          <m:lit/>
                          <m:nor/>
                        </m:rPr>
                        <m:t xml:space="preserve">  </m:t>
                      </m:r>
                      <m:sSub>
                        <m:e>
                          <m:r>
                            <m:t xml:space="preserve">х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92" name=""/>
          <p:cNvGrpSpPr/>
          <p:nvPr/>
        </p:nvGrpSpPr>
        <p:grpSpPr>
          <a:xfrm>
            <a:off x="5654520" y="1989000"/>
            <a:ext cx="3201840" cy="806400"/>
            <a:chOff x="5654520" y="1989000"/>
            <a:chExt cx="3201840" cy="806400"/>
          </a:xfrm>
        </p:grpSpPr>
        <p:sp>
          <p:nvSpPr>
            <p:cNvPr id="393" name=""/>
            <p:cNvSpPr/>
            <p:nvPr/>
          </p:nvSpPr>
          <p:spPr>
            <a:xfrm>
              <a:off x="6475680" y="2067120"/>
              <a:ext cx="1632960" cy="71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94" name=""/>
                <p:cNvSpPr txBox="1"/>
                <p:nvPr/>
              </p:nvSpPr>
              <p:spPr>
                <a:xfrm>
                  <a:off x="5654520" y="1989000"/>
                  <a:ext cx="3201840" cy="806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х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−</m:t>
                      </m:r>
                      <m:r>
                        <m:t xml:space="preserve">х</m:t>
                      </m:r>
                      <m:r>
                        <m:t xml:space="preserve">−</m:t>
                      </m:r>
                      <m:r>
                        <m:t xml:space="preserve">2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95" name=""/>
          <p:cNvSpPr/>
          <p:nvPr/>
        </p:nvSpPr>
        <p:spPr>
          <a:xfrm>
            <a:off x="5520240" y="2924280"/>
            <a:ext cx="12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у = х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5510160" y="3789360"/>
            <a:ext cx="181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у = х +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2320920" y="4290840"/>
            <a:ext cx="1440" cy="435240"/>
          </a:xfrm>
          <a:custGeom>
            <a:avLst/>
            <a:gdLst/>
            <a:ahLst/>
            <a:rect l="l" t="t" r="r" b="b"/>
            <a:pathLst>
              <a:path w="1" h="274">
                <a:moveTo>
                  <a:pt x="0" y="274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3516480" y="2940120"/>
            <a:ext cx="14040" cy="1758960"/>
          </a:xfrm>
          <a:custGeom>
            <a:avLst/>
            <a:gdLst/>
            <a:ahLst/>
            <a:rect l="l" t="t" r="r" b="b"/>
            <a:pathLst>
              <a:path w="9" h="1108">
                <a:moveTo>
                  <a:pt x="9" y="1108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1979640" y="4941720"/>
            <a:ext cx="574560" cy="55404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808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3276720" y="4941720"/>
            <a:ext cx="574560" cy="55404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808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4" dur="indefinite" restart="never" nodeType="tmRoot">
          <p:childTnLst>
            <p:seq>
              <p:cTn id="915" dur="indefinite" nodeType="mainSeq">
                <p:childTnLst>
                  <p:par>
                    <p:cTn id="916" fill="hold">
                      <p:stCondLst>
                        <p:cond delay="0"/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0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22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5" dur="1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6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7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8" fill="hold">
                            <p:stCondLst>
                              <p:cond delay="1000"/>
                            </p:stCondLst>
                            <p:childTnLst>
                              <p:par>
                                <p:cTn id="9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1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3" dur="1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fill="hold">
                      <p:stCondLst>
                        <p:cond delay="indefinite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8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9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40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1" fill="hold">
                            <p:stCondLst>
                              <p:cond delay="1000"/>
                            </p:stCondLst>
                            <p:childTnLst>
                              <p:par>
                                <p:cTn id="94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4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9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0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51" dur="1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2" fill="hold">
                            <p:stCondLst>
                              <p:cond delay="1000"/>
                            </p:stCondLst>
                            <p:childTnLst>
                              <p:par>
                                <p:cTn id="9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5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6" fill="hold">
                            <p:stCondLst>
                              <p:cond delay="2000"/>
                            </p:stCondLst>
                            <p:childTnLst>
                              <p:par>
                                <p:cTn id="9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9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0" fill="hold">
                            <p:stCondLst>
                              <p:cond delay="3000"/>
                            </p:stCondLst>
                            <p:childTnLst>
                              <p:par>
                                <p:cTn id="96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3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6" fill="hold">
                            <p:stCondLst>
                              <p:cond delay="3500"/>
                            </p:stCondLst>
                            <p:childTnLst>
                              <p:par>
                                <p:cTn id="9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9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0" fill="hold">
                            <p:stCondLst>
                              <p:cond delay="4500"/>
                            </p:stCondLst>
                            <p:childTnLst>
                              <p:par>
                                <p:cTn id="97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3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4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5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0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1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82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fefe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95280" y="260280"/>
            <a:ext cx="2519280" cy="71928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fefefe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Georgia"/>
              </a:rPr>
              <a:t>Задание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780000" y="260280"/>
            <a:ext cx="4895640" cy="71928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fefefe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Georgia"/>
              </a:rPr>
              <a:t>Решите уравне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1692360" y="1557360"/>
            <a:ext cx="3147480" cy="1295280"/>
            <a:chOff x="1692360" y="1557360"/>
            <a:chExt cx="3147480" cy="1295280"/>
          </a:xfrm>
        </p:grpSpPr>
        <p:sp>
          <p:nvSpPr>
            <p:cNvPr id="51" name=""/>
            <p:cNvSpPr/>
            <p:nvPr/>
          </p:nvSpPr>
          <p:spPr>
            <a:xfrm>
              <a:off x="1692360" y="1596960"/>
              <a:ext cx="3146040" cy="123660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50000">
                  <a:srgbClr val="fefefe"/>
                </a:gs>
                <a:gs pos="100000">
                  <a:srgbClr val="ffff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2" name=""/>
                <p:cNvSpPr txBox="1"/>
                <p:nvPr/>
              </p:nvSpPr>
              <p:spPr>
                <a:xfrm>
                  <a:off x="1814400" y="1557360"/>
                  <a:ext cx="3025440" cy="1295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sSup>
                            <m:e>
                              <m:r>
                                <m:t xml:space="preserve">х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−</m:t>
                          </m:r>
                          <m:r>
                            <m:t xml:space="preserve">5</m:t>
                          </m:r>
                          <m:r>
                            <m:t xml:space="preserve">х</m:t>
                          </m:r>
                          <m:r>
                            <m:t xml:space="preserve">+</m:t>
                          </m:r>
                          <m:r>
                            <m:t xml:space="preserve">6</m:t>
                          </m:r>
                        </m:num>
                        <m:den>
                          <m:sSup>
                            <m:e>
                              <m:r>
                                <m:t xml:space="preserve">х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−</m:t>
                          </m:r>
                          <m:r>
                            <m:t xml:space="preserve">9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3" name=""/>
          <p:cNvGrpSpPr/>
          <p:nvPr/>
        </p:nvGrpSpPr>
        <p:grpSpPr>
          <a:xfrm>
            <a:off x="1692360" y="3213000"/>
            <a:ext cx="3146400" cy="1295280"/>
            <a:chOff x="1692360" y="3213000"/>
            <a:chExt cx="3146400" cy="1295280"/>
          </a:xfrm>
        </p:grpSpPr>
        <p:sp>
          <p:nvSpPr>
            <p:cNvPr id="54" name=""/>
            <p:cNvSpPr/>
            <p:nvPr/>
          </p:nvSpPr>
          <p:spPr>
            <a:xfrm>
              <a:off x="1692360" y="3252600"/>
              <a:ext cx="3146400" cy="123660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50000">
                  <a:srgbClr val="fefefe"/>
                </a:gs>
                <a:gs pos="100000">
                  <a:srgbClr val="ffff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5" name=""/>
                <p:cNvSpPr txBox="1"/>
                <p:nvPr/>
              </p:nvSpPr>
              <p:spPr>
                <a:xfrm>
                  <a:off x="1936800" y="3213000"/>
                  <a:ext cx="2779920" cy="1295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sSup>
                            <m:e>
                              <m:r>
                                <m:t xml:space="preserve">х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−</m:t>
                          </m:r>
                          <m:r>
                            <m:t xml:space="preserve">х</m:t>
                          </m:r>
                          <m:r>
                            <m:t xml:space="preserve">−</m:t>
                          </m:r>
                          <m:r>
                            <m:t xml:space="preserve">6</m:t>
                          </m:r>
                        </m:num>
                        <m:den>
                          <m:r>
                            <m:t xml:space="preserve">х</m:t>
                          </m:r>
                          <m:r>
                            <m:t xml:space="preserve">+</m:t>
                          </m:r>
                          <m:r>
                            <m:t xml:space="preserve">2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6" name=""/>
          <p:cNvGrpSpPr/>
          <p:nvPr/>
        </p:nvGrpSpPr>
        <p:grpSpPr>
          <a:xfrm>
            <a:off x="1692360" y="4797360"/>
            <a:ext cx="3146400" cy="1452600"/>
            <a:chOff x="1692360" y="4797360"/>
            <a:chExt cx="3146400" cy="1452600"/>
          </a:xfrm>
        </p:grpSpPr>
        <p:sp>
          <p:nvSpPr>
            <p:cNvPr id="57" name=""/>
            <p:cNvSpPr/>
            <p:nvPr/>
          </p:nvSpPr>
          <p:spPr>
            <a:xfrm>
              <a:off x="1692360" y="4914720"/>
              <a:ext cx="3146400" cy="123660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50000">
                  <a:srgbClr val="fefefe"/>
                </a:gs>
                <a:gs pos="100000">
                  <a:srgbClr val="ffff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8" name=""/>
                <p:cNvSpPr txBox="1"/>
                <p:nvPr/>
              </p:nvSpPr>
              <p:spPr>
                <a:xfrm>
                  <a:off x="1936800" y="4797360"/>
                  <a:ext cx="2779920" cy="1452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sSup>
                            <m:e>
                              <m:r>
                                <m:t xml:space="preserve">х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−</m:t>
                          </m:r>
                          <m:r>
                            <m:t xml:space="preserve">х</m:t>
                          </m:r>
                          <m:r>
                            <m:t xml:space="preserve">−</m:t>
                          </m:r>
                          <m:r>
                            <m:t xml:space="preserve">6</m:t>
                          </m:r>
                        </m:num>
                        <m:den>
                          <m:d>
                            <m:dPr>
                              <m:begChr m:val="|"/>
                              <m:endChr m:val="|"/>
                            </m:dPr>
                            <m:e>
                              <m:r>
                                <m:t xml:space="preserve">х</m:t>
                              </m:r>
                            </m:e>
                          </m:d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9" name=""/>
          <p:cNvGrpSpPr/>
          <p:nvPr/>
        </p:nvGrpSpPr>
        <p:grpSpPr>
          <a:xfrm>
            <a:off x="5508720" y="1844640"/>
            <a:ext cx="1584360" cy="672840"/>
            <a:chOff x="5508720" y="1844640"/>
            <a:chExt cx="1584360" cy="672840"/>
          </a:xfrm>
        </p:grpSpPr>
        <p:sp>
          <p:nvSpPr>
            <p:cNvPr id="60" name=""/>
            <p:cNvSpPr/>
            <p:nvPr/>
          </p:nvSpPr>
          <p:spPr>
            <a:xfrm>
              <a:off x="5508720" y="1869840"/>
              <a:ext cx="158436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1" name=""/>
                <p:cNvSpPr txBox="1"/>
                <p:nvPr/>
              </p:nvSpPr>
              <p:spPr>
                <a:xfrm>
                  <a:off x="5607000" y="1844640"/>
                  <a:ext cx="1317600" cy="642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х</m:t>
                      </m:r>
                      <m:r>
                        <m:t xml:space="preserve">=</m:t>
                      </m:r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2" name=""/>
          <p:cNvGrpSpPr/>
          <p:nvPr/>
        </p:nvGrpSpPr>
        <p:grpSpPr>
          <a:xfrm>
            <a:off x="5508720" y="3500280"/>
            <a:ext cx="1584360" cy="672840"/>
            <a:chOff x="5508720" y="3500280"/>
            <a:chExt cx="1584360" cy="672840"/>
          </a:xfrm>
        </p:grpSpPr>
        <p:sp>
          <p:nvSpPr>
            <p:cNvPr id="63" name=""/>
            <p:cNvSpPr/>
            <p:nvPr/>
          </p:nvSpPr>
          <p:spPr>
            <a:xfrm>
              <a:off x="5508720" y="3525480"/>
              <a:ext cx="158436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4" name=""/>
                <p:cNvSpPr txBox="1"/>
                <p:nvPr/>
              </p:nvSpPr>
              <p:spPr>
                <a:xfrm>
                  <a:off x="5630760" y="3500280"/>
                  <a:ext cx="1270080" cy="642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х</m:t>
                      </m:r>
                      <m:r>
                        <m:t xml:space="preserve">=</m:t>
                      </m:r>
                      <m:r>
                        <m:t xml:space="preserve">3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5" name=""/>
          <p:cNvGrpSpPr/>
          <p:nvPr/>
        </p:nvGrpSpPr>
        <p:grpSpPr>
          <a:xfrm>
            <a:off x="5508720" y="5229360"/>
            <a:ext cx="1584360" cy="672840"/>
            <a:chOff x="5508720" y="5229360"/>
            <a:chExt cx="1584360" cy="672840"/>
          </a:xfrm>
        </p:grpSpPr>
        <p:sp>
          <p:nvSpPr>
            <p:cNvPr id="66" name=""/>
            <p:cNvSpPr/>
            <p:nvPr/>
          </p:nvSpPr>
          <p:spPr>
            <a:xfrm>
              <a:off x="5508720" y="5254560"/>
              <a:ext cx="158436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7" name=""/>
                <p:cNvSpPr txBox="1"/>
                <p:nvPr/>
              </p:nvSpPr>
              <p:spPr>
                <a:xfrm>
                  <a:off x="5630760" y="5229360"/>
                  <a:ext cx="1270080" cy="642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х</m:t>
                      </m:r>
                      <m:r>
                        <m:t xml:space="preserve">=</m:t>
                      </m:r>
                      <m:r>
                        <m:t xml:space="preserve">3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" restart="whenNotActive" nodeType="interactiveSeq" fill="hold">
                <p:stCondLst>
                  <p:cond evt="onClick">
                    <p:tgtEl>
                      <p:spTgt spid="50"/>
                    </p:tgtEl>
                  </p:cond>
                </p:stCondLst>
                <p:childTnLst>
                  <p:par>
                    <p:cTn id="56" fill="hold">
                      <p:stCondLst>
                        <p:cond evt="onClick">
                          <p:tgtEl>
                            <p:spTgt spid="50"/>
                          </p:tgtEl>
                        </p:cond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" restart="whenNotActive" nodeType="interactiveSeq" fill="hold">
                <p:stCondLst>
                  <p:cond evt="onClick">
                    <p:tgtEl>
                      <p:spTgt spid="53"/>
                    </p:tgtEl>
                  </p:cond>
                </p:stCondLst>
                <p:childTnLst>
                  <p:par>
                    <p:cTn id="64" fill="hold">
                      <p:stCondLst>
                        <p:cond evt="onClick">
                          <p:tgtEl>
                            <p:spTgt spid="53"/>
                          </p:tgtEl>
                        </p:cond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1" restart="whenNotActive" nodeType="interactiveSeq" fill="hold">
                <p:stCondLst>
                  <p:cond evt="onClick">
                    <p:tgtEl>
                      <p:spTgt spid="56"/>
                    </p:tgtEl>
                  </p:cond>
                </p:stCondLst>
                <p:childTnLst>
                  <p:par>
                    <p:cTn id="72" fill="hold">
                      <p:stCondLst>
                        <p:cond evt="onClick">
                          <p:tgtEl>
                            <p:spTgt spid="56"/>
                          </p:tgtEl>
                        </p:cond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fefe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/>
          <p:nvPr/>
        </p:nvSpPr>
        <p:spPr>
          <a:xfrm>
            <a:off x="395280" y="260280"/>
            <a:ext cx="2519280" cy="71928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fefefe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Georgia"/>
              </a:rPr>
              <a:t>Зада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2" name=""/>
          <p:cNvGraphicFramePr/>
          <p:nvPr/>
        </p:nvGraphicFramePr>
        <p:xfrm>
          <a:off x="-9360" y="1125360"/>
          <a:ext cx="5352840" cy="573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9360" y="1125360"/>
                    <a:ext cx="5352840" cy="573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4" name=""/>
          <p:cNvGraphicFramePr/>
          <p:nvPr/>
        </p:nvGraphicFramePr>
        <p:xfrm>
          <a:off x="0" y="1125360"/>
          <a:ext cx="5354640" cy="5732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0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125360"/>
                    <a:ext cx="5354640" cy="573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6" name=""/>
          <p:cNvSpPr/>
          <p:nvPr/>
        </p:nvSpPr>
        <p:spPr>
          <a:xfrm>
            <a:off x="3851280" y="333360"/>
            <a:ext cx="4968720" cy="115272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fefefe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Georgia"/>
              </a:rPr>
              <a:t>Решите  графическ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Georgia"/>
              </a:rPr>
              <a:t>уравнен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309600" y="4430880"/>
            <a:ext cx="5022720" cy="1449360"/>
          </a:xfrm>
          <a:custGeom>
            <a:avLst/>
            <a:gdLst/>
            <a:ahLst/>
            <a:rect l="l" t="t" r="r" b="b"/>
            <a:pathLst>
              <a:path w="3164" h="913">
                <a:moveTo>
                  <a:pt x="0" y="913"/>
                </a:moveTo>
                <a:lnTo>
                  <a:pt x="3164" y="0"/>
                </a:lnTo>
              </a:path>
            </a:pathLst>
          </a:custGeom>
          <a:noFill/>
          <a:ln w="5076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8" name=""/>
          <p:cNvGrpSpPr/>
          <p:nvPr/>
        </p:nvGrpSpPr>
        <p:grpSpPr>
          <a:xfrm>
            <a:off x="3276720" y="5754600"/>
            <a:ext cx="5545080" cy="736560"/>
            <a:chOff x="3276720" y="5754600"/>
            <a:chExt cx="5545080" cy="736560"/>
          </a:xfrm>
        </p:grpSpPr>
        <p:sp>
          <p:nvSpPr>
            <p:cNvPr id="409" name=""/>
            <p:cNvSpPr/>
            <p:nvPr/>
          </p:nvSpPr>
          <p:spPr>
            <a:xfrm>
              <a:off x="3276720" y="5754600"/>
              <a:ext cx="5545080" cy="719280"/>
            </a:xfrm>
            <a:prstGeom prst="rect">
              <a:avLst/>
            </a:prstGeom>
            <a:gradFill rotWithShape="0">
              <a:gsLst>
                <a:gs pos="0">
                  <a:srgbClr val="99cc00"/>
                </a:gs>
                <a:gs pos="50000">
                  <a:srgbClr val="fefefe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Georgia"/>
                </a:rPr>
                <a:t>Ответ: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10" name=""/>
                <p:cNvSpPr txBox="1"/>
                <p:nvPr/>
              </p:nvSpPr>
              <p:spPr>
                <a:xfrm>
                  <a:off x="5295960" y="5877000"/>
                  <a:ext cx="3424320" cy="614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решения</m:t>
                      </m:r>
                      <m:r>
                        <m:rPr>
                          <m:lit/>
                          <m:nor/>
                        </m:rPr>
                        <m:t xml:space="preserve">  </m:t>
                      </m:r>
                      <m:r>
                        <m:rPr>
                          <m:lit/>
                          <m:nor/>
                        </m:rPr>
                        <m:t xml:space="preserve">нет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11" name=""/>
          <p:cNvGrpSpPr/>
          <p:nvPr/>
        </p:nvGrpSpPr>
        <p:grpSpPr>
          <a:xfrm>
            <a:off x="5484960" y="1989000"/>
            <a:ext cx="3541320" cy="806400"/>
            <a:chOff x="5484960" y="1989000"/>
            <a:chExt cx="3541320" cy="806400"/>
          </a:xfrm>
        </p:grpSpPr>
        <p:sp>
          <p:nvSpPr>
            <p:cNvPr id="412" name=""/>
            <p:cNvSpPr/>
            <p:nvPr/>
          </p:nvSpPr>
          <p:spPr>
            <a:xfrm>
              <a:off x="6476040" y="2067120"/>
              <a:ext cx="1632600" cy="71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13" name=""/>
                <p:cNvSpPr txBox="1"/>
                <p:nvPr/>
              </p:nvSpPr>
              <p:spPr>
                <a:xfrm>
                  <a:off x="5484960" y="1989000"/>
                  <a:ext cx="3541320" cy="806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4</m:t>
                      </m:r>
                      <m:sSup>
                        <m:e>
                          <m:r>
                            <m:t xml:space="preserve">х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−</m:t>
                      </m:r>
                      <m:r>
                        <m:t xml:space="preserve">х</m:t>
                      </m:r>
                      <m:r>
                        <m:t xml:space="preserve">+</m:t>
                      </m:r>
                      <m:r>
                        <m:t xml:space="preserve">4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14" name=""/>
          <p:cNvSpPr/>
          <p:nvPr/>
        </p:nvSpPr>
        <p:spPr>
          <a:xfrm>
            <a:off x="5520240" y="2924280"/>
            <a:ext cx="12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у = х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5510520" y="3789360"/>
            <a:ext cx="251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у =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0,25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х -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3" dur="indefinite" restart="never" nodeType="tmRoot">
          <p:childTnLst>
            <p:seq>
              <p:cTn id="984" dur="indefinite" nodeType="mainSeq">
                <p:childTnLst>
                  <p:par>
                    <p:cTn id="985" fill="hold">
                      <p:stCondLst>
                        <p:cond delay="0"/>
                      </p:stCondLst>
                      <p:childTnLst>
                        <p:par>
                          <p:cTn id="986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9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0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1" dur="1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6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7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98" dur="1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2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3" fill="hold">
                      <p:stCondLst>
                        <p:cond delay="indefinite"/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7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8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09" dur="1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3" dur="1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8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9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20" dur="1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fefe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395280" y="260280"/>
            <a:ext cx="2519280" cy="71928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fefefe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Georgia"/>
              </a:rPr>
              <a:t>Задание 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-12600" y="1197000"/>
          <a:ext cx="5286240" cy="5661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2600" y="1197000"/>
                    <a:ext cx="5286240" cy="566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3419640" y="2924280"/>
            <a:ext cx="91440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66ff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187280" y="2924280"/>
            <a:ext cx="91440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66ff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116000" y="5229360"/>
            <a:ext cx="91440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66ff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I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419640" y="5229360"/>
            <a:ext cx="91440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66ff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6156360" y="2595600"/>
            <a:ext cx="1582560" cy="1296720"/>
            <a:chOff x="6156360" y="2595600"/>
            <a:chExt cx="1582560" cy="1296720"/>
          </a:xfrm>
        </p:grpSpPr>
        <p:sp>
          <p:nvSpPr>
            <p:cNvPr id="76" name=""/>
            <p:cNvSpPr/>
            <p:nvPr/>
          </p:nvSpPr>
          <p:spPr>
            <a:xfrm>
              <a:off x="6156360" y="2597040"/>
              <a:ext cx="1582560" cy="129528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50000">
                  <a:srgbClr val="fefefe"/>
                </a:gs>
                <a:gs pos="100000">
                  <a:srgbClr val="ffff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7" name=""/>
                <p:cNvSpPr txBox="1"/>
                <p:nvPr/>
              </p:nvSpPr>
              <p:spPr>
                <a:xfrm>
                  <a:off x="6316560" y="2595600"/>
                  <a:ext cx="1258920" cy="1274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у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6</m:t>
                          </m:r>
                        </m:num>
                        <m:den>
                          <m:r>
                            <m:t xml:space="preserve">х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aphicFrame>
        <p:nvGraphicFramePr>
          <p:cNvPr id="78" name=""/>
          <p:cNvGraphicFramePr/>
          <p:nvPr/>
        </p:nvGraphicFramePr>
        <p:xfrm>
          <a:off x="0" y="1197000"/>
          <a:ext cx="5288040" cy="566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197000"/>
                    <a:ext cx="5288040" cy="566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" name=""/>
          <p:cNvSpPr/>
          <p:nvPr/>
        </p:nvSpPr>
        <p:spPr>
          <a:xfrm>
            <a:off x="3780000" y="260280"/>
            <a:ext cx="4968720" cy="165600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fefefe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Georgia"/>
              </a:rPr>
              <a:t>В каких четвертя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Georgia"/>
              </a:rPr>
              <a:t>расположен граф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Georgia"/>
              </a:rPr>
              <a:t>функци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>
            <a:hlinkClick r:id="" action="ppaction://hlinkshowjump?jump=nextslide"/>
          </p:cNvPr>
          <p:cNvSpPr/>
          <p:nvPr/>
        </p:nvSpPr>
        <p:spPr>
          <a:xfrm>
            <a:off x="7885080" y="6165720"/>
            <a:ext cx="1042920" cy="468360"/>
          </a:xfrm>
          <a:custGeom>
            <a:avLst/>
            <a:gdLst>
              <a:gd name="textAreaLeft" fmla="*/ 30240 w 1042920"/>
              <a:gd name="textAreaRight" fmla="*/ 1012680 w 1042920"/>
              <a:gd name="textAreaTop" fmla="*/ 30240 h 468360"/>
              <a:gd name="textAreaBottom" fmla="*/ 438120 h 468360"/>
            </a:gdLst>
            <a:ahLst/>
            <a:rect l="textAreaLeft" t="textAreaTop" r="textAreaRight" b="textAreaBottom"/>
            <a:pathLst>
              <a:path w="48077" h="21600">
                <a:moveTo>
                  <a:pt x="0" y="0"/>
                </a:moveTo>
                <a:lnTo>
                  <a:pt x="48077" y="0"/>
                </a:lnTo>
                <a:lnTo>
                  <a:pt x="48077" y="21600"/>
                </a:lnTo>
                <a:lnTo>
                  <a:pt x="0" y="21600"/>
                </a:lnTo>
                <a:close/>
              </a:path>
              <a:path fill="lightenLess" w="48077" h="21600">
                <a:moveTo>
                  <a:pt x="0" y="0"/>
                </a:moveTo>
                <a:lnTo>
                  <a:pt x="48077" y="0"/>
                </a:lnTo>
                <a:lnTo>
                  <a:pt x="46677" y="1400"/>
                </a:lnTo>
                <a:lnTo>
                  <a:pt x="1400" y="1400"/>
                </a:lnTo>
                <a:close/>
              </a:path>
              <a:path fill="darken" w="48077" h="21600">
                <a:moveTo>
                  <a:pt x="48077" y="0"/>
                </a:moveTo>
                <a:lnTo>
                  <a:pt x="48077" y="21600"/>
                </a:lnTo>
                <a:lnTo>
                  <a:pt x="46677" y="20200"/>
                </a:lnTo>
                <a:lnTo>
                  <a:pt x="46677" y="1400"/>
                </a:lnTo>
                <a:close/>
              </a:path>
              <a:path fill="darkenLess" w="48077" h="21600">
                <a:moveTo>
                  <a:pt x="480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677" y="20200"/>
                </a:lnTo>
                <a:close/>
              </a:path>
              <a:path fill="lighten" w="480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077" h="21600">
                <a:moveTo>
                  <a:pt x="17032" y="3794"/>
                </a:moveTo>
                <a:lnTo>
                  <a:pt x="31045" y="10800"/>
                </a:lnTo>
                <a:lnTo>
                  <a:pt x="17032" y="17806"/>
                </a:lnTo>
                <a:close/>
              </a:path>
            </a:pathLst>
          </a:custGeom>
          <a:gradFill rotWithShape="0">
            <a:gsLst>
              <a:gs pos="0">
                <a:srgbClr val="808000"/>
              </a:gs>
              <a:gs pos="50000">
                <a:srgbClr val="fefefe"/>
              </a:gs>
              <a:gs pos="100000">
                <a:srgbClr val="8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7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2000"/>
                            </p:stCondLst>
                            <p:childTnLst>
                              <p:par>
                                <p:cTn id="9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9" restart="whenNotActive" nodeType="interactiveSeq" fill="hold">
                <p:stCondLst>
                  <p:cond evt="onClick">
                    <p:tgtEl>
                      <p:spTgt spid="75"/>
                    </p:tgtEl>
                  </p:cond>
                </p:stCondLst>
                <p:childTnLst>
                  <p:par>
                    <p:cTn id="120" fill="hold">
                      <p:stCondLst>
                        <p:cond evt="onClick">
                          <p:tgtEl>
                            <p:spTgt spid="75"/>
                          </p:tgtEl>
                        </p:cond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3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6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21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131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fefe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395280" y="260280"/>
            <a:ext cx="2519280" cy="71928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fefefe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Georgia"/>
              </a:rPr>
              <a:t>Задание 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-12600" y="1197000"/>
          <a:ext cx="5286240" cy="5661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2600" y="1197000"/>
                    <a:ext cx="5286240" cy="566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"/>
          <p:cNvSpPr/>
          <p:nvPr/>
        </p:nvSpPr>
        <p:spPr>
          <a:xfrm>
            <a:off x="3419640" y="2924280"/>
            <a:ext cx="91440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66ff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87280" y="2924280"/>
            <a:ext cx="91440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66ff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116000" y="5229360"/>
            <a:ext cx="91440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66ff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I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419640" y="5229360"/>
            <a:ext cx="91440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66ff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6154560" y="2595600"/>
            <a:ext cx="1584360" cy="1296720"/>
            <a:chOff x="6154560" y="2595600"/>
            <a:chExt cx="1584360" cy="1296720"/>
          </a:xfrm>
        </p:grpSpPr>
        <p:sp>
          <p:nvSpPr>
            <p:cNvPr id="90" name=""/>
            <p:cNvSpPr/>
            <p:nvPr/>
          </p:nvSpPr>
          <p:spPr>
            <a:xfrm>
              <a:off x="6156360" y="2597040"/>
              <a:ext cx="1582560" cy="129528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50000">
                  <a:srgbClr val="fefefe"/>
                </a:gs>
                <a:gs pos="100000">
                  <a:srgbClr val="ffff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1" name=""/>
                <p:cNvSpPr txBox="1"/>
                <p:nvPr/>
              </p:nvSpPr>
              <p:spPr>
                <a:xfrm>
                  <a:off x="6154560" y="2595600"/>
                  <a:ext cx="1582920" cy="1274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у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f>
                        <m:num>
                          <m:r>
                            <m:t xml:space="preserve">4</m:t>
                          </m:r>
                        </m:num>
                        <m:den>
                          <m:r>
                            <m:t xml:space="preserve">х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aphicFrame>
        <p:nvGraphicFramePr>
          <p:cNvPr id="92" name=""/>
          <p:cNvGraphicFramePr/>
          <p:nvPr/>
        </p:nvGraphicFramePr>
        <p:xfrm>
          <a:off x="0" y="1197000"/>
          <a:ext cx="5286240" cy="566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197000"/>
                    <a:ext cx="5286240" cy="566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3780000" y="260280"/>
            <a:ext cx="4968720" cy="165600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fefefe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Georgia"/>
              </a:rPr>
              <a:t>В каких четвертя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Georgia"/>
              </a:rPr>
              <a:t>расположен граф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Georgia"/>
              </a:rPr>
              <a:t>функци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>
            <a:hlinkClick r:id="" action="ppaction://hlinkshowjump?jump=nextslide"/>
          </p:cNvPr>
          <p:cNvSpPr/>
          <p:nvPr/>
        </p:nvSpPr>
        <p:spPr>
          <a:xfrm>
            <a:off x="7885080" y="6165720"/>
            <a:ext cx="1042920" cy="468360"/>
          </a:xfrm>
          <a:custGeom>
            <a:avLst/>
            <a:gdLst>
              <a:gd name="textAreaLeft" fmla="*/ 30240 w 1042920"/>
              <a:gd name="textAreaRight" fmla="*/ 1012680 w 1042920"/>
              <a:gd name="textAreaTop" fmla="*/ 30240 h 468360"/>
              <a:gd name="textAreaBottom" fmla="*/ 438120 h 468360"/>
            </a:gdLst>
            <a:ahLst/>
            <a:rect l="textAreaLeft" t="textAreaTop" r="textAreaRight" b="textAreaBottom"/>
            <a:pathLst>
              <a:path w="48077" h="21600">
                <a:moveTo>
                  <a:pt x="0" y="0"/>
                </a:moveTo>
                <a:lnTo>
                  <a:pt x="48077" y="0"/>
                </a:lnTo>
                <a:lnTo>
                  <a:pt x="48077" y="21600"/>
                </a:lnTo>
                <a:lnTo>
                  <a:pt x="0" y="21600"/>
                </a:lnTo>
                <a:close/>
              </a:path>
              <a:path fill="lightenLess" w="48077" h="21600">
                <a:moveTo>
                  <a:pt x="0" y="0"/>
                </a:moveTo>
                <a:lnTo>
                  <a:pt x="48077" y="0"/>
                </a:lnTo>
                <a:lnTo>
                  <a:pt x="46677" y="1400"/>
                </a:lnTo>
                <a:lnTo>
                  <a:pt x="1400" y="1400"/>
                </a:lnTo>
                <a:close/>
              </a:path>
              <a:path fill="darken" w="48077" h="21600">
                <a:moveTo>
                  <a:pt x="48077" y="0"/>
                </a:moveTo>
                <a:lnTo>
                  <a:pt x="48077" y="21600"/>
                </a:lnTo>
                <a:lnTo>
                  <a:pt x="46677" y="20200"/>
                </a:lnTo>
                <a:lnTo>
                  <a:pt x="46677" y="1400"/>
                </a:lnTo>
                <a:close/>
              </a:path>
              <a:path fill="darkenLess" w="48077" h="21600">
                <a:moveTo>
                  <a:pt x="480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677" y="20200"/>
                </a:lnTo>
                <a:close/>
              </a:path>
              <a:path fill="lighten" w="480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077" h="21600">
                <a:moveTo>
                  <a:pt x="17032" y="3794"/>
                </a:moveTo>
                <a:lnTo>
                  <a:pt x="31045" y="10800"/>
                </a:lnTo>
                <a:lnTo>
                  <a:pt x="17032" y="17806"/>
                </a:lnTo>
                <a:close/>
              </a:path>
            </a:pathLst>
          </a:custGeom>
          <a:gradFill rotWithShape="0">
            <a:gsLst>
              <a:gs pos="0">
                <a:srgbClr val="808000"/>
              </a:gs>
              <a:gs pos="50000">
                <a:srgbClr val="fefefe"/>
              </a:gs>
              <a:gs pos="100000">
                <a:srgbClr val="8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0" restart="whenNotActive" nodeType="interactiveSeq" fill="hold">
                <p:stCondLst>
                  <p:cond evt="onClick">
                    <p:tgtEl>
                      <p:spTgt spid="89"/>
                    </p:tgtEl>
                  </p:cond>
                </p:stCondLst>
                <p:childTnLst>
                  <p:par>
                    <p:cTn id="141" fill="hold">
                      <p:stCondLst>
                        <p:cond evt="onClick">
                          <p:tgtEl>
                            <p:spTgt spid="89"/>
                          </p:tgtEl>
                        </p:cond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4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7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1000"/>
                            </p:stCondLst>
                            <p:childTnLst>
                              <p:par>
                                <p:cTn id="150" nodeType="afterEffect" fill="hold" presetClass="entr" presetID="21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152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fefe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395280" y="260280"/>
            <a:ext cx="2519280" cy="71928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fefefe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Georgia"/>
              </a:rPr>
              <a:t>Задание 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-12600" y="1197000"/>
          <a:ext cx="5286240" cy="5661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2600" y="1197000"/>
                    <a:ext cx="5286240" cy="566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"/>
          <p:cNvSpPr/>
          <p:nvPr/>
        </p:nvSpPr>
        <p:spPr>
          <a:xfrm>
            <a:off x="3419640" y="2924280"/>
            <a:ext cx="91440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66ff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87280" y="2924280"/>
            <a:ext cx="91440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66ff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116000" y="5229360"/>
            <a:ext cx="91440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66ff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I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419640" y="5229360"/>
            <a:ext cx="91440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66ff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5940360" y="2565360"/>
            <a:ext cx="1960560" cy="1336680"/>
            <a:chOff x="5940360" y="2565360"/>
            <a:chExt cx="1960560" cy="1336680"/>
          </a:xfrm>
        </p:grpSpPr>
        <p:sp>
          <p:nvSpPr>
            <p:cNvPr id="104" name=""/>
            <p:cNvSpPr/>
            <p:nvPr/>
          </p:nvSpPr>
          <p:spPr>
            <a:xfrm>
              <a:off x="5940360" y="2565360"/>
              <a:ext cx="1944720" cy="133668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50000">
                  <a:srgbClr val="fefefe"/>
                </a:gs>
                <a:gs pos="100000">
                  <a:srgbClr val="ffff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5" name=""/>
                <p:cNvSpPr txBox="1"/>
                <p:nvPr/>
              </p:nvSpPr>
              <p:spPr>
                <a:xfrm>
                  <a:off x="5992920" y="2862360"/>
                  <a:ext cx="1908000" cy="741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у</m:t>
                      </m:r>
                      <m:r>
                        <m:t xml:space="preserve">=</m:t>
                      </m:r>
                      <m:r>
                        <m:t xml:space="preserve">0,5</m:t>
                      </m:r>
                      <m:sSup>
                        <m:e>
                          <m:r>
                            <m:t xml:space="preserve">х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graphicFrame>
        <p:nvGraphicFramePr>
          <p:cNvPr id="106" name=""/>
          <p:cNvGraphicFramePr/>
          <p:nvPr/>
        </p:nvGraphicFramePr>
        <p:xfrm>
          <a:off x="0" y="1197000"/>
          <a:ext cx="5286240" cy="566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197000"/>
                    <a:ext cx="5286240" cy="566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"/>
          <p:cNvSpPr/>
          <p:nvPr/>
        </p:nvSpPr>
        <p:spPr>
          <a:xfrm>
            <a:off x="3780000" y="260280"/>
            <a:ext cx="4968720" cy="165600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fefefe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Georgia"/>
              </a:rPr>
              <a:t>В каких четвертя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Georgia"/>
              </a:rPr>
              <a:t>расположен граф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Georgia"/>
              </a:rPr>
              <a:t>функци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>
            <a:hlinkClick r:id="" action="ppaction://hlinkshowjump?jump=nextslide"/>
          </p:cNvPr>
          <p:cNvSpPr/>
          <p:nvPr/>
        </p:nvSpPr>
        <p:spPr>
          <a:xfrm>
            <a:off x="7885080" y="6165720"/>
            <a:ext cx="1042920" cy="468360"/>
          </a:xfrm>
          <a:custGeom>
            <a:avLst/>
            <a:gdLst>
              <a:gd name="textAreaLeft" fmla="*/ 30240 w 1042920"/>
              <a:gd name="textAreaRight" fmla="*/ 1012680 w 1042920"/>
              <a:gd name="textAreaTop" fmla="*/ 30240 h 468360"/>
              <a:gd name="textAreaBottom" fmla="*/ 438120 h 468360"/>
            </a:gdLst>
            <a:ahLst/>
            <a:rect l="textAreaLeft" t="textAreaTop" r="textAreaRight" b="textAreaBottom"/>
            <a:pathLst>
              <a:path w="48077" h="21600">
                <a:moveTo>
                  <a:pt x="0" y="0"/>
                </a:moveTo>
                <a:lnTo>
                  <a:pt x="48077" y="0"/>
                </a:lnTo>
                <a:lnTo>
                  <a:pt x="48077" y="21600"/>
                </a:lnTo>
                <a:lnTo>
                  <a:pt x="0" y="21600"/>
                </a:lnTo>
                <a:close/>
              </a:path>
              <a:path fill="lightenLess" w="48077" h="21600">
                <a:moveTo>
                  <a:pt x="0" y="0"/>
                </a:moveTo>
                <a:lnTo>
                  <a:pt x="48077" y="0"/>
                </a:lnTo>
                <a:lnTo>
                  <a:pt x="46677" y="1400"/>
                </a:lnTo>
                <a:lnTo>
                  <a:pt x="1400" y="1400"/>
                </a:lnTo>
                <a:close/>
              </a:path>
              <a:path fill="darken" w="48077" h="21600">
                <a:moveTo>
                  <a:pt x="48077" y="0"/>
                </a:moveTo>
                <a:lnTo>
                  <a:pt x="48077" y="21600"/>
                </a:lnTo>
                <a:lnTo>
                  <a:pt x="46677" y="20200"/>
                </a:lnTo>
                <a:lnTo>
                  <a:pt x="46677" y="1400"/>
                </a:lnTo>
                <a:close/>
              </a:path>
              <a:path fill="darkenLess" w="48077" h="21600">
                <a:moveTo>
                  <a:pt x="480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677" y="20200"/>
                </a:lnTo>
                <a:close/>
              </a:path>
              <a:path fill="lighten" w="480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077" h="21600">
                <a:moveTo>
                  <a:pt x="17032" y="3794"/>
                </a:moveTo>
                <a:lnTo>
                  <a:pt x="31045" y="10800"/>
                </a:lnTo>
                <a:lnTo>
                  <a:pt x="17032" y="17806"/>
                </a:lnTo>
                <a:close/>
              </a:path>
            </a:pathLst>
          </a:custGeom>
          <a:gradFill rotWithShape="0">
            <a:gsLst>
              <a:gs pos="0">
                <a:srgbClr val="808000"/>
              </a:gs>
              <a:gs pos="50000">
                <a:srgbClr val="fefefe"/>
              </a:gs>
              <a:gs pos="100000">
                <a:srgbClr val="8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1" restart="whenNotActive" nodeType="interactiveSeq" fill="hold">
                <p:stCondLst>
                  <p:cond evt="onClick">
                    <p:tgtEl>
                      <p:spTgt spid="103"/>
                    </p:tgtEl>
                  </p:cond>
                </p:stCondLst>
                <p:childTnLst>
                  <p:par>
                    <p:cTn id="162" fill="hold">
                      <p:stCondLst>
                        <p:cond evt="onClick">
                          <p:tgtEl>
                            <p:spTgt spid="103"/>
                          </p:tgtEl>
                        </p:cond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5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8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1000"/>
                            </p:stCondLst>
                            <p:childTnLst>
                              <p:par>
                                <p:cTn id="171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fefe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95280" y="260280"/>
            <a:ext cx="2519280" cy="71928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fefefe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Georgia"/>
              </a:rPr>
              <a:t>Задание 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-12600" y="1197000"/>
          <a:ext cx="5286240" cy="5661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2600" y="1197000"/>
                    <a:ext cx="5286240" cy="566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"/>
          <p:cNvSpPr/>
          <p:nvPr/>
        </p:nvSpPr>
        <p:spPr>
          <a:xfrm>
            <a:off x="3419640" y="2924280"/>
            <a:ext cx="91440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66ff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187280" y="2924280"/>
            <a:ext cx="91440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66ff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116000" y="5229360"/>
            <a:ext cx="91440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66ff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I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19640" y="5229360"/>
            <a:ext cx="91440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66ff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5940360" y="2565360"/>
            <a:ext cx="1944720" cy="1336680"/>
            <a:chOff x="5940360" y="2565360"/>
            <a:chExt cx="1944720" cy="1336680"/>
          </a:xfrm>
        </p:grpSpPr>
        <p:sp>
          <p:nvSpPr>
            <p:cNvPr id="118" name=""/>
            <p:cNvSpPr/>
            <p:nvPr/>
          </p:nvSpPr>
          <p:spPr>
            <a:xfrm>
              <a:off x="5940360" y="2565360"/>
              <a:ext cx="1944720" cy="133668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50000">
                  <a:srgbClr val="fefefe"/>
                </a:gs>
                <a:gs pos="100000">
                  <a:srgbClr val="ffff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9" name=""/>
                <p:cNvSpPr txBox="1"/>
                <p:nvPr/>
              </p:nvSpPr>
              <p:spPr>
                <a:xfrm>
                  <a:off x="6175440" y="2841480"/>
                  <a:ext cx="1542960" cy="782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у</m:t>
                      </m:r>
                      <m:r>
                        <m:t xml:space="preserve">=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х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</p:grpSp>
      <p:graphicFrame>
        <p:nvGraphicFramePr>
          <p:cNvPr id="120" name=""/>
          <p:cNvGraphicFramePr/>
          <p:nvPr/>
        </p:nvGraphicFramePr>
        <p:xfrm>
          <a:off x="0" y="1197000"/>
          <a:ext cx="5286240" cy="566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197000"/>
                    <a:ext cx="5286240" cy="566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"/>
          <p:cNvSpPr/>
          <p:nvPr/>
        </p:nvSpPr>
        <p:spPr>
          <a:xfrm>
            <a:off x="3780000" y="260280"/>
            <a:ext cx="4968720" cy="165600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fefefe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Georgia"/>
              </a:rPr>
              <a:t>В каких четвертя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Georgia"/>
              </a:rPr>
              <a:t>расположен граф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Georgia"/>
              </a:rPr>
              <a:t>функци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>
            <a:hlinkClick r:id="" action="ppaction://hlinkshowjump?jump=nextslide"/>
          </p:cNvPr>
          <p:cNvSpPr/>
          <p:nvPr/>
        </p:nvSpPr>
        <p:spPr>
          <a:xfrm>
            <a:off x="7885080" y="6165720"/>
            <a:ext cx="1042920" cy="468360"/>
          </a:xfrm>
          <a:custGeom>
            <a:avLst/>
            <a:gdLst>
              <a:gd name="textAreaLeft" fmla="*/ 30240 w 1042920"/>
              <a:gd name="textAreaRight" fmla="*/ 1012680 w 1042920"/>
              <a:gd name="textAreaTop" fmla="*/ 30240 h 468360"/>
              <a:gd name="textAreaBottom" fmla="*/ 438120 h 468360"/>
            </a:gdLst>
            <a:ahLst/>
            <a:rect l="textAreaLeft" t="textAreaTop" r="textAreaRight" b="textAreaBottom"/>
            <a:pathLst>
              <a:path w="48077" h="21600">
                <a:moveTo>
                  <a:pt x="0" y="0"/>
                </a:moveTo>
                <a:lnTo>
                  <a:pt x="48077" y="0"/>
                </a:lnTo>
                <a:lnTo>
                  <a:pt x="48077" y="21600"/>
                </a:lnTo>
                <a:lnTo>
                  <a:pt x="0" y="21600"/>
                </a:lnTo>
                <a:close/>
              </a:path>
              <a:path fill="lightenLess" w="48077" h="21600">
                <a:moveTo>
                  <a:pt x="0" y="0"/>
                </a:moveTo>
                <a:lnTo>
                  <a:pt x="48077" y="0"/>
                </a:lnTo>
                <a:lnTo>
                  <a:pt x="46677" y="1400"/>
                </a:lnTo>
                <a:lnTo>
                  <a:pt x="1400" y="1400"/>
                </a:lnTo>
                <a:close/>
              </a:path>
              <a:path fill="darken" w="48077" h="21600">
                <a:moveTo>
                  <a:pt x="48077" y="0"/>
                </a:moveTo>
                <a:lnTo>
                  <a:pt x="48077" y="21600"/>
                </a:lnTo>
                <a:lnTo>
                  <a:pt x="46677" y="20200"/>
                </a:lnTo>
                <a:lnTo>
                  <a:pt x="46677" y="1400"/>
                </a:lnTo>
                <a:close/>
              </a:path>
              <a:path fill="darkenLess" w="48077" h="21600">
                <a:moveTo>
                  <a:pt x="480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677" y="20200"/>
                </a:lnTo>
                <a:close/>
              </a:path>
              <a:path fill="lighten" w="480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077" h="21600">
                <a:moveTo>
                  <a:pt x="17032" y="3794"/>
                </a:moveTo>
                <a:lnTo>
                  <a:pt x="31045" y="10800"/>
                </a:lnTo>
                <a:lnTo>
                  <a:pt x="17032" y="17806"/>
                </a:lnTo>
                <a:close/>
              </a:path>
            </a:pathLst>
          </a:custGeom>
          <a:gradFill rotWithShape="0">
            <a:gsLst>
              <a:gs pos="0">
                <a:srgbClr val="808000"/>
              </a:gs>
              <a:gs pos="50000">
                <a:srgbClr val="fefefe"/>
              </a:gs>
              <a:gs pos="100000">
                <a:srgbClr val="8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2" restart="whenNotActive" nodeType="interactiveSeq" fill="hold">
                <p:stCondLst>
                  <p:cond evt="onClick">
                    <p:tgtEl>
                      <p:spTgt spid="117"/>
                    </p:tgtEl>
                  </p:cond>
                </p:stCondLst>
                <p:childTnLst>
                  <p:par>
                    <p:cTn id="183" fill="hold">
                      <p:stCondLst>
                        <p:cond evt="onClick">
                          <p:tgtEl>
                            <p:spTgt spid="117"/>
                          </p:tgtEl>
                        </p:cond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6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9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2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fefe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395280" y="260280"/>
            <a:ext cx="2519280" cy="71928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fefefe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Georgia"/>
              </a:rPr>
              <a:t>Задание 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-12600" y="1197000"/>
          <a:ext cx="5286240" cy="5661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2600" y="1197000"/>
                    <a:ext cx="5286240" cy="566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" name=""/>
          <p:cNvSpPr/>
          <p:nvPr/>
        </p:nvSpPr>
        <p:spPr>
          <a:xfrm>
            <a:off x="3419640" y="2924280"/>
            <a:ext cx="91440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66ff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187280" y="2924280"/>
            <a:ext cx="91440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66ff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116000" y="5229360"/>
            <a:ext cx="91440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66ff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I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19640" y="5229360"/>
            <a:ext cx="91440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66ff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940360" y="2565360"/>
            <a:ext cx="1944720" cy="1336680"/>
            <a:chOff x="5940360" y="2565360"/>
            <a:chExt cx="1944720" cy="1336680"/>
          </a:xfrm>
        </p:grpSpPr>
        <p:sp>
          <p:nvSpPr>
            <p:cNvPr id="132" name=""/>
            <p:cNvSpPr/>
            <p:nvPr/>
          </p:nvSpPr>
          <p:spPr>
            <a:xfrm>
              <a:off x="5940360" y="2565360"/>
              <a:ext cx="1944720" cy="133668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50000">
                  <a:srgbClr val="fefefe"/>
                </a:gs>
                <a:gs pos="100000">
                  <a:srgbClr val="ffff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3" name=""/>
                <p:cNvSpPr txBox="1"/>
                <p:nvPr/>
              </p:nvSpPr>
              <p:spPr>
                <a:xfrm>
                  <a:off x="6276960" y="2862360"/>
                  <a:ext cx="1339920" cy="741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у</m:t>
                      </m:r>
                      <m:r>
                        <m:t xml:space="preserve">=</m:t>
                      </m:r>
                      <m:sSup>
                        <m:e>
                          <m:r>
                            <m:t xml:space="preserve">х</m:t>
                          </m:r>
                        </m:e>
                        <m:sup>
                          <m:r>
                            <m:t xml:space="preserve">3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graphicFrame>
        <p:nvGraphicFramePr>
          <p:cNvPr id="134" name=""/>
          <p:cNvGraphicFramePr/>
          <p:nvPr/>
        </p:nvGraphicFramePr>
        <p:xfrm>
          <a:off x="0" y="1197000"/>
          <a:ext cx="5286240" cy="566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197000"/>
                    <a:ext cx="5286240" cy="566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3780000" y="260280"/>
            <a:ext cx="4968720" cy="165600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fefefe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Georgia"/>
              </a:rPr>
              <a:t>В каких четвертя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Georgia"/>
              </a:rPr>
              <a:t>расположен граф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Georgia"/>
              </a:rPr>
              <a:t>функци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>
            <a:hlinkClick r:id="" action="ppaction://hlinkshowjump?jump=nextslide"/>
          </p:cNvPr>
          <p:cNvSpPr/>
          <p:nvPr/>
        </p:nvSpPr>
        <p:spPr>
          <a:xfrm>
            <a:off x="7885080" y="6165720"/>
            <a:ext cx="1042920" cy="468360"/>
          </a:xfrm>
          <a:custGeom>
            <a:avLst/>
            <a:gdLst>
              <a:gd name="textAreaLeft" fmla="*/ 30240 w 1042920"/>
              <a:gd name="textAreaRight" fmla="*/ 1012680 w 1042920"/>
              <a:gd name="textAreaTop" fmla="*/ 30240 h 468360"/>
              <a:gd name="textAreaBottom" fmla="*/ 438120 h 468360"/>
            </a:gdLst>
            <a:ahLst/>
            <a:rect l="textAreaLeft" t="textAreaTop" r="textAreaRight" b="textAreaBottom"/>
            <a:pathLst>
              <a:path w="48077" h="21600">
                <a:moveTo>
                  <a:pt x="0" y="0"/>
                </a:moveTo>
                <a:lnTo>
                  <a:pt x="48077" y="0"/>
                </a:lnTo>
                <a:lnTo>
                  <a:pt x="48077" y="21600"/>
                </a:lnTo>
                <a:lnTo>
                  <a:pt x="0" y="21600"/>
                </a:lnTo>
                <a:close/>
              </a:path>
              <a:path fill="lightenLess" w="48077" h="21600">
                <a:moveTo>
                  <a:pt x="0" y="0"/>
                </a:moveTo>
                <a:lnTo>
                  <a:pt x="48077" y="0"/>
                </a:lnTo>
                <a:lnTo>
                  <a:pt x="46677" y="1400"/>
                </a:lnTo>
                <a:lnTo>
                  <a:pt x="1400" y="1400"/>
                </a:lnTo>
                <a:close/>
              </a:path>
              <a:path fill="darken" w="48077" h="21600">
                <a:moveTo>
                  <a:pt x="48077" y="0"/>
                </a:moveTo>
                <a:lnTo>
                  <a:pt x="48077" y="21600"/>
                </a:lnTo>
                <a:lnTo>
                  <a:pt x="46677" y="20200"/>
                </a:lnTo>
                <a:lnTo>
                  <a:pt x="46677" y="1400"/>
                </a:lnTo>
                <a:close/>
              </a:path>
              <a:path fill="darkenLess" w="48077" h="21600">
                <a:moveTo>
                  <a:pt x="480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677" y="20200"/>
                </a:lnTo>
                <a:close/>
              </a:path>
              <a:path fill="lighten" w="480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077" h="21600">
                <a:moveTo>
                  <a:pt x="17032" y="3794"/>
                </a:moveTo>
                <a:lnTo>
                  <a:pt x="31045" y="10800"/>
                </a:lnTo>
                <a:lnTo>
                  <a:pt x="17032" y="17806"/>
                </a:lnTo>
                <a:close/>
              </a:path>
            </a:pathLst>
          </a:custGeom>
          <a:gradFill rotWithShape="0">
            <a:gsLst>
              <a:gs pos="0">
                <a:srgbClr val="808000"/>
              </a:gs>
              <a:gs pos="50000">
                <a:srgbClr val="fefefe"/>
              </a:gs>
              <a:gs pos="100000">
                <a:srgbClr val="8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6" restart="whenNotActive" nodeType="interactiveSeq" fill="hold">
                <p:stCondLst>
                  <p:cond evt="onClick">
                    <p:tgtEl>
                      <p:spTgt spid="131"/>
                    </p:tgtEl>
                  </p:cond>
                </p:stCondLst>
                <p:childTnLst>
                  <p:par>
                    <p:cTn id="207" fill="hold">
                      <p:stCondLst>
                        <p:cond evt="onClick">
                          <p:tgtEl>
                            <p:spTgt spid="131"/>
                          </p:tgtEl>
                        </p:cond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0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3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1000"/>
                            </p:stCondLst>
                            <p:childTnLst>
                              <p:par>
                                <p:cTn id="216" nodeType="afterEffect" fill="hold" presetClass="entr" presetID="16" presetSubtype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18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fefe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468360" y="260280"/>
            <a:ext cx="8351640" cy="71928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fefefe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Georgia"/>
              </a:rPr>
              <a:t>Решим графически уравнен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2843280" y="1125360"/>
            <a:ext cx="3313080" cy="703440"/>
            <a:chOff x="2843280" y="1125360"/>
            <a:chExt cx="3313080" cy="703440"/>
          </a:xfrm>
        </p:grpSpPr>
        <p:grpSp>
          <p:nvGrpSpPr>
            <p:cNvPr id="140" name=""/>
            <p:cNvGrpSpPr/>
            <p:nvPr/>
          </p:nvGrpSpPr>
          <p:grpSpPr>
            <a:xfrm>
              <a:off x="2843280" y="1125360"/>
              <a:ext cx="1584360" cy="672840"/>
              <a:chOff x="2843280" y="1125360"/>
              <a:chExt cx="1584360" cy="672840"/>
            </a:xfrm>
          </p:grpSpPr>
          <p:sp>
            <p:nvSpPr>
              <p:cNvPr id="141" name=""/>
              <p:cNvSpPr/>
              <p:nvPr/>
            </p:nvSpPr>
            <p:spPr>
              <a:xfrm>
                <a:off x="2843280" y="1150560"/>
                <a:ext cx="1584360" cy="64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42" name=""/>
                  <p:cNvSpPr txBox="1"/>
                  <p:nvPr/>
                </p:nvSpPr>
                <p:spPr>
                  <a:xfrm>
                    <a:off x="2987640" y="1125360"/>
                    <a:ext cx="1224000" cy="6429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х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p:grpSp>
          <p:nvGrpSpPr>
            <p:cNvPr id="143" name=""/>
            <p:cNvGrpSpPr/>
            <p:nvPr/>
          </p:nvGrpSpPr>
          <p:grpSpPr>
            <a:xfrm>
              <a:off x="4572000" y="1125360"/>
              <a:ext cx="1584360" cy="672840"/>
              <a:chOff x="4572000" y="1125360"/>
              <a:chExt cx="1584360" cy="672840"/>
            </a:xfrm>
          </p:grpSpPr>
          <p:sp>
            <p:nvSpPr>
              <p:cNvPr id="144" name=""/>
              <p:cNvSpPr/>
              <p:nvPr/>
            </p:nvSpPr>
            <p:spPr>
              <a:xfrm>
                <a:off x="4572000" y="1150560"/>
                <a:ext cx="1584360" cy="64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45" name=""/>
                  <p:cNvSpPr txBox="1"/>
                  <p:nvPr/>
                </p:nvSpPr>
                <p:spPr>
                  <a:xfrm>
                    <a:off x="4716360" y="1125360"/>
                    <a:ext cx="1224000" cy="6429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5</m:t>
                        </m:r>
                        <m:r>
                          <m:t xml:space="preserve">−</m:t>
                        </m:r>
                        <m:r>
                          <m:t xml:space="preserve">х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146" name=""/>
            <p:cNvSpPr/>
            <p:nvPr/>
          </p:nvSpPr>
          <p:spPr>
            <a:xfrm>
              <a:off x="4213080" y="1125360"/>
              <a:ext cx="470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2843280" y="1125360"/>
            <a:ext cx="1584360" cy="672840"/>
            <a:chOff x="2843280" y="1125360"/>
            <a:chExt cx="1584360" cy="672840"/>
          </a:xfrm>
        </p:grpSpPr>
        <p:sp>
          <p:nvSpPr>
            <p:cNvPr id="148" name=""/>
            <p:cNvSpPr/>
            <p:nvPr/>
          </p:nvSpPr>
          <p:spPr>
            <a:xfrm>
              <a:off x="2843280" y="1150560"/>
              <a:ext cx="158436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9" name=""/>
                <p:cNvSpPr txBox="1"/>
                <p:nvPr/>
              </p:nvSpPr>
              <p:spPr>
                <a:xfrm>
                  <a:off x="2987640" y="1125360"/>
                  <a:ext cx="1224000" cy="642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х</m:t>
                      </m:r>
                      <m:r>
                        <m:t xml:space="preserve">+</m:t>
                      </m:r>
                      <m:r>
                        <m:t xml:space="preserve">3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50" name=""/>
          <p:cNvGrpSpPr/>
          <p:nvPr/>
        </p:nvGrpSpPr>
        <p:grpSpPr>
          <a:xfrm>
            <a:off x="4572000" y="1125360"/>
            <a:ext cx="1584360" cy="672840"/>
            <a:chOff x="4572000" y="1125360"/>
            <a:chExt cx="1584360" cy="672840"/>
          </a:xfrm>
        </p:grpSpPr>
        <p:sp>
          <p:nvSpPr>
            <p:cNvPr id="151" name=""/>
            <p:cNvSpPr/>
            <p:nvPr/>
          </p:nvSpPr>
          <p:spPr>
            <a:xfrm>
              <a:off x="4572000" y="1150560"/>
              <a:ext cx="158436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2" name=""/>
                <p:cNvSpPr txBox="1"/>
                <p:nvPr/>
              </p:nvSpPr>
              <p:spPr>
                <a:xfrm>
                  <a:off x="4716360" y="1125360"/>
                  <a:ext cx="1224000" cy="642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5</m:t>
                      </m:r>
                      <m:r>
                        <m:t xml:space="preserve">−</m:t>
                      </m:r>
                      <m:r>
                        <m:t xml:space="preserve">х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53" name=""/>
          <p:cNvSpPr/>
          <p:nvPr/>
        </p:nvSpPr>
        <p:spPr>
          <a:xfrm>
            <a:off x="2843280" y="1125360"/>
            <a:ext cx="1441440" cy="7192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1125360"/>
            <a:ext cx="1441440" cy="7192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25440" y="1773360"/>
            <a:ext cx="822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у 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445080" y="1773360"/>
            <a:ext cx="822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у 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2340000" y="2660760"/>
          <a:ext cx="4464000" cy="4197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40000" y="2660760"/>
                    <a:ext cx="4464000" cy="419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9" name=""/>
          <p:cNvGrpSpPr/>
          <p:nvPr/>
        </p:nvGrpSpPr>
        <p:grpSpPr>
          <a:xfrm>
            <a:off x="250920" y="3429000"/>
            <a:ext cx="1850760" cy="2160720"/>
            <a:chOff x="250920" y="3429000"/>
            <a:chExt cx="1850760" cy="2160720"/>
          </a:xfrm>
        </p:grpSpPr>
        <p:sp>
          <p:nvSpPr>
            <p:cNvPr id="160" name=""/>
            <p:cNvSpPr/>
            <p:nvPr/>
          </p:nvSpPr>
          <p:spPr>
            <a:xfrm>
              <a:off x="250920" y="3429000"/>
              <a:ext cx="914400" cy="720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х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187280" y="3429000"/>
              <a:ext cx="914400" cy="720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у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50920" y="4149720"/>
              <a:ext cx="914400" cy="720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- 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187280" y="4149720"/>
              <a:ext cx="914400" cy="720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50920" y="4869000"/>
              <a:ext cx="914400" cy="720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187280" y="4869000"/>
              <a:ext cx="914400" cy="720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7020000" y="3429000"/>
            <a:ext cx="1851120" cy="2160720"/>
            <a:chOff x="7020000" y="3429000"/>
            <a:chExt cx="1851120" cy="2160720"/>
          </a:xfrm>
        </p:grpSpPr>
        <p:sp>
          <p:nvSpPr>
            <p:cNvPr id="167" name=""/>
            <p:cNvSpPr/>
            <p:nvPr/>
          </p:nvSpPr>
          <p:spPr>
            <a:xfrm>
              <a:off x="7020000" y="3429000"/>
              <a:ext cx="914400" cy="720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х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956720" y="3429000"/>
              <a:ext cx="914400" cy="720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у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020000" y="4149720"/>
              <a:ext cx="914400" cy="720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956720" y="4149720"/>
              <a:ext cx="914400" cy="720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020000" y="4869000"/>
              <a:ext cx="914400" cy="720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956720" y="4869000"/>
              <a:ext cx="914400" cy="720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2630520" y="2714760"/>
            <a:ext cx="3544920" cy="3573360"/>
          </a:xfrm>
          <a:custGeom>
            <a:avLst/>
            <a:gdLst/>
            <a:ahLst/>
            <a:rect l="l" t="t" r="r" b="b"/>
            <a:pathLst>
              <a:path w="2233" h="2251">
                <a:moveTo>
                  <a:pt x="0" y="2251"/>
                </a:moveTo>
                <a:lnTo>
                  <a:pt x="2233" y="0"/>
                </a:lnTo>
              </a:path>
            </a:pathLst>
          </a:custGeom>
          <a:noFill/>
          <a:ln w="3816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770280" y="2786040"/>
            <a:ext cx="3009960" cy="2981520"/>
          </a:xfrm>
          <a:custGeom>
            <a:avLst/>
            <a:gdLst/>
            <a:ahLst/>
            <a:rect l="l" t="t" r="r" b="b"/>
            <a:pathLst>
              <a:path w="1896" h="1878">
                <a:moveTo>
                  <a:pt x="0" y="0"/>
                </a:moveTo>
                <a:lnTo>
                  <a:pt x="1896" y="1878"/>
                </a:lnTo>
              </a:path>
            </a:pathLst>
          </a:custGeom>
          <a:noFill/>
          <a:ln w="381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937040" y="3981600"/>
            <a:ext cx="14400" cy="1322280"/>
          </a:xfrm>
          <a:custGeom>
            <a:avLst/>
            <a:gdLst/>
            <a:ahLst/>
            <a:rect l="l" t="t" r="r" b="b"/>
            <a:pathLst>
              <a:path w="9" h="833">
                <a:moveTo>
                  <a:pt x="9" y="833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716360" y="5877000"/>
            <a:ext cx="3310200" cy="71892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fefefe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Georgia"/>
              </a:rPr>
              <a:t>Ответ:  х =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7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0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7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1000"/>
                            </p:stCondLst>
                            <p:childTnLst>
                              <p:par>
                                <p:cTn id="25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2.77521E-006 L -0.2125 0.09782 E">
                                      <p:cBhvr>
                                        <p:cTn id="260" dur="2000" fill="hold"/>
                                        <p:tgtEl>
                                          <p:spTgt spid="1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7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1000"/>
                            </p:stCondLst>
                            <p:childTnLst>
                              <p:par>
                                <p:cTn id="26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2.77521E-006 L 0.2757 0.09782 E">
                                      <p:cBhvr>
                                        <p:cTn id="270" dur="2000" fill="hold"/>
                                        <p:tgtEl>
                                          <p:spTgt spid="1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7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9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4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1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fefe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395280" y="260280"/>
            <a:ext cx="2519280" cy="71928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fefefe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Georgia"/>
              </a:rPr>
              <a:t>Зада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0" y="1052640"/>
          <a:ext cx="5421240" cy="580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052640"/>
                    <a:ext cx="5421240" cy="580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0" name=""/>
          <p:cNvSpPr/>
          <p:nvPr/>
        </p:nvSpPr>
        <p:spPr>
          <a:xfrm>
            <a:off x="3708360" y="260280"/>
            <a:ext cx="4969080" cy="115272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fefefe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Georgia"/>
              </a:rPr>
              <a:t>Определите, како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Georgia"/>
              </a:rPr>
              <a:t>уравнение  решен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4000" y="2405160"/>
            <a:ext cx="3797280" cy="4319640"/>
          </a:xfrm>
          <a:custGeom>
            <a:avLst/>
            <a:gdLst/>
            <a:ahLst/>
            <a:rect l="l" t="t" r="r" b="b"/>
            <a:pathLst>
              <a:path w="2392" h="2721">
                <a:moveTo>
                  <a:pt x="0" y="0"/>
                </a:moveTo>
                <a:lnTo>
                  <a:pt x="2392" y="2721"/>
                </a:lnTo>
              </a:path>
            </a:pathLst>
          </a:custGeom>
          <a:noFill/>
          <a:ln w="4752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38040" y="1476360"/>
            <a:ext cx="4051440" cy="4629240"/>
          </a:xfrm>
          <a:custGeom>
            <a:avLst/>
            <a:gdLst/>
            <a:ahLst/>
            <a:rect l="l" t="t" r="r" b="b"/>
            <a:pathLst>
              <a:path w="2552" h="2916">
                <a:moveTo>
                  <a:pt x="2552" y="0"/>
                </a:moveTo>
                <a:lnTo>
                  <a:pt x="0" y="2916"/>
                </a:lnTo>
              </a:path>
            </a:pathLst>
          </a:custGeom>
          <a:noFill/>
          <a:ln w="4752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012000" y="2205000"/>
            <a:ext cx="2520720" cy="792360"/>
            <a:chOff x="6012000" y="2205000"/>
            <a:chExt cx="2520720" cy="792360"/>
          </a:xfrm>
        </p:grpSpPr>
        <p:sp>
          <p:nvSpPr>
            <p:cNvPr id="184" name=""/>
            <p:cNvSpPr/>
            <p:nvPr/>
          </p:nvSpPr>
          <p:spPr>
            <a:xfrm>
              <a:off x="6012000" y="2205000"/>
              <a:ext cx="2520720" cy="792360"/>
            </a:xfrm>
            <a:prstGeom prst="rect">
              <a:avLst/>
            </a:prstGeom>
            <a:gradFill rotWithShape="0">
              <a:gsLst>
                <a:gs pos="0">
                  <a:srgbClr val="66ff66"/>
                </a:gs>
                <a:gs pos="50000">
                  <a:srgbClr val="fefefe"/>
                </a:gs>
                <a:gs pos="100000">
                  <a:srgbClr val="66ff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5" name=""/>
                <p:cNvSpPr txBox="1"/>
                <p:nvPr/>
              </p:nvSpPr>
              <p:spPr>
                <a:xfrm>
                  <a:off x="6156360" y="2276640"/>
                  <a:ext cx="2209680" cy="714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у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х</m:t>
                      </m:r>
                      <m:r>
                        <m:t xml:space="preserve">−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86" name=""/>
          <p:cNvGrpSpPr/>
          <p:nvPr/>
        </p:nvGrpSpPr>
        <p:grpSpPr>
          <a:xfrm>
            <a:off x="6012000" y="3284640"/>
            <a:ext cx="2520720" cy="792000"/>
            <a:chOff x="6012000" y="3284640"/>
            <a:chExt cx="2520720" cy="792000"/>
          </a:xfrm>
        </p:grpSpPr>
        <p:sp>
          <p:nvSpPr>
            <p:cNvPr id="187" name=""/>
            <p:cNvSpPr/>
            <p:nvPr/>
          </p:nvSpPr>
          <p:spPr>
            <a:xfrm>
              <a:off x="6012000" y="3284640"/>
              <a:ext cx="2520720" cy="79200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50000">
                  <a:srgbClr val="fefefe"/>
                </a:gs>
                <a:gs pos="100000">
                  <a:srgbClr val="ffff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8" name=""/>
                <p:cNvSpPr txBox="1"/>
                <p:nvPr/>
              </p:nvSpPr>
              <p:spPr>
                <a:xfrm>
                  <a:off x="6265800" y="3355920"/>
                  <a:ext cx="1989360" cy="713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у</m:t>
                      </m:r>
                      <m:r>
                        <m:t xml:space="preserve">=</m:t>
                      </m:r>
                      <m:r>
                        <m:t xml:space="preserve">х</m:t>
                      </m:r>
                      <m:r>
                        <m:t xml:space="preserve">+</m:t>
                      </m:r>
                      <m:r>
                        <m:t xml:space="preserve">3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89" name=""/>
          <p:cNvGrpSpPr/>
          <p:nvPr/>
        </p:nvGrpSpPr>
        <p:grpSpPr>
          <a:xfrm>
            <a:off x="3276720" y="5734080"/>
            <a:ext cx="5545080" cy="719280"/>
            <a:chOff x="3276720" y="5734080"/>
            <a:chExt cx="5545080" cy="719280"/>
          </a:xfrm>
        </p:grpSpPr>
        <p:sp>
          <p:nvSpPr>
            <p:cNvPr id="190" name=""/>
            <p:cNvSpPr/>
            <p:nvPr/>
          </p:nvSpPr>
          <p:spPr>
            <a:xfrm>
              <a:off x="3276720" y="5734080"/>
              <a:ext cx="5545080" cy="719280"/>
            </a:xfrm>
            <a:prstGeom prst="rect">
              <a:avLst/>
            </a:prstGeom>
            <a:gradFill rotWithShape="0">
              <a:gsLst>
                <a:gs pos="0">
                  <a:srgbClr val="99cc00"/>
                </a:gs>
                <a:gs pos="50000">
                  <a:srgbClr val="fefefe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Georgia"/>
                </a:rPr>
                <a:t>Ответ: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1" name=""/>
                <p:cNvSpPr txBox="1"/>
                <p:nvPr/>
              </p:nvSpPr>
              <p:spPr>
                <a:xfrm>
                  <a:off x="5437080" y="5734080"/>
                  <a:ext cx="3239640" cy="662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х</m:t>
                      </m:r>
                      <m:r>
                        <m:t xml:space="preserve">−</m:t>
                      </m:r>
                      <m:r>
                        <m:t xml:space="preserve">1</m:t>
                      </m:r>
                      <m:r>
                        <m:t xml:space="preserve">=</m:t>
                      </m:r>
                      <m:r>
                        <m:t xml:space="preserve">х</m:t>
                      </m:r>
                      <m:r>
                        <m:t xml:space="preserve">+</m:t>
                      </m:r>
                      <m:r>
                        <m:t xml:space="preserve">3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0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0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0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1000"/>
                            </p:stCondLst>
                            <p:childTnLst>
                              <p:par>
                                <p:cTn id="33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1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5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4T07:28:13Z</dcterms:created>
  <dc:creator>Admin</dc:creator>
  <dc:description/>
  <dc:language>en-US</dc:language>
  <cp:lastModifiedBy>Admin</cp:lastModifiedBy>
  <dcterms:modified xsi:type="dcterms:W3CDTF">2010-06-14T20:58:37Z</dcterms:modified>
  <cp:revision>5</cp:revision>
  <dc:subject/>
  <dc:title>Слайд 1</dc:title>
</cp:coreProperties>
</file>