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536-B6C9-4274-88AD-1E4809D3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4BF-CD70-4BFD-BA72-8D434314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391-E921-44AD-B2FC-11F7C2E2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490-583B-4868-8AD5-EB7FFBB7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AB9-6BA9-47E5-B361-F63938A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CAB-47D4-46FA-B3B3-FC1FF89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AD5-27E8-43A3-9B7A-A7696A6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E3F-CC9B-4131-A1EB-004380D7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163-7445-4E9C-8DAF-9FB91D2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500-80CD-41BC-84A8-857D38CC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A4F-7256-4D2A-975F-74021A6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A7B-81CC-4C56-B460-1E2AA5F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9F5-35F0-4198-BA72-3A7C420B6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404640"/>
            <a:ext cx="85694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efef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/>
            <a:ahLst/>
            <a:rect l="l" t="t" r="r" b="b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-576360" y="2133720"/>
            <a:ext cx="2055600" cy="1023480"/>
            <a:chOff x="-576360" y="2133720"/>
            <a:chExt cx="2055600" cy="1023480"/>
          </a:xfrm>
        </p:grpSpPr>
        <p:sp>
          <p:nvSpPr>
            <p:cNvPr id="280" name=""/>
            <p:cNvSpPr/>
            <p:nvPr/>
          </p:nvSpPr>
          <p:spPr>
            <a:xfrm>
              <a:off x="-57636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-2232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1368360" y="1773360"/>
            <a:ext cx="2382480" cy="1985400"/>
            <a:chOff x="1368360" y="1773360"/>
            <a:chExt cx="2382480" cy="1985400"/>
          </a:xfrm>
        </p:grpSpPr>
        <p:sp>
          <p:nvSpPr>
            <p:cNvPr id="283" name=""/>
            <p:cNvSpPr/>
            <p:nvPr/>
          </p:nvSpPr>
          <p:spPr>
            <a:xfrm>
              <a:off x="157608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136836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/>
            <a:ahLst/>
            <a:rect l="l" t="t" r="r" b="b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67640" y="3429000"/>
            <a:ext cx="12600" cy="1692360"/>
          </a:xfrm>
          <a:custGeom>
            <a:avLst/>
            <a:gdLst/>
            <a:ahLst/>
            <a:rect l="l" t="t" r="r" b="b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4375080"/>
            <a:ext cx="1800" cy="71748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"/>
          <p:cNvSpPr/>
          <p:nvPr/>
        </p:nvSpPr>
        <p:spPr>
          <a:xfrm>
            <a:off x="4108320" y="2911320"/>
            <a:ext cx="4768920" cy="1800"/>
          </a:xfrm>
          <a:custGeom>
            <a:avLst/>
            <a:gdLst/>
            <a:ahLst/>
            <a:rect l="l" t="t" r="r" b="b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1760" y="2911320"/>
            <a:ext cx="14400" cy="1814760"/>
          </a:xfrm>
          <a:custGeom>
            <a:avLst/>
            <a:gdLst/>
            <a:ahLst/>
            <a:rect l="l" t="t" r="r" b="b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/>
            <a:ahLst/>
            <a:rect l="l" t="t" r="r" b="b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/>
            <a:ahLst/>
            <a:rect l="l" t="t" r="r" b="b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2436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696000" y="4614840"/>
            <a:ext cx="14400" cy="111240"/>
          </a:xfrm>
          <a:custGeom>
            <a:avLst/>
            <a:gdLst/>
            <a:ahLst/>
            <a:rect l="l" t="t" r="r" b="b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/>
            <a:ahLst/>
            <a:rect l="l" t="t" r="r" b="b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4290840"/>
            <a:ext cx="1440" cy="43524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16480" y="2940120"/>
            <a:ext cx="14040" cy="1758960"/>
          </a:xfrm>
          <a:custGeom>
            <a:avLst/>
            <a:gdLst/>
            <a:ahLst/>
            <a:rect l="l" t="t" r="r" b="b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/>
            <a:ahLst/>
            <a:rect l="l" t="t" r="r" b="b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295960" y="5877000"/>
                  <a:ext cx="34243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/>
            <a:ahLst/>
            <a:rect l="l" t="t" r="r" b="b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/>
            <a:ahLst/>
            <a:rect l="l" t="t" r="r" b="b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3981600"/>
            <a:ext cx="14400" cy="1322280"/>
          </a:xfrm>
          <a:custGeom>
            <a:avLst/>
            <a:gdLst/>
            <a:ahLst/>
            <a:rect l="l" t="t" r="r" b="b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/>
            <a:ahLst/>
            <a:rect l="l" t="t" r="r" b="b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/>
            <a:ahLst/>
            <a:rect l="l" t="t" r="r" b="b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efefe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37080" y="5734080"/>
                  <a:ext cx="323964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0-06-14T20:58:37Z</dcterms:modified>
  <cp:revision>5</cp:revision>
  <dc:subject/>
  <dc:title>Слайд 1</dc:title>
</cp:coreProperties>
</file>