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545-00C9-4AD9-9179-A062ED51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F50-1D01-4C32-B213-0F950B63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0F4-69B0-4E98-BE8C-C0A085D4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1BA-6C40-47D3-8FE7-B447425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EC9D6-5753-4BF5-8359-CFE5A410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B6BA8-75ED-4CAF-A52B-614BB161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A9A97-D1B2-4F8D-8C11-565EE01D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2006C-C819-4AEC-B92E-EBACCA78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FC238-6AC6-4656-88B1-88BAB1D0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AA04E-34C0-4C4A-BCE6-4D82F47F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CE03B-87E8-4CAF-A935-FDC56FD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CC3-B588-437D-9715-74E5C71A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CC12B-51B4-414D-BDDF-57FEBF8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DC15-B514-49DD-AF02-58207F1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170B1-6366-4124-B56F-37E7DA9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E4BA3-D192-4204-A299-BBDD44FF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5750F-0F1A-4D44-8A40-F87E856D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EA5-8856-479F-A7EC-483E613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921-9346-443F-B222-3089809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452-E8DC-4C6B-9F1B-0EEEC952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33E-B647-4687-915B-D229BF6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B38-AA5D-4370-962F-3B72C20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5E6-16FA-462E-A05D-3D8D320E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E06-8FB4-463E-B4EB-BFA6E096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3B0-6D47-418A-967A-6DBEB34DC2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C67-E547-4CA8-B773-4C45C4A3143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12-бальная шкала для оценки силы землетрясени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следствия землетря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3_75" descr="3.jpg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ейсмограф Чжана Хен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635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65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447920" y="609480"/>
          <a:ext cx="6357960" cy="5562000"/>
        </p:xfrm>
        <a:graphic>
          <a:graphicData uri="http://schemas.openxmlformats.org/drawingml/2006/table">
            <a:tbl>
              <a:tblPr/>
              <a:tblGrid>
                <a:gridCol w="6357960"/>
              </a:tblGrid>
              <a:tr h="55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временные сейсмограф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238880" cy="4257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524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авила поведения при землетрясения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медленно перейдите в безопасное место в квартире, подальше от окон и тяжелой мебели - станьте в дверном проеме или капитальной стен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ытаясь выйти из многоэтажного дома, не пользуйтесь лифт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вы находитесь в малоэтажном здании, то лучше его покинуть. Выбежав из здания, немедленно отойдите от него на открытое мест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удьте готовы испытать повторные толчки, способные вызвать дополнительные разруш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араграф 18 прочитать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* сообщение об одном из землетрясений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мечается только чувствительными сейсмоприбор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отдельными людьми, находящимися в со­стоянии полного покоя, особенно в верхних этажах зда­ний. Предметы, подвешенные в верхних этажах на тон­ких шнурах, раскачиваю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лишь небольшой частью населения. Слабая вибрация как от прошедшей поблизости грузовой авто­ма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щущается многими из тех, кто находится в помещени­ях, и лишь немногими на открытом воздух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щущается почти всеми. Общее сотрясение зданий, ко­лебание мебели, деревьев, раскачивание столбов и дру­гих высоких предметов, трещины в оконных стеклах и штукатур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щущается всеми. Смещается тяжелая мебель, в неко­торых местах осыпается штукатурка, падают картины со стен, книги с полок. Повреждения построек неопас­ного харак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бель опрокидывается. В водоемах сильное волнение. Антисейсмичные и деревянные постройки остаются не­вредимыми. В каменных, хорошо выстроенных зданиях повреждения от легких до умеренных, в плохо выстро­енных — значитель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зданиях, возведенных по специальным проектам, — легкие повреждения, в типовых зданиях — значитель­ные повреждения. Легкие трещины на крутых склонах. Часть деревьев ломается. Опрокидываются печные и фабричные трубы, колон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ольшие повреждения и разрушения каменных зданий. Старые деревянные дома кривятся. Значительные тре­щины на земной поверхности. Разрывы трубопров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менные дома разрушаются с фундаментом. Деревян­ные — сильно повреждаются. Крупные трещины в поч­ве, значительные оползни и обвалы. Слабое искривле­ние железнодорожных и трамвайных рельсов. Вода вы­плескивается из водое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рушаются все каменные здания и большинство дере­вянных. Рушатся мосты. Полные разрушения насыпей и плотин. Сильное искривление железнодорожных и трамвайных рельсов. Полное разрушение трубопрово­дов. Широкие трещины в зем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Тотальные разрушения. Поверхность земли покрывает­ся значительными трещинами. Изменяется линия гори­зонта, отклоняется течение рек, образуются водопады, провалы в озер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оследствия землятресе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1_100" descr="1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2_86" descr="2.jpg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2-08T06:13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