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4DE-C5FF-45EB-BFA3-9BD9D9AE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C3A-0C34-441D-B520-E69F446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BF8-3BC3-4069-8C77-19E49D7B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6AE-0C0F-40BC-AD5A-59508AC0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8814B-92BB-4FCB-A6F0-0FBBA390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B3B4C-15B7-4786-923A-2A199242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ACD0E-6278-4E2D-B444-DD3692B9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39DC4-CA02-412B-91D2-EEDFB42E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2754E-2AC5-481B-817F-8C9787E2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6BA1E-4451-4BCC-B319-71073E8F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3D4F1-C26C-4D3A-90BB-DC2AB46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0A4-5E8C-45D5-971D-1C3C55B3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1BA28-81D5-4FFA-A028-CE6B6E98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0912E-EDEA-4561-A613-C269283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675FB-EE35-4706-8C09-7277A7BF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E1C0E-C5C7-4429-8B4E-ED23C28A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CC844-45E5-4E64-82C6-55FD8603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209-8A93-4528-B366-75E53B2D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B1F-6506-485C-B7F0-D04D7DEB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6D7-C106-4E66-9CC1-88525F7D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9F9-FF25-4DF1-9767-85C93289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77B-C270-448E-A3E1-B308D08A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B2E-B644-4C7D-81AF-CD6A2314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B25-92F5-4E36-BB84-6C17A2C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4047-44A4-4FC6-9FBA-C637975FDB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F98-7B56-4C34-931E-0EF2613BD4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12-бальная шкала для оценки силы землетрясения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следствия землетряс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3_75" descr="3.jpg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ейсмограф Чжана Хен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35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65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447920" y="609480"/>
          <a:ext cx="6357960" cy="556200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55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временные сейсмогра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238880" cy="4257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524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авила поведения при землетрясения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медленно перейдите в безопасное место в квартире, подальше от окон и тяжелой мебели - станьте в дверном проеме или капитальной стен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ытаясь выйти из многоэтажного дома, не пользуйтесь лифт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ы находитесь в малоэтажном здании, то лучше его покинуть. Выбежав из здания, немедленно отойдите от него на открытое мест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удьте готовы испытать повторные толчки, способные вызвать дополнительные разруш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араграф 18 прочитать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* сообщение об одном из землетрясений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мечается только чувствительными сейсмоприбор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щущается отдельными людьми, находящимися в со­стоянии полного покоя, особенно в верхних этажах зда­ний. Предметы, подвешенные в верхних этажах на тон­ких шнурах, раскачиваю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щущается лишь небольшой частью населения. Слабая вибрация как от прошедшей поблизости грузовой авто­ма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щущается многими из тех, кто находится в помещени­ях, и лишь немногими на открытом воздух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щущается почти всеми. Общее сотрясение зданий, ко­лебание мебели, деревьев, раскачивание столбов и дру­гих высоких предметов, трещины в оконных стеклах и штукатур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щущается всеми. Смещается тяжелая мебель, в неко­торых местах осыпается штукатурка, падают картины со стен, книги с полок. Повреждения построек неопас­ного харак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ебель опрокидывается. В водоемах сильное волнение. Антисейсмичные и деревянные постройки остаются не­вредимыми. В каменных, хорошо выстроенных зданиях повреждения от легких до умеренных, в плохо выстро­енных — значитель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зданиях, возведенных по специальным проектам, — легкие повреждения, в типовых зданиях — значитель­ные повреждения. Легкие трещины на крутых склонах. Часть деревьев ломается. Опрокидываются печные и фабричные трубы, колон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ольшие повреждения и разрушения каменных зданий. Старые деревянные дома кривятся. Значительные тре­щины на земной поверхности. Разрывы трубопров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менные дома разрушаются с фундаментом. Деревян­ные — сильно повреждаются. Крупные трещины в поч­ве, значительные оползни и обвалы. Слабое искривле­ние железнодорожных и трамвайных рельсов. Вода вы­плескивается из водое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зрушаются все каменные здания и большинство дере­вянных. Рушатся мосты. Полные разрушения насыпей и плотин. Сильное искривление железнодорожных и трамвайных рельсов. Полное разрушение трубопрово­дов. Широкие трещины в зем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отальные разрушения. Поверхность земли покрывает­ся значительными трещинами. Изменяется линия гори­зонта, отклоняется течение рек, образуются водопады, провалы в озер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следствия землятрес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1_100" descr="1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2_86" descr="2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8T06:13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