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7C8-248B-42B9-ADF7-1C2F904D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9FD-41B1-4EF1-AB75-5AEC3B03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39C-6AF2-413D-958B-D20AF524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5B9-5EE8-4F37-8F9F-8DB7EF00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89616-623B-4554-A1D8-D421B14F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2736C-5BAB-409C-92FD-3A21D83E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BAC61-28AE-4F56-A7F6-5E40EAF1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96C91-5D41-40FC-904A-ED48C4C1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E47B2-EAE3-48AB-B3FE-9D5F564F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DB3F0-A357-474D-BE71-01DE5CCF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9109A-A1FC-449F-8FC0-9B43215C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4E5-DA58-4577-8BC0-878344F0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566BD-746E-47DA-B1FF-4F418F70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C8B89-C8C5-466C-A7AF-B643D483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3BF00-2B7B-4DAC-BD30-73F2BB59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8127F-0FE5-4343-A047-357EA241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4C3C8-C6AA-4B5B-BDAB-6C4C944E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FD2-67F0-4B29-BC13-1A2C1C36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D61-5814-4378-98A7-A3BF9936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BE6-2BF7-4E79-9CFF-FA4C3DDC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959-0747-4F6E-9FC7-ED78DD36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64E-2411-4F4D-A7BC-1C71B917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84C-EF0C-462D-A305-4B134D38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D09-982D-41B9-A210-6FB599F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D4C-AD02-4592-9962-A5B75E8B00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EACE-469B-41BB-87EE-81D24C1EAA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12-бальная шкала для оценки силы землетрясения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следствия землетряс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3_75" descr="3.jpg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ейсмограф Чжана Хен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35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65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447920" y="609480"/>
          <a:ext cx="6357960" cy="556200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55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временные сейсмогра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238880" cy="4257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524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авила поведения при землетрясения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медленно перейдите в безопасное место в квартире, подальше от окон и тяжелой мебели - станьте в дверном проеме или капитальной стен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ытаясь выйти из многоэтажного дома, не пользуйтесь лифт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ы находитесь в малоэтажном здании, то лучше его покинуть. Выбежав из здания, немедленно отойдите от него на открытое мест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удьте готовы испытать повторные толчки, способные вызвать дополнительные разруш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араграф 18 прочитать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* сообщение об одном из землетрясений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мечается только чувствительными сейсмоприбор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щущается отдельными людьми, находящимися в со­стоянии полного покоя, особенно в верхних этажах зда­ний. Предметы, подвешенные в верхних этажах на тон­ких шнурах, раскачиваю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щущается лишь небольшой частью населения. Слабая вибрация как от прошедшей поблизости грузовой авто­ма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щущается многими из тех, кто находится в помещени­ях, и лишь немногими на открытом воздух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щущается почти всеми. Общее сотрясение зданий, ко­лебание мебели, деревьев, раскачивание столбов и дру­гих высоких предметов, трещины в оконных стеклах и штукатур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щущается всеми. Смещается тяжелая мебель, в неко­торых местах осыпается штукатурка, падают картины со стен, книги с полок. Повреждения построек неопас­ного харак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ебель опрокидывается. В водоемах сильное волнение. Антисейсмичные и деревянные постройки остаются не­вредимыми. В каменных, хорошо выстроенных зданиях повреждения от легких до умеренных, в плохо выстро­енных — значитель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зданиях, возведенных по специальным проектам, — легкие повреждения, в типовых зданиях — значитель­ные повреждения. Легкие трещины на крутых склонах. Часть деревьев ломается. Опрокидываются печные и фабричные трубы, колон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ольшие повреждения и разрушения каменных зданий. Старые деревянные дома кривятся. Значительные тре­щины на земной поверхности. Разрывы трубопров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менные дома разрушаются с фундаментом. Деревян­ные — сильно повреждаются. Крупные трещины в поч­ве, значительные оползни и обвалы. Слабое искривле­ние железнодорожных и трамвайных рельсов. Вода вы­плескивается из водое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зрушаются все каменные здания и большинство дере­вянных. Рушатся мосты. Полные разрушения насыпей и плотин. Сильное искривление железнодорожных и трамвайных рельсов. Полное разрушение трубопрово­дов. Широкие трещины в зем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отальные разрушения. Поверхность земли покрывает­ся значительными трещинами. Изменяется линия гори­зонта, отклоняется течение рек, образуются водопады, провалы в озер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следствия землятрес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1_100" descr="1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2_86" descr="2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8T06:13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