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9.gif" ContentType="image/gif"/>
  <Override PartName="/ppt/media/image2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ED0-189A-46D1-AF01-997B9AD6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12B-F5DA-4E3A-A098-6DF3965D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A7F07-1779-4B14-89C0-EC68D71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7204C-A252-4657-9C84-2DAA4378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18410-38BC-4512-AEA4-575213FB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0F85B-9059-4590-BE43-9B3A0F9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36C85-46AF-4C9F-BEFF-B877B16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FE0BF-FB56-4CB2-B68B-0EA0FC79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C055-9E78-4F95-8D31-178CB15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3CCC9-1605-479F-8EDC-6933C2D6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0E099-0F5A-48B4-8CA3-00EF9C5B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A34-953B-41C0-BA5C-490B44C6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16A-D3A4-4D29-A614-B82D5E85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0018-76C8-40E5-AA5A-CCF29857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4E2F-30A0-48EC-BD84-1C5183D0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DC6-83CA-4B2D-8B33-4B87375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C582-6BE1-4087-B415-F66F137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5920-D53F-41AE-842F-EDCA8E96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827-A4FE-4BBB-B714-6FA377B7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4DBD-6C83-4CDD-9747-521435D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807-66C2-4537-93F1-83637A85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687B-28F0-481E-8A30-001D3F8B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2229-517C-46B5-9477-D77BB9B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4897-E88B-4404-8C87-333D34E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4D6-0326-4A08-BD81-67E9D260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2873-997A-4697-BC0A-21076767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DFA2-3152-4833-9FC1-9DB31044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8DE2-F101-4B6D-A1F5-96A8BD7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A7CD-AF0C-49E2-ACBD-234334D9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D955-2C7E-458F-A127-30C8651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4421-9075-47BA-964D-48E54B8F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489-134B-46DB-9802-3B8DCBFD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40D9-9499-42F3-99C8-ACF7085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B94A-4953-4F9D-8E34-EE33FE87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713F-0A11-4AD7-8A21-F09BF7B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CECC-1EC7-4D17-A024-0A9591B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E614-791D-41ED-BB4B-AB8B02B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FE7E-8A43-4E5F-9DE8-C22A2D4B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EB9D-F3F0-4502-9876-799421B1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1F76-7683-47B2-BA7A-9BC5E391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D6DB-C51B-4C84-BEB6-21C2F12C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186C-6426-4F09-89A7-C80CCA60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07F-941B-4ECA-B691-778AE00A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DDDB-1680-423D-B79E-466672B2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A25F-8EC7-4585-8FE2-D81E3851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DDDF-BE15-4041-86F1-F18AE2D7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C95C-5E6E-4A33-9F40-D88254E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781F-A9A5-49C7-BEA5-5D3BF3AD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CEAC-3AC3-4E8C-96D2-70075DA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82AD-D572-4125-B0D2-6AFB99D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AEC6-7B6B-48DD-8535-EBF89D0A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C56A-EA17-4309-B991-2AD3F025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9996-9B52-4935-AC35-F6A2A7CD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4E5-FD3F-4594-853F-15C6723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F5BF-1E87-40F6-A8C1-8A156FA4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9075-D0F8-4633-A4CE-3E924B4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E65DD-3336-4B1C-80AC-290D699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79FF-2EB9-47EE-B918-6B01112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D542A-43A4-4159-8508-C1FD5F7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C803-1B72-4526-8D82-13A11A2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79ECA-F1CB-4665-96CB-634406C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2063-F002-47D9-B8D0-1D9FC82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EA03D-A391-4ADC-B8D4-4CF30CBA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07D92-6E10-4FF7-9EAB-5D15F685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7FE-7A28-4BCC-A0CC-7CC4AFD2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2D77-9449-4A02-BF6D-1B1AAF7E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52320-92A0-4397-8F28-79AA52BD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3F370-FEC6-4D2C-B548-2DEDC637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7293-ED1A-4F83-9B45-1AADFFB8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E3096-C277-4968-A49E-E627690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E996-B793-43DD-BCF5-F0884F54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2F565-408F-4B06-AFB8-338A0A4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9B035-E9EA-4E4D-AEE5-84B2492E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A5C37-B645-42FD-AC5A-BAB2234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B63C-FCFC-4729-B215-E1FBEB2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697-59F2-4A75-9436-1E01F067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A39A-02F7-4311-A5C6-4E2572F2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F90B-A4E6-496F-8E4E-B64B2DFB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4060F-4BCE-47DE-B177-D868307A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2CC6-BA80-4A63-A39E-36BA4AD8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2E0F0-488E-4E57-A914-ED8F0D93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F8CC4-AE8D-4860-82F5-7F91F0E4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BDA36-1E28-45D5-9B12-9BB4FA8E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20A66-9903-4BC3-8A78-0AF136F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4A867-8129-4756-BFDB-45D40F49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2B742-6FCD-4FB6-838E-7745115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9E8-C713-44FD-850A-BF58736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2BD6D-362F-4BCE-A9A3-A7CCB50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8205C-C03E-42FD-99D6-538E83E6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B3182-C1CF-489A-B687-0539CAD3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A782-91AD-4929-B33B-D9D0CE1F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3629-7F61-467D-9EB1-30B5897B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6CF3-5EA6-4F8D-AD6F-01F82BC7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EDE63-5A01-4FA8-AE2A-3B90306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05216-B3B2-40E5-9A61-163C82A5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8437-CA97-43E9-882B-EB9EB97D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CF3C9-CDD3-4104-8A21-FA44CD9A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618-EBE9-4AFF-BD73-4DE687C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9D86A-6085-488B-B50B-9DD0B6C2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33517-5C92-4861-B0D6-3ADAB43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634CA-22F1-403A-A0E4-FE7337DF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094AA-97B3-4017-83D5-D6D933AD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99725-EFB4-43A9-91C3-451251E7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42D7D-21E7-4B39-BF18-E8C9BCD3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B05F3-EC2B-458D-9997-49D9E17B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0EB66-FFDC-46D3-85EA-E678EAFB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2A7FB-11A2-42AB-BD44-F405FAC8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A71BB-D8A7-4E0D-AA38-24440E46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FB26-48E5-4DAE-9C21-FBAA8BE50D78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C6B6-CCE2-4FCA-BDAD-57D2A70DE803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00E7-045B-4198-8E67-79CFF707B8EA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5569-E1D3-4F81-AA36-82B204AC1DB1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3286-0A18-4C80-B453-855732EBA88E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6F89-49AA-41D5-BD1B-44D2BF7C020B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E34-A7BC-4E2C-9065-33551D61181E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28B1-8FC1-424C-995B-D8A39A51730E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EF7-4B76-4BD3-9916-AA6EC970BC8E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kagaya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1000080" y="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                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Быть  взрослым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571680" y="578628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 по обществознанию в 7 класс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785880" y="63579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EVG3097@MAIL.RU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357120" y="17146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ВЫ   ВЫБЕРИТЕ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3" name="Picture 4" descr="ag00317_"/>
          <p:cNvPicPr/>
          <p:nvPr/>
        </p:nvPicPr>
        <p:blipFill>
          <a:blip r:embed="rId2"/>
          <a:stretch/>
        </p:blipFill>
        <p:spPr>
          <a:xfrm flipH="1">
            <a:off x="499680" y="2143080"/>
            <a:ext cx="2360520" cy="2463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3" descr="ag00029_"/>
          <p:cNvPicPr/>
          <p:nvPr/>
        </p:nvPicPr>
        <p:blipFill>
          <a:blip r:embed="rId3"/>
          <a:stretch/>
        </p:blipFill>
        <p:spPr>
          <a:xfrm>
            <a:off x="5286240" y="1428840"/>
            <a:ext cx="3488040" cy="37861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3143160" y="3071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890640"/>
          </a:xfrm>
          <a:prstGeom prst="rect">
            <a:avLst/>
          </a:prstGeom>
          <a:ln w="0">
            <a:noFill/>
          </a:ln>
        </p:spPr>
      </p:pic>
      <p:grpSp>
        <p:nvGrpSpPr>
          <p:cNvPr id="404" name="Прямоугольник 2"/>
          <p:cNvGrpSpPr/>
          <p:nvPr/>
        </p:nvGrpSpPr>
        <p:grpSpPr>
          <a:xfrm>
            <a:off x="249120" y="1322280"/>
            <a:ext cx="3073680" cy="4999320"/>
            <a:chOff x="249120" y="1322280"/>
            <a:chExt cx="3073680" cy="4999320"/>
          </a:xfrm>
        </p:grpSpPr>
        <p:pic>
          <p:nvPicPr>
            <p:cNvPr id="40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49120" y="1322280"/>
              <a:ext cx="307368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00040" y="1571760"/>
              <a:ext cx="2571840" cy="45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ДРОСТКОВЫЙ ПЕРИОД- ПЕРИОД  ВЗРОСЛЕНИЯ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7" name="Стрелка вправо 3"/>
          <p:cNvSpPr/>
          <p:nvPr/>
        </p:nvSpPr>
        <p:spPr>
          <a:xfrm>
            <a:off x="3286080" y="31431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08" name="Овал 4"/>
          <p:cNvGrpSpPr/>
          <p:nvPr/>
        </p:nvGrpSpPr>
        <p:grpSpPr>
          <a:xfrm>
            <a:off x="4748040" y="1176480"/>
            <a:ext cx="4359600" cy="4790880"/>
            <a:chOff x="4748040" y="1176480"/>
            <a:chExt cx="4359600" cy="4790880"/>
          </a:xfrm>
        </p:grpSpPr>
        <p:pic>
          <p:nvPicPr>
            <p:cNvPr id="409" name="Овал 4" descr=""/>
            <p:cNvPicPr/>
            <p:nvPr/>
          </p:nvPicPr>
          <p:blipFill>
            <a:blip r:embed="rId3"/>
            <a:stretch/>
          </p:blipFill>
          <p:spPr>
            <a:xfrm>
              <a:off x="4748040" y="1176480"/>
              <a:ext cx="435960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565600" y="2055960"/>
              <a:ext cx="272736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Р  ВЗРОСЛЫ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378000"/>
            <a:ext cx="5900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2" name="Прямоугольник 2"/>
          <p:cNvGrpSpPr/>
          <p:nvPr/>
        </p:nvGrpSpPr>
        <p:grpSpPr>
          <a:xfrm>
            <a:off x="176040" y="1395360"/>
            <a:ext cx="8577360" cy="1639800"/>
            <a:chOff x="176040" y="1395360"/>
            <a:chExt cx="8577360" cy="1639800"/>
          </a:xfrm>
        </p:grpSpPr>
        <p:pic>
          <p:nvPicPr>
            <p:cNvPr id="41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76040" y="1395360"/>
              <a:ext cx="85773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28760" y="1643040"/>
              <a:ext cx="8072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ТРЕМЛЕНИЕ  ЗАНЯТЬ МЕСТ О В МИРЕ ВЗРОСЛЫХ ПРИНИМАЯ  ИХ ИДЕИ,  ИДЕАЛЫ, И  СПОСОБ  САМОВЫРАЖЕНИЯ.. ПОСТЕПЕННО  ОНИ  СЧИТАЮТ  СЕБЯ РАВНЫМИ  ВЗРОСЛЫМ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5" name="Прямоугольник 3"/>
          <p:cNvGrpSpPr/>
          <p:nvPr/>
        </p:nvGrpSpPr>
        <p:grpSpPr>
          <a:xfrm>
            <a:off x="176040" y="2895480"/>
            <a:ext cx="8504280" cy="1785960"/>
            <a:chOff x="176040" y="2895480"/>
            <a:chExt cx="8504280" cy="1785960"/>
          </a:xfrm>
        </p:grpSpPr>
        <p:pic>
          <p:nvPicPr>
            <p:cNvPr id="41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76040" y="2895480"/>
              <a:ext cx="85042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28760" y="3143160"/>
              <a:ext cx="8001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ПОДРОСТКИ  ВЕДУТ  ВЗРОСЛЫЕ  РАЗГОВОРЫ НА  ЗАПРЕТНЫЕ  ПРЕЖДЕ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ТЕМЫ, СУДИТЬ О ПРАВИЛЬНОСТИ  СУПРУЖЕ СКИХ  ОТНОШЕНИЙ. Соревнование   в физической  силе  с взрослыми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8" name="Прямоугольник 4"/>
          <p:cNvGrpSpPr/>
          <p:nvPr/>
        </p:nvGrpSpPr>
        <p:grpSpPr>
          <a:xfrm>
            <a:off x="324000" y="4962600"/>
            <a:ext cx="8429400" cy="1785960"/>
            <a:chOff x="324000" y="4962600"/>
            <a:chExt cx="8429400" cy="1785960"/>
          </a:xfrm>
        </p:grpSpPr>
        <p:pic>
          <p:nvPicPr>
            <p:cNvPr id="419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24000" y="4962600"/>
              <a:ext cx="84294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71680" y="5214960"/>
              <a:ext cx="7929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нимание  легко  переключается  с предмета  на  предмет, подростки  непоследовательны  в своих  поступках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Franklin Gothic Book"/>
                </a:rPr>
                <a:t>ОНИ  НЕПРЕДСКАЗУЕМЫ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8906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2"/>
          <p:cNvSpPr/>
          <p:nvPr/>
        </p:nvSpPr>
        <p:spPr>
          <a:xfrm>
            <a:off x="531360" y="1523880"/>
            <a:ext cx="59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 ПРОБЛЕМА-  ЧТО  ТАКОЕ  ПРОИСХОДИТ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3" name="Рисунок 4" descr="042.jpeg"/>
          <p:cNvPicPr/>
          <p:nvPr/>
        </p:nvPicPr>
        <p:blipFill>
          <a:blip r:embed="rId2"/>
          <a:stretch/>
        </p:blipFill>
        <p:spPr>
          <a:xfrm>
            <a:off x="1066680" y="320040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33200" y="384120"/>
            <a:ext cx="886464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25" name="Прямоугольник 2"/>
          <p:cNvGrpSpPr/>
          <p:nvPr/>
        </p:nvGrpSpPr>
        <p:grpSpPr>
          <a:xfrm>
            <a:off x="195120" y="1262160"/>
            <a:ext cx="8686800" cy="1901880"/>
            <a:chOff x="195120" y="1262160"/>
            <a:chExt cx="8686800" cy="1901880"/>
          </a:xfrm>
        </p:grpSpPr>
        <p:pic>
          <p:nvPicPr>
            <p:cNvPr id="42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95120" y="1262160"/>
              <a:ext cx="8686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57120" y="1428840"/>
              <a:ext cx="835812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ЫБОР СОБСТВЕННОГО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8" name="Прямоугольник 3" descr=""/>
          <p:cNvPicPr/>
          <p:nvPr/>
        </p:nvPicPr>
        <p:blipFill>
          <a:blip r:embed="rId3"/>
          <a:stretch/>
        </p:blipFill>
        <p:spPr>
          <a:xfrm>
            <a:off x="122400" y="3548160"/>
            <a:ext cx="8759520" cy="23349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714240" y="22860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ЫБОР СОБСТВЕННОГО ПУТИ В ЖИЗНИ- САМАЯ  ВАЖНАЯ  ЗАДАЧА В ЭТОТ ПЕРИОД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407880"/>
            <a:ext cx="8699400" cy="878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ag00317_"/>
          <p:cNvPicPr/>
          <p:nvPr/>
        </p:nvPicPr>
        <p:blipFill>
          <a:blip r:embed="rId2"/>
          <a:stretch/>
        </p:blipFill>
        <p:spPr>
          <a:xfrm flipH="1">
            <a:off x="571320" y="1571760"/>
            <a:ext cx="2360520" cy="2392200"/>
          </a:xfrm>
          <a:prstGeom prst="rect">
            <a:avLst/>
          </a:prstGeom>
          <a:ln w="0">
            <a:noFill/>
          </a:ln>
        </p:spPr>
      </p:pic>
      <p:sp>
        <p:nvSpPr>
          <p:cNvPr id="432" name="Стрелка вправо 3"/>
          <p:cNvSpPr/>
          <p:nvPr/>
        </p:nvSpPr>
        <p:spPr>
          <a:xfrm>
            <a:off x="2928960" y="24289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3" name="Рисунок 5" descr="2147233189480a3ff764f4a.gif"/>
          <p:cNvPicPr/>
          <p:nvPr/>
        </p:nvPicPr>
        <p:blipFill>
          <a:blip r:embed="rId3"/>
          <a:stretch/>
        </p:blipFill>
        <p:spPr>
          <a:xfrm>
            <a:off x="5286240" y="1571760"/>
            <a:ext cx="2143440" cy="2428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4" name="TextBox 6"/>
          <p:cNvSpPr/>
          <p:nvPr/>
        </p:nvSpPr>
        <p:spPr>
          <a:xfrm>
            <a:off x="357120" y="450072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росток                                                                     юноша- связываю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деалы  с реальностью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 равнение  возможного                                                перестают  парить  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 реальным приводит  подростка                                 облаках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 бунтарств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33200" y="396720"/>
            <a:ext cx="8864640" cy="9986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2"/>
          <p:cNvSpPr/>
          <p:nvPr/>
        </p:nvSpPr>
        <p:spPr>
          <a:xfrm>
            <a:off x="214200" y="1428840"/>
            <a:ext cx="85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Воспитание  подростка  и маленького ребенка  сильно различаютс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7" name="Рисунок 3" descr="2147233189480a3ff764f4a.gif"/>
          <p:cNvPicPr/>
          <p:nvPr/>
        </p:nvPicPr>
        <p:blipFill>
          <a:blip r:embed="rId2"/>
          <a:stretch/>
        </p:blipFill>
        <p:spPr>
          <a:xfrm>
            <a:off x="857160" y="2071800"/>
            <a:ext cx="3143520" cy="19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8" name="Стрелка вправо 4"/>
          <p:cNvSpPr/>
          <p:nvPr/>
        </p:nvSpPr>
        <p:spPr>
          <a:xfrm>
            <a:off x="4286160" y="2786040"/>
            <a:ext cx="689040" cy="2858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5"/>
          <p:cNvSpPr/>
          <p:nvPr/>
        </p:nvSpPr>
        <p:spPr>
          <a:xfrm>
            <a:off x="5286240" y="2000160"/>
            <a:ext cx="3857760" cy="4572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сихологи советуют предоставлять подросткам больше  свободы и принимать их  во взрослую  жизн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1" name="Прямоугольник 2"/>
          <p:cNvGrpSpPr/>
          <p:nvPr/>
        </p:nvGrpSpPr>
        <p:grpSpPr>
          <a:xfrm>
            <a:off x="109440" y="1395360"/>
            <a:ext cx="8710560" cy="1712880"/>
            <a:chOff x="109440" y="1395360"/>
            <a:chExt cx="8710560" cy="1712880"/>
          </a:xfrm>
        </p:grpSpPr>
        <p:pic>
          <p:nvPicPr>
            <p:cNvPr id="44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09440" y="1395360"/>
              <a:ext cx="87105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57120" y="1643040"/>
              <a:ext cx="821556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ЗРОСЛЕНИЕ ПОДРОСТКА ОПРЕДЕЛЯЕТСЯ  СТЕПЕНЬЮ  НЕЗАВИСИМОСТИ И СОЗНАНИЕМ  ОТВЕТСТВЕННОСТИ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44" name="Прямоугольник 3"/>
          <p:cNvGrpSpPr/>
          <p:nvPr/>
        </p:nvGrpSpPr>
        <p:grpSpPr>
          <a:xfrm>
            <a:off x="324000" y="3108240"/>
            <a:ext cx="8710560" cy="2427480"/>
            <a:chOff x="324000" y="3108240"/>
            <a:chExt cx="8710560" cy="2427480"/>
          </a:xfrm>
        </p:grpSpPr>
        <p:pic>
          <p:nvPicPr>
            <p:cNvPr id="44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24000" y="3108240"/>
              <a:ext cx="8710560" cy="24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571680" y="3357720"/>
              <a:ext cx="821520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ТЕПЕНЬ  И БЫСТРОТА ВЗРОСЛЕНИЯ ЗАВИСИТ ОТ: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НЕОБХОДИМОСТЬ  ТРУДА,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НЕОБХОДИМОСТЬ ЗАБОТЫ О БЛИЖНИХ И СЕМЬЕ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48" name="TextBox 2"/>
          <p:cNvSpPr/>
          <p:nvPr/>
        </p:nvSpPr>
        <p:spPr>
          <a:xfrm>
            <a:off x="571680" y="1643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ЧТО  ТАКОЕ   АЛЬТРУИЗМ?  С2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500040" y="257184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ТЕРЕСНЫЕ  ФАКТЫ. ЧТО ДЛЯ  ВАС ЛУЧШЕ В ВОСПИТАНИИ –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ОТВЕТСТВЕННОСТЬ  ИЛИ ПОДЧИНЕНИ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0" name="Рисунок 4" descr="013.jpeg"/>
          <p:cNvPicPr/>
          <p:nvPr/>
        </p:nvPicPr>
        <p:blipFill>
          <a:blip r:embed="rId2"/>
          <a:stretch/>
        </p:blipFill>
        <p:spPr>
          <a:xfrm>
            <a:off x="2071800" y="3214800"/>
            <a:ext cx="7072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ф</dc:creator>
  <dc:description/>
  <dc:language>en-US</dc:language>
  <cp:lastModifiedBy>шеф</cp:lastModifiedBy>
  <dcterms:modified xsi:type="dcterms:W3CDTF">2011-05-16T18:07:24Z</dcterms:modified>
  <cp:revision>20</cp:revision>
  <dc:subject/>
  <dc:title>Слайд 1</dc:title>
</cp:coreProperties>
</file>