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9.gif" ContentType="image/gif"/>
  <Override PartName="/ppt/media/image2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D6D-C7F4-4DFD-8AA9-0F97DD9E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568-3CAE-48FB-AA3A-5ADB8FF0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FDAC2-F0CF-42F1-8016-96DC0AE2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8DEFE-E19E-4425-9542-5AE266CD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227C5-4EBE-48A5-AD39-FCB94482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562C7-014A-47FF-9250-F5F0064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BCD59-FDD2-48B0-8B79-A5204FF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1F098-D83C-4870-8241-2598223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7F7A8-FC7D-4070-B124-A809F0C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01631-469A-4088-9DAE-4EF2DAA7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E3ED0-3F72-4831-8E75-F8E29BE0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D77-9FFD-457D-912B-F0EEACF9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9DA-A2FD-47E8-863C-F1E10AEC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F967-B8A9-4FD6-A9C8-E7E35ADF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1918-36B3-4034-BC9E-5871782A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04DA-D6D9-446E-A17F-4AC61F0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2134-03DA-4495-BCB7-2435D6A1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97FC-3893-4FDD-AB79-3F08D637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E4D-E5F4-4D41-80B3-CBE1AF00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922B-50BD-42C5-8596-2F418B6F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0C0-90C2-44BC-8455-D9B9628C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2A95-6E6D-4935-ABE5-94808DA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D551-C262-4E45-812E-C7B30057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3530-04EF-4A52-A030-EDC0CCE3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8B60-DD38-4603-80D0-7239651F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AAA4-1452-4666-8458-4EF9EE6D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39A4-728F-465B-82A4-D876AAFD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BBFE-473C-4023-88AB-870ED4F3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A7DA-21A8-4D72-AF72-D5A7317A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CE05-0478-44BA-80B0-28D37DB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ACA3-597F-4962-AD3A-BFD86FD3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DCF-07AA-4284-B9A5-400CDA0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2C51-3E2D-4D3D-9628-700BDE0A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BE3D-D46E-4829-B088-2F15954F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0386-2D35-4295-999B-E53D0D7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47BF-594F-4868-BFD7-DBB51FF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475E-2F28-4756-9D36-4CD1FDB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8A92-91EA-4810-B347-B8DB5420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DC0D-31D1-4546-AFA6-98E88811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CECB-6A3C-4A23-A12A-253B289C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F6B2-1891-465D-8C93-DA73BBB5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101B-6F91-4F49-B74E-92C75605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822-9B4A-4198-8872-2C64E22F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C2EF-BC78-4BCB-83F6-B8D1C749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7B483-3405-4365-8C00-5DB7E164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0518-451D-469D-A5C8-2DD4C8C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36C4-6E39-4E52-870D-28F519B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50CA-8829-4597-83FA-17370704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4A23-F45D-43EE-B2A2-85E3C41C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4CDC-307D-4FB0-A370-7CFEAC38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7154-C5FA-4A9C-B198-8DB038C0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F362-F512-4B2A-8AEB-E9B858DA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7B99-026D-4240-9092-949F727A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C18-BC86-485B-9ECB-B59819AC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F396-68F3-47EF-9A16-0C6983A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17E5-3FCE-4254-A91B-37EC736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C74C-CC48-4FBE-9D06-AEDC699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A5848-875A-404E-BFD2-4B2060BE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F0C93-C17D-41D3-AA15-2C614CB4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6E6C-1573-4B10-B1E2-5F67714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97152-F47F-4498-B6B1-23792B6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0140-B4C1-47EE-8F6A-C6DA8E4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043BA-6F39-43A3-9CF1-DC6CDEFD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FBD7-BB05-4A12-9035-5A05DF5B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B77-5633-49B2-B8AD-55D75D8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388B2-8686-4431-BF24-7CC226CD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371A9-7620-41D0-A893-48891235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C0F0-DA9A-4DA3-AC41-A5E91904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EB00D-EFCC-49D2-A65A-EC4CD32B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7BAED-9CD3-44D7-A3FE-933E58FD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9906-0C7D-4CD0-B4AC-76B8816E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04C7-DBA1-4D2B-AEAC-CFE1298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12EE-6806-413A-9DD8-6FB89D39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D22D9-EEFC-43E1-B1C3-E1B82227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3F45-7399-4535-ADEF-5B4FAD7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747-25A5-4DCA-A4E6-5BD3551C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F2AC-1544-46A4-B7E1-849BEA55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504E-80A8-4007-991F-35C08F86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7508-1334-4D00-9936-DCCA0138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753FB-C077-4EFF-BFFF-0A89EDFE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79CD-9247-4FB2-A889-D5AA825A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B2056-5FFD-4FD1-8922-BEE8EA51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21A72-0FB3-4291-8036-8DA02E4E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E83E-F9F0-4FF1-95A6-DA2D8960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DAC9-B6E6-4C2C-A506-F7061436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25C1-B7D6-4253-8609-C55A707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C66-198E-4487-8EC8-3113272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0360C-D38B-4846-B25F-B08B69C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425DB-0155-4AC1-91D2-84C608BF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0375D-BDBF-40C3-B3AD-C73D8A76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F5DC0-A177-48DC-A286-5DA95B57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148E-771D-4BE8-85F8-149002CC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9B0B6-75B4-4E95-8564-DAC9D9AB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B1C3-84C4-4671-8DAC-7D486585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299D-CA2A-435A-9767-299CD5A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A3167-FB59-48C3-9439-067EDFC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3E110-8145-43EC-8E69-A2D101C0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6EF-77A0-4102-979B-E033B16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2DE9-352A-4BDE-B7B7-0118D3A6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4038-3234-4796-BB1C-50AA3A7F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476A3-5BD8-4142-B24D-5F9B5A4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6DA5E-C732-4B01-BBFB-971332A4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D2A5-8E74-46CD-8373-51721F08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42D2C-6FCC-4B47-B131-A7F75B66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205FF-51FB-4E5B-AC7E-2E53A4F7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10971-DDBF-4808-9B8A-2A48BCE7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DF0B4-2D2D-4FB6-9DEA-CE6213E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4ECB2-9416-4F44-91C5-FDE8709C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62B3-EA95-4D93-9FB9-F807ECEFB2B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888-5A69-48CA-B218-3DD665F7BB40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2B67-B261-4298-9FA7-50059A89D632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D9E8-F97E-494E-BF31-6279F44E6DE5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F94A-2499-4E65-A910-1E32F5808803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D7A6-7741-4A32-BA78-C922E1A37C62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5442-8BF6-4E39-8888-5688FAC4CFB8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4E3-86B6-49CB-87BB-E9A9110C7989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11EB-5C9C-4720-9FAD-E2F52D5D22E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kagaya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1000080" y="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                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Быть  взрослым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571680" y="578628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 по обществознанию в 7 класс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785880" y="63579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EVG3097@MAIL.RU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357120" y="17146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ВЫ   ВЫБЕРИТЕ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3" name="Picture 4" descr="ag00317_"/>
          <p:cNvPicPr/>
          <p:nvPr/>
        </p:nvPicPr>
        <p:blipFill>
          <a:blip r:embed="rId2"/>
          <a:stretch/>
        </p:blipFill>
        <p:spPr>
          <a:xfrm flipH="1">
            <a:off x="499680" y="2143080"/>
            <a:ext cx="2360520" cy="2463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3" descr="ag00029_"/>
          <p:cNvPicPr/>
          <p:nvPr/>
        </p:nvPicPr>
        <p:blipFill>
          <a:blip r:embed="rId3"/>
          <a:stretch/>
        </p:blipFill>
        <p:spPr>
          <a:xfrm>
            <a:off x="5286240" y="1428840"/>
            <a:ext cx="3488040" cy="37861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3143160" y="3071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890640"/>
          </a:xfrm>
          <a:prstGeom prst="rect">
            <a:avLst/>
          </a:prstGeom>
          <a:ln w="0">
            <a:noFill/>
          </a:ln>
        </p:spPr>
      </p:pic>
      <p:grpSp>
        <p:nvGrpSpPr>
          <p:cNvPr id="404" name="Прямоугольник 2"/>
          <p:cNvGrpSpPr/>
          <p:nvPr/>
        </p:nvGrpSpPr>
        <p:grpSpPr>
          <a:xfrm>
            <a:off x="249120" y="1322280"/>
            <a:ext cx="3073680" cy="4999320"/>
            <a:chOff x="249120" y="1322280"/>
            <a:chExt cx="3073680" cy="4999320"/>
          </a:xfrm>
        </p:grpSpPr>
        <p:pic>
          <p:nvPicPr>
            <p:cNvPr id="40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49120" y="1322280"/>
              <a:ext cx="307368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00040" y="1571760"/>
              <a:ext cx="2571840" cy="45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ДРОСТКОВЫЙ ПЕРИОД- ПЕРИОД  ВЗРОСЛЕНИЯ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7" name="Стрелка вправо 3"/>
          <p:cNvSpPr/>
          <p:nvPr/>
        </p:nvSpPr>
        <p:spPr>
          <a:xfrm>
            <a:off x="3286080" y="31431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08" name="Овал 4"/>
          <p:cNvGrpSpPr/>
          <p:nvPr/>
        </p:nvGrpSpPr>
        <p:grpSpPr>
          <a:xfrm>
            <a:off x="4748040" y="1176480"/>
            <a:ext cx="4359600" cy="4790880"/>
            <a:chOff x="4748040" y="1176480"/>
            <a:chExt cx="4359600" cy="4790880"/>
          </a:xfrm>
        </p:grpSpPr>
        <p:pic>
          <p:nvPicPr>
            <p:cNvPr id="409" name="Овал 4" descr=""/>
            <p:cNvPicPr/>
            <p:nvPr/>
          </p:nvPicPr>
          <p:blipFill>
            <a:blip r:embed="rId3"/>
            <a:stretch/>
          </p:blipFill>
          <p:spPr>
            <a:xfrm>
              <a:off x="4748040" y="1176480"/>
              <a:ext cx="435960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565600" y="2055960"/>
              <a:ext cx="272736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Р  ВЗРОСЛЫ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378000"/>
            <a:ext cx="5900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2" name="Прямоугольник 2"/>
          <p:cNvGrpSpPr/>
          <p:nvPr/>
        </p:nvGrpSpPr>
        <p:grpSpPr>
          <a:xfrm>
            <a:off x="176040" y="1395360"/>
            <a:ext cx="8577360" cy="1639800"/>
            <a:chOff x="176040" y="1395360"/>
            <a:chExt cx="8577360" cy="1639800"/>
          </a:xfrm>
        </p:grpSpPr>
        <p:pic>
          <p:nvPicPr>
            <p:cNvPr id="41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76040" y="1395360"/>
              <a:ext cx="85773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28760" y="1643040"/>
              <a:ext cx="8072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ТРЕМЛЕНИЕ  ЗАНЯТЬ МЕСТ О В МИРЕ ВЗРОСЛЫХ ПРИНИМАЯ  ИХ ИДЕИ,  ИДЕАЛЫ, И  СПОСОБ  САМОВЫРАЖЕНИЯ.. ПОСТЕПЕННО  ОНИ  СЧИТАЮТ  СЕБЯ РАВНЫМИ  ВЗРОСЛЫМ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5" name="Прямоугольник 3"/>
          <p:cNvGrpSpPr/>
          <p:nvPr/>
        </p:nvGrpSpPr>
        <p:grpSpPr>
          <a:xfrm>
            <a:off x="176040" y="2895480"/>
            <a:ext cx="8504280" cy="1785960"/>
            <a:chOff x="176040" y="2895480"/>
            <a:chExt cx="8504280" cy="1785960"/>
          </a:xfrm>
        </p:grpSpPr>
        <p:pic>
          <p:nvPicPr>
            <p:cNvPr id="41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76040" y="2895480"/>
              <a:ext cx="85042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28760" y="3143160"/>
              <a:ext cx="8001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ПОДРОСТКИ  ВЕДУТ  ВЗРОСЛЫЕ  РАЗГОВОРЫ НА  ЗАПРЕТНЫЕ  ПРЕЖДЕ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ТЕМЫ, СУДИТЬ О ПРАВИЛЬНОСТИ  СУПРУЖЕ СКИХ  ОТНОШЕНИЙ. Соревнование   в физической  силе  с взрослыми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8" name="Прямоугольник 4"/>
          <p:cNvGrpSpPr/>
          <p:nvPr/>
        </p:nvGrpSpPr>
        <p:grpSpPr>
          <a:xfrm>
            <a:off x="324000" y="4962600"/>
            <a:ext cx="8429400" cy="1785960"/>
            <a:chOff x="324000" y="4962600"/>
            <a:chExt cx="8429400" cy="1785960"/>
          </a:xfrm>
        </p:grpSpPr>
        <p:pic>
          <p:nvPicPr>
            <p:cNvPr id="419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24000" y="4962600"/>
              <a:ext cx="84294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71680" y="5214960"/>
              <a:ext cx="7929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нимание  легко  переключается  с предмета  на  предмет, подростки  непоследовательны  в своих  поступках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Franklin Gothic Book"/>
                </a:rPr>
                <a:t>ОНИ  НЕПРЕДСКАЗУЕМЫ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8906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2"/>
          <p:cNvSpPr/>
          <p:nvPr/>
        </p:nvSpPr>
        <p:spPr>
          <a:xfrm>
            <a:off x="531360" y="1523880"/>
            <a:ext cx="59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 ПРОБЛЕМА-  ЧТО  ТАКОЕ  ПРОИСХОДИТ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3" name="Рисунок 4" descr="042.jpeg"/>
          <p:cNvPicPr/>
          <p:nvPr/>
        </p:nvPicPr>
        <p:blipFill>
          <a:blip r:embed="rId2"/>
          <a:stretch/>
        </p:blipFill>
        <p:spPr>
          <a:xfrm>
            <a:off x="1066680" y="320040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33200" y="384120"/>
            <a:ext cx="886464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25" name="Прямоугольник 2"/>
          <p:cNvGrpSpPr/>
          <p:nvPr/>
        </p:nvGrpSpPr>
        <p:grpSpPr>
          <a:xfrm>
            <a:off x="195120" y="1262160"/>
            <a:ext cx="8686800" cy="1901880"/>
            <a:chOff x="195120" y="1262160"/>
            <a:chExt cx="8686800" cy="1901880"/>
          </a:xfrm>
        </p:grpSpPr>
        <p:pic>
          <p:nvPicPr>
            <p:cNvPr id="42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95120" y="1262160"/>
              <a:ext cx="8686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57120" y="1428840"/>
              <a:ext cx="835812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ЫБОР СОБСТВЕННОГО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8" name="Прямоугольник 3" descr=""/>
          <p:cNvPicPr/>
          <p:nvPr/>
        </p:nvPicPr>
        <p:blipFill>
          <a:blip r:embed="rId3"/>
          <a:stretch/>
        </p:blipFill>
        <p:spPr>
          <a:xfrm>
            <a:off x="122400" y="3548160"/>
            <a:ext cx="8759520" cy="2334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240" y="22860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ЫБОР СОБСТВЕННОГО ПУТИ В ЖИЗНИ- САМАЯ  ВАЖНАЯ  ЗАДАЧА В ЭТОТ ПЕРИОД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407880"/>
            <a:ext cx="8699400" cy="878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ag00317_"/>
          <p:cNvPicPr/>
          <p:nvPr/>
        </p:nvPicPr>
        <p:blipFill>
          <a:blip r:embed="rId2"/>
          <a:stretch/>
        </p:blipFill>
        <p:spPr>
          <a:xfrm flipH="1">
            <a:off x="571320" y="1571760"/>
            <a:ext cx="2360520" cy="2392200"/>
          </a:xfrm>
          <a:prstGeom prst="rect">
            <a:avLst/>
          </a:prstGeom>
          <a:ln w="0">
            <a:noFill/>
          </a:ln>
        </p:spPr>
      </p:pic>
      <p:sp>
        <p:nvSpPr>
          <p:cNvPr id="432" name="Стрелка вправо 3"/>
          <p:cNvSpPr/>
          <p:nvPr/>
        </p:nvSpPr>
        <p:spPr>
          <a:xfrm>
            <a:off x="2928960" y="24289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3" name="Рисунок 5" descr="2147233189480a3ff764f4a.gif"/>
          <p:cNvPicPr/>
          <p:nvPr/>
        </p:nvPicPr>
        <p:blipFill>
          <a:blip r:embed="rId3"/>
          <a:stretch/>
        </p:blipFill>
        <p:spPr>
          <a:xfrm>
            <a:off x="5286240" y="1571760"/>
            <a:ext cx="2143440" cy="2428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4" name="TextBox 6"/>
          <p:cNvSpPr/>
          <p:nvPr/>
        </p:nvSpPr>
        <p:spPr>
          <a:xfrm>
            <a:off x="357120" y="450072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росток                                                                     юноша- связываю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деалы  с реальностью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 равнение  возможного                                                перестают  парить  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 реальным приводит  подростка                                 облаках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 бунтарств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33200" y="396720"/>
            <a:ext cx="8864640" cy="9986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2"/>
          <p:cNvSpPr/>
          <p:nvPr/>
        </p:nvSpPr>
        <p:spPr>
          <a:xfrm>
            <a:off x="214200" y="1428840"/>
            <a:ext cx="85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Воспитание  подростка  и маленького ребенка  сильно различаютс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7" name="Рисунок 3" descr="2147233189480a3ff764f4a.gif"/>
          <p:cNvPicPr/>
          <p:nvPr/>
        </p:nvPicPr>
        <p:blipFill>
          <a:blip r:embed="rId2"/>
          <a:stretch/>
        </p:blipFill>
        <p:spPr>
          <a:xfrm>
            <a:off x="857160" y="2071800"/>
            <a:ext cx="3143520" cy="19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8" name="Стрелка вправо 4"/>
          <p:cNvSpPr/>
          <p:nvPr/>
        </p:nvSpPr>
        <p:spPr>
          <a:xfrm>
            <a:off x="4286160" y="2786040"/>
            <a:ext cx="689040" cy="2858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5"/>
          <p:cNvSpPr/>
          <p:nvPr/>
        </p:nvSpPr>
        <p:spPr>
          <a:xfrm>
            <a:off x="5286240" y="2000160"/>
            <a:ext cx="3857760" cy="4572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сихологи советуют предоставлять подросткам больше  свободы и принимать их  во взрослую  жизн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1" name="Прямоугольник 2"/>
          <p:cNvGrpSpPr/>
          <p:nvPr/>
        </p:nvGrpSpPr>
        <p:grpSpPr>
          <a:xfrm>
            <a:off x="109440" y="1395360"/>
            <a:ext cx="8710560" cy="1712880"/>
            <a:chOff x="109440" y="1395360"/>
            <a:chExt cx="8710560" cy="1712880"/>
          </a:xfrm>
        </p:grpSpPr>
        <p:pic>
          <p:nvPicPr>
            <p:cNvPr id="44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09440" y="1395360"/>
              <a:ext cx="87105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57120" y="1643040"/>
              <a:ext cx="821556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ЗРОСЛЕНИЕ ПОДРОСТКА ОПРЕДЕЛЯЕТСЯ  СТЕПЕНЬЮ  НЕЗАВИСИМОСТИ И СОЗНАНИЕМ  ОТВЕТСТВЕННОСТИ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44" name="Прямоугольник 3"/>
          <p:cNvGrpSpPr/>
          <p:nvPr/>
        </p:nvGrpSpPr>
        <p:grpSpPr>
          <a:xfrm>
            <a:off x="324000" y="3108240"/>
            <a:ext cx="8710560" cy="2427480"/>
            <a:chOff x="324000" y="3108240"/>
            <a:chExt cx="8710560" cy="2427480"/>
          </a:xfrm>
        </p:grpSpPr>
        <p:pic>
          <p:nvPicPr>
            <p:cNvPr id="44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24000" y="3108240"/>
              <a:ext cx="8710560" cy="24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571680" y="3357720"/>
              <a:ext cx="821520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ТЕПЕНЬ  И БЫСТРОТА ВЗРОСЛЕНИЯ ЗАВИСИТ ОТ: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НЕОБХОДИМОСТЬ  ТРУДА,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НЕОБХОДИМОСТЬ ЗАБОТЫ О БЛИЖНИХ И СЕМЬЕ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48" name="TextBox 2"/>
          <p:cNvSpPr/>
          <p:nvPr/>
        </p:nvSpPr>
        <p:spPr>
          <a:xfrm>
            <a:off x="571680" y="1643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ЧТО  ТАКОЕ   АЛЬТРУИЗМ?  С2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500040" y="257184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ТЕРЕСНЫЕ  ФАКТЫ. ЧТО ДЛЯ  ВАС ЛУЧШЕ В ВОСПИТАНИИ –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ОТВЕТСТВЕННОСТЬ  ИЛИ ПОДЧИНЕНИ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0" name="Рисунок 4" descr="013.jpeg"/>
          <p:cNvPicPr/>
          <p:nvPr/>
        </p:nvPicPr>
        <p:blipFill>
          <a:blip r:embed="rId2"/>
          <a:stretch/>
        </p:blipFill>
        <p:spPr>
          <a:xfrm>
            <a:off x="2071800" y="3214800"/>
            <a:ext cx="7072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ф</dc:creator>
  <dc:description/>
  <dc:language>en-US</dc:language>
  <cp:lastModifiedBy>шеф</cp:lastModifiedBy>
  <dcterms:modified xsi:type="dcterms:W3CDTF">2011-05-16T18:07:24Z</dcterms:modified>
  <cp:revision>20</cp:revision>
  <dc:subject/>
  <dc:title>Слайд 1</dc:title>
</cp:coreProperties>
</file>