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9.gif" ContentType="image/gif"/>
  <Override PartName="/ppt/media/image2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36A-AFC4-4D41-9AB8-47B4204B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045-A500-4056-A07F-0EFFB45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3124-483B-4D78-8E40-CDDBE66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367B-2D07-4DF3-B9F2-B1A2484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38A48-153E-4879-B7F9-C0411F7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0886-D6BB-4567-810A-9151008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BC787-A353-455A-B00A-7892EEC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BA9E-E0BC-4C38-B69A-37A586A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E3BCF-E6AC-425E-8B9F-0AC5C19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7839E-BF53-4264-BBAE-6637B558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E7387-3B0D-4C7E-B7A8-E81A5220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1BD-16E1-4653-A37F-09AF4086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075-EC65-422D-B1B4-20F9507E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D62-ED09-4B31-A70D-C04AF68B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884-6D10-45F4-BBD3-03DFCB7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271F-DAF8-4453-AFA3-640CF20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A9A0-702C-4D85-9171-723CD1D1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F2B-75CA-4497-A51F-19820705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C195-168D-40C6-B2E3-4FB199C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005-F87D-4B31-AEC1-190A3B4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323-1BC7-4DDB-B4CF-E6E64CA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2F0-2694-4A09-BFB5-9E444A5E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E149-58AC-4E6E-91A1-76B87FA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4976-433D-41DA-A43E-A14EB41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0C7A-1D6C-4B96-A1FA-28BDA343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6BA3-55F4-4322-BB63-D8B8386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D5E3-E856-4E0D-8E0F-D9D9150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E9BE-30DF-487B-8B9B-2F2A093C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096A-3C37-47DE-B629-8C55403F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BCEE-5806-405C-B0E0-A7E6E35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E8F5-B4D8-45EC-862C-543183E5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E3E-5D75-4652-BF9A-BBDE2BAE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45EE-1C70-4479-99CA-5713512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7F25-CF3C-444F-96E8-7146C61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DB6F-B82A-4221-9A85-E030EBC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29AE-DDA3-4AF8-B3E8-5E40A24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09F0-6034-492C-B4EC-D6F938F3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0D28-B297-45B1-B922-45FA498E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85F5-4BC3-4DE1-BBE3-C811F540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1E21-B34A-4953-9C2B-87FF9FB2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76AD-B17A-4AB5-8A95-6B001E5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F93B-43C2-492B-8C6B-1C716DD2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C33-F727-420C-A549-1B40AF90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63DF-004A-4E93-A1EA-71FF263A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12EA-EDC5-4015-B681-6780C2D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70B8-036D-44B2-B883-9B66C08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A107-ED6A-4D5C-A0C7-AC4A3BD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F2BD-38C8-44FE-BC04-CC0A2E7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BA14-3FD0-4C1E-BC07-80A0F1D4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FD3D-5903-4E06-B07A-EC303A0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0D8B-3A26-422B-9F5F-A286B1AC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8CC0-0E82-49BE-BF2F-0C08EFD8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1214-E46B-4875-99E6-2CE92C6F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845-6639-428A-9F19-573CEDA3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8B1A-DBEF-4C39-8D8A-77641693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D2FB-BAC6-470E-B45E-F56C9F7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62F8-CC15-497A-BF3A-AE52CC8C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622D-27FF-4AF6-8F9B-5F380CF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EBA8-0105-4C02-96BD-EE2B0C1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6FC6-10E7-4BD9-8FB5-AA302BD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F9F0-62BA-43D0-9237-8035906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414D-AC91-482B-AA9E-65FFAF9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F70F-7A1A-47EA-AECC-8F0AC1E6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30B7-EEBA-4D11-B4D1-22848AA8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072-7F84-46AB-958A-25D9A3C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5674-227D-4495-9E77-D999B8EE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74C7-39DF-4C20-8325-A14304EA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72916-890E-4B6A-B630-38952C8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2201-79D5-4CA3-89FD-650A82B3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2455-4F62-4B94-B9DB-4692988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BDBE-C877-4FBD-ACE7-45425DC3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99BD-8CB7-4C24-97C0-0C234E0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BE4A-413D-4799-BFBA-4F7D229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F3B9-6038-4CFD-9359-255DD04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1203-8554-46A0-871F-8D7C3C3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0B1-41BC-4B51-A506-4B4641C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FCD6-194C-46DD-91BA-E570C11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B6DE-1533-4930-BB4F-4DAFCB93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B5F9-54A6-4C5C-9105-ED8B6ED1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A4F7F-959E-4604-9F1C-BF34B0EB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243F-A309-4DE2-8211-5E73468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D4414-9A9D-4E33-B462-8C9CE15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59EF-3CA0-4679-A58B-8947131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C40F-9F68-4E33-BC4B-0F2E73FA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27964-C548-432B-BB0B-AACDA51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CB78-1380-4763-BE45-9B17DFB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D04-88C9-4EF5-A24F-7C22DF1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9461-F4C8-4D36-9494-2C32A23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8F7F-06ED-46EB-8497-FAD924E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3B90-FEFD-4B4D-8ACB-DDF0B5F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76D24-9FBF-4D33-8A2C-D6F9E2D4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C174E-EBAD-4026-89CC-8CB6A0DF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A41B9-5F9F-4413-B282-4EA3581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5202-B069-4751-8556-70E050A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E5A7-292E-42CC-AB9B-F20C656C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0CEE2-60FB-431E-82C2-A8BB02B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BDBCA-9051-4324-90B8-C0B7CC0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5A6-7ECE-407E-BA9C-57D21BF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46BB-87C4-4545-9F89-CA89B997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52A9-EF8F-4FFC-9443-3F68EF47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C0F5-A27F-4E56-8718-7763D57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777A-CF59-454D-8D7F-C7CCA2B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B775E-EE12-4E43-9760-2AAA1C4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2DB84-3A1C-4E80-9476-0DD3B199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33CA-12E8-4CEA-B63D-E4958DD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1C81-4BDD-43EA-B892-EDA6270A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EAFF4-2BD6-4646-A436-DBD7136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3437-FCD5-4329-8084-12B3ABC0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C54-4EF6-4496-AC1C-222F067D63D4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95A-E51B-465B-815D-AF88CDD81E21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8C3-88AB-4029-8180-2B3F5585303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BC3-95DA-4040-8165-E9CA3D05793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64F3-FAD6-493F-B8ED-CD32C6178E2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FAE-8584-4D1C-855D-AE06D311BB1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19D1-EEC7-4D40-AC89-F9A6767209D4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1B11-A087-4610-A327-969A1F17F7F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0A91-9017-4070-B9CC-CDC0C4B9ECC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kagaya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00080" y="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             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Быть  взрослы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71680" y="578628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 по обществознанию в 7 класс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785880" y="6357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EVG3097@MAIL.RU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357120" y="1714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  ВЫБЕРИТЕ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3" name="Picture 4" descr="ag00317_"/>
          <p:cNvPicPr/>
          <p:nvPr/>
        </p:nvPicPr>
        <p:blipFill>
          <a:blip r:embed="rId2"/>
          <a:stretch/>
        </p:blipFill>
        <p:spPr>
          <a:xfrm flipH="1">
            <a:off x="499680" y="2143080"/>
            <a:ext cx="2360520" cy="2463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3" descr="ag00029_"/>
          <p:cNvPicPr/>
          <p:nvPr/>
        </p:nvPicPr>
        <p:blipFill>
          <a:blip r:embed="rId3"/>
          <a:stretch/>
        </p:blipFill>
        <p:spPr>
          <a:xfrm>
            <a:off x="5286240" y="1428840"/>
            <a:ext cx="3488040" cy="37861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3143160" y="3071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890640"/>
          </a:xfrm>
          <a:prstGeom prst="rect">
            <a:avLst/>
          </a:prstGeom>
          <a:ln w="0">
            <a:noFill/>
          </a:ln>
        </p:spPr>
      </p:pic>
      <p:grpSp>
        <p:nvGrpSpPr>
          <p:cNvPr id="404" name="Прямоугольник 2"/>
          <p:cNvGrpSpPr/>
          <p:nvPr/>
        </p:nvGrpSpPr>
        <p:grpSpPr>
          <a:xfrm>
            <a:off x="249120" y="1322280"/>
            <a:ext cx="3073680" cy="4999320"/>
            <a:chOff x="249120" y="1322280"/>
            <a:chExt cx="3073680" cy="4999320"/>
          </a:xfrm>
        </p:grpSpPr>
        <p:pic>
          <p:nvPicPr>
            <p:cNvPr id="40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49120" y="1322280"/>
              <a:ext cx="307368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00040" y="1571760"/>
              <a:ext cx="257184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РОСТКОВЫЙ ПЕРИОД- ПЕРИОД  ВЗРОСЛЕНИЯ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Стрелка вправо 3"/>
          <p:cNvSpPr/>
          <p:nvPr/>
        </p:nvSpPr>
        <p:spPr>
          <a:xfrm>
            <a:off x="3286080" y="31431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08" name="Овал 4"/>
          <p:cNvGrpSpPr/>
          <p:nvPr/>
        </p:nvGrpSpPr>
        <p:grpSpPr>
          <a:xfrm>
            <a:off x="4748040" y="1176480"/>
            <a:ext cx="4359600" cy="4790880"/>
            <a:chOff x="4748040" y="1176480"/>
            <a:chExt cx="4359600" cy="4790880"/>
          </a:xfrm>
        </p:grpSpPr>
        <p:pic>
          <p:nvPicPr>
            <p:cNvPr id="409" name="Овал 4" descr=""/>
            <p:cNvPicPr/>
            <p:nvPr/>
          </p:nvPicPr>
          <p:blipFill>
            <a:blip r:embed="rId3"/>
            <a:stretch/>
          </p:blipFill>
          <p:spPr>
            <a:xfrm>
              <a:off x="4748040" y="1176480"/>
              <a:ext cx="435960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565600" y="2055960"/>
              <a:ext cx="272736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Р  ВЗРОСЛЫ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378000"/>
            <a:ext cx="5900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2" name="Прямоугольник 2"/>
          <p:cNvGrpSpPr/>
          <p:nvPr/>
        </p:nvGrpSpPr>
        <p:grpSpPr>
          <a:xfrm>
            <a:off x="176040" y="1395360"/>
            <a:ext cx="8577360" cy="1639800"/>
            <a:chOff x="176040" y="1395360"/>
            <a:chExt cx="8577360" cy="1639800"/>
          </a:xfrm>
        </p:grpSpPr>
        <p:pic>
          <p:nvPicPr>
            <p:cNvPr id="41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76040" y="1395360"/>
              <a:ext cx="85773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28760" y="1643040"/>
              <a:ext cx="8072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РЕМЛЕНИЕ  ЗАНЯТЬ МЕСТ О В МИРЕ ВЗРОСЛЫХ ПРИНИМАЯ  ИХ ИДЕИ,  ИДЕАЛЫ, И  СПОСОБ  САМОВЫРАЖЕНИЯ.. ПОСТЕПЕННО  ОНИ  СЧИТАЮТ  СЕБЯ РАВНЫМИ  ВЗРОСЛЫМ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5" name="Прямоугольник 3"/>
          <p:cNvGrpSpPr/>
          <p:nvPr/>
        </p:nvGrpSpPr>
        <p:grpSpPr>
          <a:xfrm>
            <a:off x="176040" y="2895480"/>
            <a:ext cx="8504280" cy="1785960"/>
            <a:chOff x="176040" y="2895480"/>
            <a:chExt cx="8504280" cy="1785960"/>
          </a:xfrm>
        </p:grpSpPr>
        <p:pic>
          <p:nvPicPr>
            <p:cNvPr id="4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76040" y="2895480"/>
              <a:ext cx="85042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28760" y="3143160"/>
              <a:ext cx="8001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ПОДРОСТКИ  ВЕДУТ  ВЗРОСЛЫЕ  РАЗГОВОРЫ НА  ЗАПРЕТНЫЕ  ПРЕЖДЕ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ТЕМЫ, СУДИТЬ О ПРАВИЛЬНОСТИ  СУПРУЖЕ СКИХ  ОТНОШЕНИЙ. Соревнование   в физической  силе  с взрослыми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8" name="Прямоугольник 4"/>
          <p:cNvGrpSpPr/>
          <p:nvPr/>
        </p:nvGrpSpPr>
        <p:grpSpPr>
          <a:xfrm>
            <a:off x="324000" y="4962600"/>
            <a:ext cx="8429400" cy="1785960"/>
            <a:chOff x="324000" y="4962600"/>
            <a:chExt cx="8429400" cy="1785960"/>
          </a:xfrm>
        </p:grpSpPr>
        <p:pic>
          <p:nvPicPr>
            <p:cNvPr id="41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24000" y="4962600"/>
              <a:ext cx="84294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71680" y="5214960"/>
              <a:ext cx="7929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нимание  легко  переключается  с предмета  на  предмет, подростки  непоследовательны  в своих  поступках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Franklin Gothic Book"/>
                </a:rPr>
                <a:t>ОНИ  НЕПРЕДСКАЗУЕМЫ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8906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2"/>
          <p:cNvSpPr/>
          <p:nvPr/>
        </p:nvSpPr>
        <p:spPr>
          <a:xfrm>
            <a:off x="531360" y="1523880"/>
            <a:ext cx="59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ПРОБЛЕМА-  ЧТО  ТАКОЕ  ПРОИСХОДИТ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4" descr="042.jpeg"/>
          <p:cNvPicPr/>
          <p:nvPr/>
        </p:nvPicPr>
        <p:blipFill>
          <a:blip r:embed="rId2"/>
          <a:stretch/>
        </p:blipFill>
        <p:spPr>
          <a:xfrm>
            <a:off x="1066680" y="320040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384120"/>
            <a:ext cx="886464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25" name="Прямоугольник 2"/>
          <p:cNvGrpSpPr/>
          <p:nvPr/>
        </p:nvGrpSpPr>
        <p:grpSpPr>
          <a:xfrm>
            <a:off x="195120" y="1262160"/>
            <a:ext cx="8686800" cy="1901880"/>
            <a:chOff x="195120" y="1262160"/>
            <a:chExt cx="8686800" cy="1901880"/>
          </a:xfrm>
        </p:grpSpPr>
        <p:pic>
          <p:nvPicPr>
            <p:cNvPr id="42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95120" y="1262160"/>
              <a:ext cx="8686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57120" y="1428840"/>
              <a:ext cx="83581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ЫБОР СОБСТВЕННОГО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8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3548160"/>
            <a:ext cx="8759520" cy="2334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240" y="2286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ЫБОР СОБСТВЕННОГО ПУТИ В ЖИЗНИ- САМАЯ  ВАЖНАЯ  ЗАДАЧА В ЭТОТ ПЕРИОД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407880"/>
            <a:ext cx="8699400" cy="878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ag00317_"/>
          <p:cNvPicPr/>
          <p:nvPr/>
        </p:nvPicPr>
        <p:blipFill>
          <a:blip r:embed="rId2"/>
          <a:stretch/>
        </p:blipFill>
        <p:spPr>
          <a:xfrm flipH="1">
            <a:off x="571320" y="1571760"/>
            <a:ext cx="2360520" cy="2392200"/>
          </a:xfrm>
          <a:prstGeom prst="rect">
            <a:avLst/>
          </a:prstGeom>
          <a:ln w="0">
            <a:noFill/>
          </a:ln>
        </p:spPr>
      </p:pic>
      <p:sp>
        <p:nvSpPr>
          <p:cNvPr id="432" name="Стрелка вправо 3"/>
          <p:cNvSpPr/>
          <p:nvPr/>
        </p:nvSpPr>
        <p:spPr>
          <a:xfrm>
            <a:off x="2928960" y="2428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3" name="Рисунок 5" descr="2147233189480a3ff764f4a.gif"/>
          <p:cNvPicPr/>
          <p:nvPr/>
        </p:nvPicPr>
        <p:blipFill>
          <a:blip r:embed="rId3"/>
          <a:stretch/>
        </p:blipFill>
        <p:spPr>
          <a:xfrm>
            <a:off x="5286240" y="1571760"/>
            <a:ext cx="2143440" cy="242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4" name="TextBox 6"/>
          <p:cNvSpPr/>
          <p:nvPr/>
        </p:nvSpPr>
        <p:spPr>
          <a:xfrm>
            <a:off x="357120" y="450072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росток                                                                     юноша- связываю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деалы  с реальностью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авнение  возможного                                                перестают  парить  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еальным приводит  подростка                                 облаках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 бунтарств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>
            <a:off x="214200" y="142884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оспитание  подростка  и маленького ребенка  сильно различаютс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Рисунок 3" descr="2147233189480a3ff764f4a.gif"/>
          <p:cNvPicPr/>
          <p:nvPr/>
        </p:nvPicPr>
        <p:blipFill>
          <a:blip r:embed="rId2"/>
          <a:stretch/>
        </p:blipFill>
        <p:spPr>
          <a:xfrm>
            <a:off x="857160" y="2071800"/>
            <a:ext cx="314352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8" name="Стрелка вправо 4"/>
          <p:cNvSpPr/>
          <p:nvPr/>
        </p:nvSpPr>
        <p:spPr>
          <a:xfrm>
            <a:off x="4286160" y="2786040"/>
            <a:ext cx="6890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5"/>
          <p:cNvSpPr/>
          <p:nvPr/>
        </p:nvSpPr>
        <p:spPr>
          <a:xfrm>
            <a:off x="5286240" y="2000160"/>
            <a:ext cx="3857760" cy="4572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сихологи советуют предоставлять подросткам больше  свободы и принимать их  во взрослую  жиз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1" name="Прямоугольник 2"/>
          <p:cNvGrpSpPr/>
          <p:nvPr/>
        </p:nvGrpSpPr>
        <p:grpSpPr>
          <a:xfrm>
            <a:off x="109440" y="1395360"/>
            <a:ext cx="8710560" cy="1712880"/>
            <a:chOff x="109440" y="1395360"/>
            <a:chExt cx="8710560" cy="1712880"/>
          </a:xfrm>
        </p:grpSpPr>
        <p:pic>
          <p:nvPicPr>
            <p:cNvPr id="44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09440" y="1395360"/>
              <a:ext cx="87105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57120" y="1643040"/>
              <a:ext cx="821556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ЗРОСЛЕНИЕ ПОДРОСТКА ОПРЕДЕЛЯЕТСЯ  СТЕПЕНЬЮ  НЕЗАВИСИМОСТИ И СОЗНАНИЕМ  ОТВЕТСТВЕННОСТИ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44" name="Прямоугольник 3"/>
          <p:cNvGrpSpPr/>
          <p:nvPr/>
        </p:nvGrpSpPr>
        <p:grpSpPr>
          <a:xfrm>
            <a:off x="324000" y="3108240"/>
            <a:ext cx="8710560" cy="2427480"/>
            <a:chOff x="324000" y="3108240"/>
            <a:chExt cx="8710560" cy="2427480"/>
          </a:xfrm>
        </p:grpSpPr>
        <p:pic>
          <p:nvPicPr>
            <p:cNvPr id="4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24000" y="3108240"/>
              <a:ext cx="871056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71680" y="3357720"/>
              <a:ext cx="821520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ЕПЕНЬ  И БЫСТРОТА ВЗРОСЛЕНИЯ ЗАВИСИТ ОТ: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 ТРУДА,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ЗАБОТЫ О БЛИЖНИХ И СЕМЬЕ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2"/>
          <p:cNvSpPr/>
          <p:nvPr/>
        </p:nvSpPr>
        <p:spPr>
          <a:xfrm>
            <a:off x="571680" y="1643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ЧТО  ТАКОЕ   АЛЬТРУИЗМ?  С2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500040" y="257184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ТЕРЕСНЫЕ  ФАКТЫ. ЧТО ДЛЯ  ВАС ЛУЧШЕ В ВОСПИТАНИИ –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ОТВЕТСТВЕННОСТЬ  ИЛИ ПОДЧИНЕНИ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Рисунок 4" descr="013.jpeg"/>
          <p:cNvPicPr/>
          <p:nvPr/>
        </p:nvPicPr>
        <p:blipFill>
          <a:blip r:embed="rId2"/>
          <a:stretch/>
        </p:blipFill>
        <p:spPr>
          <a:xfrm>
            <a:off x="2071800" y="3214800"/>
            <a:ext cx="7072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ф</dc:creator>
  <dc:description/>
  <dc:language>en-US</dc:language>
  <cp:lastModifiedBy>шеф</cp:lastModifiedBy>
  <dcterms:modified xsi:type="dcterms:W3CDTF">2011-05-16T18:07:24Z</dcterms:modified>
  <cp:revision>20</cp:revision>
  <dc:subject/>
  <dc:title>Слайд 1</dc:title>
</cp:coreProperties>
</file>