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D14-3366-4DAB-B10C-B2AD3AAC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8D9-6775-498B-9D05-EBAEE0B3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022-A013-449E-A57F-685C6BEB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FD1-C953-41F9-86E8-9AAD4FE0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BA9C-02AB-4F1C-AC4C-E1769330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95DE-5BA0-41FC-B0A3-6AC60512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2E16-C854-4452-AAF1-4F6962DE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65E7-D12A-472F-8D9F-D3A415DF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5F07-28C0-4E92-AA09-BB3158A8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935D-31B7-49E9-A89C-B6DF91AE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63BD-FE4F-446C-B9F4-A1BAC677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970-4FDE-4C4D-BBB7-55322F85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C99E-1BDA-4927-9E7B-1CA42B58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B7C9-DD8C-45BB-80EE-1AB4D331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3570-93C8-4306-9B3C-E6607557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C8CC-0BFE-4668-8CAC-2CB77BEE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FCE3-CBC0-4235-957E-7A3279BD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6261-9FF0-4092-B595-222997D5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977-16CB-4056-B5DD-6E25442E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6B8-D3C4-41C3-994B-4365A073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DD9-CBD9-4A39-96DE-C93A78DF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134-53DF-42FF-AF8A-31BD4610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0D7-3B60-45A1-A993-9960331B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5E3-AFFE-4F6B-A497-23ADA156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5D76-5C75-401B-B934-181837AC8E54}" type="slidenum">
              <a:rPr b="0" lang="ru-RU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AD0A-11B7-468A-944B-95145B85128B}" type="slidenum"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d3300"/>
                </a:solidFill>
                <a:latin typeface="Arial Black"/>
              </a:rPr>
              <a:t>Домашнее задание:</a:t>
            </a:r>
            <a:br>
              <a:rPr sz="4800"/>
            </a:br>
            <a:r>
              <a:rPr b="0" lang="ru-RU" sz="4800" spc="-1" strike="noStrike">
                <a:solidFill>
                  <a:srgbClr val="19194d"/>
                </a:solidFill>
                <a:latin typeface="Arial Black"/>
              </a:rPr>
              <a:t>мифы и рифы.</a:t>
            </a:r>
            <a:br>
              <a:rPr sz="4800"/>
            </a:b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61405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Arial Unicode MS"/>
                <a:ea typeface="Arial Unicode MS"/>
              </a:rPr>
              <a:t>Методические посиделки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00"/>
                </a:solidFill>
                <a:latin typeface="Arial Black"/>
              </a:rPr>
              <a:t>Правильно организованные уроки на дом (Н.К.Крупская)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Чувство ответственности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Прилежание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Самостоятельность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Средство разумной и содержательной организации внешкольного времени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61560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07" name="Содержимое 3" descr=""/>
          <p:cNvPicPr/>
          <p:nvPr/>
        </p:nvPicPr>
        <p:blipFill>
          <a:blip r:embed="rId1"/>
          <a:stretch/>
        </p:blipFill>
        <p:spPr>
          <a:xfrm>
            <a:off x="517680" y="2206800"/>
            <a:ext cx="795636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Arial Black"/>
              </a:rPr>
              <a:t>Домашние задания по своему содержанию включают в себя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16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Усвоение изучаемого материала по учебнику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ыполнение устных упражнен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ыполнение письменных упражнен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ыполнение творческих работ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164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Подготовка докладов, сообщен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Проведение наблюден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ыполнение практических ии лабораторных работ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Изготовление таблиц, кластеров, диаграмм, схем по изучаемому материалу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 Black"/>
              </a:rPr>
              <a:t>Индивидуальные домашние задания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16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Преодоление пробелов в знаниях  учащихся по отдельным темам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Усиление тренировочных упражнений по выработке практических умений и навыков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164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Задания повышенной сложности – развитие индивидуальных творческих способностей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Arial Black"/>
              </a:rPr>
              <a:t>Виды домашних заданий в условиях дифференциации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Три уровня домашнего задания: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Обязательный минимум (по силам любому ученику)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Тренировочный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Творческое задание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 Black"/>
              </a:rPr>
              <a:t>Виды домашних заданий в условиях дифференциации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160" y="205704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Домашнее задание «Снежный ком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Любой из уровней д/з учитель может задавать как «снежный ком»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Задаётся большой массив задач сразу – в рамках большой повторяемой или изучаемой темы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1640" y="220932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Особое домашнее задание: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Участники олимпиады, слабые по здоровью дети, будущие абитуриенты профильных вузов и т.д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6600"/>
                </a:solidFill>
                <a:latin typeface="Arial Black"/>
              </a:rPr>
              <a:t>«Хороший учитель тот, у кого трудно получить двойку и легко пятёрку»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20" name="Содержимое 5" descr=""/>
          <p:cNvPicPr/>
          <p:nvPr/>
        </p:nvPicPr>
        <p:blipFill>
          <a:blip r:embed="rId1"/>
          <a:stretch/>
        </p:blipFill>
        <p:spPr>
          <a:xfrm>
            <a:off x="530280" y="2193840"/>
            <a:ext cx="793728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 Black"/>
              </a:rPr>
              <a:t>Методические посиделки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9900"/>
                </a:solidFill>
                <a:uFillTx/>
                <a:latin typeface="Arial"/>
              </a:rPr>
              <a:t>Цель:</a:t>
            </a:r>
            <a:r>
              <a:rPr b="0" i="1" lang="ru-RU" sz="2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9900"/>
                </a:solidFill>
                <a:latin typeface="Arial"/>
              </a:rPr>
              <a:t>формирование правильной точки зрения по определённой педагогической проблеме; создание благоприятного психологического климата в данной группе участников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9900"/>
                </a:solidFill>
                <a:uFillTx/>
                <a:latin typeface="Arial"/>
              </a:rPr>
              <a:t>Форма:</a:t>
            </a:r>
            <a:r>
              <a:rPr b="0" i="1" lang="ru-RU" sz="2000" spc="-1" strike="noStrike">
                <a:solidFill>
                  <a:srgbClr val="cc9900"/>
                </a:solidFill>
                <a:latin typeface="Arial"/>
              </a:rPr>
              <a:t> круглый стол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164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</a:rPr>
              <a:t>Методика организации и проведения:</a:t>
            </a:r>
            <a:r>
              <a:rPr b="0" i="1" lang="ru-RU" sz="2000" spc="-1" strike="noStrike">
                <a:solidFill>
                  <a:srgbClr val="cc9900"/>
                </a:solidFill>
                <a:latin typeface="Arial"/>
              </a:rPr>
              <a:t> для обсуждения предлагаются вопросы, существенные для решения каких-то ключевых задач УВП; вызвать на откровенный разговор по обсуждаемому вопросу и подвести их к определённым выводам; тему заранее можно не объявлять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0600"/>
            <a:ext cx="62485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405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4d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"/>
              </a:rPr>
              <a:t>Нужны ли домашние задани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"/>
              </a:rPr>
              <a:t>Зачем нужны домашние задани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"/>
              </a:rPr>
              <a:t>Какими должны быть домашние задани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"/>
              </a:rPr>
              <a:t>Как вы относитесь к ГДЗ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"/>
              </a:rPr>
              <a:t>Когда лучше задавать домашние задани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"/>
              </a:rPr>
              <a:t>Как проверять домашние задани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3300"/>
                </a:solidFill>
                <a:latin typeface="Arial Black"/>
              </a:rPr>
              <a:t>Домашняя работа – организованная самостоятельная деятельность школьников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Под </a:t>
            </a:r>
            <a:r>
              <a:rPr b="1" i="1" lang="ru-RU" sz="2400" spc="-1" strike="noStrike" u="sng">
                <a:solidFill>
                  <a:srgbClr val="cc9900"/>
                </a:solidFill>
                <a:uFillTx/>
                <a:latin typeface="Arial"/>
              </a:rPr>
              <a:t>самостоятельной деятельностью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понимается совокупность, объединённых общей целью и выполняющих общественную функцию (В.Н.Шаулин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</a:rPr>
              <a:t>Подготовка к самостоятельной деятельности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9900"/>
                </a:solidFill>
                <a:uFillTx/>
                <a:latin typeface="Arial"/>
              </a:rPr>
              <a:t>Чёткая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инструкция о целях и задачах самостоятельных занят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Систематическая проверка даваемых задан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ыработка простейших приёмов самоконтрол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 Black"/>
              </a:rPr>
              <a:t>Проверка домашнего задания – существенный и действующий </a:t>
            </a:r>
            <a:r>
              <a:rPr b="0" i="1" lang="ru-RU" sz="3200" spc="-1" strike="noStrike" u="sng">
                <a:solidFill>
                  <a:srgbClr val="4d3300"/>
                </a:solidFill>
                <a:uFillTx/>
                <a:latin typeface="Arial Black"/>
              </a:rPr>
              <a:t>«канал», связывающий домашнюю работу и работы на уроке, </a:t>
            </a:r>
            <a:r>
              <a:rPr b="0" lang="ru-RU" sz="3200" spc="-1" strike="noStrike">
                <a:solidFill>
                  <a:srgbClr val="4d3300"/>
                </a:solidFill>
                <a:latin typeface="Arial Black"/>
              </a:rPr>
              <a:t>помогающий объединить  их в единый учебно-воспитательный процесс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548604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35"/>
                </a:solidFill>
                <a:latin typeface="Arial Black"/>
              </a:rPr>
              <a:t>Способы проверки домашнего задания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16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Фронтальная 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Выборочная ( у отдельных учащихся, можно проводить по ходу урока)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164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Взаимная проверка (в парах)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Коллективная проверка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Проверка консультантами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24852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Arial Black"/>
              </a:rPr>
              <a:t>Слишком </a:t>
            </a:r>
            <a:r>
              <a:rPr b="1" i="1" lang="ru-RU" sz="4400" spc="-1" strike="noStrike" u="sng">
                <a:solidFill>
                  <a:srgbClr val="996600"/>
                </a:solidFill>
                <a:uFillTx/>
                <a:latin typeface="Arial Black"/>
              </a:rPr>
              <a:t>объёмные </a:t>
            </a:r>
            <a:r>
              <a:rPr b="0" lang="ru-RU" sz="4400" spc="-1" strike="noStrike">
                <a:solidFill>
                  <a:srgbClr val="996600"/>
                </a:solidFill>
                <a:latin typeface="Arial Black"/>
              </a:rPr>
              <a:t>домашние задания приводят к </a:t>
            </a:r>
            <a:r>
              <a:rPr b="1" i="1" lang="ru-RU" sz="4400" spc="-1" strike="noStrike" u="sng">
                <a:solidFill>
                  <a:srgbClr val="996600"/>
                </a:solidFill>
                <a:uFillTx/>
                <a:latin typeface="Arial Black"/>
              </a:rPr>
              <a:t>снижению успеваемости </a:t>
            </a:r>
            <a:r>
              <a:rPr b="0" lang="ru-RU" sz="4400" spc="-1" strike="noStrike">
                <a:solidFill>
                  <a:srgbClr val="996600"/>
                </a:solidFill>
                <a:latin typeface="Arial Black"/>
              </a:rPr>
              <a:t>школьников</a:t>
            </a:r>
            <a:endParaRPr b="0" lang="en-US" sz="4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5181120"/>
            <a:ext cx="61405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 Black"/>
              </a:rPr>
              <a:t>Готовые домашние задания (ГДЗ)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Кто такой Дон Кихот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Что мы празднуем 9 МА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Кто такая Н.К.Крупска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Что такое гильотина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Что такое дефлораци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9900"/>
                </a:solidFill>
                <a:uFillTx/>
                <a:latin typeface="Arial"/>
              </a:rPr>
              <a:t>Интеллектуальная недостаточность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 Black"/>
              </a:rPr>
              <a:t>Несколько слов в защиту домашних заданий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01" name="Содержимое 3" descr=""/>
          <p:cNvPicPr/>
          <p:nvPr/>
        </p:nvPicPr>
        <p:blipFill>
          <a:blip r:embed="rId1"/>
          <a:stretch/>
        </p:blipFill>
        <p:spPr>
          <a:xfrm>
            <a:off x="530280" y="2206800"/>
            <a:ext cx="79372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 Black"/>
              </a:rPr>
              <a:t>Несколько слов в защиту домашних заданий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03" name="Содержимое 3" descr=""/>
          <p:cNvPicPr/>
          <p:nvPr/>
        </p:nvPicPr>
        <p:blipFill>
          <a:blip r:embed="rId1"/>
          <a:stretch/>
        </p:blipFill>
        <p:spPr>
          <a:xfrm>
            <a:off x="517680" y="2193840"/>
            <a:ext cx="796104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10:40:21Z</dcterms:created>
  <dc:creator/>
  <dc:description/>
  <cp:keywords/>
  <dc:language>en-US</dc:language>
  <cp:lastModifiedBy>Администратор</cp:lastModifiedBy>
  <dcterms:modified xsi:type="dcterms:W3CDTF">2010-12-14T08:16:05Z</dcterms:modified>
  <cp:revision>25</cp:revision>
  <dc:subject/>
  <dc:title>Домашнее задание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