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367-BC97-4D87-85E3-E3A130BF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FAA-8322-4EB7-88BE-50B5ECC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E64-22D2-48A5-BDCB-34DFB2BC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C98-C8D1-4758-A0F8-6B6F257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1DF2-D6BC-4C0D-A4A3-CAFFC7EE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EC83-E6CE-483D-B09B-2D76344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F143-CA61-4854-9820-E02062D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5AEC-4D90-4F22-8557-9B0D7DA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F80-4886-4D09-82C8-E1F7FCE6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CCFA-95B9-4B9B-8B3C-40947B99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F984-4B0F-4105-86A1-37CEAC9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FFD-2F3F-42BF-B6EA-239AFD5D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8D08-AE2E-483E-AFE7-6BED6043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1B9A-26CC-479C-B15F-FD77C2D6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074D-B9E5-4FD4-9160-740988F4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36B1-1B8C-47D1-85E2-2C82D7FC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03F3-BCE9-4002-A1D6-3B994B34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A0D-C4BD-4CAC-97CB-888C93D4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F2F-2915-4A23-9598-52F5800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DFF-3191-4BAC-B64D-7051B2A7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94C-6D64-4F5A-A3B6-9950818F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9A1-0D1D-4EB7-9759-6DC7BA6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18E-D19D-4C06-8756-D0D69FE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BE1-84F9-4BA6-A119-7BD13FB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B1A-C95C-402F-A1B9-49150729E364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A310-93AD-4840-ACE5-F3B89C682409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d3300"/>
                </a:solidFill>
                <a:latin typeface="Arial Black"/>
              </a:rPr>
              <a:t>Домашнее задание:</a:t>
            </a:r>
            <a:br>
              <a:rPr sz="4800"/>
            </a:br>
            <a:r>
              <a:rPr b="0" lang="ru-RU" sz="4800" spc="-1" strike="noStrike">
                <a:solidFill>
                  <a:srgbClr val="19194d"/>
                </a:solidFill>
                <a:latin typeface="Arial Black"/>
              </a:rPr>
              <a:t>мифы и рифы.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 Unicode MS"/>
                <a:ea typeface="Arial Unicode MS"/>
              </a:rPr>
              <a:t>Методические посиделк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00"/>
                </a:solidFill>
                <a:latin typeface="Arial Black"/>
              </a:rPr>
              <a:t>Правильно организованные уроки на дом (Н.К.Крупская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увство ответственност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илежание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амостоятельность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редство разумной и содержательной организации внешкольного времен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1560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7" name="Содержимое 3" descr=""/>
          <p:cNvPicPr/>
          <p:nvPr/>
        </p:nvPicPr>
        <p:blipFill>
          <a:blip r:embed="rId1"/>
          <a:stretch/>
        </p:blipFill>
        <p:spPr>
          <a:xfrm>
            <a:off x="517680" y="2206800"/>
            <a:ext cx="7956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 Black"/>
              </a:rPr>
              <a:t>Домашние задания по своему содержанию включают в себя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Усвоение изучаемого материала по учебник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устных упражн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письменных упражн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творческих работ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одготовка докладов, сообщ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роведение наблюд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практических ии лабораторных работ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Изготовление таблиц, кластеров, диаграмм, схем по изучаемому материал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Индивидуальные домашние задан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реодоление пробелов в знаниях  учащихся по отдельным тема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Усиление тренировочных упражнений по выработке практических умений и навы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Задания повышенной сложности – развитие индивидуальных творческих способностей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 Black"/>
              </a:rPr>
              <a:t>Виды домашних заданий в условиях дифференциации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ри уровня домашнего задания: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Обязательный минимум (по силам любому ученику)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ренировочный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 Black"/>
              </a:rPr>
              <a:t>Виды домашних заданий в условиях дифференциации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16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Домашнее задание «Снежный ком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Любой из уровней д/з учитель может задавать как «снежный ком»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Задаётся большой массив задач сразу – в рамках большой повторяемой или изучаемой темы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1640" y="22093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Особое домашнее задание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Участники олимпиады, слабые по здоровью дети, будущие абитуриенты профильных вузов и т.д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00"/>
                </a:solidFill>
                <a:latin typeface="Arial Black"/>
              </a:rPr>
              <a:t>«Хороший учитель тот, у кого трудно получить двойку и легко пятёрку»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20" name="Содержимое 5" descr=""/>
          <p:cNvPicPr/>
          <p:nvPr/>
        </p:nvPicPr>
        <p:blipFill>
          <a:blip r:embed="rId1"/>
          <a:stretch/>
        </p:blipFill>
        <p:spPr>
          <a:xfrm>
            <a:off x="530280" y="2193840"/>
            <a:ext cx="79372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Методические посиделки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Цель:</a:t>
            </a:r>
            <a:r>
              <a:rPr b="0" i="1" lang="ru-RU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формирование правильной точки зрения по определённой педагогической проблеме; создание благоприятного психологического климата в данной группе участников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Форма: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 круглый стол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Методика организации и проведения: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 для обсуждения предлагаются вопросы, существенные для решения каких-то ключевых задач УВП; вызвать на откровенный разговор по обсуждаемому вопросу и подвести их к определённым выводам; тему заранее можно не объявлять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0600"/>
            <a:ext cx="62485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40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Нужны ли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Зачем нужны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ими должны бы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 вы относитесь к ГДЗ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огда лучше задава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 проверя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3300"/>
                </a:solidFill>
                <a:latin typeface="Arial Black"/>
              </a:rPr>
              <a:t>Домашняя работа – организованная самостоятельная деятельность школьников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од </a:t>
            </a:r>
            <a:r>
              <a:rPr b="1" i="1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самостоятельной деятельность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онимается совокупность, объединённых общей целью и выполняющих общественную функцию (В.Н.Шаулин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Подготовка к самостоятельной деятельност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Чёткая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инструкция о целях и задачах самостоятельных занят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Систематическая проверка даваемых зада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работка простейших приёмов самоконтро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 Black"/>
              </a:rPr>
              <a:t>Проверка домашнего задания – существенный и действующий </a:t>
            </a:r>
            <a:r>
              <a:rPr b="0" i="1" lang="ru-RU" sz="3200" spc="-1" strike="noStrike" u="sng">
                <a:solidFill>
                  <a:srgbClr val="4d3300"/>
                </a:solidFill>
                <a:uFillTx/>
                <a:latin typeface="Arial Black"/>
              </a:rPr>
              <a:t>«канал», связывающий домашнюю работу и работы на уроке, </a:t>
            </a:r>
            <a:r>
              <a:rPr b="0" lang="ru-RU" sz="3200" spc="-1" strike="noStrike">
                <a:solidFill>
                  <a:srgbClr val="4d3300"/>
                </a:solidFill>
                <a:latin typeface="Arial Black"/>
              </a:rPr>
              <a:t>помогающий объединить  их в единый учебно-воспитательный процесс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548604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35"/>
                </a:solidFill>
                <a:latin typeface="Arial Black"/>
              </a:rPr>
              <a:t>Способы проверки домашнего задан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Фронтальная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Выборочная ( у отдельных учащихся, можно проводить по ходу урок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Взаимная проверка (в парах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Коллективная проверка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Проверка консультантами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2485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Слишком </a:t>
            </a:r>
            <a:r>
              <a:rPr b="1" i="1" lang="ru-RU" sz="4400" spc="-1" strike="noStrike" u="sng">
                <a:solidFill>
                  <a:srgbClr val="996600"/>
                </a:solidFill>
                <a:uFillTx/>
                <a:latin typeface="Arial Black"/>
              </a:rPr>
              <a:t>объёмные </a:t>
            </a: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домашние задания приводят к </a:t>
            </a:r>
            <a:r>
              <a:rPr b="1" i="1" lang="ru-RU" sz="4400" spc="-1" strike="noStrike" u="sng">
                <a:solidFill>
                  <a:srgbClr val="996600"/>
                </a:solidFill>
                <a:uFillTx/>
                <a:latin typeface="Arial Black"/>
              </a:rPr>
              <a:t>снижению успеваемости </a:t>
            </a: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школьник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5181120"/>
            <a:ext cx="6140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Готовые домашние задания (ГДЗ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то такой Дон Кихот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мы празднуем 9 МА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то такая Н.К.Крупска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такое гильотина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такое дефлорац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9900"/>
                </a:solidFill>
                <a:uFillTx/>
                <a:latin typeface="Arial"/>
              </a:rPr>
              <a:t>Интеллектуальная недостаточность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Несколько слов в защиту домашних заданий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530280" y="2206800"/>
            <a:ext cx="7937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Несколько слов в защиту домашних заданий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3" name="Содержимое 3" descr=""/>
          <p:cNvPicPr/>
          <p:nvPr/>
        </p:nvPicPr>
        <p:blipFill>
          <a:blip r:embed="rId1"/>
          <a:stretch/>
        </p:blipFill>
        <p:spPr>
          <a:xfrm>
            <a:off x="517680" y="2193840"/>
            <a:ext cx="79610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10:40:21Z</dcterms:created>
  <dc:creator/>
  <dc:description/>
  <cp:keywords/>
  <dc:language>en-US</dc:language>
  <cp:lastModifiedBy>Администратор</cp:lastModifiedBy>
  <dcterms:modified xsi:type="dcterms:W3CDTF">2010-12-14T08:16:05Z</dcterms:modified>
  <cp:revision>25</cp:revision>
  <dc:subject/>
  <dc:title>Домашнее задание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