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0D8-298C-4888-9571-8301C97E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197-01E8-49C0-BF49-9A965715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339-E97A-48F5-8741-06F1B47F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003-A624-4FA5-86F5-22F12526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8F54-772C-4472-A851-DC0A08AF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594C-130F-4D6C-877A-8AC0D376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F6F0-2A4A-437D-820C-80E4DAE7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B7BF-6445-4625-93E1-50594F78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72D6-170B-4702-9820-68EC32A6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99F3-D4FD-41D6-BC63-DCAB0385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04A8-3275-4227-B4D5-AC319EA7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68B-6BA3-4D79-84A8-468F9717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B21D-BA11-4FFA-8066-644A36EB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649C-9329-4348-896F-FC9C5DAD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93A7-49C2-49EE-B3C0-E6D81990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48E7-05AC-4F27-9DAD-25EA98A6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96E6-91A0-4547-B167-077918AA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31A-EE2C-4BC6-9AD9-F17FF4C3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7C0-11D9-4835-8B88-BBA06F1E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89E-C89F-4F15-8768-7B4DEED7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FE1-C01E-4420-B49A-35AD56FC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A98-C65E-4EA1-8282-5CE6085D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7D4-BA90-4864-AB27-A4BBA0E1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6E5-3894-4B3D-98D6-24FC350F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D875-4FFF-449A-AEA1-FCB83BE63530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7770-44CB-4F84-909A-63EB4B8DF042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d3300"/>
                </a:solidFill>
                <a:latin typeface="Arial Black"/>
              </a:rPr>
              <a:t>Домашнее задание:</a:t>
            </a:r>
            <a:br>
              <a:rPr sz="4800"/>
            </a:br>
            <a:r>
              <a:rPr b="0" lang="ru-RU" sz="4800" spc="-1" strike="noStrike">
                <a:solidFill>
                  <a:srgbClr val="19194d"/>
                </a:solidFill>
                <a:latin typeface="Arial Black"/>
              </a:rPr>
              <a:t>мифы и рифы.</a:t>
            </a:r>
            <a:br>
              <a:rPr sz="4800"/>
            </a:b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Arial Unicode MS"/>
                <a:ea typeface="Arial Unicode MS"/>
              </a:rPr>
              <a:t>Методические посиделки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00"/>
                </a:solidFill>
                <a:latin typeface="Arial Black"/>
              </a:rPr>
              <a:t>Правильно организованные уроки на дом (Н.К.Крупская)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увство ответственности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Прилежание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амостоятельность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Средство разумной и содержательной организации внешкольного времени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61560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7" name="Содержимое 3" descr=""/>
          <p:cNvPicPr/>
          <p:nvPr/>
        </p:nvPicPr>
        <p:blipFill>
          <a:blip r:embed="rId1"/>
          <a:stretch/>
        </p:blipFill>
        <p:spPr>
          <a:xfrm>
            <a:off x="517680" y="2206800"/>
            <a:ext cx="79563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 Black"/>
              </a:rPr>
              <a:t>Домашние задания по своему содержанию включают в себя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Усвоение изучаемого материала по учебник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устных упражн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письменных упражн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творческих работ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одготовка докладов, сообщ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роведение наблюде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полнение практических ии лабораторных работ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Изготовление таблиц, кластеров, диаграмм, схем по изучаемому материал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Индивидуальные домашние задания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реодоление пробелов в знаниях  учащихся по отдельным темам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Усиление тренировочных упражнений по выработке практических умений и навыков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Задания повышенной сложности – развитие индивидуальных творческих способностей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 Black"/>
              </a:rPr>
              <a:t>Виды домашних заданий в условиях дифференциации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Три уровня домашнего задания: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Обязательный минимум (по силам любому ученику)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Тренировочный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Творческое задание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 Black"/>
              </a:rPr>
              <a:t>Виды домашних заданий в условиях дифференциации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16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Домашнее задание «Снежный ком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Любой из уровней д/з учитель может задавать как «снежный ком»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Задаётся большой массив задач сразу – в рамках большой повторяемой или изучаемой темы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1640" y="22093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Особое домашнее задание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Участники олимпиады, слабые по здоровью дети, будущие абитуриенты профильных вузов и т.д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6600"/>
                </a:solidFill>
                <a:latin typeface="Arial Black"/>
              </a:rPr>
              <a:t>«Хороший учитель тот, у кого трудно получить двойку и легко пятёрку»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20" name="Содержимое 5" descr=""/>
          <p:cNvPicPr/>
          <p:nvPr/>
        </p:nvPicPr>
        <p:blipFill>
          <a:blip r:embed="rId1"/>
          <a:stretch/>
        </p:blipFill>
        <p:spPr>
          <a:xfrm>
            <a:off x="530280" y="2193840"/>
            <a:ext cx="79372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Методические посиделки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Цель:</a:t>
            </a:r>
            <a:r>
              <a:rPr b="0" i="1" lang="ru-RU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формирование правильной точки зрения по определённой педагогической проблеме; создание благоприятного психологического климата в данной группе участников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9900"/>
                </a:solidFill>
                <a:uFillTx/>
                <a:latin typeface="Arial"/>
              </a:rPr>
              <a:t>Форма: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 круглый стол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</a:rPr>
              <a:t>Методика организации и проведения:</a:t>
            </a:r>
            <a:r>
              <a:rPr b="0" i="1" lang="ru-RU" sz="2000" spc="-1" strike="noStrike">
                <a:solidFill>
                  <a:srgbClr val="cc9900"/>
                </a:solidFill>
                <a:latin typeface="Arial"/>
              </a:rPr>
              <a:t> для обсуждения предлагаются вопросы, существенные для решения каких-то ключевых задач УВП; вызвать на откровенный разговор по обсуждаемому вопросу и подвести их к определённым выводам; тему заранее можно не объявлять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0600"/>
            <a:ext cx="62485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405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Нужны ли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Зачем нужны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акими должны быть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ак вы относитесь к ГДЗ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огда лучше задавать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"/>
              </a:rPr>
              <a:t>Как проверять домашние задан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3300"/>
                </a:solidFill>
                <a:latin typeface="Arial Black"/>
              </a:rPr>
              <a:t>Домашняя работа – организованная самостоятельная деятельность школьников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Под </a:t>
            </a:r>
            <a:r>
              <a:rPr b="1" i="1" lang="ru-RU" sz="2400" spc="-1" strike="noStrike" u="sng">
                <a:solidFill>
                  <a:srgbClr val="cc9900"/>
                </a:solidFill>
                <a:uFillTx/>
                <a:latin typeface="Arial"/>
              </a:rPr>
              <a:t>самостоятельной деятельностью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понимается совокупность, объединённых общей целью и выполняющих общественную функцию (В.Н.Шаулин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</a:rPr>
              <a:t>Подготовка к самостоятельной деятельности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9900"/>
                </a:solidFill>
                <a:uFillTx/>
                <a:latin typeface="Arial"/>
              </a:rPr>
              <a:t>Чёткая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инструкция о целях и задачах самостоятельных занят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Систематическая проверка даваемых задан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ыработка простейших приёмов самоконтрол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3300"/>
                </a:solidFill>
                <a:latin typeface="Arial Black"/>
              </a:rPr>
              <a:t>Проверка домашнего задания – существенный и действующий </a:t>
            </a:r>
            <a:r>
              <a:rPr b="0" i="1" lang="ru-RU" sz="3200" spc="-1" strike="noStrike" u="sng">
                <a:solidFill>
                  <a:srgbClr val="4d3300"/>
                </a:solidFill>
                <a:uFillTx/>
                <a:latin typeface="Arial Black"/>
              </a:rPr>
              <a:t>«канал», связывающий домашнюю работу и работы на уроке, </a:t>
            </a:r>
            <a:r>
              <a:rPr b="0" lang="ru-RU" sz="3200" spc="-1" strike="noStrike">
                <a:solidFill>
                  <a:srgbClr val="4d3300"/>
                </a:solidFill>
                <a:latin typeface="Arial Black"/>
              </a:rPr>
              <a:t>помогающий объединить  их в единый учебно-воспитательный процесс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548604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35"/>
                </a:solidFill>
                <a:latin typeface="Arial Black"/>
              </a:rPr>
              <a:t>Способы проверки домашнего задания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16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Фронтальная 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Выборочная ( у отдельных учащихся, можно проводить по ходу урока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1640" y="22096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Взаимная проверка (в парах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Коллективная проверка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Проверка консультантами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24852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Arial Black"/>
              </a:rPr>
              <a:t>Слишком </a:t>
            </a:r>
            <a:r>
              <a:rPr b="1" i="1" lang="ru-RU" sz="4400" spc="-1" strike="noStrike" u="sng">
                <a:solidFill>
                  <a:srgbClr val="996600"/>
                </a:solidFill>
                <a:uFillTx/>
                <a:latin typeface="Arial Black"/>
              </a:rPr>
              <a:t>объёмные </a:t>
            </a:r>
            <a:r>
              <a:rPr b="0" lang="ru-RU" sz="4400" spc="-1" strike="noStrike">
                <a:solidFill>
                  <a:srgbClr val="996600"/>
                </a:solidFill>
                <a:latin typeface="Arial Black"/>
              </a:rPr>
              <a:t>домашние задания приводят к </a:t>
            </a:r>
            <a:r>
              <a:rPr b="1" i="1" lang="ru-RU" sz="4400" spc="-1" strike="noStrike" u="sng">
                <a:solidFill>
                  <a:srgbClr val="996600"/>
                </a:solidFill>
                <a:uFillTx/>
                <a:latin typeface="Arial Black"/>
              </a:rPr>
              <a:t>снижению успеваемости </a:t>
            </a:r>
            <a:r>
              <a:rPr b="0" lang="ru-RU" sz="4400" spc="-1" strike="noStrike">
                <a:solidFill>
                  <a:srgbClr val="996600"/>
                </a:solidFill>
                <a:latin typeface="Arial Black"/>
              </a:rPr>
              <a:t>школьников</a:t>
            </a: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5181120"/>
            <a:ext cx="6140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Готовые домашние задания (ГДЗ)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то такой Дон Кихот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то мы празднуем 9 МА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Кто такая Н.К.Крупска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то такое гильотина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Что такое дефлорация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9900"/>
                </a:solidFill>
                <a:uFillTx/>
                <a:latin typeface="Arial"/>
              </a:rPr>
              <a:t>Интеллектуальная недостаточность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Несколько слов в защиту домашних заданий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1" name="Содержимое 3" descr=""/>
          <p:cNvPicPr/>
          <p:nvPr/>
        </p:nvPicPr>
        <p:blipFill>
          <a:blip r:embed="rId1"/>
          <a:stretch/>
        </p:blipFill>
        <p:spPr>
          <a:xfrm>
            <a:off x="530280" y="2206800"/>
            <a:ext cx="79372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 Black"/>
              </a:rPr>
              <a:t>Несколько слов в защиту домашних заданий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3" name="Содержимое 3" descr=""/>
          <p:cNvPicPr/>
          <p:nvPr/>
        </p:nvPicPr>
        <p:blipFill>
          <a:blip r:embed="rId1"/>
          <a:stretch/>
        </p:blipFill>
        <p:spPr>
          <a:xfrm>
            <a:off x="517680" y="2193840"/>
            <a:ext cx="79610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10:40:21Z</dcterms:created>
  <dc:creator/>
  <dc:description/>
  <cp:keywords/>
  <dc:language>en-US</dc:language>
  <cp:lastModifiedBy>Администратор</cp:lastModifiedBy>
  <dcterms:modified xsi:type="dcterms:W3CDTF">2010-12-14T08:16:05Z</dcterms:modified>
  <cp:revision>25</cp:revision>
  <dc:subject/>
  <dc:title>Домашнее задание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