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730-F984-425E-A415-03C0B6B9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D1F-2FE2-4077-9E15-31D51D65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A28-9E6A-406E-9E19-7FE88DB0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F9C-56D8-4536-914C-9AE6BCBB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F10-5313-4801-BC7B-58A4C564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04B-75F8-4588-A3A1-D0F1B276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1A7-BFC4-4BBD-B454-47587AB4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90E-04A7-4BA1-ACD2-E29D0947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061C-BAD0-4FE7-892D-4B5214A4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4A5-6022-4F81-81B2-471D9ED1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328-34BE-4D8F-A8E6-D3929CB3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6F4-CC1F-47F3-B848-A8C49B4B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2689-93B8-4019-B556-5B2681E743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orld-basket.biz/galery2/index.php?event=showimg&amp;msnum=78596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скетб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вида 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bball"/>
          <p:cNvPicPr/>
          <p:nvPr/>
        </p:nvPicPr>
        <p:blipFill>
          <a:blip r:embed="rId1"/>
          <a:stretch/>
        </p:blipFill>
        <p:spPr>
          <a:xfrm>
            <a:off x="539640" y="549360"/>
            <a:ext cx="2175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СКЕТБОЛ (от англ. basket — корзина и ball — мяч), спортивная командная игра с мячом, который забрасывают руками в кольцо с сеткой (т. н. корзину), укрепленное на щите на высоте 3,05 м. Родина баскетбола — США (1891). В Международной федерации баскетбола (FIBA; основана в 1932) св. 180 стран (1999). В программе Олимпийских игр с 1936; чемпионаты мира с 1950, Европы с 1935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Brand">
            <a:hlinkClick r:id="rId1"/>
          </p:cNvPr>
          <p:cNvPicPr/>
          <p:nvPr/>
        </p:nvPicPr>
        <p:blipFill>
          <a:blip r:embed="rId2"/>
          <a:srcRect l="0" t="0" r="-130" b="0"/>
          <a:stretch/>
        </p:blipFill>
        <p:spPr>
          <a:xfrm>
            <a:off x="826920" y="260280"/>
            <a:ext cx="3313440" cy="263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dsc_4112"/>
          <p:cNvPicPr/>
          <p:nvPr/>
        </p:nvPicPr>
        <p:blipFill>
          <a:blip r:embed="rId3"/>
          <a:stretch/>
        </p:blipFill>
        <p:spPr>
          <a:xfrm>
            <a:off x="4643280" y="260280"/>
            <a:ext cx="35323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СКЕТБОЛ спортивная командная игра (по 5 человек в каждой команде) с мячом, который забрасывают руками в кольцо с сеткой (т.н. корзину), укрепленное на щите на высоте 3,05 м; мяч можно передавать, бросать, отбивать, катить или вести руками в любом направл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image002"/>
          <p:cNvPicPr/>
          <p:nvPr/>
        </p:nvPicPr>
        <p:blipFill>
          <a:blip r:embed="rId1"/>
          <a:stretch/>
        </p:blipFill>
        <p:spPr>
          <a:xfrm>
            <a:off x="6300720" y="1557360"/>
            <a:ext cx="25434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ксиканские предки баскетбо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882720"/>
            <a:ext cx="5545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даря археологическим раскопкам в Мексике, была открыта площадка для игры в мяч (10 век до н.э.) длиной 147 м. Массивные трибуны для зрителей располагались на высоте 8-8,5м. Игра называлась «Пок-Та-Пок», играли литым каучуковым мячом размером с человеческую голову. Игроки могли находиться только на своей половине поля, не переходя линию, делившую площадку пополам. В стены трибун, на этой же линии, были вделаны напротив друг друга два больших каменных коль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rg_76871_img0382"/>
          <p:cNvPicPr/>
          <p:nvPr/>
        </p:nvPicPr>
        <p:blipFill>
          <a:blip r:embed="rId1"/>
          <a:stretch/>
        </p:blipFill>
        <p:spPr>
          <a:xfrm>
            <a:off x="6300720" y="1268280"/>
            <a:ext cx="26766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19640" y="1557360"/>
            <a:ext cx="547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игры — забить мяч в кольцо. Бить по мячу можно было локтем либо коленом, а также битой. Побеждала команда, которой удавалось попасть в кольцо (его диаметр был меньше мяча на ничтожно малую величину). Во время раскопок был обнаружен барельеф, на котором изображен обезглавленный капитан побежденной команд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117040-%C1%E0%F1%EA%E5%F2%E1%EE%EB"/>
          <p:cNvPicPr/>
          <p:nvPr/>
        </p:nvPicPr>
        <p:blipFill>
          <a:blip r:embed="rId1"/>
          <a:stretch/>
        </p:blipFill>
        <p:spPr>
          <a:xfrm>
            <a:off x="468360" y="1341360"/>
            <a:ext cx="28098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6 веке ацтеки играли в подобную игру, в которой использовались каучуковый мяч и каменное кольцо. Если мяч попадал в кольцо, то в награду игрок получал одежду от зрителей. В 1979 почтовое ведомство Мексики выпустило марку, названную «игра ацтеков», на ней было изображено каменное кольцо, в отверстие которого нацелены, выстроившись в ряд баскетбольный, волейбольный, футбольный и бейсбольный мя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67-160"/>
          <p:cNvPicPr/>
          <p:nvPr/>
        </p:nvPicPr>
        <p:blipFill>
          <a:blip r:embed="rId1"/>
          <a:stretch/>
        </p:blipFill>
        <p:spPr>
          <a:xfrm>
            <a:off x="324000" y="4653000"/>
            <a:ext cx="287964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walls312"/>
          <p:cNvPicPr/>
          <p:nvPr/>
        </p:nvPicPr>
        <p:blipFill>
          <a:blip r:embed="rId2"/>
          <a:stretch/>
        </p:blipFill>
        <p:spPr>
          <a:xfrm>
            <a:off x="3348000" y="4653000"/>
            <a:ext cx="266400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basketball"/>
          <p:cNvPicPr/>
          <p:nvPr/>
        </p:nvPicPr>
        <p:blipFill>
          <a:blip r:embed="rId3"/>
          <a:stretch/>
        </p:blipFill>
        <p:spPr>
          <a:xfrm>
            <a:off x="6084720" y="4653000"/>
            <a:ext cx="28083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07:13:26Z</dcterms:created>
  <dc:creator>cursant</dc:creator>
  <dc:description/>
  <dc:language>en-US</dc:language>
  <cp:lastModifiedBy>ZooM</cp:lastModifiedBy>
  <dcterms:modified xsi:type="dcterms:W3CDTF">2013-12-03T20:15:26Z</dcterms:modified>
  <cp:revision>7</cp:revision>
  <dc:subject/>
  <dc:title>Игра баскетб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30000000000010243000207f6000400038000</vt:lpwstr>
  </property>
</Properties>
</file>