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EF2-3FAE-4804-AE90-1D693252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C4F5-D3F7-4F05-8F9E-F32D377A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009-A7CD-4DA1-9793-3F0DF7CA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2150-FC75-48B4-8E56-2C0CFCEE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0370-1BA0-42C9-ACAD-14326805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A57-62B5-4A94-808B-60F5F1C0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EF6-0D9D-4005-AD07-575150BC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1418-9D14-4271-9DE1-84CB3C3A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389F-72FF-4100-8565-EA28E63C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E99-8121-48CE-A22B-0BBE4B44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B82-8AB9-4DD6-899A-F7C07770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44FD-0A01-4B2E-A8D2-20173DFD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71A0-F067-4A23-A612-273EA92FED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orld-basket.biz/galery2/index.php?event=showimg&amp;msnum=78596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скетб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вида с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bball"/>
          <p:cNvPicPr/>
          <p:nvPr/>
        </p:nvPicPr>
        <p:blipFill>
          <a:blip r:embed="rId1"/>
          <a:stretch/>
        </p:blipFill>
        <p:spPr>
          <a:xfrm>
            <a:off x="539640" y="549360"/>
            <a:ext cx="21751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СКЕТБОЛ (от англ. basket — корзина и ball — мяч), спортивная командная игра с мячом, который забрасывают руками в кольцо с сеткой (т. н. корзину), укрепленное на щите на высоте 3,05 м. Родина баскетбола — США (1891). В Международной федерации баскетбола (FIBA; основана в 1932) св. 180 стран (1999). В программе Олимпийских игр с 1936; чемпионаты мира с 1950, Европы с 1935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Brand">
            <a:hlinkClick r:id="rId1"/>
          </p:cNvPr>
          <p:cNvPicPr/>
          <p:nvPr/>
        </p:nvPicPr>
        <p:blipFill>
          <a:blip r:embed="rId2"/>
          <a:srcRect l="0" t="0" r="-130" b="0"/>
          <a:stretch/>
        </p:blipFill>
        <p:spPr>
          <a:xfrm>
            <a:off x="826920" y="260280"/>
            <a:ext cx="3313440" cy="2637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dsc_4112"/>
          <p:cNvPicPr/>
          <p:nvPr/>
        </p:nvPicPr>
        <p:blipFill>
          <a:blip r:embed="rId3"/>
          <a:stretch/>
        </p:blipFill>
        <p:spPr>
          <a:xfrm>
            <a:off x="4643280" y="260280"/>
            <a:ext cx="35323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СКЕТБОЛ спортивная командная игра (по 5 человек в каждой команде) с мячом, который забрасывают руками в кольцо с сеткой (т.н. корзину), укрепленное на щите на высоте 3,05 м; мяч можно передавать, бросать, отбивать, катить или вести руками в любом направл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image002"/>
          <p:cNvPicPr/>
          <p:nvPr/>
        </p:nvPicPr>
        <p:blipFill>
          <a:blip r:embed="rId1"/>
          <a:stretch/>
        </p:blipFill>
        <p:spPr>
          <a:xfrm>
            <a:off x="6300720" y="1557360"/>
            <a:ext cx="25434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ксиканские предки баскетбо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882720"/>
            <a:ext cx="5545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одаря археологическим раскопкам в Мексике, была открыта площадка для игры в мяч (10 век до н.э.) длиной 147 м. Массивные трибуны для зрителей располагались на высоте 8-8,5м. Игра называлась «Пок-Та-Пок», играли литым каучуковым мячом размером с человеческую голову. Игроки могли находиться только на своей половине поля, не переходя линию, делившую площадку пополам. В стены трибун, на этой же линии, были вделаны напротив друг друга два больших каменных коль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rg_76871_img0382"/>
          <p:cNvPicPr/>
          <p:nvPr/>
        </p:nvPicPr>
        <p:blipFill>
          <a:blip r:embed="rId1"/>
          <a:stretch/>
        </p:blipFill>
        <p:spPr>
          <a:xfrm>
            <a:off x="6300720" y="1268280"/>
            <a:ext cx="26766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19640" y="1557360"/>
            <a:ext cx="547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игры — забить мяч в кольцо. Бить по мячу можно было локтем либо коленом, а также битой. Побеждала команда, которой удавалось попасть в кольцо (его диаметр был меньше мяча на ничтожно малую величину). Во время раскопок был обнаружен барельеф, на котором изображен обезглавленный капитан побежденной команд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117040-%C1%E0%F1%EA%E5%F2%E1%EE%EB"/>
          <p:cNvPicPr/>
          <p:nvPr/>
        </p:nvPicPr>
        <p:blipFill>
          <a:blip r:embed="rId1"/>
          <a:stretch/>
        </p:blipFill>
        <p:spPr>
          <a:xfrm>
            <a:off x="468360" y="1341360"/>
            <a:ext cx="28098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6 веке ацтеки играли в подобную игру, в которой использовались каучуковый мяч и каменное кольцо. Если мяч попадал в кольцо, то в награду игрок получал одежду от зрителей. В 1979 почтовое ведомство Мексики выпустило марку, названную «игра ацтеков», на ней было изображено каменное кольцо, в отверстие которого нацелены, выстроившись в ряд баскетбольный, волейбольный, футбольный и бейсбольный мя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67-160"/>
          <p:cNvPicPr/>
          <p:nvPr/>
        </p:nvPicPr>
        <p:blipFill>
          <a:blip r:embed="rId1"/>
          <a:stretch/>
        </p:blipFill>
        <p:spPr>
          <a:xfrm>
            <a:off x="324000" y="4653000"/>
            <a:ext cx="287964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walls312"/>
          <p:cNvPicPr/>
          <p:nvPr/>
        </p:nvPicPr>
        <p:blipFill>
          <a:blip r:embed="rId2"/>
          <a:stretch/>
        </p:blipFill>
        <p:spPr>
          <a:xfrm>
            <a:off x="3348000" y="4653000"/>
            <a:ext cx="266400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basketball"/>
          <p:cNvPicPr/>
          <p:nvPr/>
        </p:nvPicPr>
        <p:blipFill>
          <a:blip r:embed="rId3"/>
          <a:stretch/>
        </p:blipFill>
        <p:spPr>
          <a:xfrm>
            <a:off x="6084720" y="4653000"/>
            <a:ext cx="28083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07:13:26Z</dcterms:created>
  <dc:creator>cursant</dc:creator>
  <dc:description/>
  <dc:language>en-US</dc:language>
  <cp:lastModifiedBy>ZooM</cp:lastModifiedBy>
  <dcterms:modified xsi:type="dcterms:W3CDTF">2013-12-03T20:15:26Z</dcterms:modified>
  <cp:revision>7</cp:revision>
  <dc:subject/>
  <dc:title>Игра баскетбо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030000000000010243000207f6000400038000</vt:lpwstr>
  </property>
</Properties>
</file>