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6CD-745F-485B-A11B-F84C530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31E-BA20-4D19-9493-D4D2ABD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19E-AA0D-417E-A6F4-2068075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E77-9155-4F90-8FA3-F01D5F7B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3A7-2EF8-4409-BB4F-B0F0F01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776-4AE0-4D74-8BF0-B13DACF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CD8-B24B-4DD2-BBA7-2BBE3837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50D-9483-41B7-9977-5A6DEC6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7CA-3131-42BD-AD4B-A39DFB3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353-AC0B-44BB-84C8-B2D5BA57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11D-2918-4929-BD5A-365D1A3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D29-4F4F-433A-8B90-8FC8C7C5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3711-8C3D-4BC7-8904-861048F4A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orld-basket.biz/galery2/index.php?event=showimg&amp;msnum=7859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ида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ball"/>
          <p:cNvPicPr/>
          <p:nvPr/>
        </p:nvPicPr>
        <p:blipFill>
          <a:blip r:embed="rId1"/>
          <a:stretch/>
        </p:blipFill>
        <p:spPr>
          <a:xfrm>
            <a:off x="539640" y="549360"/>
            <a:ext cx="2175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(от англ. basket — корзина и ball — мяч), спортивная командная игра с мячом, который забрасывают руками в кольцо с сеткой (т. н. корзину), укрепленное на щите на высоте 3,05 м. Родина баскетбола — США (1891). В Международной федерации баскетбола (FIBA; основана в 1932) св. 180 стран (1999). В программе Олимпийских игр с 1936; чемпионаты мира с 1950, Европы с 1935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Brand">
            <a:hlinkClick r:id="rId1"/>
          </p:cNvPr>
          <p:cNvPicPr/>
          <p:nvPr/>
        </p:nvPicPr>
        <p:blipFill>
          <a:blip r:embed="rId2"/>
          <a:srcRect l="0" t="0" r="-130" b="0"/>
          <a:stretch/>
        </p:blipFill>
        <p:spPr>
          <a:xfrm>
            <a:off x="826920" y="260280"/>
            <a:ext cx="3313440" cy="263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dsc_4112"/>
          <p:cNvPicPr/>
          <p:nvPr/>
        </p:nvPicPr>
        <p:blipFill>
          <a:blip r:embed="rId3"/>
          <a:stretch/>
        </p:blipFill>
        <p:spPr>
          <a:xfrm>
            <a:off x="4643280" y="260280"/>
            <a:ext cx="3532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спортивная командная игра (по 5 человек в каждой команде) с мячом, который забрасывают руками в кольцо с сеткой (т.н. корзину), укрепленное на щите на высоте 3,05 м; мяч можно передавать, бросать, отбивать, катить или вести руками в любом направ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mage002"/>
          <p:cNvPicPr/>
          <p:nvPr/>
        </p:nvPicPr>
        <p:blipFill>
          <a:blip r:embed="rId1"/>
          <a:stretch/>
        </p:blipFill>
        <p:spPr>
          <a:xfrm>
            <a:off x="6300720" y="1557360"/>
            <a:ext cx="2543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ксиканские предки баскетбо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882720"/>
            <a:ext cx="554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археологическим раскопкам в Мексике, была открыта площадка для игры в мяч (10 век до н.э.) длиной 147 м. Массивные трибуны для зрителей располагались на высоте 8-8,5м. Игра называлась «Пок-Та-Пок», играли литым каучуковым мячом размером с человеческую голову. Игроки могли находиться только на своей половине поля, не переходя линию, делившую площадку пополам. В стены трибун, на этой же линии, были вделаны напротив друг друга два больших каменных ко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rg_76871_img0382"/>
          <p:cNvPicPr/>
          <p:nvPr/>
        </p:nvPicPr>
        <p:blipFill>
          <a:blip r:embed="rId1"/>
          <a:stretch/>
        </p:blipFill>
        <p:spPr>
          <a:xfrm>
            <a:off x="6300720" y="1268280"/>
            <a:ext cx="2676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9640" y="155736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гры — забить мяч в кольцо. Бить по мячу можно было локтем либо коленом, а также битой. Побеждала команда, которой удавалось попасть в кольцо (его диаметр был меньше мяча на ничтожно малую величину). Во время раскопок был обнаружен барельеф, на котором изображен обезглавленный капитан побежденной коман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7040-%C1%E0%F1%EA%E5%F2%E1%EE%EB"/>
          <p:cNvPicPr/>
          <p:nvPr/>
        </p:nvPicPr>
        <p:blipFill>
          <a:blip r:embed="rId1"/>
          <a:stretch/>
        </p:blipFill>
        <p:spPr>
          <a:xfrm>
            <a:off x="468360" y="1341360"/>
            <a:ext cx="2809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 веке ацтеки играли в подобную игру, в которой использовались каучуковый мяч и каменное кольцо. Если мяч попадал в кольцо, то в награду игрок получал одежду от зрителей. В 1979 почтовое ведомство Мексики выпустило марку, названную «игра ацтеков», на ней было изображено каменное кольцо, в отверстие которого нацелены, выстроившись в ряд баскетбольный, волейбольный, футбольный и бейсбольный мя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7-160"/>
          <p:cNvPicPr/>
          <p:nvPr/>
        </p:nvPicPr>
        <p:blipFill>
          <a:blip r:embed="rId1"/>
          <a:stretch/>
        </p:blipFill>
        <p:spPr>
          <a:xfrm>
            <a:off x="324000" y="465300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alls312"/>
          <p:cNvPicPr/>
          <p:nvPr/>
        </p:nvPicPr>
        <p:blipFill>
          <a:blip r:embed="rId2"/>
          <a:stretch/>
        </p:blipFill>
        <p:spPr>
          <a:xfrm>
            <a:off x="3348000" y="465300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basketball"/>
          <p:cNvPicPr/>
          <p:nvPr/>
        </p:nvPicPr>
        <p:blipFill>
          <a:blip r:embed="rId3"/>
          <a:stretch/>
        </p:blipFill>
        <p:spPr>
          <a:xfrm>
            <a:off x="6084720" y="4653000"/>
            <a:ext cx="2808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7:13:26Z</dcterms:created>
  <dc:creator>cursant</dc:creator>
  <dc:description/>
  <dc:language>en-US</dc:language>
  <cp:lastModifiedBy>ZooM</cp:lastModifiedBy>
  <dcterms:modified xsi:type="dcterms:W3CDTF">2013-12-03T20:15:26Z</dcterms:modified>
  <cp:revision>7</cp:revision>
  <dc:subject/>
  <dc:title>Игра баскет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000207f6000400038000</vt:lpwstr>
  </property>
</Properties>
</file>