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8999538" cy="8172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96F3-1CB1-4D68-B3DE-8FA7A7F0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48315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226-2D6C-43F6-8C98-800B369A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52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0F6-15CF-462E-996A-BDB22C1F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848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848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0E1-A6D3-4A17-BC3C-FC6CA41B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50137-C28D-41D0-8FD3-D3EC8773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426CE-0502-4547-87FE-124F0C8A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5E400-2D75-4817-B73C-53E702B1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59CE9-2406-4CD1-9DD6-9123A1D8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30E04-F94A-482B-BAEC-F31F90F8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0360" y="347400"/>
            <a:ext cx="8101080" cy="76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B2E37-2FCA-4371-A6C9-88201F5A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C3511-C0C4-4325-93B3-1DFBA8CC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5E8-351B-48A6-BA0A-9B5711C7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152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790C9-A502-493B-9164-8E8DC00E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119A6-5B17-498D-856F-25361FAD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0360" y="48315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E8F33-DA50-407F-9C61-9E2649D3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0152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43495-C7AA-4E13-938F-75E763D6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848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036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848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8B2CF-F896-43A2-B49B-C8DDC70F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153-1D72-4F13-98B0-71EA6E51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A8E-4935-47EB-8E08-3A941563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01A-04D2-4165-84EB-F5E6A130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347400"/>
            <a:ext cx="8101080" cy="76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BF7-086C-4930-AB17-5376B798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C6F-0B56-437C-8BEB-069AEA0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52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F9F-6C24-4AF2-BFBE-FB1C5574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A238-AF23-47A9-AB5E-100F7981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7442280"/>
            <a:ext cx="21002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7442280"/>
            <a:ext cx="28508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1560" y="7442280"/>
            <a:ext cx="21002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7161-C06B-4D0F-AE28-30B86CBD3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1160" y="3340080"/>
            <a:ext cx="1440" cy="361800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074760" y="7442280"/>
            <a:ext cx="28508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451560" y="7442280"/>
            <a:ext cx="21002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B859-9D54-4E23-AF41-1C46887C7F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0720" y="7442280"/>
            <a:ext cx="21002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85840" y="299880"/>
            <a:ext cx="8501040" cy="75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Вертикальный свиток 3"/>
          <p:cNvSpPr/>
          <p:nvPr/>
        </p:nvSpPr>
        <p:spPr>
          <a:xfrm>
            <a:off x="357120" y="514440"/>
            <a:ext cx="8072640" cy="69292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нализ результатов хозяйственно-финансовой деятельности аптечной организации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0720" y="325080"/>
            <a:ext cx="2960640" cy="1832040"/>
          </a:xfrm>
          <a:prstGeom prst="rect">
            <a:avLst/>
          </a:prstGeom>
          <a:solidFill>
            <a:srgbClr val="cc0066"/>
          </a:solidFill>
          <a:ln w="9360">
            <a:solidFill>
              <a:srgbClr val="c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новные типы бухгалтерских документов при оформлении хозяйственных операци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19000" y="157320"/>
            <a:ext cx="5032440" cy="75722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ичные бухгалтерские документы должны быть составлены в момент совершения хозяйственной операции или непосредственно по ее оконча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ичный бухгалтерский документ – это основное свидетельство, подтверждающее законность хозяйственных операций в организ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ухгалтерские документы характе-ризуются следующими показателям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дами применяемых документ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м обязательных реквизит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апами обработки (проверка, кодирование и т.д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собами исправления записей в документ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хемой документооборота (коли-чество экземпляров, ответственные за составление, сроки составления, порядок передачи в архив, сроки хранения документов и др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0720" y="2300040"/>
            <a:ext cx="2960640" cy="54291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бственно первичные документы (обеспечивают осуществление оперативного аналитического учет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тные регистры (документы для обобщающего синтетического учет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214200" y="228600"/>
          <a:ext cx="8572680" cy="7559640"/>
        </p:xfrm>
        <a:graphic>
          <a:graphicData uri="http://schemas.openxmlformats.org/drawingml/2006/table">
            <a:tbl>
              <a:tblPr/>
              <a:tblGrid>
                <a:gridCol w="1657440"/>
                <a:gridCol w="2552760"/>
                <a:gridCol w="2552760"/>
                <a:gridCol w="1809720"/>
              </a:tblGrid>
              <a:tr h="335160"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ификационный призна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докумен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ткая характеристи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ы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670680">
                <a:tc rowSpan="4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начени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порядительны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ют право на совершение хозяйственных операций, строго определенных распоряжением должностного лиц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е-накладная, доверенн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50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авдатель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тверждают факт свершения хозяйственной оп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совый отчет, приходный кассовый ордер, акт прием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бинировани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четают в себе распорядительный и оправдательный характер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ный кассовый ордер, платежная ведом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67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хгалтерского оформл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олняются в учетных целях для облегчения и ускорения работы, самостоятельного назначения не имею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авка о распределении прибыли, расчет амортизационных отчисл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480">
                <a:tc rowSpan="2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ень обобщения учетной информ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ход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ляют в момент совершения хозяйственной оп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совые ордера, наклад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од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ают путем группировки информации из исходных документ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совый отчет, обратная ведом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120">
                <a:tc rowSpan="2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 охвата операц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в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жают одну или несколько однородных хозяйственных операц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совые ордера, акты на спис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53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опитель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т информацию об однородных хозяйственных операциях за определенный временной пери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бель учета рабочего времени, кассовый отче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160">
                <a:tc rowSpan="3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хозяйственных операц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ь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жают движение товарно-материальных ценност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ладна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чет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формляют расчетные взаимоотношения с партнер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отная ведомость по лицевым счета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неж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формляют операции с наличными и безналичными средств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тежное поручение, че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480">
                <a:tc rowSpan="2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то составл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утренни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ются и функционируют внутри организ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вентарные карточки, кассовые ордер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и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упают со стороны и на входе должны регистрироватьс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чет-фактура, акт приемки - передач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268920">
                <a:tc rowSpan="2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 заполне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ваемые вручную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ются на бумажном носител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матизирован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ются с использованием компьютерных технолог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160">
                <a:tc rowSpan="2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учитываемых позиц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роч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т только одну учетную позицию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совые ордера, инвентарная карточ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гостроч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т две или более учетных позиц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е, наклад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Загнутый угол 1"/>
          <p:cNvSpPr/>
          <p:nvPr/>
        </p:nvSpPr>
        <p:spPr>
          <a:xfrm>
            <a:off x="285840" y="228600"/>
            <a:ext cx="8358120" cy="1771560"/>
          </a:xfrm>
          <a:prstGeom prst="foldedCorner">
            <a:avLst>
              <a:gd name="adj" fmla="val 16666"/>
            </a:avLst>
          </a:prstGeom>
          <a:solidFill>
            <a:srgbClr val="00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ичные учетные документы принимаются к учету, если они составлены по форме, содержащейся в альбомах унифицированных форм первичной учетной документации, документы, форма которых не предусмотрена в этих альбомах, должны содержать обязательные реквизиты (ФЗ «О бухгалтерском учете» статья 9, п.2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Загнутый угол 3"/>
          <p:cNvSpPr/>
          <p:nvPr/>
        </p:nvSpPr>
        <p:spPr>
          <a:xfrm>
            <a:off x="285840" y="2157480"/>
            <a:ext cx="8358120" cy="571320"/>
          </a:xfrm>
          <a:prstGeom prst="foldedCorner">
            <a:avLst>
              <a:gd name="adj" fmla="val 16666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4d"/>
                </a:solidFill>
                <a:latin typeface="Tahoma"/>
              </a:rPr>
              <a:t>К обязательным реквизитам первичных учетных документов относя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1714680" y="2871720"/>
            <a:ext cx="6929280" cy="5000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именование документа (форм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1714680" y="3586320"/>
            <a:ext cx="6929280" cy="6429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именование организации, от имени которой составлен докумен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Прямоугольник 6"/>
          <p:cNvSpPr/>
          <p:nvPr/>
        </p:nvSpPr>
        <p:spPr>
          <a:xfrm>
            <a:off x="1714680" y="4443480"/>
            <a:ext cx="6929280" cy="5000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держание хозяйственной опера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Прямоугольник 7"/>
          <p:cNvSpPr/>
          <p:nvPr/>
        </p:nvSpPr>
        <p:spPr>
          <a:xfrm>
            <a:off x="1714680" y="5157720"/>
            <a:ext cx="6929280" cy="714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мерители хозяйственной операции (в натуральном и денежном выражен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Прямоугольник 8"/>
          <p:cNvSpPr/>
          <p:nvPr/>
        </p:nvSpPr>
        <p:spPr>
          <a:xfrm>
            <a:off x="1714680" y="6086520"/>
            <a:ext cx="6929280" cy="8571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именование должностей лиц, ответственных за совершение хозяйственной операции и правильность ее оформ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Прямоугольник 9"/>
          <p:cNvSpPr/>
          <p:nvPr/>
        </p:nvSpPr>
        <p:spPr>
          <a:xfrm>
            <a:off x="1714680" y="7157880"/>
            <a:ext cx="6929280" cy="5004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ные подписи и их расшифров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Блок-схема: узел 12"/>
          <p:cNvSpPr/>
          <p:nvPr/>
        </p:nvSpPr>
        <p:spPr>
          <a:xfrm>
            <a:off x="357120" y="299880"/>
            <a:ext cx="285840" cy="285840"/>
          </a:xfrm>
          <a:prstGeom prst="flowChartConnector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Блок-схема: узел 13"/>
          <p:cNvSpPr/>
          <p:nvPr/>
        </p:nvSpPr>
        <p:spPr>
          <a:xfrm>
            <a:off x="8072280" y="1514520"/>
            <a:ext cx="285840" cy="285840"/>
          </a:xfrm>
          <a:prstGeom prst="flowChartConnector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Блок-схема: узел 14"/>
          <p:cNvSpPr/>
          <p:nvPr/>
        </p:nvSpPr>
        <p:spPr>
          <a:xfrm>
            <a:off x="8143920" y="2371680"/>
            <a:ext cx="285840" cy="285840"/>
          </a:xfrm>
          <a:prstGeom prst="flowChartConnector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Блок-схема: узел 15"/>
          <p:cNvSpPr/>
          <p:nvPr/>
        </p:nvSpPr>
        <p:spPr>
          <a:xfrm>
            <a:off x="500040" y="2300400"/>
            <a:ext cx="285840" cy="285480"/>
          </a:xfrm>
          <a:prstGeom prst="flowChartConnector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Прямоугольник 16"/>
          <p:cNvSpPr/>
          <p:nvPr/>
        </p:nvSpPr>
        <p:spPr>
          <a:xfrm>
            <a:off x="642960" y="2871720"/>
            <a:ext cx="428760" cy="400068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Овал 17"/>
          <p:cNvSpPr/>
          <p:nvPr/>
        </p:nvSpPr>
        <p:spPr>
          <a:xfrm>
            <a:off x="500040" y="7015320"/>
            <a:ext cx="700200" cy="71424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Блок-схема: магнитный диск 1"/>
          <p:cNvSpPr/>
          <p:nvPr/>
        </p:nvSpPr>
        <p:spPr>
          <a:xfrm>
            <a:off x="357120" y="228600"/>
            <a:ext cx="8429760" cy="1500120"/>
          </a:xfrm>
          <a:prstGeom prst="flowChartMagneticDisk">
            <a:avLst/>
          </a:prstGeom>
          <a:solidFill>
            <a:srgbClr val="99ff33"/>
          </a:solidFill>
          <a:ln w="9360">
            <a:solidFill>
              <a:srgbClr val="793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Содержащаяся в принятых  к учету первичных документах информация накапливается и систематизируется в сводных документах – регистрах бухгалтерского уч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Прямоугольник 2"/>
          <p:cNvSpPr/>
          <p:nvPr/>
        </p:nvSpPr>
        <p:spPr>
          <a:xfrm>
            <a:off x="428760" y="1800360"/>
            <a:ext cx="36432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своему внешнему виду учетные регистры подразделяются н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5143680" y="1800360"/>
            <a:ext cx="364320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своему содержанию учетные регистры подразделяются н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Блок-схема: несколько документов 4"/>
          <p:cNvSpPr/>
          <p:nvPr/>
        </p:nvSpPr>
        <p:spPr>
          <a:xfrm>
            <a:off x="0" y="2800440"/>
            <a:ext cx="4714920" cy="1928880"/>
          </a:xfrm>
          <a:prstGeom prst="flowChartMultidocumen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7937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ahoma"/>
              </a:rPr>
              <a:t>Карточки (предназначены для аналитического учета основных средств (инвентарные карточки), материальных ценностей по местам их хранения (карточки учета материалов) и др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Блок-схема: несколько документов 5"/>
          <p:cNvSpPr/>
          <p:nvPr/>
        </p:nvSpPr>
        <p:spPr>
          <a:xfrm>
            <a:off x="0" y="4729320"/>
            <a:ext cx="4572000" cy="185724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7937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ahoma"/>
              </a:rPr>
              <a:t>Сводные листы (предназначены для синтетического и аналити-ческого учета или выполняют роль комбинированных регистров. К ним относятся журналы-ордера, ведомости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Блок-схема: несколько документов 6"/>
          <p:cNvSpPr/>
          <p:nvPr/>
        </p:nvSpPr>
        <p:spPr>
          <a:xfrm>
            <a:off x="0" y="6729480"/>
            <a:ext cx="5786280" cy="1071360"/>
          </a:xfrm>
          <a:prstGeom prst="flowChartMultidocumen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7937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ahoma"/>
              </a:rPr>
              <a:t>Книги (на предприятиях обязательно ведутся кассовая книга, главная книга – регистр синтетического учета)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Блок-схема: карточка 7"/>
          <p:cNvSpPr/>
          <p:nvPr/>
        </p:nvSpPr>
        <p:spPr>
          <a:xfrm>
            <a:off x="5500800" y="2943360"/>
            <a:ext cx="3286080" cy="804600"/>
          </a:xfrm>
          <a:prstGeom prst="flowChartPunchedCard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регистры аналитического уч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Блок-схема: карточка 8"/>
          <p:cNvSpPr/>
          <p:nvPr/>
        </p:nvSpPr>
        <p:spPr>
          <a:xfrm>
            <a:off x="5500800" y="3943440"/>
            <a:ext cx="3286080" cy="804600"/>
          </a:xfrm>
          <a:prstGeom prst="flowChartPunchedCard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регистры синтетического уч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Блок-схема: карточка 9"/>
          <p:cNvSpPr/>
          <p:nvPr/>
        </p:nvSpPr>
        <p:spPr>
          <a:xfrm>
            <a:off x="5572080" y="5014800"/>
            <a:ext cx="3214800" cy="804960"/>
          </a:xfrm>
          <a:prstGeom prst="flowChartPunchedCard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комбинированные регист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Прямоугольник 10"/>
          <p:cNvSpPr/>
          <p:nvPr/>
        </p:nvSpPr>
        <p:spPr>
          <a:xfrm>
            <a:off x="5929200" y="5943600"/>
            <a:ext cx="3071880" cy="22287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нформация о хозяйственных операциях, произведен-ных за определенный период времени, из регистров бухгалтерского учета переносится в сгруппированном вид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бухгалтерскую отчетность!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Схема 1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8515080" cy="7753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500040" y="0"/>
            <a:ext cx="8001000" cy="571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вентариз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Скругленный прямоугольник 2"/>
          <p:cNvSpPr/>
          <p:nvPr/>
        </p:nvSpPr>
        <p:spPr>
          <a:xfrm>
            <a:off x="214200" y="657360"/>
            <a:ext cx="8572680" cy="39290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Законодательно-правовая основа проведения инвентаризации создается следующими документам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ФЗ № 129 «О бухгалтерском учете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«Положение по ведению бухгалтерского учета и отчетности в РФ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ПБУ 1/08 «Учетная политика организации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«Методические указания по инвентаризации имущества и финансовых обязательств», утвержденные Приказом Минфина РФ от 13.06.95г. № 49 (ред. 08.11.2010г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«Положение о порядке проведения инвентаризации имущества налогоплательщиков при налоговой проверке» от 21.03.99г. № 20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Скругленный прямоугольник 3"/>
          <p:cNvSpPr/>
          <p:nvPr/>
        </p:nvSpPr>
        <p:spPr>
          <a:xfrm>
            <a:off x="357120" y="4586400"/>
            <a:ext cx="8429760" cy="35859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цели инвентариза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явление фактического наличия имущества, учетного и не учетного в данной организации, но находящегося на его территор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ение фактического количества использованных товарно-материальных ценностей в процессе торгов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поставление фактических данных с данными бухгалтерского уче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ка правильности оценки имущества и обязательств с учетом рыночной стоим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Рамка 1"/>
          <p:cNvSpPr/>
          <p:nvPr/>
        </p:nvSpPr>
        <p:spPr>
          <a:xfrm>
            <a:off x="1071720" y="228600"/>
            <a:ext cx="6357960" cy="5716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Проведение инвентаризации обязательн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Прямоугольник 2"/>
          <p:cNvSpPr/>
          <p:nvPr/>
        </p:nvSpPr>
        <p:spPr>
          <a:xfrm>
            <a:off x="285840" y="942840"/>
            <a:ext cx="8501040" cy="1128960"/>
          </a:xfrm>
          <a:prstGeom prst="rect">
            <a:avLst/>
          </a:prstGeom>
          <a:solidFill>
            <a:srgbClr val="010199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ередаче имущества организации в аренду, выкупе, продаже, а также в случаях, предусмотренных законодательством при преобразовании государственного или муниципального унитарного предприя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Прямоугольник 3"/>
          <p:cNvSpPr/>
          <p:nvPr/>
        </p:nvSpPr>
        <p:spPr>
          <a:xfrm>
            <a:off x="285840" y="2157480"/>
            <a:ext cx="8501040" cy="11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составлением годовой бухгалтерской отчетности, кроме имущества, инвентаризация которого проводилась не ранее 1 октября отчетного года; инвентаризация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х средств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т проводиться 1 раз в 3 г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Прямоугольник 4"/>
          <p:cNvSpPr/>
          <p:nvPr/>
        </p:nvSpPr>
        <p:spPr>
          <a:xfrm>
            <a:off x="285840" y="3371760"/>
            <a:ext cx="8501040" cy="571680"/>
          </a:xfrm>
          <a:prstGeom prst="rect">
            <a:avLst/>
          </a:prstGeom>
          <a:solidFill>
            <a:srgbClr val="7030a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смене материально-ответственных лиц (на день приемки-передачи дел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Прямоугольник 5"/>
          <p:cNvSpPr/>
          <p:nvPr/>
        </p:nvSpPr>
        <p:spPr>
          <a:xfrm>
            <a:off x="285840" y="4014720"/>
            <a:ext cx="8501040" cy="642960"/>
          </a:xfrm>
          <a:prstGeom prst="rect">
            <a:avLst/>
          </a:prstGeom>
          <a:solidFill>
            <a:srgbClr val="cc660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установлении фактов хищений или злоупотреблений, а также порчи ценност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Прямоугольник 6"/>
          <p:cNvSpPr/>
          <p:nvPr/>
        </p:nvSpPr>
        <p:spPr>
          <a:xfrm>
            <a:off x="285840" y="4729320"/>
            <a:ext cx="8501040" cy="714240"/>
          </a:xfrm>
          <a:prstGeom prst="rect">
            <a:avLst/>
          </a:prstGeom>
          <a:solidFill>
            <a:srgbClr val="009500"/>
          </a:solidFill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лучаях стихийных бедствий, пожара, аварий или других чрезвычайных ситуаций, вызванных экстремальными условия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Прямоугольник 7"/>
          <p:cNvSpPr/>
          <p:nvPr/>
        </p:nvSpPr>
        <p:spPr>
          <a:xfrm>
            <a:off x="285840" y="5514840"/>
            <a:ext cx="8501040" cy="1128960"/>
          </a:xfrm>
          <a:prstGeom prst="rect">
            <a:avLst/>
          </a:prstGeom>
          <a:solidFill>
            <a:srgbClr val="cc0066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ликвидации (реорганизации) предприятия перед составлением ликвидационного (разделительного) баланса и в других случаях, предусматриваемых законодательством РФ или нормативными актами Минфина РФ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285840" y="6729480"/>
            <a:ext cx="8501040" cy="1128600"/>
          </a:xfrm>
          <a:prstGeom prst="rect">
            <a:avLst/>
          </a:prstGeom>
          <a:solidFill>
            <a:srgbClr val="363636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коллективной (бригадной) материальной ответственности инвентаризация проводится при смене руководителя коллектива (бригады), выбытии их коллектива более 50% его членов, по требованию одного или нескольких членов коллектива (бригады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8501040" y="371520"/>
            <a:ext cx="285840" cy="6572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Овал 2"/>
          <p:cNvSpPr/>
          <p:nvPr/>
        </p:nvSpPr>
        <p:spPr>
          <a:xfrm>
            <a:off x="8501040" y="7157880"/>
            <a:ext cx="285840" cy="285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Загнутый угол 3"/>
          <p:cNvSpPr/>
          <p:nvPr/>
        </p:nvSpPr>
        <p:spPr>
          <a:xfrm>
            <a:off x="214200" y="228600"/>
            <a:ext cx="8143920" cy="1214280"/>
          </a:xfrm>
          <a:prstGeom prst="foldedCorner">
            <a:avLst>
              <a:gd name="adj" fmla="val 16666"/>
            </a:avLst>
          </a:prstGeom>
          <a:solidFill>
            <a:srgbClr val="00c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инвентаризаций в отчетном году, дата их проведения, перечень имущества и  финансовых обязательств проверяемых при каждой из них, устанавливаются руководителем фармацевтической организации самостоятель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Загнутый угол 4"/>
          <p:cNvSpPr/>
          <p:nvPr/>
        </p:nvSpPr>
        <p:spPr>
          <a:xfrm>
            <a:off x="1643040" y="1585800"/>
            <a:ext cx="6715080" cy="1214640"/>
          </a:xfrm>
          <a:prstGeom prst="foldedCorner">
            <a:avLst>
              <a:gd name="adj" fmla="val 16666"/>
            </a:avLst>
          </a:prstGeom>
          <a:solidFill>
            <a:srgbClr val="7272f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проведения инвентаризации в организации создается постоянно действующая инвентаризационная комиссия, персональный состав которой утверждает руководите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Загнутый угол 5"/>
          <p:cNvSpPr/>
          <p:nvPr/>
        </p:nvSpPr>
        <p:spPr>
          <a:xfrm>
            <a:off x="214200" y="2943360"/>
            <a:ext cx="7215480" cy="1000080"/>
          </a:xfrm>
          <a:prstGeom prst="foldedCorner">
            <a:avLst>
              <a:gd name="adj" fmla="val 16666"/>
            </a:avLst>
          </a:prstGeom>
          <a:solidFill>
            <a:srgbClr val="66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умент о составе комиссии (приказ, распоряжение) регистрируют в журнале контроля за выполнением приказов о проведении инвентариз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Загнутый угол 6"/>
          <p:cNvSpPr/>
          <p:nvPr/>
        </p:nvSpPr>
        <p:spPr>
          <a:xfrm>
            <a:off x="214200" y="4086360"/>
            <a:ext cx="8143920" cy="1000080"/>
          </a:xfrm>
          <a:prstGeom prst="foldedCorner">
            <a:avLst>
              <a:gd name="adj" fmla="val 16666"/>
            </a:avLst>
          </a:prstGeom>
          <a:solidFill>
            <a:srgbClr val="cc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став инвентаризационной комиссии включаются представители администрации фармацевтической организации, работники бухгалтерии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Загнутый угол 7"/>
          <p:cNvSpPr/>
          <p:nvPr/>
        </p:nvSpPr>
        <p:spPr>
          <a:xfrm>
            <a:off x="571680" y="5229360"/>
            <a:ext cx="7215120" cy="1000080"/>
          </a:xfrm>
          <a:prstGeom prst="foldedCorner">
            <a:avLst>
              <a:gd name="adj" fmla="val 16666"/>
            </a:avLst>
          </a:prstGeom>
          <a:solidFill>
            <a:srgbClr val="008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е хотя бы одного члена комиссии при проведении инвентаризации служит основанием для признания результатов инвентаризации недействительными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Загнутый угол 8"/>
          <p:cNvSpPr/>
          <p:nvPr/>
        </p:nvSpPr>
        <p:spPr>
          <a:xfrm>
            <a:off x="0" y="6372360"/>
            <a:ext cx="8143920" cy="1571400"/>
          </a:xfrm>
          <a:prstGeom prst="foldedCorner">
            <a:avLst>
              <a:gd name="adj" fmla="val 16666"/>
            </a:avLst>
          </a:prstGeom>
          <a:solidFill>
            <a:srgbClr val="00007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ическое наличие имущества при инвентаризации определяют путем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тельного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дсчета, взвешивания, обмера. Сведения о фактическом наличии имущества и реальности учтенных финансовых обязательств записывают в инвентаризационные описи или акты инвентаризации не менее чем в 2 экземпляр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араллелограмм 1"/>
          <p:cNvSpPr/>
          <p:nvPr/>
        </p:nvSpPr>
        <p:spPr>
          <a:xfrm>
            <a:off x="0" y="0"/>
            <a:ext cx="7358040" cy="1343160"/>
          </a:xfrm>
          <a:prstGeom prst="parallelogram">
            <a:avLst>
              <a:gd name="adj" fmla="val 25007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оги инвентаризации фармацевтическая торговая организация может составля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водные инвентаризационные описи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отделам и по предприятию в цел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Параллелограмм 2"/>
          <p:cNvSpPr/>
          <p:nvPr/>
        </p:nvSpPr>
        <p:spPr>
          <a:xfrm>
            <a:off x="1643040" y="1442880"/>
            <a:ext cx="7358040" cy="1500480"/>
          </a:xfrm>
          <a:prstGeom prst="parallelogram">
            <a:avLst>
              <a:gd name="adj" fmla="val 24996"/>
            </a:avLst>
          </a:prstGeom>
          <a:solidFill>
            <a:srgbClr val="00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ы инвентаризации оформляются в «Актах инвентаризации...» по отдельным видам имущества и финансовых обязательств, а также «Сличительных ведомостях результатов инвентаризаци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214200" y="3157560"/>
            <a:ext cx="8572680" cy="4786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явленные при инвентаризации расхождения фактического наличия имущества с данными бухгалтерского учета регулируются в соответствии с «Положением о бухгалтерском учете и отчетности в РФ» в следующем порядк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средства, материальные ценности, денежные средства и др. имущество, оказавшиеся в излишке, подлежат оприходованию и зачислению соответственно на финансовые результаты организации или увеличение финансирования (фондов) у государственного (муниципального) учреждения с последующим установлением причин возникновения излишка и виновных лиц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ыль ценностей в пределах норм, утвержденных в установленном законодательством порядке, списывается по распоряжению руководителя организации соответственно на издержки производства и обращения или на уменьшение финансирования у государственного учреждения. Нормы убыли могут применяться только в случаях выявления фактических недостач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стачи материальных ценностей, денежных средств и др. имущества, порча сверх норм естественной убыли относятся на виновных лиц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ts val="1998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GrandCanyon_0005"/>
          <p:cNvPicPr/>
          <p:nvPr/>
        </p:nvPicPr>
        <p:blipFill>
          <a:blip r:embed="rId1"/>
          <a:stretch/>
        </p:blipFill>
        <p:spPr>
          <a:xfrm>
            <a:off x="-1257480" y="0"/>
            <a:ext cx="10258560" cy="8172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6"/>
          <p:cNvSpPr/>
          <p:nvPr/>
        </p:nvSpPr>
        <p:spPr>
          <a:xfrm>
            <a:off x="468360" y="2075400"/>
            <a:ext cx="94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unga"/>
              </a:rPr>
              <a:t>        </a:t>
            </a:r>
            <a:r>
              <a:rPr b="1" lang="ru-RU" sz="4000" spc="-1" strike="noStrike">
                <a:solidFill>
                  <a:srgbClr val="800000"/>
                </a:solidFill>
                <a:latin typeface="Tunga"/>
              </a:rPr>
              <a:t>Благодарю за вним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unga"/>
              </a:rPr>
              <a:t>          </a:t>
            </a:r>
            <a:r>
              <a:rPr b="1" lang="ru-RU" sz="4000" spc="-1" strike="noStrike">
                <a:solidFill>
                  <a:srgbClr val="800000"/>
                </a:solidFill>
                <a:latin typeface="Tunga"/>
              </a:rPr>
              <a:t>и желаю успехов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5" descr="герб"/>
          <p:cNvPicPr/>
          <p:nvPr/>
        </p:nvPicPr>
        <p:blipFill>
          <a:blip r:embed="rId2"/>
          <a:stretch/>
        </p:blipFill>
        <p:spPr>
          <a:xfrm>
            <a:off x="7215120" y="442800"/>
            <a:ext cx="1430280" cy="126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Стрелка вниз 3"/>
          <p:cNvSpPr/>
          <p:nvPr/>
        </p:nvSpPr>
        <p:spPr>
          <a:xfrm>
            <a:off x="357120" y="1014480"/>
            <a:ext cx="8429760" cy="1643040"/>
          </a:xfrm>
          <a:prstGeom prst="downArrow">
            <a:avLst>
              <a:gd name="adj1" fmla="val 50000"/>
              <a:gd name="adj2" fmla="val 5737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новные цели законодательства РФ о бухгалтерском учет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5" descr="герб"/>
          <p:cNvPicPr/>
          <p:nvPr/>
        </p:nvPicPr>
        <p:blipFill>
          <a:blip r:embed="rId1"/>
          <a:stretch/>
        </p:blipFill>
        <p:spPr>
          <a:xfrm>
            <a:off x="7215120" y="228600"/>
            <a:ext cx="1430280" cy="1266840"/>
          </a:xfrm>
          <a:prstGeom prst="rect">
            <a:avLst/>
          </a:prstGeom>
          <a:ln w="0">
            <a:noFill/>
          </a:ln>
        </p:spPr>
      </p:pic>
      <p:sp>
        <p:nvSpPr>
          <p:cNvPr id="87" name="Блок-схема: карточка 5"/>
          <p:cNvSpPr/>
          <p:nvPr/>
        </p:nvSpPr>
        <p:spPr>
          <a:xfrm>
            <a:off x="428760" y="2943360"/>
            <a:ext cx="3571920" cy="4857480"/>
          </a:xfrm>
          <a:prstGeom prst="flowChartPunchedCard">
            <a:avLst/>
          </a:pr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ение единообразия ведения учета имущества, обязательств и хозяйственных операций, осуществляемых организац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Блок-схема: карточка 6"/>
          <p:cNvSpPr/>
          <p:nvPr/>
        </p:nvSpPr>
        <p:spPr>
          <a:xfrm>
            <a:off x="4643280" y="2943360"/>
            <a:ext cx="4071960" cy="4857480"/>
          </a:xfrm>
          <a:prstGeom prst="flowChartPunchedCard">
            <a:avLst/>
          </a:pr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ление и предос-тавление сопоставимой и достоверной инфор-мации об имущест-венном положении организаций и их доходах и расходах, необходимой пользова-телям бухгалтерской отчет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85840" y="299880"/>
            <a:ext cx="8501040" cy="75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Схема 4" descr=""/>
          <p:cNvPicPr/>
          <p:nvPr/>
        </p:nvPicPr>
        <p:blipFill>
          <a:blip r:embed="rId1"/>
          <a:stretch/>
        </p:blipFill>
        <p:spPr>
          <a:xfrm>
            <a:off x="-19080" y="1066680"/>
            <a:ext cx="9053640" cy="71136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>
            <a:off x="642960" y="299880"/>
            <a:ext cx="7858080" cy="6429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ерархическая структура нормативно-правового регулирования бухгалтерского учет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500040" y="299880"/>
            <a:ext cx="8001000" cy="785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задачи системы нормативно-правового регулирования бухгалтерского уч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0" y="1300320"/>
            <a:ext cx="3000240" cy="6643440"/>
          </a:xfrm>
          <a:prstGeom prst="rect">
            <a:avLst/>
          </a:prstGeom>
          <a:solidFill>
            <a:srgbClr val="00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ирование полной и достоверной информации о деятельности организации и ее имущественном положении, необходимой внутренним пользователям бухгалтерской отчетности руководителям и собственникам имущества организации, а также внешним инвесторам, кредиторам и другим пользователям бухгалтерской отчет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3143160" y="1300320"/>
            <a:ext cx="3357720" cy="6643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еспечение инфор-мацией, необходимой внутренним и внешним пользователям бухгалтерской отчетности для контроля соблюдения законодательства РФ при осуществлении организацией хозяйственных операций и  их целесообразностью, наличием и движением имущества и обязательств, использованием материальных, трудовых и финансовых ресурсов в соответствии  с утвержденными нормами, нормативами и смет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6715080" y="1300320"/>
            <a:ext cx="2286000" cy="66434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отвра-щение отрица-тельных результатов хозяйственной деятельности организации и выявление внутрихозяйственных резервов обеспечения ее финансовой устойчив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араллелограмм 1"/>
          <p:cNvSpPr/>
          <p:nvPr/>
        </p:nvSpPr>
        <p:spPr>
          <a:xfrm>
            <a:off x="571680" y="228600"/>
            <a:ext cx="8215200" cy="571680"/>
          </a:xfrm>
          <a:prstGeom prst="parallelogram">
            <a:avLst>
              <a:gd name="adj" fmla="val -51761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ы бухгалтерского уч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14200" y="1228680"/>
            <a:ext cx="3786480" cy="20001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еспечивающие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зяй-ственно-финансовую деятельность органи-зации, в число которых входят имущество и обя-зательства организ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4429080" y="1085760"/>
            <a:ext cx="4357800" cy="2000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ставляющ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хозяйственно-финансовую деятельность предприятия, к которым относятся хозяйственные процессы (снабжение, производство, реализация) и их результа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Блок-схема: карточка 8"/>
          <p:cNvSpPr/>
          <p:nvPr/>
        </p:nvSpPr>
        <p:spPr>
          <a:xfrm>
            <a:off x="5072040" y="3657600"/>
            <a:ext cx="3714840" cy="1785960"/>
          </a:xfrm>
          <a:prstGeom prst="flowChartPunchedCar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Хозяйственный процесс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совокупность хозяйственных организаций в определенной функциональной сфере (снабжение, производство, реализация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Блок-схема: карточка 9"/>
          <p:cNvSpPr/>
          <p:nvPr/>
        </p:nvSpPr>
        <p:spPr>
          <a:xfrm>
            <a:off x="5143680" y="5729400"/>
            <a:ext cx="3643200" cy="1571400"/>
          </a:xfrm>
          <a:prstGeom prst="flowChartPunchedCard">
            <a:avLst/>
          </a:prstGeom>
          <a:solidFill>
            <a:srgbClr val="7171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Хозяйственная операция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каждый свершившийся в деятельности организации факт, оформленный документальн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Блок-схема: карточка 10"/>
          <p:cNvSpPr/>
          <p:nvPr/>
        </p:nvSpPr>
        <p:spPr>
          <a:xfrm>
            <a:off x="0" y="3657600"/>
            <a:ext cx="1928880" cy="1214280"/>
          </a:xfrm>
          <a:prstGeom prst="flowChartPunchedCard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ahoma"/>
              </a:rPr>
              <a:t>Состав и функциональ-ная рол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Блок-схема: карточка 11"/>
          <p:cNvSpPr/>
          <p:nvPr/>
        </p:nvSpPr>
        <p:spPr>
          <a:xfrm>
            <a:off x="2286000" y="3657600"/>
            <a:ext cx="1928880" cy="1214280"/>
          </a:xfrm>
          <a:prstGeom prst="flowChartPunchedCard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ahoma"/>
              </a:rPr>
              <a:t>Источники формирования и целевое назнач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Блок-схема: документ 12"/>
          <p:cNvSpPr/>
          <p:nvPr/>
        </p:nvSpPr>
        <p:spPr>
          <a:xfrm>
            <a:off x="785880" y="5372280"/>
            <a:ext cx="2428920" cy="1214280"/>
          </a:xfrm>
          <a:prstGeom prst="flowChartDocument">
            <a:avLst/>
          </a:prstGeom>
          <a:solidFill>
            <a:srgbClr val="793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необоротные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ктив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основной капитал, малолик-видные средств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Блок-схема: документ 13"/>
          <p:cNvSpPr/>
          <p:nvPr/>
        </p:nvSpPr>
        <p:spPr>
          <a:xfrm>
            <a:off x="785880" y="6872400"/>
            <a:ext cx="2428920" cy="1000080"/>
          </a:xfrm>
          <a:prstGeom prst="flowChartDocument">
            <a:avLst/>
          </a:prstGeom>
          <a:solidFill>
            <a:srgbClr val="793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боротные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ктивы (оборотный капитал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Стрелка вниз 14"/>
          <p:cNvSpPr/>
          <p:nvPr/>
        </p:nvSpPr>
        <p:spPr>
          <a:xfrm>
            <a:off x="714240" y="322884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Стрелка вниз 15"/>
          <p:cNvSpPr/>
          <p:nvPr/>
        </p:nvSpPr>
        <p:spPr>
          <a:xfrm>
            <a:off x="2928960" y="322884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Стрелка вниз 16"/>
          <p:cNvSpPr/>
          <p:nvPr/>
        </p:nvSpPr>
        <p:spPr>
          <a:xfrm>
            <a:off x="6715080" y="3086280"/>
            <a:ext cx="484200" cy="64260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Стрелка углом 17"/>
          <p:cNvSpPr/>
          <p:nvPr/>
        </p:nvSpPr>
        <p:spPr>
          <a:xfrm flipV="1">
            <a:off x="4643280" y="3086280"/>
            <a:ext cx="857520" cy="3714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Стрелка углом 18"/>
          <p:cNvSpPr/>
          <p:nvPr/>
        </p:nvSpPr>
        <p:spPr>
          <a:xfrm flipV="1">
            <a:off x="214200" y="4871160"/>
            <a:ext cx="857520" cy="2643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Стрелка вправо 19"/>
          <p:cNvSpPr/>
          <p:nvPr/>
        </p:nvSpPr>
        <p:spPr>
          <a:xfrm>
            <a:off x="285840" y="5657760"/>
            <a:ext cx="92844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Блок-схема: процесс 1"/>
          <p:cNvSpPr/>
          <p:nvPr/>
        </p:nvSpPr>
        <p:spPr>
          <a:xfrm>
            <a:off x="428760" y="228600"/>
            <a:ext cx="8286480" cy="357120"/>
          </a:xfrm>
          <a:prstGeom prst="flowChartProcess">
            <a:avLst/>
          </a:prstGeom>
          <a:solidFill>
            <a:srgbClr val="2b2bfe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ассификация объектов учета по составу функциональной ро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4200" y="800280"/>
          <a:ext cx="8572680" cy="7075440"/>
        </p:xfrm>
        <a:graphic>
          <a:graphicData uri="http://schemas.openxmlformats.org/drawingml/2006/table">
            <a:tbl>
              <a:tblPr/>
              <a:tblGrid>
                <a:gridCol w="2786040"/>
                <a:gridCol w="2892600"/>
                <a:gridCol w="2894040"/>
              </a:tblGrid>
              <a:tr h="258480">
                <a:tc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ткая характерис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 rowSpan="4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оборотны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долгосрочны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ые средства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здания, сооружения, торговое оборудование, транспортные средства и др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 труда, используемые в течение длительного времени, но не изменяющие своего внешнего ви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атериальные активы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право на пользование природными ресурсами; патенты, товарные знаки, лицензии и др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кты долгосрочного вложения, имеющие стоимостную, но не являющиеся вещественными ценностя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питальные вложения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не введенные в действие объекты, затраты на строительные работы и реконструкцию и др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траты на основные средства, требующие строительства, монтажа, реконструкции и т.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ные вложения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вложения в материальные ценности или финансовые влож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овые вложения на срок более 12 мес  в ценные бумаги, представление займов и т.п.; вложения в материальные цен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 rowSpan="3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отные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краткосрочные) акти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ьно-производственные запасы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сырье, материалы, топливо, товары и др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уются в одном акте производства и поэтому всю свою стоимость сразу передают на изготовленную из них или реализуемую продукц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нежные сред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нежные средства в кассе и на расчетном счет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 и расчет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биторская задолженность за товары, услуги и другие расчеты, краткосрочные финансовые вложения на срок менее 12 ме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Блок-схема: процесс 1"/>
          <p:cNvSpPr/>
          <p:nvPr/>
        </p:nvSpPr>
        <p:spPr>
          <a:xfrm>
            <a:off x="285840" y="228600"/>
            <a:ext cx="8501040" cy="898560"/>
          </a:xfrm>
          <a:prstGeom prst="flowChartProcess">
            <a:avLst/>
          </a:prstGeom>
          <a:solidFill>
            <a:srgbClr val="cc660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зяйственные средства предприятия могут быть образованы и получены за счет источников собственных и привлеченных (заемных) средст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85840" y="1300320"/>
          <a:ext cx="8501040" cy="6708600"/>
        </p:xfrm>
        <a:graphic>
          <a:graphicData uri="http://schemas.openxmlformats.org/drawingml/2006/table">
            <a:tbl>
              <a:tblPr/>
              <a:tblGrid>
                <a:gridCol w="1571400"/>
                <a:gridCol w="2571840"/>
                <a:gridCol w="4357800"/>
              </a:tblGrid>
              <a:tr h="1071360">
                <a:tc rowSpan="6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ственные сред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тавной капитал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вклады учредителей для начала уставной деятельности и гаранти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окупность в денежном выражении вкладов учредителей в имущество при создании предприятий для обеспечения его деятельности в размерах, определенных учредительными документами и законодательством Р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авочный капит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уется за счет прироста внеоборотных активов при переоценке, за счет разницы от продажи собственных акций и д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ервный капит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ется за счет ежегодных отчислений от чистой прибыли как гарантия повышения ответственности по обязательств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аспределенная прибы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тая прибыль или ее часть, не распределенная в виде дивидендов,  направленная на накопление имущества организации или пополнение оборотных средст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вое финансир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, поступившие от других организаций, в том числе из бюджета, для оговоренных целей и не требующие возвр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ерв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очные резервы (например, по сомнительным долгам) и резервы предстоящих расходов (например, оплата отпусков, ремонт основных средст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rowSpan="3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леченные сред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диты ба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ы полученных краткосрочных и долгосрочных ссуд банка (непогашенны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емные сред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ы выпущенных и проданных предприятием акций трудового коллектива, акций предприятия и облигаций, краткосрочные займы и д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язательства по расчет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ы кредиторской задолженности поставщикам за товары и услуги, по выданным векселям, полученным авансам, оплате труда, социальному страхованию, бюджету и др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Блок-схема: процесс 1"/>
          <p:cNvSpPr/>
          <p:nvPr/>
        </p:nvSpPr>
        <p:spPr>
          <a:xfrm>
            <a:off x="500040" y="228600"/>
            <a:ext cx="8072640" cy="500040"/>
          </a:xfrm>
          <a:prstGeom prst="flowChartProcess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ы и приемы метода бухгалтерского уч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Скругленный прямоугольник 2"/>
          <p:cNvSpPr/>
          <p:nvPr/>
        </p:nvSpPr>
        <p:spPr>
          <a:xfrm>
            <a:off x="0" y="942840"/>
            <a:ext cx="800100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Способы первичного наблюдения объектов уч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Скругленный прямоугольник 3"/>
          <p:cNvSpPr/>
          <p:nvPr/>
        </p:nvSpPr>
        <p:spPr>
          <a:xfrm>
            <a:off x="285840" y="2657520"/>
            <a:ext cx="800100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Способ стоимостного измерения объектов уч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Скругленный прямоугольник 4"/>
          <p:cNvSpPr/>
          <p:nvPr/>
        </p:nvSpPr>
        <p:spPr>
          <a:xfrm>
            <a:off x="571680" y="4086360"/>
            <a:ext cx="8001000" cy="4284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Способ текущей группировки данных об объект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Скругленный прямоугольник 5"/>
          <p:cNvSpPr/>
          <p:nvPr/>
        </p:nvSpPr>
        <p:spPr>
          <a:xfrm>
            <a:off x="1000080" y="6586560"/>
            <a:ext cx="800100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Способ итогового обобщения и представления дан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Скругленный прямоугольник 6"/>
          <p:cNvSpPr/>
          <p:nvPr/>
        </p:nvSpPr>
        <p:spPr>
          <a:xfrm>
            <a:off x="2071800" y="1871640"/>
            <a:ext cx="300024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Документ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Скругленный прямоугольник 7"/>
          <p:cNvSpPr/>
          <p:nvPr/>
        </p:nvSpPr>
        <p:spPr>
          <a:xfrm>
            <a:off x="5786280" y="1871640"/>
            <a:ext cx="300060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Инвентар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Скругленный прямоугольник 8"/>
          <p:cNvSpPr/>
          <p:nvPr/>
        </p:nvSpPr>
        <p:spPr>
          <a:xfrm>
            <a:off x="2143080" y="3443400"/>
            <a:ext cx="3000600" cy="428400"/>
          </a:xfrm>
          <a:prstGeom prst="roundRect">
            <a:avLst>
              <a:gd name="adj" fmla="val 16667"/>
            </a:avLst>
          </a:prstGeom>
          <a:solidFill>
            <a:srgbClr val="010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це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Скругленный прямоугольник 9"/>
          <p:cNvSpPr/>
          <p:nvPr/>
        </p:nvSpPr>
        <p:spPr>
          <a:xfrm>
            <a:off x="5786280" y="3443400"/>
            <a:ext cx="3000600" cy="428400"/>
          </a:xfrm>
          <a:prstGeom prst="roundRect">
            <a:avLst>
              <a:gd name="adj" fmla="val 16667"/>
            </a:avLst>
          </a:prstGeom>
          <a:solidFill>
            <a:srgbClr val="010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лькуля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Скругленный прямоугольник 10"/>
          <p:cNvSpPr/>
          <p:nvPr/>
        </p:nvSpPr>
        <p:spPr>
          <a:xfrm>
            <a:off x="1714680" y="494352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бухгалтерского уче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Скругленный прямоугольник 11"/>
          <p:cNvSpPr/>
          <p:nvPr/>
        </p:nvSpPr>
        <p:spPr>
          <a:xfrm>
            <a:off x="5786280" y="5086440"/>
            <a:ext cx="3000600" cy="428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тные регист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Скругленный прямоугольник 12"/>
          <p:cNvSpPr/>
          <p:nvPr/>
        </p:nvSpPr>
        <p:spPr>
          <a:xfrm>
            <a:off x="3786120" y="5872320"/>
            <a:ext cx="3000600" cy="428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ойная запи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Скругленный прямоугольник 13"/>
          <p:cNvSpPr/>
          <p:nvPr/>
        </p:nvSpPr>
        <p:spPr>
          <a:xfrm>
            <a:off x="5429160" y="7529400"/>
            <a:ext cx="3214800" cy="6429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ая бухгалтерская отчет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Скругленный прямоугольник 14"/>
          <p:cNvSpPr/>
          <p:nvPr/>
        </p:nvSpPr>
        <p:spPr>
          <a:xfrm>
            <a:off x="1785960" y="7443720"/>
            <a:ext cx="3000240" cy="4287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лан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Двойная стрелка вверх/вниз 15"/>
          <p:cNvSpPr/>
          <p:nvPr/>
        </p:nvSpPr>
        <p:spPr>
          <a:xfrm>
            <a:off x="357120" y="1371600"/>
            <a:ext cx="357120" cy="12873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793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Двойная стрелка вверх/вниз 16"/>
          <p:cNvSpPr/>
          <p:nvPr/>
        </p:nvSpPr>
        <p:spPr>
          <a:xfrm>
            <a:off x="857160" y="3086280"/>
            <a:ext cx="357120" cy="1000080"/>
          </a:xfrm>
          <a:prstGeom prst="upDownArrow">
            <a:avLst>
              <a:gd name="adj1" fmla="val 50000"/>
              <a:gd name="adj2" fmla="val 50005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Двойная стрелка вверх/вниз 17"/>
          <p:cNvSpPr/>
          <p:nvPr/>
        </p:nvSpPr>
        <p:spPr>
          <a:xfrm>
            <a:off x="1143000" y="4514760"/>
            <a:ext cx="357120" cy="2071800"/>
          </a:xfrm>
          <a:prstGeom prst="upDownArrow">
            <a:avLst>
              <a:gd name="adj1" fmla="val 50000"/>
              <a:gd name="adj2" fmla="val 50010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Стрелка вниз 18"/>
          <p:cNvSpPr/>
          <p:nvPr/>
        </p:nvSpPr>
        <p:spPr>
          <a:xfrm>
            <a:off x="3357720" y="137160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Стрелка вниз 19"/>
          <p:cNvSpPr/>
          <p:nvPr/>
        </p:nvSpPr>
        <p:spPr>
          <a:xfrm>
            <a:off x="7072200" y="137160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Стрелка вниз 20"/>
          <p:cNvSpPr/>
          <p:nvPr/>
        </p:nvSpPr>
        <p:spPr>
          <a:xfrm>
            <a:off x="7143840" y="30862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Стрелка вниз 21"/>
          <p:cNvSpPr/>
          <p:nvPr/>
        </p:nvSpPr>
        <p:spPr>
          <a:xfrm>
            <a:off x="3357720" y="30862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Стрелка вниз 22"/>
          <p:cNvSpPr/>
          <p:nvPr/>
        </p:nvSpPr>
        <p:spPr>
          <a:xfrm>
            <a:off x="3286080" y="4514760"/>
            <a:ext cx="42876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Стрелка вниз 23"/>
          <p:cNvSpPr/>
          <p:nvPr/>
        </p:nvSpPr>
        <p:spPr>
          <a:xfrm>
            <a:off x="7143840" y="451476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Стрелка вниз 24"/>
          <p:cNvSpPr/>
          <p:nvPr/>
        </p:nvSpPr>
        <p:spPr>
          <a:xfrm>
            <a:off x="5143680" y="4514760"/>
            <a:ext cx="428400" cy="13575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Стрелка вниз 25"/>
          <p:cNvSpPr/>
          <p:nvPr/>
        </p:nvSpPr>
        <p:spPr>
          <a:xfrm>
            <a:off x="3286080" y="7015320"/>
            <a:ext cx="42876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Стрелка вниз 26"/>
          <p:cNvSpPr/>
          <p:nvPr/>
        </p:nvSpPr>
        <p:spPr>
          <a:xfrm>
            <a:off x="7286760" y="701532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4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Блок-схема: процесс 1"/>
          <p:cNvSpPr/>
          <p:nvPr/>
        </p:nvSpPr>
        <p:spPr>
          <a:xfrm>
            <a:off x="285840" y="299880"/>
            <a:ext cx="8358120" cy="714600"/>
          </a:xfrm>
          <a:prstGeom prst="flowChart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Процесс сплошного и непрерывного наблюдения за хозяйственными операциями обеспечивается путем выполн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Скругленный прямоугольник 2"/>
          <p:cNvSpPr/>
          <p:nvPr/>
        </p:nvSpPr>
        <p:spPr>
          <a:xfrm>
            <a:off x="214200" y="1371600"/>
            <a:ext cx="7286760" cy="785880"/>
          </a:xfrm>
          <a:prstGeom prst="roundRect">
            <a:avLst>
              <a:gd name="adj" fmla="val 16667"/>
            </a:avLst>
          </a:prstGeom>
          <a:solidFill>
            <a:srgbClr val="00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ление документа внутри организации или получение такового со сторо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Скругленный прямоугольник 3"/>
          <p:cNvSpPr/>
          <p:nvPr/>
        </p:nvSpPr>
        <p:spPr>
          <a:xfrm>
            <a:off x="1357200" y="2514600"/>
            <a:ext cx="7286760" cy="785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упление документа в бухгалтерию или ответственному за ведение бухгалтерского уч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Скругленный прямоугольник 4"/>
          <p:cNvSpPr/>
          <p:nvPr/>
        </p:nvSpPr>
        <p:spPr>
          <a:xfrm>
            <a:off x="357120" y="3657600"/>
            <a:ext cx="7286760" cy="15717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ка документа по форме (полнота и правильность оформления реквизитов документа), арифметически (подсчет сумм), по содержанию (законность отраженных операций, логическая увязка показателей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Скругленный прямоугольник 5"/>
          <p:cNvSpPr/>
          <p:nvPr/>
        </p:nvSpPr>
        <p:spPr>
          <a:xfrm>
            <a:off x="1357200" y="5586480"/>
            <a:ext cx="7286760" cy="785880"/>
          </a:xfrm>
          <a:prstGeom prst="roundRect">
            <a:avLst>
              <a:gd name="adj" fmla="val 16667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работка документа (запись бухгалтерских проводок, включение документов в учетные регистры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Скругленный прямоугольник 6"/>
          <p:cNvSpPr/>
          <p:nvPr/>
        </p:nvSpPr>
        <p:spPr>
          <a:xfrm>
            <a:off x="285840" y="6872400"/>
            <a:ext cx="7286400" cy="57132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ранение документов и передача в архи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2:17:45Z</dcterms:created>
  <dc:creator>Alex T</dc:creator>
  <dc:description/>
  <dc:language>en-US</dc:language>
  <cp:lastModifiedBy>Светик</cp:lastModifiedBy>
  <dcterms:modified xsi:type="dcterms:W3CDTF">2013-02-04T07:34:35Z</dcterms:modified>
  <cp:revision>349</cp:revision>
  <dc:subject/>
  <dc:title>Порядок представления отчет - заявки  ф.14 МЕД.</dc:title>
</cp:coreProperties>
</file>