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8999538" cy="8172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C42E-98F5-4AFE-AAAD-29832869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810108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0360" y="4831560"/>
            <a:ext cx="810108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7626-D9C9-450B-8681-E952949D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1520" y="22701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0360" y="48315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1520" y="48315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0D29-3F6B-419A-9D27-03CBD22A9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26082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2270160"/>
            <a:ext cx="26082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8480" y="2270160"/>
            <a:ext cx="26082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0360" y="4831560"/>
            <a:ext cx="26082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831560"/>
            <a:ext cx="26082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8480" y="4831560"/>
            <a:ext cx="26082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1C2C-942E-4BFB-9B16-92676310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89FAE-A925-469A-BB86-1D1C2A934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0360" y="2270160"/>
            <a:ext cx="810108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12DDB-A4D7-48A5-A27F-171B2A83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810108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647A6-3567-4ADE-9AF3-B1FA15EA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395316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01520" y="2270160"/>
            <a:ext cx="395316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D7DDC-F2C9-4388-AD51-12DD42D1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32DBD-8130-43F1-8193-175B6F42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0360" y="347400"/>
            <a:ext cx="8101080" cy="76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EB731-F90E-43E2-AE9C-861E308D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01520" y="2270160"/>
            <a:ext cx="395316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0360" y="48315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11D37-B2F0-43B2-B908-9DDCCFBD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0360" y="2270160"/>
            <a:ext cx="810108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E113-0FED-47EF-B255-72C2BE76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395316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520" y="22701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01520" y="48315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BE969-DAED-4B53-82C0-F3B9015E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01520" y="22701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0360" y="4831560"/>
            <a:ext cx="810108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C705E-867E-42C3-A821-4FB5A87F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810108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0360" y="4831560"/>
            <a:ext cx="810108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84818-5B3F-4567-8518-69BADDE9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1520" y="22701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0360" y="48315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01520" y="48315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18F99-37E5-4777-B244-A92B23EC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26082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240" y="2270160"/>
            <a:ext cx="26082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8480" y="2270160"/>
            <a:ext cx="26082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0360" y="4831560"/>
            <a:ext cx="26082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240" y="4831560"/>
            <a:ext cx="26082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8480" y="4831560"/>
            <a:ext cx="26082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61389-AD33-4A16-96A9-A635A27AE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810108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CB3B-3502-4FB2-9757-5BF7B9AC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395316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1520" y="2270160"/>
            <a:ext cx="395316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8A92-C78C-4C00-942F-CEC2F640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E1D6-C71F-4DE0-B878-6F465C6E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0360" y="347400"/>
            <a:ext cx="8101080" cy="76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28BF-0D0A-4414-A597-1F68E42A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520" y="2270160"/>
            <a:ext cx="395316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0360" y="48315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4CA4-7A6F-43AC-8D52-0E0EEC2D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395316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1520" y="22701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1520" y="48315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D30D-7B53-42EA-950E-FE8D1A98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0360" y="22701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1520" y="2270160"/>
            <a:ext cx="395316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0360" y="4831560"/>
            <a:ext cx="810108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38E8-08B7-4131-BE3D-005D7294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2270160"/>
            <a:ext cx="810108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7442280"/>
            <a:ext cx="210024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7442280"/>
            <a:ext cx="285084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1560" y="7442280"/>
            <a:ext cx="210024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C774-27C3-4176-87A0-9150A6CC08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1160" y="3340080"/>
            <a:ext cx="1440" cy="361800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0360" y="347400"/>
            <a:ext cx="81010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0360" y="2270160"/>
            <a:ext cx="810108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074760" y="7442280"/>
            <a:ext cx="285084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451560" y="7442280"/>
            <a:ext cx="210024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FF5A-52C8-46FA-9D6A-A1C85906D39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0720" y="7442280"/>
            <a:ext cx="210024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85840" y="299880"/>
            <a:ext cx="8501040" cy="75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Вертикальный свиток 3"/>
          <p:cNvSpPr/>
          <p:nvPr/>
        </p:nvSpPr>
        <p:spPr>
          <a:xfrm>
            <a:off x="357120" y="514440"/>
            <a:ext cx="8072640" cy="692928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нализ результатов хозяйственно-финансовой деятельности аптечной организации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0720" y="325080"/>
            <a:ext cx="2960640" cy="1832040"/>
          </a:xfrm>
          <a:prstGeom prst="rect">
            <a:avLst/>
          </a:prstGeom>
          <a:solidFill>
            <a:srgbClr val="cc0066"/>
          </a:solidFill>
          <a:ln w="9360">
            <a:solidFill>
              <a:srgbClr val="c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сновные типы бухгалтерских документов при оформлении хозяйственных операций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19000" y="157320"/>
            <a:ext cx="5032440" cy="75722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вичные бухгалтерские документы должны быть составлены в момент совершения хозяйственной операции или непосредственно по ее окончан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вичный бухгалтерский документ – это основное свидетельство, подтверждающее законность хозяйственных операций в организ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ухгалтерские документы характе-ризуются следующими показателям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идами применяемых документ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м обязательных реквизит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апами обработки (проверка, кодирование и т.д.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особами исправления записей в документа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хемой документооборота (коли-чество экземпляров, ответственные за составление, сроки составления, порядок передачи в архив, сроки хранения документов и др.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0720" y="2300040"/>
            <a:ext cx="2960640" cy="542916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бственно первичные документы (обеспечивают осуществление оперативного аналитического учета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етные регистры (документы для обобщающего синтетического учета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214200" y="228600"/>
          <a:ext cx="8572680" cy="7559640"/>
        </p:xfrm>
        <a:graphic>
          <a:graphicData uri="http://schemas.openxmlformats.org/drawingml/2006/table">
            <a:tbl>
              <a:tblPr/>
              <a:tblGrid>
                <a:gridCol w="1657440"/>
                <a:gridCol w="2552760"/>
                <a:gridCol w="2552760"/>
                <a:gridCol w="1809720"/>
              </a:tblGrid>
              <a:tr h="335160"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ификационный призна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документ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ткая характеристик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ры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670680">
                <a:tc rowSpan="4"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начени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порядительны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ют право на совершение хозяйственных операций, строго определенных распоряжением должностного лиц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бование-накладная, доверенность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50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авдательны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тверждают факт свершения хозяйственной оп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ссовый отчет, приходный кассовый ордер, акт приемк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40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бинировани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четают в себе распорядительный и оправдательный характер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ный кассовый ордер, платежная ведомость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67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ухгалтерского оформлен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олняются в учетных целях для облегчения и ускорения работы, самостоятельного назначения не имеют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равка о распределении прибыли, расчет амортизационных отчислен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402480">
                <a:tc rowSpan="2"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епень обобщения учетной информ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ходны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ставляют в момент совершения хозяйственной оп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ссовые ордера, наклад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40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одны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учают путем группировки информации из исходных документ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ссовый отчет, обратная ведомость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402120">
                <a:tc rowSpan="2"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 охвата операц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вы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ажают одну или несколько однородных хозяйственных операц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ссовые ордера, акты на списан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53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копительны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т информацию об однородных хозяйственных операциях за определенный временной период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бель учета рабочего времени, кассовый отчет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335160">
                <a:tc rowSpan="3"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хозяйственных операц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иальны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ажают движение товарно-материальных ценност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кладная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четны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формляют расчетные взаимоотношения с партнера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оротная ведомость по лицевым счетам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40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нежны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формляют операции с наличными и безналичными средства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тежное поручение, че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402480">
                <a:tc rowSpan="2"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сто составлен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утренни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здаются и функционируют внутри организ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вентарные карточки, кассовые ордер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40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ешни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упают со стороны и на входе должны регистрироваться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чет-фактура, акт приемки - передач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268920">
                <a:tc rowSpan="2"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 заполнения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здаваемые вручную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здаются на бумажном носител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втоматизированны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здаются с использованием компьютерных технолог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335160">
                <a:tc rowSpan="2"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о учитываемых позиц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строчны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т только одну учетную позицию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ссовые ордера, инвентарная карточк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ногострочны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т две или более учетных позиц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бование, наклад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Загнутый угол 1"/>
          <p:cNvSpPr/>
          <p:nvPr/>
        </p:nvSpPr>
        <p:spPr>
          <a:xfrm>
            <a:off x="285840" y="228600"/>
            <a:ext cx="8358120" cy="1771560"/>
          </a:xfrm>
          <a:prstGeom prst="foldedCorner">
            <a:avLst>
              <a:gd name="adj" fmla="val 16666"/>
            </a:avLst>
          </a:prstGeom>
          <a:solidFill>
            <a:srgbClr val="00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вичные учетные документы принимаются к учету, если они составлены по форме, содержащейся в альбомах унифицированных форм первичной учетной документации, документы, форма которых не предусмотрена в этих альбомах, должны содержать обязательные реквизиты (ФЗ «О бухгалтерском учете» статья 9, п.2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Загнутый угол 3"/>
          <p:cNvSpPr/>
          <p:nvPr/>
        </p:nvSpPr>
        <p:spPr>
          <a:xfrm>
            <a:off x="285840" y="2157480"/>
            <a:ext cx="8358120" cy="571320"/>
          </a:xfrm>
          <a:prstGeom prst="foldedCorner">
            <a:avLst>
              <a:gd name="adj" fmla="val 16666"/>
            </a:avLst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4d"/>
                </a:solidFill>
                <a:latin typeface="Tahoma"/>
              </a:rPr>
              <a:t>К обязательным реквизитам первичных учетных документов относятс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1714680" y="2871720"/>
            <a:ext cx="6929280" cy="5000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именование документа (формы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Прямоугольник 5"/>
          <p:cNvSpPr/>
          <p:nvPr/>
        </p:nvSpPr>
        <p:spPr>
          <a:xfrm>
            <a:off x="1714680" y="3586320"/>
            <a:ext cx="6929280" cy="64296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именование организации, от имени которой составлен документ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Прямоугольник 6"/>
          <p:cNvSpPr/>
          <p:nvPr/>
        </p:nvSpPr>
        <p:spPr>
          <a:xfrm>
            <a:off x="1714680" y="4443480"/>
            <a:ext cx="6929280" cy="5000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держание хозяйственной операц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Прямоугольник 7"/>
          <p:cNvSpPr/>
          <p:nvPr/>
        </p:nvSpPr>
        <p:spPr>
          <a:xfrm>
            <a:off x="1714680" y="5157720"/>
            <a:ext cx="6929280" cy="7146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мерители хозяйственной операции (в натуральном и денежном выражении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Прямоугольник 8"/>
          <p:cNvSpPr/>
          <p:nvPr/>
        </p:nvSpPr>
        <p:spPr>
          <a:xfrm>
            <a:off x="1714680" y="6086520"/>
            <a:ext cx="6929280" cy="85716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именование должностей лиц, ответственных за совершение хозяйственной операции и правильность ее оформл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Прямоугольник 9"/>
          <p:cNvSpPr/>
          <p:nvPr/>
        </p:nvSpPr>
        <p:spPr>
          <a:xfrm>
            <a:off x="1714680" y="7157880"/>
            <a:ext cx="6929280" cy="5004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ичные подписи и их расшифров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Блок-схема: узел 12"/>
          <p:cNvSpPr/>
          <p:nvPr/>
        </p:nvSpPr>
        <p:spPr>
          <a:xfrm>
            <a:off x="357120" y="299880"/>
            <a:ext cx="285840" cy="285840"/>
          </a:xfrm>
          <a:prstGeom prst="flowChartConnector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Блок-схема: узел 13"/>
          <p:cNvSpPr/>
          <p:nvPr/>
        </p:nvSpPr>
        <p:spPr>
          <a:xfrm>
            <a:off x="8072280" y="1514520"/>
            <a:ext cx="285840" cy="285840"/>
          </a:xfrm>
          <a:prstGeom prst="flowChartConnector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Блок-схема: узел 14"/>
          <p:cNvSpPr/>
          <p:nvPr/>
        </p:nvSpPr>
        <p:spPr>
          <a:xfrm>
            <a:off x="8143920" y="2371680"/>
            <a:ext cx="285840" cy="285840"/>
          </a:xfrm>
          <a:prstGeom prst="flowChartConnector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Блок-схема: узел 15"/>
          <p:cNvSpPr/>
          <p:nvPr/>
        </p:nvSpPr>
        <p:spPr>
          <a:xfrm>
            <a:off x="500040" y="2300400"/>
            <a:ext cx="285840" cy="285480"/>
          </a:xfrm>
          <a:prstGeom prst="flowChartConnector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Прямоугольник 16"/>
          <p:cNvSpPr/>
          <p:nvPr/>
        </p:nvSpPr>
        <p:spPr>
          <a:xfrm>
            <a:off x="642960" y="2871720"/>
            <a:ext cx="428760" cy="400068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Овал 17"/>
          <p:cNvSpPr/>
          <p:nvPr/>
        </p:nvSpPr>
        <p:spPr>
          <a:xfrm>
            <a:off x="500040" y="7015320"/>
            <a:ext cx="700200" cy="714240"/>
          </a:xfrm>
          <a:prstGeom prst="ellipse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Блок-схема: магнитный диск 1"/>
          <p:cNvSpPr/>
          <p:nvPr/>
        </p:nvSpPr>
        <p:spPr>
          <a:xfrm>
            <a:off x="357120" y="228600"/>
            <a:ext cx="8429760" cy="1500120"/>
          </a:xfrm>
          <a:prstGeom prst="flowChartMagneticDisk">
            <a:avLst/>
          </a:prstGeom>
          <a:solidFill>
            <a:srgbClr val="99ff33"/>
          </a:solidFill>
          <a:ln w="9360">
            <a:solidFill>
              <a:srgbClr val="793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Содержащаяся в принятых  к учету первичных документах информация накапливается и систематизируется в сводных документах – регистрах бухгалтерского уче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Прямоугольник 2"/>
          <p:cNvSpPr/>
          <p:nvPr/>
        </p:nvSpPr>
        <p:spPr>
          <a:xfrm>
            <a:off x="428760" y="1800360"/>
            <a:ext cx="364320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своему внешнему виду учетные регистры подразделяются на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Прямоугольник 3"/>
          <p:cNvSpPr/>
          <p:nvPr/>
        </p:nvSpPr>
        <p:spPr>
          <a:xfrm>
            <a:off x="5143680" y="1800360"/>
            <a:ext cx="364320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своему содержанию учетные регистры подразделяются на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Блок-схема: несколько документов 4"/>
          <p:cNvSpPr/>
          <p:nvPr/>
        </p:nvSpPr>
        <p:spPr>
          <a:xfrm>
            <a:off x="0" y="2800440"/>
            <a:ext cx="4714920" cy="1928880"/>
          </a:xfrm>
          <a:prstGeom prst="flowChartMultidocumen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7937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ahoma"/>
              </a:rPr>
              <a:t>Карточки (предназначены для аналитического учета основных средств (инвентарные карточки), материальных ценностей по местам их хранения (карточки учета материалов) и др.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Блок-схема: несколько документов 5"/>
          <p:cNvSpPr/>
          <p:nvPr/>
        </p:nvSpPr>
        <p:spPr>
          <a:xfrm>
            <a:off x="0" y="4729320"/>
            <a:ext cx="4572000" cy="1857240"/>
          </a:xfrm>
          <a:prstGeom prst="flowChartMultidocumen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7937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ahoma"/>
              </a:rPr>
              <a:t>Сводные листы (предназначены для синтетического и аналити-ческого учета или выполняют роль комбинированных регистров. К ним относятся журналы-ордера, ведомости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Блок-схема: несколько документов 6"/>
          <p:cNvSpPr/>
          <p:nvPr/>
        </p:nvSpPr>
        <p:spPr>
          <a:xfrm>
            <a:off x="0" y="6729480"/>
            <a:ext cx="5786280" cy="1071360"/>
          </a:xfrm>
          <a:prstGeom prst="flowChartMultidocumen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7937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ahoma"/>
              </a:rPr>
              <a:t>Книги (на предприятиях обязательно ведутся кассовая книга, главная книга – регистр синтетического учета)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Блок-схема: карточка 7"/>
          <p:cNvSpPr/>
          <p:nvPr/>
        </p:nvSpPr>
        <p:spPr>
          <a:xfrm>
            <a:off x="5500800" y="2943360"/>
            <a:ext cx="3286080" cy="804600"/>
          </a:xfrm>
          <a:prstGeom prst="flowChartPunchedCard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регистры аналитического уче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Блок-схема: карточка 8"/>
          <p:cNvSpPr/>
          <p:nvPr/>
        </p:nvSpPr>
        <p:spPr>
          <a:xfrm>
            <a:off x="5500800" y="3943440"/>
            <a:ext cx="3286080" cy="804600"/>
          </a:xfrm>
          <a:prstGeom prst="flowChartPunchedCard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регистры синтетического уче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Блок-схема: карточка 9"/>
          <p:cNvSpPr/>
          <p:nvPr/>
        </p:nvSpPr>
        <p:spPr>
          <a:xfrm>
            <a:off x="5572080" y="5014800"/>
            <a:ext cx="3214800" cy="804960"/>
          </a:xfrm>
          <a:prstGeom prst="flowChartPunchedCard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комбинированные регист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Прямоугольник 10"/>
          <p:cNvSpPr/>
          <p:nvPr/>
        </p:nvSpPr>
        <p:spPr>
          <a:xfrm>
            <a:off x="5929200" y="5943600"/>
            <a:ext cx="3071880" cy="222876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нформация о хозяйственных операциях, произведен-ных за определенный период времени, из регистров бухгалтерского учета переносится в сгруппированном вид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бухгалтерскую отчетность!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Схема 1" descr=""/>
          <p:cNvPicPr/>
          <p:nvPr/>
        </p:nvPicPr>
        <p:blipFill>
          <a:blip r:embed="rId1"/>
          <a:stretch/>
        </p:blipFill>
        <p:spPr>
          <a:xfrm>
            <a:off x="208080" y="208080"/>
            <a:ext cx="8515080" cy="7753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1"/>
          <p:cNvSpPr/>
          <p:nvPr/>
        </p:nvSpPr>
        <p:spPr>
          <a:xfrm>
            <a:off x="500040" y="0"/>
            <a:ext cx="8001000" cy="5716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вентариз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Скругленный прямоугольник 2"/>
          <p:cNvSpPr/>
          <p:nvPr/>
        </p:nvSpPr>
        <p:spPr>
          <a:xfrm>
            <a:off x="214200" y="657360"/>
            <a:ext cx="8572680" cy="39290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Законодательно-правовая основа проведения инвентаризации создается следующими документам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ФЗ № 129 «О бухгалтерском учете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«Положение по ведению бухгалтерского учета и отчетности в РФ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ПБУ 1/08 «Учетная политика организации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«Методические указания по инвентаризации имущества и финансовых обязательств», утвержденные Приказом Минфина РФ от 13.06.95г. № 49 (ред. 08.11.2010г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«Положение о порядке проведения инвентаризации имущества налогоплательщиков при налоговой проверке» от 21.03.99г. № 20н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Скругленный прямоугольник 3"/>
          <p:cNvSpPr/>
          <p:nvPr/>
        </p:nvSpPr>
        <p:spPr>
          <a:xfrm>
            <a:off x="357120" y="4586400"/>
            <a:ext cx="8429760" cy="358596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новные цели инвентаризаци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явление фактического наличия имущества, учетного и не учетного в данной организации, но находящегося на его территор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ределение фактического количества использованных товарно-материальных ценностей в процессе торговой деятельнос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поставление фактических данных с данными бухгалтерского учет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ерка правильности оценки имущества и обязательств с учетом рыночной стоим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Рамка 1"/>
          <p:cNvSpPr/>
          <p:nvPr/>
        </p:nvSpPr>
        <p:spPr>
          <a:xfrm>
            <a:off x="1071720" y="228600"/>
            <a:ext cx="6357960" cy="57168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ahoma"/>
              </a:rPr>
              <a:t>Проведение инвентаризации обязательно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Прямоугольник 2"/>
          <p:cNvSpPr/>
          <p:nvPr/>
        </p:nvSpPr>
        <p:spPr>
          <a:xfrm>
            <a:off x="285840" y="942840"/>
            <a:ext cx="8501040" cy="1128960"/>
          </a:xfrm>
          <a:prstGeom prst="rect">
            <a:avLst/>
          </a:prstGeom>
          <a:solidFill>
            <a:srgbClr val="010199"/>
          </a:solidFill>
          <a:ln w="93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передаче имущества организации в аренду, выкупе, продаже, а также в случаях, предусмотренных законодательством при преобразовании государственного или муниципального унитарного предприят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Прямоугольник 3"/>
          <p:cNvSpPr/>
          <p:nvPr/>
        </p:nvSpPr>
        <p:spPr>
          <a:xfrm>
            <a:off x="285840" y="2157480"/>
            <a:ext cx="8501040" cy="1128600"/>
          </a:xfrm>
          <a:prstGeom prst="rect">
            <a:avLst/>
          </a:prstGeom>
          <a:solidFill>
            <a:srgbClr val="ff00ff"/>
          </a:solidFill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д составлением годовой бухгалтерской отчетности, кроме имущества, инвентаризация которого проводилась не ранее 1 октября отчетного года; инвентаризация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х средств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ет проводиться 1 раз в 3 год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Прямоугольник 4"/>
          <p:cNvSpPr/>
          <p:nvPr/>
        </p:nvSpPr>
        <p:spPr>
          <a:xfrm>
            <a:off x="285840" y="3371760"/>
            <a:ext cx="8501040" cy="571680"/>
          </a:xfrm>
          <a:prstGeom prst="rect">
            <a:avLst/>
          </a:prstGeom>
          <a:solidFill>
            <a:srgbClr val="7030a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смене материально-ответственных лиц (на день приемки-передачи дел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Прямоугольник 5"/>
          <p:cNvSpPr/>
          <p:nvPr/>
        </p:nvSpPr>
        <p:spPr>
          <a:xfrm>
            <a:off x="285840" y="4014720"/>
            <a:ext cx="8501040" cy="642960"/>
          </a:xfrm>
          <a:prstGeom prst="rect">
            <a:avLst/>
          </a:prstGeom>
          <a:solidFill>
            <a:srgbClr val="cc6600"/>
          </a:solidFill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установлении фактов хищений или злоупотреблений, а также порчи ценност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Прямоугольник 6"/>
          <p:cNvSpPr/>
          <p:nvPr/>
        </p:nvSpPr>
        <p:spPr>
          <a:xfrm>
            <a:off x="285840" y="4729320"/>
            <a:ext cx="8501040" cy="714240"/>
          </a:xfrm>
          <a:prstGeom prst="rect">
            <a:avLst/>
          </a:prstGeom>
          <a:solidFill>
            <a:srgbClr val="009500"/>
          </a:solidFill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лучаях стихийных бедствий, пожара, аварий или других чрезвычайных ситуаций, вызванных экстремальными условиям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Прямоугольник 7"/>
          <p:cNvSpPr/>
          <p:nvPr/>
        </p:nvSpPr>
        <p:spPr>
          <a:xfrm>
            <a:off x="285840" y="5514840"/>
            <a:ext cx="8501040" cy="1128960"/>
          </a:xfrm>
          <a:prstGeom prst="rect">
            <a:avLst/>
          </a:prstGeom>
          <a:solidFill>
            <a:srgbClr val="cc0066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ликвидации (реорганизации) предприятия перед составлением ликвидационного (разделительного) баланса и в других случаях, предусматриваемых законодательством РФ или нормативными актами Минфина РФ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Прямоугольник 8"/>
          <p:cNvSpPr/>
          <p:nvPr/>
        </p:nvSpPr>
        <p:spPr>
          <a:xfrm>
            <a:off x="285840" y="6729480"/>
            <a:ext cx="8501040" cy="1128600"/>
          </a:xfrm>
          <a:prstGeom prst="rect">
            <a:avLst/>
          </a:prstGeom>
          <a:solidFill>
            <a:srgbClr val="363636"/>
          </a:solidFill>
          <a:ln w="93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коллективной (бригадной) материальной ответственности инвентаризация проводится при смене руководителя коллектива (бригады), выбытии их коллектива более 50% его членов, по требованию одного или нескольких членов коллектива (бригады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1"/>
          <p:cNvSpPr/>
          <p:nvPr/>
        </p:nvSpPr>
        <p:spPr>
          <a:xfrm>
            <a:off x="8501040" y="371520"/>
            <a:ext cx="285840" cy="65721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Овал 2"/>
          <p:cNvSpPr/>
          <p:nvPr/>
        </p:nvSpPr>
        <p:spPr>
          <a:xfrm>
            <a:off x="8501040" y="7157880"/>
            <a:ext cx="285840" cy="2858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Загнутый угол 3"/>
          <p:cNvSpPr/>
          <p:nvPr/>
        </p:nvSpPr>
        <p:spPr>
          <a:xfrm>
            <a:off x="214200" y="228600"/>
            <a:ext cx="8143920" cy="1214280"/>
          </a:xfrm>
          <a:prstGeom prst="foldedCorner">
            <a:avLst>
              <a:gd name="adj" fmla="val 16666"/>
            </a:avLst>
          </a:prstGeom>
          <a:solidFill>
            <a:srgbClr val="00c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ичество инвентаризаций в отчетном году, дата их проведения, перечень имущества и  финансовых обязательств проверяемых при каждой из них, устанавливаются руководителем фармацевтической организации самостоятель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Загнутый угол 4"/>
          <p:cNvSpPr/>
          <p:nvPr/>
        </p:nvSpPr>
        <p:spPr>
          <a:xfrm>
            <a:off x="1643040" y="1585800"/>
            <a:ext cx="6715080" cy="1214640"/>
          </a:xfrm>
          <a:prstGeom prst="foldedCorner">
            <a:avLst>
              <a:gd name="adj" fmla="val 16666"/>
            </a:avLst>
          </a:prstGeom>
          <a:solidFill>
            <a:srgbClr val="7272f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проведения инвентаризации в организации создается постоянно действующая инвентаризационная комиссия, персональный состав которой утверждает руководител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Загнутый угол 5"/>
          <p:cNvSpPr/>
          <p:nvPr/>
        </p:nvSpPr>
        <p:spPr>
          <a:xfrm>
            <a:off x="214200" y="2943360"/>
            <a:ext cx="7215480" cy="1000080"/>
          </a:xfrm>
          <a:prstGeom prst="foldedCorner">
            <a:avLst>
              <a:gd name="adj" fmla="val 16666"/>
            </a:avLst>
          </a:prstGeom>
          <a:solidFill>
            <a:srgbClr val="66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умент о составе комиссии (приказ, распоряжение) регистрируют в журнале контроля за выполнением приказов о проведении инвентариз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Загнутый угол 6"/>
          <p:cNvSpPr/>
          <p:nvPr/>
        </p:nvSpPr>
        <p:spPr>
          <a:xfrm>
            <a:off x="214200" y="4086360"/>
            <a:ext cx="8143920" cy="1000080"/>
          </a:xfrm>
          <a:prstGeom prst="foldedCorner">
            <a:avLst>
              <a:gd name="adj" fmla="val 16666"/>
            </a:avLst>
          </a:prstGeom>
          <a:solidFill>
            <a:srgbClr val="cc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остав инвентаризационной комиссии включаются представители администрации фармацевтической организации, работники бухгалтерии и д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Загнутый угол 7"/>
          <p:cNvSpPr/>
          <p:nvPr/>
        </p:nvSpPr>
        <p:spPr>
          <a:xfrm>
            <a:off x="571680" y="5229360"/>
            <a:ext cx="7215120" cy="1000080"/>
          </a:xfrm>
          <a:prstGeom prst="foldedCorner">
            <a:avLst>
              <a:gd name="adj" fmla="val 16666"/>
            </a:avLst>
          </a:prstGeom>
          <a:solidFill>
            <a:srgbClr val="008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сутствие хотя бы одного члена комиссии при проведении инвентаризации служит основанием для признания результатов инвентаризации недействительными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Загнутый угол 8"/>
          <p:cNvSpPr/>
          <p:nvPr/>
        </p:nvSpPr>
        <p:spPr>
          <a:xfrm>
            <a:off x="0" y="6372360"/>
            <a:ext cx="8143920" cy="1571400"/>
          </a:xfrm>
          <a:prstGeom prst="foldedCorner">
            <a:avLst>
              <a:gd name="adj" fmla="val 16666"/>
            </a:avLst>
          </a:prstGeom>
          <a:solidFill>
            <a:srgbClr val="00007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ктическое наличие имущества при инвентаризации определяют путем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язательного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дсчета, взвешивания, обмера. Сведения о фактическом наличии имущества и реальности учтенных финансовых обязательств записывают в инвентаризационные описи или акты инвентаризации не менее чем в 2 экземпляр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араллелограмм 1"/>
          <p:cNvSpPr/>
          <p:nvPr/>
        </p:nvSpPr>
        <p:spPr>
          <a:xfrm>
            <a:off x="0" y="0"/>
            <a:ext cx="7358040" cy="1343160"/>
          </a:xfrm>
          <a:prstGeom prst="parallelogram">
            <a:avLst>
              <a:gd name="adj" fmla="val 25007"/>
            </a:avLst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ts val="19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тоги инвентаризации фармацевтическая торговая организация может составля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ts val="19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водные инвентаризационные описи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ts val="19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отделам и по предприятию в цел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Параллелограмм 2"/>
          <p:cNvSpPr/>
          <p:nvPr/>
        </p:nvSpPr>
        <p:spPr>
          <a:xfrm>
            <a:off x="1643040" y="1442880"/>
            <a:ext cx="7358040" cy="1500480"/>
          </a:xfrm>
          <a:prstGeom prst="parallelogram">
            <a:avLst>
              <a:gd name="adj" fmla="val 24996"/>
            </a:avLst>
          </a:prstGeom>
          <a:solidFill>
            <a:srgbClr val="009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ts val="19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ультаты инвентаризации оформляются в «Актах инвентаризации...» по отдельным видам имущества и финансовых обязательств, а также «Сличительных ведомостях результатов инвентаризаци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Прямоугольник 4"/>
          <p:cNvSpPr/>
          <p:nvPr/>
        </p:nvSpPr>
        <p:spPr>
          <a:xfrm>
            <a:off x="214200" y="3157560"/>
            <a:ext cx="8572680" cy="4786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ts val="19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явленные при инвентаризации расхождения фактического наличия имущества с данными бухгалтерского учета регулируются в соответствии с «Положением о бухгалтерском учете и отчетности в РФ» в следующем порядк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ts val="1998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средства, материальные ценности, денежные средства и др. имущество, оказавшиеся в излишке, подлежат оприходованию и зачислению соответственно на финансовые результаты организации или увеличение финансирования (фондов) у государственного (муниципального) учреждения с последующим установлением причин возникновения излишка и виновных лиц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ts val="1998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быль ценностей в пределах норм, утвержденных в установленном законодательством порядке, списывается по распоряжению руководителя организации соответственно на издержки производства и обращения или на уменьшение финансирования у государственного учреждения. Нормы убыли могут применяться только в случаях выявления фактических недостач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ts val="1998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остачи материальных ценностей, денежных средств и др. имущества, порча сверх норм естественной убыли относятся на виновных лиц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ts val="1998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GrandCanyon_0005"/>
          <p:cNvPicPr/>
          <p:nvPr/>
        </p:nvPicPr>
        <p:blipFill>
          <a:blip r:embed="rId1"/>
          <a:stretch/>
        </p:blipFill>
        <p:spPr>
          <a:xfrm>
            <a:off x="-1257480" y="0"/>
            <a:ext cx="10258560" cy="81723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6"/>
          <p:cNvSpPr/>
          <p:nvPr/>
        </p:nvSpPr>
        <p:spPr>
          <a:xfrm>
            <a:off x="468360" y="2075400"/>
            <a:ext cx="944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unga"/>
              </a:rPr>
              <a:t>        </a:t>
            </a:r>
            <a:r>
              <a:rPr b="1" lang="ru-RU" sz="4000" spc="-1" strike="noStrike">
                <a:solidFill>
                  <a:srgbClr val="800000"/>
                </a:solidFill>
                <a:latin typeface="Tunga"/>
              </a:rPr>
              <a:t>Благодарю за вниман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unga"/>
              </a:rPr>
              <a:t>          </a:t>
            </a:r>
            <a:r>
              <a:rPr b="1" lang="ru-RU" sz="4000" spc="-1" strike="noStrike">
                <a:solidFill>
                  <a:srgbClr val="800000"/>
                </a:solidFill>
                <a:latin typeface="Tunga"/>
              </a:rPr>
              <a:t>и желаю успехов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5" descr="герб"/>
          <p:cNvPicPr/>
          <p:nvPr/>
        </p:nvPicPr>
        <p:blipFill>
          <a:blip r:embed="rId2"/>
          <a:stretch/>
        </p:blipFill>
        <p:spPr>
          <a:xfrm>
            <a:off x="7215120" y="442800"/>
            <a:ext cx="1430280" cy="1266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Стрелка вниз 3"/>
          <p:cNvSpPr/>
          <p:nvPr/>
        </p:nvSpPr>
        <p:spPr>
          <a:xfrm>
            <a:off x="357120" y="1014480"/>
            <a:ext cx="8429760" cy="1643040"/>
          </a:xfrm>
          <a:prstGeom prst="downArrow">
            <a:avLst>
              <a:gd name="adj1" fmla="val 50000"/>
              <a:gd name="adj2" fmla="val 5737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сновные цели законодательства РФ о бухгалтерском учет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5" descr="герб"/>
          <p:cNvPicPr/>
          <p:nvPr/>
        </p:nvPicPr>
        <p:blipFill>
          <a:blip r:embed="rId1"/>
          <a:stretch/>
        </p:blipFill>
        <p:spPr>
          <a:xfrm>
            <a:off x="7215120" y="228600"/>
            <a:ext cx="1430280" cy="1266840"/>
          </a:xfrm>
          <a:prstGeom prst="rect">
            <a:avLst/>
          </a:prstGeom>
          <a:ln w="0">
            <a:noFill/>
          </a:ln>
        </p:spPr>
      </p:pic>
      <p:sp>
        <p:nvSpPr>
          <p:cNvPr id="87" name="Блок-схема: карточка 5"/>
          <p:cNvSpPr/>
          <p:nvPr/>
        </p:nvSpPr>
        <p:spPr>
          <a:xfrm>
            <a:off x="428760" y="2943360"/>
            <a:ext cx="3571920" cy="4857480"/>
          </a:xfrm>
          <a:prstGeom prst="flowChartPunchedCard">
            <a:avLst/>
          </a:prstGeom>
          <a:solidFill>
            <a:srgbClr val="00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еспечение единообразия ведения учета имущества, обязательств и хозяйственных операций, осуществляемых организация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Блок-схема: карточка 6"/>
          <p:cNvSpPr/>
          <p:nvPr/>
        </p:nvSpPr>
        <p:spPr>
          <a:xfrm>
            <a:off x="4643280" y="2943360"/>
            <a:ext cx="4071960" cy="4857480"/>
          </a:xfrm>
          <a:prstGeom prst="flowChartPunchedCard">
            <a:avLst/>
          </a:prstGeom>
          <a:solidFill>
            <a:srgbClr val="00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авление и предос-тавление сопоставимой и достоверной инфор-мации об имущест-венном положении организаций и их доходах и расходах, необходимой пользова-телям бухгалтерской отчет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85840" y="299880"/>
            <a:ext cx="8501040" cy="75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Схема 4" descr=""/>
          <p:cNvPicPr/>
          <p:nvPr/>
        </p:nvPicPr>
        <p:blipFill>
          <a:blip r:embed="rId1"/>
          <a:stretch/>
        </p:blipFill>
        <p:spPr>
          <a:xfrm>
            <a:off x="-19080" y="1066680"/>
            <a:ext cx="9053640" cy="71136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5"/>
          <p:cNvSpPr/>
          <p:nvPr/>
        </p:nvSpPr>
        <p:spPr>
          <a:xfrm>
            <a:off x="642960" y="299880"/>
            <a:ext cx="7858080" cy="6429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ерархическая структура нормативно-правового регулирования бухгалтерского учет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500040" y="299880"/>
            <a:ext cx="8001000" cy="785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задачи системы нормативно-правового регулирования бухгалтерского уч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Прямоугольник 2"/>
          <p:cNvSpPr/>
          <p:nvPr/>
        </p:nvSpPr>
        <p:spPr>
          <a:xfrm>
            <a:off x="0" y="1300320"/>
            <a:ext cx="3000240" cy="6643440"/>
          </a:xfrm>
          <a:prstGeom prst="rect">
            <a:avLst/>
          </a:prstGeom>
          <a:solidFill>
            <a:srgbClr val="00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ормирование полной и достоверной информации о деятельности организации и ее имущественном положении, необходимой внутренним пользователям бухгалтерской отчетности руководителям и собственникам имущества организации, а также внешним инвесторам, кредиторам и другим пользователям бухгалтерской отчет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3143160" y="1300320"/>
            <a:ext cx="3357720" cy="6643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еспечение инфор-мацией, необходимой внутренним и внешним пользователям бухгалтерской отчетности для контроля соблюдения законодательства РФ при осуществлении организацией хозяйственных операций и  их целесообразностью, наличием и движением имущества и обязательств, использованием материальных, трудовых и финансовых ресурсов в соответствии  с утвержденными нормами, нормативами и смет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6715080" y="1300320"/>
            <a:ext cx="2286000" cy="664344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отвра-щение отрица-тельных результатов хозяйственной деятельности организации и выявление внутрихозяйственных резервов обеспечения ее финансовой устойчив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араллелограмм 1"/>
          <p:cNvSpPr/>
          <p:nvPr/>
        </p:nvSpPr>
        <p:spPr>
          <a:xfrm>
            <a:off x="571680" y="228600"/>
            <a:ext cx="8215200" cy="571680"/>
          </a:xfrm>
          <a:prstGeom prst="parallelogram">
            <a:avLst>
              <a:gd name="adj" fmla="val -51761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екты бухгалтерского уч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214200" y="1228680"/>
            <a:ext cx="3786480" cy="20001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еспечивающие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озяй-ственно-финансовую деятельность органи-зации, в число которых входят имущество и обя-зательства организ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4429080" y="1085760"/>
            <a:ext cx="4357800" cy="20005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ставляющи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хозяйственно-финансовую деятельность предприятия, к которым относятся хозяйственные процессы (снабжение, производство, реализация) и их результа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Блок-схема: карточка 8"/>
          <p:cNvSpPr/>
          <p:nvPr/>
        </p:nvSpPr>
        <p:spPr>
          <a:xfrm>
            <a:off x="5072040" y="3657600"/>
            <a:ext cx="3714840" cy="1785960"/>
          </a:xfrm>
          <a:prstGeom prst="flowChartPunchedCard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Хозяйственный процесс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– совокупность хозяйственных организаций в определенной функциональной сфере (снабжение, производство, реализация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Блок-схема: карточка 9"/>
          <p:cNvSpPr/>
          <p:nvPr/>
        </p:nvSpPr>
        <p:spPr>
          <a:xfrm>
            <a:off x="5143680" y="5729400"/>
            <a:ext cx="3643200" cy="1571400"/>
          </a:xfrm>
          <a:prstGeom prst="flowChartPunchedCard">
            <a:avLst/>
          </a:prstGeom>
          <a:solidFill>
            <a:srgbClr val="7171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Хозяйственная операция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– каждый свершившийся в деятельности организации факт, оформленный документально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Блок-схема: карточка 10"/>
          <p:cNvSpPr/>
          <p:nvPr/>
        </p:nvSpPr>
        <p:spPr>
          <a:xfrm>
            <a:off x="0" y="3657600"/>
            <a:ext cx="1928880" cy="1214280"/>
          </a:xfrm>
          <a:prstGeom prst="flowChartPunchedCard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ahoma"/>
              </a:rPr>
              <a:t>Состав и функциональ-ная рол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Блок-схема: карточка 11"/>
          <p:cNvSpPr/>
          <p:nvPr/>
        </p:nvSpPr>
        <p:spPr>
          <a:xfrm>
            <a:off x="2286000" y="3657600"/>
            <a:ext cx="1928880" cy="1214280"/>
          </a:xfrm>
          <a:prstGeom prst="flowChartPunchedCard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ahoma"/>
              </a:rPr>
              <a:t>Источники формирования и целевое назначе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Блок-схема: документ 12"/>
          <p:cNvSpPr/>
          <p:nvPr/>
        </p:nvSpPr>
        <p:spPr>
          <a:xfrm>
            <a:off x="785880" y="5372280"/>
            <a:ext cx="2428920" cy="1214280"/>
          </a:xfrm>
          <a:prstGeom prst="flowChartDocument">
            <a:avLst/>
          </a:prstGeom>
          <a:solidFill>
            <a:srgbClr val="793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необоротные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ктивы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основной капитал, малолик-видные средства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Блок-схема: документ 13"/>
          <p:cNvSpPr/>
          <p:nvPr/>
        </p:nvSpPr>
        <p:spPr>
          <a:xfrm>
            <a:off x="785880" y="6872400"/>
            <a:ext cx="2428920" cy="1000080"/>
          </a:xfrm>
          <a:prstGeom prst="flowChartDocument">
            <a:avLst/>
          </a:prstGeom>
          <a:solidFill>
            <a:srgbClr val="793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боротные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ктивы (оборотный капитал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Стрелка вниз 14"/>
          <p:cNvSpPr/>
          <p:nvPr/>
        </p:nvSpPr>
        <p:spPr>
          <a:xfrm>
            <a:off x="714240" y="3228840"/>
            <a:ext cx="484200" cy="64296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Стрелка вниз 15"/>
          <p:cNvSpPr/>
          <p:nvPr/>
        </p:nvSpPr>
        <p:spPr>
          <a:xfrm>
            <a:off x="2928960" y="3228840"/>
            <a:ext cx="484200" cy="64296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Стрелка вниз 16"/>
          <p:cNvSpPr/>
          <p:nvPr/>
        </p:nvSpPr>
        <p:spPr>
          <a:xfrm>
            <a:off x="6715080" y="3086280"/>
            <a:ext cx="484200" cy="64260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Стрелка углом 17"/>
          <p:cNvSpPr/>
          <p:nvPr/>
        </p:nvSpPr>
        <p:spPr>
          <a:xfrm flipV="1">
            <a:off x="4643280" y="3086280"/>
            <a:ext cx="857520" cy="3714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Стрелка углом 18"/>
          <p:cNvSpPr/>
          <p:nvPr/>
        </p:nvSpPr>
        <p:spPr>
          <a:xfrm flipV="1">
            <a:off x="214200" y="4871160"/>
            <a:ext cx="857520" cy="2643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Стрелка вправо 19"/>
          <p:cNvSpPr/>
          <p:nvPr/>
        </p:nvSpPr>
        <p:spPr>
          <a:xfrm>
            <a:off x="285840" y="5657760"/>
            <a:ext cx="928440" cy="4842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Блок-схема: процесс 1"/>
          <p:cNvSpPr/>
          <p:nvPr/>
        </p:nvSpPr>
        <p:spPr>
          <a:xfrm>
            <a:off x="428760" y="228600"/>
            <a:ext cx="8286480" cy="357120"/>
          </a:xfrm>
          <a:prstGeom prst="flowChartProcess">
            <a:avLst/>
          </a:prstGeom>
          <a:solidFill>
            <a:srgbClr val="2b2bfe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лассификация объектов учета по составу функциональной ро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14200" y="800280"/>
          <a:ext cx="8572680" cy="7075440"/>
        </p:xfrm>
        <a:graphic>
          <a:graphicData uri="http://schemas.openxmlformats.org/drawingml/2006/table">
            <a:tbl>
              <a:tblPr/>
              <a:tblGrid>
                <a:gridCol w="2786040"/>
                <a:gridCol w="2892600"/>
                <a:gridCol w="2894040"/>
              </a:tblGrid>
              <a:tr h="258480">
                <a:tc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груп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ткая характерис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280">
                <a:tc rowSpan="4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еоборотные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(долгосрочны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тив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ые средства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(здания, сооружения, торговое оборудование, транспортные средства и др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ства труда, используемые в течение длительного времени, но не изменяющие своего внешнего ви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материальные активы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(право на пользование природными ресурсами; патенты, товарные знаки, лицензии и др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ъекты долгосрочного вложения, имеющие стоимостную, но не являющиеся вещественными ценностя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питальные вложения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(не введенные в действие объекты, затраты на строительные работы и реконструкцию и др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траты на основные средства, требующие строительства, монтажа, реконструкции и т.п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ные вложения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(вложения в материальные ценности или финансовые вложен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нансовые вложения на срок более 12 мес  в ценные бумаги, представление займов и т.п.; вложения в материальные цен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 rowSpan="3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оротные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краткосрочные) актив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иально-производственные запасы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(сырье, материалы, топливо, товары и др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ьзуются в одном акте производства и поэтому всю свою стоимость сразу передают на изготовленную из них или реализуемую продукци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нежные средс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нежные средства в кассе и на расчетном счет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ства и расчет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биторская задолженность за товары, услуги и другие расчеты, краткосрочные финансовые вложения на срок менее 12 мес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Блок-схема: процесс 1"/>
          <p:cNvSpPr/>
          <p:nvPr/>
        </p:nvSpPr>
        <p:spPr>
          <a:xfrm>
            <a:off x="285840" y="228600"/>
            <a:ext cx="8501040" cy="898560"/>
          </a:xfrm>
          <a:prstGeom prst="flowChartProcess">
            <a:avLst/>
          </a:prstGeom>
          <a:solidFill>
            <a:srgbClr val="cc6600"/>
          </a:solidFill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озяйственные средства предприятия могут быть образованы и получены за счет источников собственных и привлеченных (заемных) средст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85840" y="1300320"/>
          <a:ext cx="8501040" cy="6708600"/>
        </p:xfrm>
        <a:graphic>
          <a:graphicData uri="http://schemas.openxmlformats.org/drawingml/2006/table">
            <a:tbl>
              <a:tblPr/>
              <a:tblGrid>
                <a:gridCol w="1571400"/>
                <a:gridCol w="2571840"/>
                <a:gridCol w="4357800"/>
              </a:tblGrid>
              <a:tr h="1071360">
                <a:tc rowSpan="6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бственные средс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тавной капитал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(вклады учредителей для начала уставной деятельности и гарантии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вокупность в денежном выражении вкладов учредителей в имущество при создании предприятий для обеспечения его деятельности в размерах, определенных учредительными документами и законодательством Р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бавочный капита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зуется за счет прироста внеоборотных активов при переоценке, за счет разницы от продажи собственных акций и др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ервный капита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здается за счет ежегодных отчислений от чистой прибыли как гарантия повышения ответственности по обязательства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распределенная прибы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тая прибыль или ее часть, не распределенная в виде дивидендов,  направленная на накопление имущества организации или пополнение оборотных средст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левое финансир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ства, поступившие от других организаций, в том числе из бюджета, для оговоренных целей и не требующие возвра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ерв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очные резервы (например, по сомнительным долгам) и резервы предстоящих расходов (например, оплата отпусков, ремонт основных средств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 rowSpan="3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леченные средс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едиты ба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мы полученных краткосрочных и долгосрочных ссуд банка (непогашенны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емные средс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мы выпущенных и проданных предприятием акций трудового коллектива, акций предприятия и облигаций, краткосрочные займы и др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язательства по расчета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мы кредиторской задолженности поставщикам за товары и услуги, по выданным векселям, полученным авансам, оплате труда, социальному страхованию, бюджету и др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Блок-схема: процесс 1"/>
          <p:cNvSpPr/>
          <p:nvPr/>
        </p:nvSpPr>
        <p:spPr>
          <a:xfrm>
            <a:off x="500040" y="228600"/>
            <a:ext cx="8072640" cy="500040"/>
          </a:xfrm>
          <a:prstGeom prst="flowChartProcess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ы и приемы метода бухгалтерского уч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Скругленный прямоугольник 2"/>
          <p:cNvSpPr/>
          <p:nvPr/>
        </p:nvSpPr>
        <p:spPr>
          <a:xfrm>
            <a:off x="0" y="942840"/>
            <a:ext cx="8001000" cy="4287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Способы первичного наблюдения объектов уче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Скругленный прямоугольник 3"/>
          <p:cNvSpPr/>
          <p:nvPr/>
        </p:nvSpPr>
        <p:spPr>
          <a:xfrm>
            <a:off x="285840" y="2657520"/>
            <a:ext cx="8001000" cy="4287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Способ стоимостного измерения объектов уче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Скругленный прямоугольник 4"/>
          <p:cNvSpPr/>
          <p:nvPr/>
        </p:nvSpPr>
        <p:spPr>
          <a:xfrm>
            <a:off x="571680" y="4086360"/>
            <a:ext cx="8001000" cy="4284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Способ текущей группировки данных об объекта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Скругленный прямоугольник 5"/>
          <p:cNvSpPr/>
          <p:nvPr/>
        </p:nvSpPr>
        <p:spPr>
          <a:xfrm>
            <a:off x="1000080" y="6586560"/>
            <a:ext cx="8001000" cy="4287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 Способ итогового обобщения и представления данн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Скругленный прямоугольник 6"/>
          <p:cNvSpPr/>
          <p:nvPr/>
        </p:nvSpPr>
        <p:spPr>
          <a:xfrm>
            <a:off x="2071800" y="1871640"/>
            <a:ext cx="300024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Документа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Скругленный прямоугольник 7"/>
          <p:cNvSpPr/>
          <p:nvPr/>
        </p:nvSpPr>
        <p:spPr>
          <a:xfrm>
            <a:off x="5786280" y="1871640"/>
            <a:ext cx="300060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Инвентариза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Скругленный прямоугольник 8"/>
          <p:cNvSpPr/>
          <p:nvPr/>
        </p:nvSpPr>
        <p:spPr>
          <a:xfrm>
            <a:off x="2143080" y="3443400"/>
            <a:ext cx="3000600" cy="428400"/>
          </a:xfrm>
          <a:prstGeom prst="roundRect">
            <a:avLst>
              <a:gd name="adj" fmla="val 16667"/>
            </a:avLst>
          </a:prstGeom>
          <a:solidFill>
            <a:srgbClr val="010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цен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Скругленный прямоугольник 9"/>
          <p:cNvSpPr/>
          <p:nvPr/>
        </p:nvSpPr>
        <p:spPr>
          <a:xfrm>
            <a:off x="5786280" y="3443400"/>
            <a:ext cx="3000600" cy="428400"/>
          </a:xfrm>
          <a:prstGeom prst="roundRect">
            <a:avLst>
              <a:gd name="adj" fmla="val 16667"/>
            </a:avLst>
          </a:prstGeom>
          <a:solidFill>
            <a:srgbClr val="010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лькуля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Скругленный прямоугольник 10"/>
          <p:cNvSpPr/>
          <p:nvPr/>
        </p:nvSpPr>
        <p:spPr>
          <a:xfrm>
            <a:off x="1714680" y="4943520"/>
            <a:ext cx="3214440" cy="6429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стема бухгалтерского учет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Скругленный прямоугольник 11"/>
          <p:cNvSpPr/>
          <p:nvPr/>
        </p:nvSpPr>
        <p:spPr>
          <a:xfrm>
            <a:off x="5786280" y="5086440"/>
            <a:ext cx="3000600" cy="4284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етные регист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Скругленный прямоугольник 12"/>
          <p:cNvSpPr/>
          <p:nvPr/>
        </p:nvSpPr>
        <p:spPr>
          <a:xfrm>
            <a:off x="3786120" y="5872320"/>
            <a:ext cx="3000600" cy="4284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войная запис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Скругленный прямоугольник 13"/>
          <p:cNvSpPr/>
          <p:nvPr/>
        </p:nvSpPr>
        <p:spPr>
          <a:xfrm>
            <a:off x="5429160" y="7529400"/>
            <a:ext cx="3214800" cy="64296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ругая бухгалтерская отчет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Скругленный прямоугольник 14"/>
          <p:cNvSpPr/>
          <p:nvPr/>
        </p:nvSpPr>
        <p:spPr>
          <a:xfrm>
            <a:off x="1785960" y="7443720"/>
            <a:ext cx="3000240" cy="42876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алан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Двойная стрелка вверх/вниз 15"/>
          <p:cNvSpPr/>
          <p:nvPr/>
        </p:nvSpPr>
        <p:spPr>
          <a:xfrm>
            <a:off x="357120" y="1371600"/>
            <a:ext cx="357120" cy="128736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793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Двойная стрелка вверх/вниз 16"/>
          <p:cNvSpPr/>
          <p:nvPr/>
        </p:nvSpPr>
        <p:spPr>
          <a:xfrm>
            <a:off x="857160" y="3086280"/>
            <a:ext cx="357120" cy="1000080"/>
          </a:xfrm>
          <a:prstGeom prst="upDownArrow">
            <a:avLst>
              <a:gd name="adj1" fmla="val 50000"/>
              <a:gd name="adj2" fmla="val 50005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Двойная стрелка вверх/вниз 17"/>
          <p:cNvSpPr/>
          <p:nvPr/>
        </p:nvSpPr>
        <p:spPr>
          <a:xfrm>
            <a:off x="1143000" y="4514760"/>
            <a:ext cx="357120" cy="2071800"/>
          </a:xfrm>
          <a:prstGeom prst="upDownArrow">
            <a:avLst>
              <a:gd name="adj1" fmla="val 50000"/>
              <a:gd name="adj2" fmla="val 50010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Стрелка вниз 18"/>
          <p:cNvSpPr/>
          <p:nvPr/>
        </p:nvSpPr>
        <p:spPr>
          <a:xfrm>
            <a:off x="3357720" y="1371600"/>
            <a:ext cx="428400" cy="50004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Стрелка вниз 19"/>
          <p:cNvSpPr/>
          <p:nvPr/>
        </p:nvSpPr>
        <p:spPr>
          <a:xfrm>
            <a:off x="7072200" y="1371600"/>
            <a:ext cx="428760" cy="5000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Стрелка вниз 20"/>
          <p:cNvSpPr/>
          <p:nvPr/>
        </p:nvSpPr>
        <p:spPr>
          <a:xfrm>
            <a:off x="7143840" y="308628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4ff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Стрелка вниз 21"/>
          <p:cNvSpPr/>
          <p:nvPr/>
        </p:nvSpPr>
        <p:spPr>
          <a:xfrm>
            <a:off x="3357720" y="308628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4ff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Стрелка вниз 22"/>
          <p:cNvSpPr/>
          <p:nvPr/>
        </p:nvSpPr>
        <p:spPr>
          <a:xfrm>
            <a:off x="3286080" y="4514760"/>
            <a:ext cx="42876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Стрелка вниз 23"/>
          <p:cNvSpPr/>
          <p:nvPr/>
        </p:nvSpPr>
        <p:spPr>
          <a:xfrm>
            <a:off x="7143840" y="4514760"/>
            <a:ext cx="428400" cy="57168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Стрелка вниз 24"/>
          <p:cNvSpPr/>
          <p:nvPr/>
        </p:nvSpPr>
        <p:spPr>
          <a:xfrm>
            <a:off x="5143680" y="4514760"/>
            <a:ext cx="428400" cy="13575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Стрелка вниз 25"/>
          <p:cNvSpPr/>
          <p:nvPr/>
        </p:nvSpPr>
        <p:spPr>
          <a:xfrm>
            <a:off x="3286080" y="7015320"/>
            <a:ext cx="42876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4ff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Стрелка вниз 26"/>
          <p:cNvSpPr/>
          <p:nvPr/>
        </p:nvSpPr>
        <p:spPr>
          <a:xfrm>
            <a:off x="7286760" y="7015320"/>
            <a:ext cx="428400" cy="50004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44ff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Блок-схема: процесс 1"/>
          <p:cNvSpPr/>
          <p:nvPr/>
        </p:nvSpPr>
        <p:spPr>
          <a:xfrm>
            <a:off x="285840" y="299880"/>
            <a:ext cx="8358120" cy="714600"/>
          </a:xfrm>
          <a:prstGeom prst="flowChartProcess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</a:rPr>
              <a:t>Процесс сплошного и непрерывного наблюдения за хозяйственными операциями обеспечивается путем выполнен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Скругленный прямоугольник 2"/>
          <p:cNvSpPr/>
          <p:nvPr/>
        </p:nvSpPr>
        <p:spPr>
          <a:xfrm>
            <a:off x="214200" y="1371600"/>
            <a:ext cx="7286760" cy="785880"/>
          </a:xfrm>
          <a:prstGeom prst="roundRect">
            <a:avLst>
              <a:gd name="adj" fmla="val 16667"/>
            </a:avLst>
          </a:prstGeom>
          <a:solidFill>
            <a:srgbClr val="009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ставление документа внутри организации или получение такового со сторон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Скругленный прямоугольник 3"/>
          <p:cNvSpPr/>
          <p:nvPr/>
        </p:nvSpPr>
        <p:spPr>
          <a:xfrm>
            <a:off x="1357200" y="2514600"/>
            <a:ext cx="7286760" cy="785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тупление документа в бухгалтерию или ответственному за ведение бухгалтерского уче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Скругленный прямоугольник 4"/>
          <p:cNvSpPr/>
          <p:nvPr/>
        </p:nvSpPr>
        <p:spPr>
          <a:xfrm>
            <a:off x="357120" y="3657600"/>
            <a:ext cx="7286760" cy="15717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ерка документа по форме (полнота и правильность оформления реквизитов документа), арифметически (подсчет сумм), по содержанию (законность отраженных операций, логическая увязка показателей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Скругленный прямоугольник 5"/>
          <p:cNvSpPr/>
          <p:nvPr/>
        </p:nvSpPr>
        <p:spPr>
          <a:xfrm>
            <a:off x="1357200" y="5586480"/>
            <a:ext cx="7286760" cy="785880"/>
          </a:xfrm>
          <a:prstGeom prst="roundRect">
            <a:avLst>
              <a:gd name="adj" fmla="val 16667"/>
            </a:avLst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работка документа (запись бухгалтерских проводок, включение документов в учетные регистры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Скругленный прямоугольник 6"/>
          <p:cNvSpPr/>
          <p:nvPr/>
        </p:nvSpPr>
        <p:spPr>
          <a:xfrm>
            <a:off x="285840" y="6872400"/>
            <a:ext cx="7286400" cy="57132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ранение документов и передача в архи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2:17:45Z</dcterms:created>
  <dc:creator>Alex T</dc:creator>
  <dc:description/>
  <dc:language>en-US</dc:language>
  <cp:lastModifiedBy>Светик</cp:lastModifiedBy>
  <dcterms:modified xsi:type="dcterms:W3CDTF">2013-02-04T07:34:35Z</dcterms:modified>
  <cp:revision>349</cp:revision>
  <dc:subject/>
  <dc:title>Порядок представления отчет - заявки  ф.14 МЕД.</dc:title>
</cp:coreProperties>
</file>