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9538" cy="8172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203-4509-4B9E-9147-25AA22B4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B99-C093-46EA-A31C-FAC0714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C4C-029D-4E6B-8B16-FB31E2C5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745-16C1-40EF-9558-2D1F9013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E57C5-92DB-4375-9571-22EB651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596DC-41B0-4B59-95FE-4E8913F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4629-5A03-4AF2-86CA-16DE8A74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29A68-C8DB-4476-B616-A41BBF4B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64740-7016-46B2-843E-5DB90331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0360" y="347400"/>
            <a:ext cx="8101080" cy="76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C05DB-9D07-48F4-AB16-4AE285B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B5E23-EF62-4BD1-AA2B-72972A7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12D-8A45-4F14-B8F8-DEF4C75B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34813-E89E-486B-945E-F388D7D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2A79-4085-456E-9C09-A37EE5A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2DF4D-A0D5-4E13-8F85-AF56090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884F-A5A1-4602-B6FD-ACE6A90A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36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0BDC-9C51-43DA-A584-0331DD29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83D-E04C-4C12-A144-9198D0B5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EE6-E505-460A-9999-DADA159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9F0-368E-485B-94AE-98026A3B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347400"/>
            <a:ext cx="8101080" cy="76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6B2-8746-485F-8A3C-F79296B3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EC2-3826-43BB-8FDE-889BDE4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A47-7727-4D16-9F0C-68BC0B9C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8D5-5855-4A50-B74D-2F680FF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7442280"/>
            <a:ext cx="2850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9B3-1C22-48FA-9B97-55C7E1DD5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1160" y="3340080"/>
            <a:ext cx="1440" cy="361800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074760" y="7442280"/>
            <a:ext cx="2850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45156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6EEA-9250-4B86-8874-CFFCDB6471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072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85840" y="299880"/>
            <a:ext cx="85010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Вертикальный свиток 3"/>
          <p:cNvSpPr/>
          <p:nvPr/>
        </p:nvSpPr>
        <p:spPr>
          <a:xfrm>
            <a:off x="357120" y="514440"/>
            <a:ext cx="8072640" cy="6929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ализ результатов хозяйственно-финансовой деятельности аптечной организаци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0720" y="325080"/>
            <a:ext cx="2960640" cy="1832040"/>
          </a:xfrm>
          <a:prstGeom prst="rect">
            <a:avLst/>
          </a:prstGeom>
          <a:solidFill>
            <a:srgbClr val="cc0066"/>
          </a:solidFill>
          <a:ln w="9360">
            <a:solidFill>
              <a:srgbClr val="c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типы бухгалтерских документов при оформлении хозяйственных операц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19000" y="157320"/>
            <a:ext cx="5032440" cy="7572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е бухгалтерские документы должны быть составлены в момент совершения хозяйственной операции или непосредственно по ее оконч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й бухгалтерский документ – это основное свидетельство, подтверждающее законность хозяйственных операций в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ухгалтерские документы характе-ризуются следующими показател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ами применяемых док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м обязательных реквизи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апами обработки (проверка, кодирование и т.д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ами исправления записей в докумен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хемой документооборота (коли-чество экземпляров, ответственные за составление, сроки составления, порядок передачи в архив, сроки хранения документов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0720" y="2300040"/>
            <a:ext cx="2960640" cy="5429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ственно первичные документы (обеспечивают осуществление оперативного аналитического учет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тные регистры (документы для обобщающего синтетического уче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14200" y="228600"/>
          <a:ext cx="8572680" cy="7559640"/>
        </p:xfrm>
        <a:graphic>
          <a:graphicData uri="http://schemas.openxmlformats.org/drawingml/2006/table">
            <a:tbl>
              <a:tblPr/>
              <a:tblGrid>
                <a:gridCol w="1657440"/>
                <a:gridCol w="2552760"/>
                <a:gridCol w="2552760"/>
                <a:gridCol w="1809720"/>
              </a:tblGrid>
              <a:tr h="33516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окумен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70680">
                <a:tc rowSpan="4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наче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орядительн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ют право на совершение хозяйственных операций, строго определенных распоряжением должностного ли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е-накладная, доверен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50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авдате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тверждают факт свершения хозяйственной оп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й отчет, приходный кассовый ордер, акт прием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ирова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етают в себе распорядительный и оправдательный характер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ный кассовый ордер, платежная ведо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7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хгалтерского оформ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лняются в учетных целях для облегчения и ускорения работы, самостоятельного назначения не имею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ка о распределении прибыли, расчет амортизационных отчисл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48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ень обобщения учетной информ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ход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яют в момент совершения хозяйственной оп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наклад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д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ают путем группировки информации из исходных докумен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й отчет, обратная ведо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охвата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в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жают одну или несколько однородных хозяйственных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акты на спис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53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ите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информацию об однородных хозяйственных операциях за определенный временно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ель учета рабочего времени, кассовый отче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rowSpan="3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хозяйственных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жают движение товарно-материальных ценност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а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чет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яют расчетные взаимоотношения с партнер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ная ведомость по лицевым счета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яют операции с наличными и безналичн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тежное поручение, ч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48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состав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и функционируют внутри организ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ные карточки, кассовые орд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со стороны и на входе должны регистрирова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-фактура, акт приемки - передач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26892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за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ваемые вручну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на бумажном носите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зирован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с использованием компьютерных технолог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учитываемых пози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роч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только одну учетную позиц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инвентарная карточ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строч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две или более учетных пози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е, наклад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Загнутый угол 1"/>
          <p:cNvSpPr/>
          <p:nvPr/>
        </p:nvSpPr>
        <p:spPr>
          <a:xfrm>
            <a:off x="285840" y="228600"/>
            <a:ext cx="8358120" cy="1771560"/>
          </a:xfrm>
          <a:prstGeom prst="foldedCorner">
            <a:avLst>
              <a:gd name="adj" fmla="val 16666"/>
            </a:avLst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е учетные документы принимаются к учету, если они составлены по форме, содержащейся в альбомах унифицированных форм первичной учетной документации, документы, форма которых не предусмотрена в этих альбомах, должны содержать обязательные реквизиты (ФЗ «О бухгалтерском учете» статья 9, п.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Загнутый угол 3"/>
          <p:cNvSpPr/>
          <p:nvPr/>
        </p:nvSpPr>
        <p:spPr>
          <a:xfrm>
            <a:off x="285840" y="2157480"/>
            <a:ext cx="8358120" cy="571320"/>
          </a:xfrm>
          <a:prstGeom prst="foldedCorner">
            <a:avLst>
              <a:gd name="adj" fmla="val 16666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d"/>
                </a:solidFill>
                <a:latin typeface="Tahoma"/>
              </a:rPr>
              <a:t>К обязательным реквизитам первичных учетных документов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1714680" y="2871720"/>
            <a:ext cx="6929280" cy="500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документа (форм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714680" y="3586320"/>
            <a:ext cx="6929280" cy="642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организации, от имени которой составлен докумен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714680" y="4443480"/>
            <a:ext cx="6929280" cy="500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держание хозяйственной опер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714680" y="5157720"/>
            <a:ext cx="6929280" cy="714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ерители хозяйственной операции (в натуральном и денежном выражен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1714680" y="6086520"/>
            <a:ext cx="6929280" cy="857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должностей лиц, ответственных за совершение хозяйственной операции и правильность ее оформ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1714680" y="7157880"/>
            <a:ext cx="6929280" cy="500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е подписи и их расш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Блок-схема: узел 12"/>
          <p:cNvSpPr/>
          <p:nvPr/>
        </p:nvSpPr>
        <p:spPr>
          <a:xfrm>
            <a:off x="357120" y="299880"/>
            <a:ext cx="285840" cy="285840"/>
          </a:xfrm>
          <a:prstGeom prst="flowChartConnector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Блок-схема: узел 13"/>
          <p:cNvSpPr/>
          <p:nvPr/>
        </p:nvSpPr>
        <p:spPr>
          <a:xfrm>
            <a:off x="8072280" y="1514520"/>
            <a:ext cx="285840" cy="28584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Блок-схема: узел 14"/>
          <p:cNvSpPr/>
          <p:nvPr/>
        </p:nvSpPr>
        <p:spPr>
          <a:xfrm>
            <a:off x="8143920" y="2371680"/>
            <a:ext cx="285840" cy="285840"/>
          </a:xfrm>
          <a:prstGeom prst="flowChartConnector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Блок-схема: узел 15"/>
          <p:cNvSpPr/>
          <p:nvPr/>
        </p:nvSpPr>
        <p:spPr>
          <a:xfrm>
            <a:off x="500040" y="2300400"/>
            <a:ext cx="285840" cy="285480"/>
          </a:xfrm>
          <a:prstGeom prst="flowChartConnector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642960" y="2871720"/>
            <a:ext cx="428760" cy="40006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Овал 17"/>
          <p:cNvSpPr/>
          <p:nvPr/>
        </p:nvSpPr>
        <p:spPr>
          <a:xfrm>
            <a:off x="500040" y="7015320"/>
            <a:ext cx="700200" cy="71424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Блок-схема: магнитный диск 1"/>
          <p:cNvSpPr/>
          <p:nvPr/>
        </p:nvSpPr>
        <p:spPr>
          <a:xfrm>
            <a:off x="357120" y="228600"/>
            <a:ext cx="8429760" cy="150012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793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Содержащаяся в принятых  к учету первичных документах информация накапливается и систематизируется в сводных документах – регистрах бухгалтерского уч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28760" y="1800360"/>
            <a:ext cx="36432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оему внешнему виду учетные регистры подразделяются н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143680" y="1800360"/>
            <a:ext cx="36432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оему содержанию учетные регистры подразделяются н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Блок-схема: несколько документов 4"/>
          <p:cNvSpPr/>
          <p:nvPr/>
        </p:nvSpPr>
        <p:spPr>
          <a:xfrm>
            <a:off x="0" y="2800440"/>
            <a:ext cx="4714920" cy="1928880"/>
          </a:xfrm>
          <a:prstGeom prst="flowChartMultidocumen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Карточки (предназначены для аналитического учета основных средств (инвентарные карточки), материальных ценностей по местам их хранения (карточки учета материалов) и д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Блок-схема: несколько документов 5"/>
          <p:cNvSpPr/>
          <p:nvPr/>
        </p:nvSpPr>
        <p:spPr>
          <a:xfrm>
            <a:off x="0" y="4729320"/>
            <a:ext cx="4572000" cy="185724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Сводные листы (предназначены для синтетического и аналити-ческого учета или выполняют роль комбинированных регистров. К ним относятся журналы-ордера, ведомост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Блок-схема: несколько документов 6"/>
          <p:cNvSpPr/>
          <p:nvPr/>
        </p:nvSpPr>
        <p:spPr>
          <a:xfrm>
            <a:off x="0" y="6729480"/>
            <a:ext cx="5786280" cy="1071360"/>
          </a:xfrm>
          <a:prstGeom prst="flowChartMultidocumen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Книги (на предприятиях обязательно ведутся кассовая книга, главная книга – регистр синтетического учета)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Блок-схема: карточка 7"/>
          <p:cNvSpPr/>
          <p:nvPr/>
        </p:nvSpPr>
        <p:spPr>
          <a:xfrm>
            <a:off x="5500800" y="2943360"/>
            <a:ext cx="3286080" cy="804600"/>
          </a:xfrm>
          <a:prstGeom prst="flowChartPunchedCard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регистры аналитического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Блок-схема: карточка 8"/>
          <p:cNvSpPr/>
          <p:nvPr/>
        </p:nvSpPr>
        <p:spPr>
          <a:xfrm>
            <a:off x="5500800" y="3943440"/>
            <a:ext cx="3286080" cy="804600"/>
          </a:xfrm>
          <a:prstGeom prst="flowChartPunchedCard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регистры синтетического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Блок-схема: карточка 9"/>
          <p:cNvSpPr/>
          <p:nvPr/>
        </p:nvSpPr>
        <p:spPr>
          <a:xfrm>
            <a:off x="5572080" y="5014800"/>
            <a:ext cx="3214800" cy="804960"/>
          </a:xfrm>
          <a:prstGeom prst="flowChartPunchedCard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комбинированные регист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5929200" y="5943600"/>
            <a:ext cx="3071880" cy="22287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формация о хозяйственных операциях, произведен-ных за определенный период времени, из регистров бухгалтерского учета переносится в сгруппированном вид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бухгалтерскую отчетность!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хема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515080" cy="775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500040" y="0"/>
            <a:ext cx="8001000" cy="571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нтар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Скругленный прямоугольник 2"/>
          <p:cNvSpPr/>
          <p:nvPr/>
        </p:nvSpPr>
        <p:spPr>
          <a:xfrm>
            <a:off x="214200" y="657360"/>
            <a:ext cx="8572680" cy="3929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Законодательно-правовая основа проведения инвентаризации создается следующими документа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ФЗ № 129 «О бухгалтерском учет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Положение по ведению бухгалтерского учета и отчетности в РФ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БУ 1/08 «Учетная политика организац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Методические указания по инвентаризации имущества и финансовых обязательств», утвержденные Приказом Минфина РФ от 13.06.95г. № 49 (ред. 08.11.2010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Положение о порядке проведения инвентаризации имущества налогоплательщиков при налоговой проверке» от 21.03.99г. № 20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Скругленный прямоугольник 3"/>
          <p:cNvSpPr/>
          <p:nvPr/>
        </p:nvSpPr>
        <p:spPr>
          <a:xfrm>
            <a:off x="357120" y="4586400"/>
            <a:ext cx="8429760" cy="35859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цели инвентариз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ление фактического наличия имущества, учетного и не учетного в данной организации, но находящегося на его территор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фактического количества использованных товарно-материальных ценностей в процессе торгов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поставление фактических данных с данными бухгалтерского уч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правильности оценки имущества и обязательств с учетом рыночной стоим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Рамка 1"/>
          <p:cNvSpPr/>
          <p:nvPr/>
        </p:nvSpPr>
        <p:spPr>
          <a:xfrm>
            <a:off x="1071720" y="228600"/>
            <a:ext cx="6357960" cy="571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Проведение инвентаризации обязательн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285840" y="942840"/>
            <a:ext cx="8501040" cy="1128960"/>
          </a:xfrm>
          <a:prstGeom prst="rect">
            <a:avLst/>
          </a:prstGeom>
          <a:solidFill>
            <a:srgbClr val="010199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ередаче имущества организации в аренду, выкупе, продаже, а также в случаях, предусмотренных законодательством при преобразовании государственного или муниципального унитарного предприя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285840" y="2157480"/>
            <a:ext cx="8501040" cy="11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составлением годовой бухгалтерской отчетности, кроме имущества, инвентаризация которого проводилась не ранее 1 октября отчетного года; инвентаризаци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х средст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 проводиться 1 раз в 3 г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85840" y="3371760"/>
            <a:ext cx="8501040" cy="571680"/>
          </a:xfrm>
          <a:prstGeom prst="rect">
            <a:avLst/>
          </a:prstGeom>
          <a:solidFill>
            <a:srgbClr val="7030a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мене материально-ответственных лиц (на день приемки-передачи дел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285840" y="4014720"/>
            <a:ext cx="8501040" cy="642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установлении фактов хищений или злоупотреблений, а также порчи цен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285840" y="4729320"/>
            <a:ext cx="8501040" cy="714240"/>
          </a:xfrm>
          <a:prstGeom prst="rect">
            <a:avLst/>
          </a:prstGeom>
          <a:solidFill>
            <a:srgbClr val="0095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лучаях стихийных бедствий, пожара, аварий или других чрезвычайных ситуаций, вызванных экстремальными услови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285840" y="5514840"/>
            <a:ext cx="8501040" cy="1128960"/>
          </a:xfrm>
          <a:prstGeom prst="rect">
            <a:avLst/>
          </a:prstGeom>
          <a:solidFill>
            <a:srgbClr val="cc0066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ликвидации (реорганизации) предприятия перед составлением ликвидационного (разделительного) баланса и в других случаях, предусматриваемых законодательством РФ или нормативными актами Минфин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285840" y="6729480"/>
            <a:ext cx="8501040" cy="1128600"/>
          </a:xfrm>
          <a:prstGeom prst="rect">
            <a:avLst/>
          </a:prstGeom>
          <a:solidFill>
            <a:srgbClr val="363636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оллективной (бригадной) материальной ответственности инвентаризация проводится при смене руководителя коллектива (бригады), выбытии их коллектива более 50% его членов, по требованию одного или нескольких членов коллектива (бригад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8501040" y="371520"/>
            <a:ext cx="285840" cy="657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Овал 2"/>
          <p:cNvSpPr/>
          <p:nvPr/>
        </p:nvSpPr>
        <p:spPr>
          <a:xfrm>
            <a:off x="8501040" y="7157880"/>
            <a:ext cx="285840" cy="285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Загнутый угол 3"/>
          <p:cNvSpPr/>
          <p:nvPr/>
        </p:nvSpPr>
        <p:spPr>
          <a:xfrm>
            <a:off x="214200" y="228600"/>
            <a:ext cx="8143920" cy="1214280"/>
          </a:xfrm>
          <a:prstGeom prst="foldedCorner">
            <a:avLst>
              <a:gd name="adj" fmla="val 16666"/>
            </a:avLst>
          </a:prstGeom>
          <a:solidFill>
            <a:srgbClr val="00c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вентаризаций в отчетном году, дата их проведения, перечень имущества и  финансовых обязательств проверяемых при каждой из них, устанавливаются руководителем фармацевтической организации самостоятель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Загнутый угол 4"/>
          <p:cNvSpPr/>
          <p:nvPr/>
        </p:nvSpPr>
        <p:spPr>
          <a:xfrm>
            <a:off x="1643040" y="1585800"/>
            <a:ext cx="6715080" cy="1214640"/>
          </a:xfrm>
          <a:prstGeom prst="foldedCorner">
            <a:avLst>
              <a:gd name="adj" fmla="val 16666"/>
            </a:avLst>
          </a:prstGeom>
          <a:solidFill>
            <a:srgbClr val="7272f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ведения инвентаризации в организации создается постоянно действующая инвентаризационная комиссия, персональный состав которой утверждает руководит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Загнутый угол 5"/>
          <p:cNvSpPr/>
          <p:nvPr/>
        </p:nvSpPr>
        <p:spPr>
          <a:xfrm>
            <a:off x="214200" y="2943360"/>
            <a:ext cx="7215480" cy="1000080"/>
          </a:xfrm>
          <a:prstGeom prst="foldedCorner">
            <a:avLst>
              <a:gd name="adj" fmla="val 16666"/>
            </a:avLst>
          </a:prstGeom>
          <a:solidFill>
            <a:srgbClr val="66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 о составе комиссии (приказ, распоряжение) регистрируют в журнале контроля за выполнением приказов о проведении инвентар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Загнутый угол 6"/>
          <p:cNvSpPr/>
          <p:nvPr/>
        </p:nvSpPr>
        <p:spPr>
          <a:xfrm>
            <a:off x="214200" y="4086360"/>
            <a:ext cx="8143920" cy="1000080"/>
          </a:xfrm>
          <a:prstGeom prst="foldedCorner">
            <a:avLst>
              <a:gd name="adj" fmla="val 16666"/>
            </a:avLst>
          </a:prstGeom>
          <a:solidFill>
            <a:srgbClr val="cc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став инвентаризационной комиссии включаются представители администрации фармацевтической организации, работники бухгалтерии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Загнутый угол 7"/>
          <p:cNvSpPr/>
          <p:nvPr/>
        </p:nvSpPr>
        <p:spPr>
          <a:xfrm>
            <a:off x="571680" y="5229360"/>
            <a:ext cx="7215120" cy="1000080"/>
          </a:xfrm>
          <a:prstGeom prst="foldedCorner">
            <a:avLst>
              <a:gd name="adj" fmla="val 16666"/>
            </a:avLst>
          </a:prstGeom>
          <a:solidFill>
            <a:srgbClr val="008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хотя бы одного члена комиссии при проведении инвентаризации служит основанием для признания результатов инвентаризации недействительным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Загнутый угол 8"/>
          <p:cNvSpPr/>
          <p:nvPr/>
        </p:nvSpPr>
        <p:spPr>
          <a:xfrm>
            <a:off x="0" y="6372360"/>
            <a:ext cx="8143920" cy="1571400"/>
          </a:xfrm>
          <a:prstGeom prst="foldedCorner">
            <a:avLst>
              <a:gd name="adj" fmla="val 16666"/>
            </a:avLst>
          </a:prstGeom>
          <a:solidFill>
            <a:srgbClr val="00007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ическое наличие имущества при инвентаризации определяют путем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г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счета, взвешивания, обмера. Сведения о фактическом наличии имущества и реальности учтенных финансовых обязательств записывают в инвентаризационные описи или акты инвентаризации не менее чем в 2 экземпляр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араллелограмм 1"/>
          <p:cNvSpPr/>
          <p:nvPr/>
        </p:nvSpPr>
        <p:spPr>
          <a:xfrm>
            <a:off x="0" y="0"/>
            <a:ext cx="7358040" cy="1343160"/>
          </a:xfrm>
          <a:prstGeom prst="parallelogram">
            <a:avLst>
              <a:gd name="adj" fmla="val 2500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инвентаризации фармацевтическая торговая организация может составл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одные инвентаризационные описи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делам и по предприятию в це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араллелограмм 2"/>
          <p:cNvSpPr/>
          <p:nvPr/>
        </p:nvSpPr>
        <p:spPr>
          <a:xfrm>
            <a:off x="1643040" y="1442880"/>
            <a:ext cx="7358040" cy="1500480"/>
          </a:xfrm>
          <a:prstGeom prst="parallelogram">
            <a:avLst>
              <a:gd name="adj" fmla="val 24996"/>
            </a:avLst>
          </a:pr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нвентаризации оформляются в «Актах инвентаризации...» по отдельным видам имущества и финансовых обязательств, а также «Сличительных ведомостях результатов инвентаризаци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14200" y="3157560"/>
            <a:ext cx="8572680" cy="478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ные при инвентаризации расхождения фактического наличия имущества с данными бухгалтерского учета регулируются в соответствии с «Положением о бухгалтерском учете и отчетности в РФ» в следующем порядк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редства, материальные ценности, денежные средства и др. имущество, оказавшиеся в излишке, подлежат оприходованию и зачислению соответственно на финансовые результаты организации или увеличение финансирования (фондов) у государственного (муниципального) учреждения с последующим установлением причин возникновения излишка и виновных лиц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ыль ценностей в пределах норм, утвержденных в установленном законодательством порядке, списывается по распоряжению руководителя организации соответственно на издержки производства и обращения или на уменьшение финансирования у государственного учреждения. Нормы убыли могут применяться только в случаях выявления фактических недоста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чи материальных ценностей, денежных средств и др. имущества, порча сверх норм естественной убыли относятся на виновных лиц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GrandCanyon_0005"/>
          <p:cNvPicPr/>
          <p:nvPr/>
        </p:nvPicPr>
        <p:blipFill>
          <a:blip r:embed="rId1"/>
          <a:stretch/>
        </p:blipFill>
        <p:spPr>
          <a:xfrm>
            <a:off x="-1257480" y="0"/>
            <a:ext cx="10258560" cy="817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468360" y="2075400"/>
            <a:ext cx="94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unga"/>
              </a:rPr>
              <a:t>        </a:t>
            </a: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Благодарю за вним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          </a:t>
            </a: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и желаю успехов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герб"/>
          <p:cNvPicPr/>
          <p:nvPr/>
        </p:nvPicPr>
        <p:blipFill>
          <a:blip r:embed="rId2"/>
          <a:stretch/>
        </p:blipFill>
        <p:spPr>
          <a:xfrm>
            <a:off x="7215120" y="442800"/>
            <a:ext cx="1430280" cy="126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трелка вниз 3"/>
          <p:cNvSpPr/>
          <p:nvPr/>
        </p:nvSpPr>
        <p:spPr>
          <a:xfrm>
            <a:off x="357120" y="1014480"/>
            <a:ext cx="8429760" cy="1643040"/>
          </a:xfrm>
          <a:prstGeom prst="downArrow">
            <a:avLst>
              <a:gd name="adj1" fmla="val 50000"/>
              <a:gd name="adj2" fmla="val 5737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цели законодательства РФ о бухгалтерском уче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герб"/>
          <p:cNvPicPr/>
          <p:nvPr/>
        </p:nvPicPr>
        <p:blipFill>
          <a:blip r:embed="rId1"/>
          <a:stretch/>
        </p:blipFill>
        <p:spPr>
          <a:xfrm>
            <a:off x="7215120" y="228600"/>
            <a:ext cx="1430280" cy="1266840"/>
          </a:xfrm>
          <a:prstGeom prst="rect">
            <a:avLst/>
          </a:prstGeom>
          <a:ln w="0">
            <a:noFill/>
          </a:ln>
        </p:spPr>
      </p:pic>
      <p:sp>
        <p:nvSpPr>
          <p:cNvPr id="87" name="Блок-схема: карточка 5"/>
          <p:cNvSpPr/>
          <p:nvPr/>
        </p:nvSpPr>
        <p:spPr>
          <a:xfrm>
            <a:off x="428760" y="2943360"/>
            <a:ext cx="3571920" cy="4857480"/>
          </a:xfrm>
          <a:prstGeom prst="flowChartPunchedCard">
            <a:avLst/>
          </a:pr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ение единообразия ведения учета имущества, обязательств и хозяйственных операций, осуществляемых организац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Блок-схема: карточка 6"/>
          <p:cNvSpPr/>
          <p:nvPr/>
        </p:nvSpPr>
        <p:spPr>
          <a:xfrm>
            <a:off x="4643280" y="2943360"/>
            <a:ext cx="4071960" cy="4857480"/>
          </a:xfrm>
          <a:prstGeom prst="flowChartPunchedCard">
            <a:avLst/>
          </a:pr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и предос-тавление сопоставимой и достоверной инфор-мации об имущест-венном положении организаций и их доходах и расходах, необходимой пользова-телям бухгалтерской отчет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299880"/>
            <a:ext cx="85010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Схема 4" descr=""/>
          <p:cNvPicPr/>
          <p:nvPr/>
        </p:nvPicPr>
        <p:blipFill>
          <a:blip r:embed="rId1"/>
          <a:stretch/>
        </p:blipFill>
        <p:spPr>
          <a:xfrm>
            <a:off x="-19080" y="1066680"/>
            <a:ext cx="9053640" cy="7113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642960" y="299880"/>
            <a:ext cx="7858080" cy="642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ерархическая структура нормативно-правового регулирования бухгалтерского уче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299880"/>
            <a:ext cx="8001000" cy="78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 системы нормативно-правового регулирования бухгалтерского уч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0" y="1300320"/>
            <a:ext cx="3000240" cy="6643440"/>
          </a:xfrm>
          <a:prstGeom prst="rect">
            <a:avLst/>
          </a:prstGeom>
          <a:solidFill>
            <a:srgbClr val="00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полной и достоверной информации о деятельности организации и ее имущественном положении, необходимой внутренним пользователям бухгалтерской отчетности руководителям и собственникам имущества организации, а также внешним инвесторам, кредиторам и другим пользователям бухгалтерской отчет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3143160" y="1300320"/>
            <a:ext cx="3357720" cy="664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еспечение инфор-мацией, необходимой внутренним и внешним пользователям бухгалтерской отчетности для контроля соблюдения законодательства РФ при осуществлении организацией хозяйственных операций и  их целесообразностью, наличием и движением имущества и обязательств, использованием материальных, трудовых и финансовых ресурсов в соответствии  с утвержденными нормами, нормативами и сме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715080" y="1300320"/>
            <a:ext cx="2286000" cy="6643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-щение отрица-тельных результатов хозяйственной деятельности организации и выявление внутрихозяйственных резервов обеспечения ее финансовой устойчив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араллелограмм 1"/>
          <p:cNvSpPr/>
          <p:nvPr/>
        </p:nvSpPr>
        <p:spPr>
          <a:xfrm>
            <a:off x="571680" y="228600"/>
            <a:ext cx="8215200" cy="571680"/>
          </a:xfrm>
          <a:prstGeom prst="parallelogram">
            <a:avLst>
              <a:gd name="adj" fmla="val -5176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ы бухгалтерского уч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1228680"/>
            <a:ext cx="3786480" cy="20001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спечивающи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зяй-ственно-финансовую деятельность органи-зации, в число которых входят имущество и обя-зательства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429080" y="1085760"/>
            <a:ext cx="4357800" cy="2000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авляющ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хозяйственно-финансовую деятельность предприятия, к которым относятся хозяйственные процессы (снабжение, производство, реализация) и их результ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Блок-схема: карточка 8"/>
          <p:cNvSpPr/>
          <p:nvPr/>
        </p:nvSpPr>
        <p:spPr>
          <a:xfrm>
            <a:off x="5072040" y="3657600"/>
            <a:ext cx="3714840" cy="1785960"/>
          </a:xfrm>
          <a:prstGeom prst="flowChartPunchedCar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зяйственный процесс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совокупность хозяйственных организаций в определенной функциональной сфере (снабжение, производство, реализация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Блок-схема: карточка 9"/>
          <p:cNvSpPr/>
          <p:nvPr/>
        </p:nvSpPr>
        <p:spPr>
          <a:xfrm>
            <a:off x="5143680" y="5729400"/>
            <a:ext cx="3643200" cy="1571400"/>
          </a:xfrm>
          <a:prstGeom prst="flowChartPunchedCard">
            <a:avLst/>
          </a:prstGeom>
          <a:solidFill>
            <a:srgbClr val="7171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зяйственная операция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каждый свершившийся в деятельности организации факт, оформленный документаль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Блок-схема: карточка 10"/>
          <p:cNvSpPr/>
          <p:nvPr/>
        </p:nvSpPr>
        <p:spPr>
          <a:xfrm>
            <a:off x="0" y="3657600"/>
            <a:ext cx="1928880" cy="1214280"/>
          </a:xfrm>
          <a:prstGeom prst="flowChartPunchedCar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Состав и функциональ-ная р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Блок-схема: карточка 11"/>
          <p:cNvSpPr/>
          <p:nvPr/>
        </p:nvSpPr>
        <p:spPr>
          <a:xfrm>
            <a:off x="2286000" y="3657600"/>
            <a:ext cx="1928880" cy="1214280"/>
          </a:xfrm>
          <a:prstGeom prst="flowChartPunchedCar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Источники формирования и целевое назнач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Блок-схема: документ 12"/>
          <p:cNvSpPr/>
          <p:nvPr/>
        </p:nvSpPr>
        <p:spPr>
          <a:xfrm>
            <a:off x="785880" y="5372280"/>
            <a:ext cx="2428920" cy="1214280"/>
          </a:xfrm>
          <a:prstGeom prst="flowChartDocument">
            <a:avLst/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еоборотны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тив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основной капитал, малолик-видные средств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Блок-схема: документ 13"/>
          <p:cNvSpPr/>
          <p:nvPr/>
        </p:nvSpPr>
        <p:spPr>
          <a:xfrm>
            <a:off x="785880" y="6872400"/>
            <a:ext cx="2428920" cy="1000080"/>
          </a:xfrm>
          <a:prstGeom prst="flowChartDocument">
            <a:avLst/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оротны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тивы (оборотный капита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Стрелка вниз 14"/>
          <p:cNvSpPr/>
          <p:nvPr/>
        </p:nvSpPr>
        <p:spPr>
          <a:xfrm>
            <a:off x="714240" y="3228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вниз 15"/>
          <p:cNvSpPr/>
          <p:nvPr/>
        </p:nvSpPr>
        <p:spPr>
          <a:xfrm>
            <a:off x="2928960" y="3228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низ 16"/>
          <p:cNvSpPr/>
          <p:nvPr/>
        </p:nvSpPr>
        <p:spPr>
          <a:xfrm>
            <a:off x="6715080" y="3086280"/>
            <a:ext cx="484200" cy="64260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углом 17"/>
          <p:cNvSpPr/>
          <p:nvPr/>
        </p:nvSpPr>
        <p:spPr>
          <a:xfrm flipV="1">
            <a:off x="4643280" y="3086280"/>
            <a:ext cx="857520" cy="371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углом 18"/>
          <p:cNvSpPr/>
          <p:nvPr/>
        </p:nvSpPr>
        <p:spPr>
          <a:xfrm flipV="1">
            <a:off x="214200" y="4871160"/>
            <a:ext cx="857520" cy="264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Стрелка вправо 19"/>
          <p:cNvSpPr/>
          <p:nvPr/>
        </p:nvSpPr>
        <p:spPr>
          <a:xfrm>
            <a:off x="285840" y="5657760"/>
            <a:ext cx="92844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Блок-схема: процесс 1"/>
          <p:cNvSpPr/>
          <p:nvPr/>
        </p:nvSpPr>
        <p:spPr>
          <a:xfrm>
            <a:off x="428760" y="228600"/>
            <a:ext cx="8286480" cy="357120"/>
          </a:xfrm>
          <a:prstGeom prst="flowChartProcess">
            <a:avLst/>
          </a:prstGeom>
          <a:solidFill>
            <a:srgbClr val="2b2bf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ассификация объектов учета по составу функциональной р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4200" y="800280"/>
          <a:ext cx="8572680" cy="7075440"/>
        </p:xfrm>
        <a:graphic>
          <a:graphicData uri="http://schemas.openxmlformats.org/drawingml/2006/table">
            <a:tbl>
              <a:tblPr/>
              <a:tblGrid>
                <a:gridCol w="2786040"/>
                <a:gridCol w="2892600"/>
                <a:gridCol w="2894040"/>
              </a:tblGrid>
              <a:tr h="258480"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rowSpan="4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оборотны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долгосрочн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средств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здания, сооружения, торговое оборудование, транспортные средства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труда, используемые в течение длительного времени, но не изменяющие своего внешнего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право на пользование природными ресурсами; патенты, товарные знаки, лицензии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долгосрочного вложения, имеющие стоимостную, но не являющиеся вещественными ценност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тальные вложен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не введенные в действие объекты, затраты на строительные работы и реконструкцию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сновные средства, требующие строительства, монтажа, реконструкции и т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ные вложен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вложения в материальные ценности или финансовые влож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овые вложения на срок более 12 мес  в ценные бумаги, представление займов и т.п.; вложения в материальные ц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 rowSpan="3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ные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раткосрочные) акти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о-производственные запас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сырье, материалы, топливо, товары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ются в одном акте производства и поэтому всю свою стоимость сразу передают на изготовленную из них или реализуемую проду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средства в кассе и на расчетном сче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и расче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иторская задолженность за товары, услуги и другие расчеты, краткосрочные финансовые вложения на срок менее 12 ме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Блок-схема: процесс 1"/>
          <p:cNvSpPr/>
          <p:nvPr/>
        </p:nvSpPr>
        <p:spPr>
          <a:xfrm>
            <a:off x="285840" y="228600"/>
            <a:ext cx="8501040" cy="89856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зяйственные средства предприятия могут быть образованы и получены за счет источников собственных и привлеченных (заемных) сред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5840" y="1300320"/>
          <a:ext cx="8501040" cy="6708600"/>
        </p:xfrm>
        <a:graphic>
          <a:graphicData uri="http://schemas.openxmlformats.org/drawingml/2006/table">
            <a:tbl>
              <a:tblPr/>
              <a:tblGrid>
                <a:gridCol w="1571400"/>
                <a:gridCol w="2571840"/>
                <a:gridCol w="4357800"/>
              </a:tblGrid>
              <a:tr h="1071360">
                <a:tc rowSpan="6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вной капитал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вклады учредителей для начала уставной деятельности и гаранти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окупность в денежном выражении вкладов учредителей в имущество при создании предприятий для обеспечения его деятельности в размерах, определенных учредительными документами и законодательством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авочный капи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уется за счет прироста внеоборотных активов при переоценке, за счет разницы от продажи собственных акций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ный капи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ется за счет ежегодных отчислений от чистой прибыли как гарантия повышения ответственности по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спределенная прибы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тая прибыль или ее часть, не распределенная в виде дивидендов,  направленная на накопление имущества организации или пополнение оборотных средс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е финанс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, поступившие от других организаций, в том числе из бюджета, для оговоренных целей и не требующие возв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очные резервы (например, по сомнительным долгам) и резервы предстоящих расходов (например, оплата отпусков, ремонт основных средст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ба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полученных краткосрочных и долгосрочных ссуд банка (непогашенн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ем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выпущенных и проданных предприятием акций трудового коллектива, акций предприятия и облигаций, краткосрочные займы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тельства по расчет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кредиторской задолженности поставщикам за товары и услуги, по выданным векселям, полученным авансам, оплате труда, социальному страхованию, бюджету и др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Блок-схема: процесс 1"/>
          <p:cNvSpPr/>
          <p:nvPr/>
        </p:nvSpPr>
        <p:spPr>
          <a:xfrm>
            <a:off x="500040" y="228600"/>
            <a:ext cx="8072640" cy="50004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ы и приемы метода бухгалтерского уч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Скругленный прямоугольник 2"/>
          <p:cNvSpPr/>
          <p:nvPr/>
        </p:nvSpPr>
        <p:spPr>
          <a:xfrm>
            <a:off x="0" y="94284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пособы первичного наблюдения объектов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285840" y="265752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пособ стоимостного измерения объектов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571680" y="4086360"/>
            <a:ext cx="800100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Способ текущей группировки данных об объект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кругленный прямоугольник 5"/>
          <p:cNvSpPr/>
          <p:nvPr/>
        </p:nvSpPr>
        <p:spPr>
          <a:xfrm>
            <a:off x="1000080" y="658656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Способ итогового обобщения и представления дан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Скругленный прямоугольник 6"/>
          <p:cNvSpPr/>
          <p:nvPr/>
        </p:nvSpPr>
        <p:spPr>
          <a:xfrm>
            <a:off x="2071800" y="1871640"/>
            <a:ext cx="3000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Документ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Скругленный прямоугольник 7"/>
          <p:cNvSpPr/>
          <p:nvPr/>
        </p:nvSpPr>
        <p:spPr>
          <a:xfrm>
            <a:off x="5786280" y="1871640"/>
            <a:ext cx="300060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Инвента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Скругленный прямоугольник 8"/>
          <p:cNvSpPr/>
          <p:nvPr/>
        </p:nvSpPr>
        <p:spPr>
          <a:xfrm>
            <a:off x="2143080" y="344340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Скругленный прямоугольник 9"/>
          <p:cNvSpPr/>
          <p:nvPr/>
        </p:nvSpPr>
        <p:spPr>
          <a:xfrm>
            <a:off x="5786280" y="344340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лькуля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Скругленный прямоугольник 10"/>
          <p:cNvSpPr/>
          <p:nvPr/>
        </p:nvSpPr>
        <p:spPr>
          <a:xfrm>
            <a:off x="1714680" y="494352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бухгалтерского уче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5786280" y="508644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тные регист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12"/>
          <p:cNvSpPr/>
          <p:nvPr/>
        </p:nvSpPr>
        <p:spPr>
          <a:xfrm>
            <a:off x="3786120" y="587232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йная зап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Скругленный прямоугольник 13"/>
          <p:cNvSpPr/>
          <p:nvPr/>
        </p:nvSpPr>
        <p:spPr>
          <a:xfrm>
            <a:off x="5429160" y="7529400"/>
            <a:ext cx="3214800" cy="6429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ая бухгалтерская отчет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Скругленный прямоугольник 14"/>
          <p:cNvSpPr/>
          <p:nvPr/>
        </p:nvSpPr>
        <p:spPr>
          <a:xfrm>
            <a:off x="1785960" y="7443720"/>
            <a:ext cx="3000240" cy="4287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Двойная стрелка вверх/вниз 15"/>
          <p:cNvSpPr/>
          <p:nvPr/>
        </p:nvSpPr>
        <p:spPr>
          <a:xfrm>
            <a:off x="357120" y="1371600"/>
            <a:ext cx="357120" cy="12873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Двойная стрелка вверх/вниз 16"/>
          <p:cNvSpPr/>
          <p:nvPr/>
        </p:nvSpPr>
        <p:spPr>
          <a:xfrm>
            <a:off x="857160" y="3086280"/>
            <a:ext cx="357120" cy="1000080"/>
          </a:xfrm>
          <a:prstGeom prst="upDownArrow">
            <a:avLst>
              <a:gd name="adj1" fmla="val 50000"/>
              <a:gd name="adj2" fmla="val 50005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Двойная стрелка вверх/вниз 17"/>
          <p:cNvSpPr/>
          <p:nvPr/>
        </p:nvSpPr>
        <p:spPr>
          <a:xfrm>
            <a:off x="1143000" y="4514760"/>
            <a:ext cx="357120" cy="207180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18"/>
          <p:cNvSpPr/>
          <p:nvPr/>
        </p:nvSpPr>
        <p:spPr>
          <a:xfrm>
            <a:off x="3357720" y="1371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Стрелка вниз 19"/>
          <p:cNvSpPr/>
          <p:nvPr/>
        </p:nvSpPr>
        <p:spPr>
          <a:xfrm>
            <a:off x="7072200" y="13716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низ 20"/>
          <p:cNvSpPr/>
          <p:nvPr/>
        </p:nvSpPr>
        <p:spPr>
          <a:xfrm>
            <a:off x="7143840" y="30862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Стрелка вниз 21"/>
          <p:cNvSpPr/>
          <p:nvPr/>
        </p:nvSpPr>
        <p:spPr>
          <a:xfrm>
            <a:off x="3357720" y="30862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Стрелка вниз 22"/>
          <p:cNvSpPr/>
          <p:nvPr/>
        </p:nvSpPr>
        <p:spPr>
          <a:xfrm>
            <a:off x="3286080" y="4514760"/>
            <a:ext cx="4287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Стрелка вниз 23"/>
          <p:cNvSpPr/>
          <p:nvPr/>
        </p:nvSpPr>
        <p:spPr>
          <a:xfrm>
            <a:off x="7143840" y="451476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Стрелка вниз 24"/>
          <p:cNvSpPr/>
          <p:nvPr/>
        </p:nvSpPr>
        <p:spPr>
          <a:xfrm>
            <a:off x="5143680" y="4514760"/>
            <a:ext cx="428400" cy="1357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Стрелка вниз 25"/>
          <p:cNvSpPr/>
          <p:nvPr/>
        </p:nvSpPr>
        <p:spPr>
          <a:xfrm>
            <a:off x="3286080" y="701532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Стрелка вниз 26"/>
          <p:cNvSpPr/>
          <p:nvPr/>
        </p:nvSpPr>
        <p:spPr>
          <a:xfrm>
            <a:off x="7286760" y="70153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лок-схема: процесс 1"/>
          <p:cNvSpPr/>
          <p:nvPr/>
        </p:nvSpPr>
        <p:spPr>
          <a:xfrm>
            <a:off x="285840" y="299880"/>
            <a:ext cx="8358120" cy="71460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роцесс сплошного и непрерывного наблюдения за хозяйственными операциями обеспечивается путем выпол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214200" y="137160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документа внутри организации или получение такового со стор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357200" y="251460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упление документа в бухгалтерию или ответственному за ведение бухгалтерского уч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357120" y="3657600"/>
            <a:ext cx="7286760" cy="1571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документа по форме (полнота и правильность оформления реквизитов документа), арифметически (подсчет сумм), по содержанию (законность отраженных операций, логическая увязка показател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1357200" y="558648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ботка документа (запись бухгалтерских проводок, включение документов в учетные регистр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Скругленный прямоугольник 6"/>
          <p:cNvSpPr/>
          <p:nvPr/>
        </p:nvSpPr>
        <p:spPr>
          <a:xfrm>
            <a:off x="285840" y="6872400"/>
            <a:ext cx="7286400" cy="5713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нение документов и передача в арх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17:45Z</dcterms:created>
  <dc:creator>Alex T</dc:creator>
  <dc:description/>
  <dc:language>en-US</dc:language>
  <cp:lastModifiedBy>Светик</cp:lastModifiedBy>
  <dcterms:modified xsi:type="dcterms:W3CDTF">2013-02-04T07:34:35Z</dcterms:modified>
  <cp:revision>349</cp:revision>
  <dc:subject/>
  <dc:title>Порядок представления отчет - заявки  ф.14 МЕД.</dc:title>
</cp:coreProperties>
</file>