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396E-0927-4341-9548-3ADC79FDF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7EBF-60CD-42F8-8D8C-83DEA42EAAC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обка с крыш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В. Дорофеев, Л.Г. Петерсо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ласс (ча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№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8130-4294-4242-9F0B-16BED271AD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ECE-A825-4F60-A8E3-CC2B60D7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B03-420E-4E4E-BB87-91058C3B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776-F82A-4A3E-B5A9-BE81980E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35D-E260-4026-8A04-6E1EB70D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561-8C54-41B6-BB78-9064CFF4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A24-2EEC-4A11-9A99-EE44CA5D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A86-81E6-410F-9E6A-E7E3047F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B9A-BEBB-457E-9E4F-36DB3CC0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DBB-BDEC-4DC1-8AC7-F93BD3AC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DCD-97F9-42DC-B70F-B333A6B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E4A-DE77-4BFB-90E6-EEE9465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690-5541-487B-B1AD-0AE7AB6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34CE-AAF3-4F75-A88F-46A84C597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нятие многогран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уклый и невыпуклый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ногогран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 flipH="1">
            <a:off x="1116000" y="3357720"/>
            <a:ext cx="287280" cy="136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1116000" y="4724280"/>
            <a:ext cx="129528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2411280" y="364464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403280" y="3357720"/>
            <a:ext cx="1008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 flipV="1">
            <a:off x="1403280" y="3068640"/>
            <a:ext cx="7192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 flipH="1">
            <a:off x="2411280" y="3213000"/>
            <a:ext cx="14472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 flipV="1">
            <a:off x="1116000" y="4221000"/>
            <a:ext cx="1008000" cy="503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2556000" y="3213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2411280" y="4365720"/>
            <a:ext cx="144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4500720" y="2637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4500720" y="2637000"/>
            <a:ext cx="165564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H="1" flipV="1">
            <a:off x="6011640" y="2924280"/>
            <a:ext cx="144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 flipV="1">
            <a:off x="6012000" y="2637000"/>
            <a:ext cx="720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4500720" y="263700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500720" y="4437000"/>
            <a:ext cx="1655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6156360" y="3357720"/>
            <a:ext cx="0" cy="172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6012000" y="292428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1"/>
          <p:cNvSpPr/>
          <p:nvPr/>
        </p:nvSpPr>
        <p:spPr>
          <a:xfrm>
            <a:off x="6732720" y="263700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 flipH="1" flipV="1">
            <a:off x="6011640" y="4652640"/>
            <a:ext cx="14436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 flipV="1">
            <a:off x="6012000" y="4581000"/>
            <a:ext cx="144360" cy="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4"/>
          <p:cNvSpPr/>
          <p:nvPr/>
        </p:nvSpPr>
        <p:spPr>
          <a:xfrm flipV="1">
            <a:off x="6156360" y="4292640"/>
            <a:ext cx="57636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324000" y="1628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ук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4952160" y="165888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евыпук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7"/>
          <p:cNvSpPr/>
          <p:nvPr/>
        </p:nvSpPr>
        <p:spPr>
          <a:xfrm flipH="1">
            <a:off x="1116000" y="558972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2124000" y="3068640"/>
            <a:ext cx="43200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9"/>
          <p:cNvSpPr/>
          <p:nvPr/>
        </p:nvSpPr>
        <p:spPr>
          <a:xfrm>
            <a:off x="2124000" y="306864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0"/>
          <p:cNvSpPr/>
          <p:nvPr/>
        </p:nvSpPr>
        <p:spPr>
          <a:xfrm>
            <a:off x="2124000" y="4221000"/>
            <a:ext cx="432000" cy="14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1"/>
          <p:cNvSpPr/>
          <p:nvPr/>
        </p:nvSpPr>
        <p:spPr>
          <a:xfrm>
            <a:off x="1403280" y="55897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2"/>
          <p:cNvSpPr/>
          <p:nvPr/>
        </p:nvSpPr>
        <p:spPr>
          <a:xfrm>
            <a:off x="1908000" y="5589720"/>
            <a:ext cx="287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3"/>
          <p:cNvSpPr/>
          <p:nvPr/>
        </p:nvSpPr>
        <p:spPr>
          <a:xfrm>
            <a:off x="1116000" y="6021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4"/>
          <p:cNvSpPr/>
          <p:nvPr/>
        </p:nvSpPr>
        <p:spPr>
          <a:xfrm flipH="1">
            <a:off x="4140000" y="537372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4140360" y="5373720"/>
            <a:ext cx="122364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6"/>
          <p:cNvSpPr/>
          <p:nvPr/>
        </p:nvSpPr>
        <p:spPr>
          <a:xfrm flipH="1" flipV="1">
            <a:off x="5219280" y="5589720"/>
            <a:ext cx="14436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7"/>
          <p:cNvSpPr/>
          <p:nvPr/>
        </p:nvSpPr>
        <p:spPr>
          <a:xfrm flipV="1">
            <a:off x="5219640" y="537372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1109880" y="492120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9"/>
          <p:cNvSpPr/>
          <p:nvPr/>
        </p:nvSpPr>
        <p:spPr>
          <a:xfrm>
            <a:off x="6097680" y="530064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Ос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0"/>
          <p:cNvSpPr/>
          <p:nvPr/>
        </p:nvSpPr>
        <p:spPr>
          <a:xfrm flipV="1">
            <a:off x="4500720" y="4292280"/>
            <a:ext cx="2303280" cy="73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1"/>
                            </p:stCondLst>
                            <p:childTnLst>
                              <p:par>
                                <p:cTn id="4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201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701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201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701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701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201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701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201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701"/>
                            </p:stCondLst>
                            <p:childTnLst>
                              <p:par>
                                <p:cTn id="4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201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701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8201"/>
                            </p:stCondLst>
                            <p:childTnLst>
                              <p:par>
                                <p:cTn id="5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701"/>
                            </p:stCondLst>
                            <p:childTnLst>
                              <p:par>
                                <p:cTn id="5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201"/>
                            </p:stCondLst>
                            <p:childTnLst>
                              <p:par>
                                <p:cTn id="5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9701"/>
                            </p:stCondLst>
                            <p:childTnLst>
                              <p:par>
                                <p:cTn id="5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1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401"/>
                            </p:stCondLst>
                            <p:childTnLst>
                              <p:par>
                                <p:cTn id="5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901"/>
                            </p:stCondLst>
                            <p:childTnLst>
                              <p:par>
                                <p:cTn id="5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702"/>
                            </p:stCondLst>
                            <p:childTnLst>
                              <p:par>
                                <p:cTn id="5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202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702"/>
                            </p:stCondLst>
                            <p:childTnLst>
                              <p:par>
                                <p:cTn id="5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202"/>
                            </p:stCondLst>
                            <p:childTnLst>
                              <p:par>
                                <p:cTn id="5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702"/>
                            </p:stCondLst>
                            <p:childTnLst>
                              <p:par>
                                <p:cTn id="5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202"/>
                            </p:stCondLst>
                            <p:childTnLst>
                              <p:par>
                                <p:cTn id="5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2"/>
                            </p:stCondLst>
                            <p:childTnLst>
                              <p:par>
                                <p:cTn id="5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202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702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7202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7702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8202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Элементы многогран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1557360"/>
            <a:ext cx="8064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Грани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многоугольники, из которых составлен многогранник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Ребра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тороны граней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Вершины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онцы ребер 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;В;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6255"/>
                </a:solidFill>
                <a:latin typeface="Times New Roman"/>
              </a:rPr>
              <a:t>Диагональ</a:t>
            </a:r>
            <a:r>
              <a:rPr b="0" lang="ru-RU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отрезо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единяющий две верш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ринадлежа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й грани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859280" y="3500280"/>
            <a:ext cx="2954160" cy="3113280"/>
            <a:chOff x="4859280" y="3500280"/>
            <a:chExt cx="2954160" cy="3113280"/>
          </a:xfrm>
        </p:grpSpPr>
        <p:grpSp>
          <p:nvGrpSpPr>
            <p:cNvPr id="246" name=""/>
            <p:cNvGrpSpPr/>
            <p:nvPr/>
          </p:nvGrpSpPr>
          <p:grpSpPr>
            <a:xfrm>
              <a:off x="4861080" y="3573360"/>
              <a:ext cx="2952360" cy="3027240"/>
              <a:chOff x="4861080" y="3573360"/>
              <a:chExt cx="2952360" cy="3027240"/>
            </a:xfrm>
          </p:grpSpPr>
          <p:pic>
            <p:nvPicPr>
              <p:cNvPr id="2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61080" y="3573360"/>
                <a:ext cx="2952360" cy="302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956120" y="5025240"/>
                <a:ext cx="279360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724360" y="422100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9280" y="515772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69080" y="6093000"/>
              <a:ext cx="36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51640" y="537372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16720" y="537372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16720" y="3500280"/>
              <a:ext cx="33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56"/>
          <p:cNvSpPr/>
          <p:nvPr/>
        </p:nvSpPr>
        <p:spPr>
          <a:xfrm flipV="1">
            <a:off x="1763640" y="2997000"/>
            <a:ext cx="1295640" cy="647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9"/>
          <p:cNvSpPr/>
          <p:nvPr/>
        </p:nvSpPr>
        <p:spPr>
          <a:xfrm flipV="1">
            <a:off x="1763640" y="1125000"/>
            <a:ext cx="360360" cy="2519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60"/>
          <p:cNvSpPr/>
          <p:nvPr/>
        </p:nvSpPr>
        <p:spPr>
          <a:xfrm flipH="1" flipV="1">
            <a:off x="2124000" y="1125360"/>
            <a:ext cx="935280" cy="18720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1"/>
          <p:cNvSpPr/>
          <p:nvPr/>
        </p:nvSpPr>
        <p:spPr>
          <a:xfrm>
            <a:off x="1042920" y="2997360"/>
            <a:ext cx="2016360" cy="0"/>
          </a:xfrm>
          <a:prstGeom prst="line">
            <a:avLst/>
          </a:prstGeom>
          <a:ln w="2844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2"/>
          <p:cNvSpPr/>
          <p:nvPr/>
        </p:nvSpPr>
        <p:spPr>
          <a:xfrm>
            <a:off x="1042920" y="2997360"/>
            <a:ext cx="720720" cy="6476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3"/>
          <p:cNvSpPr/>
          <p:nvPr/>
        </p:nvSpPr>
        <p:spPr>
          <a:xfrm flipV="1">
            <a:off x="1042920" y="1125360"/>
            <a:ext cx="1081080" cy="18720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4"/>
          <p:cNvSpPr/>
          <p:nvPr/>
        </p:nvSpPr>
        <p:spPr>
          <a:xfrm>
            <a:off x="5796000" y="3139920"/>
            <a:ext cx="1944720" cy="0"/>
          </a:xfrm>
          <a:prstGeom prst="line">
            <a:avLst/>
          </a:prstGeom>
          <a:ln w="284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5"/>
          <p:cNvSpPr/>
          <p:nvPr/>
        </p:nvSpPr>
        <p:spPr>
          <a:xfrm flipV="1">
            <a:off x="6299280" y="3139920"/>
            <a:ext cx="144144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6"/>
          <p:cNvSpPr/>
          <p:nvPr/>
        </p:nvSpPr>
        <p:spPr>
          <a:xfrm>
            <a:off x="5796000" y="3139920"/>
            <a:ext cx="50328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7"/>
          <p:cNvSpPr/>
          <p:nvPr/>
        </p:nvSpPr>
        <p:spPr>
          <a:xfrm>
            <a:off x="5796000" y="1268280"/>
            <a:ext cx="0" cy="187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8"/>
          <p:cNvSpPr/>
          <p:nvPr/>
        </p:nvSpPr>
        <p:spPr>
          <a:xfrm>
            <a:off x="7740720" y="1268280"/>
            <a:ext cx="0" cy="187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9"/>
          <p:cNvSpPr/>
          <p:nvPr/>
        </p:nvSpPr>
        <p:spPr>
          <a:xfrm>
            <a:off x="6299280" y="1916280"/>
            <a:ext cx="0" cy="18716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5796000" y="1268280"/>
            <a:ext cx="19447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1"/>
          <p:cNvSpPr/>
          <p:nvPr/>
        </p:nvSpPr>
        <p:spPr>
          <a:xfrm flipV="1">
            <a:off x="6299280" y="1268280"/>
            <a:ext cx="144144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5796000" y="1268280"/>
            <a:ext cx="503280" cy="64944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3"/>
          <p:cNvSpPr/>
          <p:nvPr/>
        </p:nvSpPr>
        <p:spPr>
          <a:xfrm>
            <a:off x="2987640" y="3429000"/>
            <a:ext cx="12970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4"/>
          <p:cNvSpPr/>
          <p:nvPr/>
        </p:nvSpPr>
        <p:spPr>
          <a:xfrm>
            <a:off x="3564000" y="2852640"/>
            <a:ext cx="1297080" cy="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7"/>
          <p:cNvSpPr/>
          <p:nvPr/>
        </p:nvSpPr>
        <p:spPr>
          <a:xfrm>
            <a:off x="3706920" y="1843200"/>
            <a:ext cx="129672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8"/>
          <p:cNvSpPr/>
          <p:nvPr/>
        </p:nvSpPr>
        <p:spPr>
          <a:xfrm>
            <a:off x="4282920" y="1268280"/>
            <a:ext cx="129708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0"/>
          <p:cNvSpPr/>
          <p:nvPr/>
        </p:nvSpPr>
        <p:spPr>
          <a:xfrm flipV="1">
            <a:off x="3706920" y="1267920"/>
            <a:ext cx="576000" cy="5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1"/>
          <p:cNvSpPr/>
          <p:nvPr/>
        </p:nvSpPr>
        <p:spPr>
          <a:xfrm flipV="1">
            <a:off x="2987640" y="1844280"/>
            <a:ext cx="719280" cy="1584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2"/>
          <p:cNvSpPr/>
          <p:nvPr/>
        </p:nvSpPr>
        <p:spPr>
          <a:xfrm flipV="1">
            <a:off x="4282920" y="1844280"/>
            <a:ext cx="719280" cy="1584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3"/>
          <p:cNvSpPr/>
          <p:nvPr/>
        </p:nvSpPr>
        <p:spPr>
          <a:xfrm flipV="1">
            <a:off x="4859280" y="1267920"/>
            <a:ext cx="719280" cy="158436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84"/>
          <p:cNvSpPr/>
          <p:nvPr/>
        </p:nvSpPr>
        <p:spPr>
          <a:xfrm flipV="1">
            <a:off x="3564000" y="1267920"/>
            <a:ext cx="718920" cy="158436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5"/>
          <p:cNvSpPr/>
          <p:nvPr/>
        </p:nvSpPr>
        <p:spPr>
          <a:xfrm flipV="1">
            <a:off x="5003640" y="1267920"/>
            <a:ext cx="576360" cy="5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6"/>
          <p:cNvSpPr/>
          <p:nvPr/>
        </p:nvSpPr>
        <p:spPr>
          <a:xfrm flipV="1">
            <a:off x="4282920" y="2852280"/>
            <a:ext cx="576360" cy="5749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7"/>
          <p:cNvSpPr/>
          <p:nvPr/>
        </p:nvSpPr>
        <p:spPr>
          <a:xfrm flipV="1">
            <a:off x="2987640" y="2852280"/>
            <a:ext cx="576360" cy="574920"/>
          </a:xfrm>
          <a:prstGeom prst="line">
            <a:avLst/>
          </a:prstGeom>
          <a:ln w="28440">
            <a:solidFill>
              <a:srgbClr val="0066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8"/>
          <p:cNvSpPr/>
          <p:nvPr/>
        </p:nvSpPr>
        <p:spPr>
          <a:xfrm>
            <a:off x="5796000" y="6597720"/>
            <a:ext cx="223200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9"/>
          <p:cNvSpPr/>
          <p:nvPr/>
        </p:nvSpPr>
        <p:spPr>
          <a:xfrm flipV="1">
            <a:off x="8028000" y="5805000"/>
            <a:ext cx="936720" cy="792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0"/>
          <p:cNvSpPr/>
          <p:nvPr/>
        </p:nvSpPr>
        <p:spPr>
          <a:xfrm>
            <a:off x="6730920" y="5805360"/>
            <a:ext cx="2232000" cy="0"/>
          </a:xfrm>
          <a:prstGeom prst="line">
            <a:avLst/>
          </a:prstGeom>
          <a:ln w="2844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91"/>
          <p:cNvSpPr/>
          <p:nvPr/>
        </p:nvSpPr>
        <p:spPr>
          <a:xfrm flipV="1">
            <a:off x="5796000" y="5805000"/>
            <a:ext cx="936720" cy="792360"/>
          </a:xfrm>
          <a:prstGeom prst="line">
            <a:avLst/>
          </a:prstGeom>
          <a:ln w="2844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2"/>
          <p:cNvSpPr/>
          <p:nvPr/>
        </p:nvSpPr>
        <p:spPr>
          <a:xfrm>
            <a:off x="6730920" y="4726080"/>
            <a:ext cx="10810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3"/>
          <p:cNvSpPr/>
          <p:nvPr/>
        </p:nvSpPr>
        <p:spPr>
          <a:xfrm flipH="1" flipV="1">
            <a:off x="7812000" y="4725720"/>
            <a:ext cx="216000" cy="18716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4"/>
          <p:cNvSpPr/>
          <p:nvPr/>
        </p:nvSpPr>
        <p:spPr>
          <a:xfrm flipV="1">
            <a:off x="5796000" y="4725720"/>
            <a:ext cx="934920" cy="18716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96"/>
          <p:cNvSpPr/>
          <p:nvPr/>
        </p:nvSpPr>
        <p:spPr>
          <a:xfrm flipV="1">
            <a:off x="7812000" y="4365360"/>
            <a:ext cx="50328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7"/>
          <p:cNvSpPr/>
          <p:nvPr/>
        </p:nvSpPr>
        <p:spPr>
          <a:xfrm flipV="1">
            <a:off x="6732720" y="4365360"/>
            <a:ext cx="50328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8"/>
          <p:cNvSpPr/>
          <p:nvPr/>
        </p:nvSpPr>
        <p:spPr>
          <a:xfrm>
            <a:off x="7236000" y="4365720"/>
            <a:ext cx="10792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9"/>
          <p:cNvSpPr/>
          <p:nvPr/>
        </p:nvSpPr>
        <p:spPr>
          <a:xfrm>
            <a:off x="8315280" y="4365720"/>
            <a:ext cx="649440" cy="14396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0"/>
          <p:cNvSpPr/>
          <p:nvPr/>
        </p:nvSpPr>
        <p:spPr>
          <a:xfrm flipV="1">
            <a:off x="6732720" y="4365360"/>
            <a:ext cx="504720" cy="1439640"/>
          </a:xfrm>
          <a:prstGeom prst="line">
            <a:avLst/>
          </a:prstGeom>
          <a:ln w="28440">
            <a:solidFill>
              <a:srgbClr val="00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03280" y="18900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многогранник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03280" y="4365720"/>
            <a:ext cx="54738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Тело, поверхность которого состоит из конечного числа много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2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52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520"/>
                            </p:stCondLst>
                            <p:childTnLst>
                              <p:par>
                                <p:cTn id="7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8"/>
          <p:cNvSpPr/>
          <p:nvPr/>
        </p:nvSpPr>
        <p:spPr>
          <a:xfrm>
            <a:off x="5802480" y="4005360"/>
            <a:ext cx="295884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Многогра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5940360" y="1989000"/>
            <a:ext cx="16574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124000" y="476280"/>
            <a:ext cx="439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900000" y="2060640"/>
            <a:ext cx="2376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о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2629080" y="4076640"/>
            <a:ext cx="29408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многогра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1484280"/>
            <a:ext cx="44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907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148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48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3429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3429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42900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421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4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пределение многогран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огогранником называется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ограниченное тел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поверхность которого состоит из конечного числа многоуг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5292720" y="4941720"/>
            <a:ext cx="576360" cy="64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716360" y="4941720"/>
            <a:ext cx="576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292720" y="5589720"/>
            <a:ext cx="574560" cy="504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292720" y="4437000"/>
            <a:ext cx="574560" cy="504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867280" y="4941720"/>
            <a:ext cx="57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443640" y="4941720"/>
            <a:ext cx="57636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565164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651640" y="2349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651640" y="2349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236000" y="2349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V="1">
            <a:off x="7236000" y="32842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V="1">
            <a:off x="5651640" y="3284280"/>
            <a:ext cx="72072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6372360" y="3284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 flipV="1">
            <a:off x="5651640" y="198864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6372360" y="198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>
            <a:off x="7235640" y="1989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7596360" y="198900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72360" y="1989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7308720" y="4076640"/>
            <a:ext cx="13669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302120" y="366120"/>
            <a:ext cx="1492200" cy="6126120"/>
            <a:chOff x="1302120" y="366120"/>
            <a:chExt cx="1492200" cy="6126120"/>
          </a:xfrm>
        </p:grpSpPr>
        <p:sp>
          <p:nvSpPr>
            <p:cNvPr id="86" name=""/>
            <p:cNvSpPr/>
            <p:nvPr/>
          </p:nvSpPr>
          <p:spPr>
            <a:xfrm flipH="1" rot="5320800">
              <a:off x="-1000080" y="2752920"/>
              <a:ext cx="6096240" cy="135216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ffff66">
                <a:alpha val="6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320800">
              <a:off x="1405800" y="307440"/>
              <a:ext cx="1207440" cy="135504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66">
                <a:alpha val="6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5320800">
              <a:off x="-1022760" y="4003920"/>
              <a:ext cx="4905360" cy="702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66">
                <a:alpha val="6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3520" y="4419720"/>
            <a:ext cx="5562360" cy="1295280"/>
            <a:chOff x="533520" y="4419720"/>
            <a:chExt cx="5562360" cy="1295280"/>
          </a:xfrm>
        </p:grpSpPr>
        <p:grpSp>
          <p:nvGrpSpPr>
            <p:cNvPr id="90" name=""/>
            <p:cNvGrpSpPr/>
            <p:nvPr/>
          </p:nvGrpSpPr>
          <p:grpSpPr>
            <a:xfrm>
              <a:off x="533520" y="4419720"/>
              <a:ext cx="5562360" cy="1295280"/>
              <a:chOff x="533520" y="4419720"/>
              <a:chExt cx="5562360" cy="1295280"/>
            </a:xfrm>
          </p:grpSpPr>
          <p:sp>
            <p:nvSpPr>
              <p:cNvPr id="91" name=""/>
              <p:cNvSpPr/>
              <p:nvPr/>
            </p:nvSpPr>
            <p:spPr>
              <a:xfrm>
                <a:off x="533520" y="4437720"/>
                <a:ext cx="5562360" cy="127728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ccffff">
                  <a:alpha val="6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93920" y="4419720"/>
                <a:ext cx="1101960" cy="127980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53b9ff">
                  <a:alpha val="6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3520" y="5639760"/>
                <a:ext cx="4475880" cy="6624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99ff">
                  <a:alpha val="6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7360" y="4432320"/>
                  <a:ext cx="3711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5" name=""/>
          <p:cNvSpPr/>
          <p:nvPr/>
        </p:nvSpPr>
        <p:spPr>
          <a:xfrm>
            <a:off x="1676520" y="1371600"/>
            <a:ext cx="3581280" cy="3994200"/>
          </a:xfrm>
          <a:prstGeom prst="cube">
            <a:avLst>
              <a:gd name="adj" fmla="val 25000"/>
            </a:avLst>
          </a:prstGeom>
          <a:solidFill>
            <a:srgbClr val="ff00ff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62120" y="1066680"/>
            <a:ext cx="5715000" cy="1523880"/>
            <a:chOff x="762120" y="1066680"/>
            <a:chExt cx="5715000" cy="1523880"/>
          </a:xfrm>
        </p:grpSpPr>
        <p:grpSp>
          <p:nvGrpSpPr>
            <p:cNvPr id="97" name=""/>
            <p:cNvGrpSpPr/>
            <p:nvPr/>
          </p:nvGrpSpPr>
          <p:grpSpPr>
            <a:xfrm>
              <a:off x="762120" y="1066680"/>
              <a:ext cx="5715000" cy="1523880"/>
              <a:chOff x="762120" y="1066680"/>
              <a:chExt cx="5715000" cy="1523880"/>
            </a:xfrm>
          </p:grpSpPr>
          <p:sp>
            <p:nvSpPr>
              <p:cNvPr id="98" name=""/>
              <p:cNvSpPr/>
              <p:nvPr/>
            </p:nvSpPr>
            <p:spPr>
              <a:xfrm>
                <a:off x="762120" y="1087920"/>
                <a:ext cx="5715000" cy="150264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ccffff">
                  <a:alpha val="7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344920" y="1066680"/>
                <a:ext cx="1132200" cy="150552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53b9ff">
                  <a:alpha val="7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2120" y="2502000"/>
                <a:ext cx="4598640" cy="7776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99ff">
                  <a:alpha val="7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662440" y="1066680"/>
                  <a:ext cx="444240" cy="49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1689120" y="1365120"/>
            <a:ext cx="3568680" cy="1390680"/>
          </a:xfrm>
          <a:custGeom>
            <a:avLst/>
            <a:gdLst/>
            <a:ahLst/>
            <a:rect l="l" t="t" r="r" b="b"/>
            <a:pathLst>
              <a:path w="2248" h="876">
                <a:moveTo>
                  <a:pt x="0" y="876"/>
                </a:moveTo>
                <a:lnTo>
                  <a:pt x="0" y="568"/>
                </a:lnTo>
                <a:lnTo>
                  <a:pt x="568" y="0"/>
                </a:lnTo>
                <a:lnTo>
                  <a:pt x="2248" y="8"/>
                </a:lnTo>
                <a:lnTo>
                  <a:pt x="1688" y="564"/>
                </a:lnTo>
                <a:lnTo>
                  <a:pt x="8" y="568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68960" y="2273400"/>
            <a:ext cx="6120" cy="342720"/>
          </a:xfrm>
          <a:custGeom>
            <a:avLst/>
            <a:gdLst/>
            <a:ahLst/>
            <a:rect l="l" t="t" r="r" b="b"/>
            <a:pathLst>
              <a:path w="4" h="216">
                <a:moveTo>
                  <a:pt x="0" y="0"/>
                </a:moveTo>
                <a:lnTo>
                  <a:pt x="4" y="216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241720"/>
            <a:ext cx="19080" cy="1143000"/>
          </a:xfrm>
          <a:custGeom>
            <a:avLst/>
            <a:gdLst/>
            <a:ahLst/>
            <a:rect l="l" t="t" r="r" b="b"/>
            <a:pathLst>
              <a:path w="12" h="720">
                <a:moveTo>
                  <a:pt x="0" y="0"/>
                </a:moveTo>
                <a:lnTo>
                  <a:pt x="8" y="720"/>
                </a:lnTo>
                <a:lnTo>
                  <a:pt x="12" y="716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115160" y="533520"/>
            <a:ext cx="1447560" cy="5867280"/>
            <a:chOff x="4115160" y="533520"/>
            <a:chExt cx="1447560" cy="5867280"/>
          </a:xfrm>
        </p:grpSpPr>
        <p:sp>
          <p:nvSpPr>
            <p:cNvPr id="106" name=""/>
            <p:cNvSpPr/>
            <p:nvPr/>
          </p:nvSpPr>
          <p:spPr>
            <a:xfrm flipH="1" rot="5400000">
              <a:off x="1894680" y="2753280"/>
              <a:ext cx="5867280" cy="142740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4266000" y="399600"/>
              <a:ext cx="1162080" cy="143028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5400000">
              <a:off x="1800720" y="4003200"/>
              <a:ext cx="4721400" cy="738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632040" y="1371600"/>
            <a:ext cx="1638360" cy="3981600"/>
          </a:xfrm>
          <a:custGeom>
            <a:avLst/>
            <a:gdLst/>
            <a:ahLst/>
            <a:rect l="l" t="t" r="r" b="b"/>
            <a:pathLst>
              <a:path w="1032" h="2508">
                <a:moveTo>
                  <a:pt x="0" y="568"/>
                </a:moveTo>
                <a:lnTo>
                  <a:pt x="468" y="564"/>
                </a:lnTo>
                <a:lnTo>
                  <a:pt x="464" y="2508"/>
                </a:lnTo>
                <a:lnTo>
                  <a:pt x="1032" y="1956"/>
                </a:lnTo>
                <a:lnTo>
                  <a:pt x="1032" y="0"/>
                </a:lnTo>
                <a:lnTo>
                  <a:pt x="464" y="568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5365800"/>
            <a:ext cx="609840" cy="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1378080"/>
            <a:ext cx="1447920" cy="1440"/>
          </a:xfrm>
          <a:custGeom>
            <a:avLst/>
            <a:gdLst/>
            <a:ahLst/>
            <a:rect l="l" t="t" r="r" b="b"/>
            <a:pathLst>
              <a:path w="912" h="1">
                <a:moveTo>
                  <a:pt x="0" y="0"/>
                </a:moveTo>
                <a:lnTo>
                  <a:pt x="912" y="0"/>
                </a:lnTo>
              </a:path>
            </a:pathLst>
          </a:custGeom>
          <a:noFill/>
          <a:ln w="936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рямоугольный 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600200"/>
            <a:ext cx="304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огранник называется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выпуклы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если он расположен по одну сторону от плоскости каждой его гр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63560" y="1359000"/>
            <a:ext cx="3594240" cy="4013280"/>
            <a:chOff x="1663560" y="1359000"/>
            <a:chExt cx="3594240" cy="4013280"/>
          </a:xfrm>
        </p:grpSpPr>
        <p:sp>
          <p:nvSpPr>
            <p:cNvPr id="115" name=""/>
            <p:cNvSpPr/>
            <p:nvPr/>
          </p:nvSpPr>
          <p:spPr>
            <a:xfrm>
              <a:off x="2629080" y="1359000"/>
              <a:ext cx="2628720" cy="3136680"/>
            </a:xfrm>
            <a:custGeom>
              <a:avLst/>
              <a:gdLst/>
              <a:ahLst/>
              <a:rect l="l" t="t" r="r" b="b"/>
              <a:pathLst>
                <a:path w="1656" h="1976">
                  <a:moveTo>
                    <a:pt x="0" y="0"/>
                  </a:moveTo>
                  <a:lnTo>
                    <a:pt x="24" y="1976"/>
                  </a:lnTo>
                  <a:lnTo>
                    <a:pt x="1656" y="197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63560" y="4495680"/>
              <a:ext cx="1003320" cy="876600"/>
            </a:xfrm>
            <a:custGeom>
              <a:avLst/>
              <a:gdLst/>
              <a:ahLst/>
              <a:rect l="l" t="t" r="r" b="b"/>
              <a:pathLst>
                <a:path w="632" h="552">
                  <a:moveTo>
                    <a:pt x="632" y="0"/>
                  </a:moveTo>
                  <a:lnTo>
                    <a:pt x="0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20840" y="1968480"/>
            <a:ext cx="2724120" cy="3754440"/>
          </a:xfrm>
          <a:prstGeom prst="cube">
            <a:avLst>
              <a:gd name="adj" fmla="val 37763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14640" y="3057480"/>
            <a:ext cx="3157560" cy="2657520"/>
          </a:xfrm>
          <a:prstGeom prst="cube">
            <a:avLst>
              <a:gd name="adj" fmla="val 37814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08240" y="2984400"/>
            <a:ext cx="3860640" cy="2730600"/>
          </a:xfrm>
          <a:custGeom>
            <a:avLst/>
            <a:gdLst/>
            <a:ahLst/>
            <a:rect l="l" t="t" r="r" b="b"/>
            <a:pathLst>
              <a:path w="2432" h="1720">
                <a:moveTo>
                  <a:pt x="0" y="1720"/>
                </a:moveTo>
                <a:lnTo>
                  <a:pt x="2432" y="1712"/>
                </a:lnTo>
                <a:lnTo>
                  <a:pt x="2432" y="672"/>
                </a:lnTo>
                <a:lnTo>
                  <a:pt x="1080" y="680"/>
                </a:lnTo>
                <a:lnTo>
                  <a:pt x="1064" y="0"/>
                </a:lnTo>
                <a:lnTo>
                  <a:pt x="0" y="0"/>
                </a:lnTo>
                <a:lnTo>
                  <a:pt x="0" y="172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9360" y="1981080"/>
            <a:ext cx="3810240" cy="2806920"/>
          </a:xfrm>
          <a:custGeom>
            <a:avLst/>
            <a:gdLst/>
            <a:ahLst/>
            <a:rect l="l" t="t" r="r" b="b"/>
            <a:pathLst>
              <a:path w="2400" h="1768">
                <a:moveTo>
                  <a:pt x="0" y="0"/>
                </a:moveTo>
                <a:lnTo>
                  <a:pt x="56" y="1768"/>
                </a:lnTo>
                <a:lnTo>
                  <a:pt x="2400" y="172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82320" y="48006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Невыпуклый многогра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2590920"/>
            <a:ext cx="7009560" cy="1752120"/>
            <a:chOff x="0" y="2590920"/>
            <a:chExt cx="7009560" cy="1752120"/>
          </a:xfrm>
        </p:grpSpPr>
        <p:grpSp>
          <p:nvGrpSpPr>
            <p:cNvPr id="124" name=""/>
            <p:cNvGrpSpPr/>
            <p:nvPr/>
          </p:nvGrpSpPr>
          <p:grpSpPr>
            <a:xfrm>
              <a:off x="0" y="2590920"/>
              <a:ext cx="7009560" cy="1752120"/>
              <a:chOff x="0" y="2590920"/>
              <a:chExt cx="7009560" cy="175212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2615400"/>
                <a:ext cx="7009560" cy="172764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ff66cc">
                  <a:alpha val="4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040" y="2590920"/>
                <a:ext cx="1388520" cy="173088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ff66cc">
                  <a:alpha val="4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4241160"/>
                <a:ext cx="5640480" cy="8964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ff66cc">
                  <a:alpha val="41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054120" y="2607840"/>
                  <a:ext cx="468000" cy="80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1295280" y="1981080"/>
            <a:ext cx="2743200" cy="2057400"/>
          </a:xfrm>
          <a:prstGeom prst="cube">
            <a:avLst>
              <a:gd name="adj" fmla="val 4953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8280" y="1676520"/>
            <a:ext cx="5715000" cy="1523520"/>
            <a:chOff x="368280" y="1676520"/>
            <a:chExt cx="5715000" cy="1523520"/>
          </a:xfrm>
        </p:grpSpPr>
        <p:grpSp>
          <p:nvGrpSpPr>
            <p:cNvPr id="131" name=""/>
            <p:cNvGrpSpPr/>
            <p:nvPr/>
          </p:nvGrpSpPr>
          <p:grpSpPr>
            <a:xfrm>
              <a:off x="368280" y="1676520"/>
              <a:ext cx="5715000" cy="1523520"/>
              <a:chOff x="368280" y="1676520"/>
              <a:chExt cx="5715000" cy="152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368280" y="1697760"/>
                <a:ext cx="5715000" cy="1502280"/>
              </a:xfrm>
              <a:custGeom>
                <a:avLst/>
                <a:gdLst/>
                <a:ahLst/>
                <a:rect l="l" t="t" r="r" b="b"/>
                <a:pathLst>
                  <a:path w="4280" h="1136">
                    <a:moveTo>
                      <a:pt x="0" y="1088"/>
                    </a:moveTo>
                    <a:lnTo>
                      <a:pt x="904" y="80"/>
                    </a:lnTo>
                    <a:lnTo>
                      <a:pt x="4280" y="0"/>
                    </a:lnTo>
                    <a:lnTo>
                      <a:pt x="3432" y="1088"/>
                    </a:lnTo>
                    <a:lnTo>
                      <a:pt x="6" y="1091"/>
                    </a:lnTo>
                    <a:lnTo>
                      <a:pt x="6" y="1123"/>
                    </a:lnTo>
                    <a:lnTo>
                      <a:pt x="3448" y="1120"/>
                    </a:lnTo>
                    <a:lnTo>
                      <a:pt x="3448" y="1136"/>
                    </a:lnTo>
                    <a:lnTo>
                      <a:pt x="3464" y="1104"/>
                    </a:lnTo>
                    <a:lnTo>
                      <a:pt x="3448" y="1104"/>
                    </a:lnTo>
                    <a:lnTo>
                      <a:pt x="4264" y="48"/>
                    </a:lnTo>
                    <a:lnTo>
                      <a:pt x="4264" y="48"/>
                    </a:lnTo>
                    <a:lnTo>
                      <a:pt x="3448" y="1088"/>
                    </a:lnTo>
                    <a:lnTo>
                      <a:pt x="6" y="1091"/>
                    </a:lnTo>
                  </a:path>
                </a:pathLst>
              </a:custGeom>
              <a:solidFill>
                <a:srgbClr val="ccffff">
                  <a:alpha val="6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51080" y="1676520"/>
                <a:ext cx="1132200" cy="1505160"/>
              </a:xfrm>
              <a:custGeom>
                <a:avLst/>
                <a:gdLst/>
                <a:ahLst/>
                <a:rect l="l" t="t" r="r" b="b"/>
                <a:pathLst>
                  <a:path w="848" h="1138">
                    <a:moveTo>
                      <a:pt x="848" y="0"/>
                    </a:moveTo>
                    <a:lnTo>
                      <a:pt x="848" y="64"/>
                    </a:lnTo>
                    <a:lnTo>
                      <a:pt x="12" y="1138"/>
                    </a:lnTo>
                    <a:lnTo>
                      <a:pt x="0" y="109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53b9ff">
                  <a:alpha val="6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8280" y="3111480"/>
                <a:ext cx="4598640" cy="77760"/>
              </a:xfrm>
              <a:custGeom>
                <a:avLst/>
                <a:gdLst/>
                <a:ahLst/>
                <a:rect l="l" t="t" r="r" b="b"/>
                <a:pathLst>
                  <a:path w="3444" h="59">
                    <a:moveTo>
                      <a:pt x="6" y="22"/>
                    </a:moveTo>
                    <a:cubicBezTo>
                      <a:pt x="2207" y="27"/>
                      <a:pt x="2859" y="0"/>
                      <a:pt x="3432" y="5"/>
                    </a:cubicBezTo>
                    <a:lnTo>
                      <a:pt x="3444" y="53"/>
                    </a:lnTo>
                    <a:lnTo>
                      <a:pt x="0" y="59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99ff">
                  <a:alpha val="6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5268600" y="1676520"/>
                  <a:ext cx="444240" cy="49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2819160" y="990720"/>
            <a:ext cx="1447560" cy="5867280"/>
            <a:chOff x="2819160" y="990720"/>
            <a:chExt cx="1447560" cy="5867280"/>
          </a:xfrm>
        </p:grpSpPr>
        <p:sp>
          <p:nvSpPr>
            <p:cNvPr id="137" name=""/>
            <p:cNvSpPr/>
            <p:nvPr/>
          </p:nvSpPr>
          <p:spPr>
            <a:xfrm flipH="1" rot="5400000">
              <a:off x="598680" y="3210480"/>
              <a:ext cx="5867280" cy="142740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00ff00">
                <a:alpha val="4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5400000">
              <a:off x="2970720" y="856800"/>
              <a:ext cx="1162080" cy="142992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00ff00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5400000">
              <a:off x="505080" y="4460400"/>
              <a:ext cx="4721400" cy="738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00ff00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048120" y="3048120"/>
            <a:ext cx="3124080" cy="2666880"/>
          </a:xfrm>
          <a:prstGeom prst="cube">
            <a:avLst>
              <a:gd name="adj" fmla="val 37439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53240" y="837720"/>
            <a:ext cx="1447560" cy="5867640"/>
            <a:chOff x="4953240" y="837720"/>
            <a:chExt cx="1447560" cy="5867640"/>
          </a:xfrm>
        </p:grpSpPr>
        <p:sp>
          <p:nvSpPr>
            <p:cNvPr id="142" name=""/>
            <p:cNvSpPr/>
            <p:nvPr/>
          </p:nvSpPr>
          <p:spPr>
            <a:xfrm flipH="1" rot="5400000">
              <a:off x="2732400" y="3057840"/>
              <a:ext cx="5867640" cy="1427400"/>
            </a:xfrm>
            <a:custGeom>
              <a:avLst/>
              <a:gdLst/>
              <a:ahLst/>
              <a:rect l="l" t="t" r="r" b="b"/>
              <a:pathLst>
                <a:path w="4280" h="1136">
                  <a:moveTo>
                    <a:pt x="0" y="1088"/>
                  </a:moveTo>
                  <a:lnTo>
                    <a:pt x="904" y="80"/>
                  </a:lnTo>
                  <a:lnTo>
                    <a:pt x="4280" y="0"/>
                  </a:lnTo>
                  <a:lnTo>
                    <a:pt x="3432" y="1088"/>
                  </a:lnTo>
                  <a:lnTo>
                    <a:pt x="6" y="1091"/>
                  </a:lnTo>
                  <a:lnTo>
                    <a:pt x="6" y="1123"/>
                  </a:lnTo>
                  <a:lnTo>
                    <a:pt x="3448" y="1120"/>
                  </a:lnTo>
                  <a:lnTo>
                    <a:pt x="3448" y="1136"/>
                  </a:lnTo>
                  <a:lnTo>
                    <a:pt x="3464" y="1104"/>
                  </a:lnTo>
                  <a:lnTo>
                    <a:pt x="3448" y="1104"/>
                  </a:lnTo>
                  <a:lnTo>
                    <a:pt x="4264" y="48"/>
                  </a:lnTo>
                  <a:lnTo>
                    <a:pt x="4264" y="48"/>
                  </a:lnTo>
                  <a:lnTo>
                    <a:pt x="3448" y="1088"/>
                  </a:lnTo>
                  <a:lnTo>
                    <a:pt x="6" y="1091"/>
                  </a:lnTo>
                </a:path>
              </a:pathLst>
            </a:custGeom>
            <a:solidFill>
              <a:srgbClr val="ffff66">
                <a:alpha val="49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5400000">
              <a:off x="5104080" y="703440"/>
              <a:ext cx="1162440" cy="1430280"/>
            </a:xfrm>
            <a:custGeom>
              <a:avLst/>
              <a:gdLst/>
              <a:ahLst/>
              <a:rect l="l" t="t" r="r" b="b"/>
              <a:pathLst>
                <a:path w="848" h="1138">
                  <a:moveTo>
                    <a:pt x="848" y="0"/>
                  </a:moveTo>
                  <a:lnTo>
                    <a:pt x="848" y="64"/>
                  </a:lnTo>
                  <a:lnTo>
                    <a:pt x="12" y="1138"/>
                  </a:lnTo>
                  <a:lnTo>
                    <a:pt x="0" y="1090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5400000">
              <a:off x="2638800" y="4307760"/>
              <a:ext cx="4721400" cy="73800"/>
            </a:xfrm>
            <a:custGeom>
              <a:avLst/>
              <a:gdLst/>
              <a:ahLst/>
              <a:rect l="l" t="t" r="r" b="b"/>
              <a:pathLst>
                <a:path w="3444" h="59">
                  <a:moveTo>
                    <a:pt x="6" y="22"/>
                  </a:moveTo>
                  <a:cubicBezTo>
                    <a:pt x="2207" y="27"/>
                    <a:pt x="2859" y="0"/>
                    <a:pt x="3432" y="5"/>
                  </a:cubicBezTo>
                  <a:lnTo>
                    <a:pt x="3444" y="53"/>
                  </a:lnTo>
                  <a:lnTo>
                    <a:pt x="0" y="59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ffff66">
                <a:alpha val="7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5977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гра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Гран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гранника –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ногоугольник- 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граниченная замкнутая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бла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граница которой состоит из конечного числа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Р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ногогранни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ороны гр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33"/>
                </a:solidFill>
                <a:latin typeface="Times New Roman"/>
              </a:rPr>
              <a:t>Вершин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ногогранника – вершины много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5651640" y="3573360"/>
            <a:ext cx="50472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6156360" y="3573360"/>
            <a:ext cx="79200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651640" y="400536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6084720" y="4076280"/>
            <a:ext cx="865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6948360" y="364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451640" y="1052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7451640" y="1628640"/>
            <a:ext cx="7207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8172360" y="1052640"/>
            <a:ext cx="0" cy="57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7451640" y="836640"/>
            <a:ext cx="5050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 flipV="1">
            <a:off x="8172360" y="836640"/>
            <a:ext cx="432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8172360" y="1341360"/>
            <a:ext cx="432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8604360" y="83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7956360" y="836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 flipV="1">
            <a:off x="7451640" y="1341360"/>
            <a:ext cx="50508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7956720" y="836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7956720" y="1341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7451640" y="1052640"/>
            <a:ext cx="0" cy="57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7524720" y="1125360"/>
            <a:ext cx="57456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301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801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301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801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301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01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801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гра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3251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Выпуклый многогран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003640" y="2708280"/>
            <a:ext cx="11527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948360" y="2060640"/>
            <a:ext cx="50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2700360" y="4508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877080" y="3357720"/>
            <a:ext cx="1150920" cy="158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7236000" y="3933720"/>
            <a:ext cx="5047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V="1">
            <a:off x="7236000" y="4221000"/>
            <a:ext cx="21564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451640" y="3933720"/>
            <a:ext cx="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7451640" y="4221000"/>
            <a:ext cx="289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451640" y="3933720"/>
            <a:ext cx="289080" cy="287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5157720"/>
            <a:ext cx="342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выпуклый многогран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32 0.02613 L -0.19306 0.02613 E">
                                      <p:cBhvr>
                                        <p:cTn id="31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пуклый многогран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ногогранник называется 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выпуклы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если он лежит в </a:t>
            </a:r>
            <a:r>
              <a:rPr b="1" lang="en-US" sz="3200" spc="-1" strike="noStrike" u="sng">
                <a:solidFill>
                  <a:srgbClr val="666633"/>
                </a:solidFill>
                <a:uFillTx/>
                <a:latin typeface="Times New Roman"/>
              </a:rPr>
              <a:t>одной полуплоскос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относительно любой г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се грани выпуклого многогранника являются  выпуклыми многоуголь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уклый и невыпуклый много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пук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выпук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"/>
          <p:cNvSpPr/>
          <p:nvPr/>
        </p:nvSpPr>
        <p:spPr>
          <a:xfrm flipV="1">
            <a:off x="1042920" y="2421000"/>
            <a:ext cx="6494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 flipV="1">
            <a:off x="1692360" y="2276280"/>
            <a:ext cx="57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1042920" y="3213000"/>
            <a:ext cx="936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1979640" y="3284640"/>
            <a:ext cx="64764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 flipV="1">
            <a:off x="2627280" y="2781360"/>
            <a:ext cx="2160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2268360" y="2276640"/>
            <a:ext cx="57492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 flipV="1">
            <a:off x="684360" y="2205000"/>
            <a:ext cx="1152360" cy="1511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971640" y="2133360"/>
            <a:ext cx="1800000" cy="431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611280" y="3068640"/>
            <a:ext cx="172728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5364000" y="2349360"/>
            <a:ext cx="244800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7812000" y="2349360"/>
            <a:ext cx="79236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5364000" y="3068640"/>
            <a:ext cx="14472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 flipV="1">
            <a:off x="5508720" y="3789000"/>
            <a:ext cx="14396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V="1">
            <a:off x="6948360" y="306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 flipH="1">
            <a:off x="7308360" y="306864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 flipV="1">
            <a:off x="6659640" y="2637000"/>
            <a:ext cx="792000" cy="1800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6659640" y="3068640"/>
            <a:ext cx="230508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996480" y="3943440"/>
            <a:ext cx="6453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ногоугольник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Times New Roman"/>
                <a:ea typeface="Arial"/>
              </a:rPr>
              <a:t>выпуклым,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он ле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6600"/>
                </a:solidFill>
                <a:uFillTx/>
                <a:latin typeface="Times New Roman"/>
                <a:ea typeface="Arial"/>
              </a:rPr>
              <a:t>в одной полуплоско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относительно люб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ямой, проходящей через д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го  соседние вер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3"/>
          <p:cNvSpPr/>
          <p:nvPr/>
        </p:nvSpPr>
        <p:spPr>
          <a:xfrm>
            <a:off x="169236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 flipV="1">
            <a:off x="1619280" y="3068280"/>
            <a:ext cx="144000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5"/>
          <p:cNvSpPr/>
          <p:nvPr/>
        </p:nvSpPr>
        <p:spPr>
          <a:xfrm flipV="1">
            <a:off x="2484360" y="2492280"/>
            <a:ext cx="503280" cy="1224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6"/>
          <p:cNvSpPr/>
          <p:nvPr/>
        </p:nvSpPr>
        <p:spPr>
          <a:xfrm flipH="1" flipV="1">
            <a:off x="2050920" y="2060280"/>
            <a:ext cx="1152720" cy="1081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1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1"/>
                            </p:stCondLst>
                            <p:childTnLst>
                              <p:par>
                                <p:cTn id="3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801"/>
                            </p:stCondLst>
                            <p:childTnLst>
                              <p:par>
                                <p:cTn id="3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301"/>
                            </p:stCondLst>
                            <p:childTnLst>
                              <p:par>
                                <p:cTn id="3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801"/>
                            </p:stCondLst>
                            <p:childTnLst>
                              <p:par>
                                <p:cTn id="3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1:03:45Z</dcterms:created>
  <dc:creator>Admin</dc:creator>
  <dc:description/>
  <dc:language>en-US</dc:language>
  <cp:lastModifiedBy>Admin</cp:lastModifiedBy>
  <dcterms:modified xsi:type="dcterms:W3CDTF">2011-05-07T21:45:26Z</dcterms:modified>
  <cp:revision>11</cp:revision>
  <dc:subject/>
  <dc:title>Понятие многогранника</dc:title>
</cp:coreProperties>
</file>