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59E-0F21-4E3A-8459-DB1BD582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F90-BC42-4811-A9F0-4B3F1349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082-3362-4D5D-8942-84309B70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2F9-0129-4718-B3F4-F0B69530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D6DC-FAF3-4C7F-8E75-46B1E9BC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806-A4A3-402C-94A9-6F1BD93A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BD4A-E9FB-478E-97B8-A84F429D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F578-54FD-4B73-B715-2DD6B5C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DEF-AF85-403D-ABFB-A192414B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77A-F1F1-4D57-9B7C-7B746E6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927C-62EB-414D-8E4C-9AE8783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6CF-0C96-40A7-A8D9-E67E964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234-D4ED-4A51-B63A-9F89809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3B1E-8F20-47B9-8400-B05018B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6E51-5810-4703-9E68-395208F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109-7771-4449-9033-6CF5364A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A56D-F2F8-470A-A02E-CA7D2D5A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0B7-3BD3-4D19-B9A1-0E779AF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7A3-B2C3-4911-8B3F-0C8D9155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D77-13BF-4FAC-AC30-BAF462C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14C-1DB9-44CA-8777-B1201A1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739-FD18-43BC-A4A6-2400587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ED8-ECD4-424F-B7B3-3663397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0D1-40D1-46AF-A1F2-2000FC3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202-6588-45A6-B39B-E21DD42B8B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693-AA29-4A9A-9B1E-CCCC8593EE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8951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br>
              <a:rPr sz="10600"/>
            </a:br>
            <a:r>
              <a:rPr b="0" lang="en-US" sz="10600" spc="-1" strike="noStrike">
                <a:solidFill>
                  <a:srgbClr val="ff0000"/>
                </a:solidFill>
                <a:latin typeface="Comic Sans MS"/>
              </a:rPr>
              <a:t>Сколково </a:t>
            </a:r>
            <a:br>
              <a:rPr sz="10600"/>
            </a:br>
            <a:endParaRPr b="0" lang="en-US" sz="10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инновационный центр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К 2012 год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дан сайт, посвящённого проекту в Сколко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алифорнии открыли офис инновационного центра «Сколково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чал свою работу Открытый университет Сколков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 Фондом «Сколково» и корпорацией IBM, в рамках которого в российском иннограде будет создан научно-технический центр IBM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 центром «Сколково» и Минпромторгом РФ в целях участия в Европейской научно-технической программе «Эврика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писано соглашение о сотрудничестве между фондом «Сколково» и Федеральным космическим агентством в целях разработки  инновационных направлений космической отрасл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 принят законопроект, который обеспечил нормативную базу работы «Сколково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ждународное сотрудниче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нляндия: Nokia Siemens Network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мания: Siemens, SA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йцария: швейцарский технопарк Technopark Zurich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енные Штаты Америки: Microsoft, Boeing, Intel, Cisco, Dow Chemical, IB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ция: Ericss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ия: Alsto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дерланды: EAD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ия: Вексельбергом и министром транспорта, инноваций и технологий Австрии Дорис Бурес в Вене было подписано соглашение, предполагающее поддержку российских и австрийских компаний, специализирующихся на исследовательской деятельности, развитии технологий и инновац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я: был подписан меморандум между Фондом «Сколково» и корпорацией Tata Group о возможности привлечения индийской компании Tata Sons Limited к реализации проектов на базе Сколково в таких областях, как средства связи и информационные технологии, инжиниринг, химия, энергети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ия: достигнуты договоренности по взаимному обмену студентами между вузами двух стран. Также итальянских профессоров и преподавателей будут приглашать для чтения лекций в российских университетах и университетах Сколково, и для совместной разработки научных и 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Южная Корея: Вексельбергом и президентом Научно-исследовательского института электроники и телекоммуникаций Республики Корея был подписан с меморандум о взаимопонима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4475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мнению научного руководителя Инновационного института при МФТИ Юрия Аммос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условиях, когда в России отсутствует спрос на инновации, созданные в «кремниевой долине» инновации не смогут вывести российскую экономику на инновационный путь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сударство, не выработав объективные критерии успеха или провала проекта, приступило к планированию экономического и правового режима территории. Данный фактор не позволяет оценивать степень успешности проекта и выводит деятельность из-под общественного контрол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36896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итики отмечают, что сколковская конфигурация не согласуется с международным опытом, который власти обещали заимствовать: ученых в совете фонда практически нет — они выведены в отдельный «Консультативный научный совет», причем председатели этого совета Жорес Алферов и Роджер Корнберг в основной совет не входят. Критики делают вывод, что гармоничной кооперации фундаментальной академической науки и прикладных R&amp;D не планиру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норирование зарубежного опы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малазийского «города будущего» Киберджайя, открытого в конце 1990-х гг., где на площади около 3 тысяч гектаров, в итоге должен был возникнуть «уникальный сплав тропической экосистемы и новейших информационных технологий». По некоторым данным десять лет спустя Киберджайя все ещё город-полупризрак: надежды на то, что туда тут же соберутся высокотехнологические компании и производства, не сбылис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Бангалора, который считается индийским аналогом «Кремниевой долины». Основная масса «инноваций», реализуемых в Бангалоре, не имеет никакого отношения к экономическим проблемам страны. Западные корпорации используют в Бангалоре мозги хорошо образованных, но низко оплачиваемых специалистов, чтобы экономить деньги, решая здесь второстепенные задачи по собственным исследовательским программам. «Мы можем запускать в космос спутники, но не можем технически провести канализацию в небольшом городе» — говорит индийский журналист Профул Будва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сли же принимать во внимание успешный проект Белорусский парк высоких технологий, то обоснованность создания инновационного центра вблизи мегаполиса не является заранее неудачно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олково - российска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Кремниевая долин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троящийся современный научно-технологический комплекс по разработке и коммерциализации новых технологий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ставе фонда «Сколково» существует пять кластеров, соответствующих пяти направлениям развития инновационных технологий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екоммуникация и космос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омедицин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хнолог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нергоэффектив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дерные технолог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едеральный закон Российской Федерации N 244-ФЗ «Об инновационном центре „Сколково“» был подписан президентом Российской Федерации Д. А. Медведевым 28 сентября 2010 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дея крупного инновационного центра была навеяна Д. Медведеву обращение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ксима Калашников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 располагается на территории городского поселения Новоивановское, вблизи деревни Сколково, в восточной части Одинцовского района Московской области, к западу от МКАД на Сколковском шоссе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рритория инновационного центра "Сколково" вошла в состав Москвы (район Можайский Западного административного округа) с 1 июля 2012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ачестве вариантов территориального размещения нового технограда обсуждались 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Томск, Новосибирск, Санкт-Петербург, Обнинск, Дуб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а также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ряд территори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 непосредственной близости от Москвы, включая земли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между МКАД и Троиц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яд участков по Новорижскому и Ленинградскому шоссе, а также земли, примыкающие к бизнес-школе «Сколково» в Одинцовском район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 марта 2010 года Д. А. Медведев объявил, что инновационный центр будет создан в Сколкове.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Это решение вызвало критику со стороны ряда журналистов и поли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797200"/>
            <a:ext cx="5524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00"/>
                </a:solidFill>
                <a:uFillTx/>
                <a:latin typeface="Comic Sans MS"/>
              </a:rPr>
              <a:t>"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Без нанопродукции не покажешься в свете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ложение мэра Москвы Ю. М. Лужкова разместить все эти научные структуры на площадях бывшего завода ЗИЛ, пока в Сколкове будет идти строительств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Ю. М. Лужкова обратил внимание на географический аспект решения пробл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сковская агломерация нерезиновая, «ее необходимо безотлагательно разгружать, вынося в другие российские земли все что можно, иначе столица захлебнется в многократной перенагрузке жизненного пространства»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Сколково пространственно некуда будет р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 разрыва между Москвой и остальной страной является болезненной, чтобы усугублять ее выдачей сверхприорететных ассигнаций на обустройство Сколково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Финансирование науки в др. краях России сократится при эт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нислав Белковский, президент Института национальной стратегии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казал, что Кремниевая долина становится обычным коммерческим проектом, предназначенным для распила гос. бюджета. Выбор Сколково был сделан под влиянием самого приближенного к Кремлю бизнесмена Романа Абрамовича. При этом площадь земель, передаваемых под долину, составляет примерно 300 га. Этого совершенно недостаточно для создания настоящего центра высоких технологий. Это тоже говорит о том, что никакого реального центра там не буде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4006800"/>
            <a:ext cx="5067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9:07:27Z</dcterms:created>
  <dc:creator>user</dc:creator>
  <dc:description/>
  <dc:language>en-US</dc:language>
  <cp:lastModifiedBy>WiZaRd</cp:lastModifiedBy>
  <dcterms:modified xsi:type="dcterms:W3CDTF">2012-10-03T20:28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