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74F-6B89-4EF7-8D60-CF63A7E7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540-814F-41AB-94DE-4A8ACDDB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ADD-66E5-45F8-86C0-1234C109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F56-D1AA-43E4-9520-693F20E2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5767-3E94-4DB1-A219-5F8E834E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0A61-290D-4046-8C9A-433DBAA5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41F2-FF24-4034-BB21-A225880B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0373-2E39-4982-9F5B-996E7C06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9F4F-0110-492F-A1C2-484CB8BA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DEBA-27EC-4A69-94F1-DEFCC1CE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D304-0EA2-4BFE-BE29-68119602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F5A-8BDD-477C-9C81-4EAB3FD4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77CB-637D-4621-9D11-3B5E8977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A71B-863D-4719-8EC4-3CA0A9F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8BD2-A559-4B9E-B442-2E9B05C6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FEE3-1088-43F5-B904-8DA9A291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8F38-E2D6-4EDF-937B-17ABBFA1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651-BD0D-463A-ACAE-B8D7FA9E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2E7-DE12-4A07-9D22-D09475C3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CA9-D533-42FE-A615-BD026880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E56-E65B-46E0-BCC7-E13DCADA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104-040D-4D4F-8430-C8B03A46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508-B35A-451C-AB5C-5CEB2D6C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68A-89AB-4EF8-9101-0C955269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0BBE-6326-4ADF-A760-BCCD709EF9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2BE3-AF16-43D7-899A-DC995F3FD8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28951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br>
              <a:rPr sz="10600"/>
            </a:br>
            <a:r>
              <a:rPr b="0" lang="en-US" sz="10600" spc="-1" strike="noStrike">
                <a:solidFill>
                  <a:srgbClr val="ff0000"/>
                </a:solidFill>
                <a:latin typeface="Comic Sans MS"/>
              </a:rPr>
              <a:t>Сколково </a:t>
            </a:r>
            <a:br>
              <a:rPr sz="10600"/>
            </a:br>
            <a:endParaRPr b="0" lang="en-US" sz="10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3428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инновационный центр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К 2012 году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здан сайт, посвящённого проекту в Сколков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алифорнии открыли офис инновационного центра «Сколково»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чал свою работу Открытый университет Сколков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ыло подписано соглашение о сотрудничестве между Фондом «Сколково» и корпорацией IBM, в рамках которого в российском иннограде будет создан научно-технический центр IBM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ыло подписано соглашение о сотрудничестве между центром «Сколково» и Минпромторгом РФ в целях участия в Европейской научно-технической программе «Эврика»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писано соглашение о сотрудничестве между фондом «Сколково» и Федеральным космическим агентством в целях разработки  инновационных направлений космической отрасл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ыл принят законопроект, который обеспечил нормативную базу работы «Сколково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еждународное сотрудничеств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нляндия: Nokia Siemens Network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рмания: Siemens, SAP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вейцария: швейцарский технопарк Technopark Zurich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единенные Штаты Америки: Microsoft, Boeing, Intel, Cisco, Dow Chemical, IB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веция: Ericss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анция: Alsto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дерланды: EAD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ия: Вексельбергом и министром транспорта, инноваций и технологий Австрии Дорис Бурес в Вене было подписано соглашение, предполагающее поддержку российских и австрийских компаний, специализирующихся на исследовательской деятельности, развитии технологий и инноваци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я: был подписан меморандум между Фондом «Сколково» и корпорацией Tata Group о возможности привлечения индийской компании Tata Sons Limited к реализации проектов на базе Сколково в таких областях, как средства связи и информационные технологии, инжиниринг, химия, энергети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алия: достигнуты договоренности по взаимному обмену студентами между вузами двух стран. Также итальянских профессоров и преподавателей будут приглашать для чтения лекций в российских университетах и университетах Сколково, и для совместной разработки научных и образовательных програм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Южная Корея: Вексельбергом и президентом Научно-исследовательского института электроники и телекоммуникаций Республики Корея был подписан с меморандум о взаимопониман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14475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 мнению научного руководителя Инновационного института при МФТИ Юрия Аммос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условиях, когда в России отсутствует спрос на инновации, созданные в «кремниевой долине» инновации не смогут вывести российскую экономику на инновационный путь развит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осударство, не выработав объективные критерии успеха или провала проекта, приступило к планированию экономического и правового режима территории. Данный фактор не позволяет оценивать степень успешности проекта и выводит деятельность из-под общественного контрол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436896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ритики отмечают, что сколковская конфигурация не согласуется с международным опытом, который власти обещали заимствовать: ученых в совете фонда практически нет — они выведены в отдельный «Консультативный научный совет», причем председатели этого совета Жорес Алферов и Роджер Корнберг в основной совет не входят. Критики делают вывод, что гармоничной кооперации фундаментальной академической науки и прикладных R&amp;D не планируетс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гнорирование зарубежного опы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гнорируется опыт малазийского «города будущего» Киберджайя, открытого в конце 1990-х гг., где на площади около 3 тысяч гектаров, в итоге должен был возникнуть «уникальный сплав тропической экосистемы и новейших информационных технологий». По некоторым данным десять лет спустя Киберджайя все ещё город-полупризрак: надежды на то, что туда тут же соберутся высокотехнологические компании и производства, не сбылис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гнорируется опыт Бангалора, который считается индийским аналогом «Кремниевой долины». Основная масса «инноваций», реализуемых в Бангалоре, не имеет никакого отношения к экономическим проблемам страны. Западные корпорации используют в Бангалоре мозги хорошо образованных, но низко оплачиваемых специалистов, чтобы экономить деньги, решая здесь второстепенные задачи по собственным исследовательским программам. «Мы можем запускать в космос спутники, но не можем технически провести канализацию в небольшом городе» — говорит индийский журналист Профул Будва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сли же принимать во внимание успешный проект Белорусский парк высоких технологий, то обоснованность создания инновационного центра вблизи мегаполиса не является заранее неудачно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колково - российская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«Кремниевая долина»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троящийся современный научно-технологический комплекс по разработке и коммерциализации новых технологий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составе фонда «Сколково» существует пять кластеров, соответствующих пяти направлениям развития инновационных технологий: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лекоммуникация и космос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иомедицин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хнолог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нергоэффективнос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дерные технолог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едеральный закон Российской Федерации N 244-ФЗ «Об инновационном центре „Сколково“» был подписан президентом Российской Федерации Д. А. Медведевым 28 сентября 2010 г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ам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дея крупного инновационного центра была навеяна Д. Медведеву обращением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ксима Калашников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плекс располагается на территории городского поселения Новоивановское, вблизи деревни Сколково, в восточной части Одинцовского района Московской области, к западу от МКАД на Сколковском шоссе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рритория инновационного центра "Сколково" вошла в состав Москвы (район Можайский Западного административного округа) с 1 июля 2012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качестве вариантов территориального размещения нового технограда обсуждались </a:t>
            </a:r>
            <a:r>
              <a:rPr b="0" i="1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Томск, Новосибирск, Санкт-Петербург, Обнинск, Дубн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а также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ряд территори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в непосредственной близости от Москвы, включая земли </a:t>
            </a:r>
            <a:r>
              <a:rPr b="0" i="1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между МКАД и Троицк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ряд участков по Новорижскому и Ленинградскому шоссе, а также земли, примыкающие к бизнес-школе «Сколково» в Одинцовском район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7391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 марта 2010 года Д. А. Медведев объявил, что инновационный центр будет создан в Сколкове. </a:t>
            </a:r>
            <a:r>
              <a:rPr b="0" i="1" lang="en-US" sz="2800" spc="-1" strike="noStrike" u="sng">
                <a:solidFill>
                  <a:srgbClr val="800000"/>
                </a:solidFill>
                <a:uFillTx/>
                <a:latin typeface="Comic Sans MS"/>
              </a:rPr>
              <a:t>Это решение вызвало критику со стороны ряда журналистов и поли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2797200"/>
            <a:ext cx="55245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00000"/>
                </a:solidFill>
                <a:uFillTx/>
                <a:latin typeface="Comic Sans MS"/>
              </a:rPr>
              <a:t>"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Comic Sans MS"/>
              </a:rPr>
              <a:t>Без нанопродукции не покажешься в свете"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дложение мэра Москвы Ю. М. Лужкова разместить все эти научные структуры на площадях бывшего завода ЗИЛ, пока в Сколкове будет идти строительство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Ю. М. Лужкова обратил внимание на географический аспект решения пробле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сковская агломерация нерезиновая, «ее необходимо безотлагательно разгружать, вынося в другие российские земли все что можно, иначе столица захлебнется в многократной перенагрузке жизненного пространства»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Comic Sans MS"/>
              </a:rPr>
              <a:t>Сколково пространственно некуда будет ра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ма разрыва между Москвой и остальной страной является болезненной, чтобы усугублять ее выдачей сверхприорететных ассигнаций на обустройство Сколково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Comic Sans MS"/>
              </a:rPr>
              <a:t>Финансирование науки в др. краях России сократится при эт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нислав Белковский, президент Института национальной стратегии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казал, что Кремниевая долина становится обычным коммерческим проектом, предназначенным для распила гос. бюджета. Выбор Сколково был сделан под влиянием самого приближенного к Кремлю бизнесмена Романа Абрамовича. При этом площадь земель, передаваемых под долину, составляет примерно 300 га. Этого совершенно недостаточно для создания настоящего центра высоких технологий. Это тоже говорит о том, что никакого реального центра там не будет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05320" y="4006800"/>
            <a:ext cx="5067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9:07:27Z</dcterms:created>
  <dc:creator>user</dc:creator>
  <dc:description/>
  <dc:language>en-US</dc:language>
  <cp:lastModifiedBy>WiZaRd</cp:lastModifiedBy>
  <dcterms:modified xsi:type="dcterms:W3CDTF">2012-10-03T20:28:2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