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F248-1CDA-450B-A9CD-063744E8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BDD7-5C13-41F0-9790-8E158DA9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CDD6-8A21-49FC-9CD2-3A3E45F5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4C15-42AC-4D8E-B014-D90161FE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C540-6F60-4251-BB89-6CAFA5FA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FCCE-A39B-4BA4-A785-F5EBEF76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9F81-4963-4803-90BB-154E5634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AA51-26D7-4F58-BBAC-78D87608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7830-7402-4E68-9D4A-7C789359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26BC-9540-4AE3-AB60-8C0BCDE0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E5ED-1560-4325-BE3B-3CB92AE6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A502-58CB-4250-90E0-B51004D1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B79F-E821-4F20-8C9B-3D46302A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C408-DB54-4576-98CD-87F18067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A1F9-3426-488E-87B1-3763BF88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7E1F-81B2-4D92-8DE5-C1A7E9F6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4094-B923-421F-80BB-A132CFEE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8391-6578-4056-9017-6C163F8E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88E9-A412-42A1-95DA-03740A49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569A-2DA5-4C32-A439-DA0BD64F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A603-A24C-4064-9D46-A817B4A0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B8F3-15CA-4B3F-89FC-7D6DA778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3460-99C1-4153-89B4-D1E6630E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09F3-9F8D-4581-8895-6EAEA9FA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EDC1-D49B-498B-B32E-0F32C88FC8B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7995-F7B1-4E5E-9466-F13436BE7C7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28951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600"/>
            </a:br>
            <a:br>
              <a:rPr sz="10600"/>
            </a:br>
            <a:r>
              <a:rPr b="0" lang="en-US" sz="10600" spc="-1" strike="noStrike">
                <a:solidFill>
                  <a:srgbClr val="ff0000"/>
                </a:solidFill>
                <a:latin typeface="Comic Sans MS"/>
              </a:rPr>
              <a:t>Сколково </a:t>
            </a:r>
            <a:br>
              <a:rPr sz="10600"/>
            </a:br>
            <a:endParaRPr b="0" lang="en-US" sz="10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752120" y="34286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инновационный центр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6960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К 2012 году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оздан сайт, посвящённого проекту в Сколков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Калифорнии открыли офис инновационного центра «Сколково»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чал свою работу Открытый университет Сколково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ыло подписано соглашение о сотрудничестве между Фондом «Сколково» и корпорацией IBM, в рамках которого в российском иннограде будет создан научно-технический центр IBM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ыло подписано соглашение о сотрудничестве между центром «Сколково» и Минпромторгом РФ в целях участия в Европейской научно-технической программе «Эврика»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писано соглашение о сотрудничестве между фондом «Сколково» и Федеральным космическим агентством в целях разработки  инновационных направлений космической отрасл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ыл принят законопроект, который обеспечил нормативную базу работы «Сколково»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Международное сотрудничество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инляндия: Nokia Siemens Network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ермания: Siemens, SAP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вейцария: швейцарский технопарк Technopark Zurich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единенные Штаты Америки: Microsoft, Boeing, Intel, Cisco, Dow Chemical, IBM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веция: Ericsso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ранция: Alstom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дерланды: EAD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встрия: Вексельбергом и министром транспорта, инноваций и технологий Австрии Дорис Бурес в Вене было подписано соглашение, предполагающее поддержку российских и австрийских компаний, специализирующихся на исследовательской деятельности, развитии технологий и инноваций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дия: был подписан меморандум между Фондом «Сколково» и корпорацией Tata Group о возможности привлечения индийской компании Tata Sons Limited к реализации проектов на базе Сколково в таких областях, как средства связи и информационные технологии, инжиниринг, химия, энергетик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талия: достигнуты договоренности по взаимному обмену студентами между вузами двух стран. Также итальянских профессоров и преподавателей будут приглашать для чтения лекций в российских университетах и университетах Сколково, и для совместной разработки научных и образовательных программ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Южная Корея: Вексельбергом и президентом Научно-исследовательского института электроники и телекоммуникаций Республики Корея был подписан с меморандум о взаимопонимани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248520" y="457200"/>
            <a:ext cx="14475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 мнению научного руководителя Инновационного института при МФТИ Юрия Аммосо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условиях, когда в России отсутствует спрос на инновации, созданные в «кремниевой долине» инновации не смогут вывести российскую экономику на инновационный путь развит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Государство, не выработав объективные критерии успеха или провала проекта, приступило к планированию экономического и правового режима территории. Данный фактор не позволяет оценивать степень успешности проекта и выводит деятельность из-под общественного контрол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4368960"/>
            <a:ext cx="37339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ритики отмечают, что сколковская конфигурация не согласуется с международным опытом, который власти обещали заимствовать: ученых в совете фонда практически нет — они выведены в отдельный «Консультативный научный совет», причем председатели этого совета Жорес Алферов и Роджер Корнберг в основной совет не входят. Критики делают вывод, что гармоничной кооперации фундаментальной академической науки и прикладных R&amp;D не планируется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гнорирование зарубежного опы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гнорируется опыт малазийского «города будущего» Киберджайя, открытого в конце 1990-х гг., где на площади около 3 тысяч гектаров, в итоге должен был возникнуть «уникальный сплав тропической экосистемы и новейших информационных технологий». По некоторым данным десять лет спустя Киберджайя все ещё город-полупризрак: надежды на то, что туда тут же соберутся высокотехнологические компании и производства, не сбылись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гнорируется опыт Бангалора, который считается индийским аналогом «Кремниевой долины». Основная масса «инноваций», реализуемых в Бангалоре, не имеет никакого отношения к экономическим проблемам страны. Западные корпорации используют в Бангалоре мозги хорошо образованных, но низко оплачиваемых специалистов, чтобы экономить деньги, решая здесь второстепенные задачи по собственным исследовательским программам. «Мы можем запускать в космос спутники, но не можем технически провести канализацию в небольшом городе» — говорит индийский журналист Профул Будвай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Если же принимать во внимание успешный проект Белорусский парк высоких технологий, то обоснованность создания инновационного центра вблизи мегаполиса не является заранее неудачной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Сколково - российская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«Кремниевая долина»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троящийся современный научно-технологический комплекс по разработке и коммерциализации новых технологий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составе фонда «Сколково» существует пять кластеров, соответствующих пяти направлениям развития инновационных технологий: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лекоммуникация и космос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иомедицин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-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хнологи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нергоэффективность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дерные технологи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едеральный закон Российской Федерации N 244-ФЗ «Об инновационном центре „Сколково“» был подписан президентом Российской Федерации Д. А. Медведевым 28 сентября 2010 г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ам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дея крупного инновационного центра была навеяна Д. Медведеву обращением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аксима Калашников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мплекс располагается на территории городского поселения Новоивановское, вблизи деревни Сколково, в восточной части Одинцовского района Московской области, к западу от МКАД на Сколковском шоссе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рритория инновационного центра "Сколково" вошла в состав Москвы (район Можайский Западного административного округа) с 1 июля 2012 год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качестве вариантов территориального размещения нового технограда обсуждались </a:t>
            </a:r>
            <a:r>
              <a:rPr b="0" i="1" lang="en-US" sz="2800" spc="-1" strike="noStrike" u="sng">
                <a:solidFill>
                  <a:srgbClr val="800000"/>
                </a:solidFill>
                <a:uFillTx/>
                <a:latin typeface="Comic Sans MS"/>
              </a:rPr>
              <a:t>Томск, Новосибирск, Санкт-Петербург, Обнинск, Дубн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а также </a:t>
            </a:r>
            <a:r>
              <a:rPr b="0" lang="en-US" sz="2800" spc="-1" strike="noStrike" u="sng">
                <a:solidFill>
                  <a:srgbClr val="800000"/>
                </a:solidFill>
                <a:uFillTx/>
                <a:latin typeface="Comic Sans MS"/>
              </a:rPr>
              <a:t>ряд территорий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в непосредственной близости от Москвы, включая земли </a:t>
            </a:r>
            <a:r>
              <a:rPr b="0" i="1" lang="en-US" sz="2800" spc="-1" strike="noStrike" u="sng">
                <a:solidFill>
                  <a:srgbClr val="800000"/>
                </a:solidFill>
                <a:uFillTx/>
                <a:latin typeface="Comic Sans MS"/>
              </a:rPr>
              <a:t>между МКАД и Троицком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ряд участков по Новорижскому и Ленинградскому шоссе, а также земли, примыкающие к бизнес-школе «Сколково» в Одинцовском район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52280" y="533160"/>
            <a:ext cx="7391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 марта 2010 года Д. А. Медведев объявил, что инновационный центр будет создан в Сколкове. </a:t>
            </a:r>
            <a:r>
              <a:rPr b="0" i="1" lang="en-US" sz="2800" spc="-1" strike="noStrike" u="sng">
                <a:solidFill>
                  <a:srgbClr val="800000"/>
                </a:solidFill>
                <a:uFillTx/>
                <a:latin typeface="Comic Sans MS"/>
              </a:rPr>
              <a:t>Это решение вызвало критику со стороны ряда журналистов и полити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971800" y="2797200"/>
            <a:ext cx="55245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00000"/>
                </a:solidFill>
                <a:uFillTx/>
                <a:latin typeface="Comic Sans MS"/>
              </a:rPr>
              <a:t>"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Comic Sans MS"/>
              </a:rPr>
              <a:t>Без нанопродукции не покажешься в свете"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73392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едложение мэра Москвы Ю. М. Лужкова разместить все эти научные структуры на площадях бывшего завода ЗИЛ, пока в Сколкове будет идти строительство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Ю. М. Лужкова обратил внимание на географический аспект решения проблем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осковская агломерация нерезиновая, «ее необходимо безотлагательно разгружать, вынося в другие российские земли все что можно, иначе столица захлебнется в многократной перенагрузке жизненного пространства».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Comic Sans MS"/>
              </a:rPr>
              <a:t>Сколково пространственно некуда будет ра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ема разрыва между Москвой и остальной страной является болезненной, чтобы усугублять ее выдачей сверхприорететных ассигнаций на обустройство Сколково.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Comic Sans MS"/>
              </a:rPr>
              <a:t>Финансирование науки в др. краях России сократится при эт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нислав Белковский, президент Института национальной стратегии: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619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казал, что Кремниевая долина становится обычным коммерческим проектом, предназначенным для распила гос. бюджета. Выбор Сколково был сделан под влиянием самого приближенного к Кремлю бизнесмена Романа Абрамовича. При этом площадь земель, передаваемых под долину, составляет примерно 300 га. Этого совершенно недостаточно для создания настоящего центра высоких технологий. Это тоже говорит о том, что никакого реального центра там не будет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505320" y="4006800"/>
            <a:ext cx="50673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9:07:27Z</dcterms:created>
  <dc:creator>user</dc:creator>
  <dc:description/>
  <dc:language>en-US</dc:language>
  <cp:lastModifiedBy>WiZaRd</cp:lastModifiedBy>
  <dcterms:modified xsi:type="dcterms:W3CDTF">2012-10-03T20:28:20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