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9930-6EB5-4A05-9D1B-A74E8D1D4B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0B85-D1DB-4DFF-A07A-CA8DD526E9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26E-8409-4CA8-A98E-0E7D3DF0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EDD-B5B2-481E-ABE7-5B231423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0C9F-46F6-47C6-A87C-3F9B7EF9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7D8A-8BF2-4BDF-9215-7DFEADB0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89B-03DB-4A36-B686-44DD3536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5E1-AAFB-44FE-ADA1-C8B877D9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E16-3D00-4D68-8BF7-D7CCD120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F1A-9207-42A4-9474-752FF956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A21-A161-4977-A06C-B97D8198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A06-A42E-4D0A-9E04-C31CE2AE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34DF-44D8-4550-B532-D3C384C7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3E7-46E3-4B31-A18C-55588FBE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18BE-B4F8-4F30-BE09-3798772BF1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ЁГКАЯ АТЛЕТИКА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1 класс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урока: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г на 3000 м. юноши, 2000м девушки на результат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3733920" cy="2901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648320" y="3657240"/>
            <a:ext cx="403848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р: Михайлин Антон Геннад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сто работ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ОУ СОШ №45 г. Калинин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274680"/>
          <a:ext cx="8229600" cy="6354720"/>
        </p:xfrm>
        <a:graphic>
          <a:graphicData uri="http://schemas.openxmlformats.org/drawingml/2006/table">
            <a:tbl>
              <a:tblPr/>
              <a:tblGrid>
                <a:gridCol w="3657600"/>
                <a:gridCol w="1828800"/>
                <a:gridCol w="2743200"/>
              </a:tblGrid>
              <a:tr h="635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И.п. основная стойка руки на поясе, большие пальцы вперё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 вращаем тазом вправо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8 вращаем тазом влев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 И.п. выпад правой ногой, руки на коле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покачивани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прыжком смена положения но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И.п. основная стойка руки на поя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выпад правой ногой, руки на колено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выпад левой ногой, руки на колено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на колено не опускать. Выпад глубоки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держать прям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ягивать мышцы бед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37" descr=""/>
          <p:cNvPicPr/>
          <p:nvPr/>
        </p:nvPicPr>
        <p:blipFill>
          <a:blip r:embed="rId1"/>
          <a:stretch/>
        </p:blipFill>
        <p:spPr>
          <a:xfrm>
            <a:off x="4267080" y="1295280"/>
            <a:ext cx="40388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274680"/>
          <a:ext cx="8229600" cy="6092640"/>
        </p:xfrm>
        <a:graphic>
          <a:graphicData uri="http://schemas.openxmlformats.org/drawingml/2006/table">
            <a:tbl>
              <a:tblPr/>
              <a:tblGrid>
                <a:gridCol w="3657600"/>
                <a:gridCol w="1828800"/>
                <a:gridCol w="2743200"/>
              </a:tblGrid>
              <a:tr h="37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И.п. сед на левой ноге, правая прямая в сторо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перекатиться на правую ногу, левая прямая в сторону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И.п. основная стойка, руки на поя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ыжок, ноги на ширине плеч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ыжки выполнять на передней части сто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ть мягко, как можно выш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мление мягко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И.п. основная стойка. Прыжки из полного присе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 Выпрыгивание вверх с подтягиванием коленей к груд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аждый шаг высоко поднимать коле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Picture 28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441936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072080" y="228240"/>
            <a:ext cx="657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ч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циальные беговые упраж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557360"/>
          <a:ext cx="8229600" cy="5516640"/>
        </p:xfrm>
        <a:graphic>
          <a:graphicData uri="http://schemas.openxmlformats.org/drawingml/2006/table">
            <a:tbl>
              <a:tblPr/>
              <a:tblGrid>
                <a:gridCol w="3276720"/>
                <a:gridCol w="1447560"/>
                <a:gridCol w="3505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Высокое бедр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Захлёст голен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В шаге, прыжки с ноги на но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х30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ки работают как при бег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аг выполняется коленом вперё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выполнении помогаем рукам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Роллинг (шаг, прыжок вверх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ногоскоки (продвижение на передней части стопы вперёд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Правым боком приставными шагам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х30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жать быстр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92" descr=""/>
          <p:cNvPicPr/>
          <p:nvPr/>
        </p:nvPicPr>
        <p:blipFill>
          <a:blip r:embed="rId1"/>
          <a:stretch/>
        </p:blipFill>
        <p:spPr>
          <a:xfrm>
            <a:off x="3733920" y="2832120"/>
            <a:ext cx="1447560" cy="1130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3" descr=""/>
          <p:cNvPicPr/>
          <p:nvPr/>
        </p:nvPicPr>
        <p:blipFill>
          <a:blip r:embed="rId2"/>
          <a:stretch/>
        </p:blipFill>
        <p:spPr>
          <a:xfrm>
            <a:off x="5638680" y="4495680"/>
            <a:ext cx="3048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57200" y="274680"/>
          <a:ext cx="8458200" cy="6384960"/>
        </p:xfrm>
        <a:graphic>
          <a:graphicData uri="http://schemas.openxmlformats.org/drawingml/2006/table">
            <a:tbl>
              <a:tblPr/>
              <a:tblGrid>
                <a:gridCol w="3733920"/>
                <a:gridCol w="1600200"/>
                <a:gridCol w="3124080"/>
              </a:tblGrid>
              <a:tr h="12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вым боком приставными шагам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Ускор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Упр. на восстановление дых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30 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жать быстр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и в верх вдох , руки в низ выдо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Бег по стадиону 100м-быстро, 100м-медленно,100м-быстр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Фартлек. Бег быстро- медленно- быстро-3м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Пробегание 200м в три четверти сил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Пробегание 3000м  юноши 2000м девушки на результа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ить за постановкой сто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желательно переходить на ходьб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жать легко свобод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Picture 79" descr=""/>
          <p:cNvPicPr/>
          <p:nvPr/>
        </p:nvPicPr>
        <p:blipFill>
          <a:blip r:embed="rId1"/>
          <a:stretch/>
        </p:blipFill>
        <p:spPr>
          <a:xfrm>
            <a:off x="6400800" y="5181480"/>
            <a:ext cx="16002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2139480" y="456480"/>
            <a:ext cx="54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aключительная часть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371600"/>
          <a:ext cx="8229600" cy="5029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Упражнения на восстановление дыхания и расслабление мыш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ки вверх - вдох, руки вниз – выдо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тряхнуть ноги и ру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одведение итогов урока, выставление оцен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ать на ошибки, отметить лучших. Ответить на вопросы учащих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Выдача домашнего задания индивидуально каждому учащемус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1" name="Picture 40" descr=""/>
          <p:cNvPicPr/>
          <p:nvPr/>
        </p:nvPicPr>
        <p:blipFill>
          <a:blip r:embed="rId1"/>
          <a:stretch/>
        </p:blipFill>
        <p:spPr>
          <a:xfrm>
            <a:off x="3200400" y="4800600"/>
            <a:ext cx="28576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52280" y="990720"/>
            <a:ext cx="876312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еоприколы http://kdsbestc.coolpage.biz/2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ка физической подготовки выпуск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obrazov-gshum.edu.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ходное положение - стоя, ноги на ширине плеч, руки перед груд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cl.rushkolnik.ru/docs/7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ги на ширине плеч, вытяните руки перед собой на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sympaty.net/201005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224360" y="185760"/>
            <a:ext cx="57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Используем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05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228600" y="151920"/>
            <a:ext cx="8610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ип урок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ое занят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од проведения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весный, наглядный, игров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:  11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ремя проведения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расписа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личество часов: 45 м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вентарь: свисток, секундомер,  ме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1557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457200" y="101880"/>
            <a:ext cx="8001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сить уровень физического развития и подготовленности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Развитие силы, быстроты, лов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одействовать развитию: внимания, памяти мышления в ходе двиг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оспитание у учащихся навыков сознательного и активного отношения к учебному процесс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водно-подготовительная ча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280" y="1600200"/>
          <a:ext cx="8763120" cy="4933800"/>
        </p:xfrm>
        <a:graphic>
          <a:graphicData uri="http://schemas.openxmlformats.org/drawingml/2006/table">
            <a:tbl>
              <a:tblPr/>
              <a:tblGrid>
                <a:gridCol w="2921040"/>
                <a:gridCol w="2556000"/>
                <a:gridCol w="32860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ен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етств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б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 урок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и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ить стойку, наличие форм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ленный бег по стадиону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жать легко, свободно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минка (ОРУ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143000"/>
          <a:ext cx="8458200" cy="557388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01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п. основная стойка, руки на поясе, разминаем мышцы шеи (наклоны, вращения головы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мплитуда вращения пол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 рывки согнутыми руками перед грудью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4 рывки прямыми руками в сторон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ина прямая, локти не опуска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39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914400" cy="1524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"/>
          <p:cNvPicPr/>
          <p:nvPr/>
        </p:nvPicPr>
        <p:blipFill>
          <a:blip r:embed="rId2"/>
          <a:stretch/>
        </p:blipFill>
        <p:spPr>
          <a:xfrm>
            <a:off x="3352680" y="4191120"/>
            <a:ext cx="265752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04920" y="990720"/>
          <a:ext cx="8229600" cy="5348160"/>
        </p:xfrm>
        <a:graphic>
          <a:graphicData uri="http://schemas.openxmlformats.org/drawingml/2006/table">
            <a:tbl>
              <a:tblPr/>
              <a:tblGrid>
                <a:gridCol w="2971800"/>
                <a:gridCol w="2133360"/>
                <a:gridCol w="31244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п. ноги на ширине плеч, правая рука вверху, левая вниз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 рывки руками назад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4 смена положения ру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ки прямые, рывки интенсив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И.п. ноги на ширине плеч, руки к плеч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-3-4 круговые вращения руками вперёд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-6-7-8 круговые вращения наз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ращения выполнять по полной амплитуд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ки прям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67" descr=""/>
          <p:cNvPicPr/>
          <p:nvPr/>
        </p:nvPicPr>
        <p:blipFill>
          <a:blip r:embed="rId1"/>
          <a:stretch/>
        </p:blipFill>
        <p:spPr>
          <a:xfrm>
            <a:off x="3505320" y="2187720"/>
            <a:ext cx="1752480" cy="1298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8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2001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8600" y="274680"/>
          <a:ext cx="8763120" cy="6502320"/>
        </p:xfrm>
        <a:graphic>
          <a:graphicData uri="http://schemas.openxmlformats.org/drawingml/2006/table">
            <a:tbl>
              <a:tblPr/>
              <a:tblGrid>
                <a:gridCol w="3732120"/>
                <a:gridCol w="2109960"/>
                <a:gridCol w="29210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п. ноги на ширине плеч, руки опущены вдоль туловищ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-3-4 вращения прямыми руками вперёд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-6-7-8 вращения прямыми руками наз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ени не сгибать. Пальцами рук дотянуться до пол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п. ноги на ширине плеч, руки на поя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-3 наклон вперёд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8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И.п. ноги на ширине плеч, руки к плеч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-3-4 круговые вращения руками вперёд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-6-7-8 круговые вращения наз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ращения выполнять по полной амплитуде. Руки прям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68" descr=""/>
          <p:cNvPicPr/>
          <p:nvPr/>
        </p:nvPicPr>
        <p:blipFill>
          <a:blip r:embed="rId1"/>
          <a:stretch/>
        </p:blipFill>
        <p:spPr>
          <a:xfrm>
            <a:off x="4038480" y="5181480"/>
            <a:ext cx="46483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8600" y="274680"/>
          <a:ext cx="8610480" cy="6492960"/>
        </p:xfrm>
        <a:graphic>
          <a:graphicData uri="http://schemas.openxmlformats.org/drawingml/2006/table">
            <a:tbl>
              <a:tblPr/>
              <a:tblGrid>
                <a:gridCol w="3444840"/>
                <a:gridCol w="1955880"/>
                <a:gridCol w="3209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п. ноги на ширине плеч, руки на пояс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прогнуться назад, достать пя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 п. ноги на ширине плеч, руки перед грудь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 рывки согнутыми руками перед грудью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4 рывки прямыми руками в стор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клоны строго в сторону, как можно ниж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И.п. ноги на ширине плеч, руки на пояс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 наклоны в правую сторон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4 наклоны в левую сторон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ина прямая, мах интенсивный, руки не опуска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82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981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0880" y="274680"/>
          <a:ext cx="8305920" cy="7149960"/>
        </p:xfrm>
        <a:graphic>
          <a:graphicData uri="http://schemas.openxmlformats.org/drawingml/2006/table">
            <a:tbl>
              <a:tblPr/>
              <a:tblGrid>
                <a:gridCol w="3276720"/>
                <a:gridCol w="2286000"/>
                <a:gridCol w="2743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 И.п. ноги на ширине плеч руки вытянуты вперёд на уровне груди 1-2 мах правой ногой, стопой достать левую кисть руки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4 мах левой ногой, стопой достать правую кисть ру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ед полны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 И.п. ноги на ширине плеч, руки на поясе 1 присесть, руки вперёд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и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нуться сильне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И.п. ноги на ширине плеч, руки на поя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огнуться назад, руки верх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наклониться вперёд, руки вниз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исесть, руки вперёд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прямо, вращать только таз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64" descr=""/>
          <p:cNvPicPr/>
          <p:nvPr/>
        </p:nvPicPr>
        <p:blipFill>
          <a:blip r:embed="rId1"/>
          <a:stretch/>
        </p:blipFill>
        <p:spPr>
          <a:xfrm>
            <a:off x="3733920" y="4495680"/>
            <a:ext cx="22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5:04:38Z</dcterms:created>
  <dc:creator>user</dc:creator>
  <dc:description/>
  <dc:language>en-US</dc:language>
  <cp:lastModifiedBy>Антон</cp:lastModifiedBy>
  <dcterms:modified xsi:type="dcterms:W3CDTF">2014-02-10T12:47:2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