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3ECB-5987-4E23-A4B6-12736F8F70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32A4-40C2-4EC4-8186-32292617D5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9D0B-6BB9-4E99-8241-D5F1B9675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9288-E99D-49AE-B2D2-3CED15C8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15D9-0D12-493E-B0BE-A4268B31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D306-4FF7-47E2-8709-0E02F8F59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50A5-834F-4A49-AAF7-28C69B94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05F5-2950-46CE-A01E-849CFAE4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0F67-6D2D-4028-94D9-16177570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1BCA-5236-4FC2-B6FB-A3A80234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B3A5-3E9E-4B96-863B-A8162C7F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7DCE-7191-42F8-A7E3-DD70D5AA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167B-8573-4F66-9F75-F8D72701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98B9-A75F-4D16-A892-8A95DAD3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9CD1-139C-4CF5-BE13-C65B623D5C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ЁГКАЯ АТЛЕТИКА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1 класс</a:t>
            </a:r>
            <a:br>
              <a:rPr sz="4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 урока: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г на 3000 м. юноши, 2000м девушки на результат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3733920" cy="2901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648320" y="3657240"/>
            <a:ext cx="403848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тор: Михайлин Антон Геннад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сто работ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ОУ СОШ №45 г. Калинингр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57200" y="274680"/>
          <a:ext cx="8229600" cy="6354720"/>
        </p:xfrm>
        <a:graphic>
          <a:graphicData uri="http://schemas.openxmlformats.org/drawingml/2006/table">
            <a:tbl>
              <a:tblPr/>
              <a:tblGrid>
                <a:gridCol w="3657600"/>
                <a:gridCol w="1828800"/>
                <a:gridCol w="2743200"/>
              </a:tblGrid>
              <a:tr h="635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 И.п. основная стойка руки на поясе, большие пальцы вперё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4 вращаем тазом вправо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8 вращаем тазом влев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 И.п. выпад правой ногой, руки на колен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 покачивание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прыжком смена положения но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 И.п. основная стойка руки на пояс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выпад правой ногой, руки на колено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и.п.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выпад левой ногой, руки на колено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и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пус на колено не опускать. Выпад глубоки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пус держать прям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ягивать мышцы бедр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37" descr=""/>
          <p:cNvPicPr/>
          <p:nvPr/>
        </p:nvPicPr>
        <p:blipFill>
          <a:blip r:embed="rId1"/>
          <a:stretch/>
        </p:blipFill>
        <p:spPr>
          <a:xfrm>
            <a:off x="4267080" y="1295280"/>
            <a:ext cx="40388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57200" y="274680"/>
          <a:ext cx="8229600" cy="6092640"/>
        </p:xfrm>
        <a:graphic>
          <a:graphicData uri="http://schemas.openxmlformats.org/drawingml/2006/table">
            <a:tbl>
              <a:tblPr/>
              <a:tblGrid>
                <a:gridCol w="3657600"/>
                <a:gridCol w="1828800"/>
                <a:gridCol w="2743200"/>
              </a:tblGrid>
              <a:tr h="376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 И.п. сед на левой ноге, правая прямая в сторон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перекатиться на правую ногу, левая прямая в сторону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 и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 И.п. основная стойка, руки на пояс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рыжок, ноги на ширине плеч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и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р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ыжки выполнять на передней части стоп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ть мягко, как можно выш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емление мягкое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 И.п. основная стойка. Прыжки из полного присед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 Выпрыгивание вверх с подтягиванием коленей к груд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р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каждый шаг высоко поднимать колен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" name="Picture 28" descr=""/>
          <p:cNvPicPr/>
          <p:nvPr/>
        </p:nvPicPr>
        <p:blipFill>
          <a:blip r:embed="rId1"/>
          <a:stretch/>
        </p:blipFill>
        <p:spPr>
          <a:xfrm>
            <a:off x="4191120" y="2286000"/>
            <a:ext cx="441936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1072080" y="228240"/>
            <a:ext cx="657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ая ча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ециальные беговые упражн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557360"/>
          <a:ext cx="8229600" cy="5516640"/>
        </p:xfrm>
        <a:graphic>
          <a:graphicData uri="http://schemas.openxmlformats.org/drawingml/2006/table">
            <a:tbl>
              <a:tblPr/>
              <a:tblGrid>
                <a:gridCol w="3276720"/>
                <a:gridCol w="1447560"/>
                <a:gridCol w="3505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Высокое бедр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Захлёст голен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В шаге, прыжки с ноги на ног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х30 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ки работают как при беге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аг выполняется коленом вперё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 выполнении помогаем рукам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Роллинг (шаг, прыжок вверх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Многоскоки (продвижение на передней части стопы вперёд)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 Правым боком приставными шагам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х30 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жать быстр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92" descr=""/>
          <p:cNvPicPr/>
          <p:nvPr/>
        </p:nvPicPr>
        <p:blipFill>
          <a:blip r:embed="rId1"/>
          <a:stretch/>
        </p:blipFill>
        <p:spPr>
          <a:xfrm>
            <a:off x="3733920" y="2832120"/>
            <a:ext cx="1447560" cy="1130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3" descr=""/>
          <p:cNvPicPr/>
          <p:nvPr/>
        </p:nvPicPr>
        <p:blipFill>
          <a:blip r:embed="rId2"/>
          <a:stretch/>
        </p:blipFill>
        <p:spPr>
          <a:xfrm>
            <a:off x="5638680" y="4495680"/>
            <a:ext cx="30481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57200" y="274680"/>
          <a:ext cx="8458200" cy="6384960"/>
        </p:xfrm>
        <a:graphic>
          <a:graphicData uri="http://schemas.openxmlformats.org/drawingml/2006/table">
            <a:tbl>
              <a:tblPr/>
              <a:tblGrid>
                <a:gridCol w="3733920"/>
                <a:gridCol w="1600200"/>
                <a:gridCol w="3124080"/>
              </a:tblGrid>
              <a:tr h="122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евым боком приставными шагам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 Ускорен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Упр. на восстановление дыха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х30 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с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жать быстр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и в верх вдох , руки в низ выдо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Бег по стадиону 100м-быстро, 100м-медленно,100м-быстр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Фартлек. Бег быстро- медленно- быстро-3ми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Пробегание 200м в три четверти сил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Пробегание 3000м  юноши 2000м девушки на результа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дить за постановкой стоп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желательно переходить на ходьб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жать легко свобод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8" name="Picture 79" descr=""/>
          <p:cNvPicPr/>
          <p:nvPr/>
        </p:nvPicPr>
        <p:blipFill>
          <a:blip r:embed="rId1"/>
          <a:stretch/>
        </p:blipFill>
        <p:spPr>
          <a:xfrm>
            <a:off x="6400800" y="5181480"/>
            <a:ext cx="160020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2139480" y="456480"/>
            <a:ext cx="544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aключительная часть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1371600"/>
          <a:ext cx="8229600" cy="5029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Упражнения на восстановление дыхания и расслабление мышц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 ра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ки вверх - вдох, руки вниз – выдох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тряхнуть ноги и ру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Подведение итогов урока, выставление оцено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с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азать на ошибки, отметить лучших. Ответить на вопросы учащихс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Выдача домашнего задания индивидуально каждому учащемус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с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81" name="Picture 40" descr=""/>
          <p:cNvPicPr/>
          <p:nvPr/>
        </p:nvPicPr>
        <p:blipFill>
          <a:blip r:embed="rId1"/>
          <a:stretch/>
        </p:blipFill>
        <p:spPr>
          <a:xfrm>
            <a:off x="3200400" y="4800600"/>
            <a:ext cx="28576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52280" y="990720"/>
            <a:ext cx="876312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еоприколы http://kdsbestc.coolpage.biz/2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ка физической подготовки выпуск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ww.obrazov-gshum.edu.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ходное положение - стоя, ноги на ширине плеч, руки перед груд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cl.rushkolnik.ru/docs/7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ги на ширине плеч, вытяните руки перед собой на уров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ww.sympaty.net/201005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224360" y="185760"/>
            <a:ext cx="57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Используемые ресур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305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228600" y="151920"/>
            <a:ext cx="8610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ип урок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ческое занят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тод проведения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весный, наглядный, игров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сс:  11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ремя проведения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расписан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личество часов: 45 м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вентарь: свисток, секундомер,  ме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1557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457200" y="101880"/>
            <a:ext cx="8001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сить уровень физического развития и подготовленности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Развитие силы, быстроты, лов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Содействовать развитию: внимания, памяти мышления в ходе двигатель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Воспитание у учащихся навыков сознательного и активного отношения к учебному процесс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водно-подготовительная ча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280" y="1600200"/>
          <a:ext cx="8763120" cy="4933800"/>
        </p:xfrm>
        <a:graphic>
          <a:graphicData uri="http://schemas.openxmlformats.org/drawingml/2006/table">
            <a:tbl>
              <a:tblPr/>
              <a:tblGrid>
                <a:gridCol w="2921040"/>
                <a:gridCol w="2556000"/>
                <a:gridCol w="32860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ров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роени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етстви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бщ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 урок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мин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рить стойку, наличие форм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ленный бег по стадиону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 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жать легко, свободно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минка (ОРУ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143000"/>
          <a:ext cx="8458200" cy="557388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01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.п. основная стойка, руки на поясе, разминаем мышцы шеи (наклоны, вращения головы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с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мплитуда вращения полн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2 рывки согнутыми руками перед грудью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-4 рывки прямыми руками в сторон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ина прямая, локти не опускать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Picture 39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914400" cy="1524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0" descr=""/>
          <p:cNvPicPr/>
          <p:nvPr/>
        </p:nvPicPr>
        <p:blipFill>
          <a:blip r:embed="rId2"/>
          <a:stretch/>
        </p:blipFill>
        <p:spPr>
          <a:xfrm>
            <a:off x="3352680" y="4191120"/>
            <a:ext cx="265752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04920" y="990720"/>
          <a:ext cx="8229600" cy="5348160"/>
        </p:xfrm>
        <a:graphic>
          <a:graphicData uri="http://schemas.openxmlformats.org/drawingml/2006/table">
            <a:tbl>
              <a:tblPr/>
              <a:tblGrid>
                <a:gridCol w="2971800"/>
                <a:gridCol w="2133360"/>
                <a:gridCol w="312444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.п. ноги на ширине плеч, правая рука вверху, левая вниз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2 рывки руками назад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-4 смена положения ру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ки прямые, рывки интенсивны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И.п. ноги на ширине плеч, руки к плеч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2-3-4 круговые вращения руками вперёд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-6-7-8 круговые вращения наза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р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ращения выполнять по полной амплитуде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ки прямы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1" name="Picture 67" descr=""/>
          <p:cNvPicPr/>
          <p:nvPr/>
        </p:nvPicPr>
        <p:blipFill>
          <a:blip r:embed="rId1"/>
          <a:stretch/>
        </p:blipFill>
        <p:spPr>
          <a:xfrm>
            <a:off x="3505320" y="2187720"/>
            <a:ext cx="1752480" cy="1298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8" descr=""/>
          <p:cNvPicPr/>
          <p:nvPr/>
        </p:nvPicPr>
        <p:blipFill>
          <a:blip r:embed="rId2"/>
          <a:stretch/>
        </p:blipFill>
        <p:spPr>
          <a:xfrm>
            <a:off x="3352680" y="3962520"/>
            <a:ext cx="20019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28600" y="274680"/>
          <a:ext cx="8763120" cy="6502320"/>
        </p:xfrm>
        <a:graphic>
          <a:graphicData uri="http://schemas.openxmlformats.org/drawingml/2006/table">
            <a:tbl>
              <a:tblPr/>
              <a:tblGrid>
                <a:gridCol w="3732120"/>
                <a:gridCol w="2109960"/>
                <a:gridCol w="29210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.п. ноги на ширине плеч, руки опущены вдоль туловищ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2-3-4 вращения прямыми руками вперёд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-6-7-8 вращения прямыми руками наза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р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ени не сгибать. Пальцами рук дотянуться до пол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.п. ноги на ширине плеч, руки на пояс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2-3 наклон вперёд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-8 р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И.п. ноги на ширине плеч, руки к плеч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2-3-4 круговые вращения руками вперёд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-6-7-8 круговые вращения наза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р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ращения выполнять по полной амплитуде. Руки прямы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" name="Picture 68" descr=""/>
          <p:cNvPicPr/>
          <p:nvPr/>
        </p:nvPicPr>
        <p:blipFill>
          <a:blip r:embed="rId1"/>
          <a:stretch/>
        </p:blipFill>
        <p:spPr>
          <a:xfrm>
            <a:off x="4038480" y="5181480"/>
            <a:ext cx="46483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28600" y="274680"/>
          <a:ext cx="8610480" cy="6492960"/>
        </p:xfrm>
        <a:graphic>
          <a:graphicData uri="http://schemas.openxmlformats.org/drawingml/2006/table">
            <a:tbl>
              <a:tblPr/>
              <a:tblGrid>
                <a:gridCol w="3444840"/>
                <a:gridCol w="1955880"/>
                <a:gridCol w="32097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.п. ноги на ширине плеч, руки на пояс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прогнуться назад, достать пят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и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. п. ноги на ширине плеч, руки перед грудью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2 рывки согнутыми руками перед грудью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-4 рывки прямыми руками в сторо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клоны строго в сторону, как можно ниж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 И.п. ноги на ширине плеч, руки на пояс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2 наклоны в правую сторону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-4 наклоны в левую сторон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ина прямая, мах интенсивный, руки не опуска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Picture 82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1981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80880" y="274680"/>
          <a:ext cx="8305920" cy="7149960"/>
        </p:xfrm>
        <a:graphic>
          <a:graphicData uri="http://schemas.openxmlformats.org/drawingml/2006/table">
            <a:tbl>
              <a:tblPr/>
              <a:tblGrid>
                <a:gridCol w="3276720"/>
                <a:gridCol w="2286000"/>
                <a:gridCol w="27432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 И.п. ноги на ширине плеч руки вытянуты вперёд на уровне груди 1-2 мах правой ногой, стопой достать левую кисть руки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-4 мах левой ногой, стопой достать правую кисть ру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р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ед полны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 И.п. ноги на ширине плеч, руки на поясе 1 присесть, руки вперёд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и.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р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нуться сильне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И.п. ноги на ширине плеч, руки на пояс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рогнуться назад, руки верх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наклониться вперёд, руки вниз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присесть, руки вперёд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и.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пус прямо, вращать только таз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Picture 64" descr=""/>
          <p:cNvPicPr/>
          <p:nvPr/>
        </p:nvPicPr>
        <p:blipFill>
          <a:blip r:embed="rId1"/>
          <a:stretch/>
        </p:blipFill>
        <p:spPr>
          <a:xfrm>
            <a:off x="3733920" y="4495680"/>
            <a:ext cx="2209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5:04:38Z</dcterms:created>
  <dc:creator>user</dc:creator>
  <dc:description/>
  <dc:language>en-US</dc:language>
  <cp:lastModifiedBy>Антон</cp:lastModifiedBy>
  <dcterms:modified xsi:type="dcterms:W3CDTF">2014-02-10T12:47:2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