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9A0F-5560-4F59-AD61-A8F2308B3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563-5DE3-477A-B1FE-7E506E1B81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A8A-75E3-4889-AAAA-2EE9ECC7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16F-4884-41D3-A436-3B9D391C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F91-2E56-43D9-A31E-3E6B319C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FB7-F483-4199-9D07-10C4AA1C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038-75BF-4934-B1C1-E16DEFAA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243-58DA-4FC2-91AF-B40F9798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C21-CC37-41B8-9632-82EFF80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C90-5DEA-4D2E-A10E-237E5C7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943-597B-477F-82F9-CF05D225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9849-F6DB-40E3-BE9A-F5686E4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88A-6A76-4C39-B975-0D64593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FF-307F-459D-AA3C-88AB06A6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131-8D9E-4964-BF85-61CD23306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ЁГКАЯ АТЛЕТИК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1 класс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 на 3000 м. юноши, 2000м девушки на результат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73392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3657240"/>
            <a:ext cx="403848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74680"/>
          <a:ext cx="8229600" cy="635472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63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И.п. основная стойка руки на поясе, большие пальцы впер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И.п. выпад правой ногой, руки на коле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ыжком смена положения но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И.п. основная стойка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держать прям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7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038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6092640"/>
        </p:xfrm>
        <a:graphic>
          <a:graphicData uri="http://schemas.openxmlformats.org/drawingml/2006/table">
            <a:tbl>
              <a:tblPr/>
              <a:tblGrid>
                <a:gridCol w="3657600"/>
                <a:gridCol w="1828800"/>
                <a:gridCol w="2743200"/>
              </a:tblGrid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И.п. сед на левой ноге, правая прямая в сторо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И.п. основная стойка, руки на поя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, ноги на ширине плеч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И.п. основная стойка. Прыжки из полного присед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 Выпрыгивание вверх с подтягиванием коленей к груд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28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419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072080" y="2282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иальные бегов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557360"/>
          <a:ext cx="8229600" cy="551664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Высокое бед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Захлёст голен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 шаге, прыжки с ноги на но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работают как при бег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аг выполняется коленом вперё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выполнении помогаем ру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Роллинг (шаг, прыжок вверх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Многоскоки (продвижение на передней части стопы вперёд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Правым боком приставными шага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х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92" descr=""/>
          <p:cNvPicPr/>
          <p:nvPr/>
        </p:nvPicPr>
        <p:blipFill>
          <a:blip r:embed="rId1"/>
          <a:stretch/>
        </p:blipFill>
        <p:spPr>
          <a:xfrm>
            <a:off x="3733920" y="2832120"/>
            <a:ext cx="1447560" cy="1130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3" descr=""/>
          <p:cNvPicPr/>
          <p:nvPr/>
        </p:nvPicPr>
        <p:blipFill>
          <a:blip r:embed="rId2"/>
          <a:stretch/>
        </p:blipFill>
        <p:spPr>
          <a:xfrm>
            <a:off x="5638680" y="44956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274680"/>
          <a:ext cx="8458200" cy="6384960"/>
        </p:xfrm>
        <a:graphic>
          <a:graphicData uri="http://schemas.openxmlformats.org/drawingml/2006/table">
            <a:tbl>
              <a:tblPr/>
              <a:tblGrid>
                <a:gridCol w="3733920"/>
                <a:gridCol w="1600200"/>
                <a:gridCol w="3124080"/>
              </a:tblGrid>
              <a:tr h="12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вым боком приставными шаг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Уско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Упр. на восстановление дых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х3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 верх вдох , руки в низ выдо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Бег по стадиону 100м-быстро, 100м-медленно,100м-быстр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Фартлек. Бег быстро- медленно- быстро-3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Пробегание 200м в три четверти сил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Пробегание 3000м  юноши 2000м девушки на результа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постановкой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желательно переходить на ходьб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 свобод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79" descr=""/>
          <p:cNvPicPr/>
          <p:nvPr/>
        </p:nvPicPr>
        <p:blipFill>
          <a:blip r:embed="rId1"/>
          <a:stretch/>
        </p:blipFill>
        <p:spPr>
          <a:xfrm>
            <a:off x="6400800" y="5181480"/>
            <a:ext cx="1600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139480" y="456480"/>
            <a:ext cx="54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aключительная часть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229600" cy="5029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Упражнения на восстановление дыхания и расслабление мыш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вверх - вдох, руки вниз – выдо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ряхнуть ноги и ру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одведение итогов урока, выставление оцен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на ошибки, отметить лучших. Ответить на вопросы учащих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Выдача домашнего задания индивидуально каждому учащему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40" descr=""/>
          <p:cNvPicPr/>
          <p:nvPr/>
        </p:nvPicPr>
        <p:blipFill>
          <a:blip r:embed="rId1"/>
          <a:stretch/>
        </p:blipFill>
        <p:spPr>
          <a:xfrm>
            <a:off x="3200400" y="4800600"/>
            <a:ext cx="2857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52280" y="990720"/>
            <a:ext cx="876312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приколы http://kdsbestc.coolpage.biz/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физической подготовки выпуск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obrazov-gshum.edu.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ое положение - стоя, ноги на ширине плеч, руки перед груд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l.rushkolnik.ru/docs/7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на ширине плеч, вытяните руки перед собой на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sympaty.net/20100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24360" y="185760"/>
            <a:ext cx="57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228600" y="15192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ип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заня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, наглядный, игро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:  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я проведе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распис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1557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101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одно-подготовительная ча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00200"/>
          <a:ext cx="8763120" cy="4933800"/>
        </p:xfrm>
        <a:graphic>
          <a:graphicData uri="http://schemas.openxmlformats.org/drawingml/2006/table">
            <a:tbl>
              <a:tblPr/>
              <a:tblGrid>
                <a:gridCol w="2921040"/>
                <a:gridCol w="2556000"/>
                <a:gridCol w="3286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тствие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фор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инка (ОРУ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143000"/>
          <a:ext cx="8458200" cy="55738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основная стойка, руки на поясе, разминаем мышцы шеи (наклоны, вращения головы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плитуда вращения пол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локти не опуска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39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91440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2657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04920" y="990720"/>
          <a:ext cx="8229600" cy="5348160"/>
        </p:xfrm>
        <a:graphic>
          <a:graphicData uri="http://schemas.openxmlformats.org/drawingml/2006/table">
            <a:tbl>
              <a:tblPr/>
              <a:tblGrid>
                <a:gridCol w="2971800"/>
                <a:gridCol w="2133360"/>
                <a:gridCol w="31244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правая рука вверху, левая вниз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руками наза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смена положения р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, рывки интенсив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67" descr=""/>
          <p:cNvPicPr/>
          <p:nvPr/>
        </p:nvPicPr>
        <p:blipFill>
          <a:blip r:embed="rId1"/>
          <a:stretch/>
        </p:blipFill>
        <p:spPr>
          <a:xfrm>
            <a:off x="3505320" y="2187720"/>
            <a:ext cx="1752480" cy="1298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8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001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8600" y="274680"/>
          <a:ext cx="8763120" cy="6502320"/>
        </p:xfrm>
        <a:graphic>
          <a:graphicData uri="http://schemas.openxmlformats.org/drawingml/2006/table">
            <a:tbl>
              <a:tblPr/>
              <a:tblGrid>
                <a:gridCol w="3732120"/>
                <a:gridCol w="2109960"/>
                <a:gridCol w="2921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опущены вдоль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вращения прямыми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вращения прямыми руками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ени не сгибать. Пальцами рук дотянуться до пол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 наклон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И.п. ноги на ширине плеч, руки к плеч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-3-4 круговые вращения руками вперёд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6-7-8 круговые вращения наз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ащения выполнять по полной амплитуде. Руки прям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8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4648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274680"/>
          <a:ext cx="8610480" cy="6492960"/>
        </p:xfrm>
        <a:graphic>
          <a:graphicData uri="http://schemas.openxmlformats.org/drawingml/2006/table">
            <a:tbl>
              <a:tblPr/>
              <a:tblGrid>
                <a:gridCol w="3444840"/>
                <a:gridCol w="1955880"/>
                <a:gridCol w="3209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рогнуться назад, достать пя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 п. ноги на ширине плеч, руки перед грудь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рывки согнутыми руками перед грудью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рывки прямыми руками в сторо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лоны строго в сторону, как можно ниж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И.п. ноги на ширине плеч, руки на пояс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2 наклоны в правую сторон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наклоны в левую сторон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ина прямая, мах интенсивный, руки не опуск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82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81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274680"/>
          <a:ext cx="8305920" cy="7149960"/>
        </p:xfrm>
        <a:graphic>
          <a:graphicData uri="http://schemas.openxmlformats.org/drawingml/2006/table">
            <a:tbl>
              <a:tblPr/>
              <a:tblGrid>
                <a:gridCol w="3276720"/>
                <a:gridCol w="2286000"/>
                <a:gridCol w="274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 урока и их 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о -  методические указа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И.п. ноги на ширине плеч руки вытянуты вперёд на уровне груди 1-2 мах правой ногой, стопой достать левую кисть руки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4 мах левой ногой, стопой достать правую кисть ру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И.п. ноги на ширине плеч, руки на поясе 1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И.п. ноги на ширине плеч, руки на поя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, руки вер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, руки вниз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, руки вперёд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64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04:38Z</dcterms:created>
  <dc:creator>user</dc:creator>
  <dc:description/>
  <dc:language>en-US</dc:language>
  <cp:lastModifiedBy>Антон</cp:lastModifiedBy>
  <dcterms:modified xsi:type="dcterms:W3CDTF">2014-02-10T12:47:2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