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C946-C783-4643-96F7-1F13C75C7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9868-3073-411B-BE31-C4D9DC8C5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9C1A-DE90-4DFF-8FCA-A21479CFB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E332-DFF0-48CD-BA82-961100BC5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D1DE-716E-4C24-BAA8-DB0A099F8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3BE6-37DC-4849-BE28-3B56AE46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3AA6-4675-4AF9-ADDD-852BB4186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6997-5A92-4EFA-BBB8-46381DE7A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3AD4-6D69-4FF1-8D70-C86F92A1B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54AF-D173-4DE1-80F4-1DC5C12D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C0D2-ABEC-4522-83F6-3D05E0C7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A70E-3246-46EE-B6AD-4277F177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AFD51-66FC-4A04-B2A6-BEC5A8A75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0" t="0" r="0" b="2759"/>
          <a:stretch/>
        </p:blipFill>
        <p:spPr>
          <a:xfrm>
            <a:off x="324000" y="0"/>
            <a:ext cx="8424720" cy="69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43280" y="620640"/>
            <a:ext cx="7200720" cy="35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br>
              <a:rPr sz="6400"/>
            </a:br>
            <a:br>
              <a:rPr sz="6400"/>
            </a:br>
            <a:r>
              <a:rPr b="0" lang="en-US" sz="6400" spc="-1" strike="noStrike">
                <a:solidFill>
                  <a:srgbClr val="000000"/>
                </a:solidFill>
                <a:latin typeface="Antikvar Shadow"/>
              </a:rPr>
              <a:t>Литературная</a:t>
            </a:r>
            <a:br>
              <a:rPr sz="6400"/>
            </a:br>
            <a:br>
              <a:rPr sz="6400"/>
            </a:br>
            <a:r>
              <a:rPr b="0" lang="en-US" sz="6400" spc="-1" strike="noStrike">
                <a:solidFill>
                  <a:srgbClr val="000000"/>
                </a:solidFill>
                <a:latin typeface="Antikvar Shadow"/>
              </a:rPr>
              <a:t>разминка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23640" y="333360"/>
            <a:ext cx="865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ikvar Shadow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92360" y="274680"/>
            <a:ext cx="67672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. Стихотворение М. Ю. Лермонтова «На смерть поэта» было написано в:</a:t>
            </a: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692000" y="1844280"/>
            <a:ext cx="699444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А. 183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Б. 183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. 183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Г.  183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2. Продолжите стихотворную строку:</a:t>
            </a: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47280" y="2276280"/>
            <a:ext cx="74170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зумных лет угасшее весел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н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56000" y="2852640"/>
            <a:ext cx="6912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4000"/>
          </a:bodyPr>
          <a:p>
            <a:pPr marL="85320" indent="-85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тяжело, как смутное похмелье…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320" indent="-85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320" indent="-85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320" indent="-85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320" indent="-85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         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А.С.Пушкин «Элег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92360" y="260280"/>
            <a:ext cx="7005600" cy="20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В каком порядке следуют главы в романе М. Ю. Лермонтова «Герой нашего времени»?</a:t>
            </a:r>
            <a:br>
              <a:rPr sz="4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19280" y="2060280"/>
            <a:ext cx="706752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А. Бэла — Княжна Мери — Максим Максимыч — Фаталист — Тамань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. Бэла — Максим Максимыч — Тамань — Княжна Мери — Фаталист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В. Максим Максимыч — Княжна Мери — Фаталист — Тамань — Бэл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4. Героем какого произведения (какого автора) является Сатин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92000" y="2852280"/>
            <a:ext cx="6994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М.Горький «На дн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92360" y="188640"/>
            <a:ext cx="700560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Какие стихотворения Н. А. Некрасова посвящены теме народных страданий?</a:t>
            </a: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92000" y="2205000"/>
            <a:ext cx="699444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. «В дороге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. «Тройка»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. «Железная дорога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. «Зеленый шум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Установите соответствие 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«герой — произведение»:</a:t>
            </a: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619280" y="2205000"/>
            <a:ext cx="706752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Чичиков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. «Евгений Онегин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Хлестова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. «Мертвые души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Зарецкий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. «Горе от ума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Курагин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. «Война и мир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80000" y="2565360"/>
            <a:ext cx="720720" cy="433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24360" y="3284640"/>
            <a:ext cx="503280" cy="1439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995640" y="2636640"/>
            <a:ext cx="505080" cy="21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64000" y="5445000"/>
            <a:ext cx="865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0" t="0" r="0" b="4863"/>
          <a:stretch/>
        </p:blipFill>
        <p:spPr>
          <a:xfrm>
            <a:off x="1979640" y="0"/>
            <a:ext cx="5605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5T19:33:00Z</dcterms:created>
  <dc:creator>Admin</dc:creator>
  <dc:description/>
  <dc:language>en-US</dc:language>
  <cp:lastModifiedBy>Admin</cp:lastModifiedBy>
  <dcterms:modified xsi:type="dcterms:W3CDTF">2011-01-16T18:52:41Z</dcterms:modified>
  <cp:revision>4</cp:revision>
  <dc:subject/>
  <dc:title>Разминка</dc:title>
</cp:coreProperties>
</file>