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F6C-49D5-4C9B-9855-65AFA782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A383-52EB-4CF6-885A-A5587765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C38-5EB4-4E20-989D-A116F236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E08-04FF-47C4-9693-4B80EBA0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8F1-8571-4600-918E-2C5116F7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9FF-E302-4509-B934-B8B5D72C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CAFF-3386-41B2-B7CC-EDEBCBFE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470C-D7C8-4F02-BEC4-4721AC95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AE8-6250-41E2-94F0-2809CECB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529-D3A6-4FBB-A41B-D2A78DAF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16BF-6814-4320-A3F5-23735241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40BA-30DF-4A11-949C-B5E7345C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4E7D-599E-4ACE-846C-9F204B2B7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0" b="2759"/>
          <a:stretch/>
        </p:blipFill>
        <p:spPr>
          <a:xfrm>
            <a:off x="324000" y="0"/>
            <a:ext cx="842472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3280" y="620640"/>
            <a:ext cx="720072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br>
              <a:rPr sz="6400"/>
            </a:b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Antikvar Shadow"/>
              </a:rPr>
              <a:t>Литературная</a:t>
            </a:r>
            <a:br>
              <a:rPr sz="6400"/>
            </a:b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Antikvar Shadow"/>
              </a:rPr>
              <a:t>разминка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3640" y="333360"/>
            <a:ext cx="86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kvar Shado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274680"/>
            <a:ext cx="67672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. Стихотворение М. Ю. Лермонтова «На смерть поэта» было написано в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92000" y="1844280"/>
            <a:ext cx="69944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. 183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. 183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. 183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.  183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2. Продолжите стихотворную строку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2276280"/>
            <a:ext cx="7417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умных лет угасшее весел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56000" y="2852640"/>
            <a:ext cx="691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4000"/>
          </a:bodyPr>
          <a:p>
            <a:pPr marL="85320" indent="-85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яжело, как смутное похмелье…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20" indent="-85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20" indent="-85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20" indent="-85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20" indent="-85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А.С.Пушкин «Элег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700560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В каком порядке следуют главы в романе М. Ю. Лермонтова «Герой нашего времени»?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19280" y="2060280"/>
            <a:ext cx="706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. Бэла — Княжна Мери — Максим Максимыч — Фаталист — Тамань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. Бэла — Максим Максимыч — Тамань — Княжна Мери — Фаталист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. Максим Максимыч — Княжна Мери — Фаталист — Тамань — Бэл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4. Героем какого произведения (какого автора) является Сатин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92000" y="2852280"/>
            <a:ext cx="6994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.Горький «На д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70056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Какие стихотворения Н. А. Некрасова посвящены теме народных страданий?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92000" y="2205000"/>
            <a:ext cx="699444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 «В дороге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. «Тройка»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. «Железная дорог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. «Зеленый шу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Установите соответствие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«герой — произведение»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19280" y="2205000"/>
            <a:ext cx="7067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ичиков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«Евгений Онегин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Хлестова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«Мертвые души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Зарецкий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«Горе от ум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урагин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«Война и мир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80000" y="2565360"/>
            <a:ext cx="72072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3284640"/>
            <a:ext cx="503280" cy="143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995640" y="2636640"/>
            <a:ext cx="505080" cy="21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5445000"/>
            <a:ext cx="865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0" b="4863"/>
          <a:stretch/>
        </p:blipFill>
        <p:spPr>
          <a:xfrm>
            <a:off x="1979640" y="0"/>
            <a:ext cx="560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9:33:00Z</dcterms:created>
  <dc:creator>Admin</dc:creator>
  <dc:description/>
  <dc:language>en-US</dc:language>
  <cp:lastModifiedBy>Admin</cp:lastModifiedBy>
  <dcterms:modified xsi:type="dcterms:W3CDTF">2011-01-16T18:52:41Z</dcterms:modified>
  <cp:revision>4</cp:revision>
  <dc:subject/>
  <dc:title>Разминка</dc:title>
</cp:coreProperties>
</file>