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6DF-26AE-4954-B210-4FA2CE9D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2DA-6447-4332-B328-A8AB9975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A92-263B-46F2-8A56-C304E990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E19-A64B-4333-BBAB-DE7C6CB9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BF2-E769-4B42-A34F-E57C6225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26A-43AF-4B53-8A43-800929D9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D7B-C9A9-4047-A973-7A3B54D4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CA5-8575-4A39-8C2F-5ADC56B0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BFB-E0E4-48AC-84FE-B7E72836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0B6-61F1-4E41-B71B-74294D21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377-C6AF-4E61-8B4E-EBFE8B4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8AB-1D68-4A7F-8EF9-C6F79FFF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BD91-42B5-49D1-9F8B-B4CA5227E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2759"/>
          <a:stretch/>
        </p:blipFill>
        <p:spPr>
          <a:xfrm>
            <a:off x="324000" y="0"/>
            <a:ext cx="842472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3280" y="620640"/>
            <a:ext cx="720072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br>
              <a:rPr sz="6400"/>
            </a:b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Antikvar Shadow"/>
              </a:rPr>
              <a:t>Литературная</a:t>
            </a:r>
            <a:br>
              <a:rPr sz="6400"/>
            </a:b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Antikvar Shadow"/>
              </a:rPr>
              <a:t>разминка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333360"/>
            <a:ext cx="86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kvar Shado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67672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. Стихотворение М. Ю. Лермонтова «На смерть поэта» было написано в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92000" y="1844280"/>
            <a:ext cx="6994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. 18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. 183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. 183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.  183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. Продолжите стихотворную строку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7417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умных лет угасшее весел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2852640"/>
            <a:ext cx="69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яжело, как смутное похмелье…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.С.Пушкин «Элег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0056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В каком порядке следуют главы в романе М. Ю. Лермонтова «Герой нашего времени»?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2060280"/>
            <a:ext cx="706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. Бэла — Княжна Мери — Максим Максимыч — Фаталист — Тамань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. Бэла — Максим Максимыч — Тамань — Княжна Мери — Фаталист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. Максим Максимыч — Княжна Мери — Фаталист — Тамань — Бэл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4. Героем какого произведения (какого автора) является Сатин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92000" y="2852280"/>
            <a:ext cx="6994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.Горький «На д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7005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Какие стихотворения Н. А. Некрасова посвящены теме народных страданий?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2205000"/>
            <a:ext cx="6994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«В дороге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. «Тройка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«Железная дорог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«Зеленый шу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Установите соответствие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«герой — произведение»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9280" y="2205000"/>
            <a:ext cx="7067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ичиков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«Евгений Онеги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лестова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«Мертвые душ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Зарецкий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«Горе от ум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ураги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«Война и мир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2565360"/>
            <a:ext cx="72072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284640"/>
            <a:ext cx="503280" cy="14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95640" y="2636640"/>
            <a:ext cx="505080" cy="21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5445000"/>
            <a:ext cx="86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4863"/>
          <a:stretch/>
        </p:blipFill>
        <p:spPr>
          <a:xfrm>
            <a:off x="1979640" y="0"/>
            <a:ext cx="56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9:33:00Z</dcterms:created>
  <dc:creator>Admin</dc:creator>
  <dc:description/>
  <dc:language>en-US</dc:language>
  <cp:lastModifiedBy>Admin</cp:lastModifiedBy>
  <dcterms:modified xsi:type="dcterms:W3CDTF">2011-01-16T18:52:41Z</dcterms:modified>
  <cp:revision>4</cp:revision>
  <dc:subject/>
  <dc:title>Разминка</dc:title>
</cp:coreProperties>
</file>