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623F9-8E67-4633-B25E-FC19B9A77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6F741-423A-48F9-908F-A130104E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6A134-69A7-434C-928A-F5A23575B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6B587-D41C-4D46-B5B6-CC91A3D9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9FA1-A73E-4502-9624-02462829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46EA-1063-4D37-8232-E8AEA757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567F-71A2-4E6E-A3A7-0BEE40CD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8E40-3359-4693-8EEA-C67AD331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44AA-D939-47E0-8C95-62E8CE3F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2C2D-91E5-45D7-97B3-FEAE7432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DA9A-8244-4990-A940-D26BED93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FB964-BD94-4EBB-AE2D-58ED4ECE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3286-E05E-49F0-A199-D1FAFB9E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2F14-2EA6-45E7-B0ED-1CF413A5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5AE3-148C-476E-9076-DD170EDD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1909-7F8E-4A7A-ADAB-614AAF093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B558-0379-4FC4-B622-8F18F90AD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8F819-1872-4627-A546-81002646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14481-B38D-46BC-A44E-017E16A9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254AE-7FC2-42EB-AA0A-927AEF1B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62048-6F4A-4E26-B145-A229A1BA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EAD25-6A0F-4399-9EF9-521F69D0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63EC4-32FC-460F-97F9-F1355C68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FACB5-D7F5-4A5F-A756-E0D8ED3D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0467-4AB8-44FC-839B-CC5EA298DB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906F-D76E-4F96-A4C1-4C650B0532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Жизнь пресного водое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050920" y="2301840"/>
            <a:ext cx="5538960" cy="3565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395280" y="1197000"/>
            <a:ext cx="8424000" cy="4967280"/>
            <a:chOff x="395280" y="1197000"/>
            <a:chExt cx="8424000" cy="4967280"/>
          </a:xfrm>
        </p:grpSpPr>
        <p:cxnSp>
          <p:nvCxnSpPr>
            <p:cNvPr id="123" name="_s119822"/>
            <p:cNvCxnSpPr>
              <a:stCxn id="124" idx="0"/>
              <a:endCxn id="125" idx="2"/>
            </p:cNvCxnSpPr>
            <p:nvPr/>
          </p:nvCxnSpPr>
          <p:spPr>
            <a:xfrm flipV="1" rot="16200000">
              <a:off x="5584320" y="2205360"/>
              <a:ext cx="993960" cy="2949120"/>
            </a:xfrm>
            <a:prstGeom prst="bentConnector3">
              <a:avLst>
                <a:gd name="adj1" fmla="val 149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19821"/>
            <p:cNvCxnSpPr>
              <a:stCxn id="127" idx="0"/>
              <a:endCxn id="125" idx="2"/>
            </p:cNvCxnSpPr>
            <p:nvPr/>
          </p:nvCxnSpPr>
          <p:spPr>
            <a:xfrm flipV="1">
              <a:off x="4606920" y="3183120"/>
              <a:ext cx="3960" cy="993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119820"/>
            <p:cNvCxnSpPr>
              <a:stCxn id="129" idx="0"/>
              <a:endCxn id="125" idx="2"/>
            </p:cNvCxnSpPr>
            <p:nvPr/>
          </p:nvCxnSpPr>
          <p:spPr>
            <a:xfrm flipH="1" flipV="1" rot="5400000">
              <a:off x="2636280" y="2205720"/>
              <a:ext cx="993960" cy="2949120"/>
            </a:xfrm>
            <a:prstGeom prst="bentConnector3">
              <a:avLst>
                <a:gd name="adj1" fmla="val 149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5" name="_s119816"/>
            <p:cNvSpPr/>
            <p:nvPr/>
          </p:nvSpPr>
          <p:spPr>
            <a:xfrm>
              <a:off x="3343680" y="1197000"/>
              <a:ext cx="2527200" cy="1986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Водоем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19817"/>
            <p:cNvSpPr/>
            <p:nvPr/>
          </p:nvSpPr>
          <p:spPr>
            <a:xfrm>
              <a:off x="395280" y="4177440"/>
              <a:ext cx="2527200" cy="1986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Хранилище вод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19818"/>
            <p:cNvSpPr/>
            <p:nvPr/>
          </p:nvSpPr>
          <p:spPr>
            <a:xfrm>
              <a:off x="3343680" y="4177440"/>
              <a:ext cx="2527200" cy="1986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Дом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дл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растений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и животных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19819"/>
            <p:cNvSpPr/>
            <p:nvPr/>
          </p:nvSpPr>
          <p:spPr>
            <a:xfrm>
              <a:off x="6292080" y="4177440"/>
              <a:ext cx="2527200" cy="1986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Ресурсы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для хозяйственной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деятельности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человек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4000" y="836280"/>
            <a:ext cx="78483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Как взрослые и школьники должны охранять водоем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55640" y="836280"/>
            <a:ext cx="7920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Посмотрите вот сю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Тихо плещется вод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Ряска, лилии, рогоз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И кубышка, и тростник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Есть беззубка, прудови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Водомерка вот бежи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Всюду бурно жизнь кипи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Это </a:t>
            </a:r>
            <a:r>
              <a:rPr b="0" lang="en-US" sz="3600" spc="-1" strike="noStrike">
                <a:solidFill>
                  <a:srgbClr val="9900ff"/>
                </a:solidFill>
                <a:latin typeface="Arial"/>
              </a:rPr>
              <a:t>пресный водо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55640" y="907920"/>
            <a:ext cx="784872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Учебни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стр. 144 – 14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Атлас – определитель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стр. 70 - 74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Какую роль выполняют растения в водоем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Растения являются пищей и домом для животных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9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98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Какую роль выполняют растения на земл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3068640"/>
            <a:ext cx="82296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Вырабатывают кислоро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79280" y="765000"/>
          <a:ext cx="8785440" cy="5327640"/>
        </p:xfrm>
        <a:graphic>
          <a:graphicData uri="http://schemas.openxmlformats.org/drawingml/2006/table">
            <a:tbl>
              <a:tblPr/>
              <a:tblGrid>
                <a:gridCol w="1463760"/>
                <a:gridCol w="1465200"/>
                <a:gridCol w="1463760"/>
                <a:gridCol w="1463760"/>
                <a:gridCol w="1465200"/>
                <a:gridCol w="1463760"/>
              </a:tblGrid>
              <a:tr h="15033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Животные водоем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лю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мновод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еком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ызу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б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тиц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179280" y="765000"/>
          <a:ext cx="8545680" cy="5328000"/>
        </p:xfrm>
        <a:graphic>
          <a:graphicData uri="http://schemas.openxmlformats.org/drawingml/2006/table">
            <a:tbl>
              <a:tblPr/>
              <a:tblGrid>
                <a:gridCol w="1463760"/>
                <a:gridCol w="1465200"/>
                <a:gridCol w="1621080"/>
                <a:gridCol w="1309680"/>
                <a:gridCol w="1317600"/>
                <a:gridCol w="1368360"/>
              </a:tblGrid>
              <a:tr h="15033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Животные водоем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лю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мновод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еком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ызу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б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тиц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Прудови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Катуш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беззуб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Лягуш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Жа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Водомер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Кома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Боб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Ондат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Карас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Щу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Цап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у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Как живут все обитатели водоем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сной водоем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то природное сооб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000" y="98064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Какие беды принес человек водоему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Загад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8147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уче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ке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у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зер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лю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691920"/>
            <a:ext cx="8424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лови раков и двустворчатых моллюс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реги лягушек и их головаст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икогда не рви кубышку и кувшин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лови стреко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разрушай жилища ондатр и бобр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абота в тетрад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тр. 43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р. 143 – 1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дготовить ответ на вопро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Arial"/>
              </a:rPr>
              <a:t>«Надо ли охранять болота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87280" y="998640"/>
            <a:ext cx="7561440" cy="4868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00000" y="861840"/>
            <a:ext cx="7775640" cy="50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76360" y="762120"/>
            <a:ext cx="6551640" cy="53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32000" y="1231920"/>
            <a:ext cx="7200720" cy="46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826920" y="692280"/>
            <a:ext cx="7631640" cy="5472000"/>
            <a:chOff x="826920" y="692280"/>
            <a:chExt cx="7631640" cy="5472000"/>
          </a:xfrm>
        </p:grpSpPr>
        <p:cxnSp>
          <p:nvCxnSpPr>
            <p:cNvPr id="114" name="_s116740"/>
            <p:cNvCxnSpPr>
              <a:stCxn id="115" idx="0"/>
              <a:endCxn id="116" idx="2"/>
            </p:cNvCxnSpPr>
            <p:nvPr/>
          </p:nvCxnSpPr>
          <p:spPr>
            <a:xfrm flipV="1" rot="16200000">
              <a:off x="5122800" y="2400480"/>
              <a:ext cx="1095120" cy="2054880"/>
            </a:xfrm>
            <a:prstGeom prst="bentConnector3">
              <a:avLst>
                <a:gd name="adj1" fmla="val 1042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116741"/>
            <p:cNvCxnSpPr>
              <a:stCxn id="118" idx="0"/>
              <a:endCxn id="116" idx="2"/>
            </p:cNvCxnSpPr>
            <p:nvPr/>
          </p:nvCxnSpPr>
          <p:spPr>
            <a:xfrm flipH="1" flipV="1" rot="5400000">
              <a:off x="3067920" y="2400120"/>
              <a:ext cx="1095120" cy="2055960"/>
            </a:xfrm>
            <a:prstGeom prst="bentConnector3">
              <a:avLst>
                <a:gd name="adj1" fmla="val 1042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6" name="_s116742"/>
            <p:cNvSpPr/>
            <p:nvPr/>
          </p:nvSpPr>
          <p:spPr>
            <a:xfrm>
              <a:off x="2882160" y="692280"/>
              <a:ext cx="3522240" cy="21888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500" spc="-1" strike="noStrike">
                  <a:solidFill>
                    <a:srgbClr val="000000"/>
                  </a:solidFill>
                  <a:latin typeface="Arial"/>
                </a:rPr>
                <a:t>Водоемы</a:t>
              </a:r>
              <a:endParaRPr b="0" lang="en-US" sz="5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16743"/>
            <p:cNvSpPr/>
            <p:nvPr/>
          </p:nvSpPr>
          <p:spPr>
            <a:xfrm>
              <a:off x="826920" y="3975480"/>
              <a:ext cx="3522240" cy="21888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Естественные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Искусственные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16744"/>
            <p:cNvSpPr/>
            <p:nvPr/>
          </p:nvSpPr>
          <p:spPr>
            <a:xfrm>
              <a:off x="4936320" y="3975480"/>
              <a:ext cx="3522240" cy="21888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Пресные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Соленые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Водоем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905120"/>
          <a:ext cx="8229600" cy="4819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ествен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кусственные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е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ана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зер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ор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одохранилищ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кеа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руд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уче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13600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Расскажи о значении водоемов в природ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и жизни людей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9T16:43:13Z</dcterms:created>
  <dc:creator>1</dc:creator>
  <dc:description/>
  <dc:language>en-US</dc:language>
  <cp:lastModifiedBy>1</cp:lastModifiedBy>
  <dcterms:modified xsi:type="dcterms:W3CDTF">2006-03-21T20:03:51Z</dcterms:modified>
  <cp:revision>4</cp:revision>
  <dc:subject/>
  <dc:title>Жизнь пресного водоема</dc:title>
</cp:coreProperties>
</file>