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6F1B-36AA-4DBE-B7F6-F1B1F5AF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C1DF-1AED-4936-A8DF-4C0B6F9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B904-8D23-4EAE-B329-C8CC6C10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30C6-D4B0-4666-9674-2177FBBE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DB28-A9FD-45BD-B3E9-3C4D2D60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316A-D3F4-40DD-940B-FDDFDDC4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72DD-6A2E-4FC6-A7B5-7E41E597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D88-A0A1-41FA-A08D-E2FAEE7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738F-6A5B-4A42-A968-50FD38B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2BA3-EF33-49A5-AD7D-1665BEB6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AA3F-BA3A-482A-98C4-6DDC75F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106C-0215-4E9F-85E7-2CD0783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F8E4-3F37-4241-A84B-F042AB0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BD3F-C6BC-439F-B534-A5EF6D5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AC24-CDD2-4ADE-8489-8B347CA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6FDD-9EF6-4FC1-85D3-EE6E033D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ADA1-05F9-42D7-BD0D-C1C88E90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17C0-2A9A-4D30-B810-1338F25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F702-AE93-4FF6-8C3F-CF72530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2633-FB55-4F7F-9B08-4621DDE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B95D-47F6-450A-A352-9049787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7F6E-45B0-49AF-82D1-96DC563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0DD0-9739-4A2F-9CEE-3DF3F72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9856-8477-40BE-A675-07D240E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9421-E59F-44A2-92BD-DBDEF1716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C41-7908-427C-942C-82D919D93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Жизнь пресного водо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301840"/>
            <a:ext cx="5538960" cy="35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5280" y="1197000"/>
            <a:ext cx="8424000" cy="4967280"/>
            <a:chOff x="395280" y="1197000"/>
            <a:chExt cx="8424000" cy="4967280"/>
          </a:xfrm>
        </p:grpSpPr>
        <p:cxnSp>
          <p:nvCxnSpPr>
            <p:cNvPr id="123" name="_s11982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84320" y="2205360"/>
              <a:ext cx="993960" cy="2949120"/>
            </a:xfrm>
            <a:prstGeom prst="bentConnector3">
              <a:avLst>
                <a:gd name="adj1" fmla="val 149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19821"/>
            <p:cNvCxnSpPr>
              <a:stCxn id="127" idx="0"/>
              <a:endCxn id="125" idx="2"/>
            </p:cNvCxnSpPr>
            <p:nvPr/>
          </p:nvCxnSpPr>
          <p:spPr>
            <a:xfrm flipV="1">
              <a:off x="4606920" y="3183120"/>
              <a:ext cx="3960" cy="99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1982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36280" y="2205720"/>
              <a:ext cx="993960" cy="2949120"/>
            </a:xfrm>
            <a:prstGeom prst="bentConnector3">
              <a:avLst>
                <a:gd name="adj1" fmla="val 149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19816"/>
            <p:cNvSpPr/>
            <p:nvPr/>
          </p:nvSpPr>
          <p:spPr>
            <a:xfrm>
              <a:off x="3343680" y="119700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Водое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19817"/>
            <p:cNvSpPr/>
            <p:nvPr/>
          </p:nvSpPr>
          <p:spPr>
            <a:xfrm>
              <a:off x="3952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ранилище вод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19818"/>
            <p:cNvSpPr/>
            <p:nvPr/>
          </p:nvSpPr>
          <p:spPr>
            <a:xfrm>
              <a:off x="33436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ом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астен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и животны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19819"/>
            <p:cNvSpPr/>
            <p:nvPr/>
          </p:nvSpPr>
          <p:spPr>
            <a:xfrm>
              <a:off x="6292080" y="41774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сурс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ля хозяйствен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еятельност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челове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7848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 взрослые и школьники должны охранять водоем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Посмотрите вот сю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Тихо плещется во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Ряска, лилии, рого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И кубышка, и тростни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Есть беззубка, прудови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Водомерка вот беж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Всюду бурно жизнь кип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Это 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пресный водо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8487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р. 144 – 1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тлас – определител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р. 70 - 74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Какую роль выполняют растения в водое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тения являются пищей и домом для животны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акую роль выполняют растения на зем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ырабатывают кисл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765000"/>
          <a:ext cx="8785440" cy="532764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760"/>
                <a:gridCol w="1465200"/>
                <a:gridCol w="1463760"/>
              </a:tblGrid>
              <a:tr h="1503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вотные водое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лю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ызу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765000"/>
          <a:ext cx="8545680" cy="532800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621080"/>
                <a:gridCol w="1309680"/>
                <a:gridCol w="1317600"/>
                <a:gridCol w="1368360"/>
              </a:tblGrid>
              <a:tr h="1503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ивотные водое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лю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ызу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Прудов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ат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беззу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Ляг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Жа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Водоме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ом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Боб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нда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ара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Щ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Цап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Как живут все обитатели водое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ной водоем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 природное со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акие беды принес человек водоем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Загад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лови раков и двустворчатых моллюс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ги лягушек и их головас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не рви кубышку и кувши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лови стрек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разрушай жилища ондатр и боб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бота в тетрад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тр. 4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. 143 – 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готовить ответ на вопро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«Надо ли охранять болот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998640"/>
            <a:ext cx="7561440" cy="486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861840"/>
            <a:ext cx="777564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762120"/>
            <a:ext cx="6551640" cy="53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231920"/>
            <a:ext cx="720072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26920" y="692280"/>
            <a:ext cx="7631640" cy="5472000"/>
            <a:chOff x="826920" y="692280"/>
            <a:chExt cx="7631640" cy="5472000"/>
          </a:xfrm>
        </p:grpSpPr>
        <p:cxnSp>
          <p:nvCxnSpPr>
            <p:cNvPr id="114" name="_s116740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22800" y="2400480"/>
              <a:ext cx="1095120" cy="205488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16741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067920" y="2400120"/>
              <a:ext cx="1095120" cy="20559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116742"/>
            <p:cNvSpPr/>
            <p:nvPr/>
          </p:nvSpPr>
          <p:spPr>
            <a:xfrm>
              <a:off x="2882160" y="6922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Arial"/>
                </a:rPr>
                <a:t>Водоемы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6743"/>
            <p:cNvSpPr/>
            <p:nvPr/>
          </p:nvSpPr>
          <p:spPr>
            <a:xfrm>
              <a:off x="826920" y="39754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16744"/>
            <p:cNvSpPr/>
            <p:nvPr/>
          </p:nvSpPr>
          <p:spPr>
            <a:xfrm>
              <a:off x="4936320" y="3975480"/>
              <a:ext cx="3522240" cy="218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Прес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Солены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одо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90512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ствен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зер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р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дохранилищ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кеа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уд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уч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136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скажи о значении водоемов в природ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 жизни люд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6:43:13Z</dcterms:created>
  <dc:creator>1</dc:creator>
  <dc:description/>
  <dc:language>en-US</dc:language>
  <cp:lastModifiedBy>1</cp:lastModifiedBy>
  <dcterms:modified xsi:type="dcterms:W3CDTF">2006-03-21T20:03:51Z</dcterms:modified>
  <cp:revision>4</cp:revision>
  <dc:subject/>
  <dc:title>Жизнь пресного водоема</dc:title>
</cp:coreProperties>
</file>