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472D-E3D3-456D-BB17-A309F5EC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91F0-7328-4099-9F5A-F2F4A9E5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3574-F1DC-4D53-A146-A16F071D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09C4-90B8-4501-8C45-250865B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8BB0-AE7E-4EA2-AD89-07ACE5C6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FA82-B0B0-4067-857D-BF858D3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6DE0-85E3-4FD3-A797-E7506429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CC08-2295-4A9F-BC88-C18A7282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161-8BEF-4E77-942E-2A861D4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DF4-E0B8-4C78-B784-66506FD2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F445-AE44-4A78-82CF-98CA20C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C7B6-5F62-45AE-B3F9-9B7852C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09DD-6351-4509-8BF2-2F21117E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CCEE-4125-4301-8235-E775549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3A92-24A0-4CA2-9440-269B4FB9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B34D-E4F5-4AE1-9B3A-F1A7FC99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3905-658C-487F-A110-D37B7F86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F990-ED2B-4179-BCD6-36B27733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2F54-2090-47D6-8BF6-1E0BE67A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40D5-15D7-4A61-846A-3744DDD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4E77-0035-4C48-9F7D-514F6105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799E-19F6-4108-BF93-4C1B170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CF75-FDD1-4581-B702-960E654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6CAB-3570-4FFE-BC95-FF334252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0B9D-F154-401B-B514-E6A7E78BC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758-E624-45BE-85A4-DBFD8F23E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Жизнь пресного водо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301840"/>
            <a:ext cx="5538960" cy="35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5280" y="1197000"/>
            <a:ext cx="8424000" cy="4967280"/>
            <a:chOff x="395280" y="1197000"/>
            <a:chExt cx="8424000" cy="4967280"/>
          </a:xfrm>
        </p:grpSpPr>
        <p:cxnSp>
          <p:nvCxnSpPr>
            <p:cNvPr id="123" name="_s11982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84320" y="2205360"/>
              <a:ext cx="993960" cy="2949120"/>
            </a:xfrm>
            <a:prstGeom prst="bentConnector3">
              <a:avLst>
                <a:gd name="adj1" fmla="val 149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19821"/>
            <p:cNvCxnSpPr>
              <a:stCxn id="127" idx="0"/>
              <a:endCxn id="125" idx="2"/>
            </p:cNvCxnSpPr>
            <p:nvPr/>
          </p:nvCxnSpPr>
          <p:spPr>
            <a:xfrm flipV="1">
              <a:off x="4606920" y="3183120"/>
              <a:ext cx="3960" cy="99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1982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36280" y="2205720"/>
              <a:ext cx="993960" cy="2949120"/>
            </a:xfrm>
            <a:prstGeom prst="bentConnector3">
              <a:avLst>
                <a:gd name="adj1" fmla="val 149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19816"/>
            <p:cNvSpPr/>
            <p:nvPr/>
          </p:nvSpPr>
          <p:spPr>
            <a:xfrm>
              <a:off x="3343680" y="119700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Водое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19817"/>
            <p:cNvSpPr/>
            <p:nvPr/>
          </p:nvSpPr>
          <p:spPr>
            <a:xfrm>
              <a:off x="3952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ранилище вод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19818"/>
            <p:cNvSpPr/>
            <p:nvPr/>
          </p:nvSpPr>
          <p:spPr>
            <a:xfrm>
              <a:off x="33436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ом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астен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и животны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19819"/>
            <p:cNvSpPr/>
            <p:nvPr/>
          </p:nvSpPr>
          <p:spPr>
            <a:xfrm>
              <a:off x="62920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сурс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ля хозяйствен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еятельност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челове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7848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 взрослые и школьники должны охранять водоем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Посмотрите вот сю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Тихо плещется во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Ряска, лилии, рого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И кубышка, и тростни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Есть беззубка, прудови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Водомерка вот беж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Всюду бурно жизнь кип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Это 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пресный водо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8487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р. 144 – 1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тлас – определител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р. 70 - 74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Какую роль выполняют растения в водое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тения являются пищей и домом для животны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акую роль выполняют растения на зем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ырабатывают кисл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765000"/>
          <a:ext cx="8785440" cy="532764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760"/>
                <a:gridCol w="1465200"/>
                <a:gridCol w="1463760"/>
              </a:tblGrid>
              <a:tr h="1503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вотные водое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лю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ызу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765000"/>
          <a:ext cx="8545680" cy="532800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621080"/>
                <a:gridCol w="1309680"/>
                <a:gridCol w="1317600"/>
                <a:gridCol w="1368360"/>
              </a:tblGrid>
              <a:tr h="1503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вотные водое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лю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ызу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Прудов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ат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беззу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Ляг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Жа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Водоме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ом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Боб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нда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ара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Щ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Цап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Как живут все обитатели водое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ной водоем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 природное со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акие беды принес человек водоем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Загад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лови раков и двустворчатых моллюс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ги лягушек и их головас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не рви кубышку и кувши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лови стрек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разрушай жилища ондатр и боб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бота в тетрад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тр. 4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. 143 – 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готовить ответ на вопро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«Надо ли охранять болот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998640"/>
            <a:ext cx="7561440" cy="486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861840"/>
            <a:ext cx="777564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762120"/>
            <a:ext cx="6551640" cy="53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231920"/>
            <a:ext cx="720072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26920" y="692280"/>
            <a:ext cx="7631640" cy="5472000"/>
            <a:chOff x="826920" y="692280"/>
            <a:chExt cx="7631640" cy="5472000"/>
          </a:xfrm>
        </p:grpSpPr>
        <p:cxnSp>
          <p:nvCxnSpPr>
            <p:cNvPr id="114" name="_s116740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22800" y="2400480"/>
              <a:ext cx="1095120" cy="205488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16741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067920" y="2400120"/>
              <a:ext cx="1095120" cy="20559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116742"/>
            <p:cNvSpPr/>
            <p:nvPr/>
          </p:nvSpPr>
          <p:spPr>
            <a:xfrm>
              <a:off x="2882160" y="6922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Arial"/>
                </a:rPr>
                <a:t>Водоемы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6743"/>
            <p:cNvSpPr/>
            <p:nvPr/>
          </p:nvSpPr>
          <p:spPr>
            <a:xfrm>
              <a:off x="826920" y="39754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16744"/>
            <p:cNvSpPr/>
            <p:nvPr/>
          </p:nvSpPr>
          <p:spPr>
            <a:xfrm>
              <a:off x="4936320" y="39754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Прес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Соле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одо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90512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ствен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зер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р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дохранилищ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кеа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уд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уч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136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скажи о значении водоемов в природ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 жизни люд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6:43:13Z</dcterms:created>
  <dc:creator>1</dc:creator>
  <dc:description/>
  <dc:language>en-US</dc:language>
  <cp:lastModifiedBy>1</cp:lastModifiedBy>
  <dcterms:modified xsi:type="dcterms:W3CDTF">2006-03-21T20:03:51Z</dcterms:modified>
  <cp:revision>4</cp:revision>
  <dc:subject/>
  <dc:title>Жизнь пресного водоема</dc:title>
</cp:coreProperties>
</file>