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D8D-1418-4E2E-A6E3-BF3730A35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856-6D60-4E87-851E-7C5BB542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BDF-79EF-47FF-A3B8-A27C9F21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E3E-A8A0-41E3-92E6-2080DD74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930-0275-4BE7-B967-D83786B0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85B-0834-4B0F-85B2-AF2ACFDD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F3EF-395F-4151-9973-C90EED4A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71ED-AFDB-411E-938D-95457C9C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F6F3-8D4D-48CD-915D-26216402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264B-0C04-4E99-A0A1-B2611E8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91DC-4D0B-4E2C-BA17-A7AB3F04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9570-8CF9-4B05-A564-D2E5C99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2E0-DC7B-4701-8C5F-9A906998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7F77-3504-46C8-A574-D190AB1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A745-5C49-4F23-BF5C-924E345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E053-07D9-47C4-A784-C278F945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6AF5-EB3E-4130-B280-89634FF6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09B7-523C-4080-B0FF-45F8FAEE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A53-6A99-44DB-8808-B5217D1B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B44-B927-4BC3-AA57-21E4B30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C77-D9E7-47CD-8AB2-BD0E074D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992-EB97-493F-8C86-F0975CE1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CAF-4245-4346-A038-73414098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1D1-C95A-44D9-A684-806C337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FB2-F7F9-41E9-BA19-0B8B817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B5CF-3AD0-4BA3-84A1-8B4533C64D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EDD6-6B6A-4022-A25B-230585A41D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2997000"/>
            <a:ext cx="748836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4"/>
                </a:solidFill>
                <a:latin typeface="Arial"/>
              </a:rPr>
              <a:t>Преимущества медиации при урегулировании споров между собственника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Изображение 3" descr="111.jpg"/>
          <p:cNvPicPr/>
          <p:nvPr/>
        </p:nvPicPr>
        <p:blipFill>
          <a:blip r:embed="rId1"/>
          <a:stretch/>
        </p:blipFill>
        <p:spPr>
          <a:xfrm>
            <a:off x="0" y="0"/>
            <a:ext cx="9196560" cy="192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53080" y="6116760"/>
            <a:ext cx="221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877000"/>
            <a:ext cx="62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a48"/>
                </a:solidFill>
                <a:latin typeface="Arial"/>
                <a:ea typeface="Arial"/>
              </a:rPr>
              <a:t>Загайнова С.К., директор Центра медиации УрГЮА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a48"/>
                </a:solidFill>
                <a:latin typeface="Arial"/>
                <a:ea typeface="Arial"/>
              </a:rPr>
              <a:t>доктор юридических наук, професс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ссмотрение дел в арбитражных судах в 2013 году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смотрено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247 863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де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дано исполнительных листов-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065 37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жаловано в различных инстанциях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30 193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удебных а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лиц, участвующих в деле, наложено более 1500 штрафов на сумму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8,7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лн.руб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кордная сумма взыскания расходов на оплату услуг представителя –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8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,8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лн. руб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определение ВАС РФ № ВАС – 12252/11 от 24.06.201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84720" y="2349360"/>
            <a:ext cx="4680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собым образом организованные переговоры с участием специального субъекта - медиатора, который содействует устранению разногласий и достижению соглашения, отвечающего интересам сторон правового спо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781440" cy="414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907920"/>
            <a:ext cx="7924680" cy="708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"/>
              </a:rPr>
              <a:t>Медиация – это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"/>
              </a:rPr>
              <a:t>Преимущества меди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8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Стороны контролируют процесс принятия решения и его результа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Стороны не связаны предметом и основанием иска, могут решить проблему комплекс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Стороны сами разрабатывают механизм исполнения соглашения, что обеспечивает добровольность исполн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Конфиденциальность процед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491920"/>
            <a:ext cx="81356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Телефон / факс: (343) 375-15-3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usla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mediator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@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gmai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com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UR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www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mediation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ura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com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www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медиация-урал.рф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Адрес: 620137, Екатеринбург, </a:t>
            </a:r>
            <a:br>
              <a:rPr sz="2400"/>
            </a:b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ул. Комсомольская, д.23, оф. 309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Содержимое 3" descr="111.jpg"/>
          <p:cNvPicPr/>
          <p:nvPr/>
        </p:nvPicPr>
        <p:blipFill>
          <a:blip r:embed="rId1"/>
          <a:srcRect l="11846" t="0" r="11560" b="0"/>
          <a:stretch/>
        </p:blipFill>
        <p:spPr>
          <a:xfrm>
            <a:off x="0" y="-496800"/>
            <a:ext cx="91360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2:58:26Z</dcterms:created>
  <dc:creator>zsk001</dc:creator>
  <dc:description/>
  <dc:language>en-US</dc:language>
  <cp:lastModifiedBy>Дмитрий</cp:lastModifiedBy>
  <dcterms:modified xsi:type="dcterms:W3CDTF">2014-05-19T15:09:17Z</dcterms:modified>
  <cp:revision>10</cp:revision>
  <dc:subject/>
  <dc:title>Медиация как форма урегулирования конфликтов и способ разрешения правовых споров</dc:title>
</cp:coreProperties>
</file>