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4FD7-BEE5-435F-9527-AA58E3463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483-FBC2-416C-BCEC-EBB6E9EB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B80-325E-459F-BE9E-8C44F143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B70-FB2C-44E6-B2D8-B51DE389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B17-85A2-4633-815B-D5F650F7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29E-5DEF-4909-90B8-61345CCD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4E7-8A93-488B-B1EA-AA285052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7748-5E86-4F5D-96C1-7E115E7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8D5C-D364-435A-920A-ABDEDAA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DE13-8E7C-41E5-9456-F43ED8D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1FD-B7AC-4C64-AB19-A0E3044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7EED-9B1F-49E9-9CBB-CCE9A760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704-53FE-4147-AC9A-0DCDE294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F659-78C0-4A36-AD9E-38F393B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787B-7A79-4212-89B4-86C7900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FC32-87B3-4BCD-BFA5-70D7EBF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AC54-05E4-4CBC-8EF1-5710E13D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591C-D5F0-4499-8A05-B0AF4E27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DA4-BFB8-4231-BE77-1400CB2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4D9-A664-4F23-B0DF-3828BCE8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6C6-1F87-4712-8003-4054A354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6D3-0DA0-4311-9DCF-F0AA6ED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676-1AE3-4E89-8DDF-7633272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DF5-DD3D-44D6-BC39-3593262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F72-A84C-4DA9-945A-B1B8A07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5FFA-CE9B-4C39-9E2D-FD458EBC34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A2D4-9DF4-498E-8471-E9C1D1A71A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997000"/>
            <a:ext cx="748836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4"/>
                </a:solidFill>
                <a:latin typeface="Arial"/>
              </a:rPr>
              <a:t>Преимущества медиации при урегулировании споров между собствен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Изображение 3" descr="111.jpg"/>
          <p:cNvPicPr/>
          <p:nvPr/>
        </p:nvPicPr>
        <p:blipFill>
          <a:blip r:embed="rId1"/>
          <a:stretch/>
        </p:blipFill>
        <p:spPr>
          <a:xfrm>
            <a:off x="0" y="0"/>
            <a:ext cx="9196560" cy="192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53080" y="6116760"/>
            <a:ext cx="221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877000"/>
            <a:ext cx="62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Загайнова С.К., директор Центра медиации УрГЮА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доктор юридических наук, професс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смотрение дел в арбитражных судах в 2013 год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мотрено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247 86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е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дано исполнительных листов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065 37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жаловано в различных инстанциях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30 19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удебных а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лиц, участвующих в деле, наложено более 1500 штрафов на сумму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8,7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ру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кордная сумма взыскания расходов на оплату услуг представителя –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8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8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определение ВАС РФ № ВАС – 12252/11 от 24.06.201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84720" y="2349360"/>
            <a:ext cx="468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собым образом организованные переговоры с участием специального субъекта - медиатора, который содействует устранению разногласий и достижению соглашения, отвечающего интересам сторон правового спо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781440" cy="414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907920"/>
            <a:ext cx="7924680" cy="708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Медиация – это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Преимущества меди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контролируют процесс принятия решения и его результ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не связаны предметом и основанием иска, могут решить проблему комплекс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сами разрабатывают механизм исполнения соглашения, что обеспечивает добровольность исполн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Конфиденциальность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8135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Телефон / факс: (343) 375-15-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sla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or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@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g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ion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a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медиация-урал.рф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Адрес: 620137, Екатеринбург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ул. Комсомольская, д.23, оф. 309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Содержимое 3" descr="111.jpg"/>
          <p:cNvPicPr/>
          <p:nvPr/>
        </p:nvPicPr>
        <p:blipFill>
          <a:blip r:embed="rId1"/>
          <a:srcRect l="11846" t="0" r="11560" b="0"/>
          <a:stretch/>
        </p:blipFill>
        <p:spPr>
          <a:xfrm>
            <a:off x="0" y="-496800"/>
            <a:ext cx="9136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2:58:26Z</dcterms:created>
  <dc:creator>zsk001</dc:creator>
  <dc:description/>
  <dc:language>en-US</dc:language>
  <cp:lastModifiedBy>Дмитрий</cp:lastModifiedBy>
  <dcterms:modified xsi:type="dcterms:W3CDTF">2014-05-19T15:09:17Z</dcterms:modified>
  <cp:revision>10</cp:revision>
  <dc:subject/>
  <dc:title>Медиация как форма урегулирования конфликтов и способ разрешения правовых споров</dc:title>
</cp:coreProperties>
</file>