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786-8587-4EF5-BE36-3C96E8D10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B78-DC27-4AA1-B320-673082F0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C86-AC07-4BBE-8485-23F587AE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5F2-865B-4023-936A-D354C9A9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CA2-BF02-48BC-A435-F4216119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1FF-7DF9-4E28-940B-E0993142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AB1C-863A-4AA9-A5DE-E6DCFC79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7A0-296F-4ADB-96FB-37801D3E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8AF2-3AF5-4786-97BD-2F0B495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9B39-10AF-4D87-BC09-20EBF85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070-CF98-4715-A0B3-1F45124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DA6-55E7-4970-ABAB-A6CF805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E67-B4D3-4CB7-B7A4-1DEFF71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4508-07B6-4087-B227-8E5299C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41E-08C3-41BF-8ADA-57D1FA82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A7C-65D5-4907-A699-8A42862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D561-50D0-4C8A-A5B6-FD31793F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E24-6029-492F-BA01-102C553D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E9D-4D34-4D82-BB16-71B8BA26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F7A-3976-4802-A678-F3B1E3DA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A19-A448-4471-A644-FC23186A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9A1-370C-42CE-ADAC-B49BE5B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F4D-9B88-4738-9A2D-D2B4B6B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F6C-5B7D-4CF5-82E2-BE0BE0D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E1F-26CB-4E83-AE65-20EE0C9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C6EB-F110-4242-92C9-943F52AB62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EB1-9C43-462A-AA9F-F9C474B390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997000"/>
            <a:ext cx="748836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4"/>
                </a:solidFill>
                <a:latin typeface="Arial"/>
              </a:rPr>
              <a:t>Преимущества медиации при урегулировании споров между собствен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Изображение 3" descr="111.jpg"/>
          <p:cNvPicPr/>
          <p:nvPr/>
        </p:nvPicPr>
        <p:blipFill>
          <a:blip r:embed="rId1"/>
          <a:stretch/>
        </p:blipFill>
        <p:spPr>
          <a:xfrm>
            <a:off x="0" y="0"/>
            <a:ext cx="9196560" cy="192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53080" y="6116760"/>
            <a:ext cx="221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877000"/>
            <a:ext cx="62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Загайнова С.К., директор Центра медиации УрГЮА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a48"/>
                </a:solidFill>
                <a:latin typeface="Arial"/>
                <a:ea typeface="Arial"/>
              </a:rPr>
              <a:t>доктор юридических наук, професс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смотрение дел в арбитражных судах в 2013 год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мотрено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247 86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е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дано исполнительных листов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065 37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жаловано в различных инстанциях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30 19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удебных а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лиц, участвующих в деле, наложено более 1500 штрафов на сумму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8,7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ру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кордная сумма взыскания расходов на оплату услуг представителя –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8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8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определение ВАС РФ № ВАС – 12252/11 от 24.06.201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84720" y="2349360"/>
            <a:ext cx="468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собым образом организованные переговоры с участием специального субъекта - медиатора, который содействует устранению разногласий и достижению соглашения, отвечающего интересам сторон правового спо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781440" cy="414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907920"/>
            <a:ext cx="7924680" cy="708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Медиация – это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"/>
              </a:rPr>
              <a:t>Преимущества меди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контролируют процесс принятия решения и его результ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не связаны предметом и основанием иска, могут решить проблему комплекс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Стороны сами разрабатывают механизм исполнения соглашения, что обеспечивает добровольность исполн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Конфиденциальность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8135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Телефон / факс: (343) 375-15-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sla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or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@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gmai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mediation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ural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com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4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.медиация-урал.рф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Адрес: 620137, Екатеринбург, </a:t>
            </a:r>
            <a:br>
              <a:rPr sz="2400"/>
            </a:br>
            <a:r>
              <a:rPr b="1" lang="ru-RU" sz="2400" spc="-1" strike="noStrike">
                <a:solidFill>
                  <a:srgbClr val="000064"/>
                </a:solidFill>
                <a:latin typeface="Arial"/>
              </a:rPr>
              <a:t>ул. Комсомольская, д.23, оф. 309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Содержимое 3" descr="111.jpg"/>
          <p:cNvPicPr/>
          <p:nvPr/>
        </p:nvPicPr>
        <p:blipFill>
          <a:blip r:embed="rId1"/>
          <a:srcRect l="11846" t="0" r="11560" b="0"/>
          <a:stretch/>
        </p:blipFill>
        <p:spPr>
          <a:xfrm>
            <a:off x="0" y="-496800"/>
            <a:ext cx="91360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2:58:26Z</dcterms:created>
  <dc:creator>zsk001</dc:creator>
  <dc:description/>
  <dc:language>en-US</dc:language>
  <cp:lastModifiedBy>Дмитрий</cp:lastModifiedBy>
  <dcterms:modified xsi:type="dcterms:W3CDTF">2014-05-19T15:09:17Z</dcterms:modified>
  <cp:revision>10</cp:revision>
  <dc:subject/>
  <dc:title>Медиация как форма урегулирования конфликтов и способ разрешения правовых споров</dc:title>
</cp:coreProperties>
</file>