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584-33E4-4678-A9D1-F60472AF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C20-0BA1-470E-837B-93FC9F3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25C-54D5-4446-9CFD-98AE6F77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C82-A9E7-4D1B-9CF2-66E3F691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B44-9A09-4FDC-A874-B9145EE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DB3-8249-4801-B9AD-83EB9873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86C-7098-4CFB-AE00-18C4D07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E0A-760D-4A2B-82D2-193BD35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BB5-E7C1-4AD4-8C81-D42651C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B6B-E3C0-4330-847E-FCC5B10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CD7-E951-4449-9365-6B05811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B46-DB07-45F4-9B00-3ED4886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3C6D-0D15-4C47-BA8E-D7CDA0A9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НУТРЕННЯЯ СРЕДА ОРГАНИЗМА. КРОВЬ. ПЛАЗМА КРОВ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688000" cy="232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4176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930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47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2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21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079960" cy="583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77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064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105080" cy="547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040" y="836640"/>
            <a:ext cx="4395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616360" cy="300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834160" cy="309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8894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4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977080" cy="321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631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3:05:23Z</dcterms:created>
  <dc:creator>Женя</dc:creator>
  <dc:description/>
  <dc:language>en-US</dc:language>
  <cp:lastModifiedBy>Женя</cp:lastModifiedBy>
  <dcterms:modified xsi:type="dcterms:W3CDTF">2014-01-12T13:21:47Z</dcterms:modified>
  <cp:revision>3</cp:revision>
  <dc:subject/>
  <dc:title>ВНУТРЕННЯЯ СРЕДА ОРГАНИЗМА. КРОВЬ. ПЛАЗМА КРОВИ </dc:title>
</cp:coreProperties>
</file>