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A238C-A5F3-42FB-B1F5-95CD05C93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67069-5D23-45DF-B68A-09774F17F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F9756-A502-4039-A1F1-FA6D2F3B9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5B567-9308-4895-BE41-322482CB7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92660-C1BF-4779-B26B-B6F593218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10FC7-34A5-4DF9-91A3-7FFE4E6AF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72760-BFF4-4BC5-8984-591FBF9CB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A570B-A2D2-4CEF-A6FD-38D791FA9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5EAA7-C2B4-479A-9E47-E143D0A67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4C00C-C71F-492A-B665-B40A382E5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63517-8A88-4E84-AA83-F5ABFF506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EA581-FD8D-45BC-B225-756AEDD2F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6E922-4362-45A4-A31D-687EDEB41D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ВНУТРЕННЯЯ СРЕДА ОРГАНИЗМА. КРОВЬ. ПЛАЗМА КРОВИ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33360"/>
            <a:ext cx="5688000" cy="23256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067280" y="3284640"/>
            <a:ext cx="4176720" cy="30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ИММУНИТЕ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684360" y="1628640"/>
            <a:ext cx="7993080" cy="401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187280" y="1628640"/>
            <a:ext cx="7272360" cy="384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826920" y="333360"/>
            <a:ext cx="8064720" cy="610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68360" y="333360"/>
            <a:ext cx="8424720" cy="604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324000" y="1052640"/>
            <a:ext cx="8642160" cy="49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403280" y="0"/>
            <a:ext cx="6380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116000" y="189000"/>
            <a:ext cx="6769080" cy="63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39640" y="1557360"/>
            <a:ext cx="7921800" cy="33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765000"/>
            <a:ext cx="5079960" cy="58327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4932360" y="1700280"/>
            <a:ext cx="3778200" cy="37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2050920" y="189000"/>
            <a:ext cx="495324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11280" y="476280"/>
            <a:ext cx="7921440" cy="59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395280" y="907920"/>
            <a:ext cx="8064360" cy="537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24000" y="105264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68360" y="692280"/>
            <a:ext cx="4105080" cy="54734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748040" y="836640"/>
            <a:ext cx="439596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5616360" cy="30020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0" y="3429000"/>
            <a:ext cx="5834160" cy="30909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4788000" y="2349360"/>
            <a:ext cx="3889440" cy="20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68360" y="1125360"/>
            <a:ext cx="8064360" cy="484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1628640"/>
            <a:ext cx="5977080" cy="32101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5796000" y="1700280"/>
            <a:ext cx="2631960" cy="33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68360" y="333360"/>
            <a:ext cx="8207280" cy="608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12T13:05:23Z</dcterms:created>
  <dc:creator>Женя</dc:creator>
  <dc:description/>
  <dc:language>en-US</dc:language>
  <cp:lastModifiedBy>Женя</cp:lastModifiedBy>
  <dcterms:modified xsi:type="dcterms:W3CDTF">2014-01-12T13:21:47Z</dcterms:modified>
  <cp:revision>3</cp:revision>
  <dc:subject/>
  <dc:title>ВНУТРЕННЯЯ СРЕДА ОРГАНИЗМА. КРОВЬ. ПЛАЗМА КРОВИ </dc:title>
</cp:coreProperties>
</file>