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B09-41A6-4686-88E6-A67C9C27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2D8-6E4A-494B-87FD-3EA5D87B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163-1E42-45C1-8CA9-FF25DE3B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91D-D5BE-4078-963D-084D89BC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441-505D-4323-BC2E-BA3A10EF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F8F-4B67-4F06-BD89-77D0F85A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F817-4058-4860-A240-E7A5D6B1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248-31E9-415E-A900-424913EC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480B-8927-44CF-B3A6-BA17CA63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DD7-6132-43A2-BE4C-20816F0F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E0A-EBA6-4EA1-993D-36DCDA9C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1D99-6D11-402A-BCE1-B924840E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F492-275B-446E-B973-0850C0F7D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НУТРЕННЯЯ СРЕДА ОРГАНИЗМА. КРОВЬ. ПЛАЗМА КРОВ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5688000" cy="2325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67280" y="3284640"/>
            <a:ext cx="41767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ИММУНИТ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99308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27236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806472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6421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38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6908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792180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5079960" cy="583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7782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49532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06436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4105080" cy="5473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48040" y="836640"/>
            <a:ext cx="43959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616360" cy="3002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5834160" cy="3090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788000" y="2349360"/>
            <a:ext cx="38894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0643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5977080" cy="3210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263196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3:05:23Z</dcterms:created>
  <dc:creator>Женя</dc:creator>
  <dc:description/>
  <dc:language>en-US</dc:language>
  <cp:lastModifiedBy>Женя</cp:lastModifiedBy>
  <dcterms:modified xsi:type="dcterms:W3CDTF">2014-01-12T13:21:47Z</dcterms:modified>
  <cp:revision>3</cp:revision>
  <dc:subject/>
  <dc:title>ВНУТРЕННЯЯ СРЕДА ОРГАНИЗМА. КРОВЬ. ПЛАЗМА КРОВИ </dc:title>
</cp:coreProperties>
</file>